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F35-0BAF-40FB-80EC-9D2D66D5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E65-24F5-4805-AC3E-6DE46B37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434-6C13-4C26-AB11-9313B0C6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513C-6139-4264-9B6F-6D377835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EDE6-63C8-4679-A7DE-0AA20057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4BDE-46BF-4D9C-A6AF-0AE5DEA6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738C-87D3-462B-A119-F1586B69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B801-9656-4866-8F99-0DA24F48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C0B0-DB65-42B5-8EAC-B03DDC60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DEA8-36D2-43E6-9C5E-8CB90C5F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7E24-DA90-4D39-ABF5-B082BB5F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FD1-7863-4210-93F4-89E95CE5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8760-3518-4A92-9789-882F6DC5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AB83-003B-4734-9025-E012DC74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DCF3-38B4-4CDE-9B12-796AE1D0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F1B5-B061-4688-BB98-8B46B06F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8D84-DC11-4AC6-AA5A-895C9D30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21A-EE89-4F7B-A107-A2AFFA3E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7B0-D688-423A-A18F-28734C10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274-88ED-4A46-ADB8-DAE538F0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15AA-D967-44A7-99A1-8D493DCE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2A6-8A96-4C05-85BE-BE757C5F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25E-4724-4C40-A533-B6B6EFBB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24F-01DE-47A4-841B-6DB96854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B443-656D-4063-9987-1904F6DEE013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2613-7DEB-4AD9-847B-A24C33701E45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3600"/>
              </a:spcBef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cc"/>
                </a:solidFill>
                <a:latin typeface="Tahoma"/>
              </a:rPr>
              <a:t>消防基础知识讲座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096720" y="5516640"/>
            <a:ext cx="30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00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7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7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7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7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三、灭火方法及其灭火原理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600" spc="-1" strike="noStrike">
                <a:solidFill>
                  <a:srgbClr val="ffffcc"/>
                </a:solidFill>
                <a:latin typeface="宋体"/>
              </a:rPr>
              <a:t>隔离灭火法</a:t>
            </a:r>
            <a:r>
              <a:rPr b="0" lang="zh-CN" sz="3600" spc="-1" strike="noStrike">
                <a:solidFill>
                  <a:srgbClr val="ffffcc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它是根据要发生燃烧必须具备可燃物这个条件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把着火的物质与周围的可燃物隔离开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或把可燃物从燃烧区移开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燃烧则因缺乏可燃物而停止、常采用如下几种方法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: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搬走起火物旁的可燃物品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移至安全地点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关闭阀门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阻止可燃性气体、液体流入燃烧区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导走或排放生产装置、容器内的尚未燃烧的可燃性物料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中止可燃性粉体升运工作或通风吸尘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拆除与火源相毗连的易燃建筑结构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497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设法堵截流散的着火液体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打火道或用水幕造成隔火地带等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600" spc="-1" strike="noStrike">
                <a:solidFill>
                  <a:srgbClr val="ffffcc"/>
                </a:solidFill>
                <a:latin typeface="Tahoma"/>
              </a:rPr>
              <a:t>窒息灭火法</a:t>
            </a:r>
            <a:r>
              <a:rPr b="0" lang="zh-CN" sz="36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它是根据要发生燃烧必须有足够的氧量这个条件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设法阻止空气流入燃烧区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或者用灭火剂冲淡空气中氧量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使燃烧得不到充足的氧气而熄灭、具体施用方法如下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: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  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用石棉毯、湿麻袋等捂盖燃烧物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;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  2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用砂土埋灭燃烧物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;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用水蒸气、二氧化碳、氮气等惰性气体灌注着火的容器或封闭着火的空间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堵塞孔洞或关闭门窗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以封闭着火的空间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必要时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可用大量水淹没燃烧物等、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600" spc="-1" strike="noStrike">
                <a:solidFill>
                  <a:srgbClr val="ffffcc"/>
                </a:solidFill>
                <a:latin typeface="Tahoma"/>
              </a:rPr>
              <a:t>冷却灭火法</a:t>
            </a:r>
            <a:r>
              <a:rPr b="0" lang="zh-CN" sz="36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它是根据发生燃烧必须有一定能量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温度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的点火源这个条件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将灭火剂喷射到燃烧物上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通过吸热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使其温度降低到燃点以下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从而使火熄灭、起冷却作用的主要灭火剂是水、二氧化碳和泡沫灭火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cc"/>
                </a:solidFill>
                <a:latin typeface="宋体"/>
              </a:rPr>
              <a:t>抑制灭火法</a:t>
            </a:r>
            <a:r>
              <a:rPr b="0" lang="zh-CN" sz="3600" spc="-1" strike="noStrike">
                <a:solidFill>
                  <a:srgbClr val="ffffcc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它是根据燃烧的连锁反应理论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将灭火剂喷向燃烧物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抑制火焰灭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使燃烧过程产生的游离基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自由基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消失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从而导致燃烧停止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四、火场逃生与疏散常识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火灾袭来要时迅速疏散逃生，不能贪恋财物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楼内失火可向着火层以下疏散，逃生时不要乘普通电梯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必须穿过烟雾逃生时，应尽量用浸湿的衣物披裹身体，捂住口鼻，身体贴近地面，沿墙向远离烟火的太平门、安全出口的方向疏散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如房内备有防毒面具，逃生时一定要将其戴在头上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身上着火，可就地打滚，或用厚重衣服覆盖压灭火苗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当楼梯被烈火、浓烟封闭时，可通过窗户、阳台，逃往相邻建筑物或未着火的房间。如果烟味很浓，房门已经烫手，说明大火已封门，此时切忌逃生，而应将门缝塞严，泼水降温，呼救求援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0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六、报警方法与注意事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火警电话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119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不要慌张，说话要清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报告火场的详细地址、燃烧物质、讲    明所用电话号码和报警人姓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得到消防队明确回答后，方可挂断电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到主要路口迎接消防车并带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99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cc"/>
                </a:solidFill>
                <a:latin typeface="Tahoma"/>
              </a:rPr>
              <a:t>火灾及防火概述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0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“火”能造福人类，是我们生活中不可缺少的物质。火的应用促进了人类文明的发展，直到今天，我们还有千方百计地以不同方式用火来为我们服务。然而，同世界上一切事物一样，火也有脱缰之时，火灾不仅对人类无益，而且非常有害，甚至带来极大灾难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0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七、灭火器的种类及选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灭火器按其使用的灭火剂种类可分为：清水灭火器、酸碱灭火器、化学泡沫灭火器、干粉灭火器、卤代烷灭火器、二氧化碳灭火器。目前在公共场所较为常用的是干粉灭火器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干粉灭火器通常可分为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型和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型两种，前者用于扑救固体、液体、气体和电气火灾，后者不能扑救固体火灾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灭火器上有一压力表，指针指向绿色或黄色为压力充足，指向红色为失压，需重新进行加压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此外，卤代烷灭火器具有高效、久贮不变质等优点，但由于其对大气臭氧层有严重破坏作用，在非必须使用场所，一律不准配置卤代烷灭火器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常用灭火器均为直接启动储存式，使用时去掉保险销，将喷嘴对准火焰根部，按下灭火器的把柄，喷出的灭火剂即可将火扑灭。但泡沫灭火器、酸碱灭火器较为特殊，二者均为倒置式启动，使用时应先将灭火器倒置，剧烈振动数次，然后打开开关，对准火焰根部进行灭火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cc"/>
                </a:solidFill>
                <a:latin typeface="Tahoma"/>
              </a:rPr>
              <a:t>谢谢大家</a:t>
            </a:r>
            <a:r>
              <a:rPr b="0" lang="zh-CN" sz="8000" spc="-1" strike="noStrike">
                <a:solidFill>
                  <a:srgbClr val="ffffcc"/>
                </a:solidFill>
                <a:latin typeface="Tahoma"/>
              </a:rPr>
              <a:t>!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42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火灾的种类有很多，有森林草原火灾、石油化工火灾、建筑火灾等。我们重点讲的是建筑火灾。所谓建筑火灾是指烧毁建筑物及其容纳物品，造成生命财产损失的灾害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建筑火灾对人类有害，为避免、减少火灾发生，我们就必须研究它的发生、发展规律，总结火灾教训，进行防火设计，采取防火技术，防患于未然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99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cc"/>
                </a:solidFill>
                <a:latin typeface="Tahoma"/>
              </a:rPr>
              <a:t>消防基础知识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一、起火因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有焰燃烧过程的发生和发展，必须具备以下四个必要条件，即：可燃物、氧化剂、温度（引火源）和未受抑制的链式反应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可燃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凡是能与空气中的氧或其他氧化剂起化学反应的物质称可燃物。按其物理状态，可分为气体可燃物、液体可燃物、固体可燃物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氧化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能帮助和支持可燃物燃烧的物质，即能与可燃物发生氧化反应的物质称为氧化剂。燃烧过程中氧化剂主要是氧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温度（引火源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引火源是指供给可燃物与氧或助燃剂发生燃烧反应的能量来源。常见是热能，还有就是化学能、电能、机械能等转变的热能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链式反应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大多数的有焰燃烧都存在链式反应。当某种可燃物受热时，它不仅会汽化，而且该可燃物的分子会发生热裂解作用。即它们在燃烧前会裂解成为更简单的分子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ahoma"/>
              </a:rPr>
              <a:t>二、预防措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严格遵守防火管理规定，做到人人有责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同时必须具备对防火问题有充分的认识，保持高度的警惕性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要根据烟火的运行规律采取相应的对策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74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对能够产生燃点或导致产生温度的物体、地点要重点防范，重点检查，落实责任，措施到位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保持走火通道畅通，保持灭火设备处于有效状态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要认真贯彻“预防为主、防消结合”的方针，抓好平时培训，立足火灾初期的自救，并保证本单位消防设施完好，切不可自作主张随意更改，关闭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有关设施，使这些设施在火灾时无法使用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火灾时要及时拨通“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119”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，早报案，争取消防队早来灭火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6:01:28Z</dcterms:created>
  <dc:creator>林友福</dc:creator>
  <dc:description/>
  <dc:language>en-US</dc:language>
  <cp:lastModifiedBy>微软中国</cp:lastModifiedBy>
  <dcterms:modified xsi:type="dcterms:W3CDTF">2009-10-26T06:21:26Z</dcterms:modified>
  <cp:revision>18</cp:revision>
  <dc:subject/>
  <dc:title>消防知识讲座</dc:title>
</cp:coreProperties>
</file>