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13.jpeg" ContentType="image/jpeg"/>
  <Override PartName="/ppt/media/image4.png" ContentType="image/png"/>
  <Override PartName="/ppt/media/image25.gif" ContentType="image/gif"/>
  <Override PartName="/ppt/media/image21.jpeg" ContentType="image/jpeg"/>
  <Override PartName="/ppt/media/image16.png" ContentType="image/pn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FC8F-1723-4DE0-86B9-99CFA44D4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335E-CAE2-44E7-91C0-53165144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565B-D633-4E23-80BF-832B2D600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8782-42A6-471C-9261-20E747B8E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C4C2-BC99-41F8-92A9-E4EC3856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9333-9ACB-46BA-8290-9C736B5D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047F-4FC1-4277-B85D-CBFB6C48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1606-A81F-46C5-B2B1-F26470AF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E628-84F4-4550-8456-CF456B93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7ED9-5545-4328-A71B-A053F83B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35C7-74DC-4D74-937A-67D20C2B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49E3-A5B5-4A4C-B34B-FCD82C4A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0E8B-9DE7-4F1C-8CB9-929A509769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252873100&amp;tn=baiduimagedetail&amp;word=&#26611;&#23447;&#20803;&amp;in=24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252873100&amp;tn=baiduimagedetail&amp;word=&#26611;&#23447;&#20803;&amp;in=24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7755601&amp;tn=baiduimagedetail&amp;word=&#26611;&#23447;&#20803;&amp;in=38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414000"/>
            <a:ext cx="85406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《永州八记》与《小石潭记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8000" y="1050480"/>
            <a:ext cx="8856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作者曾被贬为永州司马，结合自己的经历和遭遇，写下了有连续性的、精美的山水游记多篇，合称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《永州八记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《小石潭记》就是其中最著名的一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作者参与改革，失败被贬，心中愤懑难平，因此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他所写的游记散文，往往借景抒情，抒发谪居生活的清寂苦闷、抑郁忧伤之情，并寄托自己政治上不得志的悲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358360" y="1174680"/>
            <a:ext cx="1809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hu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84400" y="1174680"/>
            <a:ext cx="792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li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52480" y="2013120"/>
            <a:ext cx="930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ch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80080" y="2013120"/>
            <a:ext cx="802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y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17200" y="2774880"/>
            <a:ext cx="1134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kā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641280" y="2774880"/>
            <a:ext cx="624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y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34120" y="3537000"/>
            <a:ext cx="1108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ch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00680" y="3537000"/>
            <a:ext cx="628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x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72440" y="4299120"/>
            <a:ext cx="596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c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28960" y="4375080"/>
            <a:ext cx="1112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liá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39920" y="5137200"/>
            <a:ext cx="2070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chuà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628320" y="5137200"/>
            <a:ext cx="923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su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826920" y="260280"/>
            <a:ext cx="8153280" cy="5715000"/>
            <a:chOff x="826920" y="260280"/>
            <a:chExt cx="8153280" cy="5715000"/>
          </a:xfrm>
        </p:grpSpPr>
        <p:sp>
          <p:nvSpPr>
            <p:cNvPr id="125" name=""/>
            <p:cNvSpPr/>
            <p:nvPr/>
          </p:nvSpPr>
          <p:spPr>
            <a:xfrm>
              <a:off x="826920" y="260280"/>
              <a:ext cx="8153280" cy="563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给下列加点的字注音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篁竹（      ） 清冽（      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为坻（      ） 为屿（      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为嵁（      ） </a:t>
              </a:r>
              <a:r>
                <a:rPr b="1" lang="zh-CN" sz="4000" spc="-1" strike="noStrike">
                  <a:solidFill>
                    <a:srgbClr val="000000"/>
                  </a:solidFill>
                  <a:latin typeface="宋体"/>
                </a:rPr>
                <a:t>佁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然（      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宋体"/>
                </a:rPr>
                <a:t>俶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尔（      ） 翕忽（      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参差（      ） 寂寥（      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悄怆（      ） 幽邃（      ）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941720" y="42991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31480" y="19368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74880" y="18604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65000" y="26226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474880" y="26989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65000" y="34606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31480" y="42991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03160" y="50608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65000" y="58993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51200" y="58993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74880" y="51372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017680" y="35370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28600" y="15228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cc"/>
                </a:solidFill>
                <a:latin typeface="Times New Roman"/>
                <a:ea typeface="隶书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2209680"/>
            <a:ext cx="83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523880"/>
            <a:ext cx="215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16360" y="1484280"/>
            <a:ext cx="106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164360" y="1341360"/>
            <a:ext cx="21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4360" y="2924280"/>
            <a:ext cx="186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43280" y="2997360"/>
            <a:ext cx="1652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948360" y="2924280"/>
            <a:ext cx="137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32000" y="4508640"/>
            <a:ext cx="168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12000" y="4508640"/>
            <a:ext cx="128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24720" y="43657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1341360"/>
            <a:ext cx="882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华文行楷"/>
              </a:rPr>
              <a:t>听课文录音，注意字音字形，初步感知课文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145529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886200" y="5181480"/>
            <a:ext cx="5257800" cy="119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从小丘西行百二十步，隔篁竹，闻水声，如鸣佩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心乐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995640" y="5300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145529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590920" y="5943600"/>
            <a:ext cx="655308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伐竹取道，下见小潭，水尤清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352680" y="5911920"/>
            <a:ext cx="563904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潭中鱼可百许头，皆若空游无所依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光下澈，影布石上，佁然不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04920" y="228600"/>
            <a:ext cx="647676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青树翠蔓，蒙络摇缀，参差披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28600" y="5562720"/>
            <a:ext cx="449568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俶尔远逝，往来翕忽，似与游者相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600200" y="5334120"/>
            <a:ext cx="731520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4652640"/>
            <a:ext cx="8893080" cy="18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00200" y="5410080"/>
            <a:ext cx="721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　潭西南而望，斗折蛇行，明灭可见。其岸势犬牙差互，不可知其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17080" cy="86104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209680" y="144792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坐潭上，四面竹树环合，寂寥无人，凄神寒骨，悄怆幽邃。以其境过清，不可久居，乃记之而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39640" y="54936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《江雪》是唐代散文家柳宗元写的一首绝句，在这首诗里寄托了诗人高洁孤傲执著不屈的崇高人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213372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柳宗元曾经被贬到湖南的永州做司马。在此期间，他写下了一组著名的山水游记，合称《永州八记》。今天我们一起来学习他的《永州八记》之一的《小石潭记》。这篇文章同样体现了他独立的人格以及不被理解的愤懑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257800" y="4816440"/>
            <a:ext cx="388620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游者：吴武陵，龚古，余弟宗玄。隶而从者，崔氏二小生：曰恕己，曰奉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3068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3160800"/>
          </a:xfrm>
          <a:prstGeom prst="rect">
            <a:avLst/>
          </a:prstGeom>
          <a:ln w="0">
            <a:noFill/>
          </a:ln>
        </p:spPr>
      </p:pic>
      <p:pic>
        <p:nvPicPr>
          <p:cNvPr id="177" name="1014" descr=""/>
          <p:cNvPicPr/>
          <p:nvPr/>
        </p:nvPicPr>
        <p:blipFill>
          <a:blip r:embed="rId3"/>
          <a:stretch/>
        </p:blipFill>
        <p:spPr>
          <a:xfrm>
            <a:off x="0" y="3141720"/>
            <a:ext cx="4500720" cy="37162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4572000" y="3213000"/>
            <a:ext cx="45720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50920" y="40464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学生大声读课文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注意语调的把握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126828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提示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" y="1916280"/>
            <a:ext cx="860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课文第一二段写作者兴致勃勃畅游小石潭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有全石带来的好奇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有清澈的水流和飘忽不定的游鱼所带来的快乐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应读得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欢快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些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4000" y="4581360"/>
            <a:ext cx="845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三四五段写小石潭周围幽深冷寂的氛围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应该读得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伤感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些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低沉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些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505320" y="1219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-181080" y="1484280"/>
            <a:ext cx="849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zh-CN" sz="6000" spc="-1" strike="noStrike">
                <a:solidFill>
                  <a:srgbClr val="ffff00"/>
                </a:solidFill>
                <a:latin typeface="华文行楷"/>
                <a:ea typeface="华文行楷"/>
              </a:rPr>
              <a:t>疏通文句</a:t>
            </a:r>
            <a:r>
              <a:rPr b="1" lang="zh-CN" sz="6000" spc="-1" strike="noStrike">
                <a:solidFill>
                  <a:srgbClr val="ffff00"/>
                </a:solidFill>
                <a:latin typeface="华文行楷"/>
                <a:ea typeface="华文行楷"/>
              </a:rPr>
              <a:t>,</a:t>
            </a:r>
            <a:r>
              <a:rPr b="1" lang="zh-CN" sz="6000" spc="-1" strike="noStrike">
                <a:solidFill>
                  <a:srgbClr val="ffff00"/>
                </a:solidFill>
                <a:latin typeface="华文行楷"/>
                <a:ea typeface="华文行楷"/>
              </a:rPr>
              <a:t>落实字词</a:t>
            </a:r>
            <a:r>
              <a:rPr b="1" lang="zh-CN" sz="6000" spc="-1" strike="noStrike">
                <a:solidFill>
                  <a:srgbClr val="ffff00"/>
                </a:solidFill>
                <a:latin typeface="华文行楷"/>
                <a:ea typeface="华文行楷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4000" y="1989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5280" y="292428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5280" y="37782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8360" y="6021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4508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300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03280" y="3429000"/>
            <a:ext cx="748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华文行楷"/>
                <a:ea typeface="华文行楷"/>
              </a:rPr>
              <a:t>整体把握课文的内容</a:t>
            </a:r>
            <a:r>
              <a:rPr b="1" lang="zh-CN" sz="6000" spc="-1" strike="noStrike">
                <a:solidFill>
                  <a:srgbClr val="ffff00"/>
                </a:solidFill>
                <a:latin typeface="华文行楷"/>
                <a:ea typeface="华文行楷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24000" y="40464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从小丘西行百二十步，隔        ，    水声，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3213000"/>
            <a:ext cx="99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佩环，心        。   竹    道，    见小潭，水          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19640" y="404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篁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76720" y="105264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竹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43640" y="404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12000" y="1052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听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51280" y="522936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砍倒竹子，开辟出一条道路（走过去），下面看见一个小潭，潭水特别清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0920" y="1484280"/>
            <a:ext cx="345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从小土丘向西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一百二十步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84720" y="1989000"/>
            <a:ext cx="3095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隔着竹林，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到了水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4869000"/>
            <a:ext cx="37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好像身上带的玉佩、玉环相碰发出的清脆声音，（我的）心情高兴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532720" y="404640"/>
            <a:ext cx="7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093080" y="90792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使动用法</a:t>
            </a:r>
            <a:r>
              <a:rPr b="1" lang="zh-CN" sz="36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使…鸣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19280" y="314172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乐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00000" y="414972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代词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指水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3645000"/>
            <a:ext cx="129708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喜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258560" y="3789360"/>
            <a:ext cx="576360" cy="144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2268000" y="3789360"/>
            <a:ext cx="142920" cy="431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843280" y="3213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43280" y="3716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砍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3213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80000" y="378936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开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80360" y="314172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020000" y="3789360"/>
            <a:ext cx="122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特别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格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885080" y="3213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清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101080" y="4005360"/>
            <a:ext cx="10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清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932360" y="3213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32360" y="3860640"/>
            <a:ext cx="18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名词作状语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在下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9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2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3068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为岩。青树翠蔓，        摇     ，                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4000" y="40464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836640"/>
            <a:ext cx="96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石       底，   岸，  石底        ，为    ，为    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19640" y="404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765000"/>
            <a:ext cx="6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16000" y="76500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68360" y="765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348000" y="76500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716360" y="76500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148360" y="7650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300720" y="836640"/>
            <a:ext cx="9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24720" y="83664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459640" y="836640"/>
            <a:ext cx="5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306864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0920" y="213372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整块石头作为潭底，靠近岸边，有一圈从潭底周围突出水面的石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372360" y="2133720"/>
            <a:ext cx="27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成为坻、屿、  嵁、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5300640"/>
            <a:ext cx="208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各种不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的形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24000" y="5516640"/>
            <a:ext cx="70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青葱的树，翠绿的茎蔓，遮盖交结，摇动下垂，参差不齐，随风飘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067280" y="306864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2997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08720" y="3068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372360" y="306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参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308720" y="306864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披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260280"/>
            <a:ext cx="17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楷体_GB2312"/>
              </a:rPr>
              <a:t>完整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403280" y="141300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作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5640" y="836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141300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介词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195640" y="260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靠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71640" y="1413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动词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翻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19640" y="189000"/>
            <a:ext cx="35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连词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相当于 “而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932360" y="141300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楷体_GB2312"/>
              </a:rPr>
              <a:t>露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67280" y="141300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  <a:ea typeface="楷体_GB2312"/>
              </a:rPr>
              <a:t>水中高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093080" y="260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小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172360" y="1341360"/>
            <a:ext cx="11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成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3789360"/>
            <a:ext cx="47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楷体_GB2312"/>
              </a:rPr>
              <a:t>不平的岩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627280" y="3860640"/>
            <a:ext cx="115272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覆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492360" y="3573360"/>
            <a:ext cx="648000" cy="358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148360" y="4437000"/>
            <a:ext cx="122400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连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5796000" y="3645000"/>
            <a:ext cx="71280" cy="792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780000" y="4149720"/>
            <a:ext cx="122364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缠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500720" y="3573360"/>
            <a:ext cx="358560" cy="576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516720" y="4005360"/>
            <a:ext cx="86364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长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高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不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877080" y="3573360"/>
            <a:ext cx="0" cy="432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380360" y="378936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随风飘荡的样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8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0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1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8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3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1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3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9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5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1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5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40464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</a:rPr>
              <a:t>第一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-210240" y="2637000"/>
            <a:ext cx="139932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发现小石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116000" y="1989000"/>
            <a:ext cx="720720" cy="3816360"/>
          </a:xfrm>
          <a:custGeom>
            <a:avLst/>
            <a:gdLst>
              <a:gd name="textAreaLeft" fmla="*/ 460440 w 720720"/>
              <a:gd name="textAreaRight" fmla="*/ 721080 w 7207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835280" y="170028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</a:rPr>
              <a:t>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124000" y="234936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835280" y="2492280"/>
            <a:ext cx="93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</a:rPr>
              <a:t>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24000" y="314172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35280" y="342900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</a:rPr>
              <a:t>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95640" y="407664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835280" y="429264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</a:rPr>
              <a:t>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95640" y="494172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835280" y="5229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</a:rPr>
              <a:t>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556000" y="2276640"/>
            <a:ext cx="71280" cy="2808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627280" y="5084640"/>
            <a:ext cx="1152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556000" y="2276640"/>
            <a:ext cx="122400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627280" y="3500280"/>
            <a:ext cx="10796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51280" y="191628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08360" y="306864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708360" y="458136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500720" y="2349360"/>
            <a:ext cx="576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0" y="3500280"/>
            <a:ext cx="6476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500720" y="5084640"/>
            <a:ext cx="649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19640" y="1916280"/>
            <a:ext cx="11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ff33"/>
                </a:solidFill>
                <a:latin typeface="Arial"/>
              </a:rPr>
              <a:t>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219640" y="299736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ff33"/>
                </a:solidFill>
                <a:latin typeface="Arial"/>
              </a:rPr>
              <a:t>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219640" y="458136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ff33"/>
                </a:solidFill>
                <a:latin typeface="Arial"/>
              </a:rPr>
              <a:t>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940360" y="2421000"/>
            <a:ext cx="1295640" cy="792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0360" y="3429000"/>
            <a:ext cx="1224000" cy="71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5940360" y="3644640"/>
            <a:ext cx="1152720" cy="1368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164360" y="2852640"/>
            <a:ext cx="158436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黑体"/>
              </a:rPr>
              <a:t>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124000" y="404640"/>
            <a:ext cx="702000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124000" y="47628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移步换景      定点特写    景中含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843280" y="5877000"/>
            <a:ext cx="748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闻声          见形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140360" y="6308640"/>
            <a:ext cx="172692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2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1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50920" y="386064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潭中鱼   百    头，皆        游无所     。日光       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79280" y="29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影   石上，       不动；        远逝，往来      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79280" y="508464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与游者相     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1844640"/>
            <a:ext cx="590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潭中的鱼大约有一百来条，好像都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空中游动，周围什么也没有似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84720" y="220500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阳光直照到水底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95280" y="41497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鱼的影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700360" y="414972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呆呆地一动不动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472000" y="4076640"/>
            <a:ext cx="36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又忽然向远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游去，往来很快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6165720"/>
            <a:ext cx="52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好像和游人一同欢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187280" y="476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979640" y="40464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708360" y="47628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若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796000" y="40464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524720" y="4046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下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79280" y="907920"/>
            <a:ext cx="107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副词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大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19280" y="907920"/>
            <a:ext cx="122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  <a:ea typeface="楷体_GB2312"/>
              </a:rPr>
              <a:t>左右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  <a:ea typeface="楷体_GB2312"/>
              </a:rPr>
              <a:t>光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564000" y="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  <a:ea typeface="楷体_GB2312"/>
              </a:rPr>
              <a:t>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348000" y="98100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名词作状语</a:t>
            </a:r>
            <a:r>
              <a:rPr b="1" lang="zh-CN" sz="28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419640" y="141300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Arial"/>
                <a:ea typeface="楷体_GB2312"/>
              </a:rPr>
              <a:t>在空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580000" y="981000"/>
            <a:ext cx="122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依靠</a:t>
            </a:r>
            <a:r>
              <a:rPr b="1" lang="zh-CN" sz="28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凭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732720" y="907920"/>
            <a:ext cx="136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名词作状语</a:t>
            </a:r>
            <a:r>
              <a:rPr b="1" lang="zh-CN" sz="28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向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101080" y="907920"/>
            <a:ext cx="1297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动词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直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9640" y="285264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79280" y="35002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  <a:ea typeface="楷体_GB2312"/>
              </a:rPr>
              <a:t>散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050920" y="285264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佁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619280" y="350028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楷体_GB2312"/>
              </a:rPr>
              <a:t>呆呆的样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1640" y="28526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俶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211640" y="3500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楷体_GB2312"/>
              </a:rPr>
              <a:t>忽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093080" y="2852640"/>
            <a:ext cx="18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翕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24360" y="3500280"/>
            <a:ext cx="34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楷体_GB2312"/>
              </a:rPr>
              <a:t>轻快敏捷的样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4000" y="465300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映在石头上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79280" y="508464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5589720"/>
            <a:ext cx="17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  <a:ea typeface="楷体_GB2312"/>
              </a:rPr>
              <a:t>好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268360" y="501336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258920" y="558972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动词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逗乐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娱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2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9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3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0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4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1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9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9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6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6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9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6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9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6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0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7" dur="1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0" dur="2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7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1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8" dur="1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0" y="256536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潭中景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5280" y="46656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ff33"/>
                </a:solidFill>
                <a:latin typeface="Arial"/>
              </a:rPr>
              <a:t>第三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24000" y="1916280"/>
            <a:ext cx="287280" cy="2160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56160 h 2160360"/>
              <a:gd name="textAreaBottom" fmla="*/ 2104200 h 21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484360" y="155736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潭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484360" y="357336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游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843280" y="2276640"/>
            <a:ext cx="0" cy="1296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775600" y="2637000"/>
            <a:ext cx="789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</a:rPr>
              <a:t>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500720" y="155736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</a:rPr>
              <a:t>清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708360" y="1916280"/>
            <a:ext cx="719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580000" y="1916280"/>
            <a:ext cx="792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443640" y="155736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侧面描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635280" y="4005360"/>
            <a:ext cx="792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500720" y="357336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动静结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516720" y="4005360"/>
            <a:ext cx="100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588000" y="328464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</a:rPr>
              <a:t>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596360" y="364500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</a:rPr>
              <a:t>心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388360" y="1989000"/>
            <a:ext cx="216000" cy="505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8532720" y="3141360"/>
            <a:ext cx="142920" cy="647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028000" y="2492280"/>
            <a:ext cx="1116000" cy="64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124000" y="5013360"/>
            <a:ext cx="460872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由景生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0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0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7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0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3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2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9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2133720"/>
            <a:ext cx="96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潭西南    望 ，               ，明灭可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4437000"/>
            <a:ext cx="8748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岸势            互，不可知         。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6093000"/>
            <a:ext cx="982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溪岸的形状像犬牙那样交错不齐，不知道它的源泉在哪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3645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向小石潭的西南方看去，溪流象北斗七星那样曲折，又象蛇爬行那样弯曲，忽明忽暗，忽隐忽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24000" y="404640"/>
            <a:ext cx="26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写小潭源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843280" y="476280"/>
            <a:ext cx="144360" cy="720720"/>
          </a:xfrm>
          <a:custGeom>
            <a:avLst/>
            <a:gdLst>
              <a:gd name="textAreaLeft" fmla="*/ 92160 w 144360"/>
              <a:gd name="textAreaRight" fmla="*/ 144360 w 144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59280" y="0"/>
            <a:ext cx="230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隶书"/>
              </a:rPr>
              <a:t>溪身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132000" y="69228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隶书"/>
              </a:rPr>
              <a:t>岸势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3280" y="18900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曲折蜿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43280" y="765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参差不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411280" y="206064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中宋"/>
              </a:rPr>
              <a:t>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780000" y="2060640"/>
            <a:ext cx="86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788000" y="2060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900000" y="2781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连词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表修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987640" y="1557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名词作状语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像北斗星一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508720" y="2637000"/>
            <a:ext cx="44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名词作状语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284720" y="213372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292720" y="21337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867280" y="3141720"/>
            <a:ext cx="19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像蛇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一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284720" y="27082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曲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443640" y="549360"/>
            <a:ext cx="576360" cy="215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6443640" y="836640"/>
            <a:ext cx="576360" cy="288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164360" y="40464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4437000"/>
            <a:ext cx="5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中宋"/>
              </a:rPr>
              <a:t>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5084640"/>
            <a:ext cx="22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代词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476360" y="443700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中宋"/>
              </a:rPr>
              <a:t>犬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619280" y="508464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名词作状语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692360" y="558972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像犬牙那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411280" y="443700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987640" y="5013360"/>
            <a:ext cx="1152720" cy="360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140360" y="5084640"/>
            <a:ext cx="194436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动词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交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172360" y="278136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爬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292720" y="44370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其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443640" y="530064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它的源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1125360"/>
            <a:ext cx="2411280" cy="64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形象比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0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1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8" dur="1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2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9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3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0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4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1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8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2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9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3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0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7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1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7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4" dur="10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3" dur="1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17080" cy="8610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38080" y="1371600"/>
            <a:ext cx="914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008840" y="685800"/>
            <a:ext cx="458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07120" y="46656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Arial Narrow"/>
                <a:ea typeface="华文行楷"/>
              </a:rPr>
              <a:t>小石潭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072560" y="472428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66ff33"/>
                </a:solidFill>
                <a:latin typeface="Arial"/>
              </a:rPr>
              <a:t>柳宗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549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坐潭上，四面竹树         ，        无人，           骨，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2492280"/>
            <a:ext cx="8893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        境    清，不    久    ，    记            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995640" y="4762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环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564000" y="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环绕包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148360" y="476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寂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788000" y="98100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寂静空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020000" y="54936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凄神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300720" y="0"/>
            <a:ext cx="21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使…凄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877080" y="10526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心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667640" y="981000"/>
            <a:ext cx="19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使…寒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50920" y="2492280"/>
            <a:ext cx="24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悄怆幽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3213000"/>
            <a:ext cx="26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忧伤的样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3645000"/>
            <a:ext cx="19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幽静深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340000" y="299736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因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24000" y="2492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484360" y="249228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411280" y="3573360"/>
            <a:ext cx="13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那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203640" y="2492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419640" y="3213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过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364000" y="249228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643280" y="249228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306864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能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643280" y="306864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停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156360" y="24922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372360" y="3068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580000" y="299736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于是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48360" y="249228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之而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148360" y="36450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代词</a:t>
            </a:r>
            <a:r>
              <a:rPr b="1" lang="zh-CN" sz="24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,</a:t>
            </a:r>
            <a:r>
              <a:rPr b="1" lang="zh-CN" sz="24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指小石潭的情景</a:t>
            </a:r>
            <a:r>
              <a:rPr b="1" lang="zh-CN" sz="24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093080" y="314172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连词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表顺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207280" y="2492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离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4292640"/>
            <a:ext cx="9612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真是太寂静幽深了。由于这地方过于冷清，不能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时间地停留，于是就把当时的情景记下来便离去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141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我坐在潭边，四周有竹子和树林围绕着，静悄悄的没有人迹，使人感到心境凄凉，寒气彻骨</a:t>
            </a: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95280" y="573408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</a:rPr>
              <a:t>写潭中气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843280" y="5778360"/>
            <a:ext cx="431640" cy="1079640"/>
          </a:xfrm>
          <a:custGeom>
            <a:avLst/>
            <a:gdLst>
              <a:gd name="textAreaLeft" fmla="*/ 275760 w 431640"/>
              <a:gd name="textAreaRight" fmla="*/ 432000 w 43164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419640" y="558972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气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419640" y="627840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感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716360" y="55897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788000" y="627840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92720" y="5950080"/>
            <a:ext cx="574560" cy="287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5292720" y="6308280"/>
            <a:ext cx="574560" cy="360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012000" y="587700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732720" y="5734080"/>
            <a:ext cx="2411280" cy="90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寓情于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5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9" dur="2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3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5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1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1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1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1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1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1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1" dur="2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6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7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9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6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9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250920" y="126828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者：吴武陵，龚古，  弟宗玄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50920" y="3500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从者，崔氏二        ：   恕己，曰奉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68360" y="2421000"/>
            <a:ext cx="936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隶书"/>
              </a:rPr>
              <a:t>同游的人有吴武陵、龚古、我的弟弟宗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50920" y="486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隶书"/>
              </a:rPr>
              <a:t>跟着来的有姓崔的两个少年，一个叫恕己，一个叫奉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859280" y="3500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148360" y="400536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95280" y="350028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400536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跟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435640" y="126828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508720" y="184464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708360" y="3500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小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780000" y="43657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年轻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042920" y="126828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11280" y="1844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一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476360" y="12682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547640" y="184464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游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826920" y="350028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971640" y="407664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连词，表并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95280" y="260280"/>
            <a:ext cx="792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最后一段：记录同游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6" dur="indefinite" restart="never" nodeType="tmRoot">
          <p:childTnLst>
            <p:seq>
              <p:cTn id="1547" dur="indefinite" nodeType="mainSeq">
                <p:childTnLst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1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1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1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1" dur="2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1" dur="20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1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fill="hold">
                      <p:stCondLst>
                        <p:cond delay="indefinite"/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1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1143000" y="1523880"/>
            <a:ext cx="7467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66"/>
                </a:solidFill>
                <a:latin typeface="Times New Roman"/>
              </a:rPr>
              <a:t>                 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全文共五段，可分为四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66"/>
                </a:solidFill>
                <a:latin typeface="Times New Roman"/>
              </a:rPr>
              <a:t>第一部分（</a:t>
            </a:r>
            <a:r>
              <a:rPr b="1" lang="zh-CN" sz="2400" spc="-1" strike="noStrike">
                <a:solidFill>
                  <a:srgbClr val="66ff66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66ff66"/>
                </a:solidFill>
                <a:latin typeface="Times New Roman"/>
              </a:rPr>
              <a:t>），写小石潭的方位和概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66"/>
                </a:solidFill>
                <a:latin typeface="Times New Roman"/>
              </a:rPr>
              <a:t>第二部分（</a:t>
            </a:r>
            <a:r>
              <a:rPr b="1" lang="zh-CN" sz="2400" spc="-1" strike="noStrike">
                <a:solidFill>
                  <a:srgbClr val="66ff66"/>
                </a:solidFill>
                <a:latin typeface="Times New Roman"/>
              </a:rPr>
              <a:t>2~3</a:t>
            </a:r>
            <a:r>
              <a:rPr b="1" lang="zh-CN" sz="2400" spc="-1" strike="noStrike">
                <a:solidFill>
                  <a:srgbClr val="66ff66"/>
                </a:solidFill>
                <a:latin typeface="Times New Roman"/>
              </a:rPr>
              <a:t>），写小石潭中的游鱼和潭中的水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66"/>
                </a:solidFill>
                <a:latin typeface="Times New Roman"/>
              </a:rPr>
              <a:t>第三部分（</a:t>
            </a:r>
            <a:r>
              <a:rPr b="1" lang="zh-CN" sz="2400" spc="-1" strike="noStrike">
                <a:solidFill>
                  <a:srgbClr val="66ff66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66ff66"/>
                </a:solidFill>
                <a:latin typeface="Times New Roman"/>
              </a:rPr>
              <a:t>），写小石潭的气氛和作者的感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66"/>
                </a:solidFill>
                <a:latin typeface="Times New Roman"/>
              </a:rPr>
              <a:t>第四部分（</a:t>
            </a:r>
            <a:r>
              <a:rPr b="1" lang="zh-CN" sz="2400" spc="-1" strike="noStrike">
                <a:solidFill>
                  <a:srgbClr val="66ff66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66ff66"/>
                </a:solidFill>
                <a:latin typeface="Times New Roman"/>
              </a:rPr>
              <a:t>），介绍与自己同游小石潭的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685800" y="4495680"/>
            <a:ext cx="7620120" cy="1752840"/>
            <a:chOff x="685800" y="4495680"/>
            <a:chExt cx="7620120" cy="1752840"/>
          </a:xfrm>
        </p:grpSpPr>
        <p:sp>
          <p:nvSpPr>
            <p:cNvPr id="451" name=""/>
            <p:cNvSpPr/>
            <p:nvPr/>
          </p:nvSpPr>
          <p:spPr>
            <a:xfrm>
              <a:off x="685800" y="4495680"/>
              <a:ext cx="7620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838080" y="5257800"/>
              <a:ext cx="5410440" cy="990720"/>
              <a:chOff x="838080" y="5257800"/>
              <a:chExt cx="5410440" cy="990720"/>
            </a:xfrm>
          </p:grpSpPr>
          <p:sp>
            <p:nvSpPr>
              <p:cNvPr id="453" name=""/>
              <p:cNvSpPr/>
              <p:nvPr/>
            </p:nvSpPr>
            <p:spPr>
              <a:xfrm>
                <a:off x="5334120" y="5257800"/>
                <a:ext cx="91440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581280" y="5638680"/>
                <a:ext cx="91440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38080" y="6248520"/>
                <a:ext cx="91440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6" name=""/>
          <p:cNvSpPr txBox="1"/>
          <p:nvPr/>
        </p:nvSpPr>
        <p:spPr>
          <a:xfrm>
            <a:off x="2438280" y="228600"/>
            <a:ext cx="4267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文章结构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7467480" y="380880"/>
            <a:ext cx="137160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6" dur="indefinite" restart="never" nodeType="tmRoot">
          <p:childTnLst>
            <p:seq>
              <p:cTn id="1637" dur="indefinite" nodeType="mainSeq">
                <p:childTnLst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7" dur="10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10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10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10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5" dur="1000" fill="hold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1000" fill="hold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1000" fill="hold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1000" fill="hold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3" dur="10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10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10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10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1000" fill="hold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1000" fill="hold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1000" fill="hold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1000" fill="hold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10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10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10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10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8" fill="hold">
                      <p:stCondLst>
                        <p:cond delay="indefinite"/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3"/>
          <p:cNvSpPr/>
          <p:nvPr/>
        </p:nvSpPr>
        <p:spPr>
          <a:xfrm>
            <a:off x="1692360" y="765000"/>
            <a:ext cx="395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4"/>
          <p:cNvSpPr/>
          <p:nvPr/>
        </p:nvSpPr>
        <p:spPr>
          <a:xfrm>
            <a:off x="3132000" y="476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5"/>
          <p:cNvSpPr/>
          <p:nvPr/>
        </p:nvSpPr>
        <p:spPr>
          <a:xfrm>
            <a:off x="324000" y="83664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一词多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6"/>
          <p:cNvSpPr/>
          <p:nvPr/>
        </p:nvSpPr>
        <p:spPr>
          <a:xfrm>
            <a:off x="826920" y="1413000"/>
            <a:ext cx="381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全石以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坻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屿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嵁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7"/>
          <p:cNvSpPr/>
          <p:nvPr/>
        </p:nvSpPr>
        <p:spPr>
          <a:xfrm>
            <a:off x="755640" y="1628640"/>
            <a:ext cx="216000" cy="7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8"/>
          <p:cNvSpPr/>
          <p:nvPr/>
        </p:nvSpPr>
        <p:spPr>
          <a:xfrm>
            <a:off x="179280" y="177336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9"/>
          <p:cNvSpPr/>
          <p:nvPr/>
        </p:nvSpPr>
        <p:spPr>
          <a:xfrm>
            <a:off x="2268360" y="148428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（作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0"/>
          <p:cNvSpPr/>
          <p:nvPr/>
        </p:nvSpPr>
        <p:spPr>
          <a:xfrm>
            <a:off x="4067280" y="1989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（成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1"/>
          <p:cNvSpPr/>
          <p:nvPr/>
        </p:nvSpPr>
        <p:spPr>
          <a:xfrm>
            <a:off x="5419800" y="1308240"/>
            <a:ext cx="260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潭中鱼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百许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知其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12"/>
          <p:cNvSpPr/>
          <p:nvPr/>
        </p:nvSpPr>
        <p:spPr>
          <a:xfrm>
            <a:off x="5292720" y="1413000"/>
            <a:ext cx="142920" cy="863640"/>
          </a:xfrm>
          <a:custGeom>
            <a:avLst/>
            <a:gdLst>
              <a:gd name="textAreaLeft" fmla="*/ 91440 w 142920"/>
              <a:gd name="textAreaRight" fmla="*/ 143280 w 1429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6194"/>
                </a:lnTo>
                <a:cubicBezTo>
                  <a:pt x="10800" y="7094"/>
                  <a:pt x="5400" y="7994"/>
                  <a:pt x="0" y="7994"/>
                </a:cubicBezTo>
                <a:cubicBezTo>
                  <a:pt x="5400" y="7994"/>
                  <a:pt x="10800" y="8894"/>
                  <a:pt x="10800" y="979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3"/>
          <p:cNvSpPr/>
          <p:nvPr/>
        </p:nvSpPr>
        <p:spPr>
          <a:xfrm>
            <a:off x="4716360" y="1484280"/>
            <a:ext cx="5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4"/>
          <p:cNvSpPr/>
          <p:nvPr/>
        </p:nvSpPr>
        <p:spPr>
          <a:xfrm>
            <a:off x="7709040" y="134136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（大约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5"/>
          <p:cNvSpPr/>
          <p:nvPr/>
        </p:nvSpPr>
        <p:spPr>
          <a:xfrm>
            <a:off x="6959520" y="1741320"/>
            <a:ext cx="18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能够，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可以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20"/>
          <p:cNvSpPr/>
          <p:nvPr/>
        </p:nvSpPr>
        <p:spPr>
          <a:xfrm>
            <a:off x="179280" y="3789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古今异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40"/>
          <p:cNvSpPr/>
          <p:nvPr/>
        </p:nvSpPr>
        <p:spPr>
          <a:xfrm>
            <a:off x="324000" y="256536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41"/>
          <p:cNvSpPr/>
          <p:nvPr/>
        </p:nvSpPr>
        <p:spPr>
          <a:xfrm>
            <a:off x="826920" y="2565360"/>
            <a:ext cx="144720" cy="792360"/>
          </a:xfrm>
          <a:custGeom>
            <a:avLst/>
            <a:gdLst>
              <a:gd name="textAreaLeft" fmla="*/ 92520 w 144720"/>
              <a:gd name="textAreaRight" fmla="*/ 145080 w 14472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6194"/>
                </a:lnTo>
                <a:cubicBezTo>
                  <a:pt x="10800" y="7094"/>
                  <a:pt x="5400" y="7994"/>
                  <a:pt x="0" y="7994"/>
                </a:cubicBezTo>
                <a:cubicBezTo>
                  <a:pt x="5400" y="7994"/>
                  <a:pt x="10800" y="8894"/>
                  <a:pt x="10800" y="979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42"/>
          <p:cNvSpPr/>
          <p:nvPr/>
        </p:nvSpPr>
        <p:spPr>
          <a:xfrm>
            <a:off x="971640" y="2492280"/>
            <a:ext cx="180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水尤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清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其境过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43"/>
          <p:cNvSpPr/>
          <p:nvPr/>
        </p:nvSpPr>
        <p:spPr>
          <a:xfrm>
            <a:off x="2195640" y="2492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（清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44"/>
          <p:cNvSpPr/>
          <p:nvPr/>
        </p:nvSpPr>
        <p:spPr>
          <a:xfrm>
            <a:off x="2411280" y="30686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（凄清，冷清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45"/>
          <p:cNvSpPr/>
          <p:nvPr/>
        </p:nvSpPr>
        <p:spPr>
          <a:xfrm>
            <a:off x="4716360" y="2781360"/>
            <a:ext cx="5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47"/>
          <p:cNvSpPr/>
          <p:nvPr/>
        </p:nvSpPr>
        <p:spPr>
          <a:xfrm flipV="1">
            <a:off x="5292720" y="2781360"/>
            <a:ext cx="142920" cy="79200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6194"/>
                </a:lnTo>
                <a:cubicBezTo>
                  <a:pt x="10800" y="7094"/>
                  <a:pt x="5400" y="7994"/>
                  <a:pt x="0" y="7994"/>
                </a:cubicBezTo>
                <a:cubicBezTo>
                  <a:pt x="5400" y="7994"/>
                  <a:pt x="10800" y="8894"/>
                  <a:pt x="10800" y="979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8"/>
          <p:cNvSpPr/>
          <p:nvPr/>
        </p:nvSpPr>
        <p:spPr>
          <a:xfrm>
            <a:off x="5435640" y="2610000"/>
            <a:ext cx="3240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全石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境过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9"/>
          <p:cNvSpPr/>
          <p:nvPr/>
        </p:nvSpPr>
        <p:spPr>
          <a:xfrm>
            <a:off x="7020000" y="263700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（用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50"/>
          <p:cNvSpPr/>
          <p:nvPr/>
        </p:nvSpPr>
        <p:spPr>
          <a:xfrm>
            <a:off x="6877080" y="306864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（因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51"/>
          <p:cNvSpPr/>
          <p:nvPr/>
        </p:nvSpPr>
        <p:spPr>
          <a:xfrm>
            <a:off x="1692360" y="465300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宋体"/>
              </a:rPr>
              <a:t>（古）离开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</a:rPr>
              <a:t>           </a:t>
            </a:r>
            <a:r>
              <a:rPr b="1" lang="zh-CN" sz="2400" spc="-1" strike="noStrike">
                <a:solidFill>
                  <a:srgbClr val="0070c0"/>
                </a:solidFill>
                <a:latin typeface="宋体"/>
              </a:rPr>
              <a:t>（今）前往，到某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050920" y="119160"/>
            <a:ext cx="489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华文隶书"/>
                <a:ea typeface="华文隶书"/>
              </a:rPr>
              <a:t>知识点归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8"/>
          <p:cNvSpPr/>
          <p:nvPr/>
        </p:nvSpPr>
        <p:spPr>
          <a:xfrm>
            <a:off x="395280" y="466704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去：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生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32"/>
          <p:cNvSpPr/>
          <p:nvPr/>
        </p:nvSpPr>
        <p:spPr>
          <a:xfrm>
            <a:off x="1692360" y="544500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宋体"/>
              </a:rPr>
              <a:t>（古）年轻人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</a:rPr>
              <a:t>  </a:t>
            </a:r>
            <a:r>
              <a:rPr b="1" lang="zh-CN" sz="2400" spc="-1" strike="noStrike">
                <a:solidFill>
                  <a:srgbClr val="0070c0"/>
                </a:solidFill>
                <a:latin typeface="宋体"/>
              </a:rPr>
              <a:t>（今）戏曲艺术中的一种角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95280" y="465120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去：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生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692360" y="542916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宋体"/>
              </a:rPr>
              <a:t>（古）年轻人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</a:rPr>
              <a:t>  </a:t>
            </a:r>
            <a:r>
              <a:rPr b="1" lang="zh-CN" sz="2400" spc="-1" strike="noStrike">
                <a:solidFill>
                  <a:srgbClr val="0070c0"/>
                </a:solidFill>
                <a:latin typeface="宋体"/>
              </a:rPr>
              <a:t>（今）戏曲艺术中的一种角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4" dur="indefinite" restart="never" nodeType="tmRoot">
          <p:childTnLst>
            <p:seq>
              <p:cTn id="1695" dur="indefinite" nodeType="mainSeq">
                <p:childTnLst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fill="hold">
                      <p:stCondLst>
                        <p:cond delay="indefinite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fill="hold">
                      <p:stCondLst>
                        <p:cond delay="indefinite"/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fill="hold">
                      <p:stCondLst>
                        <p:cond delay="indefinite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5"/>
          <p:cNvSpPr/>
          <p:nvPr/>
        </p:nvSpPr>
        <p:spPr>
          <a:xfrm>
            <a:off x="395280" y="10526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重点虚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68360" y="2046240"/>
            <a:ext cx="5183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：卷石底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境过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68360" y="3267000"/>
            <a:ext cx="640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而：乃记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潭西南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68360" y="4562640"/>
            <a:ext cx="64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乃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记之而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6"/>
          <p:cNvSpPr/>
          <p:nvPr/>
        </p:nvSpPr>
        <p:spPr>
          <a:xfrm>
            <a:off x="3924360" y="20606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连词，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7"/>
          <p:cNvSpPr/>
          <p:nvPr/>
        </p:nvSpPr>
        <p:spPr>
          <a:xfrm>
            <a:off x="3924360" y="27082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介词，因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8"/>
          <p:cNvSpPr/>
          <p:nvPr/>
        </p:nvSpPr>
        <p:spPr>
          <a:xfrm>
            <a:off x="3924360" y="33987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连词，表承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9"/>
          <p:cNvSpPr/>
          <p:nvPr/>
        </p:nvSpPr>
        <p:spPr>
          <a:xfrm>
            <a:off x="3924360" y="40053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连词，表修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10"/>
          <p:cNvSpPr/>
          <p:nvPr/>
        </p:nvSpPr>
        <p:spPr>
          <a:xfrm>
            <a:off x="3924360" y="46227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副词，于是，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3" dur="indefinite" restart="never" nodeType="tmRoot">
          <p:childTnLst>
            <p:seq>
              <p:cTn id="1774" dur="indefinite" nodeType="mainSeq">
                <p:childTnLst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0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5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解释加点的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全石以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为</a:t>
            </a: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为坻为屿，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为</a:t>
            </a: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嵁为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华文新魏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潭中鱼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可</a:t>
            </a: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百许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不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可</a:t>
            </a: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知其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华文新魏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参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差</a:t>
            </a: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披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其岸势犬牙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差</a:t>
            </a: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华文新魏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下见小潭，水尤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清</a:t>
            </a: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以其境过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清</a:t>
            </a: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，不可久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华文新魏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闻水声，如鸣珮环，心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乐</a:t>
            </a: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似与游者相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华文新魏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皆若空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游</a:t>
            </a: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无所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同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游</a:t>
            </a: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者：吴武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250880" y="765000"/>
            <a:ext cx="146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华文新魏"/>
                <a:ea typeface="华文新魏"/>
              </a:rPr>
              <a:t>（动词，作为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华文新魏"/>
                <a:ea typeface="华文新魏"/>
              </a:rPr>
              <a:t>           </a:t>
            </a:r>
            <a:r>
              <a:rPr b="1" lang="zh-CN" sz="2800" spc="-1" strike="noStrike">
                <a:solidFill>
                  <a:srgbClr val="009900"/>
                </a:solidFill>
                <a:latin typeface="华文新魏"/>
                <a:ea typeface="华文新魏"/>
              </a:rPr>
              <a:t>（动词，成为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484360" y="1628640"/>
            <a:ext cx="3959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9900"/>
                </a:solidFill>
                <a:latin typeface="华文新魏"/>
                <a:ea typeface="华文新魏"/>
              </a:rPr>
              <a:t>（大约。）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华文新魏"/>
                <a:ea typeface="华文新魏"/>
              </a:rPr>
              <a:t>（能够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987640" y="2781360"/>
            <a:ext cx="42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华文新魏"/>
                <a:ea typeface="华文新魏"/>
              </a:rPr>
              <a:t>（形容词，长短不一。）                                 （动词，交错。）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140360" y="3645000"/>
            <a:ext cx="309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华文新魏"/>
                <a:ea typeface="华文新魏"/>
              </a:rPr>
              <a:t>（清澈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华文新魏"/>
                <a:ea typeface="华文新魏"/>
              </a:rPr>
              <a:t>（凄清、冷清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635280" y="4869000"/>
            <a:ext cx="55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华文新魏"/>
                <a:ea typeface="华文新魏"/>
              </a:rPr>
              <a:t>                  </a:t>
            </a:r>
            <a:r>
              <a:rPr b="1" lang="zh-CN" sz="2800" spc="-1" strike="noStrike">
                <a:solidFill>
                  <a:srgbClr val="009900"/>
                </a:solidFill>
                <a:latin typeface="华文新魏"/>
                <a:ea typeface="华文新魏"/>
              </a:rPr>
              <a:t>（以……为乐。）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华文新魏"/>
                <a:ea typeface="华文新魏"/>
              </a:rPr>
              <a:t>（欢乐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296240" y="5911920"/>
            <a:ext cx="35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华文新魏"/>
                <a:ea typeface="华文新魏"/>
              </a:rPr>
              <a:t>（游动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华文新魏"/>
                <a:ea typeface="华文新魏"/>
              </a:rPr>
              <a:t>（游玩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95280" y="1844640"/>
            <a:ext cx="287280" cy="863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0920" y="836640"/>
            <a:ext cx="287280" cy="863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5280" y="2852640"/>
            <a:ext cx="287280" cy="863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5280" y="3933720"/>
            <a:ext cx="142920" cy="863640"/>
          </a:xfrm>
          <a:custGeom>
            <a:avLst/>
            <a:gdLst>
              <a:gd name="textAreaLeft" fmla="*/ 91440 w 142920"/>
              <a:gd name="textAreaRight" fmla="*/ 143280 w 1429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95280" y="4941720"/>
            <a:ext cx="287280" cy="863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95280" y="5994360"/>
            <a:ext cx="287280" cy="863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2" dur="indefinite" restart="never" nodeType="tmRoot">
          <p:childTnLst>
            <p:seq>
              <p:cTn id="1803" dur="indefinite" nodeType="mainSeq">
                <p:childTnLst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fill="hold">
                      <p:stCondLst>
                        <p:cond delay="indefinite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8" fill="hold">
                      <p:stCondLst>
                        <p:cond delay="indefinite"/>
                      </p:stCondLst>
                      <p:childTnLst>
                        <p:par>
                          <p:cTn id="1829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4" fill="hold">
                      <p:stCondLst>
                        <p:cond delay="indefinite"/>
                      </p:stCondLst>
                      <p:childTnLst>
                        <p:par>
                          <p:cTn id="1835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华文行楷"/>
              </a:rPr>
              <a:t>词类活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小丘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西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行百二十步（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方位名词作状语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向西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见小潭（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方位名词作状语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在下面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皆若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无所依（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名词作状语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在空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光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澈（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方位名词作状语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向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折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蛇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行（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名词作状语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斗，像北斗星那样；蛇，像蛇那样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岸势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犬牙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差互（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名词作状语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像犬牙一样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乐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（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形容词作动词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感到快乐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凄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寒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（形容词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使动用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凄，使……凄凉；寒，使……寒冷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0" y="189000"/>
            <a:ext cx="9144000" cy="72072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9000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3106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初步感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0" y="378900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隶书"/>
                <a:ea typeface="隶书"/>
              </a:rPr>
              <a:t>2.</a:t>
            </a:r>
            <a:r>
              <a:rPr b="0" lang="zh-CN" sz="4000" spc="-1" strike="noStrike">
                <a:solidFill>
                  <a:srgbClr val="0000cc"/>
                </a:solidFill>
                <a:latin typeface="隶书"/>
                <a:ea typeface="隶书"/>
              </a:rPr>
              <a:t>本文是按照什么顺序来写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95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隶书"/>
                <a:ea typeface="隶书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11120" y="4327560"/>
            <a:ext cx="873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课文是按照浏览的顺序来写的，条理十分清楚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zh-CN" sz="4000" spc="-1" strike="noStrike">
                <a:solidFill>
                  <a:srgbClr val="cc0066"/>
                </a:solidFill>
                <a:latin typeface="隶书"/>
                <a:ea typeface="隶书"/>
              </a:rPr>
              <a:t>发现小潭——潭中景物——小潭源流——潭中气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981000"/>
            <a:ext cx="877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隶书"/>
                <a:ea typeface="隶书"/>
              </a:rPr>
              <a:t>1.</a:t>
            </a:r>
            <a:r>
              <a:rPr b="0" lang="zh-CN" sz="4000" spc="-1" strike="noStrike">
                <a:solidFill>
                  <a:srgbClr val="0000cc"/>
                </a:solidFill>
                <a:latin typeface="隶书"/>
                <a:ea typeface="隶书"/>
              </a:rPr>
              <a:t>本文描写了什么景色？抒发了作者怎样的思想感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24000" y="2060640"/>
            <a:ext cx="858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本文描写了小石潭幽美、静穆的环境景物，抒发了作者贬官失意后的孤凄之情。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0" dur="indefinite" restart="never" nodeType="tmRoot">
          <p:childTnLst>
            <p:seq>
              <p:cTn id="1841" dur="indefinite" nodeType="mainSeq">
                <p:childTnLst>
                  <p:par>
                    <p:cTn id="1842" fill="hold">
                      <p:stCondLst>
                        <p:cond delay="0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6" dur="77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47" dur="770" fill="hold"/>
                                        <p:tgtEl>
                                          <p:spTgt spid="5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49" dur="77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51" dur="77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6" dur="77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57" dur="770" fill="hold"/>
                                        <p:tgtEl>
                                          <p:spTgt spid="5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59" dur="77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61" dur="77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7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6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8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826920" y="189000"/>
            <a:ext cx="7561440" cy="863640"/>
          </a:xfrm>
          <a:custGeom>
            <a:avLst/>
            <a:gdLst>
              <a:gd name="textAreaLeft" fmla="*/ 1726200 w 7561440"/>
              <a:gd name="textAreaRight" fmla="*/ 5835240 w 7561440"/>
              <a:gd name="textAreaTop" fmla="*/ 196920 h 863640"/>
              <a:gd name="textAreaBottom" fmla="*/ 6667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30956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行楷"/>
              </a:rPr>
              <a:t>重点研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-360" y="1052280"/>
            <a:ext cx="892476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华文新魏"/>
                <a:ea typeface="华文新魏"/>
              </a:rPr>
              <a:t>朗读课文第一段，讨论下列问题</a:t>
            </a:r>
            <a:r>
              <a:rPr b="0" lang="zh-CN" sz="3600" spc="-1" strike="noStrike">
                <a:solidFill>
                  <a:srgbClr val="009900"/>
                </a:solidFill>
                <a:latin typeface="华文新魏"/>
                <a:ea typeface="华文新魏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作者是怎样发现小石潭的？作者写发现小石潭的经过，用了哪些准确的动词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2924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“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隔篁竹，闻水声”，“伐竹取道，下见小潭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263760" y="3789360"/>
            <a:ext cx="101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隔、闻、伐、取、见（动词准确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4797360"/>
            <a:ext cx="96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本段描写了哪些景物？写景用了什么写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5445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篁竹、水 声、小潭、青树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〔移步换景〕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2" dur="indefinite" restart="never" nodeType="tmRoot">
          <p:childTnLst>
            <p:seq>
              <p:cTn id="1883" dur="indefinite" nodeType="mainSeq">
                <p:childTnLst>
                  <p:par>
                    <p:cTn id="1884" fill="hold">
                      <p:stCondLst>
                        <p:cond delay="0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2" fill="hold">
                            <p:stCondLst>
                              <p:cond delay="500"/>
                            </p:stCondLst>
                            <p:childTnLst>
                              <p:par>
                                <p:cTn id="189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7" dur="5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5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3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5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6" fill="hold">
                      <p:stCondLst>
                        <p:cond delay="indefinite"/>
                      </p:stCondLst>
                      <p:childTnLst>
                        <p:par>
                          <p:cTn id="1917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2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fill="hold">
                      <p:stCondLst>
                        <p:cond delay="indefinite"/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3" dur="10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10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5" dur="10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-360" y="1052640"/>
            <a:ext cx="939636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朗读课文第二段，讨论下列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本段写了哪些景物，用的是什么写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潭水有什么特点？用的是什么写法？好处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作者是怎样写鱼的？这段描写渗透了作者怎样的感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0" y="3789360"/>
            <a:ext cx="85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1.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描写了</a:t>
            </a: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潭水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 、</a:t>
            </a: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游鱼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，用的是</a:t>
            </a: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特写镜头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436572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2.</a:t>
            </a: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清澄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。侧面描写，通过写游鱼、阳光、影子描写潭水。</a:t>
            </a: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无一字写水，但无处不在写水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0" y="5516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3.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作者采用</a:t>
            </a: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动静相结合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的方法，先描出生动的画面，再加上拟人化的手法。</a:t>
            </a: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快乐</a:t>
            </a: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的心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26920" y="0"/>
            <a:ext cx="7561440" cy="863640"/>
          </a:xfrm>
          <a:custGeom>
            <a:avLst/>
            <a:gdLst>
              <a:gd name="textAreaLeft" fmla="*/ 1726200 w 7561440"/>
              <a:gd name="textAreaRight" fmla="*/ 5835240 w 7561440"/>
              <a:gd name="textAreaTop" fmla="*/ 196920 h 863640"/>
              <a:gd name="textAreaBottom" fmla="*/ 6667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title"/>
          </p:nvPr>
        </p:nvSpPr>
        <p:spPr>
          <a:xfrm>
            <a:off x="2987280" y="144000"/>
            <a:ext cx="30956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重点研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6" dur="indefinite" restart="never" nodeType="tmRoot">
          <p:childTnLst>
            <p:seq>
              <p:cTn id="1937" dur="indefinite" nodeType="mainSeq">
                <p:childTnLst>
                  <p:par>
                    <p:cTn id="1938" fill="hold">
                      <p:stCondLst>
                        <p:cond delay="0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6" fill="hold">
                            <p:stCondLst>
                              <p:cond delay="500"/>
                            </p:stCondLst>
                            <p:childTnLst>
                              <p:par>
                                <p:cTn id="194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5" dur="1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8" dur="10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1" dur="10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4" dur="1000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fill="hold">
                      <p:stCondLst>
                        <p:cond delay="indefinite"/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9640" y="40464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1" lang="zh-CN" sz="7200" spc="-1" strike="noStrike">
                <a:solidFill>
                  <a:srgbClr val="99cc00"/>
                </a:solidFill>
                <a:latin typeface="华文行楷"/>
                <a:ea typeface="华文行楷"/>
              </a:rPr>
              <a:t>目标与要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1989000"/>
            <a:ext cx="67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．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了解文章大意并背诵全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335772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２．体会文章的写景抒情的方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465300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３．理解作者的思想感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189000"/>
            <a:ext cx="54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华文行楷"/>
              </a:rPr>
              <a:t>课后巩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112536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课文是按照什么顺序写的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95280" y="170028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课文的写作顺序是（游览顺序）：发现小石潭──潭中景物──小潭源流──潭中气氛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349092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抓住了小石潭的哪些特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39640" y="4149720"/>
            <a:ext cx="61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小石潭的特点：幽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485928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作者对小石潭的整体感受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26920" y="5373720"/>
            <a:ext cx="777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作者对小石潭的整体感受：幽深冷寂，孤凄悲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0" dur="indefinite" restart="never" nodeType="tmRoot">
          <p:childTnLst>
            <p:seq>
              <p:cTn id="1981" dur="indefinite" nodeType="mainSeq">
                <p:childTnLst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fill="hold">
                      <p:stCondLst>
                        <p:cond delay="indefinite"/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324000" y="260280"/>
            <a:ext cx="54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黑体"/>
              </a:rPr>
              <a:t>问题研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79280" y="155736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．第四段写作者在潭上所见到的景物和自己的感受，描写了小石潭中怎样的气氛？反映了作者怎样的心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11280" y="3068640"/>
            <a:ext cx="85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描写了小石潭幽深冷寂的景色和气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3789360"/>
            <a:ext cx="9396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作者极力描写小石潭的幽静，甚至浸透到人的心灵里去，把景物跟心情结合起来，写出一种境界。在这种境界里，透露出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作者贬居生活孤凄悲凉的心境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这是作者被排挤、受迫害的身世遭遇的反映，我们可以从中体会到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封建社会中不得志文人的痛苦心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9" dur="indefinite" restart="never" nodeType="tmRoot">
          <p:childTnLst>
            <p:seq>
              <p:cTn id="2010" dur="indefinite" nodeType="mainSeq">
                <p:childTnLst>
                  <p:par>
                    <p:cTn id="2011" fill="hold">
                      <p:stCondLst>
                        <p:cond delay="indefinite"/>
                      </p:stCondLst>
                      <p:childTnLst>
                        <p:par>
                          <p:cTn id="2012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1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0" y="62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．文章前面写“心乐之”，后面又写“悄怆幽邃”，一乐一忧似难相容，该如何理解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24000" y="220500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乐是忧的另一种表现形式。柳宗元参与改革，失败被贬，心中愤懑难平，因而凄苦是他感情的主调，而寄情山水正是为了摆脱这种抑郁的心情；但这种欢乐毕竟是暂时的，一经凄清环境的触发，忧伤悲凉的心情又会流露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潭中气氛：幽深冷寂（孤凄悲凉心境的反映）──寓情于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3" dur="indefinite" restart="never" nodeType="tmRoot">
          <p:childTnLst>
            <p:seq>
              <p:cTn id="2024" dur="indefinite" nodeType="mainSeq">
                <p:childTnLst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9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0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3" dur="5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4" dur="5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00"/>
                </a:solidFill>
                <a:latin typeface="宋体"/>
              </a:rPr>
              <a:t>深入探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0" y="2276640"/>
            <a:ext cx="91440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文章一开头作者“闻水声，如鸣珮环，心乐之”，观鱼时写鱼“似与游者相乐”，可是坐潭上后，竟“悄怆幽邃”，这一“乐”，一“凄”，矛盾吗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0" y="4149720"/>
            <a:ext cx="93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不矛盾。乐是为了忘忧，而凄正是因为不快乐。柳宗元参与改革，失败被贬，心中愤懑难平，因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凄苦是他感情的主调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，寄情山水正是为了摆脱这种抑郁的心情。但这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欢乐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毕竟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暂时的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，一经凄凉环境的触发，忧伤悲凉的心情又会流露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214640" y="792000"/>
            <a:ext cx="42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在文中找出表现作者情感的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0" y="1268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心乐之”，“似与游者相乐”，“凄神寒骨，悄怆幽邃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050920" y="189000"/>
            <a:ext cx="648000" cy="620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300720" y="189000"/>
            <a:ext cx="647640" cy="620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5" dur="indefinite" restart="never" nodeType="tmRoot">
          <p:childTnLst>
            <p:seq>
              <p:cTn id="2036" dur="indefinite" nodeType="mainSeq">
                <p:childTnLst>
                  <p:par>
                    <p:cTn id="2037" fill="hold">
                      <p:stCondLst>
                        <p:cond delay="0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1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7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3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4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0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6" fill="hold">
                      <p:stCondLst>
                        <p:cond delay="indefinite"/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70" dur="2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fill="hold">
                      <p:stCondLst>
                        <p:cond delay="indefinite"/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5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308520" y="2514600"/>
            <a:ext cx="667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小石潭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914400" y="762120"/>
            <a:ext cx="152280" cy="5257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36800 h 5257800"/>
              <a:gd name="textAreaBottom" fmla="*/ 5121000 h 525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990720" y="5889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发现小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400800" y="8380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迷你简启体"/>
              </a:rPr>
              <a:t>移步换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990720" y="2090880"/>
            <a:ext cx="199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潭中景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700360" y="2060640"/>
            <a:ext cx="228600" cy="7617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819520" y="187020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潭水：清澈透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71640" y="242100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迷你简启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游鱼：快乐活跃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迷你简启体"/>
              </a:rPr>
              <a:t>动静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990720" y="3429000"/>
            <a:ext cx="21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潭源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666880" y="335268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048120" y="30481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溪身：曲折蜿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048120" y="3809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岸势：参差不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791320" y="3276720"/>
            <a:ext cx="228600" cy="76176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019920" y="34290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迷你简启体"/>
              </a:rPr>
              <a:t>比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042920" y="50133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潭中气氛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15000" y="5029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迷你简启体"/>
              </a:rPr>
              <a:t>寓情于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042920" y="580536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记录同游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286000" y="4572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隔、闻、伐、取、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059280" y="450864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气氛：幽深冷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4267080" y="533520"/>
            <a:ext cx="287280" cy="936360"/>
            <a:chOff x="4267080" y="533520"/>
            <a:chExt cx="287280" cy="936360"/>
          </a:xfrm>
        </p:grpSpPr>
        <p:sp>
          <p:nvSpPr>
            <p:cNvPr id="572" name=""/>
            <p:cNvSpPr/>
            <p:nvPr/>
          </p:nvSpPr>
          <p:spPr>
            <a:xfrm>
              <a:off x="4267080" y="533520"/>
              <a:ext cx="216000" cy="936360"/>
            </a:xfrm>
            <a:custGeom>
              <a:avLst/>
              <a:gdLst>
                <a:gd name="textAreaLeft" fmla="*/ 63360 w 216000"/>
                <a:gd name="textAreaRight" fmla="*/ 216360 w 216000"/>
                <a:gd name="textAreaTop" fmla="*/ 38880 h 936360"/>
                <a:gd name="textAreaBottom" fmla="*/ 89748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267080" y="1036440"/>
              <a:ext cx="2872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4800600" y="30492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水——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800600" y="762120"/>
            <a:ext cx="16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石——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800600" y="1219320"/>
            <a:ext cx="18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树——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609480"/>
            <a:ext cx="73080" cy="936720"/>
          </a:xfrm>
          <a:custGeom>
            <a:avLst/>
            <a:gdLst>
              <a:gd name="textAreaLeft" fmla="*/ 0 w 73080"/>
              <a:gd name="textAreaRight" fmla="*/ 26280 w 730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843280" y="4869000"/>
            <a:ext cx="228600" cy="7617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132000" y="5300640"/>
            <a:ext cx="275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受：凄苦孤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181480" y="18288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迷你简启体"/>
              </a:rPr>
              <a:t>侧面描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8153280" y="914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西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7543800" y="3429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西南而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772400" y="5029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坐潭上、记之而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8458200" y="1447920"/>
            <a:ext cx="0" cy="2057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8458200" y="3886200"/>
            <a:ext cx="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7288560" y="1981080"/>
            <a:ext cx="11552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迷你简启体"/>
              </a:rPr>
              <a:t>移  步  换  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6" dur="indefinite" restart="never" nodeType="tmRoot">
          <p:childTnLst>
            <p:seq>
              <p:cTn id="2077" dur="indefinite" nodeType="mainSeq">
                <p:childTnLst>
                  <p:par>
                    <p:cTn id="2078" fill="hold">
                      <p:stCondLst>
                        <p:cond delay="indefinite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2" fill="hold">
                      <p:stCondLst>
                        <p:cond delay="indefinite"/>
                      </p:stCondLst>
                      <p:childTnLst>
                        <p:par>
                          <p:cTn id="2083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6" fill="hold">
                      <p:stCondLst>
                        <p:cond delay="indefinite"/>
                      </p:stCondLst>
                      <p:childTnLst>
                        <p:par>
                          <p:cTn id="2087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0" fill="hold">
                      <p:stCondLst>
                        <p:cond delay="indefinite"/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fill="hold">
                      <p:stCondLst>
                        <p:cond delay="indefinite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8" fill="hold">
                      <p:stCondLst>
                        <p:cond delay="indefinite"/>
                      </p:stCondLst>
                      <p:childTnLst>
                        <p:par>
                          <p:cTn id="2099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8" fill="hold">
                      <p:stCondLst>
                        <p:cond delay="indefinite"/>
                      </p:stCondLst>
                      <p:childTnLst>
                        <p:par>
                          <p:cTn id="2109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3" fill="hold">
                      <p:stCondLst>
                        <p:cond delay="indefinite"/>
                      </p:stCondLst>
                      <p:childTnLst>
                        <p:par>
                          <p:cTn id="2114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fill="hold">
                      <p:stCondLst>
                        <p:cond delay="indefinite"/>
                      </p:stCondLst>
                      <p:childTnLst>
                        <p:par>
                          <p:cTn id="2119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8" fill="hold">
                      <p:stCondLst>
                        <p:cond delay="indefinite"/>
                      </p:stCondLst>
                      <p:childTnLst>
                        <p:par>
                          <p:cTn id="2129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2" fill="hold">
                      <p:stCondLst>
                        <p:cond delay="indefinite"/>
                      </p:stCondLst>
                      <p:childTnLst>
                        <p:par>
                          <p:cTn id="2133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7" fill="hold">
                      <p:stCondLst>
                        <p:cond delay="indefinite"/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2" fill="hold">
                      <p:stCondLst>
                        <p:cond delay="indefinite"/>
                      </p:stCondLst>
                      <p:childTnLst>
                        <p:par>
                          <p:cTn id="2143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2" fill="hold">
                      <p:stCondLst>
                        <p:cond delay="indefinite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1" fill="hold">
                      <p:stCondLst>
                        <p:cond delay="indefinite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5" fill="hold">
                      <p:stCondLst>
                        <p:cond delay="indefinite"/>
                      </p:stCondLst>
                      <p:childTnLst>
                        <p:par>
                          <p:cTn id="2166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fill="hold">
                      <p:stCondLst>
                        <p:cond delay="indefinite"/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4" fill="hold">
                      <p:stCondLst>
                        <p:cond delay="indefinite"/>
                      </p:stCondLst>
                      <p:childTnLst>
                        <p:par>
                          <p:cTn id="2175" fill="hold">
                            <p:stCondLst>
                              <p:cond delay="0"/>
                            </p:stCondLst>
                            <p:childTnLst>
                              <p:par>
                                <p:cTn id="2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8" fill="hold">
                      <p:stCondLst>
                        <p:cond delay="indefinite"/>
                      </p:stCondLst>
                      <p:childTnLst>
                        <p:par>
                          <p:cTn id="2179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2" fill="hold">
                      <p:stCondLst>
                        <p:cond delay="indefinite"/>
                      </p:stCondLst>
                      <p:childTnLst>
                        <p:par>
                          <p:cTn id="2183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6" fill="hold">
                      <p:stCondLst>
                        <p:cond delay="indefinite"/>
                      </p:stCondLst>
                      <p:childTnLst>
                        <p:par>
                          <p:cTn id="2187" fill="hold">
                            <p:stCondLst>
                              <p:cond delay="0"/>
                            </p:stCondLst>
                            <p:childTnLst>
                              <p:par>
                                <p:cTn id="2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fill="hold">
                      <p:stCondLst>
                        <p:cond delay="indefinite"/>
                      </p:stCondLst>
                      <p:childTnLst>
                        <p:par>
                          <p:cTn id="2191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4" fill="hold">
                      <p:stCondLst>
                        <p:cond delay="indefinite"/>
                      </p:stCondLst>
                      <p:childTnLst>
                        <p:par>
                          <p:cTn id="2195" fill="hold">
                            <p:stCondLst>
                              <p:cond delay="0"/>
                            </p:stCondLst>
                            <p:childTnLst>
                              <p:par>
                                <p:cTn id="2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8" fill="hold">
                      <p:stCondLst>
                        <p:cond delay="indefinite"/>
                      </p:stCondLst>
                      <p:childTnLst>
                        <p:par>
                          <p:cTn id="2199" fill="hold">
                            <p:stCondLst>
                              <p:cond delay="0"/>
                            </p:stCondLst>
                            <p:childTnLst>
                              <p:par>
                                <p:cTn id="2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2" fill="hold">
                      <p:stCondLst>
                        <p:cond delay="indefinite"/>
                      </p:stCondLst>
                      <p:childTnLst>
                        <p:par>
                          <p:cTn id="2203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6" fill="hold">
                      <p:stCondLst>
                        <p:cond delay="indefinite"/>
                      </p:stCondLst>
                      <p:childTnLst>
                        <p:par>
                          <p:cTn id="2207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1" fill="hold">
                      <p:stCondLst>
                        <p:cond delay="indefinite"/>
                      </p:stCondLst>
                      <p:childTnLst>
                        <p:par>
                          <p:cTn id="2212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324000" y="5013360"/>
            <a:ext cx="882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文中描写游鱼动态的句子是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_____________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_______________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 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50920" y="0"/>
            <a:ext cx="489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Arial"/>
                <a:ea typeface="华文行楷"/>
              </a:rPr>
              <a:t>课堂反馈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50920" y="1258920"/>
            <a:ext cx="7416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按原文填空。（如能默写，就更棒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0" y="2338560"/>
            <a:ext cx="8964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⑴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文中高度概括小石潭的氛围，同时抒发作者政治受挫遭贬后忧伤心情的句子是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_____________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______________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______________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50920" y="386064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⑵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文中描写游鱼静态的句子是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_____________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_____________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___________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/>
          <p:nvPr/>
        </p:nvSpPr>
        <p:spPr>
          <a:xfrm>
            <a:off x="3200400" y="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词多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85800" y="762120"/>
            <a:ext cx="769608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）可      大约：潭中鱼可百许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可以，能够：不可久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）从      由，自：从小丘西行百二十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                     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跟随：隶而从者，崔氏二小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）清       清澈：下见小潭，水尤清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                     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冷清：以其境过清，不可久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）差       长短不一，形容词：参差披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                     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交错，动词：其岸势犬牙互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）以       因为：以其境过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                     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表示“以”前面的成分常是后面动词的状语，可以不译：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                     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卷石底以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）乐       以……为乐：心乐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                     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逗乐，嬉戏：似与游乐者相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2"/>
          <a:stretch/>
        </p:blipFill>
        <p:spPr>
          <a:xfrm>
            <a:off x="7467480" y="304920"/>
            <a:ext cx="137160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5" dur="indefinite" restart="never" nodeType="tmRoot">
          <p:childTnLst>
            <p:seq>
              <p:cTn id="2216" dur="indefinite" nodeType="mainSeq">
                <p:childTnLst>
                  <p:par>
                    <p:cTn id="2217" fill="hold">
                      <p:stCondLst>
                        <p:cond delay="indefinite"/>
                      </p:stCondLst>
                      <p:childTnLst>
                        <p:par>
                          <p:cTn id="2218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1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2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3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4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5" fill="hold">
                      <p:stCondLst>
                        <p:cond delay="indefinite"/>
                      </p:stCondLst>
                      <p:childTnLst>
                        <p:par>
                          <p:cTn id="2226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29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0" fill="hold">
                      <p:stCondLst>
                        <p:cond delay="indefinite"/>
                      </p:stCondLst>
                      <p:childTnLst>
                        <p:par>
                          <p:cTn id="2231" fill="hold">
                            <p:stCondLst>
                              <p:cond delay="0"/>
                            </p:stCondLst>
                            <p:childTnLst>
                              <p:par>
                                <p:cTn id="22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34" dur="500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5" fill="hold">
                      <p:stCondLst>
                        <p:cond delay="indefinite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39" dur="500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0" fill="hold">
                      <p:stCondLst>
                        <p:cond delay="indefinite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44" dur="500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5" fill="hold">
                      <p:stCondLst>
                        <p:cond delay="indefinite"/>
                      </p:stCondLst>
                      <p:childTnLst>
                        <p:par>
                          <p:cTn id="2246" fill="hold">
                            <p:stCondLst>
                              <p:cond delay="0"/>
                            </p:stCondLst>
                            <p:childTnLst>
                              <p:par>
                                <p:cTn id="22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49" dur="500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0" fill="hold">
                      <p:stCondLst>
                        <p:cond delay="indefinite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54" dur="500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59" dur="500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0" fill="hold">
                      <p:stCondLst>
                        <p:cond delay="indefinite"/>
                      </p:stCondLst>
                      <p:childTnLst>
                        <p:par>
                          <p:cTn id="2261" fill="hold">
                            <p:stCondLst>
                              <p:cond delay="0"/>
                            </p:stCondLst>
                            <p:childTnLst>
                              <p:par>
                                <p:cTn id="22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64" dur="500"/>
                                        <p:tgtEl>
                                          <p:spTgt spid="5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5" fill="hold">
                      <p:stCondLst>
                        <p:cond delay="indefinite"/>
                      </p:stCondLst>
                      <p:childTnLst>
                        <p:par>
                          <p:cTn id="2266" fill="hold">
                            <p:stCondLst>
                              <p:cond delay="0"/>
                            </p:stCondLst>
                            <p:childTnLst>
                              <p:par>
                                <p:cTn id="22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69" dur="500"/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0" fill="hold">
                      <p:stCondLst>
                        <p:cond delay="indefinite"/>
                      </p:stCondLst>
                      <p:childTnLst>
                        <p:par>
                          <p:cTn id="2271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74" dur="500"/>
                                        <p:tgtEl>
                                          <p:spTgt spid="5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5" fill="hold">
                      <p:stCondLst>
                        <p:cond delay="indefinite"/>
                      </p:stCondLst>
                      <p:childTnLst>
                        <p:par>
                          <p:cTn id="2276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79" dur="500"/>
                                        <p:tgtEl>
                                          <p:spTgt spid="5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0" fill="hold">
                      <p:stCondLst>
                        <p:cond delay="indefinite"/>
                      </p:stCondLst>
                      <p:childTnLst>
                        <p:par>
                          <p:cTn id="2281" fill="hold">
                            <p:stCondLst>
                              <p:cond delay="0"/>
                            </p:stCondLst>
                            <p:childTnLst>
                              <p:par>
                                <p:cTn id="22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84" dur="500"/>
                                        <p:tgtEl>
                                          <p:spTgt spid="5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5" fill="hold">
                      <p:stCondLst>
                        <p:cond delay="indefinite"/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89" dur="500"/>
                                        <p:tgtEl>
                                          <p:spTgt spid="5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0" fill="hold">
                      <p:stCondLst>
                        <p:cond delay="indefinite"/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华文行楷"/>
              </a:rPr>
              <a:t>词类活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小丘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西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行百二十步（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方位名词作状语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向西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见小潭（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方位名词作状语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在下面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皆若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无所依（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名词作状语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在空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光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澈（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方位名词作状语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向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折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蛇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行（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名词作状语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斗，像北斗星那样；蛇，像蛇那样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岸势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犬牙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差互（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名词作状语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像犬牙一样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乐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（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形容词作动词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感到快乐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凄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寒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（形容词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使动用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凄，使……凄凉；寒，使……寒冷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0" y="1295280"/>
            <a:ext cx="320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乃记之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小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200400" y="12952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古，离开；今，前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352680" y="21337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古，年轻人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今，戏曲艺术中的一种角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80880" y="30492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彩云"/>
              </a:rPr>
              <a:t>古今异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6" dur="indefinite" restart="never" nodeType="tmRoot">
          <p:childTnLst>
            <p:seq>
              <p:cTn id="2297" dur="indefinite" nodeType="mainSeq">
                <p:childTnLst>
                  <p:par>
                    <p:cTn id="2298" fill="hold">
                      <p:stCondLst>
                        <p:cond delay="indefinite"/>
                      </p:stCondLst>
                      <p:childTnLst>
                        <p:par>
                          <p:cTn id="2299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2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4" fill="hold">
                      <p:stCondLst>
                        <p:cond delay="indefinite"/>
                      </p:stCondLst>
                      <p:childTnLst>
                        <p:par>
                          <p:cTn id="2305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0" fill="hold">
                      <p:stCondLst>
                        <p:cond delay="indefinite"/>
                      </p:stCondLst>
                      <p:childTnLst>
                        <p:par>
                          <p:cTn id="2311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71280" y="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cc"/>
                </a:solidFill>
                <a:latin typeface="Times New Roman"/>
                <a:ea typeface="隶书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77920" y="2209680"/>
            <a:ext cx="83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06520" y="1523880"/>
            <a:ext cx="215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4537080" y="148428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6985080" y="1341360"/>
            <a:ext cx="21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504720" y="2924280"/>
            <a:ext cx="186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4464000" y="2997360"/>
            <a:ext cx="1652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6769080" y="2924280"/>
            <a:ext cx="137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1152360" y="4508640"/>
            <a:ext cx="168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3168720" y="4508640"/>
            <a:ext cx="186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5832360" y="4508640"/>
            <a:ext cx="128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7345440" y="4365720"/>
            <a:ext cx="1447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360360" y="1052640"/>
            <a:ext cx="806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记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古代一种</a:t>
            </a:r>
            <a:r>
              <a:rPr b="1" lang="zh-CN" sz="4000" spc="-1" strike="noStrike">
                <a:solidFill>
                  <a:srgbClr val="0070c0"/>
                </a:solidFill>
                <a:latin typeface="Times New Roman"/>
              </a:rPr>
              <a:t>文体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以</a:t>
            </a:r>
            <a:r>
              <a:rPr b="1" lang="zh-CN" sz="4000" spc="-1" strike="noStrike">
                <a:solidFill>
                  <a:srgbClr val="0070c0"/>
                </a:solidFill>
                <a:latin typeface="Arial"/>
              </a:rPr>
              <a:t>叙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为主，往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通过记人、记事、记物、记景来抒发作者感情或见解，借景抒情、托物言志。本文是一篇</a:t>
            </a:r>
            <a:r>
              <a:rPr b="1" lang="zh-CN" sz="4800" spc="-1" strike="noStrike">
                <a:solidFill>
                  <a:srgbClr val="009900"/>
                </a:solidFill>
                <a:latin typeface="Times New Roman"/>
                <a:ea typeface="黑体"/>
              </a:rPr>
              <a:t>山水游记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7"/>
          <p:cNvSpPr/>
          <p:nvPr/>
        </p:nvSpPr>
        <p:spPr>
          <a:xfrm>
            <a:off x="0" y="33336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华文行楷"/>
              </a:rPr>
              <a:t>你了解吗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8"/>
          <p:cNvSpPr/>
          <p:nvPr/>
        </p:nvSpPr>
        <p:spPr>
          <a:xfrm>
            <a:off x="863640" y="4221000"/>
            <a:ext cx="4032360" cy="12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6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《桃花源记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</a:rPr>
              <a:t>东晋  陶渊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9"/>
          <p:cNvSpPr/>
          <p:nvPr/>
        </p:nvSpPr>
        <p:spPr>
          <a:xfrm>
            <a:off x="4537080" y="4221000"/>
            <a:ext cx="37450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6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《岳阳楼记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</a:rPr>
              <a:t>北宋    范仲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0"/>
          <p:cNvSpPr/>
          <p:nvPr/>
        </p:nvSpPr>
        <p:spPr>
          <a:xfrm>
            <a:off x="936720" y="5445000"/>
            <a:ext cx="374472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满井游记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</a:rPr>
              <a:t>明代    袁宏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1"/>
          <p:cNvSpPr/>
          <p:nvPr/>
        </p:nvSpPr>
        <p:spPr>
          <a:xfrm>
            <a:off x="4753080" y="5445000"/>
            <a:ext cx="316872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《醉翁亭记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</a:rPr>
              <a:t>北宋    欧阳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63640" y="4221000"/>
            <a:ext cx="4032360" cy="12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6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《桃花源记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</a:rPr>
              <a:t>东晋  陶渊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37080" y="4221000"/>
            <a:ext cx="37450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6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《岳阳楼记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</a:rPr>
              <a:t>北宋    范仲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36720" y="5445000"/>
            <a:ext cx="374472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满井游记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</a:rPr>
              <a:t>明代    袁宏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63640" y="4221000"/>
            <a:ext cx="4032360" cy="12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6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《桃花源记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</a:rPr>
              <a:t>东晋  陶渊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37080" y="4221000"/>
            <a:ext cx="37450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6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《岳阳楼记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</a:rPr>
              <a:t>北宋    范仲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36720" y="5445000"/>
            <a:ext cx="374472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满井游记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</a:rPr>
              <a:t>明代    袁宏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63640" y="4221000"/>
            <a:ext cx="4032360" cy="12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6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《桃花源记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</a:rPr>
              <a:t>东晋  陶渊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37080" y="4221000"/>
            <a:ext cx="37450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6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《岳阳楼记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</a:rPr>
              <a:t>北宋    范仲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63640" y="4221000"/>
            <a:ext cx="4032360" cy="12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6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《桃花源记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</a:rPr>
              <a:t>东晋  陶渊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37080" y="4221000"/>
            <a:ext cx="37450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6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《岳阳楼记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</a:rPr>
              <a:t>北宋    范仲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36720" y="5445000"/>
            <a:ext cx="374472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满井游记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</a:rPr>
              <a:t>明代    袁宏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63640" y="4221000"/>
            <a:ext cx="4032360" cy="12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6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《桃花源记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</a:rPr>
              <a:t>东晋  陶渊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37080" y="4221000"/>
            <a:ext cx="37450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6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《岳阳楼记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</a:rPr>
              <a:t>北宋    范仲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63640" y="4221000"/>
            <a:ext cx="4032360" cy="12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6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《桃花源记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</a:rPr>
              <a:t>东晋  陶渊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37080" y="4221000"/>
            <a:ext cx="37450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6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《岳阳楼记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</a:rPr>
              <a:t>北宋    范仲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36720" y="5445000"/>
            <a:ext cx="374472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满井游记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</a:rPr>
              <a:t>明代    袁宏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63640" y="4221000"/>
            <a:ext cx="4032360" cy="12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6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《桃花源记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</a:rPr>
              <a:t>东晋  陶渊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37080" y="4221000"/>
            <a:ext cx="37450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6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《岳阳楼记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</a:rPr>
              <a:t>北宋    范仲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63640" y="4221000"/>
            <a:ext cx="4032360" cy="12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6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《桃花源记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</a:rPr>
              <a:t>东晋  陶渊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37080" y="4221000"/>
            <a:ext cx="37450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6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《岳阳楼记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</a:rPr>
              <a:t>北宋    范仲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36720" y="5445000"/>
            <a:ext cx="374472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满井游记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</a:rPr>
              <a:t>明代    袁宏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63640" y="4221000"/>
            <a:ext cx="4032360" cy="12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6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《桃花源记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</a:rPr>
              <a:t>东晋  陶渊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37080" y="4221000"/>
            <a:ext cx="37450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6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《岳阳楼记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</a:rPr>
              <a:t>北宋    范仲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63640" y="4221000"/>
            <a:ext cx="4032360" cy="12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6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《桃花源记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</a:rPr>
              <a:t>东晋  陶渊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37080" y="4221000"/>
            <a:ext cx="37450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6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《岳阳楼记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</a:rPr>
              <a:t>北宋    范仲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36720" y="5445000"/>
            <a:ext cx="374472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满井游记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</a:rPr>
              <a:t>明代    袁宏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63640" y="4221000"/>
            <a:ext cx="4032360" cy="12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6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《桃花源记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</a:rPr>
              <a:t>东晋  陶渊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37080" y="4221000"/>
            <a:ext cx="37450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6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《岳阳楼记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</a:rPr>
              <a:t>北宋    范仲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179280" y="177336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小石潭记》是《永州八记》中的一篇。</a:t>
            </a:r>
            <a:r>
              <a:rPr b="1" lang="zh-CN" sz="40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这篇散文生动地描写出了小石潭环境景物的幽美和静穆，抒发了作者贬官失意后的孤凄之情。</a:t>
            </a: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语言简练、生动，景物刻画细腻、逼真，全篇充满了诗情画意，表现了作者杰出的写作技巧。因之，成为被历代所传诵的散文名篇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250920" y="189000"/>
            <a:ext cx="3673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9400ed">
                        <a:alpha val="41176"/>
                      </a:srgbClr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 </a:t>
            </a:r>
            <a:r>
              <a:rPr b="0" lang="zh-CN" sz="1800" spc="1" strike="noStrike">
                <a:ln w="255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9400ed">
                        <a:alpha val="41176"/>
                      </a:srgbClr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课堂小结</a:t>
            </a:r>
            <a:endParaRPr b="0" lang="en-US" sz="1800" spc="1" strike="noStrike">
              <a:ln w="255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9400ed">
                      <a:alpha val="41176"/>
                    </a:srgbClr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0836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708360" y="0"/>
            <a:ext cx="525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柳宗元  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唐代文学家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，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唐宋八大家之一。字子厚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，祖籍河东（今山西永济），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世称柳河东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。因官终柳州刺史，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又称柳柳州。与韩愈共同倡导唐代古文运动 ，并称“韩柳”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。他参加过永贞革新，失败后被贬为永州司马，从此柳宗元在荒远偏僻的永州苦呆了整整十年，后又被改贬到更为荒凉的柳州，四年后，病魔无情地夺去了他年仅四十七岁的生命。文稿由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刘禹锡编为《柳河东集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500720" y="404640"/>
            <a:ext cx="46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43280" y="404640"/>
            <a:ext cx="45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柳宗元是一个“遍悟文体”的文学家 ，众体兼长，作品丰富，以</a:t>
            </a:r>
            <a:r>
              <a:rPr b="1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散文成就最大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，</a:t>
            </a:r>
            <a:r>
              <a:rPr b="1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有《柳河东集》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。</a:t>
            </a:r>
            <a:r>
              <a:rPr b="1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山水游记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是柳宗元散文创作中最富艺术独创性的一部分，有</a:t>
            </a:r>
            <a:r>
              <a:rPr b="1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《永州八记》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等留存，其中</a:t>
            </a:r>
            <a:r>
              <a:rPr b="1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最负盛名的是《小石潭记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6728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500720" y="404640"/>
            <a:ext cx="46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30560" y="54000"/>
            <a:ext cx="51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柳宗元被贬为永州司马后，时艰不可济，唐祚难振兴，谤毁兼至，贫病交加，老母病故，居处遭火，他满怀忧惧之情，多藉山水以排遣。所幸永州的大自然待他不薄，奇形异态的潭水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﹑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小丘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﹑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石渠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﹑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山涧纷至沓来，美不胜收。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永州八记》就写于此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柳宗元的山水游记在中国文学史上具有独特的地位。 为人称道的《永州八记》是他被贬谪到永州以后写的</a:t>
            </a:r>
            <a:r>
              <a:rPr b="1" lang="zh-CN" sz="28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《始得西山宴游记》《钴潭记》《钴潭西小丘记》《至小丘西小石潭记》《袁家渴记》《石渠记》《石涧记》《小石城山记》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这些作品，画廊式地展现了湘桂之交一幅幅山水胜景，</a:t>
            </a:r>
            <a:r>
              <a:rPr b="1" lang="zh-CN" sz="28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继承了郦道元《水经注》的传统而有所发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水经注》是</a:t>
            </a:r>
            <a:r>
              <a:rPr b="1" lang="zh-CN" sz="28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地理书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，</a:t>
            </a:r>
            <a:r>
              <a:rPr b="1" lang="zh-CN" sz="28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对景物多客观描写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，少主观感情的流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柳宗元的</a:t>
            </a:r>
            <a:r>
              <a:rPr b="1" lang="zh-CN" sz="28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山水游记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则把自己的身世遭遇、思想感情融合于自然风景的描绘中，投入作者本人的身影，借被遗弃于荒远地区的美好风物，</a:t>
            </a:r>
            <a:r>
              <a:rPr b="1" lang="zh-CN" sz="28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寄寓自己的不幸遭遇，倾注怨愤抑郁的心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03:52:49Z</dcterms:created>
  <dc:creator>cqf</dc:creator>
  <dc:description/>
  <dc:language>en-US</dc:language>
  <cp:lastModifiedBy>user</cp:lastModifiedBy>
  <dcterms:modified xsi:type="dcterms:W3CDTF">2014-09-09T04:29:17Z</dcterms:modified>
  <cp:revision>93</cp:revision>
  <dc:subject/>
  <dc:title>幻灯片 1</dc:title>
</cp:coreProperties>
</file>