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BC7-66DD-4AB1-9374-367DB25D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401-8F15-4E10-B97B-0ECA90E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98C-23C9-49FC-A658-2295AD60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273-47C1-4A6F-8996-11F02585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AEF4-F2D6-4C52-8423-22BB1303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6A6E-5941-48CE-B739-E964FA7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0B6-D2AD-4DF4-BBD8-6FDD750D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7149-4A2F-44F6-B773-68EF9DF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C66-1C33-4AD9-A9CA-EE3BF84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F820-C4A4-46EA-A884-30027D70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BF9-7479-454F-B87A-D6FD0068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627-A193-49D4-BC2A-B862F24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E21A-66A5-499A-AFBB-B71858D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6F3-5AC0-480C-A095-0BCBA9C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8B3-1D29-42E1-9B36-B14832A3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D142-779A-4F12-9BDF-C30A91F7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810-4FF7-47A8-97C3-55CCDC74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EA57-D944-4AA3-B93A-694F291A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B433-B014-49EC-802E-E762FDB7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90A0-3141-4401-8922-C909B9A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2461-F948-4AD8-B48D-D3CD8DB5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04A9-788F-47CF-8B08-1A0223D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7C7-F8A0-4F3A-A71B-56A7A5F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64C5-0A4A-4D64-BFD1-6E94C523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ABC1-1428-4135-97E3-BE1138B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B81C-3DE2-4274-829C-D05AE59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2C3D-6F2F-475E-9807-FB4A46F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FE981-2B6E-4AAC-ADE9-464B1538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8F126-5159-4FB9-962E-663BF594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F9F5-DB92-4733-91BB-549B78B2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3FB-4F31-4DFD-93E3-A1596496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E1C-25BD-4F23-B6CE-BC881E9F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197-D7F0-41E6-9C0E-223A0D5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CCA-F500-40E0-A0B7-7E73869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BCB5-1044-401F-B243-C33C97EE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2AA-A6BB-4EE0-9F1A-7B3FCD5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3A91-0318-4210-AAE3-14AD4ADE5E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45F7-83A9-4292-A396-89084D1A58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0" y="4876920"/>
                <a:ext cx="990720" cy="360"/>
                <a:chOff x="0" y="4876920"/>
                <a:chExt cx="990720" cy="360"/>
              </a:xfrm>
            </p:grpSpPr>
            <p:sp>
              <p:nvSpPr>
                <p:cNvPr id="88" name="Line 7"/>
                <p:cNvSpPr/>
                <p:nvPr/>
              </p:nvSpPr>
              <p:spPr>
                <a:xfrm>
                  <a:off x="0" y="4876920"/>
                  <a:ext cx="990720" cy="0"/>
                </a:xfrm>
                <a:prstGeom prst="line">
                  <a:avLst/>
                </a:prstGeom>
                <a:ln w="50760">
                  <a:solidFill>
                    <a:srgbClr val="33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0" y="487692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635040" y="685800"/>
                <a:ext cx="8077320" cy="360"/>
                <a:chOff x="635040" y="685800"/>
                <a:chExt cx="8077320" cy="360"/>
              </a:xfrm>
            </p:grpSpPr>
            <p:sp>
              <p:nvSpPr>
                <p:cNvPr id="93" name="Line 10"/>
                <p:cNvSpPr/>
                <p:nvPr/>
              </p:nvSpPr>
              <p:spPr>
                <a:xfrm>
                  <a:off x="635040" y="685800"/>
                  <a:ext cx="8077320" cy="0"/>
                </a:xfrm>
                <a:prstGeom prst="line">
                  <a:avLst/>
                </a:prstGeom>
                <a:ln w="44280">
                  <a:solidFill>
                    <a:srgbClr val="33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 txBox="1"/>
                <p:nvPr/>
              </p:nvSpPr>
              <p:spPr>
                <a:xfrm>
                  <a:off x="635040" y="685800"/>
                  <a:ext cx="8077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E4F5-8C37-44BF-A7C0-895A6FB8A2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510760" cy="6597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4581360"/>
            <a:ext cx="46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537372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河南范县杨集一中   付兆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-459000"/>
            <a:ext cx="26272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作者不是停留在一点上看，而是向前走去，引导我们看到不同的景物，很像一部山水风景影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164360" y="5660640"/>
            <a:ext cx="12924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860640"/>
            <a:ext cx="29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用的是先闻其声，后见其形，“移步换景”的写法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8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景物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602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水的清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60213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16000" y="465300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0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景物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57340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潭西南而望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斗折蛇行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明灭可见。其岸势犬牙差互，不可知其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40720" y="621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比喻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34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景物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环境清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8360" y="60912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感受</a:t>
            </a:r>
            <a:r>
              <a:rPr b="1" lang="zh-CN" sz="7200" spc="-1" strike="noStrike">
                <a:solidFill>
                  <a:srgbClr val="6600ff"/>
                </a:solidFill>
                <a:latin typeface="Times New Roman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148360" y="2205000"/>
            <a:ext cx="48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情感变化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364500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为什么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柳宗元参与改革，失败被贬，心中愤懑难平，因而凄苦是他感情的主调，而寄情山水正是为了摆脱这种抑郁的心情；但这种欢乐毕竟是暂时的，一经凄清环境的触发，忧伤悲凉的心情又会流露出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3073320"/>
            <a:ext cx="9144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这篇散文生动地描写了小石潭环境景物的幽美和静穆，抒发了作者被贬官失意后的凄苦之情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253836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</a:rPr>
              <a:t>试一试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课文中运用了移步换景、侧面描写、借景写情等写法，请你运用移步换景或侧面描写的写作方法写一个小片段，力求表达出自己当时的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00720" y="5661000"/>
            <a:ext cx="277164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学什么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328464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新宋体"/>
              </a:rPr>
              <a:t>写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393372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抒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学习目标：</a:t>
            </a:r>
            <a:br>
              <a:rPr sz="6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学习移步换景、侧面描写、借景写情等写法        </a:t>
            </a:r>
            <a:r>
              <a:rPr b="1" lang="en-US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体会作者被贬后的心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7452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48000" y="333000"/>
            <a:ext cx="35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微软雅黑"/>
              </a:rPr>
              <a:t>思考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219280" y="1915920"/>
            <a:ext cx="338148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所写景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64000" y="422100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3716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所抒情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微软雅黑"/>
                <a:ea typeface="微软雅黑"/>
              </a:rPr>
              <a:t>读</a:t>
            </a:r>
            <a:r>
              <a:rPr b="1" lang="en-US" sz="5400" spc="-1" strike="noStrike">
                <a:solidFill>
                  <a:srgbClr val="0000ff"/>
                </a:solidFill>
                <a:latin typeface="微软雅黑"/>
                <a:ea typeface="微软雅黑"/>
              </a:rPr>
              <a:t>-----</a:t>
            </a:r>
            <a:r>
              <a:rPr b="1" lang="zh-CN" sz="5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805360"/>
            <a:ext cx="43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分析景物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10720" y="765000"/>
            <a:ext cx="1277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说   一   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5120" y="3645000"/>
            <a:ext cx="911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使用原文内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614920" y="5661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微软雅黑"/>
              </a:rPr>
              <a:t>景物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640" y="981000"/>
            <a:ext cx="10335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青树翠蔓</a:t>
            </a:r>
            <a:r>
              <a:rPr b="1" lang="en-US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蒙络摇缀</a:t>
            </a:r>
            <a:r>
              <a:rPr b="1" lang="en-US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,</a:t>
            </a:r>
            <a:r>
              <a:rPr b="1" lang="zh-CN" sz="2800" spc="-1" strike="noStrike">
                <a:solidFill>
                  <a:srgbClr val="6600ff"/>
                </a:solidFill>
                <a:latin typeface="新宋体"/>
                <a:ea typeface="新宋体"/>
              </a:rPr>
              <a:t>参差披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23:52:29Z</dcterms:created>
  <dc:creator>付兆文</dc:creator>
  <dc:description/>
  <cp:keywords/>
  <dc:language>en-US</dc:language>
  <cp:lastModifiedBy>USER</cp:lastModifiedBy>
  <dcterms:modified xsi:type="dcterms:W3CDTF">2016-05-25T08:12:17Z</dcterms:modified>
  <cp:revision>18</cp:revision>
  <dc:subject>高效课堂赛课</dc:subject>
  <dc:title>小石潭记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