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5.png" ContentType="image/png"/>
  <Override PartName="/ppt/media/image13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chimes.wav" ContentType="audio/x-wav"/>
  <Override PartName="/ppt/media/image12.wmf" ContentType="image/x-wmf"/>
  <Override PartName="/ppt/media/image9.jpeg" ContentType="image/jpeg"/>
  <Override PartName="/ppt/media/image11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34F7-E5C2-447D-AE4B-049FA8BC70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9587-185B-42B2-AEBE-44B473D4D0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8C3-604E-4A1E-8439-1E96D91FB5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BDF0-143F-4ADE-8C96-7C80CFCFFE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0D8C-0BB0-4028-9E35-AE3636D522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72C5-041B-4455-8011-40D51F7A54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BF80-2DA5-42F5-A18D-E5E4921281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1E7-DB36-4526-86DB-828925303F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DF5E-ACF4-4DE3-AA43-6F3C2E79A3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2E18-4A48-484C-A5D4-FF47A7497E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66E4-2BF5-4E94-BA41-2BDCEFABF8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422-1592-4258-ACC9-9A86369ACB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8E8A-6999-4D56-B97D-C025D40759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32BE-9FCA-4043-9F8E-1FB40D2C19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4C49-65DA-4C84-87F7-CA8884532B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584A-3C1C-4278-9D81-421AF9C7A0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0F0D-BA56-4130-B996-B01594D5A5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861D-389A-4125-9BB7-E67A0F28AD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073-EECF-4450-A1B5-4781D71A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F7C-1609-48E6-9AAB-1F44C478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8F0-0DD1-424C-AE7C-40666D47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79D-26CB-49A9-8206-6E91B1F5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AC45-515D-4262-B662-5622329A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0AC1-EA16-4DD3-A74E-A1F612D1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74A3-1A64-48C8-B9C9-425FB0B4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9985-2C96-496E-83A6-F719B780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60AC-CAE6-410D-B212-BDA9FA10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8B5B-3F41-483E-9870-4242E6D7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FC97-A7F4-4F14-BCE3-7790CB0F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A65-CA48-4942-934B-722A46BB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2248-28EE-41B0-8DB2-FEE78FED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8BD6-EFC0-4582-AAC2-9D31E3CC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59FE-3FD3-48E4-84D9-81F01D3E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68D7-813F-43C5-9A90-0F23361E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727A-AD43-401A-BA51-896E1C0F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DED9-D58E-4A97-9755-689AFFAE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2F03-39E4-430A-B000-E8CCCA3B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EA44-376C-4CE1-9237-E203D776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0826-4517-4782-A4C0-4B115C1C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EAF6-793E-49C4-AB6C-EA31A631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A29-0E74-43EB-83BE-4017D01E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6FD5-24ED-43DD-A99C-8FDE363F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1326F-361C-4903-AA60-56F8A983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BF12-AD5E-490E-B6AA-1A163EA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31A3-2514-46B4-B808-34EB03C6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3E07-FB51-4706-B200-FAC7983D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3FF9-8D42-4D8A-BB3A-007E3DAD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3AB4-9440-4F75-921D-652811CD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F4531-FCB7-4AB5-8657-EDC24F6D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CDF4-305E-4435-97E6-64EE2B46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55D59-7AD3-440A-95F9-9B755F51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354-B124-4747-A7B7-545A6BD3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3773A-9B1A-4193-A0A7-83B59148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7D70-5508-4689-A2FF-643F41FF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883B-F353-4E5D-9A46-82CE97FC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4BFF0-A6CC-4034-80B6-6E0E69D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505B-D40F-4624-9C3A-7DD452A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A299-1A69-4B6F-A340-BE27975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C924-0B2E-4A3C-8D02-BFA01157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86260-D4D1-4D88-A2E5-312ED94F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DFC0D-21E7-40B1-A628-B8930DD2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CC49-4588-4BFE-9642-BD66F9EC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737-05ED-4A45-91BE-D9CAB73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220E2-D502-4AE0-9CEF-3CF2B4F8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B9045-CE68-4AE6-9C9B-4217E50B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62DBD-8361-4FA7-AC2E-8D7EEA13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65C9-4E0B-492C-91DF-4938BF4A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13D2-4335-45A4-88C3-628305B8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6CE6-0D18-4793-90DF-77302D9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AAE2A-D81B-417B-9DE4-BFD7DF4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70E9-A280-4AEF-B57B-9B2CFA32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19643-C8CB-4C23-9607-78AF6B03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E1AA-BE41-447D-8165-57AE522B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551-E43D-4E96-9CAD-86D51A5E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382DE-A055-4145-9A14-5C912A7D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2E5-F625-4E30-B5D5-CCC83314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333-8E63-4725-A932-EC56E1DF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5D3-66B1-4491-B033-EDE5323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EA96-40D0-4BB9-9C80-065272BEF0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28B1-2E84-4D5B-BA8B-751CA4DA22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CF38-18A8-4FEF-9C6D-610BB0B980C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97F3-CB49-4654-86D2-F72E1BC8B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6CD0-A5CD-439E-A606-E937611913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xst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shui"/>
          <p:cNvPicPr/>
          <p:nvPr/>
        </p:nvPicPr>
        <p:blipFill>
          <a:blip r:embed="rId2"/>
          <a:stretch/>
        </p:blipFill>
        <p:spPr>
          <a:xfrm>
            <a:off x="0" y="0"/>
            <a:ext cx="9144000" cy="94726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2195640" y="9367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隶书"/>
              </a:rPr>
              <a:t>小石潭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48000" y="32130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  <a:ea typeface="隶书"/>
              </a:rPr>
              <a:t>柳 宗 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配乐：高山流水.mp3" descr=""/>
          <p:cNvPicPr/>
          <p:nvPr/>
        </p:nvPicPr>
        <p:blipFill>
          <a:blip r:embed="rId3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618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5"/>
          <p:cNvSpPr/>
          <p:nvPr/>
        </p:nvSpPr>
        <p:spPr>
          <a:xfrm>
            <a:off x="179280" y="333360"/>
            <a:ext cx="8595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潭中鱼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百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头，皆若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游无所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日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下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影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石上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佁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动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俶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远逝，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来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翕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似与游者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相 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403280" y="90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大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484360" y="907920"/>
            <a:ext cx="257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用在数词后表约数，“来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6732720" y="8985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依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3348000" y="2421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呆呆的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5867280" y="23493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忽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395280" y="4437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轻快敏捷的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5219640" y="89856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在空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250920" y="2565360"/>
            <a:ext cx="123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向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1908000" y="2492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映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3419640" y="407664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互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4500720" y="3933720"/>
            <a:ext cx="23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嬉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WordArt 19"/>
          <p:cNvSpPr txBox="1"/>
          <p:nvPr/>
        </p:nvSpPr>
        <p:spPr>
          <a:xfrm rot="5400000">
            <a:off x="7342200" y="54100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疏通文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1"/>
          <p:cNvSpPr/>
          <p:nvPr/>
        </p:nvSpPr>
        <p:spPr>
          <a:xfrm>
            <a:off x="539640" y="40464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0" y="1052640"/>
            <a:ext cx="882000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潭中的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约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有一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条，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像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在空中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动，什么依靠也没有。阳光直照到水底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鱼的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映在水底的石头上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呆呆的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一动也不动，忽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间又向远处游去了，来来往往非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轻快敏捷。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像在和游人相互嬉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1547640" y="479736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描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小石潭的潭水和游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0" y="1268280"/>
            <a:ext cx="8748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潭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西南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而望，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斗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折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蛇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行，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明灭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岸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势 </a:t>
            </a:r>
            <a:r>
              <a:rPr b="1" lang="zh-CN" sz="4000" spc="-1" strike="noStrike">
                <a:solidFill>
                  <a:srgbClr val="ff3300"/>
                </a:solidFill>
                <a:latin typeface="仿宋"/>
                <a:ea typeface="仿宋"/>
              </a:rPr>
              <a:t>犬牙   参互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，不可知</a:t>
            </a:r>
            <a:r>
              <a:rPr b="1" lang="zh-CN" sz="4000" spc="-1" strike="noStrike">
                <a:solidFill>
                  <a:srgbClr val="ff0000"/>
                </a:solidFill>
                <a:latin typeface="仿宋"/>
                <a:ea typeface="仿宋"/>
              </a:rPr>
              <a:t>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"/>
                <a:ea typeface="仿宋"/>
              </a:rPr>
              <a:t>源</a:t>
            </a:r>
            <a:r>
              <a:rPr b="1" lang="zh-CN" sz="4000" spc="-1" strike="noStrike">
                <a:solidFill>
                  <a:srgbClr val="000000"/>
                </a:solidFill>
                <a:latin typeface="仿宋"/>
                <a:ea typeface="仿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55640" y="19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向西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276720" y="198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像北斗星一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5148360" y="1989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像蛇一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6659640" y="198900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时而看见，时而看不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55640" y="39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它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2050920" y="3860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形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7236000" y="3933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它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987640" y="386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像狗牙那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572000" y="38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参差不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0" y="59500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源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WordArt 14"/>
          <p:cNvSpPr txBox="1"/>
          <p:nvPr/>
        </p:nvSpPr>
        <p:spPr>
          <a:xfrm rot="5400000">
            <a:off x="7773840" y="5194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疏通文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1"/>
          <p:cNvSpPr/>
          <p:nvPr/>
        </p:nvSpPr>
        <p:spPr>
          <a:xfrm>
            <a:off x="539640" y="191628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向小石潭的西南方向</a:t>
            </a:r>
            <a:r>
              <a:rPr b="1" lang="zh-CN" sz="3200" spc="-1" strike="noStrike">
                <a:solidFill>
                  <a:srgbClr val="0000ff"/>
                </a:solidFill>
                <a:latin typeface="仿宋"/>
                <a:ea typeface="仿宋"/>
              </a:rPr>
              <a:t>望去，</a:t>
            </a:r>
            <a:r>
              <a:rPr b="1" lang="en-US" sz="3200" spc="-1" strike="noStrike">
                <a:solidFill>
                  <a:srgbClr val="0000ff"/>
                </a:solidFill>
                <a:latin typeface="仿宋"/>
                <a:ea typeface="仿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看到溪水</a:t>
            </a:r>
            <a:r>
              <a:rPr b="1" lang="en-US" sz="3200" spc="-1" strike="noStrike">
                <a:solidFill>
                  <a:srgbClr val="0000ff"/>
                </a:solidFill>
                <a:latin typeface="仿宋"/>
                <a:ea typeface="仿宋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像北斗星</a:t>
            </a:r>
            <a:r>
              <a:rPr b="1" lang="zh-CN" sz="3200" spc="-1" strike="noStrike">
                <a:solidFill>
                  <a:srgbClr val="0000ff"/>
                </a:solidFill>
                <a:latin typeface="仿宋"/>
                <a:ea typeface="仿宋"/>
              </a:rPr>
              <a:t>那样曲折，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像蛇那样</a:t>
            </a:r>
            <a:r>
              <a:rPr b="1" lang="zh-CN" sz="3200" spc="-1" strike="noStrike">
                <a:solidFill>
                  <a:srgbClr val="0000ff"/>
                </a:solidFill>
                <a:latin typeface="仿宋"/>
                <a:ea typeface="仿宋"/>
              </a:rPr>
              <a:t>蜿蜒前行，时隐时现。小溪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两岸的形状</a:t>
            </a:r>
            <a:r>
              <a:rPr b="1" lang="zh-CN" sz="3200" spc="-1" strike="noStrike">
                <a:solidFill>
                  <a:srgbClr val="0000ff"/>
                </a:solidFill>
                <a:latin typeface="仿宋"/>
                <a:ea typeface="仿宋"/>
              </a:rPr>
              <a:t>像狗的牙齿那样参差不齐，无法知道它的源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826920" y="443700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探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小石潭的水源及潭上的景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4" descr="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0" y="423720"/>
            <a:ext cx="86868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坐潭上，四面竹树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环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寂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无人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神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骨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悄怆  幽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其境过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久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记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之    而   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067280" y="105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围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6934320" y="1197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使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凄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190800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忧伤的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276720" y="2781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幽静深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6948360" y="28526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凄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39640" y="4365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停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5076720" y="292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835280" y="436572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于是，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987640" y="443700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代这景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4500720" y="436572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表顺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5148360" y="105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寂静幽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23"/>
          <p:cNvSpPr/>
          <p:nvPr/>
        </p:nvSpPr>
        <p:spPr>
          <a:xfrm>
            <a:off x="179280" y="2708280"/>
            <a:ext cx="14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寒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4"/>
          <p:cNvSpPr/>
          <p:nvPr/>
        </p:nvSpPr>
        <p:spPr>
          <a:xfrm>
            <a:off x="6012000" y="443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离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0"/>
          <p:cNvSpPr txBox="1"/>
          <p:nvPr/>
        </p:nvSpPr>
        <p:spPr>
          <a:xfrm rot="5400000">
            <a:off x="7631280" y="5194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疏通文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611280" y="105264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179280" y="1197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我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在小石潭上，四周围被密密的竹子和树木环绕着，寂静得见不到一个人影，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令人感到心情凄凉，寒气透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幽静深远，弥漫着忧伤的气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因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里的环境太过凄清了，不适宜人长久的呆下去，就题字后离去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7"/>
          <p:cNvSpPr/>
          <p:nvPr/>
        </p:nvSpPr>
        <p:spPr>
          <a:xfrm>
            <a:off x="755640" y="4005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作者对小石潭的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总的印象和感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611280" y="476280"/>
            <a:ext cx="85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同游者：吴武陵，龚古，余弟宗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隶而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者，崔氏二小生：曰恕己，曰奉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250920" y="1989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跟着同去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900000" y="3500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同游的人：（有）吴武陵，龚古，我的弟弟宗玄。跟着来的有姓崔的两个年轻人：一个叫恕己，一个叫奉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WordArt 6"/>
          <p:cNvSpPr txBox="1"/>
          <p:nvPr/>
        </p:nvSpPr>
        <p:spPr>
          <a:xfrm rot="5400000">
            <a:off x="7773840" y="51228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疏通文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-1620720" y="18900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字词归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-1549440" y="90792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79280" y="1557360"/>
            <a:ext cx="6265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可   潭中鱼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百许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久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丘西行百二十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隶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5148360" y="1557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5219640" y="213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可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6227640" y="292428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由，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435640" y="3716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跟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468360" y="4724280"/>
            <a:ext cx="626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以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境过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卷石底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全石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5292720" y="4797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5003640" y="544500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相当于“而”，表修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364000" y="609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324000" y="189000"/>
            <a:ext cx="467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9640" y="907920"/>
            <a:ext cx="4896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西：从小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百二十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：日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斗、蛇  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折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犬牙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犬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差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乐：心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凄、寒：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5508720" y="836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名词作状语，向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851280" y="1557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名词作状语，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539640" y="2781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斗、蛇：名词作状语，斗，像北斗星一样。      蛇，像蛇一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4284720" y="4149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像狗牙一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3492360" y="4797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动词的意动用法，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为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826920" y="5911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凄、寒：形容词的使动用法，凄：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清凉。寒：使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寒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3"/>
          <p:cNvSpPr/>
          <p:nvPr/>
        </p:nvSpPr>
        <p:spPr>
          <a:xfrm>
            <a:off x="-900000" y="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堂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0" y="836640"/>
            <a:ext cx="9144000" cy="66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细读第一段，思考下列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指明小石潭方位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写小石潭未见其形，先闻其声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写小石潭周围环境景色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作者记述自己“心乐之”，作者“乐”的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水声潺潺，好像玉佩玉环碰撞发出的声音，悦耳动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4859280" y="1773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从小丘西行百二十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187280" y="3284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隔篁竹，闻水声，如鸣珮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611280" y="4581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青树翠蔓，蒙络摇缀，参差披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6"/>
          <p:cNvSpPr/>
          <p:nvPr/>
        </p:nvSpPr>
        <p:spPr>
          <a:xfrm>
            <a:off x="0" y="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品读第二段，思考下列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50920" y="620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运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静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描写游鱼的句子是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755640" y="184464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312840" y="1628640"/>
            <a:ext cx="85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320760" y="16365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运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动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描写游鱼的句子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281160" y="2473200"/>
            <a:ext cx="8281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本段通过写水中的清晰可见的鱼写出了潭水的什么特点？用的是什么写法？有什么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清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侧面描写。通过写游鱼、阳光、影子描写潭水，更好的衬托水清澈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幼圆"/>
                <a:ea typeface="幼圆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、如何理解“似与游者相乐”的含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实际上是人鱼并写，写出了作者的欢悦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64000" y="4046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日光下澈，影布石上。佁然不动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580000" y="1484280"/>
            <a:ext cx="35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俶尔远逝，往来翕忽，似与游者相乐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879480" y="1825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1887480" y="444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WordArt 21"/>
          <p:cNvSpPr txBox="1"/>
          <p:nvPr/>
        </p:nvSpPr>
        <p:spPr>
          <a:xfrm>
            <a:off x="1908000" y="0"/>
            <a:ext cx="55436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72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72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1" name="TextBox 1"/>
          <p:cNvSpPr/>
          <p:nvPr/>
        </p:nvSpPr>
        <p:spPr>
          <a:xfrm>
            <a:off x="395280" y="333360"/>
            <a:ext cx="806436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品读第三段，思考下列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描写小潭源流时，作者依次抓住溪身岸势的什么特点来描写？运用什么修辞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4360" y="3429000"/>
            <a:ext cx="68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溪身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：蜿蜒曲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岸势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：参差不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340000" y="5157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Text Box 8"/>
          <p:cNvSpPr/>
          <p:nvPr/>
        </p:nvSpPr>
        <p:spPr>
          <a:xfrm>
            <a:off x="468360" y="33336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品读第四段，思考下列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68360" y="119700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小石潭最突出的特点是什么？除此之外，作者还感受到什么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539640" y="2349360"/>
            <a:ext cx="83534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最突出的特点：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幽静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，作者还感受到一种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幽深冷寂、孤凄悲凉的气氛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作者先“闻水声”，“心乐之”，看到潭中游鱼感到轻松、快慰，后来又觉得“悄怆幽邃”，如何理解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395280" y="5084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因为作者参与改革失败后被贬，因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凄苦是感情主调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寄情山水是为了摆脱这种心情，但欢乐是暂时的，一经凄清环境触发，忧伤悲凉的心情又会流露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4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6"/>
          <p:cNvSpPr/>
          <p:nvPr/>
        </p:nvSpPr>
        <p:spPr>
          <a:xfrm>
            <a:off x="-255240" y="2422440"/>
            <a:ext cx="1155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小 石 潭 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0"/>
          <p:cNvSpPr/>
          <p:nvPr/>
        </p:nvSpPr>
        <p:spPr>
          <a:xfrm>
            <a:off x="900000" y="692280"/>
            <a:ext cx="71640" cy="5545080"/>
          </a:xfrm>
          <a:custGeom>
            <a:avLst/>
            <a:gdLst>
              <a:gd name="textAreaLeft" fmla="*/ 45720 w 71640"/>
              <a:gd name="textAreaRight" fmla="*/ 72000 w 71640"/>
              <a:gd name="textAreaTop" fmla="*/ 144360 h 5545080"/>
              <a:gd name="textAreaBottom" fmla="*/ 5400720 h 55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43"/>
          <p:cNvGrpSpPr/>
          <p:nvPr/>
        </p:nvGrpSpPr>
        <p:grpSpPr>
          <a:xfrm>
            <a:off x="971640" y="620640"/>
            <a:ext cx="6624720" cy="459720"/>
            <a:chOff x="971640" y="620640"/>
            <a:chExt cx="6624720" cy="459720"/>
          </a:xfrm>
        </p:grpSpPr>
        <p:sp>
          <p:nvSpPr>
            <p:cNvPr id="405" name="Text Box 11"/>
            <p:cNvSpPr/>
            <p:nvPr/>
          </p:nvSpPr>
          <p:spPr>
            <a:xfrm>
              <a:off x="971640" y="620640"/>
              <a:ext cx="66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发现小石潭</a:t>
              </a:r>
              <a:r>
                <a:rPr b="1" lang="zh-CN" sz="24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：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隔、闻、伐、取、见  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移步换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14"/>
            <p:cNvSpPr/>
            <p:nvPr/>
          </p:nvSpPr>
          <p:spPr>
            <a:xfrm>
              <a:off x="5940360" y="620640"/>
              <a:ext cx="144000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15"/>
          <p:cNvSpPr/>
          <p:nvPr/>
        </p:nvSpPr>
        <p:spPr>
          <a:xfrm>
            <a:off x="4284720" y="731664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6"/>
          <p:cNvSpPr/>
          <p:nvPr/>
        </p:nvSpPr>
        <p:spPr>
          <a:xfrm>
            <a:off x="1547640" y="1125360"/>
            <a:ext cx="217800" cy="719280"/>
          </a:xfrm>
          <a:prstGeom prst="downArrow">
            <a:avLst>
              <a:gd name="adj1" fmla="val 50000"/>
              <a:gd name="adj2" fmla="val 825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Group 59"/>
          <p:cNvGrpSpPr/>
          <p:nvPr/>
        </p:nvGrpSpPr>
        <p:grpSpPr>
          <a:xfrm>
            <a:off x="971640" y="1268280"/>
            <a:ext cx="7200720" cy="1572120"/>
            <a:chOff x="971640" y="1268280"/>
            <a:chExt cx="7200720" cy="1572120"/>
          </a:xfrm>
        </p:grpSpPr>
        <p:grpSp>
          <p:nvGrpSpPr>
            <p:cNvPr id="410" name="Group 51"/>
            <p:cNvGrpSpPr/>
            <p:nvPr/>
          </p:nvGrpSpPr>
          <p:grpSpPr>
            <a:xfrm>
              <a:off x="971640" y="1268280"/>
              <a:ext cx="7200720" cy="1572120"/>
              <a:chOff x="971640" y="1268280"/>
              <a:chExt cx="7200720" cy="1572120"/>
            </a:xfrm>
          </p:grpSpPr>
          <p:sp>
            <p:nvSpPr>
              <p:cNvPr id="411" name="Text Box 23"/>
              <p:cNvSpPr/>
              <p:nvPr/>
            </p:nvSpPr>
            <p:spPr>
              <a:xfrm>
                <a:off x="2411280" y="2133720"/>
                <a:ext cx="252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游鱼：动静结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Text Box 25"/>
              <p:cNvSpPr/>
              <p:nvPr/>
            </p:nvSpPr>
            <p:spPr>
              <a:xfrm>
                <a:off x="5940360" y="1916280"/>
                <a:ext cx="22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特写镜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Text Box 17"/>
              <p:cNvSpPr/>
              <p:nvPr/>
            </p:nvSpPr>
            <p:spPr>
              <a:xfrm>
                <a:off x="971640" y="1268280"/>
                <a:ext cx="18000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潭中景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AutoShape 21"/>
              <p:cNvSpPr/>
              <p:nvPr/>
            </p:nvSpPr>
            <p:spPr>
              <a:xfrm>
                <a:off x="2268360" y="1486080"/>
                <a:ext cx="225720" cy="1079280"/>
              </a:xfrm>
              <a:custGeom>
                <a:avLst/>
                <a:gdLst>
                  <a:gd name="textAreaLeft" fmla="*/ 144360 w 225720"/>
                  <a:gd name="textAreaRight" fmla="*/ 226080 w 225720"/>
                  <a:gd name="textAreaTop" fmla="*/ 28080 h 1079280"/>
                  <a:gd name="textAreaBottom" fmla="*/ 1051200 h 107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22"/>
              <p:cNvSpPr/>
              <p:nvPr/>
            </p:nvSpPr>
            <p:spPr>
              <a:xfrm>
                <a:off x="2395440" y="1413000"/>
                <a:ext cx="354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潭水：清澈  侧面描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AutoShape 24"/>
              <p:cNvSpPr/>
              <p:nvPr/>
            </p:nvSpPr>
            <p:spPr>
              <a:xfrm>
                <a:off x="5651640" y="1557360"/>
                <a:ext cx="74520" cy="1008000"/>
              </a:xfrm>
              <a:custGeom>
                <a:avLst/>
                <a:gdLst>
                  <a:gd name="textAreaLeft" fmla="*/ 0 w 74520"/>
                  <a:gd name="textAreaRight" fmla="*/ 27000 w 74520"/>
                  <a:gd name="textAreaTop" fmla="*/ 26280 h 1008000"/>
                  <a:gd name="textAreaBottom" fmla="*/ 98172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Rectangle 26"/>
            <p:cNvSpPr/>
            <p:nvPr/>
          </p:nvSpPr>
          <p:spPr>
            <a:xfrm>
              <a:off x="5940360" y="1916280"/>
              <a:ext cx="15080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AutoShape 27"/>
          <p:cNvSpPr/>
          <p:nvPr/>
        </p:nvSpPr>
        <p:spPr>
          <a:xfrm>
            <a:off x="1547640" y="234936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54"/>
          <p:cNvGrpSpPr/>
          <p:nvPr/>
        </p:nvGrpSpPr>
        <p:grpSpPr>
          <a:xfrm>
            <a:off x="971640" y="2781360"/>
            <a:ext cx="6985080" cy="1323360"/>
            <a:chOff x="971640" y="2781360"/>
            <a:chExt cx="6985080" cy="1323360"/>
          </a:xfrm>
        </p:grpSpPr>
        <p:sp>
          <p:nvSpPr>
            <p:cNvPr id="420" name="Text Box 31"/>
            <p:cNvSpPr/>
            <p:nvPr/>
          </p:nvSpPr>
          <p:spPr>
            <a:xfrm>
              <a:off x="2484360" y="3645000"/>
              <a:ext cx="25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岸势：参差不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53"/>
            <p:cNvGrpSpPr/>
            <p:nvPr/>
          </p:nvGrpSpPr>
          <p:grpSpPr>
            <a:xfrm>
              <a:off x="971640" y="2781360"/>
              <a:ext cx="6985080" cy="1224000"/>
              <a:chOff x="971640" y="2781360"/>
              <a:chExt cx="6985080" cy="1224000"/>
            </a:xfrm>
          </p:grpSpPr>
          <p:sp>
            <p:nvSpPr>
              <p:cNvPr id="422" name="Text Box 33"/>
              <p:cNvSpPr/>
              <p:nvPr/>
            </p:nvSpPr>
            <p:spPr>
              <a:xfrm>
                <a:off x="5364000" y="3284640"/>
                <a:ext cx="259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　　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  <a:ea typeface="隶书"/>
                  </a:rPr>
                  <a:t>形象比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28"/>
              <p:cNvSpPr/>
              <p:nvPr/>
            </p:nvSpPr>
            <p:spPr>
              <a:xfrm>
                <a:off x="971640" y="3141720"/>
                <a:ext cx="1441440" cy="4597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小潭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源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AutoShape 29"/>
              <p:cNvSpPr/>
              <p:nvPr/>
            </p:nvSpPr>
            <p:spPr>
              <a:xfrm>
                <a:off x="2340000" y="2924280"/>
                <a:ext cx="144360" cy="10810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28080 h 1081080"/>
                  <a:gd name="textAreaBottom" fmla="*/ 1053000 h 10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Text Box 30"/>
              <p:cNvSpPr/>
              <p:nvPr/>
            </p:nvSpPr>
            <p:spPr>
              <a:xfrm>
                <a:off x="2484360" y="2781360"/>
                <a:ext cx="24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溪身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：曲折蜿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788000" y="2924280"/>
                <a:ext cx="144360" cy="1081080"/>
              </a:xfrm>
              <a:custGeom>
                <a:avLst/>
                <a:gdLst>
                  <a:gd name="textAreaLeft" fmla="*/ 0 w 144360"/>
                  <a:gd name="textAreaRight" fmla="*/ 52200 w 144360"/>
                  <a:gd name="textAreaTop" fmla="*/ 28080 h 1081080"/>
                  <a:gd name="textAreaBottom" fmla="*/ 1053000 h 10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34"/>
              <p:cNvSpPr/>
              <p:nvPr/>
            </p:nvSpPr>
            <p:spPr>
              <a:xfrm>
                <a:off x="6012000" y="3284640"/>
                <a:ext cx="1366560" cy="50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8" name="AutoShape 35"/>
          <p:cNvSpPr/>
          <p:nvPr/>
        </p:nvSpPr>
        <p:spPr>
          <a:xfrm>
            <a:off x="1547640" y="371628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7"/>
          <p:cNvSpPr/>
          <p:nvPr/>
        </p:nvSpPr>
        <p:spPr>
          <a:xfrm>
            <a:off x="1547640" y="508464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8"/>
          <p:cNvSpPr/>
          <p:nvPr/>
        </p:nvSpPr>
        <p:spPr>
          <a:xfrm>
            <a:off x="1042920" y="59500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记录同游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58"/>
          <p:cNvGrpSpPr/>
          <p:nvPr/>
        </p:nvGrpSpPr>
        <p:grpSpPr>
          <a:xfrm>
            <a:off x="1042920" y="4508640"/>
            <a:ext cx="6553440" cy="504720"/>
            <a:chOff x="1042920" y="4508640"/>
            <a:chExt cx="6553440" cy="504720"/>
          </a:xfrm>
        </p:grpSpPr>
        <p:sp>
          <p:nvSpPr>
            <p:cNvPr id="432" name="Text Box 39"/>
            <p:cNvSpPr/>
            <p:nvPr/>
          </p:nvSpPr>
          <p:spPr>
            <a:xfrm>
              <a:off x="4788000" y="450864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　　　　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寓情于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Group 55"/>
            <p:cNvGrpSpPr/>
            <p:nvPr/>
          </p:nvGrpSpPr>
          <p:grpSpPr>
            <a:xfrm>
              <a:off x="1042920" y="4508640"/>
              <a:ext cx="6335640" cy="504720"/>
              <a:chOff x="1042920" y="4508640"/>
              <a:chExt cx="6335640" cy="504720"/>
            </a:xfrm>
          </p:grpSpPr>
          <p:sp>
            <p:nvSpPr>
              <p:cNvPr id="434" name="Text Box 36"/>
              <p:cNvSpPr/>
              <p:nvPr/>
            </p:nvSpPr>
            <p:spPr>
              <a:xfrm>
                <a:off x="1042920" y="4508640"/>
                <a:ext cx="367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潭中气氛：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幽深冷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Rectangle 40"/>
              <p:cNvSpPr/>
              <p:nvPr/>
            </p:nvSpPr>
            <p:spPr>
              <a:xfrm>
                <a:off x="6012000" y="4508640"/>
                <a:ext cx="1366560" cy="50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" name="AutoShape 41"/>
          <p:cNvSpPr/>
          <p:nvPr/>
        </p:nvSpPr>
        <p:spPr>
          <a:xfrm>
            <a:off x="7596360" y="692280"/>
            <a:ext cx="72720" cy="5689440"/>
          </a:xfrm>
          <a:custGeom>
            <a:avLst/>
            <a:gdLst>
              <a:gd name="textAreaLeft" fmla="*/ 0 w 72720"/>
              <a:gd name="textAreaRight" fmla="*/ 26280 w 72720"/>
              <a:gd name="textAreaTop" fmla="*/ 148320 h 5689440"/>
              <a:gd name="textAreaBottom" fmla="*/ 5541120 h 56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42"/>
          <p:cNvSpPr/>
          <p:nvPr/>
        </p:nvSpPr>
        <p:spPr>
          <a:xfrm>
            <a:off x="6739920" y="1413000"/>
            <a:ext cx="21088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抒发在寂寞的处境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孤凄悲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的情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8"/>
          <p:cNvSpPr/>
          <p:nvPr/>
        </p:nvSpPr>
        <p:spPr>
          <a:xfrm>
            <a:off x="433440" y="19033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　  这篇散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生动地描写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小石潭环境景物的幽美和静穆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抒发了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作者被贬官失意后的凄苦之情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250920" y="69228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文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8"/>
          <p:cNvSpPr/>
          <p:nvPr/>
        </p:nvSpPr>
        <p:spPr>
          <a:xfrm>
            <a:off x="433440" y="19033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0" y="0"/>
            <a:ext cx="43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（借景抒情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507760" y="692280"/>
            <a:ext cx="456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柳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榕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落尽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偶题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宦情羁思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共凄凄，春半如秋意转迷。</a:t>
            </a:r>
            <a:br>
              <a:rPr sz="3600"/>
            </a:b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山城过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百花尽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，榕叶满庭莺乱啼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684360" y="342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通观全诗，是什么原因是作者产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半如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感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826920" y="465300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一、</a:t>
            </a: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、仲春时节，柳州百花盛开，春意满园，可是一场春雨洗劫百花，落红满地，使人产生落叶满地错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、自己仕途失意，远离故土，心中本以惆怅凄迷，又逢此凄凉之景，刹那间产生春半已秋的错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250920" y="404640"/>
            <a:ext cx="841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611280" y="292428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莺啼本无所谓“乱”，是作者自己因仕途迷茫而心乱，所以，作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莺乱啼”表现自己此时凄迷烦乱的心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755640" y="6922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有人说三、四句将“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在物之境”与“在我之情”融合无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请以“乱”字为例简要分析诗人的思想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images"/>
          <p:cNvPicPr/>
          <p:nvPr/>
        </p:nvPicPr>
        <p:blipFill>
          <a:blip r:embed="rId1"/>
          <a:stretch/>
        </p:blipFill>
        <p:spPr>
          <a:xfrm>
            <a:off x="755640" y="765000"/>
            <a:ext cx="2965320" cy="5340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4284720" y="836640"/>
            <a:ext cx="440064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柳宗元   字子厚，唐代河东人，世称柳河东，唐代著名文学家，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唐宋八大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一。代表作有《永州八记》、《三戒》、《捕蛇者说》等。《小石潭记》是《永州八记》之一的第四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187280" y="2205000"/>
            <a:ext cx="7129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始得西山宴游记</a:t>
            </a: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》  《</a:t>
            </a:r>
            <a:r>
              <a:rPr b="1" lang="zh-CN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钴姆潭记</a:t>
            </a: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钴姆潭西小丘记</a:t>
            </a: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》  《</a:t>
            </a:r>
            <a:r>
              <a:rPr b="1" lang="zh-CN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至小丘西小石潭记</a:t>
            </a: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袁家渴记</a:t>
            </a: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》        《</a:t>
            </a:r>
            <a:r>
              <a:rPr b="1" lang="zh-CN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石渠记</a:t>
            </a: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石间记</a:t>
            </a: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》          《</a:t>
            </a:r>
            <a:r>
              <a:rPr b="1" lang="zh-CN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小石城山记</a:t>
            </a:r>
            <a:r>
              <a:rPr b="1" lang="en-US" sz="4000" spc="-1" strike="noStrike" baseline="16000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979640" y="47628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永州八记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柳宗元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164360" y="3933720"/>
            <a:ext cx="1979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397080" y="393372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8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203640" y="14810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92720" y="14810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307280" y="14097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971640" y="27781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205080" y="27781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292720" y="27781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7308720" y="27781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973080" y="40734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5291280" y="407340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308720" y="407340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971640" y="55134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3203640" y="55134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291280" y="5516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7308720" y="55134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3203640" y="4076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2"/>
          <p:cNvSpPr/>
          <p:nvPr/>
        </p:nvSpPr>
        <p:spPr>
          <a:xfrm>
            <a:off x="826920" y="10494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áng       liè           chí          y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55640" y="2276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kān          màn        cēn          c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755640" y="364500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ǐ           chù          xī         liá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684360" y="494172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qiǎo      chuàng     gōng      xu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684360" y="260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楷体"/>
                <a:ea typeface="华文楷体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shui"/>
          <p:cNvPicPr/>
          <p:nvPr/>
        </p:nvPicPr>
        <p:blipFill>
          <a:blip r:embed="rId1"/>
          <a:stretch/>
        </p:blipFill>
        <p:spPr>
          <a:xfrm>
            <a:off x="0" y="0"/>
            <a:ext cx="9144000" cy="90676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4"/>
          <p:cNvSpPr/>
          <p:nvPr/>
        </p:nvSpPr>
        <p:spPr>
          <a:xfrm>
            <a:off x="324000" y="1700280"/>
            <a:ext cx="8565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听读课文，感知文中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动、形象的景物描写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品味文情之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小石潭记朗读(男声).mp3" descr=""/>
          <p:cNvPicPr/>
          <p:nvPr/>
        </p:nvPicPr>
        <p:blipFill>
          <a:blip r:embed="rId2"/>
          <a:stretch/>
        </p:blipFill>
        <p:spPr>
          <a:xfrm>
            <a:off x="759636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小石潭记朗读(女声).wma" descr=""/>
          <p:cNvPicPr/>
          <p:nvPr/>
        </p:nvPicPr>
        <p:blipFill>
          <a:blip r:embed="rId3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4" name="chimes.wav"/>
      </p:stSnd>
    </p:sndAc>
  </p:transition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45529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35417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0" y="2286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新宋体"/>
                <a:ea typeface="新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242440" y="1773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朗读课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小石潭记朗读(男声).mp3" descr=""/>
          <p:cNvPicPr/>
          <p:nvPr/>
        </p:nvPicPr>
        <p:blipFill>
          <a:blip r:embed="rId2"/>
          <a:stretch/>
        </p:blipFill>
        <p:spPr>
          <a:xfrm>
            <a:off x="6300720" y="56610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2614320" y="2896200"/>
            <a:ext cx="39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诵读指南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读准字音、读好节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语速、停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读出情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文字背后作者的情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45553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04920" y="457200"/>
            <a:ext cx="8839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小丘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行百二十步，隔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篁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闻水声，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珮环，心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乐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竹取道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见小潭，水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尤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石以为底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岸，卷石底以出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坻为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为堪为岩。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青树翠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蒙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络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摇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参差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披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981080" y="990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迷你简启体"/>
              </a:rPr>
              <a:t>往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5486400" y="990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迷你简启体"/>
              </a:rPr>
              <a:t>竹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7620120" y="25909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迷你简启体"/>
              </a:rPr>
              <a:t>格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28600" y="4038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迷你简启体"/>
              </a:rPr>
              <a:t>清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14300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迷你简启体"/>
              </a:rPr>
              <a:t>一整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010280" y="4038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迷你简启体"/>
              </a:rPr>
              <a:t>成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4038480" y="5486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迷你简启体"/>
              </a:rPr>
              <a:t>遮掩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迷你简启体"/>
              </a:rPr>
              <a:t>缠绕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迷你简启体"/>
              </a:rPr>
              <a:t>摇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迷你简启体"/>
              </a:rPr>
              <a:t>连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3276720" y="59436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迷你简启体"/>
              </a:rPr>
              <a:t>遮掩缠绕，摇动下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6781680" y="5562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  <a:ea typeface="迷你简启体"/>
              </a:rPr>
              <a:t>参差不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7620120" y="5562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迷你简启体"/>
              </a:rPr>
              <a:t>随风飘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13" descr="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4"/>
          <p:cNvSpPr/>
          <p:nvPr/>
        </p:nvSpPr>
        <p:spPr>
          <a:xfrm>
            <a:off x="0" y="0"/>
            <a:ext cx="8839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从小丘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行百二十步，隔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篁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闻水声，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珮环，心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之。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道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见小潭，水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尤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全石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以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底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岸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石底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为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屿，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为岩。青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翠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蒙络摇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参差披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1619280" y="6206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向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4500720" y="5493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竹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1116000" y="1916280"/>
            <a:ext cx="201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以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为乐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6443640" y="18446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格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0" y="3213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清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5796000" y="314172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成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6804000" y="4653000"/>
            <a:ext cx="1273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参差不齐，随风飘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4716360" y="458136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遮掩缠绕，摇动下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0" y="1844640"/>
            <a:ext cx="91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发出声响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3049920" y="19162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砍伐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859280" y="1844640"/>
            <a:ext cx="138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向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3059280" y="3068640"/>
            <a:ext cx="136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靠近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414036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6732720" y="314172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水中高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0" y="4508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不平的岩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2340000" y="4508640"/>
            <a:ext cx="21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翠绿的藤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5"/>
          <p:cNvSpPr/>
          <p:nvPr/>
        </p:nvSpPr>
        <p:spPr>
          <a:xfrm>
            <a:off x="826920" y="314172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把（用）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作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33"/>
          <p:cNvSpPr txBox="1"/>
          <p:nvPr/>
        </p:nvSpPr>
        <p:spPr>
          <a:xfrm rot="5400000">
            <a:off x="7631280" y="1306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疏通文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397476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黑体"/>
              </a:rPr>
              <a:t>开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5"/>
          <p:cNvSpPr/>
          <p:nvPr/>
        </p:nvSpPr>
        <p:spPr>
          <a:xfrm>
            <a:off x="3924360" y="314172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弯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0"/>
          <p:cNvSpPr/>
          <p:nvPr/>
        </p:nvSpPr>
        <p:spPr>
          <a:xfrm>
            <a:off x="206280" y="2602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611280" y="836640"/>
            <a:ext cx="7920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从小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向西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走一百二十步，隔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竹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就听到流水的声音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好像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人身上佩带的玉佩、玉环相碰击发出的声音，我的心情感到很高兴。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砍倒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竹子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开辟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出一条道路，往下走去看见一个小石潭，潭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格外清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潭以整块石头为底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在靠近岸边的地方，石底有些部分翻卷过来露出水面，，成为坻、屿、嵁、岩各种不同的形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青青的树木，翠绿的藤蔓，遮掩缠绕，摇动下垂，参差不齐，随风飘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826920" y="5373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写作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发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小石潭及小石潭周围的景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用户</cp:lastModifiedBy>
  <dcterms:modified xsi:type="dcterms:W3CDTF">2016-04-24T13:34:58Z</dcterms:modified>
  <cp:revision>99</cp:revision>
  <dc:subject/>
  <dc:title>小石潭记</dc:title>
</cp:coreProperties>
</file>