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46E9-5C34-4175-945A-BC82A87D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FF53-B9FB-49E3-8C7A-530A127F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3B5-8642-44E0-B7D9-59891E68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1FF-540F-4567-A3E1-99BE0CCD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63E6-F88B-402E-84DD-5B0027FD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5522-18DB-468D-BF6F-02AF48AB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650D-A7D0-4911-9336-F0666CC6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B500-67DA-447B-B169-B235949F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8070-674B-4E15-B944-E452F3DF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F9E6-F10D-4BB0-84CC-19448F81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63C7-6478-4EEE-AB1F-B6F86757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6BEA-B9BB-401C-AD70-B9D953DD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3150-840C-49F3-81FD-076CD1C1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7062-AFAF-4AA4-AF54-A2C1EE95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113F-5A77-4448-AF5B-DC678EE6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94C6-2194-43AF-99C3-524796BD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1E09-28B2-436B-B9C4-EB7B197B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4B8-A6A9-4B3E-87A4-6EE0E6CA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3BB-8515-4816-B686-0A61D697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59F5-2F9D-4FC6-B88F-8EB92D07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6F0-7C90-4538-B9C9-BD51746A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A1DD-E2B0-4A02-B9C1-990A0031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EBEA-0349-4D36-B794-AC5DDA73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5D39-A7EF-4D00-92A5-1C53E193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A191-AE31-4265-9C5E-F0105E9A9B8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27A3-E5BC-499C-8A36-B1C9FECF282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0000"/>
                </a:solidFill>
                <a:latin typeface="Arial"/>
                <a:ea typeface="隶书"/>
              </a:rPr>
              <a:t>小石潭记</a:t>
            </a:r>
            <a:endParaRPr b="0" lang="en-US" sz="129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精要练习</a:t>
            </a: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结合课文内容说说作者游览小石潭的心情有怎样的变化。为什么会这样？　　　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作者浏览小石潭之初的心情是欢快的，但一经凄清环境触发，忧伤、悲凉随之而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者因小石潭的美景而欢快，但欢乐是暂时的，因为作者参与改革失败后被贬，心中愤懑不平，一经凄清环境触发，忧伤悲凉的心情又会流露出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文言词语</a:t>
            </a: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1——</a:t>
            </a: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一词多义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全石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为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其境过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潭中鱼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百许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明灭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1628640"/>
            <a:ext cx="2952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941c"/>
                </a:solidFill>
                <a:latin typeface="Arial"/>
              </a:rPr>
              <a:t>把，用，介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2000" y="2205000"/>
            <a:ext cx="2952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941c"/>
                </a:solidFill>
                <a:latin typeface="Arial"/>
              </a:rPr>
              <a:t>因为，连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4360" y="2852640"/>
            <a:ext cx="2952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941c"/>
                </a:solidFill>
                <a:latin typeface="Arial"/>
              </a:rPr>
              <a:t>大约，副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3429000"/>
            <a:ext cx="2952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941c"/>
                </a:solidFill>
                <a:latin typeface="Arial"/>
              </a:rPr>
              <a:t>可以，副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文言词语</a:t>
            </a: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2——</a:t>
            </a: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词类活用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从小丘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西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行百二十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向西，名词作状语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皆若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空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游无所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在空中，形容词作状语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日光下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照射，形容词用作动词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斗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折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蛇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像北斗星那样；像蛇爬行那样。名词作状语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其岸势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犬牙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差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象狗的牙齿那样，名词作状语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文言词语</a:t>
            </a: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3——</a:t>
            </a: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其他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水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清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为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坻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为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屿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为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佁然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悄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幽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以其境过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记之而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隶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而从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125360"/>
            <a:ext cx="1223640" cy="432000"/>
          </a:xfrm>
          <a:prstGeom prst="wedgeRectCallout">
            <a:avLst>
              <a:gd name="adj1" fmla="val 91375"/>
              <a:gd name="adj2" fmla="val 1551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格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1268280"/>
            <a:ext cx="2089080" cy="432000"/>
          </a:xfrm>
          <a:prstGeom prst="wedgeRectCallout">
            <a:avLst>
              <a:gd name="adj1" fmla="val -125759"/>
              <a:gd name="adj2" fmla="val 22132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平的岩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1268280"/>
            <a:ext cx="1223640" cy="432000"/>
          </a:xfrm>
          <a:prstGeom prst="wedgeRectCallout">
            <a:avLst>
              <a:gd name="adj1" fmla="val -132620"/>
              <a:gd name="adj2" fmla="val 21617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60280"/>
            <a:ext cx="1584360" cy="432000"/>
          </a:xfrm>
          <a:prstGeom prst="wedgeRectCallout">
            <a:avLst>
              <a:gd name="adj1" fmla="val -115430"/>
              <a:gd name="adj2" fmla="val 46691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水中高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4005360"/>
            <a:ext cx="2521080" cy="647640"/>
          </a:xfrm>
          <a:prstGeom prst="wedgeRectCallout">
            <a:avLst>
              <a:gd name="adj1" fmla="val -207180"/>
              <a:gd name="adj2" fmla="val -8872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忧伤的样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6021360"/>
            <a:ext cx="1224000" cy="432000"/>
          </a:xfrm>
          <a:prstGeom prst="wedgeRectCallout">
            <a:avLst>
              <a:gd name="adj1" fmla="val -192800"/>
              <a:gd name="adj2" fmla="val -41213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凄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5877000"/>
            <a:ext cx="1224000" cy="431640"/>
          </a:xfrm>
          <a:prstGeom prst="wedgeRectCallout">
            <a:avLst>
              <a:gd name="adj1" fmla="val -41439"/>
              <a:gd name="adj2" fmla="val -25257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离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6021360"/>
            <a:ext cx="1224000" cy="432000"/>
          </a:xfrm>
          <a:prstGeom prst="wedgeRectCallout">
            <a:avLst>
              <a:gd name="adj1" fmla="val 3305"/>
              <a:gd name="adj2" fmla="val -17904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随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2708280"/>
            <a:ext cx="2520720" cy="647640"/>
          </a:xfrm>
          <a:prstGeom prst="wedgeRectCallout">
            <a:avLst>
              <a:gd name="adj1" fmla="val -210013"/>
              <a:gd name="adj2" fmla="val 3505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呆呆的样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句子翻译</a:t>
            </a: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隔篁竹，闻水声，如鸣佩环，心乐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隔着竹林，就能听到水声，好像挂在身上的玉珮、玉环相互碰撞的声音，心里很是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卷石底以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石底有些部分翻卷过来，露出水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青树翠蔓，蒙络摇缀，参差披拂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青葱的树木，翠绿的藤蔓，遮掩缠绕，摇动下垂，参差不齐，随风飘拂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7e7ff"/>
                </a:solidFill>
                <a:latin typeface="Arial"/>
              </a:rPr>
              <a:t>句子翻译</a:t>
            </a:r>
            <a:r>
              <a:rPr b="0" lang="zh-CN" sz="4000" spc="-1" strike="noStrike">
                <a:solidFill>
                  <a:srgbClr val="b7e7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潭中鱼可百许头，皆若空游无所依，日光下澈，影布石上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e7ff"/>
                </a:solidFill>
                <a:latin typeface="Arial"/>
              </a:rPr>
              <a:t>潭中游鱼大约有一百来条，都好象在空中游动，没有什么依靠似的。阳光往下照射到潭底，把鱼的影子映在水底的石上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潭西南而望，斗折蛇行，明灭可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7e7ff"/>
                </a:solidFill>
                <a:latin typeface="Arial"/>
              </a:rPr>
              <a:t>顺着水潭向西南方向望去，溪流像北斗七星那样曲折，又像蛇爬行那样弯曲，时隐时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四面竹树环合，寂寥无人，凄神寒骨，悄怆幽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四周有竹子和树林围绕着，静悄悄的没有人迹，使人感到心境凄凉，寒气透骨，幽静深远，弥漫着忧伤的气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文章评价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主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本文是柳宗元《永州八记》中的第四篇。文章通过写景，把感情寓于景中。作者善于抓住景物特征，从不同角度描绘小石潭的石、水、鱼、树，着意渲染它的寂寞、凄寒、幽怆的气氛，借景抒发了自己寂寞处境中的悲凉、凄怆的情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文中的“对比”和“烘托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为了突出鱼的生动活泼，把“怡然不动”和“俶尔远逝，往来翕”忽”两种情态加以对比，静动相对，尤显出鱼的活泼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作者用反衬的手法写鱼在潭中历历可数，使人感到像是“空”“无”，尤使水清之状具有实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精要练习</a:t>
            </a: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本文作者是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            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他是唐宋八大家之一，你知道其他唐宋八大家吗？请例举两个以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柳宗元；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唐代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韩愈、柳宗元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宋代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欧阳修、苏洵、苏轼、苏辙、曾巩、王安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下列加点的字注音不正确的一项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    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篁竹（ｈｕ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ɡ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清冽（ｌｉ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为坻（ｃ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为嵁（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ｎ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参差（ｃ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ē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ｎ ｃ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佁然（ｙ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ĭ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俶尔（ｓ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翕忽（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12000" y="3716280"/>
            <a:ext cx="505080" cy="36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精要练习</a:t>
            </a: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解释下列带点的词解释错误的一项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潭中鱼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可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百许头 （大约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斗折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蛇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行  （像蛇一样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不可久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居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（居住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影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布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石上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映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选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文中直接写水清和间接写水清的句子分别是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水尤清洌；潭中鱼可百许头，皆若空游无所依，日光下澈，影布石上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4:56:32Z</dcterms:created>
  <dc:creator>微软用户</dc:creator>
  <dc:description/>
  <dc:language>en-US</dc:language>
  <cp:lastModifiedBy>User</cp:lastModifiedBy>
  <dcterms:modified xsi:type="dcterms:W3CDTF">2013-05-29T00:07:38Z</dcterms:modified>
  <cp:revision>12</cp:revision>
  <dc:subject/>
  <dc:title>小石潭记</dc:title>
</cp:coreProperties>
</file>