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4E4-C19E-4694-8517-ED958E65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B2E-6E9D-49B6-815A-12D1A09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642-A5FC-4480-9E55-4B3A2A13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A63-D689-427E-982C-96914FE3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F67-0367-4DA8-A16A-1393CFA9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3C9-F423-4C4A-A295-35266F8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9F4-22A1-496B-B832-3E8F31B0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863-7A93-4235-8527-F7FE7FC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E43-3CBE-4C24-B0AC-37A1D284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E44-2989-4599-A76B-4DF11B9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65A-8165-4AA9-82BE-E7413AC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A93-1613-4E2C-AAFB-FDD89DD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B47-043A-4C62-A860-4AC7C528F1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52873100&amp;tn=baiduimagedetail&amp;word=&#26611;&#23447;&#20803;&amp;in=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252873100&amp;tn=baiduimagedetail&amp;word=&#26611;&#23447;&#20803;&amp;in=2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755601&amp;tn=baiduimagedetail&amp;word=&#26611;&#23447;&#20803;&amp;in=3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1484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436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92428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4508640"/>
            <a:ext cx="16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4508640"/>
            <a:ext cx="128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4365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341360"/>
            <a:ext cx="88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听课文录音，注意字音字形，初步感知课文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4552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86200" y="5181480"/>
            <a:ext cx="5257800" cy="119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小丘西行百二十步，隔篁竹，闻水声，如鸣佩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95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4552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90920" y="5943600"/>
            <a:ext cx="65530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伐竹取道，下见小潭，水尤清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5911920"/>
            <a:ext cx="56390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鱼可百许头，皆若空游无所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光下澈，影布石上，佁然不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28600"/>
            <a:ext cx="64767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树翠蔓，蒙络摇缀，参差披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" y="5562720"/>
            <a:ext cx="44956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俶尔远逝，往来翕忽，似与游者相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5334120"/>
            <a:ext cx="7315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88930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541008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　潭西南而望，斗折蛇行，明灭可见。其岸势犬牙差互，不可知其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09680" y="1447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坐潭上，四面竹树环合，寂寥无人，凄神寒骨，悄怆幽邃。以其境过清，不可久居，乃记之而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57800" y="4816440"/>
            <a:ext cx="38862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游者：吴武陵，龚古，余弟宗玄。隶而从者，崔氏二小生：曰恕己，曰奉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068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160800"/>
          </a:xfrm>
          <a:prstGeom prst="rect">
            <a:avLst/>
          </a:prstGeom>
          <a:ln w="0">
            <a:noFill/>
          </a:ln>
        </p:spPr>
      </p:pic>
      <p:pic>
        <p:nvPicPr>
          <p:cNvPr id="123" name="1014" descr=""/>
          <p:cNvPicPr/>
          <p:nvPr/>
        </p:nvPicPr>
        <p:blipFill>
          <a:blip r:embed="rId3"/>
          <a:stretch/>
        </p:blipFill>
        <p:spPr>
          <a:xfrm>
            <a:off x="0" y="3141720"/>
            <a:ext cx="4500720" cy="3716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9640" y="549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《江雪》是唐代散文家柳宗元写的一首绝句，在这首诗里寄托了诗人高洁孤傲执著不屈的崇高人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213372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柳宗元曾经被贬到湖南的永州做司马。在此期间，他写下了一组著名的山水游记，合称《永州八记》。今天我们一起来学习他的《永州八记》之一的《小石潭记》。这篇文章同样体现了他独立的人格以及不被理解的愤懑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2784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注意下列黄色字的读音和字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26828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huáng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     ）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19700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16720" y="1197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iè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51640" y="1125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95008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13372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石底以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2060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坻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51640" y="2924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92428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青 树 翠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蔓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78936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蒙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络 摇 缀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3789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参差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披拂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58136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然不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443700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4508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俶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尔远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166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往来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翕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忽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37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8360" y="5373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犬牙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差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2060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u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á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36000" y="191628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92428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285264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3789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ě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37162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ē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 c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437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51640" y="5300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69228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liáo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无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692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620640"/>
            <a:ext cx="39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神寒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620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844640"/>
            <a:ext cx="87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幽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su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(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0400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0836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u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29242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古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85264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日光下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6920" y="278136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93372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2428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4292640"/>
            <a:ext cx="432000" cy="1873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4869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076640"/>
            <a:ext cx="431640" cy="2232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7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4005360"/>
            <a:ext cx="432000" cy="2303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797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844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2852640"/>
            <a:ext cx="144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Arial"/>
              </a:rPr>
              <a:t>ō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2781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72360" y="4221000"/>
            <a:ext cx="432000" cy="1873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48600 h 1873440"/>
              <a:gd name="textAreaBottom" fmla="*/ 1824840 h 18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4724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3336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9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9079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70028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24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怡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自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9079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百战不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3640" y="170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不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2421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死腹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9079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628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421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7640" y="333360"/>
            <a:ext cx="431640" cy="266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08720" y="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6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chu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134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2276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148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qi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7080" y="234936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呼天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抢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234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1484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了一口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1484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20000" y="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踉踉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93080" y="6922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怆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然涕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3280" y="6922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86064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35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43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537372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3500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43700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5445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3860640"/>
            <a:ext cx="431640" cy="201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4292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16720" y="522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3860640"/>
            <a:ext cx="432000" cy="201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40464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学生大声读课文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注意语调的把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268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提示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1916280"/>
            <a:ext cx="86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第一二段写作者兴致勃勃畅游小石潭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全石带来的好奇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清澈的水流和飘忽不定的游鱼所带来的快乐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欢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458136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四五段写小石潭周围幽深冷寂的氛围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该读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伤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低沉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505320" y="1219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81080" y="1484280"/>
            <a:ext cx="84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疏通文句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落实字词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2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37782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508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30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342900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整体把握课文的内容</a:t>
            </a:r>
            <a:r>
              <a:rPr b="1" lang="zh-CN" sz="6000" spc="-1" strike="noStrike">
                <a:solidFill>
                  <a:srgbClr val="ffff00"/>
                </a:solidFill>
                <a:latin typeface="华文行楷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小丘西行百二十步，隔        ，    水声，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13000"/>
            <a:ext cx="99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佩环，心        。   竹    道，    见小潭，水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篁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1052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竹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3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12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听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51280" y="522936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砍倒竹子，开辟出一条道路（走过去），下面看见一个小潭，潭水特别清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48428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从小土丘向西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百二十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84720" y="1989000"/>
            <a:ext cx="30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隔着竹林，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了水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86900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好像身上带的玉佩、玉环相碰发出的清脆声音，（我的）心情高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32720" y="40464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9079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动用法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使…鸣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3141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4149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代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指水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645000"/>
            <a:ext cx="1297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258560" y="3789360"/>
            <a:ext cx="576360" cy="14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268000" y="3789360"/>
            <a:ext cx="14292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43280" y="3716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砍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378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3141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0000" y="3789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特别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清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00536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清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2360" y="386064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在下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为岩。青树翠蔓，        摇     ，                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404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36640"/>
            <a:ext cx="96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石       底，   岸，  石底        ，为    ，为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9640" y="40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765000"/>
            <a:ext cx="6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765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765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48000" y="765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8360" y="76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00720" y="836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4720" y="836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9640" y="836640"/>
            <a:ext cx="5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6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2133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整块石头作为潭底，靠近岸边，有一圈从潭底周围突出水面的石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2360" y="213372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为坻、屿、  嵁、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30064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各种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24000" y="5516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青葱的树，翠绿的茎蔓，遮盖交结，摇动下垂，参差不齐，随风飘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068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0" y="2997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306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参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08720" y="3068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披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6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完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141300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83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4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介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靠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71640" y="14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翻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19640" y="189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连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相当于 “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2360" y="1413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露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1413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水中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3080" y="26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小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1341360"/>
            <a:ext cx="11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89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不平的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860640"/>
            <a:ext cx="1152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覆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92360" y="3573360"/>
            <a:ext cx="648000" cy="35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48360" y="4437000"/>
            <a:ext cx="1224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连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796000" y="3645000"/>
            <a:ext cx="7128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80000" y="4149720"/>
            <a:ext cx="1223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缠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500720" y="3573360"/>
            <a:ext cx="358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16720" y="4005360"/>
            <a:ext cx="863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3573360"/>
            <a:ext cx="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80360" y="37893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随风飘荡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40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-210240" y="2637000"/>
            <a:ext cx="13993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发现小石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6000" y="1989000"/>
            <a:ext cx="720720" cy="3816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1700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2349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249228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4000" y="31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4076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5280" y="429264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95640" y="4941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5280" y="522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56000" y="2276640"/>
            <a:ext cx="71280" cy="280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27280" y="5084640"/>
            <a:ext cx="115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56000" y="2276640"/>
            <a:ext cx="12240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27280" y="3500280"/>
            <a:ext cx="107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51280" y="191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08360" y="3068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8360" y="458136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234936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3500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5084640"/>
            <a:ext cx="64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19162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19640" y="299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4581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2421000"/>
            <a:ext cx="1295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940360" y="3429000"/>
            <a:ext cx="1224000" cy="71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940360" y="3644640"/>
            <a:ext cx="1152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64360" y="2852640"/>
            <a:ext cx="1584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4000" y="404640"/>
            <a:ext cx="7020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24000" y="47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移步换景      定点特写    景中含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43280" y="587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闻声          见形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40360" y="6308640"/>
            <a:ext cx="17269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386064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潭中鱼   百    头，皆        游无所     。日光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   石上，       不动；        远逝，往来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508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游者相     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184464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潭中的鱼大约有一百来条，好像都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空中游动，周围什么也没有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84720" y="2205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阳光直照到水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49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鱼的影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4149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呆呆地一动不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72000" y="407664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又忽然向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游去，往来很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165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像和游人一同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47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40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若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96000" y="40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24720" y="40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下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9079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副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9280" y="90792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左右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光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64000" y="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4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141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楷体_GB2312"/>
              </a:rPr>
              <a:t>在空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0000" y="98100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依靠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907920"/>
            <a:ext cx="136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01080" y="907920"/>
            <a:ext cx="1297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直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852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35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散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0920" y="2852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佁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500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呆呆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11640" y="2852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俶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11640" y="3500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忽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3080" y="285264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翕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24360" y="350028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楷体_GB2312"/>
              </a:rPr>
              <a:t>轻快敏捷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46530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映在石头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5084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55897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好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501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5589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动词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逗乐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娱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0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2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2565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中景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4665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24000" y="191628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8436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潭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84360" y="3573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游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843280" y="227664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5600" y="2637000"/>
            <a:ext cx="789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155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清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08360" y="1916280"/>
            <a:ext cx="7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80000" y="191628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43640" y="1557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35280" y="400536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00720" y="3573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动静结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6720" y="4005360"/>
            <a:ext cx="100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88000" y="3284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96360" y="364500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心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88360" y="1989000"/>
            <a:ext cx="216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532720" y="3141360"/>
            <a:ext cx="142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28000" y="2492280"/>
            <a:ext cx="111600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013360"/>
            <a:ext cx="460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由景生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8610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371600"/>
            <a:ext cx="914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08840" y="685800"/>
            <a:ext cx="458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7120" y="4665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 Narrow"/>
                <a:ea typeface="华文行楷"/>
              </a:rPr>
              <a:t>小石潭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72560" y="4724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33"/>
                </a:solidFill>
                <a:latin typeface="Arial"/>
              </a:rPr>
              <a:t>柳宗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213372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潭西南    望 ，               ，明灭可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437000"/>
            <a:ext cx="87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岸势            互，不可知         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09300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溪岸的形状像犬牙那样交错不齐，不知道它的源泉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向小石潭的西南方看去，溪流象北斗七星那样曲折，又象蛇爬行那样弯曲，忽明忽暗，忽隐忽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" y="40464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写小潭源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43280" y="476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溪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32000" y="692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岸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189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曲折蜿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43280" y="76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参差不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11280" y="2060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80000" y="206064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800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00000" y="278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修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1557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像北斗星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2637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1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92720" y="213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314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像蛇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2708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曲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43640" y="549360"/>
            <a:ext cx="576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443640" y="836640"/>
            <a:ext cx="57636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64360" y="40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437000"/>
            <a:ext cx="5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084640"/>
            <a:ext cx="22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代词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76360" y="4437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犬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19280" y="5084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92360" y="5589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像犬牙那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4437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7640" y="5013360"/>
            <a:ext cx="11527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40360" y="5084640"/>
            <a:ext cx="194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动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交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72360" y="278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爬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9272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443640" y="530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它的源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1125360"/>
            <a:ext cx="241128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8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549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坐潭上，四面竹树         ，        无人，           骨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492280"/>
            <a:ext cx="8893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       境    清，不    久    ，    记            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9564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环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64000" y="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环绕包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48360" y="476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寂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88000" y="981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寂静空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0000" y="549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凄神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0072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使…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77080" y="105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心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67640" y="98100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…寒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2492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悄怆幽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213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忧伤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64500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幽静深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2997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24000" y="2492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84360" y="24922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3573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0364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19640" y="321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过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64000" y="2492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2436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43280" y="3068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停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5636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72360" y="306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8000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于是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4836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之而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48360" y="3645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代词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指小石潭的情景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3080" y="31417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连词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207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292640"/>
            <a:ext cx="961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真是太寂静幽深了。由于这地方过于冷清，不能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间地停留，于是就把当时的情景记下来便离去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我坐在潭边，四周有竹子和树林围绕着，静悄悄的没有人迹，使人感到心境凄凉，寒气彻骨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写潭中气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43280" y="5778360"/>
            <a:ext cx="431640" cy="1079640"/>
          </a:xfrm>
          <a:custGeom>
            <a:avLst/>
            <a:gdLst>
              <a:gd name="textAreaLeft" fmla="*/ 275760 w 431640"/>
              <a:gd name="textAreaRight" fmla="*/ 432000 w 43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19640" y="5589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气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19640" y="6278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16360" y="5589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62784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92720" y="5950080"/>
            <a:ext cx="57456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292720" y="6308280"/>
            <a:ext cx="5745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877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32720" y="5734080"/>
            <a:ext cx="2411280" cy="90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寓情于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7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5092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者：吴武陵，龚古，  弟宗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0920" y="350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从者，崔氏二        ：   恕己，曰奉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2421000"/>
            <a:ext cx="93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同游的人有吴武陵、龚古、我的弟弟宗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跟着来的有姓崔的两个少年，一个叫恕己，一个叫奉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48360" y="4005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350028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40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跟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126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08720" y="1844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70836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80000" y="4365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年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42920" y="126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128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一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76360" y="1268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47640" y="184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游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6920" y="350028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4076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连词，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26028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最后一段：记录同游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5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5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5" dur="2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5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143000" y="15238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全文共五段，可分为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一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方位和概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二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2~3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中的游鱼和潭中的水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三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写小石潭的气氛和作者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第四部分（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66ff66"/>
                </a:solidFill>
                <a:latin typeface="Times New Roman"/>
              </a:rPr>
              <a:t>），介绍与自己同游小石潭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85800" y="4495680"/>
            <a:ext cx="7620120" cy="1752840"/>
            <a:chOff x="685800" y="4495680"/>
            <a:chExt cx="7620120" cy="1752840"/>
          </a:xfrm>
        </p:grpSpPr>
        <p:sp>
          <p:nvSpPr>
            <p:cNvPr id="486" name=""/>
            <p:cNvSpPr/>
            <p:nvPr/>
          </p:nvSpPr>
          <p:spPr>
            <a:xfrm>
              <a:off x="685800" y="4495680"/>
              <a:ext cx="76201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本文是按照游览顺序安排的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发现小潭（因闻水声，既觅小潭）              潭中景物（水、石、树、鱼）               潭中气氛（气氛、感受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                </a:t>
              </a:r>
              <a:r>
                <a:rPr b="0" lang="zh-CN" sz="2400" spc="-1" strike="noStrike">
                  <a:solidFill>
                    <a:srgbClr val="ccecff"/>
                  </a:solidFill>
                  <a:latin typeface="Times New Roman"/>
                </a:rPr>
                <a:t>同游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838080" y="5257800"/>
              <a:ext cx="5410440" cy="990720"/>
              <a:chOff x="838080" y="5257800"/>
              <a:chExt cx="5410440" cy="990720"/>
            </a:xfrm>
          </p:grpSpPr>
          <p:sp>
            <p:nvSpPr>
              <p:cNvPr id="488" name=""/>
              <p:cNvSpPr/>
              <p:nvPr/>
            </p:nvSpPr>
            <p:spPr>
              <a:xfrm>
                <a:off x="5334120" y="525780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81280" y="563868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38080" y="6248520"/>
                <a:ext cx="914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 txBox="1"/>
          <p:nvPr/>
        </p:nvSpPr>
        <p:spPr>
          <a:xfrm>
            <a:off x="2438280" y="22860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文章结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189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华文行楷"/>
              </a:rPr>
              <a:t>独立思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12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文是按照什么顺序写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1700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课文的写作顺序是（游览顺序）：发现小石潭──潭中景物──小潭源流──潭中气氛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49092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抓住了小石潭的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414972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小石潭的特点：幽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859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作者对小石潭的整体感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537372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作者对小石潭的整体感受：幽深冷寂，孤凄悲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15228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发现小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40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闻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62320" y="2286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隔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38480" y="228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76920" y="228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685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动词准确</a:t>
            </a: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248520" y="2286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1752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40000" y="141300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411280" y="126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29000" y="1295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清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205740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游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6708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295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43600" y="1676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特写镜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358128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小潭源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40000" y="3357720"/>
            <a:ext cx="264960" cy="1290600"/>
          </a:xfrm>
          <a:custGeom>
            <a:avLst/>
            <a:gdLst>
              <a:gd name="textAreaLeft" fmla="*/ 169200 w 264960"/>
              <a:gd name="textAreaRight" fmla="*/ 265320 w 264960"/>
              <a:gd name="textAreaTop" fmla="*/ 33480 h 1290600"/>
              <a:gd name="textAreaBottom" fmla="*/ 1257120 h 12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43200" y="3200400"/>
            <a:ext cx="13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溪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27280" y="4221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岸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51280" y="414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3200400"/>
            <a:ext cx="75960" cy="1371600"/>
          </a:xfrm>
          <a:custGeom>
            <a:avLst/>
            <a:gdLst>
              <a:gd name="textAreaLeft" fmla="*/ 0 w 75960"/>
              <a:gd name="textAreaRight" fmla="*/ 27360 w 759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6386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形象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51055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51055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486400" y="510552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6019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24680" y="304920"/>
            <a:ext cx="304920" cy="5790960"/>
          </a:xfrm>
          <a:custGeom>
            <a:avLst/>
            <a:gdLst>
              <a:gd name="textAreaLeft" fmla="*/ 0 w 304920"/>
              <a:gd name="textAreaRight" fmla="*/ 110160 w 30492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883280" y="533520"/>
            <a:ext cx="103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抒发在寂寞处境中的悲凉凄苦的情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7621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286000"/>
            <a:ext cx="228600" cy="1219320"/>
          </a:xfrm>
          <a:prstGeom prst="down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11480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55627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24000" y="26028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问题研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9280" y="155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．第四段写作者在潭上所见到的景物和自己的感受，描写了小石潭中怎样的气氛？反映了作者怎样的心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11280" y="3068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描写了小石潭幽深冷寂的景色和气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789360"/>
            <a:ext cx="9396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极力描写小石潭的幽静，甚至浸透到人的心灵里去，把景物跟心情结合起来，写出一种境界。在这种境界里，透露出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者贬居生活孤凄悲凉的心境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这是作者被排挤、受迫害的身世遭遇的反映，我们可以从中体会到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封建社会中不得志文人的痛苦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．文章前面写“心乐之”，后面又写“悄怆幽邃”，一乐一忧似难相容，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4000" y="22050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乐是忧的另一种表现形式。柳宗元参与改革，失败被贬，心中愤懑难平，因而凄苦是他感情的主调，而寄情山水正是为了摆脱这种抑郁的心情；但这种欢乐毕竟是暂时的，一经凄清环境的触发，忧伤悲凉的心情又会流露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潭中气氛：幽深冷寂（孤凄悲凉心境的反映）──寓情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8520" y="2514600"/>
            <a:ext cx="667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石潭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762120"/>
            <a:ext cx="152280" cy="5257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88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小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838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移步换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2090880"/>
            <a:ext cx="19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景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00360" y="206064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187020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潭水：清澈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71640" y="2421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游鱼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90720" y="3429000"/>
            <a:ext cx="21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潭源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3048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溪身：曲折蜿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809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岸势：参差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19920" y="3429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2920" y="501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潭中气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15000" y="50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寓情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042920" y="580536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录同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0" y="457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隔、闻、伐、取、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59280" y="450864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氛：幽深冷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267080" y="533520"/>
            <a:ext cx="287280" cy="936360"/>
            <a:chOff x="4267080" y="533520"/>
            <a:chExt cx="287280" cy="936360"/>
          </a:xfrm>
        </p:grpSpPr>
        <p:sp>
          <p:nvSpPr>
            <p:cNvPr id="561" name=""/>
            <p:cNvSpPr/>
            <p:nvPr/>
          </p:nvSpPr>
          <p:spPr>
            <a:xfrm>
              <a:off x="4267080" y="533520"/>
              <a:ext cx="216000" cy="936360"/>
            </a:xfrm>
            <a:custGeom>
              <a:avLst/>
              <a:gdLst>
                <a:gd name="textAreaLeft" fmla="*/ 63360 w 216000"/>
                <a:gd name="textAreaRight" fmla="*/ 216360 w 216000"/>
                <a:gd name="textAreaTop" fmla="*/ 38880 h 936360"/>
                <a:gd name="textAreaBottom" fmla="*/ 89748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67080" y="1036440"/>
              <a:ext cx="2872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800600" y="30492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——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00600" y="762120"/>
            <a:ext cx="16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——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121932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——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609480"/>
            <a:ext cx="73080" cy="936720"/>
          </a:xfrm>
          <a:custGeom>
            <a:avLst/>
            <a:gdLst>
              <a:gd name="textAreaLeft" fmla="*/ 0 w 73080"/>
              <a:gd name="textAreaRight" fmla="*/ 26280 w 730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43280" y="486900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53006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受：凄苦孤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181480" y="1828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迷你简启体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1532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438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西南而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77240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坐潭上、记之而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144792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8200" y="38862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288560" y="1981080"/>
            <a:ext cx="1155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迷你简启体"/>
              </a:rPr>
              <a:t>移  步  换  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24000" y="5013360"/>
            <a:ext cx="88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文中描写游鱼动态的句子是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行楷"/>
              </a:rPr>
              <a:t>课堂反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0920" y="1258920"/>
            <a:ext cx="74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按原文填空。（如能默写，就更棒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2338560"/>
            <a:ext cx="89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高度概括小石潭的氛围，同时抒发作者政治受挫遭贬后忧伤心情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386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中描写游鱼静态的句子是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0464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7200" spc="-1" strike="noStrike">
                <a:solidFill>
                  <a:srgbClr val="99cc00"/>
                </a:solidFill>
                <a:latin typeface="华文行楷"/>
                <a:ea typeface="华文行楷"/>
              </a:rPr>
              <a:t>目标与要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989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．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了解文章大意并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3577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２．体会文章的写景抒情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653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３．理解作者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762120"/>
            <a:ext cx="7696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可      大约：潭中鱼可百许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可以，能够：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从      由，自：从小丘西行百二十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跟随：隶而从者，崔氏二小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清       清澈：下见小潭，水尤清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冷清：以其境过清，不可久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差       长短不一，形容词：参差披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交错，动词：其岸势犬牙互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以       因为：以其境过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表示“以”前面的成分常是后面动词的状语，可以不译：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卷石底以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）乐       以……为乐：心乐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zh-CN" sz="2000" spc="-1" strike="noStrike">
                <a:solidFill>
                  <a:srgbClr val="ffff99"/>
                </a:solidFill>
                <a:latin typeface="Times New Roman"/>
              </a:rPr>
              <a:t>逗乐，嬉戏：似与游乐者相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37160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4" dur="indefinite" restart="never" nodeType="tmRoot">
          <p:childTnLst>
            <p:seq>
              <p:cTn id="2285" dur="indefinite" nodeType="mainSeq">
                <p:childTnLst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8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3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8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3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8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3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3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8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3" dur="50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8" dur="500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3" dur="500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8" dur="500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小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百二十步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小潭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下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皆若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无所依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空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光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澈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方位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向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斗，像北斗星那样；蛇，像蛇那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岸势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犬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互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名词作状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犬牙一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（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形容词作动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感到快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（形容词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使动用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凄，使……凄凉；寒，使……寒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129528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记之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1295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离开；今，前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，年轻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，戏曲艺术中的一种角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304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彩云"/>
              </a:rPr>
              <a:t>古今异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5" dur="indefinite" restart="never" nodeType="tmRoot">
          <p:childTnLst>
            <p:seq>
              <p:cTn id="2366" dur="indefinite" nodeType="mainSeq">
                <p:childTnLst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79280" y="1773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石潭记》是《永州八记》中的一篇。</a:t>
            </a:r>
            <a:r>
              <a:rPr b="1" lang="zh-CN" sz="4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这篇散文生动地描写出了小石潭环境景物的幽美和静穆，抒发了作者贬官失意后的孤凄之情。</a:t>
            </a: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语言简练、生动，景物刻画细腻、逼真，全篇充满了诗情画意，表现了作者杰出的写作技巧。因之，成为被历代所传诵的散文名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0920" y="189000"/>
            <a:ext cx="36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41176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1800" spc="1" strike="noStrike">
                <a:ln w="255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41176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>
                      <a:alpha val="41176"/>
                    </a:srgbClr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883600" y="2401920"/>
            <a:ext cx="227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再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柳宗元 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代文学家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唐宋八大家之一。字子厚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，祖籍河东（今山西永济）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世称柳河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因官终柳州刺史，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又称柳柳州。与韩愈共同倡导唐代古文运动 ，并称“韩柳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他参加过永贞革新，失败后被贬为永州司马，从此柳宗元在荒远偏僻的永州苦呆了整整十年，后又被改贬到更为荒凉的柳州，四年后，病魔无情地夺去了他年仅四十七岁的生命。文稿由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刘禹锡编为《柳河东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0464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柳宗元是一个“遍悟文体”的文学家 ，众体兼长，作品丰富，以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散文成就最大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有《柳河东集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山水游记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是柳宗元散文创作中最富艺术独创性的一部分，有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《永州八记》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等留存，其中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最负盛名的是《小石潭记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404640"/>
            <a:ext cx="46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0560" y="5400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柳宗元被贬为永州司马后，时艰不可济，唐祚难振兴，谤毁兼至，贫病交加，老母病故，居处遭火，他满怀忧惧之情，多藉山水以排遣。所幸永州的大自然待他不薄，奇形异态的潭水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小丘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石渠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山涧纷至沓来，美不胜收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永州八记》就写于此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山水游记在中国文学史上具有独特的地位。 为人称道的《永州八记》是他被贬谪到永州以后写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《始得西山宴游记》《钴潭记》《钴潭西小丘记》《至小丘西小石潭记》《袁家渴记》《石渠记》《石涧记》《小石城山记》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这些作品，画廊式地展现了湘桂之交一幅幅山水胜景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继承了郦道元《水经注》的传统而有所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《水经注》是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地理书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对景物多客观描写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少主观感情的流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柳宗元的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山水游记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则把自己的身世遭遇、思想感情融合于自然风景的描绘中，投入作者本人的身影，借被遗弃于荒远地区的美好风物，</a:t>
            </a: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寄寓自己的不幸遭遇，倾注怨愤抑郁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52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Times New Roman"/>
                <a:ea typeface="隶书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09680"/>
            <a:ext cx="83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523880"/>
            <a:ext cx="21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6360" y="14842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13413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92428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3280" y="2997360"/>
            <a:ext cx="165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2924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4508640"/>
            <a:ext cx="16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4508640"/>
            <a:ext cx="186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4508640"/>
            <a:ext cx="128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24720" y="4365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557360"/>
            <a:ext cx="88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记：古代的一种文体，以叙事为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242100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记游，可抒情，可议论，可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33360"/>
            <a:ext cx="65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你了解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71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桃花源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71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岳阳楼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6000" y="4653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满井游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4581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醉翁亭记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03:52:49Z</dcterms:created>
  <dc:creator>cqf</dc:creator>
  <dc:description/>
  <dc:language>en-US</dc:language>
  <cp:lastModifiedBy>微软用户</cp:lastModifiedBy>
  <dcterms:modified xsi:type="dcterms:W3CDTF">2013-11-07T03:12:54Z</dcterms:modified>
  <cp:revision>90</cp:revision>
  <dc:subject/>
  <dc:title>幻灯片 1</dc:title>
</cp:coreProperties>
</file>