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png" ContentType="image/png"/>
  <Override PartName="/ppt/media/image2.gif" ContentType="image/gif"/>
  <Override PartName="/ppt/media/image7.jpeg" ContentType="image/jpeg"/>
  <Override PartName="/ppt/media/image1.jpeg" ContentType="image/jpeg"/>
  <Override PartName="/ppt/media/image4.gif" ContentType="image/gif"/>
  <Override PartName="/ppt/media/image10.gif" ContentType="image/gif"/>
  <Override PartName="/ppt/media/image13.png" ContentType="image/png"/>
  <Override PartName="/ppt/media/image5.jpeg" ContentType="image/jpeg"/>
  <Override PartName="/ppt/media/image6.gif" ContentType="image/gif"/>
  <Override PartName="/ppt/media/image8.gif" ContentType="image/gi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C857-1F17-4475-BA32-B1FD79D561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779-26BB-4E17-8DBA-EE83A87C60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BAD-CFE5-4C4E-89AA-015535FD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2FA-07FC-45EF-8B27-63652CDF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1FC-F3FE-4250-9772-4F0A0A85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A63-40E0-4FF5-B8D3-ACBBAC56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530-EEA0-46FE-8156-0DEA46AD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0C9-2ADC-4399-AEA1-5F5BC3A3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B40-3F4A-4103-A638-826936CA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831-159A-49D3-8BF5-4AE8E6F0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17D3-C7B5-452C-BBE0-3FE57B3D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11F3-74C7-4751-9225-380E4D89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8CA9-B9D4-401F-99AA-1091E11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A2F-DB03-48CC-AA0D-3AF9DF95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66EB-9767-4EDA-A16F-66DF28F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335-2934-4355-A803-301998C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227D-9398-4796-A93C-00B0EE4E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6A1-F6D6-4453-B7C6-B8F9C232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C7D-218F-4FF1-9682-A5D889AF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3649-3B15-4B25-B01E-2E0442F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0947-019F-408B-B09F-9A6636FE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957E3-A3D8-4910-AB8F-15D633A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4D27-44DD-4194-B6BD-6465E531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FE64-8F65-4097-AA79-FA434B3E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0C0-F879-4232-9F7C-1F093B8B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FEC2-EADE-45F8-BCCE-EACF512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F731-C734-437B-9643-BD584267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AF16-DD83-4D7F-9412-50DFC2D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DA03-8ECC-4627-B2E4-E819014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BF52-F01B-473D-8234-AC8EC8EE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2F34-5259-4421-BD9D-3969739A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B66C-5C30-4DAA-AC1B-7F27E735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7AE0-E6D1-4FA0-B372-5A7B8113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E981-3EB4-4BAE-B29A-41D9BC24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9C9B-8B57-4668-B56F-B4128603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64A-CF2F-409F-BD12-F7B96F2F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914B-7B31-4257-AB63-64BBB980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2232-F17E-45DD-ADF2-1AF4E1F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E36F-005F-4219-9EE9-D739E12B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38C4-0CCA-4F6D-B36B-13FF74F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27C68-E923-4F45-AFCF-FF6B212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BA5A-AC2F-4D46-901D-E08DA15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DB1C-850D-468A-BCC4-2E21590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0BF1-B5A5-4790-B252-2271CEDF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4DD1-BFC9-405E-95C7-FFAC5C74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3745-689B-4355-917E-7A217994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DC3-5C78-4F13-B03E-015F273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20C4-F610-4286-A9D9-0DC723DE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9A7C-1A33-4A96-AEA8-5C8D9553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79AC-9306-4EB9-9347-D44CE2C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AB12-6C0E-4B42-B840-92D4C33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7E956-6B43-41B9-8A5E-BB5B649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801F-B028-46F7-B540-5122595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8BDB-700C-42F1-9F42-8E848E4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30F53-FC27-4C75-B6A0-DC93541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F967-4F66-442F-9621-7883B098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4543-944F-47F0-9074-C890C787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AE3-65CB-412B-8ED0-FDC3B03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75D9-C727-499C-AAC7-49AB12A9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9CF0-363E-4B05-AEA1-36B3C60D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07C5-B452-40BC-963B-FA168621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3DA7-61C2-4D91-8F78-4401EA85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2C45C-04EE-4212-B7D2-CD0FE70F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E8B5-3159-455F-A8D6-D36A742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CBA5-F8FB-4D86-8AA5-3B706CF2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EA39-4F82-4912-85EF-D424CC7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DCD5-9C23-445A-8087-B8413D81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9C66C-0B49-40FF-B508-CC380C0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4B9-A269-420C-AA15-BD849A4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800C-B35B-4F5A-9C99-62C3825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4F42C-006F-4175-B56B-FA32DAB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E7AC-325D-4799-BB7B-A5D3458C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923E-6935-4E70-A119-2E74E945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C392-C4DE-4183-81ED-EEC9929B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9B43E-8439-4CCD-9B0E-FC060AB0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A62A-2813-4935-A9B1-EEB2853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8F434-0A03-4210-8F6B-454C9564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21AD-503A-46A0-8A0A-8931F2E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1A54-6605-4E26-8AC4-3253F98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440-8E7B-473C-95BD-4A9455E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49BA2-C3E2-4C15-A280-3D12EDA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EA02-021E-44A9-89D6-1100E744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FE3B-1458-4BAC-B998-94EF7CEB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49F4-A65A-4952-8436-84CC10E5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4593-F916-4935-88FE-FDC70855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8EAEE-24FB-4368-A865-A2553BCA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7A955-8495-475E-AEE9-1154FBDB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2498-F96A-442D-B335-72FDE2A5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7C9A3-2DD0-4C1E-9A6B-3131F395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55B64-32D1-4F29-97AF-BAAAEC7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3F4-E8A7-4DF6-A4D9-58FE407C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72D7A-8DF3-4146-BA45-4FD6C16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8DAEE-975C-4C9B-B7CE-ECE4BBE2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52F9-AA61-49EA-B571-42F84F58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D5E1-D3E3-4395-AC6A-0C613E62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35B0-C139-4D1E-A455-478F5AA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881D-8BE5-48F8-A238-46C1D6D0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2DF64-7AA7-4016-A8B0-26436F9B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FBB-8F21-4BD9-9CE3-957EBBD5A9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公用模板\小学\小学地图.jp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:\动画\gif动画\animation全集\people\students\student_proud_of_prob_a_hc.gif"/>
          <p:cNvPicPr/>
          <p:nvPr/>
        </p:nvPicPr>
        <p:blipFill>
          <a:blip r:embed="rId3"/>
          <a:stretch/>
        </p:blipFill>
        <p:spPr>
          <a:xfrm>
            <a:off x="2000160" y="1285920"/>
            <a:ext cx="4992840" cy="4992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4C69-8410-4991-82D3-AB8C3A84B6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:\公用模板\小学\小学.jpg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:\动画\gif动画\animation全集\people\students\male_honor_student_th_a_hc.gif"/>
          <p:cNvPicPr/>
          <p:nvPr/>
        </p:nvPicPr>
        <p:blipFill>
          <a:blip r:embed="rId3"/>
          <a:stretch/>
        </p:blipFill>
        <p:spPr>
          <a:xfrm>
            <a:off x="6215040" y="3602160"/>
            <a:ext cx="2357640" cy="2732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0DA-C0E0-48BD-8DB2-637F1E93FD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E:\公用模板\小学\小学3.jpg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:\动画\gif动画\animation全集\people\students\girl_taking_large_test_hc.gif"/>
          <p:cNvPicPr/>
          <p:nvPr/>
        </p:nvPicPr>
        <p:blipFill>
          <a:blip r:embed="rId3"/>
          <a:stretch/>
        </p:blipFill>
        <p:spPr>
          <a:xfrm>
            <a:off x="3500280" y="1357200"/>
            <a:ext cx="2038680" cy="1892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2D5D-96CF-4511-9FE5-2EF7295C77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E:\公用模板\小学\小学4.jpg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6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:\动画\gif动画\animation全集\people\students\girl_reading_in_chair_hc.gif"/>
          <p:cNvPicPr/>
          <p:nvPr/>
        </p:nvPicPr>
        <p:blipFill>
          <a:blip r:embed="rId3"/>
          <a:stretch/>
        </p:blipFill>
        <p:spPr>
          <a:xfrm>
            <a:off x="3500280" y="1214280"/>
            <a:ext cx="1818000" cy="18766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B691-B5B4-437D-9921-BE695CB572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E:\公用模板\小学\小学5.jpg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L:\动画\gif动画\animation全集\people\students\girl_reading_school_b_a_hc.gif"/>
          <p:cNvPicPr/>
          <p:nvPr/>
        </p:nvPicPr>
        <p:blipFill>
          <a:blip r:embed="rId3"/>
          <a:stretch/>
        </p:blipFill>
        <p:spPr>
          <a:xfrm>
            <a:off x="3500280" y="1285920"/>
            <a:ext cx="1764000" cy="1536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E7C-5661-4411-9813-F8C43E8CC4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:\公用模板\小学\小学6.jpg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6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L:\动画\gif动画\animation全集\people\students\girl_homework_hc.gif"/>
          <p:cNvPicPr/>
          <p:nvPr/>
        </p:nvPicPr>
        <p:blipFill>
          <a:blip r:embed="rId3"/>
          <a:stretch/>
        </p:blipFill>
        <p:spPr>
          <a:xfrm>
            <a:off x="3500280" y="1285920"/>
            <a:ext cx="1783080" cy="1542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682-8D77-44FD-B925-87DCB65CF9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E:\公用模板\小学\小学7.tif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3287-0D64-47FA-AB25-C35ED28E26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pidbbs.cn/" TargetMode="External"/><Relationship Id="rId3" Type="http://schemas.openxmlformats.org/officeDocument/2006/relationships/hyperlink" Target="http://www.rapidppt.com/" TargetMode="External"/><Relationship Id="rId4" Type="http://schemas.openxmlformats.org/officeDocument/2006/relationships/hyperlink" Target="http://www.rapidbbs.cn/viewthread.php?tid=1062" TargetMode="External"/><Relationship Id="rId5" Type="http://schemas.openxmlformats.org/officeDocument/2006/relationships/hyperlink" Target="http://www.rapidbbs.cn/viewthread.php?tid=1062" TargetMode="External"/><Relationship Id="rId6" Type="http://schemas.openxmlformats.org/officeDocument/2006/relationships/hyperlink" Target="http://www.rapidbbs.cn/viewthread.php?tid=1062" TargetMode="External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applena\桌面\LOGO白.png"/>
          <p:cNvPicPr/>
          <p:nvPr/>
        </p:nvPicPr>
        <p:blipFill>
          <a:blip r:embed="rId1"/>
          <a:stretch/>
        </p:blipFill>
        <p:spPr>
          <a:xfrm>
            <a:off x="69840" y="6311880"/>
            <a:ext cx="1389240" cy="6462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788640" y="65167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www.rapid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Documents and Settings\applena\桌面\LOGO白.png"/>
          <p:cNvPicPr/>
          <p:nvPr/>
        </p:nvPicPr>
        <p:blipFill>
          <a:blip r:embed="rId1"/>
          <a:stretch/>
        </p:blipFill>
        <p:spPr>
          <a:xfrm>
            <a:off x="69840" y="6311880"/>
            <a:ext cx="13892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E:\2010\模板\模板后记\未标题-2副本.jpg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7"/>
          <p:cNvSpPr/>
          <p:nvPr/>
        </p:nvSpPr>
        <p:spPr>
          <a:xfrm>
            <a:off x="314280" y="1235160"/>
            <a:ext cx="851544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使用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素材由锐普原创，免费分享，版权归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并受法律保护。欢迎转载，但不得修改版权信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请注明出处：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rapidbbs.c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城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rapidppt.co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否则将承担法律责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达到理想效果，本素材中可能采用了一些特殊字体，如方正字库。如您在打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件时被提醒安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字体，您可以到锐普论坛（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rapidbbs.cn/viewthread.php?tid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=106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或相关网站下载，并解压到电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:\WINDOWS\Font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下并重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实现最方便修改，锐普推荐您使用最新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如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2007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的专业化要求越来越高，锐普推荐学习一些专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程如《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义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5:58:52Z</dcterms:created>
  <dc:creator>锐普</dc:creator>
  <dc:description/>
  <dc:language>en-US</dc:language>
  <cp:lastModifiedBy>chinakui</cp:lastModifiedBy>
  <dcterms:modified xsi:type="dcterms:W3CDTF">2010-05-23T09:52:59Z</dcterms:modified>
  <cp:revision>15</cp:revision>
  <dc:subject/>
  <dc:title>小学</dc:title>
</cp:coreProperties>
</file>