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6.gif" ContentType="image/gif"/>
  <Override PartName="/ppt/media/image20.jpeg" ContentType="image/jpeg"/>
  <Override PartName="/ppt/media/image22.gif" ContentType="image/gif"/>
  <Override PartName="/ppt/media/image27.jpeg" ContentType="image/jpeg"/>
  <Override PartName="/ppt/media/image28.jpeg" ContentType="image/jpeg"/>
  <Override PartName="/ppt/media/image7.jpeg" ContentType="image/jpeg"/>
  <Override PartName="/ppt/media/image14.jpeg" ContentType="image/jpeg"/>
  <Override PartName="/ppt/media/image30.gif" ContentType="image/gif"/>
  <Override PartName="/ppt/media/image8.png" ContentType="image/png"/>
  <Override PartName="/ppt/media/image19.jpeg" ContentType="image/jpeg"/>
  <Override PartName="/ppt/media/image9.jpeg" ContentType="image/jpeg"/>
  <Override PartName="/ppt/media/image11.png" ContentType="image/png"/>
  <Override PartName="/ppt/media/image31.gif" ContentType="image/gif"/>
  <Override PartName="/ppt/media/image32.jpeg" ContentType="image/jpeg"/>
  <Override PartName="/ppt/media/image5.jpeg" ContentType="image/jpeg"/>
  <Override PartName="/ppt/media/image33.gif" ContentType="image/gif"/>
  <Override PartName="/ppt/media/image34.gif" ContentType="image/gif"/>
  <Override PartName="/ppt/media/image10.jpeg" ContentType="image/jpeg"/>
  <Override PartName="/ppt/media/image6.jpeg" ContentType="image/jpeg"/>
  <Override PartName="/ppt/media/image18.png" ContentType="image/png"/>
  <Override PartName="/ppt/media/image25.gif" ContentType="image/gif"/>
  <Override PartName="/ppt/media/image13.jpeg" ContentType="image/jpeg"/>
  <Override PartName="/ppt/media/image12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6B10-50A1-49E8-8151-D419643D4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2686-DABE-4D25-BC59-9F597455E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C2F4-D6C6-44C3-855C-4C8E34F56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E519-5575-4C22-93C6-C604DFC94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5A1FC-5229-4650-9950-521BDAB5D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202D8-1B7A-4050-B22A-4AFA95030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79E10-F6A3-43C7-9084-3BBD2E41A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BC174-F8C3-4353-A1E6-F76A1BBF2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401E0-18C3-4D17-A2C4-52C7D53B3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E8429-B5D7-42B6-9C61-42A1F4FA9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1982D-2D7D-41BB-9514-42926BF0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7A58-A372-4075-ACED-24B0D3F5E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B657D-D28E-448F-959F-675269AD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1FB6E-09DB-4F03-8690-56D4338C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CD79A-D3EC-4D12-9535-090898B4E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DF8F4-8E01-4EEC-B095-8CC587A10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9A08D-9192-4452-B675-7462BBA50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44BF-ACB9-45F0-9E53-10D9F4D90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786E-5F47-4CFB-9C98-B9048F25C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041D-84FE-456F-8906-1BC39F6C3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8F55-77EB-4522-9A53-D3C4CA103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8242-14B4-4476-9E52-6CCC72A9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4116-F230-4CDA-B2DD-50370D01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1459-ABDC-471F-9787-65CDBDCC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C14E5-E9D9-4255-9AE9-31813DB8B7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8585F-4484-4A59-9E98-08CFAFC5EE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gif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gif"/><Relationship Id="rId3" Type="http://schemas.openxmlformats.org/officeDocument/2006/relationships/image" Target="../media/image34.gi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116000" y="3284640"/>
            <a:ext cx="6480360" cy="249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gradFill rotWithShape="0">
                  <a:gsLst>
                    <a:gs pos="0">
                      <a:srgbClr val="ff9999"/>
                    </a:gs>
                    <a:gs pos="50000">
                      <a:srgbClr val="cc0066"/>
                    </a:gs>
                    <a:gs pos="100000">
                      <a:srgbClr val="ff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Welcome !</a:t>
            </a:r>
            <a:endParaRPr b="1" lang="en-US" sz="7200" spc="1" strike="noStrike">
              <a:ln w="0">
                <a:noFill/>
              </a:ln>
              <a:gradFill rotWithShape="0">
                <a:gsLst>
                  <a:gs pos="0">
                    <a:srgbClr val="ff9999"/>
                  </a:gs>
                  <a:gs pos="50000">
                    <a:srgbClr val="cc0066"/>
                  </a:gs>
                  <a:gs pos="100000">
                    <a:srgbClr val="ff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132000" y="2133720"/>
            <a:ext cx="1276560" cy="1333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900000" y="836640"/>
            <a:ext cx="172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Comic Sans MS"/>
              </a:rPr>
              <a:t>brid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 rot="180000">
            <a:off x="3924000" y="1988640"/>
            <a:ext cx="792000" cy="1457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flipH="1" flipV="1">
            <a:off x="1547640" y="1412640"/>
            <a:ext cx="1727280" cy="216036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840000">
            <a:off x="3352680" y="4546080"/>
            <a:ext cx="2973600" cy="2381400"/>
          </a:xfrm>
          <a:prstGeom prst="irregularSeal2">
            <a:avLst/>
          </a:prstGeom>
          <a:solidFill>
            <a:srgbClr val="66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omic Sans MS"/>
              </a:rPr>
              <a:t>lak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780000" y="855720"/>
            <a:ext cx="86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1197000"/>
            <a:ext cx="1008000" cy="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451640" y="5589720"/>
            <a:ext cx="86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00"/>
                </a:solidFill>
                <a:latin typeface="Arial"/>
              </a:rPr>
              <a:t>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372360" y="5950080"/>
            <a:ext cx="863640" cy="360360"/>
          </a:xfrm>
          <a:prstGeom prst="rightArrow">
            <a:avLst>
              <a:gd name="adj1" fmla="val 50000"/>
              <a:gd name="adj2" fmla="val 59915"/>
            </a:avLst>
          </a:prstGeom>
          <a:solidFill>
            <a:srgbClr val="bbe0e3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8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564000" y="4437000"/>
            <a:ext cx="223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Comic Sans MS"/>
              </a:rPr>
              <a:t>tre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140360" y="5734080"/>
            <a:ext cx="71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258920" y="981000"/>
            <a:ext cx="244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cc"/>
                </a:solidFill>
                <a:latin typeface="Comic Sans MS"/>
              </a:rPr>
              <a:t>gras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148360" y="1052640"/>
            <a:ext cx="180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cc"/>
                </a:solidFill>
                <a:latin typeface="Arial"/>
              </a:rPr>
              <a:t>小 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627280" y="2205000"/>
            <a:ext cx="4103640" cy="1871640"/>
          </a:xfrm>
          <a:custGeom>
            <a:avLst/>
            <a:gdLst>
              <a:gd name="textAreaLeft" fmla="*/ 1026000 w 4103640"/>
              <a:gd name="textAreaRight" fmla="*/ 3078000 w 4103640"/>
              <a:gd name="textAreaTop" fmla="*/ 468000 h 1871640"/>
              <a:gd name="textAreaBottom" fmla="*/ 1816200 h 187164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95640" y="2924280"/>
            <a:ext cx="15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ff"/>
                </a:solidFill>
                <a:latin typeface="Comic Sans MS"/>
              </a:rPr>
              <a:t>be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708360" y="4724280"/>
            <a:ext cx="27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3366"/>
                </a:solidFill>
                <a:latin typeface="Arial"/>
              </a:rPr>
              <a:t>蜜   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5796000" y="1197000"/>
            <a:ext cx="1728720" cy="108108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47640" y="1052640"/>
            <a:ext cx="1729080" cy="122400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187280" y="549360"/>
            <a:ext cx="331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Comic Sans MS"/>
              </a:rPr>
              <a:t>butterfl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2940000">
            <a:off x="2747520" y="2012760"/>
            <a:ext cx="2844720" cy="924120"/>
          </a:xfrm>
          <a:prstGeom prst="leftArrow">
            <a:avLst>
              <a:gd name="adj1" fmla="val 50000"/>
              <a:gd name="adj2" fmla="val 76958"/>
            </a:avLst>
          </a:prstGeom>
          <a:solidFill>
            <a:srgbClr val="cc00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 rot="3708600">
            <a:off x="703080" y="1968120"/>
            <a:ext cx="2352600" cy="21052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5796000" y="907920"/>
            <a:ext cx="20876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66"/>
                </a:solidFill>
                <a:latin typeface="宋体"/>
              </a:rPr>
              <a:t>蝴蝶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66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385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7" dur="385" fill="hold"/>
                                        <p:tgtEl>
                                          <p:spTgt spid="1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9" dur="385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1" dur="385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692360" y="333360"/>
            <a:ext cx="65516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ill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  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ridg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ake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re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ras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  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e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蜜  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utterfl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蝴  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900000" y="476280"/>
            <a:ext cx="7993080" cy="3024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69696"/>
                  </a:outerShdw>
                </a:effectLst>
                <a:latin typeface="宋体"/>
              </a:rPr>
              <a:t>Let's play a  game!</a:t>
            </a:r>
            <a:endParaRPr b="0" lang="en-US" sz="4400" spc="-1" strike="noStrike">
              <a:ln w="9360">
                <a:solidFill>
                  <a:srgbClr val="ff99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69696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419640" y="1484280"/>
            <a:ext cx="3098520" cy="2736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3780000" y="4869000"/>
            <a:ext cx="216036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-10800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95280" y="1773360"/>
            <a:ext cx="396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99"/>
                </a:solidFill>
                <a:latin typeface="Comic Sans MS"/>
              </a:rPr>
              <a:t>Let’s say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203640" y="333360"/>
            <a:ext cx="5761080" cy="4103640"/>
          </a:xfrm>
          <a:prstGeom prst="wedgeRoundRectCallout">
            <a:avLst>
              <a:gd name="adj1" fmla="val -49615"/>
              <a:gd name="adj2" fmla="val 7038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92360" y="1052640"/>
            <a:ext cx="54723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朋友们，让我们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动脑筋想一想，这节课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们都学习了哪些内容呢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69800" y="333360"/>
            <a:ext cx="4330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cc"/>
                </a:solidFill>
                <a:latin typeface="Arial"/>
              </a:rPr>
              <a:t>Homework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5640" y="183528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运用课上所学单词，充分发挥你的想象力，画一幅你喜欢的公园的图片并把其中的景物用英文标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11120" y="177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 rot="1103400">
            <a:off x="6678360" y="4376520"/>
            <a:ext cx="1790640" cy="19015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7451640" y="0"/>
            <a:ext cx="169236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39640" y="907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0170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mediacall" presetID="3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stop">
                                      <p:cBhvr>
                                        <p:cTn id="10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250920" y="4508640"/>
            <a:ext cx="6191280" cy="140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ln w="0">
                  <a:solidFill>
                    <a:srgbClr val="00ccff"/>
                  </a:solidFill>
                </a:ln>
                <a:solidFill>
                  <a:srgbClr val="0000ff"/>
                </a:solidFill>
                <a:effectLst>
                  <a:outerShdw dist="125751" dir="18900000" blurRad="0" rotWithShape="0">
                    <a:srgbClr val="000099">
                      <a:alpha val="50000"/>
                    </a:srgbClr>
                  </a:outerShdw>
                </a:effectLst>
                <a:latin typeface="宋体"/>
              </a:rPr>
              <a:t>Thank you!</a:t>
            </a:r>
            <a:endParaRPr b="1" lang="en-US" sz="9600" spc="-1" strike="noStrike">
              <a:ln w="0">
                <a:solidFill>
                  <a:srgbClr val="00ccff"/>
                </a:solidFill>
              </a:ln>
              <a:solidFill>
                <a:srgbClr val="0000ff"/>
              </a:solidFill>
              <a:effectLst>
                <a:outerShdw dist="125751" dir="18900000" blurRad="0" rotWithShape="0">
                  <a:srgbClr val="000099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11280" y="2349360"/>
            <a:ext cx="2160360" cy="14414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187280" y="189000"/>
            <a:ext cx="1656000" cy="15112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723600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6" dur="111360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8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763640" y="1413000"/>
            <a:ext cx="4176720" cy="4609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932360" y="907920"/>
            <a:ext cx="23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66"/>
                </a:solidFill>
                <a:latin typeface="Comic Sans MS"/>
              </a:rPr>
              <a:t>pan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50920" y="404640"/>
            <a:ext cx="201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z o 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0" y="1773360"/>
            <a:ext cx="230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66"/>
                </a:solidFill>
                <a:latin typeface="Comic Sans MS"/>
              </a:rPr>
              <a:t>zeb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835280" y="2708280"/>
            <a:ext cx="4321080" cy="31338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050920" y="404640"/>
            <a:ext cx="201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z o 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547640" y="3068640"/>
            <a:ext cx="3440160" cy="2592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932360" y="1197000"/>
            <a:ext cx="2592360" cy="27367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484360" y="1557360"/>
            <a:ext cx="24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cc"/>
                </a:solidFill>
                <a:latin typeface="Comic Sans MS"/>
              </a:rPr>
              <a:t>tig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050920" y="404640"/>
            <a:ext cx="201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z o 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6720" y="4149720"/>
            <a:ext cx="3382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cc"/>
                </a:solidFill>
                <a:latin typeface="Comic Sans MS"/>
              </a:rPr>
              <a:t>elepha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洪恩GOGO学英语 06-320x240 00_10_18-00_11_35 00_00_00-00_01_00" descr=""/>
          <p:cNvPicPr/>
          <p:nvPr/>
        </p:nvPicPr>
        <p:blipFill>
          <a:blip r:embed="rId2"/>
          <a:stretch/>
        </p:blipFill>
        <p:spPr>
          <a:xfrm>
            <a:off x="-31680" y="0"/>
            <a:ext cx="9139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8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932360" y="620640"/>
            <a:ext cx="38178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50000">
                      <a:srgbClr val="ff66ff"/>
                    </a:gs>
                    <a:gs pos="100000">
                      <a:srgbClr val="ff33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5000"/>
                    </a:srgbClr>
                  </a:outerShdw>
                </a:effectLst>
                <a:latin typeface="Times New Roman"/>
              </a:rPr>
              <a:t>Parks</a:t>
            </a:r>
            <a:endParaRPr b="1" lang="en-US" sz="4000" spc="-1" strike="noStrike">
              <a:ln w="0">
                <a:noFill/>
              </a:ln>
              <a:gradFill rotWithShape="0">
                <a:gsLst>
                  <a:gs pos="0">
                    <a:srgbClr val="ff3399"/>
                  </a:gs>
                  <a:gs pos="50000">
                    <a:srgbClr val="ff66ff"/>
                  </a:gs>
                  <a:gs pos="100000">
                    <a:srgbClr val="ff33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9640" y="907920"/>
            <a:ext cx="3746520" cy="936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33ccff"/>
                  </a:solidFill>
                  <a:miter/>
                </a:ln>
                <a:gradFill rotWithShape="0">
                  <a:gsLst>
                    <a:gs pos="0">
                      <a:srgbClr val="33ccff">
                        <a:alpha val="68235"/>
                      </a:srgbClr>
                    </a:gs>
                    <a:gs pos="100000">
                      <a:srgbClr val="ff3399">
                        <a:alpha val="65098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Comic Sans MS"/>
              </a:rPr>
              <a:t>Unit 3</a:t>
            </a:r>
            <a:endParaRPr b="1" lang="en-US" sz="1800" spc="-1" strike="noStrike">
              <a:ln w="9360">
                <a:solidFill>
                  <a:srgbClr val="33ccff"/>
                </a:solidFill>
                <a:miter/>
              </a:ln>
              <a:gradFill rotWithShape="0">
                <a:gsLst>
                  <a:gs pos="0">
                    <a:srgbClr val="33ccff">
                      <a:alpha val="68235"/>
                    </a:srgbClr>
                  </a:gs>
                  <a:gs pos="100000">
                    <a:srgbClr val="ff3399">
                      <a:alpha val="65098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Comic Sans MS"/>
              <a:ea typeface="Comic Sans MS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32000" y="2349360"/>
            <a:ext cx="38862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38160" dir="0" blurRad="0" rotWithShape="0">
                    <a:srgbClr val="9999ff"/>
                  </a:outerShdw>
                </a:effectLst>
                <a:latin typeface="Comic Sans MS"/>
              </a:rPr>
              <a:t>Lesson  13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38160" dir="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9" name=""/>
          <p:cNvSpPr/>
          <p:nvPr/>
        </p:nvSpPr>
        <p:spPr>
          <a:xfrm>
            <a:off x="34920" y="6122880"/>
            <a:ext cx="56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Comic Sans MS"/>
              </a:rPr>
              <a:t>第五小学  黄铄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16436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11360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79280" y="3573360"/>
            <a:ext cx="374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Let's go to th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9280" y="5251320"/>
            <a:ext cx="172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66"/>
                </a:solidFill>
                <a:latin typeface="Comic Sans MS"/>
              </a:rPr>
              <a:t>par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63640" y="5300640"/>
            <a:ext cx="2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020000" y="1773360"/>
            <a:ext cx="115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ff"/>
                </a:solidFill>
                <a:latin typeface="Comic Sans MS"/>
              </a:rPr>
              <a:t>hil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6085080" cy="51562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877080" y="3213000"/>
            <a:ext cx="187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omic Sans MS"/>
              </a:rPr>
              <a:t>小 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1:54:03Z</dcterms:created>
  <dc:creator>670F04C7A44940F</dc:creator>
  <dc:description/>
  <cp:keywords/>
  <dc:language>en-US</dc:language>
  <cp:lastModifiedBy>微软用户</cp:lastModifiedBy>
  <cp:lastPrinted>1899-12-30T00:00:00Z</cp:lastPrinted>
  <dcterms:modified xsi:type="dcterms:W3CDTF">2010-10-24T14:36:28Z</dcterms:modified>
  <cp:revision>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