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111-27FE-4B8D-9DDE-F34F47C7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41C-A4CC-4DDB-B27B-0BE29B51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DF6-2221-4632-87B9-E7D93F8C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D08-2534-4CB7-B95E-D40E2E2D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DB9-805E-46F1-ACB2-519CDB05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CE4-198A-4DF3-8727-34D1E33F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486-C702-4FF8-9EA0-19E4F402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D81-D75D-4BA9-9852-12F07BF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B3B-2902-427A-9EC7-2AE40423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DF9-FE05-4EB1-A2DA-54BA5E2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240-97C3-40A5-A2AC-2A725EC1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D50-E07F-4351-8FD3-56C6B183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DAB-F38F-4EDD-AA72-9CE0AC555E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753320" cy="5372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8200" y="2286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琥珀"/>
              </a:rPr>
              <a:t>庄周梦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657600" y="457200"/>
            <a:ext cx="5715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庄子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约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369~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86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时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要代表，与老子并称为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庄子的主要思想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在政治上，他主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无为而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为了现实的束缚和苦闷，他还倡导精神超脱，主张彻底屏除世俗名利地位之心，入于精神自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“逍遥”之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059s"/>
          <p:cNvPicPr/>
          <p:nvPr/>
        </p:nvPicPr>
        <p:blipFill>
          <a:blip r:embed="rId1"/>
          <a:stretch/>
        </p:blipFill>
        <p:spPr>
          <a:xfrm>
            <a:off x="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5715000" y="91440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781680" y="914400"/>
            <a:ext cx="10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战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114800" y="1371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宋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324480" y="1371600"/>
            <a:ext cx="17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道家学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267080" y="243828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老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7086600" y="2743200"/>
            <a:ext cx="19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清静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1114240"/>
          <p:cNvPicPr/>
          <p:nvPr/>
        </p:nvPicPr>
        <p:blipFill>
          <a:blip r:embed="rId1"/>
          <a:stretch/>
        </p:blipFill>
        <p:spPr>
          <a:xfrm>
            <a:off x="4724280" y="380880"/>
            <a:ext cx="4199040" cy="6096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52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庄子》全书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现存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33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庄子及其后学集体创作的结集，后世尊称为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《南华经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称为《南华真经》）分为内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外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，杂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子的文章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想象奇特，构思奇妙，善用寓言和比喻，文笔汪洋恣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19051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《逍遥游》</a:t>
            </a:r>
            <a:r>
              <a:rPr b="1" lang="zh-CN" sz="4400" spc="-1" strike="noStrike">
                <a:solidFill>
                  <a:srgbClr val="ff7c8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是《庄子》中的代表作品，列于《内篇》之首，是庄子哲学思想的集中体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7720" y="0"/>
            <a:ext cx="685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  <a:ea typeface="隶书"/>
              </a:rPr>
              <a:t>开宗不了逍遥字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  <a:ea typeface="隶书"/>
              </a:rPr>
              <a:t>               </a:t>
            </a:r>
            <a:r>
              <a:rPr b="0" lang="zh-CN" sz="5400" spc="-1" strike="noStrike">
                <a:solidFill>
                  <a:srgbClr val="333399"/>
                </a:solidFill>
                <a:latin typeface="Arial"/>
                <a:ea typeface="隶书"/>
              </a:rPr>
              <a:t>枉读南华三十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04920" y="4572000"/>
            <a:ext cx="83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汉仪家书简"/>
                <a:ea typeface="汉仪家书简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逍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意思是优游自得的样子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逍遥游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是没有任何束缚地、自由自在地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18120" y="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第一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95280"/>
            <a:ext cx="8839080" cy="60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北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冥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有鱼，其名为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鲲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。鲲之大，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其几千里也；化而为鸟，其名为鹏。鹏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背，不知其几千里也；怒而飞，其翼若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楷体_GB2312"/>
              </a:rPr>
              <a:t>天之云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鸟也，海运则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于南冥，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南冥者，天池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858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mí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6858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k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4343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x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101"/>
          <p:cNvPicPr/>
          <p:nvPr/>
        </p:nvPicPr>
        <p:blipFill>
          <a:blip r:embed="rId1"/>
          <a:stretch/>
        </p:blipFill>
        <p:spPr>
          <a:xfrm>
            <a:off x="3984480" y="2987640"/>
            <a:ext cx="5159520" cy="3870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20240" y="457200"/>
            <a:ext cx="31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鱼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其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鲲。鲲之大，不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几千里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73880" y="1360440"/>
            <a:ext cx="259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通“溟”，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代词，它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名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其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代词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038480"/>
            <a:ext cx="32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：北海有一条鱼，它的名字叫鲲。鲲体形巨大，不知道它有几千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86200" y="291456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化而为鸟，其名为鹏。鹏之背，不知其几千里也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而飞，其翼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若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天之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86160" y="1447920"/>
            <a:ext cx="4145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怒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今异义；古义为奋力，今义指生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好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垂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“陲”，边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505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鲲变化成鸟，它的名称叫鹏。鹏的背，不知道它有几千里。奋起而飞，它的翅膀就像垂在天边的云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78560" y="304920"/>
            <a:ext cx="50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鸟也，海运则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于南冥，—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南冥者，天池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0103"/>
          <p:cNvPicPr/>
          <p:nvPr/>
        </p:nvPicPr>
        <p:blipFill>
          <a:blip r:embed="rId1"/>
          <a:stretch/>
        </p:blipFill>
        <p:spPr>
          <a:xfrm>
            <a:off x="4419720" y="331488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17680" y="1263600"/>
            <a:ext cx="527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代词，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迁徙、迁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南冥者，天池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判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657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这只鸟，海动风起时就将迁往南海。南海，是天然形成的大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16765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北冥有鱼，其名为鲲。鲲之大，不知其几千里也；化而为鸟，其名为鹏。鹏之背，不知其几千里也；怒而飞，其翼若垂天之云。是鸟也，海运则将徙于南冥，——南冥者，天池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16765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0574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本段描述了鲲鹏的形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形体硕大无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变化神奇莫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奋飞时气势壮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63780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二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52388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齐谐》者，志怪者也。《谐》之言曰“鹏之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于南冥也，水击三千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扶摇而上者九万里，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以六月息者也。”野马也，尘埃也，生物之以息相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。天之苍苍，其正色也？其远而无所至极邪？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视下也，亦若是则已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92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t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401"/>
          <p:cNvPicPr/>
          <p:nvPr/>
        </p:nvPicPr>
        <p:blipFill>
          <a:blip r:embed="rId1"/>
          <a:stretch/>
        </p:blipFill>
        <p:spPr>
          <a:xfrm>
            <a:off x="4648320" y="3487680"/>
            <a:ext cx="4495680" cy="3370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228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《齐谐》者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怪者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谐》之言曰“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徙于南冥也，水击三千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扶摇而上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万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去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六月息者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4560" y="1720800"/>
            <a:ext cx="2652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志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记载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《齐谐》者，志怪者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之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在主谓之间，不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抟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旋转着上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九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虚数，表示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去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离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凭借，介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533520"/>
            <a:ext cx="8382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去庄周梦见自己变成蝴蝶，欣然自得地飞舞着的一只蝴蝶，感到多么愉快和惬意啊！不知道自己原本是庄周。突然间醒起来，惊惶不定之间方知原来是我庄周。不知是庄周梦中变成蝴蝶呢，还是蝴蝶梦见自己变成庄周呢？庄周与蝴蝶那必定是有区别的。这就可叫做物、我的交合与变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蝴蝶，闪"/>
          <p:cNvPicPr/>
          <p:nvPr/>
        </p:nvPicPr>
        <p:blipFill>
          <a:blip r:embed="rId1"/>
          <a:stretch/>
        </p:blipFill>
        <p:spPr>
          <a:xfrm>
            <a:off x="7162920" y="4191120"/>
            <a:ext cx="148752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0401"/>
          <p:cNvPicPr/>
          <p:nvPr/>
        </p:nvPicPr>
        <p:blipFill>
          <a:blip r:embed="rId1"/>
          <a:stretch/>
        </p:blipFill>
        <p:spPr>
          <a:xfrm>
            <a:off x="4648320" y="3487680"/>
            <a:ext cx="4495680" cy="33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228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《齐谐》者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怪者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谐》之言曰“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徙于南冥也，水击三千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扶摇而上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万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去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六月息者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828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译】《齐谐》，是记载怪异事情的书。 《齐谐》中说：“当鹏迁往南海时，翅膀拍击水面激起几千里的波浪。它乘着旋转风飞上数万里的高空，凭借六月的大风离开了北海。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533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野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，尘埃也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生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息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2600" y="1371600"/>
            <a:ext cx="540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野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古今异义，古义：如野马般奔腾的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今义：不是人工饲养的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空中漂浮的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用，介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吹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419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野马般奔腾的雾气，空中飞扬的尘埃，都是生物用气息吹拂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天之苍苍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正色邪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远而无所至极邪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视下也，亦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则已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0104"/>
          <p:cNvPicPr/>
          <p:nvPr/>
        </p:nvPicPr>
        <p:blipFill>
          <a:blip r:embed="rId1"/>
          <a:stretch/>
        </p:blipFill>
        <p:spPr>
          <a:xfrm>
            <a:off x="4038480" y="30290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37920" y="1371600"/>
            <a:ext cx="434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其……其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……还是……，表示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其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词，它，指大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352680"/>
            <a:ext cx="350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天色深蓝，是它真正的颜色，还是因为天高地远而看不到它的尽头呢？鹏从高空往下看，也不过像这样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15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齐谐》者，志怪者也。《谐》之言曰“鹏之徙于南冥也，水击三千里，抟扶摇而上者九万里，去以六月息者也。”野马也，尘埃也，生物之以息相吹也。天之苍苍，其正色也？其远而无所至极邪？其视下也，亦若是则已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1676520"/>
            <a:ext cx="0" cy="449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2133720"/>
            <a:ext cx="487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本段写鹏鸟南飞有所待，并以“野马”“尘埃”做比较，表明世间万物都有所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855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三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36680"/>
            <a:ext cx="8305920" cy="64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且夫水之积也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负大舟也无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覆杯水于坳堂之上，则芥为之舟，置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胶，水浅而舟大也。风之积也不厚，则其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翼也无力。故九万里，则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下矣，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后乃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风；背负青天，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莫之夭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而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乃今将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066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j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724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yāo 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54240" y="1066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其：代词，它，指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16560" y="220968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焉：兼语词，相当于“于之”、“于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9560" y="449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64760" y="4648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715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夭阏：阻挡；之：指代大鹏；为宾语前置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5920" y="6338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名词活用作动词，向南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8120" y="1066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深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夫水之积也不厚，则其负大舟也无力。覆杯水于坳堂之上，则芥为之舟，置杯焉则胶，水浅而舟大也。风之积也不厚，则其负大翼也无力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万里，则风斯在下矣，而后乃今培风；背负青天，而莫之夭阏，而后乃今将图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124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译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说如果水积聚的不深厚，那么它负载大船就没有力量。在堂上低洼的地方倒一杯水，那么小草就可以成为船，放一个杯子在此就胶着搁浅了，是水太浅而船太大的缘故。风积聚的不雄厚，那么它承载巨大的翅膀就没有力量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鹏飞上几万里的高空，风就在它的下面，然后才能凭风；背负着青天，没有什么能阻止它，然后才打算往南方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990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且夫水之积也不厚，则其负大舟也无力。覆杯水于坳堂之上，则芥为之舟，置杯焉则胶，水浅而舟大也。风之积也不厚，则其负大翼也无力。故九万里，则风斯在下矣，而后乃今培风；背负青天，而莫之夭阏，而后乃今将图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1143000"/>
            <a:ext cx="0" cy="502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1828800"/>
            <a:ext cx="4876920" cy="34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本段连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大舟漂浮有待深水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草芥杯水就能负载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两个比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说明鹏鸟要高飞数万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必须凭借大风才能南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41680" y="4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四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295280"/>
            <a:ext cx="8153280" cy="48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学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之曰：“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而飞，枪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榆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止，时则不至，而控于地而已矣，奚以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万里而南为？” 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苍者，三餐而反，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犹果然；适百里者，宿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粮；适千里者，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聚粮。之二虫又何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16880" y="762120"/>
            <a:ext cx="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ti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á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84920" y="83808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xu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94680" y="7621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yú fā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72880" y="286380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m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83720" y="400680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chō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36640" y="76212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ji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0403"/>
          <p:cNvPicPr/>
          <p:nvPr/>
        </p:nvPicPr>
        <p:blipFill>
          <a:blip r:embed="rId1"/>
          <a:stretch/>
        </p:blipFill>
        <p:spPr>
          <a:xfrm>
            <a:off x="3962520" y="1916280"/>
            <a:ext cx="5181480" cy="4941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8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蜩与学鸠笑之曰：“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起而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榆枋而止，时则不至，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于地而已矣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奚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九万里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40560" y="1981080"/>
            <a:ext cx="2652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迅速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冲、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掉、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动词，到……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名词作动词，向南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奚以……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哪里用得着……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0403"/>
          <p:cNvPicPr/>
          <p:nvPr/>
        </p:nvPicPr>
        <p:blipFill>
          <a:blip r:embed="rId1"/>
          <a:stretch/>
        </p:blipFill>
        <p:spPr>
          <a:xfrm>
            <a:off x="3962520" y="1916280"/>
            <a:ext cx="5181480" cy="4941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380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蜩与学鸠笑之曰：“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起而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榆枋而止，时则不至，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于地而已矣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奚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九万里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2096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蝉和小斑鸠嘲笑大鹏说：“我从地面急速起飞，碰到榆树檀木就停下来，有时如果飞不上去，就落在地上罢了。哪里用得着飞到数万里的高空再往南飞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56364200587190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685800"/>
            <a:ext cx="849636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>
            <a:off x="1219320" y="502920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逍遥游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庄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0404"/>
          <p:cNvPicPr/>
          <p:nvPr/>
        </p:nvPicPr>
        <p:blipFill>
          <a:blip r:embed="rId1"/>
          <a:stretch/>
        </p:blipFill>
        <p:spPr>
          <a:xfrm>
            <a:off x="4267080" y="3208320"/>
            <a:ext cx="4876920" cy="3649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莽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者，三餐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腹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果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百里者，宿舂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里者，三月聚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二虫又何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209680"/>
            <a:ext cx="496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到……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莽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近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通“返”，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果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古今异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义指食饱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今义是副词，表示事实与所说或所料相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代词，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之二虫又何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：宾语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404"/>
          <p:cNvPicPr/>
          <p:nvPr/>
        </p:nvPicPr>
        <p:blipFill>
          <a:blip r:embed="rId1"/>
          <a:stretch/>
        </p:blipFill>
        <p:spPr>
          <a:xfrm>
            <a:off x="4267080" y="3208320"/>
            <a:ext cx="4876920" cy="3649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4920" y="15228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莽苍者，三餐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腹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果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百里者，宿舂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千里者，三月聚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二虫又何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59092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到郊外去，准备三餐就可以往返，回来时肚子还是饱饱的；到百里之外去，要用一整夜时间捣米准备干粮；到千里之外去，要用几个月来储积粮食。这两只小动物又知道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" y="1371600"/>
            <a:ext cx="365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蜩与学鸠笑之曰：“我决起而飞，枪榆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止，时则不至，而控于地而已矣，奚以之九万里而南为？” 适莽苍者，三餐而反，腹犹果然；适百里者，宿舂粮；适千里者，三月聚粮。之二虫又何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143000"/>
            <a:ext cx="0" cy="502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447920"/>
            <a:ext cx="449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适莽苍者”“适百里者”“适千里者”的备粮各有不同是因为行程远近不一样。鹏鸟、蜩蝉、学鸠体形不一样，因而凭借的风力不一样。可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万物各适其性，而有所待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。蜩与学鸠认识不到自己与鹏鸟的差异和自身的“所待”，反而嘲笑鹏鸟南飞，实在可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29400" y="533160"/>
            <a:ext cx="99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万物皆有所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905120" y="1981080"/>
            <a:ext cx="4876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大舟漂浮，有待深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芥草为舟，杯水负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1600200" y="20574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04920" y="4572000"/>
            <a:ext cx="2133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行路备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所待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1523880" y="5335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29800" y="30492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鹏鸟南飞，必待巨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29800" y="114300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野马尘埃，以息相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2800" y="838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80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01200" y="342900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蜩与学鸠，嘲笑鹏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0076600">
            <a:off x="2361960" y="4647960"/>
            <a:ext cx="2057400" cy="11430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5892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比喻反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57200"/>
            <a:ext cx="1143000" cy="4038480"/>
          </a:xfrm>
          <a:custGeom>
            <a:avLst/>
            <a:gdLst>
              <a:gd name="textAreaLeft" fmla="*/ 0 w 1143000"/>
              <a:gd name="textAreaRight" fmla="*/ 412560 w 11430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4800600" y="4800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【归纳】阐明世间万事万物，大至鹏鸟，小至尘埃，它们的活动都“有所待”，都是不自由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838080"/>
            <a:ext cx="815328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及大知，小年不及大年。奚以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然也？朝菌不知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晦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蟪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春秋，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年也。楚之南有冥灵者，以五百岁为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百岁为秋；上古有大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，以八千岁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，八千岁为秋。而彭祖乃今以久特闻，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匹之，不亦悲乎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65720" y="-31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五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62120" y="44604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z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2080" y="1371600"/>
            <a:ext cx="16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uì sh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7040" y="137160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uì g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88400" y="334152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ch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808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知，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及大年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奚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知其然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1120" y="1436760"/>
            <a:ext cx="5101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知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“智”，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及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赶得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寿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奚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疑问代词，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凭，介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奚以知其然也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凭什么知道是这样呢？ 宾语前置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800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小智慧不了解大智慧，寿命短的不了解寿命长的。凭什么知道它是这样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0202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0204"/>
          <p:cNvPicPr/>
          <p:nvPr/>
        </p:nvPicPr>
        <p:blipFill>
          <a:blip r:embed="rId2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257800" y="6094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朝菌不知晦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蟪蛄不知春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小年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40384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朝生暮死的菌类植物不知道一个月的时光，春生夏死、夏生秋死的寒蝉，也不知道一年的时光，这就是短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248520" y="304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楚之南有冥灵者，以五百岁为春，五百岁为秋；上古有大椿者，以八千岁为春，八千岁为秋，此大年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5105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楚国南边有叫冥灵的大龟，它把五百年当作春，把五百年当作秋；上古有叫大椿的古树，它把八千岁当作春，把八千岁当作秋，这就是长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0302"/>
          <p:cNvPicPr/>
          <p:nvPr/>
        </p:nvPicPr>
        <p:blipFill>
          <a:blip r:embed="rId1"/>
          <a:srcRect l="0" t="0" r="13098" b="0"/>
          <a:stretch/>
        </p:blipFill>
        <p:spPr>
          <a:xfrm>
            <a:off x="0" y="0"/>
            <a:ext cx="5562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0201"/>
          <p:cNvPicPr/>
          <p:nvPr/>
        </p:nvPicPr>
        <p:blipFill>
          <a:blip r:embed="rId1"/>
          <a:stretch/>
        </p:blipFill>
        <p:spPr>
          <a:xfrm>
            <a:off x="0" y="0"/>
            <a:ext cx="5867280" cy="4170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095880" y="228600"/>
            <a:ext cx="2819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而彭祖乃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闻，众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，不亦悲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71160" y="2209680"/>
            <a:ext cx="179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因为（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相比、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4724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可是彭祖到如今还是因为长寿而特别出名，一般人与他相比，不是很可悲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280" y="114300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知不及大知，小年不及大年。奚以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其然也？朝菌不知晦朔，蟪蛄不知春秋，此小年也。楚之南有冥灵者，以五百岁为春，五百岁为秋；上古有大椿者，以八千岁为春，八千岁为秋。而彭祖乃今以久特闻，众人匹之，不亦悲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1143000"/>
            <a:ext cx="0" cy="502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1752480"/>
            <a:ext cx="4496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里运用“小知”与“大知”、 “大年”与“小年”的不同，进一步强调说明人在认识上的大小区别。在庄子看来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万物既然都有所待，人为地以小比大，这本身就是可悲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267080" cy="319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5769" t="0" r="3848" b="0"/>
          <a:stretch/>
        </p:blipFill>
        <p:spPr>
          <a:xfrm>
            <a:off x="4191120" y="2971800"/>
            <a:ext cx="4419360" cy="3666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10080" y="1248840"/>
            <a:ext cx="3124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琥珀"/>
              </a:rPr>
              <a:t>涸辙之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8156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六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914400"/>
            <a:ext cx="830592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汤之问棘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是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穷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北有冥海者，天池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鱼焉，其广数千里，未有知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者，其名为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鸟焉，其名为鹏，背若太山，翼若垂天之云，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扶摇羊角而上者九万里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云气，负青天，然后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南冥也。斥鴳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à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笑之曰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彼且奚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腾跃而上，不过数仞而下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翱翔蓬蒿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亦飞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。而彼且奚适也？”此大小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5080" y="126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这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9608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不毛之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36560" y="2971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穿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7840" y="2940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名作动，向南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53400" y="379872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到……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89640" y="38098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它将要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到哪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去呢？宾语前置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86960" y="4724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翱翔（于）蓬蒿之间 省略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84720" y="5638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最高限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2720" y="571500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通“辨”，区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5440" y="1295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990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汤之问棘也是已。穷发之北有冥海者，天池也。有鱼焉，其广数千里，未有知其修者，其名为鲲。有鸟焉，其名为鹏，背若太山，翼若垂天之云，抟扶摇羊角而上者九万里，绝云气，负青天，然后图南，且适南冥也。斥鴳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à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笑之曰：“彼且奚适也？我腾跃而上，不过数仞而下，翱翔蓬蒿之间，此亦飞之至也。而彼且奚适也？”此大小之辩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1143000"/>
            <a:ext cx="0" cy="502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17524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这里引用汤询问棘的一段话，是再次对前文谈到的“小知”与“大知”、“小年”与“大年”的区别的印证。在篇章上，与第一段照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973440" y="21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小之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2340000" y="1341360"/>
            <a:ext cx="152280" cy="2133720"/>
          </a:xfrm>
          <a:custGeom>
            <a:avLst/>
            <a:gdLst>
              <a:gd name="textAreaLeft" fmla="*/ 97200 w 152280"/>
              <a:gd name="textAreaRight" fmla="*/ 15264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3553200" y="11444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菌不知晦朔，蟪蛄不知春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695400" y="18446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冥灵春秋五百岁，大椿春秋八千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842560" y="2521080"/>
            <a:ext cx="1744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彭祖——众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2901240" y="3141720"/>
            <a:ext cx="1744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鹏鸟——斥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289080" y="4398840"/>
            <a:ext cx="860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【归纳】万物存在着“大小之辩”的差异，但终归都是“有所待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94320" y="4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七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1693080"/>
            <a:ext cx="86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夫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效一官，行比一乡，德合一君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一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，其自视也亦若此矣。而宋荣子犹然笑之。且举世誉之而不加劝，举世非之而不加沮，定乎内外之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辩乎荣辱之境，斯已矣。彼其于世，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也。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，犹有未树也。夫列子御风而行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善也，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日而后反。彼于致福者，未数数然也。此虽免乎行，犹有所待者也。若夫乘天地之正，而御六气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辩，以游无穷者，彼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乎待哉！故曰：至人无己，神人无功，圣人无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51760" y="259092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sh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77960" y="3808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z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55280" y="44604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né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70800" y="3456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lí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88040" y="334152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y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01520" y="51703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w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55640" y="914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一段共出现对哪几类人的描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213372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知效一官，行比一乡，德合一君，而征一国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宋荣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列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457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故夫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官，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乡，德合一君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而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国者，其自视也亦若此矣。而宋荣子犹然笑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05520" y="1665360"/>
            <a:ext cx="354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授予，在这里是“胜任”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顺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通“能”，能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取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4038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所以那些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才智足以胜任一官之职，品行顺合一乡民众、道德可以合乎君主的要求、能力足以取信一国之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他们看待自己，也像斥鴳一样。而宋荣子嗤笑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4920" y="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世誉之而不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举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之而不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定乎内外之分，辩乎荣辱之境，斯已矣。彼其于世，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数数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虽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犹有未树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46306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全世界的人都称赞他，他却并不因此而奋勉，全世界的人都非难他，他却并不沮丧，他认清自我与外界的区别，辨明荣誉和耻辱的界限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过如此而已呀。他在世间没有急切追求什么，即使这样，还是没有树立起来的最高境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93200" y="1447920"/>
            <a:ext cx="265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勤勉、奋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非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沮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数数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急切追求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即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这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0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rcRect l="19672" t="0" r="0" b="0"/>
          <a:stretch/>
        </p:blipFill>
        <p:spPr>
          <a:xfrm>
            <a:off x="0" y="0"/>
            <a:ext cx="4648320" cy="43401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876920" y="2286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夫列子御风而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泠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善也，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五日而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彼于致福者，未数数然也。此虽免乎行，犹有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者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55000" y="2406600"/>
            <a:ext cx="201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泠然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轻快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“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“返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待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4800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列子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乘风而行，飘然轻巧十分美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十五日后返回。他对于招财纳福的事没有拼命追求。这虽然不用步行，但还是要凭借风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7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5720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267280" y="304920"/>
            <a:ext cx="484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何为真正的“逍遥游”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若夫乘天地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而御六气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以游无穷者，彼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恶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待哉！故曰：至人无己，神人无功，圣人无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84760" y="2133720"/>
            <a:ext cx="179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应有的本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通“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恶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41911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译】至于顺应天地万物的本性，驾驭六气的变化，遨游于无边无际的境界的人，他们需要还凭借什么呢？所以说：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道德修养最高的人忘掉自己，道德修养极高的人不求建立功业，道德修养极高的人不求任何名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4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551320" cy="2895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411516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曰：‘我，东海之波臣也。君岂有斗升之水而活我哉？’周曰：‘诺，我且南游吴越之王，激西江之水而迎子，可乎？’鲋鱼忿然作色曰：‘吾失我常与，我无所处。吾得斗升之水然活耳。君乃言此，曾不如早索我于枯鱼之肆！’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380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庄周家贫，故往贷粟于监河侯。监河侯曰“诺。我将得邑金，将贷子三百金，可乎？”庄周忿然作色，曰“周昨来，有中道而呼者，周顾视车辙中有鲋鱼焉。周问之曰：‘鲋鱼来，子何为者耶？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28600" y="12193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夫知效一官，行比一乡，德合一君，而征一国者，其自视也亦若此矣。而宋荣子犹然笑之。且举世誉之而不加劝，举世非之而不加沮，定乎内外之分，辩乎荣辱之境，斯已矣。彼其于世，未数数然也。虽然，犹有未树也。夫列子御风而行，泠然善也，旬有五日而后反。彼于致福者，未数数然也。此虽免乎行，犹有所待者也。若夫乘天地之正，而御六气之辩，以游无穷者，彼且恶乎待哉！故曰：至人无己，神人无功，圣人无名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1143000"/>
            <a:ext cx="0" cy="5029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605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内容解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13716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效、比、合、征”的四种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有才智修养，当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被世俗所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28195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宋荣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世人的赞誉与诽谤于度外，但他的修养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犹有未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91120" y="42670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列子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御风而行，逍遥自在，但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犹有所待者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53341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而论及庄子眼中真正的逍遥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Oval 2"/>
          <p:cNvSpPr/>
          <p:nvPr/>
        </p:nvSpPr>
        <p:spPr>
          <a:xfrm>
            <a:off x="6095880" y="4724280"/>
            <a:ext cx="2286000" cy="8384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1143000" y="4724280"/>
            <a:ext cx="2286000" cy="8384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能够效、比、合、征的四种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宋荣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列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477120" y="2286000"/>
            <a:ext cx="1904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  <a:ea typeface="楷体_GB2312"/>
              </a:rPr>
              <a:t>至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  <a:ea typeface="楷体_GB2312"/>
              </a:rPr>
              <a:t>神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  <a:ea typeface="楷体_GB2312"/>
              </a:rPr>
              <a:t>圣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4267080" y="236232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6248520" y="266688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752880" y="4800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真逍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1726200" y="4800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非逍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1"/>
          <p:cNvSpPr/>
          <p:nvPr/>
        </p:nvSpPr>
        <p:spPr>
          <a:xfrm>
            <a:off x="4572000" y="320040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4804920" y="2487240"/>
            <a:ext cx="72900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衬  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2"/>
          <p:cNvSpPr/>
          <p:nvPr/>
        </p:nvSpPr>
        <p:spPr>
          <a:xfrm>
            <a:off x="767520" y="380880"/>
            <a:ext cx="1278000" cy="6426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论证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324240" y="38088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万物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所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133720" y="1371600"/>
            <a:ext cx="45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万物所待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大之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826920" y="2133720"/>
            <a:ext cx="78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世人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所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这些都不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逍遥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3505320" y="29718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怎样才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逍遥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4267080" y="838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358128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601992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4800600" y="3352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826920" y="5157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什么样的人可以入此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304920" y="3733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隶书"/>
              </a:rPr>
              <a:t>提出主张：乘天地之正，而御六气之辩，以游无穷者，彼且恶乎待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388620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3886200" y="5486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1447920" y="58672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隶书"/>
              </a:rPr>
              <a:t>至人无已，神人无功，圣人无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2362320" y="5943600"/>
            <a:ext cx="83808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4419720" y="5943600"/>
            <a:ext cx="83808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477120" y="5943600"/>
            <a:ext cx="83808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685800" y="1295280"/>
            <a:ext cx="749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所谓“无功”就是去掉功名利禄之心，不汲汲追逐外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所谓“无名”，就是忘掉荣辱毁誉得失， 褒贬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所谓“无已”，就是忘掉自我。不受外物的束缚，达到恬淡自适的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这样消除了物我对立，超越一切现实的矛盾，步入超越现实的绝对自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6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1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1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573000" y="658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全文主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2057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的主旨是追求一种“无所待”的精神自由的逍遥境界，即顺应万物的本性，悠然自在，适心任性，达到物我一体的精神上的绝对自由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艺术特色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借用寓言说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借用大量的寓言把“无所待”的思想寄托于生动的形象中，如文中的鲲、鹏、蜩蝉、学鸠、斥鴳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想象丰富，意境开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关于鲲的神奇变化、鹏的遨游太空，丰富的想象让文章汪洋恣肆，充满浪漫主义色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了比喻、夸张、拟人等多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辞手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4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4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270240" cy="4724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4675320" cy="6242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88520" y="5181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琥珀"/>
              </a:rPr>
              <a:t>持竿不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8380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钓于濮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水，楚王使大夫二人往先焉，曰：“愿以境内累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èi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矣！” 庄子持竿不顾，曰：“吾闻楚有神龟，死已三千岁矣，王巾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而藏之庙堂之上。此龟者，宁其死为留骨而贵乎？宁其生而曳尾于涂乎？” </a:t>
            </a:r>
            <a:r>
              <a:rPr b="1" lang="zh-CN" sz="3600" spc="-1" strike="noStrike">
                <a:solidFill>
                  <a:srgbClr val="136ec2"/>
                </a:solidFill>
                <a:latin typeface="楷体_GB2312"/>
                <a:ea typeface="楷体_GB2312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大夫曰：“宁生而曳尾中。” 庄子曰：“往矣！吾将曳尾于涂中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8762" t="2335" r="0" b="63429"/>
          <a:stretch/>
        </p:blipFill>
        <p:spPr>
          <a:xfrm>
            <a:off x="0" y="0"/>
            <a:ext cx="509580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4041" t="1677" r="5053" b="64205"/>
          <a:stretch/>
        </p:blipFill>
        <p:spPr>
          <a:xfrm>
            <a:off x="2286000" y="2819520"/>
            <a:ext cx="685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685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庄子临死前，他的心情很平静。弟子们想厚葬老师，庄子倒觉得难过了：弟子们在这关键时刻并没有勘破生死关。于是他说： “我以天地为棺椁，以日月为（陪葬的）美玉，以星辰为珍珠，天地用万物来为我 送行，我的葬物还不齐备吗？” 弟子们不觉垂泪，说：“我们怕乌鸦和老鹰吃您的遗体。” 庄子笑道：“天上有乌鸦和老鹰来吃，地上也有蝼蚁来吃啊，要是夺了前者的 食物给后者享用，不是太偏颇了吗？”（《庄子 列御寇》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00:33:21Z</dcterms:created>
  <dc:creator>Think</dc:creator>
  <dc:description/>
  <dc:language>en-US</dc:language>
  <cp:lastModifiedBy>微软用户</cp:lastModifiedBy>
  <dcterms:modified xsi:type="dcterms:W3CDTF">2015-08-03T15:54:47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