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AB4-CE48-4554-A94B-7A73ABE4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ECB-33F1-4300-BE7F-CECF2451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236-EBB6-4A21-AD17-B5A01E83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3B0-9842-4DA0-A3B5-CDD46AFB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AD30-2420-4C0B-A551-F6A77788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0B8-BABE-4E96-AF76-D7931BD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D36-7CFA-4C98-B5D1-C7E5B56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F580-F639-4499-A6F8-9BECE99A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FD3D-4A25-447F-9ABD-AB3AF3D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D03-18A6-4492-AC74-023CAE86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767-E7B4-495B-B760-0B6A397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417-CB65-4F17-868C-CBE4D03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1B18-7E5E-4D94-8A3D-9BF3EF27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047-CA81-48FE-A35F-DA14732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3D69-D7B9-434F-B65D-37240D7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0C28-E83B-4A6E-B66D-F35EABD2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A9E1-CDFE-4BC0-8A43-858F9E4C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D3A1-A563-45FF-A950-8B539ACB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012-F5D8-4067-9E18-80BE2112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6B8-7EF0-446B-A00A-7CF8D1D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560-1184-4AC5-B328-0D86285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3AA-7E01-45F7-9F2C-33B7A373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DB8-1AA8-4D9F-9F34-D6B274C6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AE2-1BD4-4B7C-AB36-41D0093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1EE9-6FEF-43A6-96B5-4E7A8FF6556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B482-8690-4484-B4AF-9D144AB0760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33"/>
                </a:solidFill>
                <a:latin typeface="Times New Roman"/>
                <a:ea typeface="黑体"/>
              </a:rPr>
              <a:t>项  目  计  划  书</a:t>
            </a:r>
            <a:endParaRPr b="0" lang="en-US" sz="6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24000" y="1988640"/>
            <a:ext cx="5400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02000"/>
                </a:solidFill>
                <a:latin typeface="Times New Roman"/>
                <a:ea typeface="楷体_GB2312"/>
              </a:rPr>
              <a:t>案 例 模 板</a:t>
            </a:r>
            <a:endParaRPr b="0" lang="en-US" sz="6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6880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责任分配矩阵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  </a:t>
            </a: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0160" y="1600200"/>
            <a:ext cx="37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F-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负责 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J-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监督 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P-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监督  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T-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通知 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C-</a:t>
            </a:r>
            <a:r>
              <a:rPr b="0" lang="zh-CN" sz="2000" spc="-1" strike="noStrike">
                <a:solidFill>
                  <a:srgbClr val="996633"/>
                </a:solidFill>
                <a:latin typeface="Times New Roman"/>
              </a:rPr>
              <a:t>参与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23880" y="2057400"/>
          <a:ext cx="6220080" cy="44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22008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的人力资源计划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76520" y="1828800"/>
          <a:ext cx="6248160" cy="467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624816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费用分解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427040" y="1852560"/>
          <a:ext cx="6896160" cy="406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852560"/>
                    <a:ext cx="689616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的网络计划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97180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11480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304812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572000"/>
            <a:ext cx="60984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342900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2438280"/>
            <a:ext cx="60984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4267080"/>
            <a:ext cx="60948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200400"/>
            <a:ext cx="60984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228600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480060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809880"/>
            <a:ext cx="60948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895480"/>
            <a:ext cx="60948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1981080"/>
            <a:ext cx="60948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579132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4876920"/>
            <a:ext cx="60948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52880" y="3809880"/>
            <a:ext cx="609840" cy="6098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2880" y="2819520"/>
            <a:ext cx="60984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1905120"/>
            <a:ext cx="60984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进度计划表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143000" y="1905120"/>
          <a:ext cx="7620120" cy="415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62012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计划甘特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676520" y="1762200"/>
          <a:ext cx="6324480" cy="480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62200"/>
                    <a:ext cx="632448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人力资源负荷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990720" y="1828800"/>
          <a:ext cx="770256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70256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人力资源负荷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14400" y="1841400"/>
          <a:ext cx="7805880" cy="44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41400"/>
                    <a:ext cx="7805880" cy="44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人力资源负荷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62120" y="2639880"/>
          <a:ext cx="799920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39880"/>
                    <a:ext cx="7999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材料费用负荷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90720" y="1847880"/>
          <a:ext cx="77706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47880"/>
                    <a:ext cx="77706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项目目标描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组织管理结构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里程碑计划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工作分解结构图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5.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项目责任分配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项目计划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项目计划进度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人力资源计划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费用分解表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成本分析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风险分析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。项目状况分析与进展报告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总费用预算负荷图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90720" y="1865160"/>
          <a:ext cx="7770600" cy="40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65160"/>
                    <a:ext cx="777060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费用累积曲线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4560" y="1676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工人费用累积曲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600200" y="2209680"/>
          <a:ext cx="6477120" cy="42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64771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累积费用曲线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52760" y="1905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工程师费用累积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981080" y="2514600"/>
          <a:ext cx="5877000" cy="36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514600"/>
                    <a:ext cx="5877000" cy="36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累积费用曲线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828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管理人员费用累积曲线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52480" y="2438280"/>
          <a:ext cx="5791320" cy="35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438280"/>
                    <a:ext cx="579132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累积费用曲线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82880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材料费用累积曲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209680" y="2590920"/>
          <a:ext cx="5681880" cy="34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90920"/>
                    <a:ext cx="5681880" cy="34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累积费用曲线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24160" y="1905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总费用累积曲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600200" y="2514600"/>
          <a:ext cx="6850080" cy="33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685008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计划控制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1752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假设时间点进度状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336760" cy="179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"/>
          <p:cNvGraphicFramePr/>
          <p:nvPr/>
        </p:nvGraphicFramePr>
        <p:xfrm>
          <a:off x="3429000" y="2133720"/>
          <a:ext cx="541008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133720"/>
                    <a:ext cx="541008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进度控制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60320" y="160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假设时间进度情况表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066680" y="2133720"/>
          <a:ext cx="7239240" cy="413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2392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成本费用分析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1676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挣值分析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143000" y="2209680"/>
          <a:ext cx="7659720" cy="380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65972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成本费用分析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负责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50880" y="1828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挣值法分析与建议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295280" y="2362320"/>
          <a:ext cx="10974600" cy="303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10974600" cy="30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目标描述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负责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。 交付成果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。 工期要求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402000"/>
                </a:solidFill>
                <a:latin typeface="Times New Roman"/>
              </a:rPr>
              <a:t>。 预算投资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风险分析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752480"/>
          <a:ext cx="8535960" cy="41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853596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的进度管理过程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143000" y="2209680"/>
          <a:ext cx="7769160" cy="36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7691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的进度管理过程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7080" y="1652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项目管理报告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676520" y="2286000"/>
          <a:ext cx="6495840" cy="390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649584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组织管理结构图</a:t>
            </a: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-1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：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209680"/>
            <a:ext cx="182880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总经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200400"/>
            <a:ext cx="83844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工会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人力资源部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行政处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供应处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销售处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2578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5720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8862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2578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5720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8862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52578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5720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862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52578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45720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38862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6600" y="52578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720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38862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886200"/>
            <a:ext cx="53316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2895480"/>
            <a:ext cx="5410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29718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58128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581280"/>
            <a:ext cx="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581280"/>
            <a:ext cx="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35053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3581280"/>
            <a:ext cx="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58128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4114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58128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373392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724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4100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114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800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40384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800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54864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114800"/>
            <a:ext cx="3045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724280"/>
            <a:ext cx="3045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5486400"/>
            <a:ext cx="3045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54100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114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15000" y="4800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54864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财务处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4800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2590920"/>
            <a:ext cx="0" cy="304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320" y="2438280"/>
            <a:ext cx="266724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438280"/>
            <a:ext cx="0" cy="10670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5720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6019920"/>
            <a:ext cx="1676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项目办公室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505320"/>
            <a:ext cx="304920" cy="1523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目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5029200"/>
            <a:ext cx="0" cy="11430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61722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172200"/>
            <a:ext cx="11430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105520"/>
            <a:ext cx="7010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8960" y="5791320"/>
            <a:ext cx="7010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219320" y="510516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61722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61722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609588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6324480"/>
            <a:ext cx="838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19720" y="586692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24280" y="586728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400" y="58672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58672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343400" y="5638320"/>
            <a:ext cx="228600" cy="228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1640" y="5638320"/>
            <a:ext cx="228600" cy="228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2895480"/>
            <a:ext cx="9903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3200400"/>
            <a:ext cx="83808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保卫处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01000" y="5181480"/>
            <a:ext cx="533520" cy="38124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45720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3886200"/>
            <a:ext cx="533520" cy="3808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358128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40384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4724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54100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28954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8954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28954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2895480"/>
            <a:ext cx="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510552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39080" y="510552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579132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1600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本项目采用强矩阵式管理模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组织管理结构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209680"/>
            <a:ext cx="2286000" cy="4572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Arial"/>
              </a:rPr>
              <a:t>总经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3352680"/>
            <a:ext cx="106704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项目经理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3352680"/>
            <a:ext cx="137160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项目经理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352680"/>
            <a:ext cx="106668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项目经理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4038480"/>
            <a:ext cx="83844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4800600"/>
            <a:ext cx="83844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5562720"/>
            <a:ext cx="838440" cy="5331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3400" y="5562720"/>
            <a:ext cx="838080" cy="5331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4800600"/>
            <a:ext cx="83808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038480"/>
            <a:ext cx="83808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5562720"/>
            <a:ext cx="1078200" cy="53316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5880" y="4800600"/>
            <a:ext cx="107820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4038480"/>
            <a:ext cx="1078200" cy="5335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2000"/>
                </a:solidFill>
                <a:latin typeface="Arial"/>
              </a:rPr>
              <a:t>职员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895480"/>
            <a:ext cx="4191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66688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26668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289548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8320" y="29718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2895480"/>
            <a:ext cx="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886200"/>
            <a:ext cx="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3886200"/>
            <a:ext cx="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3886200"/>
            <a:ext cx="180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42670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50292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57913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42670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50292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57150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7913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267080"/>
            <a:ext cx="293760" cy="18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51055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5791320"/>
            <a:ext cx="293760" cy="14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200400"/>
            <a:ext cx="175284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91520" y="320040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320040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6248520"/>
            <a:ext cx="175284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2438280"/>
            <a:ext cx="1752840" cy="457200"/>
          </a:xfrm>
          <a:prstGeom prst="rect">
            <a:avLst/>
          </a:prstGeom>
          <a:solidFill>
            <a:srgbClr val="ce9964"/>
          </a:solidFill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项目协调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8954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91160" y="34290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2000" y="17524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本项目采用项目式管理模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管理办公室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66880"/>
            <a:ext cx="3276360" cy="68580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Arial"/>
              </a:rPr>
              <a:t>项目管理办公室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67080" y="4724280"/>
            <a:ext cx="83844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4724280"/>
            <a:ext cx="685800" cy="99072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3352680"/>
            <a:ext cx="0" cy="762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114800"/>
            <a:ext cx="62485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4114800"/>
            <a:ext cx="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0200" y="411480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重大里程碑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90720" y="2971800"/>
          <a:ext cx="8686800" cy="200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971800"/>
                    <a:ext cx="86868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项目的工作关系表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               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责任人</a:t>
            </a:r>
            <a:r>
              <a:rPr b="0" lang="zh-CN" sz="18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72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工作分解结构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219320" y="1981080"/>
          <a:ext cx="713736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713736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9:19:31Z</dcterms:created>
  <dc:creator>xq</dc:creator>
  <dc:description/>
  <dc:language>en-US</dc:language>
  <cp:lastModifiedBy>DELL</cp:lastModifiedBy>
  <cp:lastPrinted>2002-04-30T03:24:18Z</cp:lastPrinted>
  <dcterms:modified xsi:type="dcterms:W3CDTF">2012-09-21T03:37:37Z</dcterms:modified>
  <cp:revision>51</cp:revision>
  <dc:subject/>
  <dc:title>项目管理案例讨论报告书  </dc:title>
</cp:coreProperties>
</file>