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9C0-11F7-409A-9AA1-0D8AAFC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97-EFAE-43CC-8F17-F43F896C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EF8-7D5C-4B5C-A9CD-FDBC8DC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41C-2BE3-4472-AA53-4A9E691F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F46-9F99-47FE-8952-2B997867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8F3-9557-451E-B8FE-115C9AC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849-7DAC-44DD-8728-F1CCA7B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E4B-5173-4B24-AB23-7E4A9D0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A2A-F865-4DD3-A52A-A81246D3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692-0220-4ADB-ABCE-3EF50CD0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238-6903-43F8-9F02-D1C0622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F1E-6566-4125-A9D5-4185041B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F42C-7736-4501-B45A-06A80BD4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蟋蟀1"/>
          <p:cNvPicPr/>
          <p:nvPr/>
        </p:nvPicPr>
        <p:blipFill>
          <a:blip r:embed="rId1"/>
          <a:stretch/>
        </p:blipFill>
        <p:spPr>
          <a:xfrm>
            <a:off x="609480" y="152280"/>
            <a:ext cx="8001000" cy="647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昆虫记2"/>
          <p:cNvPicPr/>
          <p:nvPr/>
        </p:nvPicPr>
        <p:blipFill>
          <a:blip r:embed="rId2"/>
          <a:stretch/>
        </p:blipFill>
        <p:spPr>
          <a:xfrm>
            <a:off x="1981080" y="152280"/>
            <a:ext cx="5105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0"/>
            <a:ext cx="8686800" cy="9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楷体"/>
                <a:ea typeface="楷体"/>
              </a:rPr>
              <a:t>慎重   洞穴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楷体"/>
                <a:ea typeface="楷体"/>
              </a:rPr>
              <a:t>搜索   堤岸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楷体"/>
                <a:ea typeface="楷体"/>
              </a:rPr>
              <a:t>隧道   粗糙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Arial"/>
                <a:ea typeface="楷体_GB2312"/>
              </a:rPr>
              <a:t>选择   隐蔽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-152280"/>
            <a:ext cx="6781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楷体"/>
                <a:ea typeface="楷体"/>
              </a:rPr>
              <a:t>随遇而安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6320" y="1523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随：顺从；遇：遭遇。指能顺应环境，在任何境遇中都能满足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31240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出自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：清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刘献廷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广阳杂记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：“随寓而安，斯真隐矣。”清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文康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儿女英雄传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回：“吾生有涯，浩劫无涯，倒莫如随遇而安。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80880" y="68580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楷体"/>
                <a:ea typeface="楷体"/>
              </a:rPr>
              <a:t>住宅  隐藏倾斜  平坦宽敞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x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327440" y="10378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伟大的工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136440"/>
            <a:ext cx="883908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昆虫栖息地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水中的石头上面或底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植物的枝干和树叶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动物的毛发内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粮仓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垃圾和腐败物中</a:t>
            </a: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… 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315160" y="457200"/>
            <a:ext cx="46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华文琥珀"/>
                <a:ea typeface="华文琥珀"/>
              </a:rPr>
              <a:t>这真是一只（                      ）的蟋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xi1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522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蟋蟀忙着建造时，法布尔趴在地上（           ）地观察；当蟋蟀在洞口休息时，法布尔（    ）；蟋蟀的洞穴越挖越深，当它钻到洞内整理墙壁时，法布尔（     ）；当蟋蟀（   ），法布尔（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矩形 5" descr=""/>
          <p:cNvPicPr/>
          <p:nvPr/>
        </p:nvPicPr>
        <p:blipFill>
          <a:blip r:embed="rId2"/>
          <a:stretch/>
        </p:blipFill>
        <p:spPr>
          <a:xfrm>
            <a:off x="4552920" y="811080"/>
            <a:ext cx="3768840" cy="1230480"/>
          </a:xfrm>
          <a:prstGeom prst="rect">
            <a:avLst/>
          </a:prstGeom>
          <a:ln w="0">
            <a:noFill/>
          </a:ln>
        </p:spPr>
      </p:pic>
      <p:pic>
        <p:nvPicPr>
          <p:cNvPr id="66" name="矩形 6" descr=""/>
          <p:cNvPicPr/>
          <p:nvPr/>
        </p:nvPicPr>
        <p:blipFill>
          <a:blip r:embed="rId3"/>
          <a:stretch/>
        </p:blipFill>
        <p:spPr>
          <a:xfrm>
            <a:off x="4705200" y="3067200"/>
            <a:ext cx="36165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蟋蟀：无脊椎动物，昆虫纲，直翅目，蟋蟀科。一名促织，中国北方俗名蛐蛐儿。种类很多，最普通的为中华蟋蟀，体长约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毫米，以翅摩擦发音。均在地下活动，啮食植物茎叶、种实和根部，是农业害虫。蟋蟀多数中小型，少数大型。黄褐色至黑褐色。头圆，胸宽，丝状触角细长易断。蟋蟀穴居，常栖息于地表、砖石下、土穴中、草丛间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蜜蜂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森林狂想曲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xi1"/>
          <p:cNvPicPr/>
          <p:nvPr/>
        </p:nvPicPr>
        <p:blipFill>
          <a:blip r:embed="rId1"/>
          <a:stretch/>
        </p:blipFill>
        <p:spPr>
          <a:xfrm>
            <a:off x="0" y="2286000"/>
            <a:ext cx="975348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1522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它的出名不光由于它的唱歌，还由于它的住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那微斜的门口，经过仔细耙扫，收拾得很平坦。这就是蟋蟀的平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… 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936480" y="152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唱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050280" y="838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住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528320" y="151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耙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3076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收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7469640" y="21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平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"/>
          <p:cNvGrpSpPr/>
          <p:nvPr/>
        </p:nvGrpSpPr>
        <p:grpSpPr>
          <a:xfrm>
            <a:off x="0" y="0"/>
            <a:ext cx="8686800" cy="6707160"/>
            <a:chOff x="0" y="0"/>
            <a:chExt cx="8686800" cy="6707160"/>
          </a:xfrm>
        </p:grpSpPr>
        <p:sp>
          <p:nvSpPr>
            <p:cNvPr id="78" name="AutoShape 4"/>
            <p:cNvSpPr/>
            <p:nvPr/>
          </p:nvSpPr>
          <p:spPr>
            <a:xfrm>
              <a:off x="0" y="0"/>
              <a:ext cx="26989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3" descr="昆虫记2"/>
            <p:cNvPicPr/>
            <p:nvPr/>
          </p:nvPicPr>
          <p:blipFill>
            <a:blip r:embed="rId1"/>
            <a:stretch/>
          </p:blipFill>
          <p:spPr>
            <a:xfrm>
              <a:off x="380880" y="0"/>
              <a:ext cx="4495680" cy="67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2"/>
            <p:cNvSpPr/>
            <p:nvPr/>
          </p:nvSpPr>
          <p:spPr>
            <a:xfrm>
              <a:off x="5334120" y="685800"/>
              <a:ext cx="3352680" cy="54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昆虫记</a:t>
              </a:r>
              <a:r>
                <a:rPr b="1" lang="en-US" sz="4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既是一部严肃的科学著作，又是一部优秀的文学作品，读起来饶有趣味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7"/>
          <p:cNvGrpSpPr/>
          <p:nvPr/>
        </p:nvGrpSpPr>
        <p:grpSpPr>
          <a:xfrm>
            <a:off x="4800600" y="0"/>
            <a:ext cx="4343400" cy="7315200"/>
            <a:chOff x="4800600" y="0"/>
            <a:chExt cx="4343400" cy="7315200"/>
          </a:xfrm>
        </p:grpSpPr>
        <p:pic>
          <p:nvPicPr>
            <p:cNvPr id="83" name="Picture 5" descr=""/>
            <p:cNvPicPr/>
            <p:nvPr/>
          </p:nvPicPr>
          <p:blipFill>
            <a:blip r:embed="rId2"/>
            <a:stretch/>
          </p:blipFill>
          <p:spPr>
            <a:xfrm>
              <a:off x="5638680" y="0"/>
              <a:ext cx="3505320" cy="73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4800600" y="4038480"/>
              <a:ext cx="771480" cy="264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七星瓢虫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蜻蜓1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蝉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蚂蚁"/>
          <p:cNvPicPr/>
          <p:nvPr/>
        </p:nvPicPr>
        <p:blipFill>
          <a:blip r:embed="rId1"/>
          <a:stretch/>
        </p:blipFill>
        <p:spPr>
          <a:xfrm>
            <a:off x="1447920" y="380880"/>
            <a:ext cx="6476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蜘蛛2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螳螂1"/>
          <p:cNvPicPr/>
          <p:nvPr/>
        </p:nvPicPr>
        <p:blipFill>
          <a:blip r:embed="rId1"/>
          <a:stretch/>
        </p:blipFill>
        <p:spPr>
          <a:xfrm>
            <a:off x="685800" y="152280"/>
            <a:ext cx="80773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蝴蝶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nshuirenjian</cp:lastModifiedBy>
  <dcterms:modified xsi:type="dcterms:W3CDTF">2015-11-14T12:49:4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