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3AD-39F8-4E51-9F0C-2BAD40E5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F6C-DD46-4945-AD3F-E731CBD4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45E-6382-4FE0-8560-661782C5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1B4-60F2-4625-8BE7-C88FB3AF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4D64-17D2-4BF4-B0F0-4902B0F3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87DF-ED1F-462C-8435-54D6F803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7896-D130-44B7-9AE9-357C3173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AE5A-C4BB-4F03-9DFA-2B48CE7E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092B-6B52-4EC3-A21C-D8E79109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A554-C2D8-4DE7-9851-F581B771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D7DD-A6C8-463E-8325-C5FBC48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98B-DB72-47E1-BC7F-870CFAA4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A987-9A79-49BF-BE09-D2BDEA68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F0DF-FFCB-494D-8455-75CFDD8B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6E4A-062B-436B-A68F-7C05342D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3ABB-1A0A-4B6C-A516-B1047E34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D70E-E0AA-40E4-BCF6-551B9BDC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6D3-65CA-42BD-AF54-B3AB7CE8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0A8-BEFC-498B-85DF-3C7806C8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B08-EDA5-42C8-B09B-D06A81CD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867-50AB-4C19-83C9-413B90EA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CB9-ED7D-431D-81BA-3C19CE6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F38-DE40-4B89-9F01-F68E0DB6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39D-7189-4E96-8987-B9CA1EC8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54BD-B054-4AA8-ABFE-FD9379D33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3C04-9584-40DA-8C35-47A3CCCF8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7889040" y="333360"/>
            <a:ext cx="10947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7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蟋蟀的住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468360" y="69228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210348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2" descr="002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609480" y="173664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出名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 慎重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隐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136" name="Oval 5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6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近义词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8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有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95640" y="2492280"/>
            <a:ext cx="24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遮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084720" y="1700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谨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611280" y="3429000"/>
            <a:ext cx="81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挖掘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随遇而安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简单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2411280" y="342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发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556000" y="4221000"/>
            <a:ext cx="24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简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6588000" y="335772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入乡随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页脚占位符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609480" y="173664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慎重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 粗糙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柔弱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148" name="Oval 4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反义词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6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轻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438280" y="243828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柔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084720" y="1700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光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39640" y="3500280"/>
            <a:ext cx="81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干燥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   简朴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2411280" y="342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湿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987640" y="5805360"/>
            <a:ext cx="24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012000" y="350028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奢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页脚占位符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755640" y="620640"/>
            <a:ext cx="304920" cy="5181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116000" y="1413000"/>
            <a:ext cx="175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住宅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04292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何建造住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4572000" y="342900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5"/>
          <p:cNvSpPr/>
          <p:nvPr/>
        </p:nvSpPr>
        <p:spPr>
          <a:xfrm>
            <a:off x="2411280" y="1197000"/>
            <a:ext cx="287640" cy="1157400"/>
          </a:xfrm>
          <a:custGeom>
            <a:avLst/>
            <a:gdLst>
              <a:gd name="textAreaLeft" fmla="*/ 183960 w 287640"/>
              <a:gd name="textAreaRight" fmla="*/ 288000 w 28764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7"/>
          <p:cNvSpPr/>
          <p:nvPr/>
        </p:nvSpPr>
        <p:spPr>
          <a:xfrm>
            <a:off x="2411280" y="3500280"/>
            <a:ext cx="152640" cy="11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9"/>
          <p:cNvSpPr/>
          <p:nvPr/>
        </p:nvSpPr>
        <p:spPr>
          <a:xfrm>
            <a:off x="4716360" y="1125360"/>
            <a:ext cx="152640" cy="121932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0"/>
          <p:cNvSpPr/>
          <p:nvPr/>
        </p:nvSpPr>
        <p:spPr>
          <a:xfrm>
            <a:off x="2988720" y="907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住宅的选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2"/>
          <p:cNvSpPr/>
          <p:nvPr/>
        </p:nvSpPr>
        <p:spPr>
          <a:xfrm>
            <a:off x="5221440" y="386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心修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5"/>
          <p:cNvSpPr/>
          <p:nvPr/>
        </p:nvSpPr>
        <p:spPr>
          <a:xfrm>
            <a:off x="2556000" y="443700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断修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7"/>
          <p:cNvSpPr/>
          <p:nvPr/>
        </p:nvSpPr>
        <p:spPr>
          <a:xfrm>
            <a:off x="5221440" y="134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全舒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2916360" y="3119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工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1"/>
          <p:cNvSpPr/>
          <p:nvPr/>
        </p:nvSpPr>
        <p:spPr>
          <a:xfrm rot="10800000">
            <a:off x="6876720" y="475920"/>
            <a:ext cx="576360" cy="51814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2"/>
          <p:cNvSpPr/>
          <p:nvPr/>
        </p:nvSpPr>
        <p:spPr>
          <a:xfrm>
            <a:off x="3061440" y="2038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内部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5"/>
          <p:cNvSpPr/>
          <p:nvPr/>
        </p:nvSpPr>
        <p:spPr>
          <a:xfrm>
            <a:off x="7889400" y="195228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伟大工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6"/>
          <p:cNvSpPr/>
          <p:nvPr/>
        </p:nvSpPr>
        <p:spPr>
          <a:xfrm>
            <a:off x="3960" y="19360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蟋蟀的住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7"/>
          <p:cNvSpPr/>
          <p:nvPr/>
        </p:nvSpPr>
        <p:spPr>
          <a:xfrm>
            <a:off x="1814760" y="15876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住宅而出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8"/>
          <p:cNvSpPr/>
          <p:nvPr/>
        </p:nvSpPr>
        <p:spPr>
          <a:xfrm>
            <a:off x="3061440" y="1557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部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9"/>
          <p:cNvSpPr/>
          <p:nvPr/>
        </p:nvSpPr>
        <p:spPr>
          <a:xfrm>
            <a:off x="2968920" y="373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怎样挖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页脚占位符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PM_001"/>
          <p:cNvPicPr/>
          <p:nvPr/>
        </p:nvPicPr>
        <p:blipFill>
          <a:blip r:embed="rId1"/>
          <a:stretch/>
        </p:blipFill>
        <p:spPr>
          <a:xfrm>
            <a:off x="0" y="-136440"/>
            <a:ext cx="9524880" cy="7223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447920" y="29401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学习结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cc6600"/>
              </a:solidFill>
              <a:latin typeface="Times New Roman"/>
              <a:ea typeface="华文新魏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879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4" descr="1150338976"/>
          <p:cNvPicPr/>
          <p:nvPr/>
        </p:nvPicPr>
        <p:blipFill>
          <a:blip r:embed="rId1"/>
          <a:stretch/>
        </p:blipFill>
        <p:spPr>
          <a:xfrm>
            <a:off x="611280" y="692280"/>
            <a:ext cx="8353440" cy="5257800"/>
          </a:xfrm>
          <a:prstGeom prst="rect">
            <a:avLst/>
          </a:prstGeom>
          <a:ln w="0">
            <a:noFill/>
          </a:ln>
        </p:spPr>
      </p:pic>
      <p:sp>
        <p:nvSpPr>
          <p:cNvPr id="95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9640" y="1981080"/>
            <a:ext cx="8353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灿  烂  竿  茫  桨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规  律  支  株  缝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耀  梢  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61620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127480" y="98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u=1332837777,584211792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02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4920" y="1413000"/>
            <a:ext cx="8839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缓缓地  茂盛  不可计数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簇簇  颤动  应接不暇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96712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400560" y="47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8" descr="3581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9640" y="1981080"/>
            <a:ext cx="8353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灿  烂  竿  茫  桨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规  律  支  株  缝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耀  梢  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1620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543480" y="105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008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9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认识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539640" y="19810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慎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会写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39640" y="1981080"/>
            <a:ext cx="8353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蔽  弃  毫  遇  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址  穴  掘  搜  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扒  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1620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4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79280" y="1844640"/>
            <a:ext cx="8839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蔽  放弃 挖掘  随遇而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不可惜  选择  住址 洞穴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索  扒土  倾斜  抛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9280" y="1844640"/>
            <a:ext cx="8839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宅  卧室  堤岸  骤雨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朴  钳子  耙扫  宽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3:57Z</dcterms:created>
  <dc:creator>为您服务教育网http://www.wsbedu.com</dc:creator>
  <dc:description/>
  <dc:language>en-US</dc:language>
  <cp:lastModifiedBy>Administrator</cp:lastModifiedBy>
  <dcterms:modified xsi:type="dcterms:W3CDTF">2014-10-15T01:22:44Z</dcterms:modified>
  <cp:revision>39</cp:revision>
  <dc:subject/>
  <dc:title>PowerPoint 演示文稿</dc:title>
</cp:coreProperties>
</file>