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9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20D1-014E-4AE8-A0BB-EF20F0E12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E36A-ABB2-468C-8038-C1342EE2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E4B4-5D6F-4053-B11D-8D7E8344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300E-9F72-43A1-B21D-D7E3D54E5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8BDA-D5A8-405B-9578-B3EC01F84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39DC-7022-4FB5-87AA-ABE0E3B8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065E-6B0F-4FAE-80B0-1BF533BE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DA8F-CE05-4A16-B245-B1932A1B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0760-D097-4956-A625-1A6484CE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E9C7-CEB3-446D-B007-D9491E4E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802B-29EA-4227-B332-A6AEDEBD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93DD-3FF5-4D8D-A8E9-A03BF45D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80C9-5EB6-4146-B875-BFB25587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861A-9C25-4085-98C4-9F1F0046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D2A8-56C8-4A69-9663-6CE77837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A86A-55D2-4595-A638-0B1608F40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530E-8EE7-42A6-BABA-BB50D2956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4216A-D266-45D7-BD38-4F68FE80B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F43FD-F332-4DDD-A35D-04893FEB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51104-9259-4F76-B939-1844EB42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1301D-364F-429F-9595-63175677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421C3-6B43-45EA-8C11-F8FA25A3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3550-9EAF-40FC-871A-719DAE54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DF5DF-10A9-4323-ADC1-629C0023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F44A0-38DD-4919-B309-D960DCBA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5709F-A7AA-4335-8F9B-0288B31E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4E747-57B2-4EBF-AFD0-155EF0B6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E3804-EB71-481A-A84A-41878895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24CD5-FF13-45F7-9FC6-622F80208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E4321-654A-4275-885F-2271F7DC2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6BDA9-C6EB-46A2-AF34-A1AC24F6D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9D857-A750-4AD2-AAF9-677DD8E0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91448-4BA1-4FBB-B8F7-A14C3CFE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C420-F87B-4DBD-BCB7-FF6FEECE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95CF1-7B52-4171-956A-7937F782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BD6D6-7EFE-4565-9489-896C49A0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66245-EC78-4EC8-A98F-A0F2172B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3ED04-B6E4-43BB-BF4F-0D3C64C2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F8364-4D7E-4977-8ABB-22D1C1FC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8195D-BDDD-4EA0-B0A8-7B13E153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1F456-035C-4495-BB1D-3E79EC55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BB4A4-1292-46F1-B498-F1C9FDBC0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FBB67-1BE9-4F63-B01F-33988797E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C412-A4F8-40B5-A254-4E657C03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718B-977D-43F1-950C-880E2402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47D7-91F7-49AA-8B7C-446DEC2F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95CC-EEB0-45F3-BAE0-2B3A577A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A9D4-EC3D-4CAA-967C-A1380873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496A-6069-4D31-9458-B6EC1587F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FAD3-C041-471F-B554-280E41EAD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224F-A89A-4552-96F0-736FFD8F802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1D1E-1C83-4274-82BB-08314FEC43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4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aike.baidu.com/view/24050.htm" TargetMode="External"/><Relationship Id="rId3" Type="http://schemas.openxmlformats.org/officeDocument/2006/relationships/hyperlink" Target="http://baike.baidu.com/view/81346.htm" TargetMode="External"/><Relationship Id="rId4" Type="http://schemas.openxmlformats.org/officeDocument/2006/relationships/hyperlink" Target="http://baike.baidu.com/view/8581.htm" TargetMode="External"/><Relationship Id="rId5" Type="http://schemas.openxmlformats.org/officeDocument/2006/relationships/hyperlink" Target="http://baike.baidu.com/view/24915.htm" TargetMode="External"/><Relationship Id="rId6" Type="http://schemas.openxmlformats.org/officeDocument/2006/relationships/hyperlink" Target="http://baike.baidu.com/view/1158842.htm" TargetMode="Externa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aike.baidu.com/view/1893.htm" TargetMode="External"/><Relationship Id="rId3" Type="http://schemas.openxmlformats.org/officeDocument/2006/relationships/hyperlink" Target="http://baike.baidu.com/view/1893.htm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395280" y="3645000"/>
            <a:ext cx="83739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59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宋体"/>
              </a:rPr>
              <a:t>我知道的雷锋叔叔</a:t>
            </a:r>
            <a:endParaRPr b="0" lang="en-US" sz="8000" spc="-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02" name="Rectangle 3" descr=""/>
          <p:cNvPicPr/>
          <p:nvPr/>
        </p:nvPicPr>
        <p:blipFill>
          <a:blip r:embed="rId2"/>
          <a:stretch/>
        </p:blipFill>
        <p:spPr>
          <a:xfrm>
            <a:off x="4572000" y="260280"/>
            <a:ext cx="4176720" cy="2664000"/>
          </a:xfrm>
          <a:prstGeom prst="rect">
            <a:avLst/>
          </a:prstGeom>
          <a:ln w="0">
            <a:noFill/>
          </a:ln>
        </p:spPr>
      </p:pic>
      <p:pic>
        <p:nvPicPr>
          <p:cNvPr id="203" name="Rectangle 3" descr=""/>
          <p:cNvPicPr/>
          <p:nvPr/>
        </p:nvPicPr>
        <p:blipFill>
          <a:blip r:embed="rId3"/>
          <a:stretch/>
        </p:blipFill>
        <p:spPr>
          <a:xfrm>
            <a:off x="4643280" y="3927600"/>
            <a:ext cx="4104000" cy="21715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324000" y="260280"/>
            <a:ext cx="4176720" cy="40323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95280" y="465300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2200" y="4437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雷锋叔叔抓紧时间学习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03640" y="306864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雷锋叔叔帮战友缝被子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43280" y="616428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雷锋叔叔给小朋友讲故事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79280" y="-7920"/>
            <a:ext cx="8748720" cy="686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11" name="Rectangle 3" descr=""/>
          <p:cNvPicPr/>
          <p:nvPr/>
        </p:nvPicPr>
        <p:blipFill>
          <a:blip r:embed="rId2"/>
          <a:stretch/>
        </p:blipFill>
        <p:spPr>
          <a:xfrm>
            <a:off x="0" y="0"/>
            <a:ext cx="4334040" cy="48243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755640" y="4869000"/>
            <a:ext cx="30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雷锋叔叔给战友送饭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13" name="Rectangle 3" descr="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52293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364000" y="537372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雷锋叔叔刻苦学习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360" y="948960"/>
            <a:ext cx="854064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cc"/>
                </a:solidFill>
                <a:latin typeface="方正少儿简体"/>
                <a:ea typeface="方正少儿简体"/>
              </a:rPr>
              <a:t>    </a:t>
            </a:r>
            <a:r>
              <a:rPr b="1" lang="zh-CN" sz="6600" spc="-1" strike="noStrike">
                <a:solidFill>
                  <a:srgbClr val="0000cc"/>
                </a:solidFill>
                <a:latin typeface="方正少儿简体"/>
                <a:ea typeface="方正少儿简体"/>
              </a:rPr>
              <a:t>我们向雷锋叔叔学习什么呢 ？</a:t>
            </a:r>
            <a:endParaRPr b="0" lang="en-US" sz="6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向雷锋叔叔学习，就是像雷锋叔叔那样，尊老爱幼，助人为乐，团结同学，将读书当成是最快乐的事情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9360" y="917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方正少儿简体"/>
              </a:rPr>
              <a:t>向雷锋叔叔学习，就要做好身边每一件小事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55640" y="2708280"/>
            <a:ext cx="85406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当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同学没有橡皮时，我们主动借给他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当同学学习有困难时，我们主动帮助他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当校园里有垃圾时，我们及时拣起它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当有人迷路时，我们主动告诉他……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3276360" cy="2708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3635280" y="1628640"/>
            <a:ext cx="5508720" cy="3313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539640" y="3429000"/>
            <a:ext cx="2952720" cy="28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78520" cy="3753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4356000" y="3267000"/>
            <a:ext cx="4788000" cy="3591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0" y="3860640"/>
            <a:ext cx="3995640" cy="24926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5689440" y="0"/>
            <a:ext cx="3419640" cy="32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2"/>
          <a:srcRect l="6151" t="6585" r="0" b="0"/>
          <a:stretch/>
        </p:blipFill>
        <p:spPr>
          <a:xfrm>
            <a:off x="0" y="0"/>
            <a:ext cx="4284720" cy="36925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179280" y="3716280"/>
            <a:ext cx="4032360" cy="30258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716360" y="414972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方正少儿简体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方正少儿简体"/>
              </a:rPr>
              <a:t>这样的事情你我都能做好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方正少儿简体"/>
                <a:ea typeface="方正少儿简体"/>
              </a:rPr>
              <a:t>        </a:t>
            </a:r>
            <a:r>
              <a:rPr b="1" lang="zh-CN" sz="4000" spc="-1" strike="noStrike">
                <a:solidFill>
                  <a:srgbClr val="0000cc"/>
                </a:solidFill>
                <a:latin typeface="方正少儿简体"/>
                <a:ea typeface="方正少儿简体"/>
              </a:rPr>
              <a:t>在我们身边，也有许多不怕苦，不怕累，乐于助人，勤奋学习的同学，你觉得哪位同学值得我们大家学习呢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-973080" y="476280"/>
            <a:ext cx="662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身边的雷锋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1"/>
          <p:cNvSpPr/>
          <p:nvPr/>
        </p:nvSpPr>
        <p:spPr>
          <a:xfrm>
            <a:off x="2357280" y="64296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本次队会主要内容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TextBox 2"/>
          <p:cNvSpPr/>
          <p:nvPr/>
        </p:nvSpPr>
        <p:spPr>
          <a:xfrm>
            <a:off x="1000080" y="150012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一、雷锋生平介绍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TextBox 3"/>
          <p:cNvSpPr/>
          <p:nvPr/>
        </p:nvSpPr>
        <p:spPr>
          <a:xfrm>
            <a:off x="1000080" y="207180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二、雷锋纪念日的来历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TextBox 4"/>
          <p:cNvSpPr/>
          <p:nvPr/>
        </p:nvSpPr>
        <p:spPr>
          <a:xfrm>
            <a:off x="1000080" y="3357720"/>
            <a:ext cx="54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四、我们向雷锋叔叔学习什么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TextBox 5"/>
          <p:cNvSpPr/>
          <p:nvPr/>
        </p:nvSpPr>
        <p:spPr>
          <a:xfrm>
            <a:off x="1000080" y="2714760"/>
            <a:ext cx="30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三、雷锋的事迹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1000080" y="4000680"/>
            <a:ext cx="580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五、说说身边的“活雷锋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1986840" y="46432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六、老师寄语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942840" y="5229360"/>
            <a:ext cx="535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七、齐唱《学习雷锋好榜样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方正少儿简体"/>
                <a:ea typeface="方正少儿简体"/>
              </a:rPr>
              <a:t>     </a:t>
            </a:r>
            <a:r>
              <a:rPr b="1" lang="zh-CN" sz="5400" spc="-1" strike="noStrike">
                <a:solidFill>
                  <a:srgbClr val="0000cc"/>
                </a:solidFill>
                <a:latin typeface="方正少儿简体"/>
                <a:ea typeface="方正少儿简体"/>
              </a:rPr>
              <a:t>做一个文明学生，为班级争光，为学校争光，让我们的班成为一个团结互助的温馨大家庭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-973080" y="476280"/>
            <a:ext cx="662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老师寄语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68360" y="115920"/>
            <a:ext cx="46087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学习雷锋好榜样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47720" y="1125360"/>
            <a:ext cx="34639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学习雷锋好榜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忠于革命忠于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爱憎分明不忘本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立场坚定斗志强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立场坚定斗志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学习雷锋好榜样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艰苦朴素永不忘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愿做革命的螺丝钉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集体主义思想放光芒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集体主义思想放光芒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矩形 5"/>
          <p:cNvSpPr/>
          <p:nvPr/>
        </p:nvSpPr>
        <p:spPr>
          <a:xfrm>
            <a:off x="4572000" y="1125360"/>
            <a:ext cx="3386160" cy="48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学习雷锋好榜样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毛主席的教导记心上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全心全意为人民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共产主义品德多高尚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共产主义品德多高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学习雷锋好榜样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毛泽东思想来武装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保卫祖国握紧枪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继续革命当闯将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继续革命当闯将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835280" y="33336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947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973080" y="476280"/>
            <a:ext cx="662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雷锋生平介绍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8920" y="1668240"/>
            <a:ext cx="47530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雷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940.12.18—1962.8.15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伟大的共产主义战士，</a:t>
            </a:r>
            <a:r>
              <a:rPr b="0" lang="zh-CN" sz="28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中国人民解放军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全心全意</a:t>
            </a:r>
            <a:r>
              <a:rPr b="0" lang="zh-CN" sz="28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为人民服务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的楷模；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94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年生于</a:t>
            </a:r>
            <a:r>
              <a:rPr b="0" lang="zh-CN" sz="2800" spc="-1" strike="noStrike" u="sng">
                <a:solidFill>
                  <a:srgbClr val="cc0066"/>
                </a:solidFill>
                <a:uFillTx/>
                <a:latin typeface="Arial"/>
                <a:hlinkClick r:id="rId4"/>
              </a:rPr>
              <a:t>湖南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省望城县一个穷苦</a:t>
            </a:r>
            <a:r>
              <a:rPr b="0" lang="zh-CN" sz="2800" spc="-1" strike="noStrike" u="sng">
                <a:solidFill>
                  <a:srgbClr val="cc0066"/>
                </a:solidFill>
                <a:uFillTx/>
                <a:latin typeface="Arial"/>
                <a:hlinkClick r:id="rId5"/>
              </a:rPr>
              <a:t>农民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家庭。７岁沦为</a:t>
            </a:r>
            <a:r>
              <a:rPr b="0" lang="zh-CN" sz="2800" spc="-1" strike="noStrike" u="sng">
                <a:solidFill>
                  <a:srgbClr val="cc0066"/>
                </a:solidFill>
                <a:uFillTx/>
                <a:latin typeface="Arial"/>
                <a:hlinkClick r:id="rId6"/>
              </a:rPr>
              <a:t>孤儿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，在穷乡亲的拉扯下，挣扎着活下来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4923000" y="1413000"/>
            <a:ext cx="36525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-36720" y="1484280"/>
            <a:ext cx="3958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949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月，雷锋的家乡湖南望城解放后，雷锋从此翻了身。在党和人民政府的关怀下幸福成长，他参加儿童团，进小学读书，并第一批加入了中国共产主义少年先锋队。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995640" y="1557360"/>
            <a:ext cx="4907160" cy="43927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211640" y="59500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雷锋和少先队员们在一起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-973080" y="476280"/>
            <a:ext cx="662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雷锋生平介绍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50560" y="1630080"/>
            <a:ext cx="4392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1960</a:t>
            </a:r>
            <a:r>
              <a:rPr b="1" lang="zh-CN" sz="3000" spc="-1" strike="noStrike">
                <a:solidFill>
                  <a:srgbClr val="0066ff"/>
                </a:solidFill>
                <a:latin typeface="Arial"/>
              </a:rPr>
              <a:t>年</a:t>
            </a: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66ff"/>
                </a:solidFill>
                <a:latin typeface="Arial"/>
              </a:rPr>
              <a:t>月，雷锋应征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ff"/>
                </a:solidFill>
                <a:latin typeface="Arial"/>
              </a:rPr>
              <a:t>入伍，同年</a:t>
            </a: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11</a:t>
            </a:r>
            <a:r>
              <a:rPr b="1" lang="zh-CN" sz="3000" spc="-1" strike="noStrike">
                <a:solidFill>
                  <a:srgbClr val="0066ff"/>
                </a:solidFill>
                <a:latin typeface="Arial"/>
              </a:rPr>
              <a:t>月加入</a:t>
            </a:r>
            <a:r>
              <a:rPr b="0" lang="zh-CN" sz="30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中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国共产党</a:t>
            </a:r>
            <a:r>
              <a:rPr b="1" lang="zh-CN" sz="3000" spc="-1" strike="noStrike">
                <a:solidFill>
                  <a:srgbClr val="0066ff"/>
                </a:solidFill>
                <a:latin typeface="Arial"/>
              </a:rPr>
              <a:t>。在部队的培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ff"/>
                </a:solidFill>
                <a:latin typeface="Arial"/>
              </a:rPr>
              <a:t>养教育下，他进一步提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ff"/>
                </a:solidFill>
                <a:latin typeface="Arial"/>
              </a:rPr>
              <a:t>高了政治觉悟，牢固地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ff"/>
                </a:solidFill>
                <a:latin typeface="Arial"/>
              </a:rPr>
              <a:t>树立了全心全意为人民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ff"/>
                </a:solidFill>
                <a:latin typeface="Arial"/>
              </a:rPr>
              <a:t>服务的思想和为共产主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ff"/>
                </a:solidFill>
                <a:latin typeface="Arial"/>
              </a:rPr>
              <a:t>义奋斗终身的远大目标。</a:t>
            </a:r>
            <a:r>
              <a:rPr b="0" lang="en-US" sz="3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4641840" y="1341360"/>
            <a:ext cx="4322880" cy="504036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-973080" y="476280"/>
            <a:ext cx="662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雷锋生平介绍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20060422232701799"/>
          <p:cNvPicPr/>
          <p:nvPr/>
        </p:nvPicPr>
        <p:blipFill>
          <a:blip r:embed="rId2"/>
          <a:stretch/>
        </p:blipFill>
        <p:spPr>
          <a:xfrm>
            <a:off x="255600" y="4143240"/>
            <a:ext cx="2371680" cy="271476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53290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月</a:t>
            </a:r>
            <a:r>
              <a:rPr b="1" lang="en-US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日 雷锋纪念日的来历</a:t>
            </a:r>
            <a:r>
              <a:rPr b="1" lang="en-US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 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4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1962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15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日，雷锋同志不幸因公殉职后，他的日记陆续被一些新闻媒体报导出来。《中国青年》杂志社觉得雷锋是和平时期青年的一个楷模，打算在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1963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日出一本合刊介绍雷锋事迹。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17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日他们给毛主席写信希望它能为雷锋题词，毛主席看信后为了全面概括雷锋同志一切从人民利益出发，全心全意为人民服务的精神，写下了“向雷锋同志学习”这一著名题词。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日，毛主席的题词在《中国青年》上刊出了。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日，新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华社发通稿。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日，全国各大报纸纷纷刊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载毛主席向“向雷锋同志学习”题词。         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 后来，中央决定，把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日定为雷锋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念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7005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雷锋叔叔在车站发现一位大嫂丢了车票和钱，用自己的钱帮大嫂买了票，当大嫂问他的名字和单位时，他说：“我叫解放军，住在中国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156360" y="3429000"/>
            <a:ext cx="2181240" cy="2808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84360" y="4149720"/>
            <a:ext cx="51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方正隶书简体"/>
              </a:rPr>
              <a:t>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方正隶书简体"/>
              </a:rPr>
              <a:t>做好事不留名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-1189080" y="476280"/>
            <a:ext cx="662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雷锋的事迹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211640" y="5714640"/>
            <a:ext cx="446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方正少儿简体"/>
              </a:rPr>
              <a:t>团结友爱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920" y="4365360"/>
            <a:ext cx="820872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雷锋叔叔把自己的藏书拿出来供大家学习，被人们称为“小小的雷锋图书馆“。他帮助同志学习知识，同班战友乔安山文化程度低，雷锋就手把手地教他认字，学算术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84360" y="119700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3564000" y="1197000"/>
            <a:ext cx="4000320" cy="29527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-1189080" y="476280"/>
            <a:ext cx="662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雷锋的事迹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1680" y="188640"/>
            <a:ext cx="8540640" cy="59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方正少儿简体"/>
              </a:rPr>
              <a:t>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方正少儿简体"/>
              </a:rPr>
              <a:t>你知道哪些雷锋叔叔的故事呢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195640" y="1916280"/>
            <a:ext cx="4787640" cy="3568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01:41:48Z</dcterms:created>
  <dc:creator>雨林木风</dc:creator>
  <dc:description/>
  <dc:language>en-US</dc:language>
  <cp:lastModifiedBy>微软中国</cp:lastModifiedBy>
  <dcterms:modified xsi:type="dcterms:W3CDTF">2015-03-14T14:18:59Z</dcterms:modified>
  <cp:revision>18</cp:revision>
  <dc:subject/>
  <dc:title>雷锋精神永放光芒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84</vt:lpwstr>
  </property>
</Properties>
</file>