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B16-77EC-491B-A842-F0A29404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2A2-3E8E-4F32-81B7-A4D5A361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471-AE57-4B52-B03A-0E39E815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621-AEB3-46DA-9289-026D8A02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1E5-A224-4989-8B0B-FB10B677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6A7-49C4-45EC-8B64-F0DDA9DD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E33-B9A0-4B02-BC25-00747246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AAB-7A60-4D11-B30C-4932B463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4C6-0A65-4356-ABE7-14329BD3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02A-D77A-4BEE-8821-B19A5F30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211-1901-4121-9FD7-F9D0D343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D13-E621-4BDA-AA98-F032F936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B7F8-F337-4D40-B213-0D289DDD3A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4120" y="6553080"/>
            <a:ext cx="36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30201"/>
                </a:solidFill>
                <a:latin typeface="Comic Sans MS"/>
              </a:rPr>
              <a:t>21</a:t>
            </a:r>
            <a:r>
              <a:rPr b="1" lang="zh-CN" sz="1400" spc="-1" strike="noStrike">
                <a:solidFill>
                  <a:srgbClr val="030201"/>
                </a:solidFill>
                <a:latin typeface="Comic Sans MS"/>
              </a:rPr>
              <a:t>教学资源网整理发布： </a:t>
            </a:r>
            <a:r>
              <a:rPr b="1" lang="zh-CN" sz="1400" spc="-1" strike="noStrike">
                <a:solidFill>
                  <a:srgbClr val="030201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340000" y="836640"/>
            <a:ext cx="5977080" cy="3257280"/>
            <a:chOff x="2340000" y="836640"/>
            <a:chExt cx="5977080" cy="3257280"/>
          </a:xfrm>
        </p:grpSpPr>
        <p:sp>
          <p:nvSpPr>
            <p:cNvPr id="77" name=""/>
            <p:cNvSpPr txBox="1"/>
            <p:nvPr/>
          </p:nvSpPr>
          <p:spPr>
            <a:xfrm>
              <a:off x="4140360" y="836640"/>
              <a:ext cx="3332160" cy="74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隶书"/>
                </a:rPr>
                <a:t>快乐共分享</a:t>
              </a:r>
              <a:endPara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40000" y="1639800"/>
              <a:ext cx="5977080" cy="24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你还知道哪些与本文相似的事例和人物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132000" y="3213000"/>
            <a:ext cx="5545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司马警枕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4221000"/>
            <a:ext cx="3384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囊萤映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32508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司马光警枕励志 </a:t>
            </a:r>
            <a:br>
              <a:rPr sz="4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司马光是个贪玩贪睡的孩子，为此他没少受先生的责罚和同伴的嘲笑，在先生的谆谆教诲下，他决心改掉贪睡的坏毛病，为了早早起床，他睡觉前喝了满满一肚子水，结果早上没有被憋醒，却尿了床，于是聪明的司马光用圆木头作了一个警枕，早上一翻身，头滑落在床板上，自然惊醒，从此他天天早早地起床读书，坚持不懈，终于成为了一个学识渊博的，写出了《资治通鉴》的大文豪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40720" y="6354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ffffff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25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囊萤映雪</a:t>
            </a:r>
            <a:br>
              <a:rPr sz="40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代时，车胤从小好学不倦，但因家境贫困，父亲无法为他提供良好的学习环境。为了维持温饱，没有多余的钱买灯油供他晚上读书。为此，他只能利用这个时间背诵诗文。夏天的一个晚上，他正在院子里背一篇文章，忽然见许多萤火虫在低空中飞舞。一闪一闪的光点，在黑暗中显得有些耀眼。他想，如果把许多萤火虫集中在一起，不就成为一盏灯了吗？于是，他去找了一只白绢口袋，随即抓了几十只萤火虫放在里面，再扎住袋口，把它吊起来。虽然不怎么明亮，但可勉强用来看书了。从此，只要有萤火虫，他就去抓一把来当作灯用。由于他勤学苦练，后来终于做了职位很高的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40720" y="6354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049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说说“之”和“其”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0120" y="1828800"/>
            <a:ext cx="7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14300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990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国之善弈者也（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990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1905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援弓缴而射之（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2819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与之俱学（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743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，指那个专心学习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65240" y="512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4760" y="4572000"/>
            <a:ext cx="7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4114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一人专心致志（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4114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们，指学弈的两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5334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是其智弗若与（   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53341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个人，指不专心学习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43434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27640" y="0"/>
            <a:ext cx="47163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孟子：名轲，字子舆，是战国时期鲁国人，重要的思想家、政治家、教育家，是孔子以后儒家学派最有权威的代表人物。《孟子》是记孟子言行的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42920" y="5229360"/>
            <a:ext cx="2519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孟子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3424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5345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77724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84720" y="333360"/>
            <a:ext cx="26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学弈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916360" y="620640"/>
            <a:ext cx="338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们的目标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155736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能根据课后注释疏通全文，了解故事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正确、流利地朗读课文，背诵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课文中体会到学习必须专心致志，不可三心二意的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9080" y="0"/>
            <a:ext cx="5003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什么是文言文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44400"/>
            <a:ext cx="93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我国古代，要表述同一件事，用口头语言和用书面语言来表述，是不同的，例如想问某人是否吃饭了，用口头语言表述，是“吃饭了吗？”而用书面语言进行表述，就是“饭否？”“饭否”就是文言文。我国的古代，所有的文章都是用书面语言写成的。所以，现在我们一般将古文称为“文言文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4581360"/>
            <a:ext cx="518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文言文怎样读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20236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要把读的速度放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要停顿得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903680"/>
            <a:ext cx="9144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弈秋，通国之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善弈者也。使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弈秋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诲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人弈，其一人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专心致志，惟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弈秋之为听；一人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虽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听之，一心以为有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鸿鹄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将至，思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援弓缴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射之，虽</a:t>
            </a:r>
            <a:r>
              <a:rPr b="1" lang="zh-CN" sz="54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之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俱学，弗若之矣。为是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其智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弗若与？曰：非</a:t>
            </a:r>
            <a:r>
              <a:rPr b="1" lang="zh-CN" sz="60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然也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724360" y="0"/>
            <a:ext cx="22323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朗读节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9280" y="-27000"/>
            <a:ext cx="1295640" cy="1251000"/>
            <a:chOff x="179280" y="-27000"/>
            <a:chExt cx="1295640" cy="1251000"/>
          </a:xfrm>
        </p:grpSpPr>
        <p:sp>
          <p:nvSpPr>
            <p:cNvPr id="61" name=""/>
            <p:cNvSpPr/>
            <p:nvPr/>
          </p:nvSpPr>
          <p:spPr>
            <a:xfrm>
              <a:off x="179280" y="0"/>
              <a:ext cx="1295640" cy="122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4000" y="-27000"/>
              <a:ext cx="1008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ff00"/>
                  </a:solidFill>
                  <a:latin typeface="Arial"/>
                </a:rPr>
                <a:t>读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87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照着课本中的注释，结合着插图，自己试着揣摩每句话的大意，如果遇到不懂的问题作上标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小组内交流课文大意，把自己不理解的问题提出来，共同讨论。还有不明白的问题提出来，老师和同学共同讨论解决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9280" y="-27000"/>
            <a:ext cx="1295640" cy="1224000"/>
            <a:chOff x="179280" y="-27000"/>
            <a:chExt cx="1295640" cy="1224000"/>
          </a:xfrm>
        </p:grpSpPr>
        <p:sp>
          <p:nvSpPr>
            <p:cNvPr id="65" name=""/>
            <p:cNvSpPr/>
            <p:nvPr/>
          </p:nvSpPr>
          <p:spPr>
            <a:xfrm>
              <a:off x="179280" y="-27000"/>
              <a:ext cx="1295640" cy="122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920" y="-27000"/>
              <a:ext cx="934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Arial"/>
                </a:rPr>
                <a:t>译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2411280" y="-27000"/>
            <a:ext cx="511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舒体"/>
              </a:rPr>
              <a:t>看谁译得准又快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弈秋是全国最会下棋的人。让弈秋教两个人下棋，其中一个人专心致志，只听弈秋的教导；而另一个人虽然在听着，可是他心里总以为有天鹅要飞过来，想拿弓箭去射它。这样，虽然他同前一个人一起学习，却学得不如前一个。能说这是他的聪明才智不如前一个人吗？我说：不是这样的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197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样是师从弈秋这位棋界圣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一人会得到成功而另一人却失败了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没有“鸿鹄将至”那个学弈的人能专心致志学弈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260360" y="4005360"/>
            <a:ext cx="1040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你在学习中是不是也有这种现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结合你的学习实际谈一谈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你在今后的学习中打算怎样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0"/>
            <a:ext cx="1295280" cy="1324080"/>
            <a:chOff x="0" y="0"/>
            <a:chExt cx="1295280" cy="1324080"/>
          </a:xfrm>
        </p:grpSpPr>
        <p:sp>
          <p:nvSpPr>
            <p:cNvPr id="72" name=""/>
            <p:cNvSpPr/>
            <p:nvPr/>
          </p:nvSpPr>
          <p:spPr>
            <a:xfrm>
              <a:off x="0" y="100080"/>
              <a:ext cx="1295280" cy="122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280" y="0"/>
              <a:ext cx="108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Arial"/>
                </a:rPr>
                <a:t>悟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2050920" y="26028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合作探究 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219640" y="260280"/>
            <a:ext cx="309888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自主感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0:52:39Z</dcterms:created>
  <dc:creator/>
  <dc:description/>
  <dc:language>en-US</dc:language>
  <cp:lastModifiedBy>User</cp:lastModifiedBy>
  <dcterms:modified xsi:type="dcterms:W3CDTF">2015-06-22T11:55:14Z</dcterms:modified>
  <cp:revision>38</cp:revision>
  <dc:subject/>
  <dc:title>幻灯片 1</dc:title>
</cp:coreProperties>
</file>