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9E98-2239-40A2-AEDB-8168A764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111C-87CD-404C-B66A-420075EC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483-7CD2-45FC-82CD-BBB5B922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AAF4-9298-4AF8-952E-B7BF7D0D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20B9-3986-4CA6-BEB3-D0AEFCE7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4BF-7FED-4C92-8751-948572E4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53F6-37F7-4E36-B215-678E36FA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611-04C3-4797-9474-4D5AA85E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1612-C6E0-478B-9EDA-3274BC94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20A7-B750-4329-AF9B-626877E1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C991-7C73-4A10-9B3D-8A1A4B62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8D3B-969D-40CB-B495-ED08CC94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41D6-238C-4478-9BFF-5F0640F3FB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&#36335;&#36335;&#28857;&#21517;&#22120;/&#36335;&#36335;&#28857;&#21517;&#22120;.exe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6335;&#36335;&#28857;&#21517;&#22120;/&#36335;&#36335;&#28857;&#21517;&#22120;.exe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hyperlink" Target="file:///&#36335;&#36335;&#28857;&#21517;&#22120;/&#36335;&#36335;&#28857;&#21517;&#22120;.exe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6335;&#36335;&#28857;&#21517;&#22120;/&#36335;&#36335;&#28857;&#21517;&#22120;.exe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file:///&#36335;&#36335;&#28857;&#21517;&#22120;/&#36335;&#36335;&#28857;&#21517;&#22120;.exe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6335;&#36335;&#28857;&#21517;&#22120;/&#36335;&#36335;&#28857;&#21517;&#22120;.exe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&#36335;&#36335;&#28857;&#21517;&#22120;/&#36335;&#36335;&#28857;&#21517;&#22120;.exe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4403" b="0"/>
          <a:stretch/>
        </p:blipFill>
        <p:spPr>
          <a:xfrm>
            <a:off x="4861080" y="3355920"/>
            <a:ext cx="4282920" cy="3502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4000" y="260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教新课标六年级语文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197000"/>
            <a:ext cx="7921800" cy="28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文言文两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学弈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51760" y="653400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rcRect l="0" t="0" r="14403" b="0"/>
          <a:stretch/>
        </p:blipFill>
        <p:spPr>
          <a:xfrm>
            <a:off x="4356000" y="1773360"/>
            <a:ext cx="4283280" cy="3502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02480" y="249408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为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02480" y="359244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与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35733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曰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18320" y="420228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非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54000" y="990720"/>
            <a:ext cx="4554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是其智弗若与？曰：非然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02480" y="305928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其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720" y="472608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然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50840" y="5522760"/>
            <a:ext cx="6185160" cy="42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说他的智力不如前一个人吗？我说不是这样的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549360"/>
            <a:ext cx="2232000" cy="1224000"/>
          </a:xfrm>
          <a:prstGeom prst="cloudCallout">
            <a:avLst>
              <a:gd name="adj1" fmla="val -45944"/>
              <a:gd name="adj2" fmla="val 40013"/>
            </a:avLst>
          </a:prstGeom>
          <a:solidFill>
            <a:srgbClr val="ffff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译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1773360"/>
            <a:ext cx="753840" cy="753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59360" y="249876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Arial"/>
              </a:rPr>
              <a:t>谓，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65880" y="307512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Arial"/>
              </a:rPr>
              <a:t>他，指后一个人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09520" y="3573360"/>
            <a:ext cx="12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Arial"/>
              </a:rPr>
              <a:t>同“欤”，吗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94840" y="357336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Arial"/>
              </a:rPr>
              <a:t>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99880" y="422280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Arial"/>
              </a:rPr>
              <a:t>不是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473076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Arial"/>
              </a:rPr>
              <a:t>这样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71640" y="2182680"/>
            <a:ext cx="6985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    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弈秋是全国最会下棋的人。让弈秋教两个人下棋，其中一个人专心致志，只听弈秋的教导；而另一个人虽然在听着，可是他心里总以为有天鹅要飞过来，想拿弓箭去射它。这样，虽然他同前一个人一起学习，却学得不如前一个。能说这是他的聪明才智不如前一个人吗？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我说：不是这样的。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10280" y="969840"/>
            <a:ext cx="552600" cy="45972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《学弈》参考译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42920" y="3020760"/>
            <a:ext cx="720108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弈秋，通国之  善弈者也。使  弈秋  诲  二人弈，其一人  专心致志，惟  弈秋之为听；一人  虽  听之，一心以为  有鸿鹄  将至，思  援弓缴 而射之。虽  与之  俱学，弗若之矣。为是  其智  弗若与？曰：非  然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38760" y="836640"/>
            <a:ext cx="98388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学   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40360" y="2060640"/>
            <a:ext cx="712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589800" y="2060640"/>
            <a:ext cx="712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620360" y="2637000"/>
            <a:ext cx="716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532400" y="2693880"/>
            <a:ext cx="712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035840" y="2692440"/>
            <a:ext cx="712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476160" y="3286080"/>
            <a:ext cx="716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172040" y="3286080"/>
            <a:ext cx="712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996240" y="3286080"/>
            <a:ext cx="712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666440" y="3876840"/>
            <a:ext cx="716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451320" y="3933720"/>
            <a:ext cx="712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789080" y="3933720"/>
            <a:ext cx="716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883560" y="3876840"/>
            <a:ext cx="712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853400" y="3902040"/>
            <a:ext cx="712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876920" y="4510080"/>
            <a:ext cx="712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987520" y="4525920"/>
            <a:ext cx="716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692360" y="5157720"/>
            <a:ext cx="712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692280"/>
            <a:ext cx="754200" cy="753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50920" y="260280"/>
            <a:ext cx="2376360" cy="187164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900ff"/>
                </a:solidFill>
                <a:latin typeface="Arial"/>
                <a:ea typeface="黑体"/>
              </a:rPr>
              <a:t>朗读、停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68360" y="2565360"/>
            <a:ext cx="46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文章先写弈秋是全国最善于下围棋的人，接着写弈秋教两个学习态度不同的人下棋，学习效果也截然不同，最后写这两个人学习结果不同，并不是因为智力上有多大差别。通过这件事，说明了学习应专心致志，不可三心二意的道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130560" y="600120"/>
            <a:ext cx="2952720" cy="1460520"/>
            <a:chOff x="3130560" y="600120"/>
            <a:chExt cx="2952720" cy="1460520"/>
          </a:xfrm>
        </p:grpSpPr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3130560" y="600120"/>
              <a:ext cx="1728720" cy="14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27640" y="105264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主要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6085080" cy="4564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427640" y="1341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看图用自己的话叙述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835280" y="1052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思考讨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62120" cy="746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258920" y="2079720"/>
            <a:ext cx="626436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两个人同时在最好的老师指导下学棋，为什  么会产生不同的结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你还知道哪些与本文相似的事例和人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通过学习，你从中得到了怎样的启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907920"/>
            <a:ext cx="754200" cy="754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6516720" y="458136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3419640" y="486900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58920" y="2565360"/>
            <a:ext cx="475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读准字音，读通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逐字逐句，理解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用自己的话说说全文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朗读课文，背诵课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292720" y="692280"/>
            <a:ext cx="2232000" cy="1901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289520" y="1197000"/>
            <a:ext cx="1460880" cy="459720"/>
          </a:xfrm>
          <a:prstGeom prst="rect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文言文学习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124000" y="98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说说“之”和“其”各当什么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5240" y="2820960"/>
            <a:ext cx="606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65120" y="2349360"/>
            <a:ext cx="168480" cy="1486080"/>
          </a:xfrm>
          <a:custGeom>
            <a:avLst/>
            <a:gdLst>
              <a:gd name="textAreaLeft" fmla="*/ 107640 w 168480"/>
              <a:gd name="textAreaRight" fmla="*/ 168840 w 168480"/>
              <a:gd name="textAreaTop" fmla="*/ 38520 h 1486080"/>
              <a:gd name="textAreaBottom" fmla="*/ 1447560 h 148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74640" y="22525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国之善弈者也（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70480" y="222408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69960" y="2854440"/>
            <a:ext cx="454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援弓缴而射之（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17840" y="28544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天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74640" y="34765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虽与之俱学（                     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79760" y="344664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，指那个专心学习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6880" y="4834080"/>
            <a:ext cx="6069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27280" y="44496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一人专心致志（                        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94160" y="441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们，指学弈的两个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27280" y="5203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是其智弗若与（                           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17840" y="5178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这个人，指不专心学习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36760" y="4627440"/>
            <a:ext cx="144360" cy="865440"/>
          </a:xfrm>
          <a:custGeom>
            <a:avLst/>
            <a:gdLst>
              <a:gd name="textAreaLeft" fmla="*/ 92160 w 144360"/>
              <a:gd name="textAreaRight" fmla="*/ 144360 w 14436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1844640"/>
            <a:ext cx="754200" cy="754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942240" y="476280"/>
            <a:ext cx="137484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844720" y="383688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作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4764240"/>
            <a:ext cx="4896000" cy="4291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继续阅读相关的文言文。背诵课文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46520" y="226692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总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76360" y="2971800"/>
            <a:ext cx="4608360" cy="4291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通过读《学弈》，有哪些收获？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516720" y="98100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70160" y="2217240"/>
            <a:ext cx="7378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06400" indent="-1706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知识目标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06400" indent="-1706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掌握生字，正确读写：弈秋、教诲、俱学、弗若、曰。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06400" indent="-1706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正确、流利地朗读课文，背诵课文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06400" indent="-1706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根据课后注释疏通全文，了解故事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06400" indent="-1706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能力目标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通过讨论能从课文中体会到学习必须专心致志、不 可三心二意的道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06400" indent="-1706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9900ff"/>
                </a:solidFill>
                <a:latin typeface="Arial"/>
              </a:rPr>
              <a:t>情感目标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培育热爱祖国语言文字的思想感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46960" y="111744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【学习目标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1467000"/>
            <a:ext cx="2819520" cy="4267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48520" y="1484280"/>
            <a:ext cx="2895480" cy="2422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00600" y="1557360"/>
            <a:ext cx="61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y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995640" y="3292560"/>
            <a:ext cx="838440" cy="772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410080" y="2090880"/>
            <a:ext cx="1219320" cy="533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419720" y="2243160"/>
            <a:ext cx="1523880" cy="1371600"/>
          </a:xfrm>
          <a:custGeom>
            <a:avLst/>
            <a:gdLst>
              <a:gd name="textAreaLeft" fmla="*/ 357840 w 1523880"/>
              <a:gd name="textAreaRight" fmla="*/ 1166040 w 1523880"/>
              <a:gd name="textAreaTop" fmla="*/ 321840 h 1371600"/>
              <a:gd name="textAreaBottom" fmla="*/ 10497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65960" y="3860640"/>
            <a:ext cx="10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围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80320" y="3284640"/>
            <a:ext cx="66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下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4433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635280" y="620640"/>
            <a:ext cx="2735280" cy="649080"/>
            <a:chOff x="3635280" y="620640"/>
            <a:chExt cx="2735280" cy="649080"/>
          </a:xfrm>
        </p:grpSpPr>
        <p:sp>
          <p:nvSpPr>
            <p:cNvPr id="58" name=""/>
            <p:cNvSpPr/>
            <p:nvPr/>
          </p:nvSpPr>
          <p:spPr>
            <a:xfrm>
              <a:off x="3635280" y="620640"/>
              <a:ext cx="2735280" cy="649080"/>
            </a:xfrm>
            <a:custGeom>
              <a:avLst/>
              <a:gdLst>
                <a:gd name="textAreaLeft" fmla="*/ 0 w 2735280"/>
                <a:gd name="textAreaRight" fmla="*/ 2735640 w 273528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19880" y="6602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导入新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343400" y="2209680"/>
            <a:ext cx="358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2133720"/>
            <a:ext cx="2361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1581400">
            <a:off x="493920" y="1915920"/>
            <a:ext cx="439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  <a:ea typeface="华文新魏"/>
              </a:rPr>
              <a:t>　　</a:t>
            </a:r>
            <a:r>
              <a:rPr b="1" lang="zh-CN" sz="2400" spc="-1" strike="noStrike" u="sng">
                <a:solidFill>
                  <a:srgbClr val="ff99ff"/>
                </a:solidFill>
                <a:uFillTx/>
                <a:latin typeface="Times New Roman"/>
                <a:ea typeface="华文新魏"/>
              </a:rPr>
              <a:t>孟子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约公元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72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</a:t>
            </a:r>
            <a:r>
              <a:rPr b="1" lang="zh-CN" sz="2400" spc="-1" strike="noStrike" u="sng">
                <a:solidFill>
                  <a:srgbClr val="ff99ff"/>
                </a:solidFill>
                <a:uFillTx/>
                <a:latin typeface="Times New Roman"/>
                <a:ea typeface="华文新魏"/>
              </a:rPr>
              <a:t>战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时思想家、政治家。名</a:t>
            </a:r>
            <a:r>
              <a:rPr b="1" lang="zh-CN" sz="2400" spc="-1" strike="noStrike" u="sng">
                <a:solidFill>
                  <a:srgbClr val="ff99ff"/>
                </a:solidFill>
                <a:uFillTx/>
                <a:latin typeface="Times New Roman"/>
                <a:ea typeface="华文新魏"/>
              </a:rPr>
              <a:t>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今山东邹县东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01080" y="2201760"/>
            <a:ext cx="1006200" cy="22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59280" y="802440"/>
            <a:ext cx="1697040" cy="520560"/>
          </a:xfrm>
          <a:prstGeom prst="rect">
            <a:avLst/>
          </a:prstGeom>
          <a:noFill/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245592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" y="3710160"/>
            <a:ext cx="456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提出“</a:t>
            </a:r>
            <a:r>
              <a:rPr b="1" lang="zh-CN" sz="2400" spc="-1" strike="noStrike" u="sng">
                <a:solidFill>
                  <a:srgbClr val="ff99ff"/>
                </a:solidFill>
                <a:uFillTx/>
                <a:latin typeface="Times New Roman"/>
                <a:ea typeface="华文新魏"/>
              </a:rPr>
              <a:t>民贵君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说。重视环境和教育对人的影响。被认为儒家“</a:t>
            </a:r>
            <a:r>
              <a:rPr b="1" lang="zh-CN" sz="2400" spc="-1" strike="noStrike" u="sng">
                <a:solidFill>
                  <a:srgbClr val="ff99ff"/>
                </a:solidFill>
                <a:uFillTx/>
                <a:latin typeface="Times New Roman"/>
                <a:ea typeface="华文新魏"/>
              </a:rPr>
              <a:t>孔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学说的继承者，有“</a:t>
            </a:r>
            <a:r>
              <a:rPr b="1" lang="zh-CN" sz="2400" spc="-1" strike="noStrike" u="sng">
                <a:solidFill>
                  <a:srgbClr val="ff99ff"/>
                </a:solidFill>
                <a:uFillTx/>
                <a:latin typeface="Times New Roman"/>
                <a:ea typeface="华文新魏"/>
              </a:rPr>
              <a:t>亚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之称。著作有《</a:t>
            </a:r>
            <a:r>
              <a:rPr b="1" lang="zh-CN" sz="2400" spc="-1" strike="noStrike" u="sng">
                <a:solidFill>
                  <a:srgbClr val="ff99ff"/>
                </a:solidFill>
                <a:uFillTx/>
                <a:latin typeface="Times New Roman"/>
                <a:ea typeface="华文新魏"/>
              </a:rPr>
              <a:t>孟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35280" y="2309760"/>
            <a:ext cx="5903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yì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　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yǔ    jù          fú        y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学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学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若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huì  hónghú    zhuó         y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鸿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弓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弗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059280" y="836640"/>
            <a:ext cx="3097080" cy="1270080"/>
            <a:chOff x="3059280" y="836640"/>
            <a:chExt cx="3097080" cy="1270080"/>
          </a:xfrm>
        </p:grpSpPr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3059280" y="836640"/>
              <a:ext cx="165096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716360" y="1197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Times New Roman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1268280"/>
            <a:ext cx="75420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576360"/>
            <a:ext cx="7380360" cy="977400"/>
          </a:xfrm>
          <a:prstGeom prst="rect">
            <a:avLst/>
          </a:prstGeom>
          <a:solidFill>
            <a:srgbClr val="ffff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弈秋，通国之善弈者也。使弈秋诲二人弈，其一人专心致志，惟弈秋之为听；一人虽听之，一心以为有鸿鹄将至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思援弓缴而射之。虽与之俱学，弗若之矣。为是其智弗若与？曰：非然也。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3640" y="0"/>
            <a:ext cx="24480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学 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01800" y="1628640"/>
            <a:ext cx="36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弈秋，通国之善弈者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49440" y="2421000"/>
            <a:ext cx="107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弈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5680" y="3043080"/>
            <a:ext cx="103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通国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9440" y="3578400"/>
            <a:ext cx="100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1000" y="4154400"/>
            <a:ext cx="81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善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219640" y="3284640"/>
            <a:ext cx="3311640" cy="2043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42920" y="49417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弈秋，是全国下围棋最好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80000" y="765000"/>
            <a:ext cx="2232000" cy="1224000"/>
          </a:xfrm>
          <a:prstGeom prst="cloudCallout">
            <a:avLst>
              <a:gd name="adj1" fmla="val -45944"/>
              <a:gd name="adj2" fmla="val 40013"/>
            </a:avLst>
          </a:prstGeom>
          <a:solidFill>
            <a:srgbClr val="ffff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译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249800" y="692280"/>
            <a:ext cx="753840" cy="753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30360" y="2421000"/>
            <a:ext cx="581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秋，人名，因他善于下棋，所以称为弈秋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3068640"/>
            <a:ext cx="11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全国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357840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的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56160" y="4154400"/>
            <a:ext cx="118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Arial"/>
              </a:rPr>
              <a:t>善于，擅长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44720" y="1387440"/>
            <a:ext cx="70563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使弈秋诲二人弈，其一人专心致志，惟弈秋之为听；一人虽听之，一心以为有鸿鹄将至，思援弓缴而射之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249228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使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4720" y="2492280"/>
            <a:ext cx="790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诲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249696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其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9080" y="2997360"/>
            <a:ext cx="23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惟弈秋之为听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24360" y="300204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虽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350208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70240" y="3502080"/>
            <a:ext cx="112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鸿鹄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88120" y="3506760"/>
            <a:ext cx="79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援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399240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缴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4653000"/>
            <a:ext cx="6842160" cy="496080"/>
          </a:xfrm>
          <a:prstGeom prst="rect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让弈秋教两个人下棋，其中一个人专心致志，     只要是弈秋说的，他都听。另一个虽然听弈秋讲着，一心以为有天鹅将要来了，想着拉开弓用箭射天鹅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260280"/>
            <a:ext cx="2232360" cy="1224000"/>
          </a:xfrm>
          <a:prstGeom prst="cloudCallout">
            <a:avLst>
              <a:gd name="adj1" fmla="val -45944"/>
              <a:gd name="adj2" fmla="val 40013"/>
            </a:avLst>
          </a:prstGeom>
          <a:solidFill>
            <a:srgbClr val="ffff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译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67640" y="2276640"/>
            <a:ext cx="754200" cy="753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102480" y="401004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Arial"/>
              </a:rPr>
              <a:t>本课指带有丝绳的箭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88560" y="350208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Arial"/>
              </a:rPr>
              <a:t>引，拉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32040" y="350208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Arial"/>
              </a:rPr>
              <a:t>天鹅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80920" y="350676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Arial"/>
              </a:rPr>
              <a:t>指弈秋的教导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56040" y="300204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Arial"/>
              </a:rPr>
              <a:t>虽然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6960" y="299736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Arial"/>
              </a:rPr>
              <a:t>只听弈秋的教导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0960" y="249696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Arial"/>
              </a:rPr>
              <a:t>其中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21880" y="2496960"/>
            <a:ext cx="75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Arial"/>
              </a:rPr>
              <a:t>教 导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9800" y="2496960"/>
            <a:ext cx="453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Arial"/>
              </a:rPr>
              <a:t>让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0" t="0" r="14403" b="0"/>
          <a:stretch/>
        </p:blipFill>
        <p:spPr>
          <a:xfrm>
            <a:off x="539640" y="2349360"/>
            <a:ext cx="4283280" cy="3502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42920" y="907920"/>
            <a:ext cx="3600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虽与之俱学，弗若之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73560" y="235260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73560" y="2928960"/>
            <a:ext cx="98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俱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3505320"/>
            <a:ext cx="10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弗若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45200" y="4081320"/>
            <a:ext cx="76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矣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4924440"/>
            <a:ext cx="3024360" cy="496080"/>
          </a:xfrm>
          <a:prstGeom prst="rect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虽然与第一个人一起学，但是不如他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08720" y="692280"/>
            <a:ext cx="2232000" cy="1224000"/>
          </a:xfrm>
          <a:prstGeom prst="cloudCallout">
            <a:avLst>
              <a:gd name="adj1" fmla="val -45944"/>
              <a:gd name="adj2" fmla="val 40013"/>
            </a:avLst>
          </a:prstGeom>
          <a:solidFill>
            <a:srgbClr val="ffff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译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1811160"/>
            <a:ext cx="754200" cy="754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3680" y="234936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Arial"/>
              </a:rPr>
              <a:t>他，指前一个人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1320" y="292428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Arial"/>
              </a:rPr>
              <a:t>一起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45640" y="350676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Arial"/>
              </a:rPr>
              <a:t>不如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2200" y="407664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Arial"/>
              </a:rPr>
              <a:t>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00:43:55Z</dcterms:created>
  <dc:creator>USER</dc:creator>
  <dc:description/>
  <dc:language>en-US</dc:language>
  <cp:lastModifiedBy>User</cp:lastModifiedBy>
  <dcterms:modified xsi:type="dcterms:W3CDTF">2014-12-11T12:56:05Z</dcterms:modified>
  <cp:revision>35</cp:revision>
  <dc:subject/>
  <dc:title>幻灯片 1</dc:title>
</cp:coreProperties>
</file>