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E22-3BA5-45AC-9C1F-ED07D700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267-381A-4761-A94A-65B094D5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8FB-83A4-42F3-A0AA-20059DDE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084-4FB3-4ED9-9B91-7C9804E7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3DC-B6C0-4B17-B48E-8E396B8F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6C5-E732-4AD8-AEED-012E94A0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FED-F168-46C2-84AF-4BD1ACF5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A91-CFC1-48E7-84B6-76FEE10A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18B-4052-4601-8969-A559B5D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C0E-813F-4FCD-B56B-CEEF41DA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749-5DE7-49A5-8DD3-F43DFC5E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BD8-C651-44E1-9D27-98C4D6E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E085-5676-44E6-997C-4CB8168398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  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05264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教新课标  六年级  语文  下册  第一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17301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304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是其智弗若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9907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990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990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9907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那个不专心学习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82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1905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当于“吗”，表疑问或反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590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译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因为这个人的智力不如那个人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3526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曰：非然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14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4114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，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非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1148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是这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55897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答到：不是这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4952880"/>
            <a:ext cx="51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译文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04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【课后练习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582480" cy="571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1440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为什么两个人一同向弈秋学弈，而成绩却不一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429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学得差的那个人不是因为智力不如学得好的人，而是因为没有专心去学。这说明只有专心致志，才能学到真本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说说“之”和“其”各当什么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86400" y="304920"/>
            <a:ext cx="533520" cy="52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90120" y="1828800"/>
            <a:ext cx="7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14300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990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国之善弈者也（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990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援弓缴而射之（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2819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与之俱学（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2743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，指那个专心学习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65240" y="512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4760" y="4572000"/>
            <a:ext cx="7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114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一人专心致志（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4114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们，指学弈的两个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是其智弗若与（        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5334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个人，指不专心学习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43434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609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【作业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600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把学弈的故事讲给家人听，说说你懂得了什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590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熟练背诵课文，试着默一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59280" y="2349360"/>
            <a:ext cx="273672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再见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5880" y="228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学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1295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弈：下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-530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12120" y="653400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6858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原文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523880"/>
            <a:ext cx="746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弈秋，通国之善弈者也。使弈秋诲二人弈，其一人专心致志，惟弈秋之为听。一人虽听之，一心以为鸿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[hónɡ]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[hú]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至，思援弓缴而射之，虽与之俱学，弗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[fú]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之矣。为是其智弗若与？曰：非然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03280" y="1628640"/>
            <a:ext cx="45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作者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字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字词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6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学习步骤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765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【作者介绍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09680"/>
            <a:ext cx="7696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孟子：名柯，字子舆，鲁国邹邑（今山东邹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人，是鲁国贵族孟孙氏的后代，是孔丘的孙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子思的再传弟子，战国时期重要的思想家，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治家，教育家，是孔子以后儒家学派最有权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代表人物。《孟子》是记孟子言行的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143208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53352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字音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43828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思援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yuán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弓缴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zhuó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而射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wèi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其智弗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fú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与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[yú]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【字、词义和译文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2193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弈秋，通国之善弈者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895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051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弈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秋是人名。因为棋下得好，所以叫他弈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666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通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6668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352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33526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9625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39625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于，擅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6483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4648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334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⑥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5257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5877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译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弈秋是全国下棋最好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5335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弈秋诲二人弈，其一人专心致志，惟弈秋之为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1197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1197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8200" y="11746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诲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197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，教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981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9810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。指学弈的两个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666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666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专心致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5053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心一意，集中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5720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译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让弈秋教两个人下棋，他们中的一个人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心一意，聚精会神地学习，只要弈秋讲的，他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专心地听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人虽听之，一心以为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hónɡ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hú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至，思援弓缴而射之，虽与之俱学，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fú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之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371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371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弈秋讲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拉、拉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鸿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弓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1981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弓箭（“缴”本指系在箭上的丝绳，这里指系着丝绳的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666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⑤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射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124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666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鸿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666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虽与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3141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2666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，指那个专心学习的学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505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⑦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505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⑧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50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，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191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⑩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4191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，指专心学习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95288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译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另一个人虽然也在听弈秋讲，可是心里却一直以为天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将要飞到这里来，想取过弓和系有丝绳的箭，把它射下来。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个人虽然和那个专心致志的人一起学习，然而成绩就不如他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05:11:29Z</dcterms:created>
  <dc:creator>sfdjaDFK</dc:creator>
  <dc:description/>
  <dc:language>en-US</dc:language>
  <cp:lastModifiedBy>User</cp:lastModifiedBy>
  <dcterms:modified xsi:type="dcterms:W3CDTF">2014-12-11T12:57:11Z</dcterms:modified>
  <cp:revision>26</cp:revision>
  <dc:subject/>
  <dc:title>PowerPoint 演示文稿</dc:title>
</cp:coreProperties>
</file>