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AE8-2034-4070-AC70-0DC5EA08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B4D-15F7-483C-8984-2B393DD4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B31-CE8B-4716-A75B-9A58BEE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886-FBB4-422B-A984-111509CA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56D4-8B32-4CCB-A2CE-47B17C3A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7397-8ADD-4833-ACBB-B32ACDFD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37D4-6692-4370-90A5-3D5EF7B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4C6-434D-49A4-BC1D-D3F388BA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B35E-D795-4A30-88CF-9DD1FF92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550-0E89-49FD-9B06-FD198D3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0D25-A778-4FD8-9D31-7A1DE056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CCD-A352-457F-A254-68883918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A67C-5A80-485B-9EAD-EEAD1336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914-9D22-4D59-B676-A4C6C9E3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6B1C-420A-4D24-8D7C-CFD25AF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83D1-B1F6-458A-82FC-A5E1C613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024-355D-4B98-8139-7BFCEBCF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476-E176-4CDA-9747-885BAC1B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D20-08C5-4955-92A1-9818A1CB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0F9-C8BC-487D-93AB-B77128B7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7A2-1343-4977-965D-C1E376C8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C37-0620-4517-BAC4-9BDF07A4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A4E-50AB-4851-9C36-47B66DA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029-AC10-44AA-9690-47A79759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8A9-2EF7-48D9-8308-6D3DEEBBA1BE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AC0A-9BD5-43E8-A28A-FEC4A19690D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2209680"/>
            <a:ext cx="4876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黑体"/>
                <a:ea typeface="黑体"/>
              </a:rPr>
              <a:t>学 弈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378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孟子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052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教新课标  六年级  语文  下册  第一单元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4653000"/>
            <a:ext cx="13096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2060640"/>
            <a:ext cx="7834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说说下列“之”分别指什么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人虽听之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          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思援弓缴而射之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          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虽与之俱学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          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弗若之矣 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(          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14920" y="27813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弈秋的教导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3571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鸿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4292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前一个人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38960" y="5084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前一个人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00080" cy="761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47640" y="76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练一练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9640" y="213372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今者臣来，过易水，蚌方出曝，而鹬啄其肉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蚌合而钳其喙。鹬曰：‘今日不雨，明日不雨，即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死蚌。’蚌亦谓鹬曰：‘今日不出，明日不出，即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死鹬。’两者不肯舍，渔者得而并禽之。今赵且伐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燕，燕、赵久相支，以弊大众，臣恐强秦之为渔渔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父也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1197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阅读短文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797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59280" y="2276640"/>
            <a:ext cx="309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00360" y="1484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文言文学习方法有哪些呢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1692360" cy="339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82920" y="2492280"/>
            <a:ext cx="5761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准字音，读通句子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逐字逐句，理解意思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用自己的话说说全文的意思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课文，背诵课文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00000" y="2276640"/>
            <a:ext cx="777240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yì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　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yǔ    jù               fú        yǐ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弈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与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俱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  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弗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若之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矣</a:t>
            </a:r>
            <a:r>
              <a:rPr b="1" lang="zh-CN" sz="40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huì   hóng  hú     zhuó              yú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诲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鸿   鹄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弓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缴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弗若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545472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693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371600"/>
            <a:ext cx="85345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弈秋，通国之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善弈者也。使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弈秋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诲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二人弈，其一人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专心致志，惟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弈秋之为听；一人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虽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听之，一心以为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鸿鹄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将至，思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援弓缴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而射之。虽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与之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俱学，弗若之矣。为是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其智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弗若与？曰：非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然也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33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14479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弈 秋，</a:t>
            </a:r>
            <a:r>
              <a:rPr b="1" lang="zh-CN" sz="4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通 国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之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善</a:t>
            </a:r>
            <a:r>
              <a:rPr b="1" lang="zh-CN" sz="4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弈者 也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6560" y="3716280"/>
            <a:ext cx="1575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全国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716280"/>
            <a:ext cx="7920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的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81840" y="3716280"/>
            <a:ext cx="1369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  <a:ea typeface="隶书"/>
              </a:rPr>
              <a:t>善于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16000" y="2205000"/>
            <a:ext cx="142920" cy="1440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2920" y="2205000"/>
            <a:ext cx="73080" cy="151128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2205000"/>
            <a:ext cx="934920" cy="1440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33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484280"/>
            <a:ext cx="845820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使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弈秋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诲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二人弈，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其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一人专心致志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惟弈秋之为听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；一人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虽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听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之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，一心以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为有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鸿鹄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将至，思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援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弓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缴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而射之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981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26000" y="221148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让）  （教导）        （其中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3680" y="3795840"/>
            <a:ext cx="878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只听弈秋的教导）   （虽然）（弈秋的教导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85680" y="52354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天鹅）        （引，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箭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33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066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1197000"/>
            <a:ext cx="78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虽与之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俱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学，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弗若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之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矣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。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为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是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其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智  弗  若       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曰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：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非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Times New Roman"/>
                <a:ea typeface="隶书"/>
              </a:rPr>
              <a:t>然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也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773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一起）（不如）（了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357336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谓，说）（他，指后一个人） （吗）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516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)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不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)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这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33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18446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用自己的话说说这篇文言文的意思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680" y="2911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思考：“虽与之俱学，弗若之矣。”的原因是什么？从中能总结出一个什么道理呢？联系你身边的人或事物思考一下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33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1981080"/>
            <a:ext cx="1031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弈秋善弈     一人 专心致志           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虽与之俱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弗若之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诲二人弈      一人 以为鸿鹄将至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2362320"/>
            <a:ext cx="304560" cy="236196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2205000"/>
            <a:ext cx="228600" cy="289548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92360" y="83664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学   弈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5445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专心致志才能学到真本领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2:55:34Z</dcterms:created>
  <dc:creator/>
  <dc:description/>
  <dc:language>en-US</dc:language>
  <cp:lastModifiedBy>User</cp:lastModifiedBy>
  <dcterms:modified xsi:type="dcterms:W3CDTF">2014-12-11T12:57:47Z</dcterms:modified>
  <cp:revision>23</cp:revision>
  <dc:subject/>
  <dc:title>PowerPoint 演示文稿</dc:title>
</cp:coreProperties>
</file>