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gif" ContentType="image/gif"/>
  <Override PartName="/ppt/media/image23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gif" ContentType="image/gif"/>
  <Override PartName="/ppt/media/image31.jpeg" ContentType="image/jpeg"/>
  <Override PartName="/ppt/media/image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44.gif" ContentType="image/gif"/>
  <Override PartName="/ppt/media/image36.jpeg" ContentType="image/jpeg"/>
  <Override PartName="/ppt/media/image40.gif" ContentType="image/gif"/>
  <Override PartName="/ppt/media/image41.jpeg" ContentType="image/jpeg"/>
  <Override PartName="/ppt/media/image33.gif" ContentType="image/gif"/>
  <Override PartName="/ppt/media/image38.gif" ContentType="image/gif"/>
  <Override PartName="/ppt/media/image8.gif" ContentType="image/gif"/>
  <Override PartName="/ppt/media/image18.jpeg" ContentType="image/jpeg"/>
  <Override PartName="/ppt/media/image45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0.gif" ContentType="image/gif"/>
  <Override PartName="/ppt/media/image46.png" ContentType="image/png"/>
  <Override PartName="/ppt/media/image35.png" ContentType="image/png"/>
  <Override PartName="/ppt/media/image43.jpeg" ContentType="image/jpeg"/>
  <Override PartName="/ppt/media/image47.gif" ContentType="image/gif"/>
  <Override PartName="/ppt/media/image13.jpeg" ContentType="image/jpeg"/>
  <Override PartName="/ppt/media/image20.gif" ContentType="image/gif"/>
  <Override PartName="/ppt/media/image6.jpeg" ContentType="image/jpeg"/>
  <Override PartName="/ppt/media/image27.jpeg" ContentType="image/jpeg"/>
  <Override PartName="/ppt/media/image11.gif" ContentType="image/gif"/>
  <Override PartName="/ppt/media/image7.gif" ContentType="image/gif"/>
  <Override PartName="/ppt/media/image2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FE26-E1F0-40CE-9882-FB6DA0972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2340-4E38-4E4A-A1C0-B8A2DE76A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1B38-2A34-4F0B-AA6C-4E3D095A0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F4B7-7B3C-4EAD-8B84-870D0045A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F05B-DA1A-452D-8E21-1C51C9CF4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AA1A-0569-406C-83F4-9717EB248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A812-60FF-419B-ADAD-5CB19B509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F9D3-2D33-438C-85DB-ADD65B4E6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9C57-E6AA-4A1B-BD8D-D210C3BFD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9B10-9AF8-4A23-AE23-F2E3F08AC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FC3F-BCFC-4DFF-95BE-87094AFF4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002D-0F19-4D1F-B8F0-537D50C9B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8440" y="0"/>
            <a:ext cx="917244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acd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B98ECD6-1334-4E1D-8D3C-64D76EF9BB6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468360" y="219240"/>
            <a:ext cx="180828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4040" y="1988640"/>
            <a:ext cx="5781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45acd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99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gif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ike.baidu.com/view/25507.htm" TargetMode="External"/><Relationship Id="rId2" Type="http://schemas.openxmlformats.org/officeDocument/2006/relationships/hyperlink" Target="http://baike.baidu.com/view/39669.htm" TargetMode="External"/><Relationship Id="rId3" Type="http://schemas.openxmlformats.org/officeDocument/2006/relationships/hyperlink" Target="http://baike.baidu.com/view/10153.htm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1100-E142-429A-A048-350368BC68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8560" y="754200"/>
            <a:ext cx="583272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小学生心理问题表现</a:t>
            </a:r>
            <a:r>
              <a:rPr b="1" lang="en-US" sz="36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768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自责倾向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自责倾向是指当发生不如意的事情时，经常认为自己不好，对自己所做的事抱有恐惧心理。自责倾向的根源是对失去别人的关爱与认可的不安。当学生感受到父母、教师、朋友不认可时，往往形成自责倾向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是以“为老师，父母学习”的观念为学习动力的同学，在成绩退步，经容易产生这种自责的心理，使自己陷入悲观，失落的情绪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4840" y="0"/>
            <a:ext cx="161892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F041-F9E7-4FEC-B6FE-D1F8476672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小学生心理问题的表现</a:t>
            </a:r>
            <a:r>
              <a:rPr b="0" lang="en-US" sz="36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93720"/>
            <a:ext cx="8005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自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少年自我意识强烈，自尊要求迫切，而且心理承受能力低。因此，当他们意识到某种威胁自尊的因素存在时，就会产生强烈不安、焦虑和恐惧。我知道很多同学十分渴望在诸如考试、体育比赛或文娱竞赛中出人头地，但又无一例外地对自己的能力缺乏必要的自信心，因而断定自己绝不可能获胜。由此，他们都是尽量回避参与任何竞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C24A-F5F1-4A52-948D-4E8DB69F72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14240" y="1577880"/>
            <a:ext cx="770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带儿子去动物园看大象，大象周围有许多矮矮的木桩，儿子的脑子里就产生了疑问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，这么大的象，一定很有力气，可是它为什么不挣断这细细的链子逃跑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妈妈告诉他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头象刚来到这里的时候还很小很小，当时就用这小木桩、矮棚圈着它，它当时很想挣断链子跑出去，可是由于力气小，每次都失败了，于是就失去了挣脱链子的信心。尽管它一天天长大，但不知道现在自己有很大的力量，用力挣一下，就能逃出来。它不敢这样想，当然也就不会这样去做，因而只好永远被锁在这里，老死在这里了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br>
              <a:rPr sz="2400"/>
            </a:b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35520" y="444600"/>
            <a:ext cx="32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小故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73760" y="5234040"/>
            <a:ext cx="1544400" cy="1396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61240" y="5294160"/>
            <a:ext cx="1590480" cy="1374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271520" y="2189160"/>
            <a:ext cx="6112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愿意做这只小象吗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681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A12C-C092-416F-96F8-856F473731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8720" y="419040"/>
            <a:ext cx="4460760" cy="3665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4680" y="2271600"/>
            <a:ext cx="4133520" cy="3503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568520" y="2401920"/>
            <a:ext cx="6305400" cy="15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是个不听话的孩子吗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033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F43C-66C0-4B7D-9C97-681AB661E5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小学生心理问题表现</a:t>
            </a:r>
            <a:r>
              <a:rPr b="0" lang="en-US" sz="36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360" y="1514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叛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于同学们正处于成长过渡期，独立意识和自我意识日益增强，迫切希望摆脱家长和老师的监护，反对成人把自己当成小孩子，同时，为了表现自己的与众不同，易对任何事情持批判的态度。逆反心理，容易偏激，由于知识经验的扩展和加深，逐渐长大的学生开始用批判的眼光来看待周围的事物。对教师的简单说教，喜欢从反面思考，喜欢索隐猎奇，容易产生固执、偏激的不良倾向，因而产生逆反心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4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189B-9F95-4040-AD76-621114FF30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9600" y="262080"/>
            <a:ext cx="4137120" cy="394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87200" y="2112840"/>
            <a:ext cx="4762800" cy="4375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34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E03C-F8C0-4765-8AB0-37A4455E32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小学生心理问题</a:t>
            </a:r>
            <a:r>
              <a:rPr b="0" lang="en-US" sz="36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351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攀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爸爸妈妈常常拿孩子的成绩与别的小朋友比较，于是，很多同学开始会过分在意别人的看法，不甘心输给别人。于是，就样样想跟着别人，变得浮夸，害怕落于人后。这就是一种不健康的攀比心理。而这种攀比不仅表现在学习成绩的比较，还表现在物质，金钱，甚至是外貌的比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61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50A3-245D-4C6B-8D58-9C5EC9369F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89520" y="739800"/>
            <a:ext cx="3222720" cy="347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85680" y="1874880"/>
            <a:ext cx="3764160" cy="3722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07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9665-C3F4-497C-91CC-E3A949A730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小学生心理问题</a:t>
            </a:r>
            <a:r>
              <a:rPr b="0" lang="en-US" sz="36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12680"/>
            <a:ext cx="820728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孤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调查发现有些学生常常觉得自己是茫茫大海上的一叶孤舟，性格孤僻，不愿意与人交往，却抱怨别人不理解自己，不接纳自己。心理学把这种心理状态称为闭锁心理，由此产生的一种感到与世隔绝，孤独寂寞的情绪体验称为孤独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69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BA19-A89F-462B-B038-F7B0A01B5D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小学生心理问题</a:t>
            </a:r>
            <a:r>
              <a:rPr b="0" lang="en-US" sz="36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12680"/>
            <a:ext cx="820728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自我为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都是父母的心头肉，在家里都是“小皇帝”，“小公主”，有些同学把这种感觉带到学校。希望老师，同学都围着他转，凡事只想着自己，不顾及他人的感受，不愿为他人做出一点牺牲，否则就感到委屈、受不了 。这就是所说的以自我为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15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7E63-B370-4693-93B0-8516F7D2CD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5160" y="1193760"/>
            <a:ext cx="582444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心理健康教育主题班会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二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206360"/>
            <a:ext cx="1706400" cy="142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07160" y="1703520"/>
            <a:ext cx="24368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8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84,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汉仪丫丫体简"/>
              </a:rPr>
              <a:t>那小朋友们该做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040" y="1736640"/>
            <a:ext cx="4027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汉仪丫丫体简"/>
              </a:rPr>
              <a:t>多跟父母，老师沟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221000" y="1195560"/>
            <a:ext cx="4203720" cy="5146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21280" y="1150920"/>
            <a:ext cx="4360680" cy="4970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475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DC2D-B3BC-4531-89D0-3562B5BC22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汉仪丫丫体简"/>
              </a:rPr>
              <a:t>那小朋友们该做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1460520"/>
            <a:ext cx="4027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汉仪丫丫体简"/>
              </a:rPr>
              <a:t>了解自己，接纳自己、肯定自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373640" y="1117440"/>
            <a:ext cx="4592520" cy="5740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61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E794-E6A6-4E87-863F-8C65505C26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汉仪丫丫体简"/>
              </a:rPr>
              <a:t>那小朋友们该做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9960" y="1633680"/>
            <a:ext cx="4027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丫丫体简"/>
              </a:rPr>
              <a:t>拥有一个伟大的梦想，设立明确的生活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141800" y="1189080"/>
            <a:ext cx="4638600" cy="5230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165560" y="1233360"/>
            <a:ext cx="4527720" cy="5124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42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54ED-39B8-419E-9E22-410AD3D584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汉仪丫丫体简"/>
              </a:rPr>
              <a:t>那小朋友们该做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3960" y="1647720"/>
            <a:ext cx="4027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丫丫体简"/>
              </a:rPr>
              <a:t>学会自我控制，克服诱惑，活在现实当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Rectangle 31" descr=""/>
          <p:cNvPicPr/>
          <p:nvPr/>
        </p:nvPicPr>
        <p:blipFill>
          <a:blip r:embed="rId1"/>
          <a:stretch/>
        </p:blipFill>
        <p:spPr>
          <a:xfrm>
            <a:off x="4821120" y="1474920"/>
            <a:ext cx="3461040" cy="4609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763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97A3-4C04-4556-A5B2-04160424F5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汉仪丫丫体简"/>
              </a:rPr>
              <a:t>那小朋友们该做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4000" y="1662120"/>
            <a:ext cx="4027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丫丫体简"/>
              </a:rPr>
              <a:t>学会舒缓舒解愤怒、低落、忧郁、厌倦的情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57600" y="1270080"/>
            <a:ext cx="3792600" cy="5300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46080" y="1224000"/>
            <a:ext cx="2598840" cy="4827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61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EDBE-C8AC-4D42-9BD8-9610239F2C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汉仪丫丫体简"/>
              </a:rPr>
              <a:t>那小朋友们该做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9960" y="1527120"/>
            <a:ext cx="4027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丫丫体简"/>
              </a:rPr>
              <a:t>对自己要时常鼓励增强自信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83000" y="1239840"/>
            <a:ext cx="4473720" cy="5005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7960" y="1298520"/>
            <a:ext cx="4027320" cy="4827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285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586A-EC45-4E93-8187-8C463F0CC3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汉仪丫丫体简"/>
              </a:rPr>
              <a:t>那小朋友们该做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0960" y="1741320"/>
            <a:ext cx="4027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丫丫体简"/>
              </a:rPr>
              <a:t>多做有意义的事，帮助别人，快乐自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24560" y="1274760"/>
            <a:ext cx="4057560" cy="4938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47960" y="1298520"/>
            <a:ext cx="4027320" cy="4827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15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6409-7D43-45B0-95D5-3F3735C1F1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汉仪丫丫体简"/>
              </a:rPr>
              <a:t>那小朋友们该做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459080"/>
            <a:ext cx="4027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丫丫体简"/>
              </a:rPr>
              <a:t>注意锻炼身体，展现朝气活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6680" y="1270080"/>
            <a:ext cx="4027680" cy="4827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56160" y="1511280"/>
            <a:ext cx="4005360" cy="4005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15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F79A-BCEE-4093-A66F-282F05A704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汉仪丫丫体简"/>
              </a:rPr>
              <a:t>那小朋友们该做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8760" y="1649520"/>
            <a:ext cx="4027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丫丫体简"/>
              </a:rPr>
              <a:t>学会思考，养成积极进取的学习生活态度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Rectangle 31" descr=""/>
          <p:cNvPicPr/>
          <p:nvPr/>
        </p:nvPicPr>
        <p:blipFill>
          <a:blip r:embed="rId1"/>
          <a:stretch/>
        </p:blipFill>
        <p:spPr>
          <a:xfrm>
            <a:off x="4775040" y="1504800"/>
            <a:ext cx="3552840" cy="4734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5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4A59-DA5E-4B9D-8808-1178DCDB97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汉仪丫丫体简"/>
              </a:rPr>
              <a:t>那小朋友们该做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7000" y="1568520"/>
            <a:ext cx="4027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丫丫体简"/>
              </a:rPr>
              <a:t>净化自己的心灵，追求平和的心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ctangle 31" descr=""/>
          <p:cNvPicPr/>
          <p:nvPr/>
        </p:nvPicPr>
        <p:blipFill>
          <a:blip r:embed="rId1"/>
          <a:stretch/>
        </p:blipFill>
        <p:spPr>
          <a:xfrm>
            <a:off x="4626000" y="1449360"/>
            <a:ext cx="4290840" cy="4291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15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7E8C-7E88-4029-92AE-A38F4884E3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31" descr=""/>
          <p:cNvPicPr/>
          <p:nvPr/>
        </p:nvPicPr>
        <p:blipFill>
          <a:blip r:embed="rId1"/>
          <a:stretch/>
        </p:blipFill>
        <p:spPr>
          <a:xfrm>
            <a:off x="-212760" y="1590840"/>
            <a:ext cx="1495440" cy="1249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231920" y="2417760"/>
            <a:ext cx="6878520" cy="12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什么是健康？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1890" t="1417" r="1890" b="1417"/>
          <a:stretch/>
        </p:blipFill>
        <p:spPr>
          <a:xfrm>
            <a:off x="4815000" y="3973680"/>
            <a:ext cx="2859120" cy="23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5880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A64D-1AA0-4399-9676-DF74CA748F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汉仪丫丫体简"/>
              </a:rPr>
              <a:t>那小朋友们该做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7400" y="1539720"/>
            <a:ext cx="4027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丫丫体简"/>
              </a:rPr>
              <a:t>正确面对竞争，在竞争中发现别人的闪光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32480" y="1184400"/>
            <a:ext cx="4271760" cy="5073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15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90D5-1527-4040-BF67-6186CB279D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汉仪丫丫体简"/>
              </a:rPr>
              <a:t>那小朋友们该做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593720"/>
            <a:ext cx="4027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丫丫体简"/>
              </a:rPr>
              <a:t>凡是三思而后行，不做让自己后悔的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00720" y="1176480"/>
            <a:ext cx="4198680" cy="5284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15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D7F2-557B-474D-BBBF-D507FAA0F38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550960" y="488880"/>
            <a:ext cx="461196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汉仪丫丫体简"/>
              </a:rPr>
              <a:t>感谢父母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汉仪丫丫体简"/>
              <a:ea typeface="汉仪丫丫体简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35200" y="2114640"/>
            <a:ext cx="505764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汉仪丫丫体简"/>
              </a:rPr>
              <a:t>爸爸妈妈你们辛苦了</a:t>
            </a:r>
            <a:endParaRPr b="0" i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汉仪丫丫体简"/>
              <a:ea typeface="汉仪丫丫体简"/>
            </a:endParaRPr>
          </a:p>
        </p:txBody>
      </p:sp>
      <p:pic>
        <p:nvPicPr>
          <p:cNvPr id="201" name="Rectangle 31" descr=""/>
          <p:cNvPicPr/>
          <p:nvPr/>
        </p:nvPicPr>
        <p:blipFill>
          <a:blip r:embed="rId1"/>
          <a:stretch/>
        </p:blipFill>
        <p:spPr>
          <a:xfrm>
            <a:off x="4203720" y="3549600"/>
            <a:ext cx="4019400" cy="2960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15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6471-484D-44A4-8629-9034AB538D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759280" y="289080"/>
            <a:ext cx="2811600" cy="3047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777960" y="1676520"/>
            <a:ext cx="4597200" cy="13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游戏时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68320" y="3635280"/>
            <a:ext cx="1906560" cy="1405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341960" y="4282920"/>
            <a:ext cx="292896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我判断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15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F491-0853-42F9-B460-473ED5C19B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7360" y="15811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精神愉快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同学友善。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别人犯错误时，尽可能从好的角度来解释他们的行为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总觉得他能够成功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尽量不去想悲观的事情。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2280960" y="420840"/>
            <a:ext cx="501948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快乐心理素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测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5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3350-D3A1-427B-BA5E-39EBEBA0F0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461600"/>
            <a:ext cx="82803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每天练习至少微笑三次。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无法改变的事实不予理睬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总能找到自我安慰的办法。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在乎别人的挖苦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挨批评时态度诚恳，坦然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15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DC2F-0CBA-45DD-8EF5-1861A36BF9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28760" y="143208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成熟的想法会征询成人的意见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快乐时光念念不忘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所有的征兆都认为是好的开始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小动物充满爱心。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受到挫折总能释放出来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符合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是这样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不符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15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F1F6-1208-4E7D-80DF-ADB6509130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4208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评分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--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以上，说明你自行其乐能力较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--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说明你自行其乐的能力较为一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--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说明你自行其乐的能力需要提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得分（                ）分　　　　　　　　　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9360" y="0"/>
            <a:ext cx="1701720" cy="133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D809-8F63-4254-A837-7FA4CC9D83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759280" y="289080"/>
            <a:ext cx="2811600" cy="30477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777960" y="1676520"/>
            <a:ext cx="4597200" cy="13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游戏时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68320" y="3635280"/>
            <a:ext cx="1906560" cy="1405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 rot="21460200">
            <a:off x="3043080" y="3462120"/>
            <a:ext cx="5334120" cy="19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《你听我说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15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4309-1FCF-43A4-A8ED-D67D50894A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71400" y="3107880"/>
            <a:ext cx="759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、一个扮演盲人，一个扮演明眼人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、盲人在明眼人的帮助下，将贴在黑板上的空白脸孔，画上五官。只限于用声音提示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15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9B0F-A269-4CAC-9CD6-862ECC326D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08240" y="1362240"/>
            <a:ext cx="4903920" cy="82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这就是健康吗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96160" y="0"/>
            <a:ext cx="2247840" cy="1490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33360" y="2573280"/>
            <a:ext cx="3119400" cy="3119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24160" y="2484360"/>
            <a:ext cx="4677120" cy="3664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7932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A070-29B9-45E3-AA36-E44B46D240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Rectangle 31" descr=""/>
          <p:cNvPicPr/>
          <p:nvPr/>
        </p:nvPicPr>
        <p:blipFill>
          <a:blip r:embed="rId1"/>
          <a:stretch/>
        </p:blipFill>
        <p:spPr>
          <a:xfrm>
            <a:off x="74520" y="15840"/>
            <a:ext cx="9142560" cy="6885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469800" y="1641600"/>
            <a:ext cx="82076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汉仪丫丫体简"/>
              </a:rPr>
              <a:t>祝同学们学习进步，天天开心，健康成长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839960" y="2473200"/>
            <a:ext cx="3400200" cy="20210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702400" y="2346480"/>
            <a:ext cx="3400200" cy="202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6AF6-EBE9-491D-A1EA-49C2EC4CED1A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健康是指一个人在身体、精神和社会等方面都处于良好的状态。传统的健康观是“无病即健康”，现代人的健康观是整体健康，</a:t>
            </a:r>
            <a:r>
              <a:rPr b="0" lang="zh-CN" sz="3600" spc="-1" strike="noStrike" u="sng">
                <a:solidFill>
                  <a:srgbClr val="0099cc"/>
                </a:solidFill>
                <a:uFillTx/>
                <a:latin typeface="宋体"/>
                <a:ea typeface="宋体"/>
                <a:hlinkClick r:id="rId1"/>
              </a:rPr>
              <a:t>世界卫生组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提出“健康不仅是躯体没有疾病，还要具备</a:t>
            </a:r>
            <a:r>
              <a:rPr b="0" lang="zh-CN" sz="3600" spc="-1" strike="noStrike" u="sng">
                <a:solidFill>
                  <a:srgbClr val="0099cc"/>
                </a:solidFill>
                <a:uFillTx/>
                <a:latin typeface="宋体"/>
                <a:ea typeface="宋体"/>
                <a:hlinkClick r:id="rId2"/>
              </a:rPr>
              <a:t>心理健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社会适应良好和有</a:t>
            </a:r>
            <a:r>
              <a:rPr b="0" lang="zh-CN" sz="3600" spc="-1" strike="noStrike" u="sng">
                <a:solidFill>
                  <a:srgbClr val="0099cc"/>
                </a:solidFill>
                <a:uFillTx/>
                <a:latin typeface="宋体"/>
                <a:ea typeface="宋体"/>
                <a:hlinkClick r:id="rId3"/>
              </a:rPr>
              <a:t>道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6600" y="0"/>
            <a:ext cx="1618920" cy="153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9A3C-A1D9-4A38-8CD0-C294347DE5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65480" y="1449360"/>
            <a:ext cx="524196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同学们的困惑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226280" y="2649600"/>
            <a:ext cx="1695600" cy="1571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709640" y="2697120"/>
            <a:ext cx="5400720" cy="297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763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2B0F-61DF-4520-AE79-4F92CB219F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81760" y="490680"/>
            <a:ext cx="3216240" cy="3309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01720" y="2000160"/>
            <a:ext cx="3809880" cy="37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655720" y="4070520"/>
            <a:ext cx="57247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我们为谁而学习？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112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4A22-2CED-4CFE-9DCE-1D5603E10F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6320" y="1577880"/>
            <a:ext cx="73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望子成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望女成凤，想必是每个爸爸妈妈的心愿。据调查，在全国一些大中城市中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小学生存在学习焦虑。这主要是由于学生学习竞争加剧，学习负担过重，同时学校、教师、家长又过分看重分数，给小学生心理造成沉重压力引起的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57240" y="4303800"/>
            <a:ext cx="74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同学不堪重负，出现了以下一些情况，同学们可以对比一下，看自己是不是也有类似的烦恼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63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81C1-7909-4C3C-ABD1-C47CA96C7F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6600" y="1255680"/>
            <a:ext cx="4098960" cy="3821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48040" y="1204920"/>
            <a:ext cx="3892680" cy="382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61960" y="0"/>
            <a:ext cx="161928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0CAF-BCB2-4896-82C1-96FB1BFDC8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未知用户</cp:lastModifiedBy>
  <cp:lastPrinted>1899-12-30T00:00:00Z</cp:lastPrinted>
  <dcterms:modified xsi:type="dcterms:W3CDTF">2015-12-10T07:56:54Z</dcterms:modified>
  <cp:revision>195</cp:revision>
  <dc:subject/>
  <dc:title>  心理健康讲座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