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88C-7E6B-4955-BA35-51667D57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E37-245F-4417-B554-A94A28B9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36A-CB3D-41A2-9705-BE054684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3CA-EF87-4919-92EA-3F92BF08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36D9-15AC-449B-BB06-1B184E82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C4B3-8245-4933-973E-BDC8668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1A40-48C4-45E2-AEB1-0AE1FA1C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F942-AE99-4542-BC6B-277AAE3D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D915-0FDC-4590-A926-3ECD9822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50B1-734B-4973-99AE-54E6396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646-C914-445C-89D7-A38F2A83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CF3-17F3-418E-992B-D04B0D77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5957-7F64-41E8-8D1A-E371ABBF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8196-39EE-4141-99CD-8E35E5DC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DF17-49F6-440B-82E1-B26EDE26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2A68-C8E2-4B87-BA49-ECF3085C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004-A818-4CF3-B5FA-21CEB47D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B94-6608-41B5-86A4-15401FE2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341-179D-4395-9FBF-AB6D3344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877-42E8-466B-852D-227612F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967-D827-4715-9296-ADC73BB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64F-CE3C-44D9-A844-34E282C9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1FF-267E-4728-AFE3-D0F660A5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722-EC2C-419C-B718-438B8C8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38A2-4022-4951-B6CD-77CF8CA6E8E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26C-E05A-4E7B-96A4-7E27437DDCA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小学生必背古诗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70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首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9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凉州词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翰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葡萄美酒夜光杯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欲饮琵琶马上催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醉卧沙场君莫笑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古来征战几人回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出塞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昌龄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秦时明月汉时关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万里长征人未还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但使龙城飞将在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教胡马度阴山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芙蓉楼送辛渐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昌龄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寒雨连江夜入吴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平明送客楚山孤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洛阳亲友如相问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片冰心在玉壶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鹿柴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维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空山不见人，但闻人语响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返景入深林，复照青苔上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送元二使安西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维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渭城朝雨浥轻尘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客舍青青柳色新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劝君更尽一杯酒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西出阳关无故人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九月九日忆山东兄弟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维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独在异乡为异客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每逢佳节倍思亲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遥知兄弟登高处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遍插茱萸少一人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静夜思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床前明月光，疑是地上霜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举头望明月，低头思故乡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古朗月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小时不识月，呼作白玉盘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又疑瑶台镜，飞在青云端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7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望庐山瀑布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日照香炉生紫烟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遥看瀑布挂前川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飞流直下三千尺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疑是银河落九天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8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赠汪伦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乘舟将欲行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忽闻岸上踏歌声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桃花潭水深千尺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及汪伦送我情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3628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江南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汉乐府）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江南可采莲，莲叶何田田！  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鱼戏莲叶间。鱼戏莲叶东，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鱼戏莲叶西，鱼戏莲叶南，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鱼戏莲叶北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9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黄鹤楼送孟浩然之广陵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故人西辞黄鹤楼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烟花三月下扬州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孤帆远影碧空尽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唯见长江天际流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0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早发白帝城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朝辞白帝彩云间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里江陵一日还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两岸猿声啼不住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轻舟已过万重山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望天门山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天门中断楚江开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碧水东流至此回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两岸青山相对出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孤帆一片日边来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别董大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高适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里黄云白日曛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北风吹雁雪纷纷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莫愁前路无知己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天下谁人不识君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绝句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杜甫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两个黄鹂鸣翠柳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行白鹭上青天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窗含西岭千秋雪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门泊东吴万里船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春夜喜雨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杜甫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好雨知时节，当春乃发生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随风潜入夜，润物细无声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野径云俱黑，江船火独明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晓看红湿处，花重锦官城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绝句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杜甫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迟日江山丽，春风花草香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泥融飞燕子，沙暖睡鸳鸯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江畔独步寻花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杜甫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黄四娘家花满蹊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朵万朵压枝低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留连戏蝶时时舞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自在娇莺恰恰啼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7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游子吟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孟郊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慈母手中线，游子身上衣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临行密密缝，意恐迟迟归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谁言寸草心，报得三春晖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8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江雪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柳宗元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山鸟飞绝，万径人踪灭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孤舟蓑笠翁，独钓寒江雪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628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敕勒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北朝民歌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敕勒川，阴山下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天似穹庐，笼盖四野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天苍苍，野茫茫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风吹草低见牛羊。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9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寻隐者不遇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贾岛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松下问童子，言师采药去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只在此山中，云深不知处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0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枫桥夜泊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张继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月落乌啼霜满天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江枫渔火对愁眠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姑苏城外寒山寺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夜半钟声到客船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渔歌子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张志和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西塞山前白鹭飞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桃花流水鳜鱼肥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青箬笠，绿蓑衣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斜风细雨不须归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塞下曲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卢纶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林暗草惊风，将军夜引弓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平明寻白羽，没在石棱中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望洞庭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刘禹锡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湖光秋月两相和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潭面无风镜未磨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遥望洞庭山水色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白银盘里一青螺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浪淘沙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刘禹锡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九曲黄河万里沙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浪淘风簸自天涯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如今直上银河去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同到牵牛织女家。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赋得古原草送别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白居易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离离原上草，一岁一枯荣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野火烧不尽，春风吹又生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远芳侵古道，晴翠接荒城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又送王孙去，萋萋满别情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池上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白居易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小娃撑小艇，偷采白莲回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解藏踪迹，浮萍一道开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37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忆江南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       （唐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白居易） 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        江南好，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        风景旧曾谙。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        日出江花红胜火，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        春来江水绿如蓝。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         能不忆江南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8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悯农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绅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锄禾日当午，汗滴禾下土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谁知盘中餐，粒粒皆辛苦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咏鹅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骆宾王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鹅，鹅，鹅，曲项向天歌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白毛浮绿水，红掌拨清波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9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悯农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绅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春种一粒粟，秋收万颗子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四海无闲田，农夫犹饿死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0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山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杜牧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远上寒山石径斜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白云生处有人家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停车坐爱枫林晚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霜叶红于二月花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清明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杜牧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清明时节雨纷纷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路上行人欲断魂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借问酒家何处有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牧童遥指杏花村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江南春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杜牧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里莺啼绿映红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水村山郭酒旗风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南朝四百八十寺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多少楼台烟雨中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乐游原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商隐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向晚意不适，驱车登古原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夕阳无限好，只是近黄昏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罗隐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论平地与山尖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无限风光尽被占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采得百花成蜜后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为谁辛苦为谁甜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小儿垂钓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胡令能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蓬头稚子学垂纶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侧坐莓苔草映身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路人借问遥招手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怕得鱼惊不应人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江上渔者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范仲淹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江上往来人，但爱鲈鱼美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君看一叶舟，出没风波里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7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元日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安石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爆竹声中一岁除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春风送暖入屠苏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门万户曈曈日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总把新桃换旧符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8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泊船瓜洲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安石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京口瓜洲一水间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钟山只隔数重山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春风又绿江南岸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明月何时照我还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风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峤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解落三秋叶，能开二月花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过江千尺浪，入竹万竿斜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9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书湖阴先生壁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安石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茅檐长扫净无苔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花木成畦手自栽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水护田将绿绕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两山排闼送青来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0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六月二十七日望湖楼醉书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苏轼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黑云翻墨未遮山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白雨跳珠乱入船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卷地风来忽吹散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望湖楼下水如天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饮湖上初晴后雨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苏轼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水光潋滟晴方好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山色空蒙雨亦奇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欲把西湖比西子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淡妆浓抹总相宜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惠崇《春江晓景》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苏轼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竹外桃花三两枝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春江水暖鸭先知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蒌蒿满地芦芽短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正是河豚欲上时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题西林壁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苏轼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横看成岭侧成峰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远近高低各不同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识庐山真面目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只缘身在此山中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夏日绝句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李清照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生当作人杰，死亦为鬼雄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至今思项羽，不肯过江东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示儿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陆游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死去元知万事空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但悲不见九州同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师北定中原日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家祭无忘告乃翁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秋夜将晓出篱门迎凉有感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陆游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万里河东入海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五千仞岳上摩天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遗民泪尽胡尘里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南望王师又一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7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四时田园杂兴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范成大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昼出耘田夜绩麻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村庄儿女各当家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童孙未解供耕织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也傍桑阴学种瓜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8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四时田园杂兴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范成大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梅子金黄杏子肥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麦花雪白菜花稀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日长篱落无人过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惟有蜻蜓蛱蝶飞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咏柳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贺知章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碧玉妆成一树高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万条垂下绿丝绦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知细叶谁裁出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月春风似剪刀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9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小池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杨万里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泉眼无声惜细流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树阴照水爱晴柔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小荷才露尖尖角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早有蜻蜓立上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0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晓出净慈寺送林子方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杨万里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毕竟西湖六月中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风光不与四时同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接天莲叶无穷碧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映日荷花别样红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春日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朱熹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胜日寻芳泗水滨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无边光景一时新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等闲识得东风面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万紫千红总是春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题临安邸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林升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山外青山楼外楼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西湖歌舞几时休？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暖风熏得游人醉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直把杭州作汴州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游园不值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叶绍翁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应怜屐齿印苍苔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小扣柴扉久不开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春色满园关不住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枝红杏出墙来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乡村四月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翁卷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绿遍山原白满川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子规声里雨如烟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乡村四月闲人少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才了蚕桑又插田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村居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清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高鼎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草长莺飞二月天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拂堤杨柳醉春烟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儿童散学归来早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忙趁东风放纸鸢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墨梅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元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冕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吾家洗砚池头树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个花开淡墨痕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要人夸好颜色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只流清气满乾坤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7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石灰吟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明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于谦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锤万凿出深山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烈火焚烧若等闲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粉骨碎身浑不怕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要留清白在人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8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竹石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清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郑燮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咬定青山不放松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立根原在破岩中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千磨万击还坚劲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任尔东西南北风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凉州词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之涣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黄河远上白云间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片孤城万仞山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羌笛何须怨杨柳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春风不度玉门关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9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己亥杂诗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清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龚自珍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九州生气恃风雷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万马齐喑究可哀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我劝天公重抖擞，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不拘一格降人才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70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所见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清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袁枚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牧童骑黄牛，歌声振林樾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意欲捕鸣蝉，忽然闭口立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628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字母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Aa  Bb  Cc  Dd  Ee  Ff  Gg  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Hh  Ii   Jj  Kk  Ll  Mm  Nn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Oo  Pp  Qq  Rr  Ss  Tt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Uu  Vv  Ww  Xx  Yy  Zz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628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声母表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2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b  p  m  f  d  t  n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l   g  k  h  j  q  x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zh  ch  sh  r  z  c  s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y  w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628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韵母表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单韵母（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）：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a  o  e  i  u  ü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复韵母（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）：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ai  ei  ui  ao  ou  iu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前鼻韵母（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）：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an  en  in  un  ün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后鼻韵母（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）：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ang  eng  ong  ing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915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整体认读音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个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yin  yi  ye  yu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wu  yuan  yue  yun  ying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zi  ci  si  ri  zhi  chi  sh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登鹳雀楼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王之涣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白日依山尽，黄河入海流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欲穷千里目，更上一层楼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春晓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（唐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孟浩然）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春眠不觉晓，处处闻啼鸟。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夜来风雨声，花落知多少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advTm="12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23:24:39Z</dcterms:created>
  <dc:creator>dingfeng</dc:creator>
  <dc:description/>
  <dc:language>en-US</dc:language>
  <cp:lastModifiedBy>hasee</cp:lastModifiedBy>
  <dcterms:modified xsi:type="dcterms:W3CDTF">2012-04-18T22:44:23Z</dcterms:modified>
  <cp:revision>63</cp:revision>
  <dc:subject/>
  <dc:title>1、江南（汉乐府） 江南可采莲，莲叶何田田！   鱼戏莲叶间。鱼戏莲叶东， 鱼戏莲叶西，鱼戏莲叶南， 鱼戏莲叶北。</dc:title>
</cp:coreProperties>
</file>