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B110-28D0-40A0-A630-3C77C83CE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767A-1BCB-4135-B134-5EE521BB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7047-EBEE-4177-9791-93FBC07C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1F9A-4D2F-4657-9AED-EA86CDA1F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5FDE-A796-4E6C-86E8-BFE57D0CD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8840-F82A-42F2-BE22-7A9A2ED4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9560-6948-4B0E-A87A-B6A2CED5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DBC7-B18E-4F77-AFC8-C31509D7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301E-EBD6-4281-B58A-2C8EAD65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4DF4-B1F2-4713-B6C7-9282C9FB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2519-9582-4034-BE8D-087491CA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0920-D745-4AFB-AE57-FC89DAA9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64FD-8A73-4B8F-B047-DD3B1859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8DF8-C71B-42AE-8BDD-7DBAB4F0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3AAD-3A73-4313-8F91-855E1E4C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DF05-93A3-41F5-8F17-01430F4FF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467E-4267-49F7-93EA-109DB7CCC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863A-E9B4-440C-AA58-96495074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7A61-91E8-4DC9-9F9B-9FFEAEB7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E683-D9B9-40C5-921F-C491BDBF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A856-1E13-4D72-8410-7D48143E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234C-6532-4499-B377-2D5FE102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34B5-5996-4E54-81EB-4D1985CB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F577-34D0-4A7F-BCE4-6A213DA7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A602-2D0C-439F-A92E-BADCDDA4648D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F48E-C7B0-4BA2-9B17-92EBB4765A50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149800" y="5805360"/>
            <a:ext cx="3994200" cy="161748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ffb8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3366ff"/>
                </a:solidFill>
                <a:latin typeface="Arial"/>
                <a:ea typeface="华文行楷"/>
              </a:rPr>
              <a:t>三年级家长会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42920" y="2421000"/>
            <a:ext cx="69850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3366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沟通心灵 共同成长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solidFill>
                <a:srgbClr val="3366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94920" y="1125000"/>
            <a:ext cx="7993080" cy="38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里的表达有两层意思：一是口头表达，二是书面表达。语文不光是积累，而是要学会运用。只有在不断地运用中，语文能力才会不断地提高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1258920" y="1773360"/>
            <a:ext cx="2449440" cy="718920"/>
          </a:xfrm>
          <a:prstGeom prst="ellipse">
            <a:avLst/>
          </a:prstGeom>
          <a:noFill/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59280" y="1773360"/>
            <a:ext cx="2376720" cy="792000"/>
          </a:xfrm>
          <a:prstGeom prst="ellipse">
            <a:avLst/>
          </a:prstGeom>
          <a:noFill/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837720"/>
            <a:ext cx="75646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200"/>
                </a:solidFill>
                <a:latin typeface="Comic Sans MS"/>
              </a:rPr>
              <a:t>*</a:t>
            </a:r>
            <a:r>
              <a:rPr b="1" lang="zh-CN" sz="4400" spc="-1" strike="noStrike">
                <a:solidFill>
                  <a:srgbClr val="00b200"/>
                </a:solidFill>
                <a:latin typeface="Comic Sans MS"/>
              </a:rPr>
              <a:t>给孩子一个良好的学习环境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58560" y="2276280"/>
            <a:ext cx="698508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有专门的做作业地方；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有合理的看电视计划；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养成定时看课外书的习惯；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以身作则看点书报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7667640" y="5950080"/>
            <a:ext cx="433440" cy="358560"/>
          </a:xfrm>
          <a:custGeom>
            <a:avLst/>
            <a:gdLst>
              <a:gd name="textAreaLeft" fmla="*/ 23040 w 433440"/>
              <a:gd name="textAreaRight" fmla="*/ 410400 w 4334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6106" h="21600">
                <a:moveTo>
                  <a:pt x="0" y="0"/>
                </a:moveTo>
                <a:lnTo>
                  <a:pt x="26106" y="0"/>
                </a:lnTo>
                <a:lnTo>
                  <a:pt x="26106" y="21600"/>
                </a:lnTo>
                <a:lnTo>
                  <a:pt x="0" y="21600"/>
                </a:lnTo>
                <a:close/>
              </a:path>
              <a:path fill="lightenLess" w="26106" h="21600">
                <a:moveTo>
                  <a:pt x="0" y="0"/>
                </a:moveTo>
                <a:lnTo>
                  <a:pt x="26106" y="0"/>
                </a:lnTo>
                <a:lnTo>
                  <a:pt x="24706" y="1400"/>
                </a:lnTo>
                <a:lnTo>
                  <a:pt x="1400" y="1400"/>
                </a:lnTo>
                <a:close/>
              </a:path>
              <a:path fill="darken" w="26106" h="21600">
                <a:moveTo>
                  <a:pt x="26106" y="0"/>
                </a:moveTo>
                <a:lnTo>
                  <a:pt x="26106" y="21600"/>
                </a:lnTo>
                <a:lnTo>
                  <a:pt x="24706" y="20200"/>
                </a:lnTo>
                <a:lnTo>
                  <a:pt x="24706" y="1400"/>
                </a:lnTo>
                <a:close/>
              </a:path>
              <a:path fill="darkenLess" w="26106" h="21600">
                <a:moveTo>
                  <a:pt x="261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06" y="20200"/>
                </a:lnTo>
                <a:close/>
              </a:path>
              <a:path fill="lighten" w="261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06" h="21600">
                <a:moveTo>
                  <a:pt x="13053" y="3837"/>
                </a:moveTo>
                <a:lnTo>
                  <a:pt x="15629" y="6448"/>
                </a:lnTo>
                <a:lnTo>
                  <a:pt x="15629" y="4707"/>
                </a:lnTo>
                <a:lnTo>
                  <a:pt x="17405" y="4707"/>
                </a:lnTo>
                <a:lnTo>
                  <a:pt x="17405" y="8224"/>
                </a:lnTo>
                <a:lnTo>
                  <a:pt x="20016" y="10800"/>
                </a:lnTo>
                <a:lnTo>
                  <a:pt x="18362" y="10800"/>
                </a:lnTo>
                <a:lnTo>
                  <a:pt x="18362" y="17989"/>
                </a:lnTo>
                <a:lnTo>
                  <a:pt x="7744" y="17989"/>
                </a:lnTo>
                <a:lnTo>
                  <a:pt x="7744" y="10800"/>
                </a:lnTo>
                <a:lnTo>
                  <a:pt x="6090" y="10800"/>
                </a:lnTo>
                <a:close/>
              </a:path>
              <a:path fill="darkenLess" w="26106" h="21600">
                <a:moveTo>
                  <a:pt x="15629" y="6448"/>
                </a:moveTo>
                <a:lnTo>
                  <a:pt x="15629" y="4707"/>
                </a:lnTo>
                <a:lnTo>
                  <a:pt x="17405" y="4707"/>
                </a:lnTo>
                <a:lnTo>
                  <a:pt x="17405" y="8224"/>
                </a:lnTo>
                <a:close/>
              </a:path>
              <a:path fill="darkenLess" w="26106" h="21600">
                <a:moveTo>
                  <a:pt x="12131" y="14299"/>
                </a:moveTo>
                <a:lnTo>
                  <a:pt x="13976" y="14299"/>
                </a:lnTo>
                <a:lnTo>
                  <a:pt x="13976" y="17989"/>
                </a:lnTo>
                <a:lnTo>
                  <a:pt x="18362" y="17989"/>
                </a:lnTo>
                <a:lnTo>
                  <a:pt x="18362" y="10800"/>
                </a:lnTo>
                <a:lnTo>
                  <a:pt x="7744" y="10800"/>
                </a:lnTo>
                <a:lnTo>
                  <a:pt x="7744" y="17989"/>
                </a:lnTo>
                <a:lnTo>
                  <a:pt x="1213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16000" y="571680"/>
            <a:ext cx="799308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二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做一个负责任的家长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、平时多和孩子交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、多和老师沟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、多翻翻孩子书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、帮助孩子养成良好的生活习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（整理书包、按时上下学、穿着整洁大方、戴好小黄帽红领巾校徽…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、做孩子行为习惯上的好榜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（言语文明、注意卫生、衣着整洁、乐于               助人、做人诚信…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-32760" y="-466200"/>
            <a:ext cx="1094760" cy="52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Comic Sans MS"/>
                <a:ea typeface="隶书"/>
              </a:rPr>
              <a:t>家教小建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028000" y="6165720"/>
            <a:ext cx="433440" cy="43200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619280" y="836640"/>
            <a:ext cx="5977080" cy="43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三、安全教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注意学校的作息时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教育孩子放学后按时回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不去危险的地方游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中午在学校的学生注意饮食卫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741672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4" marL="20365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Comic Sans MS"/>
              </a:rPr>
              <a:t>冬季作息时间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早上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开校门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学生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30-7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到校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上午放学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下午是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00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开校门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学生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00-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到校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下午放学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放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*3:50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清校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3960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ff"/>
                </a:solidFill>
                <a:latin typeface="黑体"/>
                <a:ea typeface="黑体"/>
              </a:rPr>
              <a:t>资源共享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99640" y="1413000"/>
            <a:ext cx="7201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971640" y="2103840"/>
            <a:ext cx="74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、思想上要继续引导孩子。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71640" y="3189960"/>
            <a:ext cx="721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、行为要继续辅导孩子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42920" y="4190040"/>
            <a:ext cx="705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、学习上要帮助孩子。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684360" y="1773360"/>
            <a:ext cx="691200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谢谢指导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340000" y="2749680"/>
            <a:ext cx="183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25005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ff"/>
                </a:solidFill>
                <a:latin typeface="黑体"/>
                <a:ea typeface="黑体"/>
              </a:rPr>
              <a:t>    </a:t>
            </a:r>
            <a:r>
              <a:rPr b="1" lang="zh-CN" sz="5400" spc="-1" strike="noStrike">
                <a:solidFill>
                  <a:srgbClr val="3366ff"/>
                </a:solidFill>
                <a:latin typeface="黑体"/>
                <a:ea typeface="黑体"/>
              </a:rPr>
              <a:t>三年级是小学阶段尤为重要的一年，是他们从一名儿童成长为一名少年的关键期。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74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ff"/>
                </a:solidFill>
                <a:latin typeface="Comic Sans MS"/>
                <a:ea typeface="黑体"/>
              </a:rPr>
              <a:t>问题探讨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3366ff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77228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、养成良好的学习习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2996280"/>
            <a:ext cx="879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、做一个负责任的家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4291560"/>
            <a:ext cx="44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、安全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200"/>
                </a:solidFill>
                <a:latin typeface="Comic Sans MS"/>
              </a:rPr>
              <a:t>*</a:t>
            </a:r>
            <a:r>
              <a:rPr b="1" lang="zh-CN" sz="4000" spc="-1" strike="noStrike">
                <a:solidFill>
                  <a:srgbClr val="00b200"/>
                </a:solidFill>
                <a:latin typeface="Comic Sans MS"/>
              </a:rPr>
              <a:t>学习现状：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学习主动性不高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较重视书面作业，轻视朗读背诵的训练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大多同学都喜爱课外阅读，但有效阅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读却很少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258920" y="4941720"/>
            <a:ext cx="75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71640" y="692280"/>
            <a:ext cx="691344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200"/>
                </a:solidFill>
                <a:latin typeface="Arial"/>
              </a:rPr>
              <a:t>*</a:t>
            </a:r>
            <a:r>
              <a:rPr b="1" lang="zh-CN" sz="4000" spc="-1" strike="noStrike">
                <a:solidFill>
                  <a:srgbClr val="00b200"/>
                </a:solidFill>
                <a:latin typeface="Arial"/>
              </a:rPr>
              <a:t>学习习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培养孩子主动学习的习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3030480"/>
            <a:ext cx="69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带着孩子多进行积累的工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42920" y="414972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慢慢引导孩子会表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50920" y="2817720"/>
            <a:ext cx="8640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92360" y="98100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Comic Sans MS"/>
                <a:ea typeface="黑体"/>
              </a:rPr>
              <a:t>语文学习的要求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187128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听”不仅指认真听老师的讲课，包括认真地听其他同学的发言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3357360"/>
            <a:ext cx="798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要说出精彩的话来，除了必要的生活经验，还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需要大量阅读课外读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Comic Sans MS"/>
                <a:ea typeface="黑体"/>
              </a:rPr>
              <a:t>语文学习的要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生字在课堂上主要讲难字、易错字、生僻字，其它的都是原来学过的重新合，所以没有二年级那么细致。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要督促学生自我预习和自我学习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042920" y="4314240"/>
            <a:ext cx="6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16000" y="5961960"/>
            <a:ext cx="6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1280" y="1989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开始练习习作。不拘形式地写出见闻、感受和想象。想写什么就写什么，想怎么写就怎么写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所有字都不准用拼音代替）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050920" y="981000"/>
            <a:ext cx="61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Comic Sans MS"/>
                <a:ea typeface="黑体"/>
              </a:rPr>
              <a:t>语文学习的要求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885080" y="59500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10800" y="6481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6975">
                <a:moveTo>
                  <a:pt x="10800" y="6855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6975">
                <a:moveTo>
                  <a:pt x="8224" y="10911"/>
                </a:moveTo>
                <a:lnTo>
                  <a:pt x="12088" y="10911"/>
                </a:lnTo>
                <a:lnTo>
                  <a:pt x="12088" y="17909"/>
                </a:lnTo>
                <a:lnTo>
                  <a:pt x="13376" y="17909"/>
                </a:lnTo>
                <a:lnTo>
                  <a:pt x="13376" y="18831"/>
                </a:lnTo>
                <a:lnTo>
                  <a:pt x="8224" y="18831"/>
                </a:lnTo>
                <a:lnTo>
                  <a:pt x="8224" y="17909"/>
                </a:lnTo>
                <a:lnTo>
                  <a:pt x="9512" y="17909"/>
                </a:lnTo>
                <a:lnTo>
                  <a:pt x="9512" y="11816"/>
                </a:lnTo>
                <a:lnTo>
                  <a:pt x="8224" y="1181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79280" y="98100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语文学得好，离不开</a:t>
            </a:r>
            <a:r>
              <a:rPr b="1" lang="zh-CN" sz="36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丰厚的积累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。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古诗、名人名言、好的句子，好的故事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我们都可以鼓励孩子多读多背，现在是孩子记忆的黄金时间，记忆能力非常强，因此，多读多背很有好处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43800" y="54100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10800" y="64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7000">
                <a:moveTo>
                  <a:pt x="10800" y="68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7000">
                <a:moveTo>
                  <a:pt x="8224" y="10924"/>
                </a:moveTo>
                <a:lnTo>
                  <a:pt x="12088" y="10924"/>
                </a:lnTo>
                <a:lnTo>
                  <a:pt x="12088" y="17921"/>
                </a:lnTo>
                <a:lnTo>
                  <a:pt x="13376" y="17921"/>
                </a:lnTo>
                <a:lnTo>
                  <a:pt x="13376" y="18844"/>
                </a:lnTo>
                <a:lnTo>
                  <a:pt x="8224" y="18844"/>
                </a:lnTo>
                <a:lnTo>
                  <a:pt x="8224" y="17921"/>
                </a:lnTo>
                <a:lnTo>
                  <a:pt x="9512" y="17921"/>
                </a:lnTo>
                <a:lnTo>
                  <a:pt x="9512" y="11829"/>
                </a:lnTo>
                <a:lnTo>
                  <a:pt x="8224" y="1182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2:58:23Z</dcterms:created>
  <dc:creator>Lenovo User</dc:creator>
  <dc:description/>
  <dc:language>en-US</dc:language>
  <cp:lastModifiedBy>微软用户</cp:lastModifiedBy>
  <dcterms:modified xsi:type="dcterms:W3CDTF">2010-10-21T13:09:30Z</dcterms:modified>
  <cp:revision>29</cp:revision>
  <dc:subject/>
  <dc:title>幻灯片 1</dc:title>
</cp:coreProperties>
</file>