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FE5-347F-49DE-ACFD-EA3EBE84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586-970D-4FA3-9672-765665C0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1BB-61C5-4E5C-B5C9-6C56FC89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B9F-E7E4-40A0-BC2B-8F537208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524D5-3675-4667-BB03-78B82702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CCA7A-964B-420B-AA41-43D664C8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A0661-661C-49FF-BDC7-DE2D5FEA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3C60D-44D1-4462-ACF8-ADB78A2D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F87FF-E113-4652-8261-5134474C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19CA9-8D04-4CD4-8688-B5C3A6A9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5EFEB-E090-4AE1-9E5A-24C83B9B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A6C-FB66-4447-8110-7743800F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0A297-6E66-493B-90EE-EB00E06A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AA981-2BA3-42DE-BC3B-A9E50A5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AF838-19AC-4997-ABA4-797ABBBB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51967-1BC7-4612-9A97-550538E8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4A976-2EB6-4011-AA53-41E5AFE5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830-4A7B-417A-A678-2ACD75C6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D2A-83DD-4492-B6EB-3AA1ED8E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9F7-2BAB-48BF-987E-840F807B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658-2E1B-4081-B2AC-94463824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402-0A0C-490C-A7A5-779D97C6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AFA-2227-4EF5-A33E-10558662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E06-768A-447B-BD94-03CDA253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2E3A-B746-4F20-AD37-9C18F004FB0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889D-5B14-4AEE-93DD-8E145E0C907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143000" y="1447920"/>
            <a:ext cx="68580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欢迎家长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1651680"/>
            <a:ext cx="86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【案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】：在一、二年级时，儿子的成绩基本上能保持在班里前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名，自从上了三年级，成绩退步很快，写作业的速度越来越慢，脾气也越来越大，平时在家里都跟他交流学习的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不但不听，脾气还很坏。在班里上课爱说话，特别调皮。原来他还是比较听话的，现在变得特别难管教，都快成问题儿童了，我快急死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32812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【案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】：我的孩子是个不太爱学习的孩子，写作业也不主动，写一会儿就去看会电视，想约束他不起作用。作业得到表扬时还能保持几天字迹工整，特别有信心，能表现好一个星期。如果没人注意他了，那就写得很乱。在学校他比较听话，在家是小霸王，做完作业不收拾，买的作文书及练习题从不自觉看，也不做做，有时不会的就懒得查字典，让我直接告诉他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186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家长们遇到的痛点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．孩子的个性变强，说不得碰不得，要么掉泪要么爆炸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．对孩子玩电脑的控制不再那么容易，对电脑游戏开始有迷恋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．静不下来，特别是男孩，上窜下跳，不好管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．丢三落四的毛病再度出现，基本属于“累教不改”的类型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．考试分数不再像以前这么高了，甚至有时候分数非常不好看，心情很郁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54936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人们常说：与其给孩子金山银山，不如纠正坏习惯，培养好习惯。下面，就孩子们出现的一些不良习惯和大家进行一个交流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597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【问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】：孩子学习的自控力和主动性不够怎么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进入三年级后，学习压力的增大，难度的增加，他们的娱乐的时间变少了，在长时间的学习中，会产生疲倦感，这时孩子就会想方设法宣泄自己的情感，容易变得浮躁，学习不踏实，成绩时好时坏，起伏大，不容易静下心学习，作业时不应该犯的错误多，这些都表明孩子的自控力欠缺。与此同时，他们的主动性不够也引起了我们的注意。比如说：老师布置的作业完成后，不愿意做额外的提高作业或家长布置的作业；好词好句的摘抄，老师不硬性规定，自己就懒得去做，存在着“惰性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31644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对策： 给孩子确立明确具体的目标。这里的目标有两个，一是远期目标，即理想。这个理想不一定就是孩子以后从事的事业，但是孩子有了一个奋斗的目标，会产生持久而主动的学习动力。二是近期目标，最好是一两周内通过孩子努力就可达到的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88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例如怎样安排每天的时间，给自己订一个作息时间表；怎样听课，怎样预习、复习功课；参加什么活动；做点什么家务；做什么运动；在家里、在学校里做一个什么样的孩子等等。当孩子们完成了一个有一个的近期目标时，离远期目标实现的可能性也就越来越近了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47628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给孩子适度的压力。孩子年龄小，许多事情的利害尚不知晓，不太懂得学习的意义，不愿意在课本知识上多下功夫。所以，需要我们对孩子施加适当的压力，而不能听凭孩子完全自由行事。我们要通过各种方式，讲清楚学习的意义，尽量从正面激发他们学习的主动性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95904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【问题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】：孩子读书的质量不高怎么办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40154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在孩子阅读后，我们不妨问问孩子，从书中你学到了些什么，那些情节给你留下了深刻的印象，能不能用自己的语言说给家长听听，长期下去，孩子们读书会越来越细致，读书的效果也会越来越好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33720" y="762120"/>
            <a:ext cx="283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0" y="23623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45880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Comic Sans MS"/>
              </a:rPr>
              <a:t>各位家长你们好！ 我非常感谢您的到来，感谢大家对我工作的支持</a:t>
            </a:r>
            <a:r>
              <a:rPr b="1" lang="zh-CN" sz="5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Comic Sans MS"/>
              </a:rPr>
              <a:t>由此我也看到了您对孩子的关心和爱护。您也一定关心孩子的成绩，以及将来的前途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76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80602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62568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【问题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】：孩子注意力不集中怎么办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643840"/>
            <a:ext cx="8785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．你有没有给孩子一个安静的学习环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．要求孩子在规定的时间内完成作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．要求孩子在一定时间内专心做好一件事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．对孩子讲话不要总是重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45612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【问题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】：孩子作业速度慢、质量不高怎么办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6080" y="2001600"/>
            <a:ext cx="25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．加强能力训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42440" y="2931480"/>
            <a:ext cx="24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．先复习后作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55840" y="3723840"/>
            <a:ext cx="30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．经常检查孩子作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45158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不要老陪着孩子写作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508720" y="505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4046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几点建议和希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55736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希望您一如既往的支持学校、支持全体老师的工作，适时的提出宝贵的 意见和建议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4005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创设良好的家庭育人环境。以自己良好的道德行为来影响自己的孩子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17568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1280" y="26028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纠正孩子的关键性缺点时一定要考虑成熟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选择最佳地点和时机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933720"/>
            <a:ext cx="906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omic Sans MS"/>
              </a:rPr>
              <a:t>4.</a:t>
            </a:r>
            <a:r>
              <a:rPr b="1" lang="zh-CN" sz="6000" spc="-1" strike="noStrike">
                <a:solidFill>
                  <a:srgbClr val="ffffff"/>
                </a:solidFill>
                <a:latin typeface="Comic Sans MS"/>
              </a:rPr>
              <a:t>培养孩子的做人做事的责任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508720" y="505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、和孩子共同拟定一份切实可行的学习计划，日积月累、坚持不懈，孩子一定学有所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844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、帮助、鼓励、监督，而不是讽刺、挖苦、逼迫孩子。甚至一昧的打骂为主要教育手段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5002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正确看待孩子的学习，永远不要对孩子丧失信心，“尺有所长，寸有所短”成绩不是衡量一个人的唯一标准，只要孩子懂得做人的道理、学到有用的知识，那他就是成功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25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最后，希望家长们都能带着一个好的心情去面对你的孩子，我想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学习应当是快乐的，家庭应当是温馨的，成长应当是幸福的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谢谢大家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838080" y="1219320"/>
            <a:ext cx="78487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谢谢你们的参与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advTm="10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050920" y="24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84560" y="623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0"/>
            <a:ext cx="860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今天的家长会主要有以下几项内容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介绍班级总体情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汇报开学到现在的学习情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任课老师发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家长自由交流（特别是平时与老师联系较少的家长希望您能主动找老师了解情况</a:t>
            </a:r>
            <a:r>
              <a:rPr b="0" lang="zh-CN" sz="4000" spc="-1" strike="noStrike">
                <a:solidFill>
                  <a:srgbClr val="ffffff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739520"/>
            <a:ext cx="8712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我想大家最关心的应该就是这次期中考试了，所以我首先介绍一下考试的总体情况，现在三年级共有三个班，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班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人，二班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人，三班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人，共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129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人。咱们班的前三名也是全年级的前三名，并且遥遥领先。他们是蔡欣仪、林钰韵、王智轩。接着继续念一下班里前十名的同学张欣琳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本学期各方面明显进步者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陈思琴   邓奕俊   罗懿姿    古圣纳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上课积极回答问题者：钟志威  曾善如  蔡欣仪   王志轩  汪艺禾   张欣琳   黄颖妍   林钰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语文学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）优秀率第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及格率第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平均分第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但是令人遗憾的是我们的平均分不是第一，比第一名班级差了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0.3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分。因为我们的最低分只有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分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26920" y="1341360"/>
            <a:ext cx="64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警钟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119700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573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年级的马鞍现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F~GVDV%25GYJPU0%5DQRO7K4@8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281800" cy="42483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3:11:44Z</dcterms:created>
  <dc:creator>微软用户</dc:creator>
  <dc:description/>
  <dc:language>en-US</dc:language>
  <cp:lastModifiedBy>admin</cp:lastModifiedBy>
  <dcterms:modified xsi:type="dcterms:W3CDTF">2011-11-20T15:14:16Z</dcterms:modified>
  <cp:revision>11</cp:revision>
  <dc:subject/>
  <dc:title>幻灯片 1</dc:title>
</cp:coreProperties>
</file>