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2FA-8C68-41AB-ADCC-008F65B7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340-8B70-494A-A86D-1AF4C9F4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EF6-8F00-4C56-9078-9F47C329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51A-930B-4B61-8383-9E2A5531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32-EC28-4DF7-BF1F-A424BA5B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1D6-5A2A-40C6-B073-9398447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08E-E951-4F48-8747-E89C5BA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9EF-78A6-430B-8CBD-48DF4431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E0E-2A69-453E-A7C8-B49DC900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AFB-45A8-43FD-9329-4A1389D0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A82-0BF9-4B75-B98D-723910A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A87-0B66-49B7-87B1-218F5D9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A00C-570D-4BBB-992F-6D32742905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hyperlink" Target="290,6,&#24187;&#28783;&#29255; 6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3"/>
          <a:stretch/>
        </p:blipFill>
        <p:spPr>
          <a:xfrm>
            <a:off x="5854680" y="585720"/>
            <a:ext cx="3600360" cy="2675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4680" y="873000"/>
            <a:ext cx="6291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r>
              <a:rPr b="1" lang="zh-CN" sz="6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年家长会</a:t>
            </a:r>
            <a:br>
              <a:rPr sz="6400"/>
            </a:b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012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Xue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nian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jia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zhang</a:t>
            </a:r>
            <a:r>
              <a:rPr b="1" lang="en-US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4bd97"/>
                </a:solidFill>
                <a:latin typeface="微软雅黑"/>
                <a:ea typeface="微软雅黑"/>
              </a:rPr>
              <a:t>h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6720" y="1989000"/>
            <a:ext cx="71265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切为了孩子的成长 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8" descr=""/>
          <p:cNvPicPr/>
          <p:nvPr/>
        </p:nvPicPr>
        <p:blipFill>
          <a:blip r:embed="rId4"/>
          <a:stretch/>
        </p:blipFill>
        <p:spPr>
          <a:xfrm>
            <a:off x="0" y="4005360"/>
            <a:ext cx="5038560" cy="2917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"/>
          <p:cNvPicPr/>
          <p:nvPr/>
        </p:nvPicPr>
        <p:blipFill>
          <a:blip r:embed="rId5"/>
          <a:stretch/>
        </p:blipFill>
        <p:spPr>
          <a:xfrm>
            <a:off x="4356000" y="4076640"/>
            <a:ext cx="4822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8600" y="379440"/>
            <a:ext cx="62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34136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34936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的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42900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3" descr=""/>
          <p:cNvPicPr/>
          <p:nvPr/>
        </p:nvPicPr>
        <p:blipFill>
          <a:blip r:embed="rId2"/>
          <a:srcRect l="0" t="0" r="0" b="6769"/>
          <a:stretch/>
        </p:blipFill>
        <p:spPr>
          <a:xfrm>
            <a:off x="4910040" y="3301920"/>
            <a:ext cx="4284720" cy="3556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" descr=""/>
          <p:cNvPicPr/>
          <p:nvPr/>
        </p:nvPicPr>
        <p:blipFill>
          <a:blip r:embed="rId3"/>
          <a:stretch/>
        </p:blipFill>
        <p:spPr>
          <a:xfrm>
            <a:off x="7020000" y="1701720"/>
            <a:ext cx="320760" cy="905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"/>
          <p:cNvPicPr/>
          <p:nvPr/>
        </p:nvPicPr>
        <p:blipFill>
          <a:blip r:embed="rId4"/>
          <a:stretch/>
        </p:blipFill>
        <p:spPr>
          <a:xfrm>
            <a:off x="8467560" y="2355840"/>
            <a:ext cx="56844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5" descr=""/>
          <p:cNvPicPr/>
          <p:nvPr/>
        </p:nvPicPr>
        <p:blipFill>
          <a:blip r:embed="rId5"/>
          <a:stretch/>
        </p:blipFill>
        <p:spPr>
          <a:xfrm>
            <a:off x="135000" y="5330880"/>
            <a:ext cx="568440" cy="1265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8600" y="379440"/>
            <a:ext cx="64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关注课程内容及进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793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孩子每天的学习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检查当天课本内容是否已订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67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68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关注孩子课堂表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5573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多询问孩子当天的课堂表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242100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表扬、肯定孩子的闪光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3357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及时引导孩子，纠正不良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84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85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 关注孩子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48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了解作业组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357720"/>
            <a:ext cx="6328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a6a48"/>
                </a:solidFill>
                <a:uFillTx/>
                <a:latin typeface="Calibri"/>
                <a:hlinkClick r:id="rId7"/>
              </a:rPr>
              <a:t>3、数学作业各现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严格要求订正和书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02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一：抄。（少数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292428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三：依赖，拖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二：漏题，错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现象四：在作业上打草稿，影响计算正确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9236160" cy="6905520"/>
            <a:chOff x="0" y="0"/>
            <a:chExt cx="9236160" cy="6905520"/>
          </a:xfrm>
        </p:grpSpPr>
        <p:grpSp>
          <p:nvGrpSpPr>
            <p:cNvPr id="118" name=""/>
            <p:cNvGrpSpPr/>
            <p:nvPr/>
          </p:nvGrpSpPr>
          <p:grpSpPr>
            <a:xfrm>
              <a:off x="0" y="0"/>
              <a:ext cx="9236160" cy="6905520"/>
              <a:chOff x="0" y="0"/>
              <a:chExt cx="9236160" cy="6905520"/>
            </a:xfrm>
          </p:grpSpPr>
          <p:pic>
            <p:nvPicPr>
              <p:cNvPr id="119" name="图片 4" descr=""/>
              <p:cNvPicPr/>
              <p:nvPr/>
            </p:nvPicPr>
            <p:blipFill>
              <a:blip r:embed="rId1"/>
              <a:srcRect l="0" t="0" r="0" b="10001"/>
              <a:stretch/>
            </p:blipFill>
            <p:spPr>
              <a:xfrm>
                <a:off x="0" y="0"/>
                <a:ext cx="9145440" cy="685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512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4284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5173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6760" y="5829840"/>
                <a:ext cx="1859400" cy="107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标题 1"/>
            <p:cNvSpPr/>
            <p:nvPr/>
          </p:nvSpPr>
          <p:spPr>
            <a:xfrm>
              <a:off x="5541480" y="398160"/>
              <a:ext cx="3496320" cy="11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1"/>
            <p:cNvSpPr/>
            <p:nvPr/>
          </p:nvSpPr>
          <p:spPr>
            <a:xfrm>
              <a:off x="5220720" y="109440"/>
              <a:ext cx="39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TextBox 15"/>
          <p:cNvSpPr/>
          <p:nvPr/>
        </p:nvSpPr>
        <p:spPr>
          <a:xfrm>
            <a:off x="395280" y="1579680"/>
            <a:ext cx="81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98600" y="379440"/>
            <a:ext cx="54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 老师的一些建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5573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重视口算能力的培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反馈孩子在家做作业的情况和问题，及时与老师沟通，共同解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" descr=""/>
          <p:cNvPicPr/>
          <p:nvPr/>
        </p:nvPicPr>
        <p:blipFill>
          <a:blip r:embed="rId3"/>
          <a:stretch/>
        </p:blipFill>
        <p:spPr>
          <a:xfrm>
            <a:off x="3716280" y="3727440"/>
            <a:ext cx="5427720" cy="3141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900000" y="1268280"/>
            <a:ext cx="6985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家长朋友们：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       </a:t>
            </a: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为了我们的孩子们日有长进，快乐成长，我们共同努力吧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a6a48"/>
                </a:solidFill>
                <a:latin typeface="方正综艺简体"/>
                <a:ea typeface="方正综艺简体"/>
              </a:rPr>
              <a:t>谢谢！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3:39:07Z</dcterms:created>
  <dc:creator>木贝贝女</dc:creator>
  <dc:description/>
  <dc:language>en-US</dc:language>
  <cp:lastModifiedBy>木贝贝女</cp:lastModifiedBy>
  <cp:lastPrinted>1899-12-30T00:00:00Z</cp:lastPrinted>
  <dcterms:modified xsi:type="dcterms:W3CDTF">2011-02-21T16:01:21Z</dcterms:modified>
  <cp:revision>14</cp:revision>
  <dc:subject/>
  <dc:title>合唱团的那些事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