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4D1-6E16-4927-9237-9987BAD2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F98-BBEF-44B9-86B5-EAF2C202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F8C-6A76-43E2-AB61-4BF850B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35F-BEE9-49C1-8128-2FB4F1E9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922-09E4-433E-A688-BE07B3C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F81-CEF6-45E8-8FF6-52CFDAC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6C4-C4F8-441E-B367-A479E10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6D5-F89D-4069-9E9D-CA3B319B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528-861D-4275-A8B3-E7D2B22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DD5-7457-4191-8AF1-84C471D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DC6-1F62-4DE5-96B5-941162A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C68-AACA-42DE-8146-EEB6686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FE10-7146-4DFD-9128-1A0A37EFEF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B%B6&#1261;%B6%AF&#812;&#892;&#428;&amp;in=24299&amp;cl=2&amp;lm=-1&amp;pn=3&amp;rn=1&amp;di=39175706130&amp;ln=1&amp;fr=ala0&amp;ic=0&amp;s=&amp;se=&amp;sme=0&amp;tab=&amp;width=&amp;height=&amp;face=0&amp;fb=0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&#758;%B9%FB%C0%DB%C0%DB&amp;in=939&amp;cl=2&amp;lm=-1&amp;pn=7&amp;rn=1&amp;di=31265312925&amp;ln=1&amp;fr=ala0&amp;ic=0&amp;s=0&amp;se=1&amp;sme=0&amp;tab=&amp;width=&amp;height=&amp;face=0&amp;fb=0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990720"/>
            <a:ext cx="7848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您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4495680"/>
            <a:ext cx="39621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3059640" y="2285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父母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不需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件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事情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1840" y="3276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第一件事：会英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3960" y="3885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第二件事：题海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3960" y="4494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第三件事：比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135600" y="2285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父母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件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事情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74840" y="31996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第一件事：放磁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96600" y="3809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第二件事：看短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26400" y="44190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第三件事：签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72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完全靠学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无法面面俱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完全靠家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头疼孩子撒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要想孩子成长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家校结合最有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85800" y="1066680"/>
            <a:ext cx="7848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411480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990720"/>
            <a:ext cx="8077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87692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Nanjing Jiang Jiayuan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Primary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Yu 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2057400"/>
            <a:ext cx="385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家长的话要听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老师批评要服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正确答案要盲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家长发火要躲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没有副课要舍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老师拖堂要忍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各种作业要记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从四得”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谁动了我的时间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486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没有时间玩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( ⊙ o ⊙ )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2209680"/>
            <a:ext cx="5486040" cy="2742480"/>
            <a:chOff x="762120" y="2209680"/>
            <a:chExt cx="5486040" cy="2742480"/>
          </a:xfrm>
        </p:grpSpPr>
        <p:cxnSp>
          <p:nvCxnSpPr>
            <p:cNvPr id="54" name="_s17483"/>
            <p:cNvCxnSpPr>
              <a:stCxn id="55" idx="0"/>
              <a:endCxn id="56" idx="2"/>
            </p:cNvCxnSpPr>
            <p:nvPr/>
          </p:nvCxnSpPr>
          <p:spPr>
            <a:xfrm flipV="1" rot="16200000">
              <a:off x="4298040" y="2513160"/>
              <a:ext cx="549000" cy="213444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7477"/>
            <p:cNvCxnSpPr>
              <a:stCxn id="58" idx="0"/>
              <a:endCxn id="56" idx="2"/>
            </p:cNvCxnSpPr>
            <p:nvPr/>
          </p:nvCxnSpPr>
          <p:spPr>
            <a:xfrm flipV="1" rot="16200000">
              <a:off x="3586680" y="3224520"/>
              <a:ext cx="549000" cy="71172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7476"/>
            <p:cNvCxnSpPr>
              <a:stCxn id="60" idx="0"/>
              <a:endCxn id="56" idx="2"/>
            </p:cNvCxnSpPr>
            <p:nvPr/>
          </p:nvCxnSpPr>
          <p:spPr>
            <a:xfrm flipH="1" flipV="1" rot="5400000">
              <a:off x="2875680" y="3224520"/>
              <a:ext cx="549000" cy="71208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7475"/>
            <p:cNvCxnSpPr>
              <a:stCxn id="62" idx="0"/>
              <a:endCxn id="56" idx="2"/>
            </p:cNvCxnSpPr>
            <p:nvPr/>
          </p:nvCxnSpPr>
          <p:spPr>
            <a:xfrm flipH="1" flipV="1" rot="5400000">
              <a:off x="2164320" y="2513160"/>
              <a:ext cx="549000" cy="21348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7471"/>
            <p:cNvSpPr/>
            <p:nvPr/>
          </p:nvSpPr>
          <p:spPr>
            <a:xfrm>
              <a:off x="2894760" y="2209680"/>
              <a:ext cx="121932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24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7472"/>
            <p:cNvSpPr/>
            <p:nvPr/>
          </p:nvSpPr>
          <p:spPr>
            <a:xfrm>
              <a:off x="762120" y="3855240"/>
              <a:ext cx="121932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学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8-9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7473"/>
            <p:cNvSpPr/>
            <p:nvPr/>
          </p:nvSpPr>
          <p:spPr>
            <a:xfrm>
              <a:off x="2184840" y="3855240"/>
              <a:ext cx="121932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学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有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7474"/>
            <p:cNvSpPr/>
            <p:nvPr/>
          </p:nvSpPr>
          <p:spPr>
            <a:xfrm>
              <a:off x="3607560" y="3855240"/>
              <a:ext cx="121932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睡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8-9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7482"/>
            <p:cNvSpPr/>
            <p:nvPr/>
          </p:nvSpPr>
          <p:spPr>
            <a:xfrm>
              <a:off x="5030280" y="3855240"/>
              <a:ext cx="121788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其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581280"/>
            <a:ext cx="1676520" cy="1676520"/>
          </a:xfrm>
          <a:prstGeom prst="irregularSeal1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581280"/>
            <a:ext cx="1676520" cy="1676520"/>
          </a:xfrm>
          <a:prstGeom prst="irregularSeal1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657600"/>
            <a:ext cx="1676160" cy="1676520"/>
          </a:xfrm>
          <a:prstGeom prst="irregularSeal1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581280"/>
            <a:ext cx="1676520" cy="1676520"/>
          </a:xfrm>
          <a:prstGeom prst="irregularSeal1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时间谁做主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90512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每天保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小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睡眠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玩的时候痛快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的时候认真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zh-CN" sz="3600" spc="-1" strike="noStrike">
                <a:solidFill>
                  <a:srgbClr val="ff00ff"/>
                </a:solidFill>
                <a:latin typeface="Arial"/>
              </a:rPr>
              <a:t>保持学习兴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坚持体育锻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持愉快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Arial"/>
              </a:rPr>
              <a:t>做时间的主，掌学习的舵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5909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在校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铃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做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回家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妈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做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228492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3333ff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华文隶书"/>
                <a:ea typeface="华文隶书"/>
              </a:rPr>
              <a:t>）优良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基础扎实，学风踏实，学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有法，智力较高，学习成绩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稳定在优秀水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419720"/>
            <a:ext cx="63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华文隶书"/>
                <a:ea typeface="华文隶书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华文隶书"/>
                <a:ea typeface="华文隶书"/>
              </a:rPr>
              <a:t>）松散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习能力强，但不主动，学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风不够踏实， 基础不够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实，学习成绩不稳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521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98108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ff00ff"/>
                </a:solidFill>
                <a:latin typeface="华文隶书"/>
                <a:ea typeface="华文隶书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华文隶书"/>
                <a:ea typeface="华文隶书"/>
              </a:rPr>
              <a:t>）认真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习刻苦认真，但方法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死板，能力较差，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够扎实，成绩上不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03848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（</a:t>
            </a:r>
            <a:r>
              <a:rPr b="0" lang="zh-CN" sz="3200" spc="-1" strike="noStrike">
                <a:solidFill>
                  <a:srgbClr val="6600cc"/>
                </a:solidFill>
                <a:latin typeface="华文隶书"/>
                <a:ea typeface="华文隶书"/>
              </a:rPr>
              <a:t>4</a:t>
            </a:r>
            <a:r>
              <a:rPr b="0" lang="zh-CN" sz="3200" spc="-1" strike="noStrike">
                <a:solidFill>
                  <a:srgbClr val="6600cc"/>
                </a:solidFill>
                <a:latin typeface="华文隶书"/>
                <a:ea typeface="华文隶书"/>
              </a:rPr>
              <a:t>）落后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无兴趣，不下功夫，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子差，方法谈不上，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弱，成绩差，处于恶性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环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439800" y="2666880"/>
            <a:ext cx="24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一分耕耘，一分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962520"/>
            <a:ext cx="3581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533520"/>
            <a:ext cx="752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英语怎么学？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438280"/>
            <a:ext cx="678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宋体"/>
              </a:rPr>
              <a:t>）先预习后听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）先复习后作业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9999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9999"/>
                </a:solidFill>
                <a:latin typeface="宋体"/>
              </a:rPr>
              <a:t>）先思考后发问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3-18T06:53:31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