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chimes.wav" ContentType="audio/x-wav"/>
  <Override PartName="/ppt/media/image11.jpeg" ContentType="image/jpeg"/>
  <Override PartName="/ppt/media/image9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D39-2DCA-43A1-843E-F2E69E61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BCD7-C6B8-45C3-8D37-97FD50A1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B2802-6857-4D1C-A0AF-D8D2D4E0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CF115-59B1-44F3-B606-A4EA2408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A8182-ACB0-46E0-B3EC-AA38201A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82C1A-EC0B-4AF8-AA8F-2AB5F92A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309FF-9B18-42F9-8910-72A60E75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F8509-DB81-49AC-B651-6D7C4785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A91DE-A3EE-463E-AF15-B221963E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28CDD-A568-460F-A687-25D00B24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75B01-810B-40ED-B56A-849A70DC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041BD-B17B-449F-B3FF-593C6275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9C7-F792-4E6D-AAF0-21C0B415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2C893-2560-4258-9456-A94A0611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B5E1C-8F43-443E-8B19-326ED7B0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232A5-BCAD-453D-AB28-6E7057D7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1E76C-B693-4FBB-BB2C-8EFDB716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3D949-F86E-4850-949B-C865B9A8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82030-9DC0-4675-94A8-56FD4FC0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E46A3-6309-4C72-B329-1F87B254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FC27B-CC37-4A98-BEC6-7365A886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C5B41-EA64-426B-B678-4BF64EF3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58368-6681-4BB5-8553-7775DB11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3CA-07E0-4A4C-9498-39A47854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6A733-C13D-4DDB-8080-2BC75F15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9F2C7-1747-457C-B0B7-90FA8A25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93F9B-281A-4EEE-A61E-A0D1F683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B8692-6F66-4FA4-809A-F4F9F30D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EFB0D-07B1-4969-9B0C-8B0BD002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91FFA-99BC-447E-97C9-D616BF66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44409-362B-4219-99B6-8AAA0685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72B8A-70AB-4E64-9138-E5100B6B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2EAB3-7633-4432-942E-CCA08748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9C76B-29F2-4830-B8AD-7E652B49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A015-CD25-4062-897E-26C675AB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55E2F-14FA-474F-A696-0DA1BF4A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090A3-0D5F-4399-B08A-EBABD2CD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3C09C-2F67-4F17-9973-E3BD65C2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F0B4E-71E4-4616-9BD9-139E5378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2D403-A9CB-4AED-8B26-39D6BC75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C6580-B024-49BF-B73D-C01D726A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DD691-0733-4195-BAA0-3E5B601A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161AF-A3F4-4D51-A499-7400C897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00614-59EC-4587-AB46-F46B98D0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02C83-30CF-4B16-9435-E5360BE0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2F0A-E68E-43B6-BD80-DA4D5B14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729AA-E64F-4805-B7E6-50E930BF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A23D7-E43A-49FD-ACD9-5EDBA744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30317-9DE5-4703-8FBC-F1138AEB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5E7FD-496C-4170-84D3-32E00C7C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69523-FEDB-4278-AD2A-B27FE590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9FEF-FBE0-445A-8293-B0D206D5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58B4-DD1F-4AC4-976E-0AD36237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EA30-DDF5-43FC-8E38-21EE02F8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7A98-168F-4B9C-9546-D6D56A3F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8ED4-03D3-4805-A53F-535A3858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514-0302-4208-9319-34954A80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A1A1-D598-4218-9E62-AB9110D2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4ED6-177D-4267-8F40-BDA44755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9087-88CC-4571-A390-4B4407BD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1C06-FE3D-40F5-8555-5580F39F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1E2F-A276-465C-AF49-43C5A549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E9FDD-AD90-4246-B110-6F837F7C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F34CA-D6EE-4750-B4EE-A4367DBC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0DC02-1C82-4B68-B3BE-39BA3A65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6C875-2CE4-46AA-90C2-06F49A31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A19B5-5EAE-4171-9FB6-6DF03D94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4FE-3ABA-4DFD-BBF6-8F9AB703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451B3-8694-483E-AE7F-E4AA33FB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631B9-1DF3-4F81-9F97-C5C9F75A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78C2-5B94-46A2-825B-4933FA16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8F089-F6BD-49BD-ABC9-F65AB6AD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71216-28AA-4B25-87BA-FC95A3B1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1CC9D-579C-4A99-9DA4-6537C630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B4421-5D2E-41CF-B181-5DB08863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440E0-BA64-460E-B15C-AC94EA9D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0055E-CC2F-46E1-9C73-E4BE2A11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DCA78-FE28-4FDE-9B57-E1F58D15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C8E-2F9F-4F2D-AF5A-969912BE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7D45E-AC89-4C51-BB01-9DA241D8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117FB-326C-455E-8875-FA7848FA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A43A9-A734-424C-A66B-A84A6513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DE2F3-00E1-4CC7-9C01-74D1E04E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315AD-4EDB-494B-B0B6-E22A71C1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5F3E8-1AFC-4D35-9B8E-578343F8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CEAEC-D56C-4B54-BFA3-0CE96BD7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D16E9-7A54-4503-8C26-A3726D0F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F0FBC-0BC4-4CA8-96B1-2FAE0A99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C0C1E-9430-4E36-B88E-49198C39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F3D-277A-411C-A8CA-C806ABF6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931ED-E362-4651-A6D9-E1B95BB4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6B300-05EC-4E1E-97AC-0D23A379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C0ABB-D916-40E7-BDF8-3E8C9E40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A9E78-5C1F-4912-A09C-0364048A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F6613-963D-4F32-8294-7B1558D0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2C0E6-5704-4C75-84FA-0E5A9B65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EC2F0-CDD9-4501-8B5F-569334F2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C7D0D-9E28-49CA-8E1D-3FE34442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6F918-E293-4686-9C1D-8BE8F216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0D64A-DC74-43BB-8845-1566812B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5D3C-8421-4001-9AEE-39702BEE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ED5C3-449D-4DF4-A660-9DC649BB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82099-C41C-4AB2-98AF-709DBFFF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7556D-5886-4520-9B40-282D89B4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78F13-92DA-4D5A-A571-383EF949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F8C02-0590-4381-9216-03B6C9D2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2C0E7-92AA-4B00-8250-AB24E7BF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4B828-C8C5-45C7-B0B1-4CE5EA70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1F70C-B2F8-431C-B0DA-D1020EBB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FDFCD-4B52-4C5C-8CE7-B721E936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B77AE-EA2B-454F-AD03-F7A4758E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448D-18B6-4BE6-B78D-D8D9F51F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27E3E-76D5-45CD-A31D-621C3CB1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B1604-126F-4360-BAFD-3AA6FF4C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634E0-5CCB-42F2-A399-11D5AB51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BA173-D0C6-4402-B858-58D61349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CCA5B-B455-47BA-B36B-752F7800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C52C2-2FD9-4347-98A2-B7997B10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6AAFC-6EE1-4EBC-ADC3-54FFFDCA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F1CDB-CD49-425D-A19E-3FC8C7EA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B8AEC-2801-47E5-8BC3-ACB74F9D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186D4-1A5F-49DE-A2E3-0E29A864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D9E-F8D6-4D5D-B79A-DB022DBB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BD186-D88A-4C55-9155-2F3FFAEF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40388-3A0C-48DE-837F-9D05CE30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A9800-3CCF-4407-A2DB-A8564C51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7ECB1-2176-4687-97AC-20748CE7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41E8B-D012-42C5-A088-AFADDC5B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E92AF-7849-4655-896A-C422AEF9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B03EA-588D-4947-A255-7A348D70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936B8-AE36-423E-9606-F2D9521F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00530-2C6B-40E0-A752-4D2BB288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0EF56-9F10-4A7D-BEDB-C30FC029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F3A-EBD0-42C8-A7E8-2B24591C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B7A54-B5D4-4090-A6D6-6F871E7D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4C615-E306-471A-B5AE-6D413237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425B3-692E-4C9E-8805-F9F91CA8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92AD1-CCC6-42E5-8DEC-CF799429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F9620-8D18-4540-A425-DC16FCE4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29658-A999-426B-B8BB-ABE5070A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D3308-174E-4FB9-89D0-0479C347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5C547-A93D-4119-BE4B-187AEC10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0E510-D57D-45FC-834C-C9D5E70E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71C64-D6FD-4C25-AC0D-A0113EE3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A643-A427-4519-B4A9-DA01A29EDA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圆角矩形 25601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圆角矩形 25602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圆角矩形 25603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28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29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30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8925-0F67-4FC9-A9C6-C1712A6D57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1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2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3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1DEF-4185-4811-989B-31EF691DE9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组合 66561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799" name="任意多边形 66562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任意多边形 66563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任意多边形 66564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任意多边形 66565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任意多边形 66566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任意多边形 66567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任意多边形 66568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任意多边形 66569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任意多边形 66570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任意多边形 66571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矩形 66572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矩形 6657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1" name="组合 66574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12" name="任意多边形 66575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任意多边形 66576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任意多边形 66577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任意多边形 66578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任意多边形 66579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任意多边形 66580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任意多边形 66581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任意多边形 66582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任意多边形 66583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任意多边形 66584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任意多边形 66585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任意多边形 66586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任意多边形 66587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任意多边形 66588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任意多边形 66589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任意多边形 66590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任意多边形 66591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任意多边形 66592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任意多边形 66593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任意多边形 66594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任意多边形 66595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任意多边形 66596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任意多边形 66597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任意多边形 66598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任意多边形 66599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2B0C-18F5-4F48-BB92-0AC896053A45}" type="slidenum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E394-E389-415F-ABB6-31A630B759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13313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3" name="组合 13314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4" name="任意多边形 13315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任意多边形 13316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任意多边形 13317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任意多边形 13318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任意多边形 13319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任意多边形 13320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任意多边形 13321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任意多边形 13322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任意多边形 13323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任意多边形 13324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任意多边形 13325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任意多边形 13326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任意多边形 13327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组合 13328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8" name="矩形 13329"/>
              <p:cNvSpPr/>
              <p:nvPr/>
            </p:nvSpPr>
            <p:spPr>
              <a:xfrm rot="6798600">
                <a:off x="9684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矩形 13330"/>
              <p:cNvSpPr/>
              <p:nvPr/>
            </p:nvSpPr>
            <p:spPr>
              <a:xfrm rot="6798600">
                <a:off x="50760" y="61570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矩形 13331"/>
              <p:cNvSpPr/>
              <p:nvPr/>
            </p:nvSpPr>
            <p:spPr>
              <a:xfrm rot="6798600">
                <a:off x="792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矩形 13332"/>
              <p:cNvSpPr/>
              <p:nvPr/>
            </p:nvSpPr>
            <p:spPr>
              <a:xfrm rot="5999400">
                <a:off x="330480" y="616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矩形 13333"/>
              <p:cNvSpPr/>
              <p:nvPr/>
            </p:nvSpPr>
            <p:spPr>
              <a:xfrm rot="5999400">
                <a:off x="28764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矩形 13334"/>
              <p:cNvSpPr/>
              <p:nvPr/>
            </p:nvSpPr>
            <p:spPr>
              <a:xfrm rot="6249600">
                <a:off x="240120" y="616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矩形 13335"/>
              <p:cNvSpPr/>
              <p:nvPr/>
            </p:nvSpPr>
            <p:spPr>
              <a:xfrm rot="6237600">
                <a:off x="194040" y="616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矩形 13336"/>
              <p:cNvSpPr/>
              <p:nvPr/>
            </p:nvSpPr>
            <p:spPr>
              <a:xfrm rot="5380200">
                <a:off x="5749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矩形 13337"/>
              <p:cNvSpPr/>
              <p:nvPr/>
            </p:nvSpPr>
            <p:spPr>
              <a:xfrm rot="5380200">
                <a:off x="525960" y="6144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矩形 13338"/>
              <p:cNvSpPr/>
              <p:nvPr/>
            </p:nvSpPr>
            <p:spPr>
              <a:xfrm rot="5583000">
                <a:off x="47808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矩形 13339"/>
              <p:cNvSpPr/>
              <p:nvPr/>
            </p:nvSpPr>
            <p:spPr>
              <a:xfrm rot="5737200">
                <a:off x="427320" y="61599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矩形 13340"/>
              <p:cNvSpPr/>
              <p:nvPr/>
            </p:nvSpPr>
            <p:spPr>
              <a:xfrm rot="4715400">
                <a:off x="81792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矩形 13341"/>
              <p:cNvSpPr/>
              <p:nvPr/>
            </p:nvSpPr>
            <p:spPr>
              <a:xfrm rot="4924800">
                <a:off x="770040" y="608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矩形 13342"/>
              <p:cNvSpPr/>
              <p:nvPr/>
            </p:nvSpPr>
            <p:spPr>
              <a:xfrm rot="4924800">
                <a:off x="722880" y="610632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矩形 13343"/>
              <p:cNvSpPr/>
              <p:nvPr/>
            </p:nvSpPr>
            <p:spPr>
              <a:xfrm rot="5041200">
                <a:off x="67500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矩形 13344"/>
              <p:cNvSpPr/>
              <p:nvPr/>
            </p:nvSpPr>
            <p:spPr>
              <a:xfrm rot="3816600">
                <a:off x="1053000" y="5969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矩形 13345"/>
              <p:cNvSpPr/>
              <p:nvPr/>
            </p:nvSpPr>
            <p:spPr>
              <a:xfrm rot="3816600">
                <a:off x="1005480" y="5998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矩形 13346"/>
              <p:cNvSpPr/>
              <p:nvPr/>
            </p:nvSpPr>
            <p:spPr>
              <a:xfrm rot="4104000">
                <a:off x="95904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矩形 13347"/>
              <p:cNvSpPr/>
              <p:nvPr/>
            </p:nvSpPr>
            <p:spPr>
              <a:xfrm rot="4324800">
                <a:off x="911520" y="60364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矩形 13348"/>
              <p:cNvSpPr/>
              <p:nvPr/>
            </p:nvSpPr>
            <p:spPr>
              <a:xfrm rot="3367800">
                <a:off x="126720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矩形 13349"/>
              <p:cNvSpPr/>
              <p:nvPr/>
            </p:nvSpPr>
            <p:spPr>
              <a:xfrm rot="3367800">
                <a:off x="1225080" y="5869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矩形 13350"/>
              <p:cNvSpPr/>
              <p:nvPr/>
            </p:nvSpPr>
            <p:spPr>
              <a:xfrm rot="3367800">
                <a:off x="118116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矩形 13351"/>
              <p:cNvSpPr/>
              <p:nvPr/>
            </p:nvSpPr>
            <p:spPr>
              <a:xfrm rot="3816600">
                <a:off x="1137240" y="5925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矩形 13352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矩形 13353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矩形 13354"/>
              <p:cNvSpPr/>
              <p:nvPr/>
            </p:nvSpPr>
            <p:spPr>
              <a:xfrm rot="2707200">
                <a:off x="1389240" y="575388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矩形 13355"/>
              <p:cNvSpPr/>
              <p:nvPr/>
            </p:nvSpPr>
            <p:spPr>
              <a:xfrm rot="2707200">
                <a:off x="1348200" y="5782320"/>
                <a:ext cx="100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矩形 13356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矩形 13357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矩形 13358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矩形 13359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矩形 13360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矩形 13361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矩形 13362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矩形 13363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矩形 13364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矩形 13365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矩形 13366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矩形 13367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矩形 13368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矩形 13369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矩形 13370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矩形 13371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矩形 13372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矩形 13373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矩形 13374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矩形 13375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矩形 13376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矩形 13377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矩形 13378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矩形 13379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矩形 13380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矩形 13381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矩形 13382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矩形 13383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矩形 13384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矩形 13385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矩形 13386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矩形 13387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矩形 13388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矩形 13389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矩形 13390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矩形 13391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任意多边形 13392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矩形 13393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矩形 13394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矩形 13395"/>
              <p:cNvSpPr/>
              <p:nvPr/>
            </p:nvSpPr>
            <p:spPr>
              <a:xfrm rot="18642600">
                <a:off x="1438920" y="3923640"/>
                <a:ext cx="128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矩形 13396"/>
              <p:cNvSpPr/>
              <p:nvPr/>
            </p:nvSpPr>
            <p:spPr>
              <a:xfrm rot="18642600">
                <a:off x="1475640" y="39438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矩形 13397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矩形 13398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矩形 13399"/>
              <p:cNvSpPr/>
              <p:nvPr/>
            </p:nvSpPr>
            <p:spPr>
              <a:xfrm rot="17961000">
                <a:off x="1249920" y="384840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矩形 13400"/>
              <p:cNvSpPr/>
              <p:nvPr/>
            </p:nvSpPr>
            <p:spPr>
              <a:xfrm rot="17961000">
                <a:off x="1292760" y="38613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矩形 13401"/>
              <p:cNvSpPr/>
              <p:nvPr/>
            </p:nvSpPr>
            <p:spPr>
              <a:xfrm rot="18085200">
                <a:off x="132732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矩形 13402"/>
              <p:cNvSpPr/>
              <p:nvPr/>
            </p:nvSpPr>
            <p:spPr>
              <a:xfrm rot="18379200">
                <a:off x="1367640" y="3891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矩形 13403"/>
              <p:cNvSpPr/>
              <p:nvPr/>
            </p:nvSpPr>
            <p:spPr>
              <a:xfrm rot="17261400">
                <a:off x="1029600" y="38005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矩形 13404"/>
              <p:cNvSpPr/>
              <p:nvPr/>
            </p:nvSpPr>
            <p:spPr>
              <a:xfrm rot="17349600">
                <a:off x="1073880" y="38106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矩形 13405"/>
              <p:cNvSpPr/>
              <p:nvPr/>
            </p:nvSpPr>
            <p:spPr>
              <a:xfrm rot="17349600">
                <a:off x="112140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矩形 13406"/>
              <p:cNvSpPr/>
              <p:nvPr/>
            </p:nvSpPr>
            <p:spPr>
              <a:xfrm rot="17611200">
                <a:off x="116892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矩形 13407"/>
              <p:cNvSpPr/>
              <p:nvPr/>
            </p:nvSpPr>
            <p:spPr>
              <a:xfrm rot="16737600">
                <a:off x="797760" y="379944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矩形 13408"/>
              <p:cNvSpPr/>
              <p:nvPr/>
            </p:nvSpPr>
            <p:spPr>
              <a:xfrm rot="16926600">
                <a:off x="84528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矩形 13409"/>
              <p:cNvSpPr/>
              <p:nvPr/>
            </p:nvSpPr>
            <p:spPr>
              <a:xfrm rot="16953000">
                <a:off x="892800" y="3791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矩形 13410"/>
              <p:cNvSpPr/>
              <p:nvPr/>
            </p:nvSpPr>
            <p:spPr>
              <a:xfrm rot="17019600">
                <a:off x="94212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矩形 13411"/>
              <p:cNvSpPr/>
              <p:nvPr/>
            </p:nvSpPr>
            <p:spPr>
              <a:xfrm rot="16404600">
                <a:off x="562680" y="382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矩形 13412"/>
              <p:cNvSpPr/>
              <p:nvPr/>
            </p:nvSpPr>
            <p:spPr>
              <a:xfrm rot="16239000">
                <a:off x="6102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矩形 13413"/>
              <p:cNvSpPr/>
              <p:nvPr/>
            </p:nvSpPr>
            <p:spPr>
              <a:xfrm rot="16311000">
                <a:off x="662760" y="38152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矩形 13414"/>
              <p:cNvSpPr/>
              <p:nvPr/>
            </p:nvSpPr>
            <p:spPr>
              <a:xfrm rot="16434600">
                <a:off x="711720" y="38073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矩形 13415"/>
              <p:cNvSpPr/>
              <p:nvPr/>
            </p:nvSpPr>
            <p:spPr>
              <a:xfrm rot="15467400">
                <a:off x="326160" y="3899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矩形 13416"/>
              <p:cNvSpPr/>
              <p:nvPr/>
            </p:nvSpPr>
            <p:spPr>
              <a:xfrm rot="15379200">
                <a:off x="375120" y="3883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矩形 13417"/>
              <p:cNvSpPr/>
              <p:nvPr/>
            </p:nvSpPr>
            <p:spPr>
              <a:xfrm rot="15489000">
                <a:off x="421200" y="38678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矩形 13418"/>
              <p:cNvSpPr/>
              <p:nvPr/>
            </p:nvSpPr>
            <p:spPr>
              <a:xfrm rot="15680400">
                <a:off x="46260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矩形 13419"/>
              <p:cNvSpPr/>
              <p:nvPr/>
            </p:nvSpPr>
            <p:spPr>
              <a:xfrm rot="14223600">
                <a:off x="684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矩形 13420"/>
              <p:cNvSpPr/>
              <p:nvPr/>
            </p:nvSpPr>
            <p:spPr>
              <a:xfrm rot="14431200">
                <a:off x="10044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矩形 13421"/>
              <p:cNvSpPr/>
              <p:nvPr/>
            </p:nvSpPr>
            <p:spPr>
              <a:xfrm rot="14797200">
                <a:off x="145080" y="39693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矩形 13422"/>
              <p:cNvSpPr/>
              <p:nvPr/>
            </p:nvSpPr>
            <p:spPr>
              <a:xfrm rot="14797200">
                <a:off x="187920" y="3953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矩形 13423"/>
              <p:cNvSpPr/>
              <p:nvPr/>
            </p:nvSpPr>
            <p:spPr>
              <a:xfrm rot="15142200">
                <a:off x="237240" y="39312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矩形 13424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矩形 13425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矩形 13426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矩形 13427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矩形 13428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矩形 13429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矩形 13430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矩形 13431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矩形 13432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矩形 13433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矩形 13434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矩形 13435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矩形 13436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矩形 13437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矩形 13438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矩形 13439"/>
              <p:cNvSpPr/>
              <p:nvPr/>
            </p:nvSpPr>
            <p:spPr>
              <a:xfrm rot="17923200">
                <a:off x="1172160" y="3785040"/>
                <a:ext cx="245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矩形 13440"/>
              <p:cNvSpPr/>
              <p:nvPr/>
            </p:nvSpPr>
            <p:spPr>
              <a:xfrm rot="18411000">
                <a:off x="1378440" y="385488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矩形 13441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矩形 13442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矩形 13443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矩形 13444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矩形 13445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矩形 13446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矩形 13447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矩形 13448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任意多边形 13449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任意多边形 13450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任意多边形 13451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任意多边形 13452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任意多边形 13453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任意多边形 13454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任意多边形 13455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任意多边形 13456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任意多边形 13457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矩形 13458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矩形 13459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任意多边形 13460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任意多边形 13461"/>
              <p:cNvSpPr/>
              <p:nvPr/>
            </p:nvSpPr>
            <p:spPr>
              <a:xfrm rot="18742800">
                <a:off x="980280" y="5634720"/>
                <a:ext cx="10764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任意多边形 13462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椭圆 13463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EA9D-CCCB-4FBA-B139-21E130B75B4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1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2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EF95-C851-4A32-BE16-605AA43FC2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组合 24582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280" name="圆角矩形 24583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直接连接符 24584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E0E6-FD81-4AEA-BFC0-8EDCD03797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组合 65537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60" name="任意多边形 65538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65539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任意多边形 65540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任意多边形 65541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任意多边形 65542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任意多边形 65543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任意多边形 65544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任意多边形 65545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任意多边形 65546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任意多边形 65547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矩形 65548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矩形 65549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2" name="组合 65550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73" name="任意多边形 65551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任意多边形 65552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任意多边形 65553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任意多边形 65554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任意多边形 65555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任意多边形 65556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任意多边形 65557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任意多边形 65558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任意多边形 65559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任意多边形 65560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任意多边形 65561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任意多边形 65562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任意多边形 65563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任意多边形 65564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任意多边形 65565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任意多边形 65566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任意多边形 65567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任意多边形 65568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任意多边形 65569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任意多边形 65570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任意多边形 65571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任意多边形 65572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任意多边形 65573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任意多边形 65574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任意多边形 65575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D298-8A39-4F9C-BBF7-94F1D7B02DD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C89C-470F-4D9F-A711-EAC5070ECEB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71DB-765C-4E13-8422-15E3DDAB29D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组合 14337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22" name="组合 14338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23" name="任意多边形 14339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任意多边形 14340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任意多边形 14341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任意多边形 14342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任意多边形 14343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任意多边形 14344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任意多边形 14345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任意多边形 14346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任意多边形 14347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任意多边形 14348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任意多边形 14349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任意多边形 14350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任意多边形 14351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6" name="组合 14352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37" name="矩形 14353"/>
              <p:cNvSpPr/>
              <p:nvPr/>
            </p:nvSpPr>
            <p:spPr>
              <a:xfrm rot="6798600">
                <a:off x="9684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矩形 14354"/>
              <p:cNvSpPr/>
              <p:nvPr/>
            </p:nvSpPr>
            <p:spPr>
              <a:xfrm rot="6798600">
                <a:off x="50760" y="61570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矩形 14355"/>
              <p:cNvSpPr/>
              <p:nvPr/>
            </p:nvSpPr>
            <p:spPr>
              <a:xfrm rot="6798600">
                <a:off x="792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矩形 14356"/>
              <p:cNvSpPr/>
              <p:nvPr/>
            </p:nvSpPr>
            <p:spPr>
              <a:xfrm rot="5999400">
                <a:off x="330480" y="616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矩形 14357"/>
              <p:cNvSpPr/>
              <p:nvPr/>
            </p:nvSpPr>
            <p:spPr>
              <a:xfrm rot="5999400">
                <a:off x="28764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矩形 14358"/>
              <p:cNvSpPr/>
              <p:nvPr/>
            </p:nvSpPr>
            <p:spPr>
              <a:xfrm rot="6249600">
                <a:off x="240120" y="616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矩形 14359"/>
              <p:cNvSpPr/>
              <p:nvPr/>
            </p:nvSpPr>
            <p:spPr>
              <a:xfrm rot="6237600">
                <a:off x="194040" y="6166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矩形 14360"/>
              <p:cNvSpPr/>
              <p:nvPr/>
            </p:nvSpPr>
            <p:spPr>
              <a:xfrm rot="5380200">
                <a:off x="5749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矩形 14361"/>
              <p:cNvSpPr/>
              <p:nvPr/>
            </p:nvSpPr>
            <p:spPr>
              <a:xfrm rot="5380200">
                <a:off x="525960" y="6144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矩形 14362"/>
              <p:cNvSpPr/>
              <p:nvPr/>
            </p:nvSpPr>
            <p:spPr>
              <a:xfrm rot="5583000">
                <a:off x="47808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矩形 14363"/>
              <p:cNvSpPr/>
              <p:nvPr/>
            </p:nvSpPr>
            <p:spPr>
              <a:xfrm rot="5737200">
                <a:off x="427320" y="615996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矩形 14364"/>
              <p:cNvSpPr/>
              <p:nvPr/>
            </p:nvSpPr>
            <p:spPr>
              <a:xfrm rot="4715400">
                <a:off x="81792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矩形 14365"/>
              <p:cNvSpPr/>
              <p:nvPr/>
            </p:nvSpPr>
            <p:spPr>
              <a:xfrm rot="4924800">
                <a:off x="770040" y="6084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矩形 14366"/>
              <p:cNvSpPr/>
              <p:nvPr/>
            </p:nvSpPr>
            <p:spPr>
              <a:xfrm rot="4924800">
                <a:off x="722880" y="610632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矩形 14367"/>
              <p:cNvSpPr/>
              <p:nvPr/>
            </p:nvSpPr>
            <p:spPr>
              <a:xfrm rot="5041200">
                <a:off x="67500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矩形 14368"/>
              <p:cNvSpPr/>
              <p:nvPr/>
            </p:nvSpPr>
            <p:spPr>
              <a:xfrm rot="3816600">
                <a:off x="1053000" y="5969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矩形 14369"/>
              <p:cNvSpPr/>
              <p:nvPr/>
            </p:nvSpPr>
            <p:spPr>
              <a:xfrm rot="3816600">
                <a:off x="1005480" y="5998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矩形 14370"/>
              <p:cNvSpPr/>
              <p:nvPr/>
            </p:nvSpPr>
            <p:spPr>
              <a:xfrm rot="4104000">
                <a:off x="95904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矩形 14371"/>
              <p:cNvSpPr/>
              <p:nvPr/>
            </p:nvSpPr>
            <p:spPr>
              <a:xfrm rot="4324800">
                <a:off x="911520" y="60364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矩形 14372"/>
              <p:cNvSpPr/>
              <p:nvPr/>
            </p:nvSpPr>
            <p:spPr>
              <a:xfrm rot="3367800">
                <a:off x="126720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矩形 14373"/>
              <p:cNvSpPr/>
              <p:nvPr/>
            </p:nvSpPr>
            <p:spPr>
              <a:xfrm rot="3367800">
                <a:off x="1225080" y="5869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矩形 14374"/>
              <p:cNvSpPr/>
              <p:nvPr/>
            </p:nvSpPr>
            <p:spPr>
              <a:xfrm rot="3367800">
                <a:off x="118116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矩形 14375"/>
              <p:cNvSpPr/>
              <p:nvPr/>
            </p:nvSpPr>
            <p:spPr>
              <a:xfrm rot="3816600">
                <a:off x="1137240" y="5925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矩形 14376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矩形 14377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矩形 14378"/>
              <p:cNvSpPr/>
              <p:nvPr/>
            </p:nvSpPr>
            <p:spPr>
              <a:xfrm rot="2707200">
                <a:off x="1389240" y="575388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矩形 14379"/>
              <p:cNvSpPr/>
              <p:nvPr/>
            </p:nvSpPr>
            <p:spPr>
              <a:xfrm rot="2707200">
                <a:off x="1348200" y="5782320"/>
                <a:ext cx="100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矩形 14380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矩形 14381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矩形 14382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矩形 14383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矩形 14384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矩形 14385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矩形 14386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矩形 14387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矩形 14388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矩形 14389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矩形 14390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矩形 14391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矩形 14392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矩形 14393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矩形 14394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矩形 14395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矩形 14396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矩形 14397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矩形 14398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矩形 14399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矩形 14400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矩形 14401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矩形 14402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矩形 14403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矩形 14404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矩形 14405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矩形 14406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矩形 14407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矩形 14408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矩形 14409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矩形 14410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矩形 14411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矩形 14412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矩形 14413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矩形 14414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矩形 14415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任意多边形 14416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矩形 14417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矩形 14418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矩形 14419"/>
              <p:cNvSpPr/>
              <p:nvPr/>
            </p:nvSpPr>
            <p:spPr>
              <a:xfrm rot="18642600">
                <a:off x="1438920" y="3923640"/>
                <a:ext cx="128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矩形 14420"/>
              <p:cNvSpPr/>
              <p:nvPr/>
            </p:nvSpPr>
            <p:spPr>
              <a:xfrm rot="18642600">
                <a:off x="1475640" y="39438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矩形 14421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矩形 14422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矩形 14423"/>
              <p:cNvSpPr/>
              <p:nvPr/>
            </p:nvSpPr>
            <p:spPr>
              <a:xfrm rot="17961000">
                <a:off x="1249920" y="384840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矩形 14424"/>
              <p:cNvSpPr/>
              <p:nvPr/>
            </p:nvSpPr>
            <p:spPr>
              <a:xfrm rot="17961000">
                <a:off x="1292760" y="38613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矩形 14425"/>
              <p:cNvSpPr/>
              <p:nvPr/>
            </p:nvSpPr>
            <p:spPr>
              <a:xfrm rot="18085200">
                <a:off x="132732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矩形 14426"/>
              <p:cNvSpPr/>
              <p:nvPr/>
            </p:nvSpPr>
            <p:spPr>
              <a:xfrm rot="18379200">
                <a:off x="1367640" y="3891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矩形 14427"/>
              <p:cNvSpPr/>
              <p:nvPr/>
            </p:nvSpPr>
            <p:spPr>
              <a:xfrm rot="17261400">
                <a:off x="1029600" y="380052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矩形 14428"/>
              <p:cNvSpPr/>
              <p:nvPr/>
            </p:nvSpPr>
            <p:spPr>
              <a:xfrm rot="17349600">
                <a:off x="1073880" y="381060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矩形 14429"/>
              <p:cNvSpPr/>
              <p:nvPr/>
            </p:nvSpPr>
            <p:spPr>
              <a:xfrm rot="17349600">
                <a:off x="112140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矩形 14430"/>
              <p:cNvSpPr/>
              <p:nvPr/>
            </p:nvSpPr>
            <p:spPr>
              <a:xfrm rot="17611200">
                <a:off x="116892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矩形 14431"/>
              <p:cNvSpPr/>
              <p:nvPr/>
            </p:nvSpPr>
            <p:spPr>
              <a:xfrm rot="16737600">
                <a:off x="797760" y="379944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矩形 14432"/>
              <p:cNvSpPr/>
              <p:nvPr/>
            </p:nvSpPr>
            <p:spPr>
              <a:xfrm rot="16926600">
                <a:off x="84528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矩形 14433"/>
              <p:cNvSpPr/>
              <p:nvPr/>
            </p:nvSpPr>
            <p:spPr>
              <a:xfrm rot="16953000">
                <a:off x="892800" y="3791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矩形 14434"/>
              <p:cNvSpPr/>
              <p:nvPr/>
            </p:nvSpPr>
            <p:spPr>
              <a:xfrm rot="17019600">
                <a:off x="94212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矩形 14435"/>
              <p:cNvSpPr/>
              <p:nvPr/>
            </p:nvSpPr>
            <p:spPr>
              <a:xfrm rot="16404600">
                <a:off x="562680" y="38296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矩形 14436"/>
              <p:cNvSpPr/>
              <p:nvPr/>
            </p:nvSpPr>
            <p:spPr>
              <a:xfrm rot="16239000">
                <a:off x="6102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矩形 14437"/>
              <p:cNvSpPr/>
              <p:nvPr/>
            </p:nvSpPr>
            <p:spPr>
              <a:xfrm rot="16311000">
                <a:off x="662760" y="38152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矩形 14438"/>
              <p:cNvSpPr/>
              <p:nvPr/>
            </p:nvSpPr>
            <p:spPr>
              <a:xfrm rot="16434600">
                <a:off x="711720" y="38073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矩形 14439"/>
              <p:cNvSpPr/>
              <p:nvPr/>
            </p:nvSpPr>
            <p:spPr>
              <a:xfrm rot="15467400">
                <a:off x="326160" y="3899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矩形 14440"/>
              <p:cNvSpPr/>
              <p:nvPr/>
            </p:nvSpPr>
            <p:spPr>
              <a:xfrm rot="15379200">
                <a:off x="375120" y="3883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矩形 14441"/>
              <p:cNvSpPr/>
              <p:nvPr/>
            </p:nvSpPr>
            <p:spPr>
              <a:xfrm rot="15489000">
                <a:off x="421200" y="38678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矩形 14442"/>
              <p:cNvSpPr/>
              <p:nvPr/>
            </p:nvSpPr>
            <p:spPr>
              <a:xfrm rot="15680400">
                <a:off x="46260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矩形 14443"/>
              <p:cNvSpPr/>
              <p:nvPr/>
            </p:nvSpPr>
            <p:spPr>
              <a:xfrm rot="14223600">
                <a:off x="684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矩形 14444"/>
              <p:cNvSpPr/>
              <p:nvPr/>
            </p:nvSpPr>
            <p:spPr>
              <a:xfrm rot="14431200">
                <a:off x="10044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矩形 14445"/>
              <p:cNvSpPr/>
              <p:nvPr/>
            </p:nvSpPr>
            <p:spPr>
              <a:xfrm rot="14797200">
                <a:off x="145080" y="39693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矩形 14446"/>
              <p:cNvSpPr/>
              <p:nvPr/>
            </p:nvSpPr>
            <p:spPr>
              <a:xfrm rot="14797200">
                <a:off x="187920" y="3953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矩形 14447"/>
              <p:cNvSpPr/>
              <p:nvPr/>
            </p:nvSpPr>
            <p:spPr>
              <a:xfrm rot="15142200">
                <a:off x="237240" y="39312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矩形 14448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矩形 14449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矩形 14450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矩形 14451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矩形 14452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矩形 14453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矩形 14454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矩形 14455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矩形 14456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矩形 14457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矩形 14458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矩形 14459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矩形 14460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矩形 14461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矩形 14462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矩形 14463"/>
              <p:cNvSpPr/>
              <p:nvPr/>
            </p:nvSpPr>
            <p:spPr>
              <a:xfrm rot="17923200">
                <a:off x="1172160" y="3785040"/>
                <a:ext cx="245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矩形 14464"/>
              <p:cNvSpPr/>
              <p:nvPr/>
            </p:nvSpPr>
            <p:spPr>
              <a:xfrm rot="18411000">
                <a:off x="1378440" y="385488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矩形 14465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矩形 14466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矩形 14467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矩形 14468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矩形 14469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矩形 14470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矩形 14471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矩形 14472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任意多边形 14473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任意多边形 14474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任意多边形 14475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任意多边形 14476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任意多边形 14477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任意多边形 14478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任意多边形 14479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任意多边形 14480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任意多边形 14481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矩形 14482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矩形 14483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任意多边形 14484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任意多边形 14485"/>
              <p:cNvSpPr/>
              <p:nvPr/>
            </p:nvSpPr>
            <p:spPr>
              <a:xfrm rot="18742800">
                <a:off x="980280" y="5634720"/>
                <a:ext cx="10764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任意多边形 14486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椭圆 14487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25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F1E4-3FFA-4B9D-94D8-6CF29F7143D0}" type="slidenum">
              <a:rPr b="0" lang="zh-CN" sz="10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69,3,&#24187;&#28783;&#29255; 3" TargetMode="External"/><Relationship Id="rId2" Type="http://schemas.openxmlformats.org/officeDocument/2006/relationships/hyperlink" Target="277,4,&#24187;&#28783;&#29255; 4" TargetMode="External"/><Relationship Id="rId3" Type="http://schemas.openxmlformats.org/officeDocument/2006/relationships/hyperlink" Target="257,5,&#24187;&#28783;&#29255; 5" TargetMode="External"/><Relationship Id="rId4" Type="http://schemas.openxmlformats.org/officeDocument/2006/relationships/hyperlink" Target="258,6,&#24187;&#28783;&#29255; 6" TargetMode="External"/><Relationship Id="rId5" Type="http://schemas.openxmlformats.org/officeDocument/2006/relationships/hyperlink" Target="260,7,&#24187;&#28783;&#29255; 7" TargetMode="External"/><Relationship Id="rId6" Type="http://schemas.openxmlformats.org/officeDocument/2006/relationships/hyperlink" Target="259,8,&#24187;&#28783;&#29255; 8" TargetMode="External"/><Relationship Id="rId7" Type="http://schemas.openxmlformats.org/officeDocument/2006/relationships/hyperlink" Target="259,8,&#24187;&#28783;&#29255; 8" TargetMode="External"/><Relationship Id="rId8" Type="http://schemas.openxmlformats.org/officeDocument/2006/relationships/hyperlink" Target="259,8,&#24187;&#28783;&#29255; 8" TargetMode="External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绿色资源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-360" y="5331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一（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）班家长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文本框 2053"/>
          <p:cNvSpPr/>
          <p:nvPr/>
        </p:nvSpPr>
        <p:spPr>
          <a:xfrm>
            <a:off x="990720" y="213372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华文行楷"/>
              </a:rPr>
              <a:t>沟通，从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华文行楷"/>
              </a:rPr>
              <a:t>心</a:t>
            </a: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华文行楷"/>
              </a:rPr>
              <a:t>开始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文本框 146435"/>
          <p:cNvSpPr/>
          <p:nvPr/>
        </p:nvSpPr>
        <p:spPr>
          <a:xfrm>
            <a:off x="1066680" y="21337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华文行楷"/>
                <a:ea typeface="华文行楷"/>
              </a:rPr>
              <a:t>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文本框 146437"/>
          <p:cNvSpPr/>
          <p:nvPr/>
        </p:nvSpPr>
        <p:spPr>
          <a:xfrm>
            <a:off x="1066680" y="16002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99"/>
                </a:solidFill>
                <a:latin typeface="华文行楷"/>
                <a:ea typeface="华文行楷"/>
              </a:rPr>
              <a:t>把责任交给孩子，让自信促进成长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文本框 176130"/>
          <p:cNvSpPr/>
          <p:nvPr/>
        </p:nvSpPr>
        <p:spPr>
          <a:xfrm>
            <a:off x="457200" y="33336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矩形 176131"/>
          <p:cNvSpPr/>
          <p:nvPr/>
        </p:nvSpPr>
        <p:spPr>
          <a:xfrm>
            <a:off x="2411280" y="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家长会议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文本框 176137"/>
          <p:cNvSpPr/>
          <p:nvPr/>
        </p:nvSpPr>
        <p:spPr>
          <a:xfrm>
            <a:off x="1403280" y="1125360"/>
            <a:ext cx="48006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ff"/>
                </a:solidFill>
                <a:uFillTx/>
                <a:latin typeface="Arial"/>
                <a:ea typeface="宋体"/>
              </a:rPr>
              <a:t>1</a:t>
            </a:r>
            <a:r>
              <a:rPr b="1" lang="zh-CN" sz="3600" spc="-1" strike="noStrike" u="sng">
                <a:solidFill>
                  <a:srgbClr val="66ffff"/>
                </a:solidFill>
                <a:uFillTx/>
                <a:latin typeface="Arial"/>
                <a:ea typeface="宋体"/>
              </a:rPr>
              <a:t>、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ea typeface="宋体"/>
                <a:hlinkClick r:id="rId1"/>
              </a:rPr>
              <a:t>家长会召开的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文本框 176142"/>
          <p:cNvSpPr/>
          <p:nvPr/>
        </p:nvSpPr>
        <p:spPr>
          <a:xfrm>
            <a:off x="1403280" y="1916280"/>
            <a:ext cx="5639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ff"/>
                </a:solidFill>
                <a:uFillTx/>
                <a:latin typeface="Arial"/>
                <a:ea typeface="宋体"/>
              </a:rPr>
              <a:t>2</a:t>
            </a:r>
            <a:r>
              <a:rPr b="1" lang="zh-CN" sz="3600" spc="-1" strike="noStrike" u="sng">
                <a:solidFill>
                  <a:srgbClr val="66ffff"/>
                </a:solidFill>
                <a:uFillTx/>
                <a:latin typeface="Arial"/>
                <a:ea typeface="宋体"/>
              </a:rPr>
              <a:t>、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ea typeface="宋体"/>
                <a:hlinkClick r:id="rId2"/>
              </a:rPr>
              <a:t>关于作息时间、课程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文本框 176143"/>
          <p:cNvSpPr/>
          <p:nvPr/>
        </p:nvSpPr>
        <p:spPr>
          <a:xfrm>
            <a:off x="1403280" y="2637000"/>
            <a:ext cx="55627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ff"/>
                </a:solidFill>
                <a:uFillTx/>
                <a:latin typeface="Arial"/>
                <a:ea typeface="宋体"/>
              </a:rPr>
              <a:t>3</a:t>
            </a:r>
            <a:r>
              <a:rPr b="1" lang="zh-CN" sz="3600" spc="-1" strike="noStrike" u="sng">
                <a:solidFill>
                  <a:srgbClr val="66ffff"/>
                </a:solidFill>
                <a:uFillTx/>
                <a:latin typeface="Arial"/>
                <a:ea typeface="宋体"/>
              </a:rPr>
              <a:t>、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ea typeface="宋体"/>
                <a:hlinkClick r:id="rId3"/>
              </a:rPr>
              <a:t>关于姿势和有关能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文本框 176145"/>
          <p:cNvSpPr/>
          <p:nvPr/>
        </p:nvSpPr>
        <p:spPr>
          <a:xfrm>
            <a:off x="1403280" y="3357720"/>
            <a:ext cx="4343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ff"/>
                </a:solidFill>
                <a:uFillTx/>
                <a:latin typeface="Arial"/>
                <a:ea typeface="宋体"/>
              </a:rPr>
              <a:t>4</a:t>
            </a:r>
            <a:r>
              <a:rPr b="1" lang="zh-CN" sz="3600" spc="-1" strike="noStrike" u="sng">
                <a:solidFill>
                  <a:srgbClr val="66ffff"/>
                </a:solidFill>
                <a:uFillTx/>
                <a:latin typeface="Arial"/>
                <a:ea typeface="宋体"/>
              </a:rPr>
              <a:t>、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ea typeface="宋体"/>
                <a:hlinkClick r:id="rId4"/>
              </a:rPr>
              <a:t>关于家庭作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文本框 176146"/>
          <p:cNvSpPr/>
          <p:nvPr/>
        </p:nvSpPr>
        <p:spPr>
          <a:xfrm>
            <a:off x="1403280" y="4076640"/>
            <a:ext cx="46483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ffff"/>
                </a:solidFill>
                <a:uFillTx/>
                <a:latin typeface="Arial"/>
                <a:ea typeface="宋体"/>
              </a:rPr>
              <a:t>5</a:t>
            </a:r>
            <a:r>
              <a:rPr b="1" lang="zh-CN" sz="3600" spc="-1" strike="noStrike" u="sng">
                <a:solidFill>
                  <a:srgbClr val="66ffff"/>
                </a:solidFill>
                <a:uFillTx/>
                <a:latin typeface="Arial"/>
                <a:ea typeface="宋体"/>
              </a:rPr>
              <a:t>、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ea typeface="宋体"/>
                <a:hlinkClick r:id="rId5"/>
              </a:rPr>
              <a:t>关于卫生方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文本框 176147"/>
          <p:cNvSpPr/>
          <p:nvPr/>
        </p:nvSpPr>
        <p:spPr>
          <a:xfrm>
            <a:off x="1403280" y="4797360"/>
            <a:ext cx="49532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ffff"/>
                </a:solidFill>
                <a:uFillTx/>
                <a:latin typeface="Arial"/>
                <a:ea typeface="宋体"/>
                <a:hlinkClick r:id="rId6"/>
              </a:rPr>
              <a:t>6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ea typeface="宋体"/>
                <a:hlinkClick r:id="rId7"/>
              </a:rPr>
              <a:t>、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ea typeface="宋体"/>
                <a:hlinkClick r:id="rId8"/>
              </a:rPr>
              <a:t>给家长的一些建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文本框 176148"/>
          <p:cNvSpPr/>
          <p:nvPr/>
        </p:nvSpPr>
        <p:spPr>
          <a:xfrm>
            <a:off x="1600200" y="6237360"/>
            <a:ext cx="513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文本框 176149"/>
          <p:cNvSpPr/>
          <p:nvPr/>
        </p:nvSpPr>
        <p:spPr>
          <a:xfrm>
            <a:off x="1403280" y="551664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ffff"/>
                </a:solidFill>
                <a:latin typeface="Arial"/>
              </a:rPr>
              <a:t>、关于语文学科的建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9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92" name="内容占位符 147458" descr="125"/>
          <p:cNvPicPr/>
          <p:nvPr/>
        </p:nvPicPr>
        <p:blipFill>
          <a:blip r:embed="rId1"/>
          <a:stretch/>
        </p:blipFill>
        <p:spPr>
          <a:xfrm>
            <a:off x="0" y="0"/>
            <a:ext cx="9325080" cy="7174080"/>
          </a:xfrm>
          <a:prstGeom prst="rect">
            <a:avLst/>
          </a:prstGeom>
          <a:ln w="0">
            <a:noFill/>
          </a:ln>
        </p:spPr>
      </p:pic>
      <p:sp>
        <p:nvSpPr>
          <p:cNvPr id="893" name="文本框 147459"/>
          <p:cNvSpPr/>
          <p:nvPr/>
        </p:nvSpPr>
        <p:spPr>
          <a:xfrm>
            <a:off x="611280" y="1052640"/>
            <a:ext cx="51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家长会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是连结家庭教育与学校教育的纽带，在家庭与学校之间架起了一座金色的桥梁，使学校教育与家庭教育有机地结合起来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文本框 172039"/>
          <p:cNvSpPr/>
          <p:nvPr/>
        </p:nvSpPr>
        <p:spPr>
          <a:xfrm>
            <a:off x="1371600" y="762120"/>
            <a:ext cx="57150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早上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8:00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到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中午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11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55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放学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下午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10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放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（星期二、五）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：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星期三第二课堂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带水粉纸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油画棒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文本框 7185"/>
          <p:cNvSpPr/>
          <p:nvPr/>
        </p:nvSpPr>
        <p:spPr>
          <a:xfrm>
            <a:off x="1905120" y="685800"/>
            <a:ext cx="4419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坐的姿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握笔的姿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文本框 7186"/>
          <p:cNvSpPr/>
          <p:nvPr/>
        </p:nvSpPr>
        <p:spPr>
          <a:xfrm>
            <a:off x="1752480" y="335268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让孩子自己能做的事自己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大人的事帮着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文本框 12297"/>
          <p:cNvSpPr/>
          <p:nvPr/>
        </p:nvSpPr>
        <p:spPr>
          <a:xfrm>
            <a:off x="1371600" y="533520"/>
            <a:ext cx="5105520" cy="39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回家作业一定有的，但量不会很多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每天都要给孩子检查后再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签名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宋体"/>
              </a:rPr>
              <a:t>一是有无完成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宋体"/>
              </a:rPr>
              <a:t>        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宋体"/>
              </a:rPr>
              <a:t>二是有无正确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文本框 29701"/>
          <p:cNvSpPr/>
          <p:nvPr/>
        </p:nvSpPr>
        <p:spPr>
          <a:xfrm>
            <a:off x="2133720" y="1905120"/>
            <a:ext cx="25905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勤洗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勤剪指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勤刷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勤换衣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文本框 29703"/>
          <p:cNvSpPr/>
          <p:nvPr/>
        </p:nvSpPr>
        <p:spPr>
          <a:xfrm>
            <a:off x="1752480" y="60948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个人卫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文本框 16401"/>
          <p:cNvSpPr/>
          <p:nvPr/>
        </p:nvSpPr>
        <p:spPr>
          <a:xfrm>
            <a:off x="1371600" y="30492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杨老师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500253885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张老师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391924938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文本框 16402"/>
          <p:cNvSpPr/>
          <p:nvPr/>
        </p:nvSpPr>
        <p:spPr>
          <a:xfrm>
            <a:off x="1371600" y="1905120"/>
            <a:ext cx="693432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重视孩子的点滴成功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00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红星卡、红苹果、小红花</a:t>
            </a:r>
            <a:r>
              <a:rPr b="0" lang="zh-CN" sz="2400" spc="-1" strike="noStrike">
                <a:solidFill>
                  <a:srgbClr val="3366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多看课外书，少看电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作业辅导要教给方法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注重安全教育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加强体育锻炼。（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宋体"/>
              </a:rPr>
              <a:t>学会跳绳、跑步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/>
          </p:nvPr>
        </p:nvSpPr>
        <p:spPr>
          <a:xfrm>
            <a:off x="755640" y="1989000"/>
            <a:ext cx="7696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、注重汉语拼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、开辟识字途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、加强语文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1:53:05Z</dcterms:created>
  <dc:creator>12</dc:creator>
  <dc:description/>
  <dc:language>en-US</dc:language>
  <cp:lastModifiedBy>wuhan</cp:lastModifiedBy>
  <dcterms:modified xsi:type="dcterms:W3CDTF">2017-08-29T07:33:37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8</vt:lpwstr>
  </property>
</Properties>
</file>