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gif" ContentType="image/gif"/>
  <Override PartName="/ppt/media/image7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FA2C-8715-45A7-BD55-3971A30BD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9008-4E3F-446B-8FC5-689244803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9703-A090-4D3C-A8E7-BAF28B4D1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EBD7-E3C5-4CCC-97BD-57D36BF60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3F7B-10A4-44FD-B097-6B5510372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3F7E-06B0-4533-91AA-8A3FEF830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92AA-09A6-4855-BB53-6704A0B05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AB87-8AD9-4DF8-86D5-0B604E75B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76AC-53B2-4376-BAF3-146866825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4FB7-0DA3-4531-8FAF-C1F73067F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5680-1D69-486C-92C0-7AA8358D1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E28F-AD4C-4ABA-8DBC-89CF625EB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AF464-D6B2-4B7C-9D31-1A1B1232B7E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34920" y="115920"/>
            <a:ext cx="9144000" cy="65595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324000" y="4724280"/>
            <a:ext cx="2755800" cy="18846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 rot="277800">
            <a:off x="1331640" y="980640"/>
            <a:ext cx="655308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汉仪雪峰体简"/>
              </a:rPr>
              <a:t>沟通心灵  共同成长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汉仪雪峰体简"/>
              <a:ea typeface="汉仪雪峰体简"/>
            </a:endParaRPr>
          </a:p>
        </p:txBody>
      </p:sp>
      <p:sp>
        <p:nvSpPr>
          <p:cNvPr id="44" name=""/>
          <p:cNvSpPr/>
          <p:nvPr/>
        </p:nvSpPr>
        <p:spPr>
          <a:xfrm>
            <a:off x="5364000" y="328464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一（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）班家长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3043080"/>
            <a:ext cx="9288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培养孩子高质量的学习习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及时预习、复习的习惯。（让孩子带着问题去上学，解决了问题再回家。回家后，家长和孩子要交流学习情况，及时进行总结和表扬点滴进步。重视复习巩固，每日读书，听写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按时完成作业，讲究学习效率的习惯。（要想保证学习效率，就要养成按时完成作业的习惯，经常不能按时完成学习任务，“欠债”越来越多，离预期的学习目标也就越来越远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每日按课表整理书包的习惯。（每日按课表整理书包，带齐学习用品也很重要，很多孩子晚上不按课表整理书包，结果第二天上课时连书都没有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上课专心听讲的习惯。（培养注意力的办法有静坐法、聆听法、回忆法、目标转移法等。你可以针对孩子的不同特点，选择不同的方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2489040"/>
            <a:ext cx="914400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需要家长配合做几件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学生做完作业，家长一定要检查，至少看看字迹是否清楚，书写是否认真，本子是否干净。然后再给签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读、背的作业家长一定要认真检查并签上读或背得怎样，有问题写上，便于老师个别辅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提醒孩子在写作业时，要手和脑结合，不能机械抄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创造安静的家庭学习气氛。要让孩子安心学习，家长首先自己安下心来，孩子学习时，您可读读书，看看报，或做一些不出声，不惹孩子发生兴趣的事。“身教重于言教”，年幼的孩子还不懂得为什么学习的道理，但他们见到父母认真看书学习，自会仿效去做。——如果孩子书写很差，您必须看着做。孩子写作业，您只须读题，提醒“认真书写仔细思考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68360" y="3065400"/>
            <a:ext cx="867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多表扬树立自信心。尽量表扬孩子，要使孩子每天都感觉到他在学习上取得了一定进步，哪怕是改正一个缺点。多关心孩子的学习内容和实际进步程度；家长要多询问孩子最近学习了什么，掌握得如何等；多与孩子进行交流，了解孩子的内心世界。经常给孩子制订几个容易达到的小目标，让孩子容易做到，使孩子尝到成功的滋味。树立孩子自信心，从而有利于孩子发挥出潜能。“兴趣是最好的老师”但一时的兴趣还不够，必须有成功的体验才能使孩子坚持下去。要让孩子有成功的体验，不断取得学习上的成功，是对学习的最佳刺激与鞭策。很多孩子不爱学习的原因，多是由于学习总是失败，考试成绩总是不如人。因此，一定要根据孩子的实际，恰当地为孩子确定学习目标，并给以切实有效的帮助，这样孩子就能通过努力而获得成功的体验。通俗的说法：跳一跳，摘桃子。孩子取得了一次成功，就好像找到了起飞的跑道，只要跑道铺好了，就不愁其他的飞机飞不起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68360" y="907920"/>
            <a:ext cx="8172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友情提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学习强度不可超过孩子的承受能力。许多家长往往在孩子放学后又安排几小时的学习，其实这样并不好。一是因为孩子在学校本已很累，再加上几个小时的额外学习，大大超过了其承受能力；二是“课堂——家庭式”的接力学习往往使孩子学习由最初的好奇、爱学变成厌倦甚至仇视学习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身教胜于言教。父母言行是孩子最好的榜样。要使孩子热爱学习，自己必须爱读书，努力营造良好的学习氛围。如果父母成天忙于生意，顾不上他。那么要想孩子“出污泥而不染”是绝对不可能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58920" y="981000"/>
            <a:ext cx="87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避免家教中的误导。家庭教育中父母讲话不慎而产生的错误导向，也是孩子不爱学习的重要原因，例如，有的家长说：“我们小时候学习不好，他也学不好。”结果孩子放弃学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此，我们的家长再忙，也应抽出时间来，和孩子一起学习，一起发现问题，分享学习的乐趣。督促、帮助孩子养成以上必备的学习习惯。不能“放羊”，把孩子一个人放在家里做家庭作业，至少得留一个人在家指导、提醒孩子按以上要求去做。等孩子养成了自觉的习惯， 再放手就没什么大碍了。但在孩子尚未形成良好的学习习惯之前，千万不可掉以轻心，放手不管，那样就是对孩子前途的放手不管，对孩子发展的放手不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50920" y="3013200"/>
            <a:ext cx="8893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下学期的打算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开学就是春季，又是流行病多发的季节，为预防流感，我会继续提醒和检查学生喝水。除此之外，希望家长帮孩子确定一项可以长期坚持的体育运动，通过锻炼，增强体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继续培养孩子们良好的读写姿势，预防近视。有孩子视力下降的，请家长利用假期再带孩子去复查一下，及时矫正。假期不要让孩子长时间地看书、看电视和玩电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本学期上学仍有迟到问题。我觉得要想解决这个问题，需要我们家长多努力。除特殊状况，特殊天气，上学是不应该迟到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0920" y="1125360"/>
            <a:ext cx="889308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对按时上交作业和带齐文具的情况进行检查评比，希望大家能在这些方面能给予协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每个孩子一周轮一次值日，下学期在这方面要从严要求。做值日的学生要早晚些高校。希望家长配合，不要打击孩子劳动的积极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如果本学期，孩子学习暂时落后，请大家不要灰心，要一如既往地付出耐心和时间，积极辅导孩子，努力让他们缩短与同学的距离。帮助他们逐渐树立信心。目前的落后只是暂时的，只要肯学，就有希望。如果放任自流，就很危险了。对孩子的学习要常抓不懈。在假期可以把第一册的知识重新给他们补习一下，到了下一学期，内容更多，更难，如果这年的内容都没有学好，很有可能就跟不上，彻底掉队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1416600"/>
            <a:ext cx="8794800" cy="44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关于假期的话题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放假时间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日正式开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开学时间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日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之前背书包到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语文假期作业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每周背两首古诗，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每周读两个故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每天写半篇小字。（可以抄语文书后生字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画一幅自己喜欢的图画，题目是《我的发现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完成一本假期作业，每天两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复习第一册书中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一类字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二类字。（开学后要听测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24000" y="2757240"/>
            <a:ext cx="838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识字少的学生，利用假期多认一些汉字，为下学期的学习打基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建议大家把孩子的压岁钱变成压岁书。带孩子逛逛书店，买几本孩子喜欢的课外书 。因为我允许孩子们每天带课外书到学校来，语文课上一有剩余时间，就让她们看自己喜欢的课外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和孩子一起订个学习及活动计划，每天按时按量认真完成各科作业，并进行适当的文体活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7380360" y="5504040"/>
            <a:ext cx="1441440" cy="13539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7251840" y="5516640"/>
            <a:ext cx="189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长城海报体繁"/>
              </a:rPr>
              <a:t>我的想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7c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7c80"/>
                </a:solidFill>
                <a:latin typeface="Arial"/>
                <a:ea typeface="黑体"/>
              </a:rPr>
              <a:t>发现问题及时与老师联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7c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7c80"/>
                </a:solidFill>
                <a:latin typeface="Arial"/>
                <a:ea typeface="黑体"/>
              </a:rPr>
              <a:t>督促孩子认真完成回家作业，动作迅速，对书写质量严格要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7c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7c80"/>
                </a:solidFill>
                <a:latin typeface="Arial"/>
                <a:ea typeface="黑体"/>
              </a:rPr>
              <a:t>准备必要的文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7c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7c80"/>
                </a:solidFill>
                <a:latin typeface="Arial"/>
                <a:ea typeface="黑体"/>
              </a:rPr>
              <a:t>安全问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9640" y="4724280"/>
            <a:ext cx="1916280" cy="18003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719280" y="4869000"/>
            <a:ext cx="189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长城海报体繁"/>
                <a:ea typeface="长城海报体繁"/>
              </a:rPr>
              <a:t>问题探讨</a:t>
            </a:r>
            <a:r>
              <a:rPr b="0" lang="zh-CN" sz="2800" spc="-1" strike="noStrike">
                <a:solidFill>
                  <a:srgbClr val="ff3300"/>
                </a:solidFill>
                <a:latin typeface="长城海报体繁"/>
                <a:ea typeface="长城海报体繁"/>
              </a:rPr>
              <a:t> </a:t>
            </a:r>
            <a:r>
              <a:rPr b="0" lang="zh-CN" sz="2800" spc="-1" strike="noStrike">
                <a:solidFill>
                  <a:srgbClr val="ff3300"/>
                </a:solidFill>
                <a:latin typeface="长城海报体繁"/>
                <a:ea typeface="长城海报体繁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8360" y="4251240"/>
            <a:ext cx="460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66cc"/>
                </a:solidFill>
                <a:latin typeface="Arial"/>
              </a:rPr>
              <a:t>●</a:t>
            </a:r>
            <a:r>
              <a:rPr b="1" lang="zh-CN" sz="3200" spc="-1" strike="noStrike">
                <a:solidFill>
                  <a:srgbClr val="ff66cc"/>
                </a:solidFill>
                <a:latin typeface="Arial"/>
              </a:rPr>
              <a:t>思想上要继续引导孩子。</a:t>
            </a:r>
            <a:r>
              <a:rPr b="0" lang="zh-CN" sz="3200" spc="-1" strike="noStrike">
                <a:solidFill>
                  <a:srgbClr val="ff66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66cc"/>
                </a:solidFill>
                <a:latin typeface="Arial"/>
              </a:rPr>
              <a:t>●</a:t>
            </a:r>
            <a:r>
              <a:rPr b="1" lang="zh-CN" sz="3200" spc="-1" strike="noStrike">
                <a:solidFill>
                  <a:srgbClr val="ff66cc"/>
                </a:solidFill>
                <a:latin typeface="Arial"/>
              </a:rPr>
              <a:t>行为要继续辅导孩子</a:t>
            </a:r>
            <a:r>
              <a:rPr b="0" lang="zh-CN" sz="3200" spc="-1" strike="noStrike">
                <a:solidFill>
                  <a:srgbClr val="ff66cc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ff66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66cc"/>
                </a:solidFill>
                <a:latin typeface="Arial"/>
              </a:rPr>
              <a:t>●</a:t>
            </a:r>
            <a:r>
              <a:rPr b="1" lang="zh-CN" sz="3200" spc="-1" strike="noStrike">
                <a:solidFill>
                  <a:srgbClr val="ff66cc"/>
                </a:solidFill>
                <a:latin typeface="Arial"/>
              </a:rPr>
              <a:t>学习上要帮助孩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759280" y="3618000"/>
            <a:ext cx="3384720" cy="3240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042920" y="1773360"/>
            <a:ext cx="518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家长会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是连结家庭教育与学校教育的纽带，在家庭与学校之间架起了一座金色的桥梁，使学校教育与家庭教育有机地结合起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95280" y="1052640"/>
            <a:ext cx="856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对家长来说，孩子是您的百分之一百，我将用百分之百的努力，来对您和您的孩子负责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楷体_GB2312"/>
              </a:rPr>
              <a:t>感谢家长们对班级工作的配合、理解和支持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楷体_GB2312"/>
              </a:rPr>
              <a:t>感谢孩子们为班级的付出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楷体_GB2312"/>
              </a:rPr>
              <a:t>感谢和我搭班的老师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39640" y="4724280"/>
            <a:ext cx="1916280" cy="1800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735120" y="4653000"/>
            <a:ext cx="189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长城海报体繁"/>
              </a:rPr>
              <a:t>一个承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长城海报体繁"/>
              </a:rPr>
              <a:t>三个感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24000" y="2637000"/>
            <a:ext cx="84960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草檀斋毛泽东字体"/>
              </a:rPr>
              <a:t>感激可爱的孩子们让我的生命如此充实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39640" y="452592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332000" y="2276640"/>
            <a:ext cx="648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7c80"/>
                </a:solidFill>
                <a:latin typeface="草檀斋毛泽东字体"/>
                <a:ea typeface="草檀斋毛泽东字体"/>
              </a:rPr>
              <a:t>    </a:t>
            </a:r>
            <a:r>
              <a:rPr b="1" lang="zh-CN" sz="3600" spc="-1" strike="noStrike">
                <a:solidFill>
                  <a:srgbClr val="ff7c80"/>
                </a:solidFill>
                <a:latin typeface="草檀斋毛泽东字体"/>
                <a:ea typeface="草檀斋毛泽东字体"/>
              </a:rPr>
              <a:t>提前给大家拜年啦！祝我们的孩子身体健康，学习进步！祝各位家长工作顺利，合家幸福！</a:t>
            </a:r>
            <a:r>
              <a:rPr b="1" lang="zh-CN" sz="3600" spc="-1" strike="noStrike">
                <a:solidFill>
                  <a:srgbClr val="ff7c8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732720" y="5084640"/>
            <a:ext cx="1584360" cy="13129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042920" y="573408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cc"/>
                </a:solidFill>
                <a:latin typeface="Arial"/>
                <a:ea typeface="长城海报体繁"/>
              </a:rPr>
              <a:t>联系电话：</a:t>
            </a:r>
            <a:r>
              <a:rPr b="1" lang="zh-CN" sz="2800" spc="-1" strike="noStrike">
                <a:solidFill>
                  <a:srgbClr val="ff66cc"/>
                </a:solidFill>
                <a:latin typeface="Arial"/>
                <a:ea typeface="长城海报体繁"/>
              </a:rPr>
              <a:t>1587901838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900000" y="1557360"/>
            <a:ext cx="6553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cc0099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0099"/>
                </a:solidFill>
                <a:latin typeface=""/>
                <a:ea typeface="隶书"/>
              </a:rPr>
              <a:t>再次感谢各位家长对我们工作的支持，望在新学期共创嘉绩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596360" y="5516640"/>
            <a:ext cx="952200" cy="9525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411920"/>
            <a:ext cx="8794800" cy="44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关于假期的话题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放假时间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日正式开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开学时间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日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之前背书包到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语文假期作业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每周背两首古诗，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每周读两个故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每天写半篇小字。（可以抄语文书后生字也可练字帖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画一幅自己喜欢的图画，题目是《我的发现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完成一本假期作业，每天两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复习第一册书中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一类字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二类字。（开学后要听测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067280" y="1844280"/>
            <a:ext cx="461952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cc"/>
                </a:solidFill>
                <a:latin typeface="Arial"/>
                <a:ea typeface="迷你简启体"/>
              </a:rPr>
              <a:t>强健的身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cc"/>
                </a:solidFill>
                <a:latin typeface="Arial"/>
                <a:ea typeface="迷你简启体"/>
              </a:rPr>
              <a:t>健全的心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cc"/>
                </a:solidFill>
                <a:latin typeface="Arial"/>
                <a:ea typeface="迷你简启体"/>
              </a:rPr>
              <a:t>自由的思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cc"/>
                </a:solidFill>
                <a:latin typeface="Arial"/>
                <a:ea typeface="迷你简启体"/>
              </a:rPr>
              <a:t>良好的习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468360" y="1989000"/>
            <a:ext cx="3240000" cy="2332080"/>
            <a:chOff x="468360" y="1989000"/>
            <a:chExt cx="3240000" cy="2332080"/>
          </a:xfrm>
        </p:grpSpPr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>
              <a:off x="468360" y="1989000"/>
              <a:ext cx="3240000" cy="233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1384200" y="2747880"/>
              <a:ext cx="18925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Arial"/>
                  <a:ea typeface="长城海报体繁"/>
                </a:rPr>
                <a:t>我    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Arial"/>
                  <a:ea typeface="长城海报体繁"/>
                </a:rPr>
                <a:t>教育观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907920"/>
            <a:ext cx="3384720" cy="3240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55640" y="227664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班级现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373440" y="2245680"/>
            <a:ext cx="65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活泼、文明、团结上进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41640" y="3327120"/>
            <a:ext cx="188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学习积极性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3384360" cy="3240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042920" y="2421000"/>
            <a:ext cx="18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孩子表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40360" y="1916280"/>
            <a:ext cx="43923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cc"/>
                </a:solidFill>
                <a:latin typeface="Arial"/>
              </a:rPr>
              <a:t>小蜜蜂：爱学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cc"/>
                </a:solidFill>
                <a:latin typeface="Arial"/>
              </a:rPr>
              <a:t>老黄牛：爱劳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cc"/>
                </a:solidFill>
                <a:latin typeface="Arial"/>
              </a:rPr>
              <a:t>小黄莺：小老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cc"/>
                </a:solidFill>
                <a:latin typeface="Arial"/>
              </a:rPr>
              <a:t>小白兔：听话可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419280" y="1988640"/>
            <a:ext cx="5653080" cy="31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cc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cc"/>
                </a:solidFill>
                <a:latin typeface="楷体_GB2312"/>
                <a:ea typeface="楷体_GB2312"/>
              </a:rPr>
              <a:t>不以规矩</a:t>
            </a:r>
            <a:r>
              <a:rPr b="1" lang="zh-CN" sz="3200" spc="-1" strike="noStrike">
                <a:solidFill>
                  <a:srgbClr val="ff66cc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66cc"/>
                </a:solidFill>
                <a:latin typeface="楷体_GB2312"/>
                <a:ea typeface="楷体_GB2312"/>
              </a:rPr>
              <a:t>无以成方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cc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cc"/>
                </a:solidFill>
                <a:latin typeface="楷体_GB2312"/>
                <a:ea typeface="楷体_GB2312"/>
              </a:rPr>
              <a:t>班级荣誉，我的责任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cc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cc"/>
                </a:solidFill>
                <a:latin typeface="楷体_GB2312"/>
                <a:ea typeface="楷体_GB2312"/>
              </a:rPr>
              <a:t>班级是我家，人人都爱它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1197000"/>
            <a:ext cx="3240000" cy="2332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55640" y="2133720"/>
            <a:ext cx="189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长城海报体繁"/>
              </a:rPr>
              <a:t>班级格言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11280" y="2333520"/>
            <a:ext cx="763272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cc"/>
                </a:solidFill>
                <a:latin typeface="Arial"/>
              </a:rPr>
              <a:t>关于考试的话题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语文试卷：答题很认真，卷面书写也很整洁，基础知识掌握得十分扎实，字写得比较规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失分主要集中在四处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看拼音写词语，出错较多的是因为平时生字掌握不牢固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第五题给生字减一笔和加一笔。出现的字比较偏，题目偏难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八题选择题，对于一年级学生来说在理解上确实有难度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没有仔细听老师读题，理解题意不正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7093080" y="5192640"/>
            <a:ext cx="1773000" cy="1665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7251840" y="5157720"/>
            <a:ext cx="189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长城海报体繁"/>
              </a:rPr>
              <a:t>期末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长城海报体繁"/>
              </a:rPr>
              <a:t>测情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11280" y="2833200"/>
            <a:ext cx="792144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cc"/>
                </a:solidFill>
                <a:latin typeface="Arial"/>
              </a:rPr>
              <a:t>正确看待孩子的考试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考得好，说明知识掌握得好；考得不好，说明知识上有漏洞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如何补洞：首先分析原因。①是粗心造成的错误，就告诉孩子写完要认真检查；②是不会失的分，就想办法教会；③是书写慢丢得分，就帮助孩子提高速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如果，每回孩子考完试，家长都能冷静地和孩子一起找原因，想办法，时间久了，孩子也能冷静地处事了。也会让孩子对考试有一个正确的认知，内心感觉很踏实很安全，不会一没考好就战战兢兢，更不会想方设法去隐瞒和欺骗家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981000"/>
            <a:ext cx="8820000" cy="24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存在问题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部分同学听讲不认真，上课爱做小动作，学习习惯有待改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老师讲课时少数几个同学爱乱插嘴，或乱讲与学习无关的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部分男同学太爱动，自我约束能力较差，课下爱追逐打闹，安全问题令老师担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自我管理能力较差，无法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合理分配。做功课时不能集中精神，总要弄一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小插曲，白白浪费时间，使得自己学不好，玩不好。时间长了，容易造成孩子注意力的稳定性、持久性差，不能很好地控制自己的行为，形成做事拖拉、无长性，精神易分散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4T02:33:30Z</dcterms:created>
  <dc:creator>微软用户</dc:creator>
  <dc:description/>
  <dc:language>en-US</dc:language>
  <cp:lastModifiedBy>USER</cp:lastModifiedBy>
  <dcterms:modified xsi:type="dcterms:W3CDTF">2011-04-21T14:35:05Z</dcterms:modified>
  <cp:revision>8</cp:revision>
  <dc:subject/>
  <dc:title>幻灯片 1</dc:title>
</cp:coreProperties>
</file>