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A7E-C4B4-4E3C-8400-6DCA46A8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8B79-007C-48E2-8475-7BF31100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D10-0CFD-40DA-AE5C-969B2F7E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F36-DD36-4A3B-B7D5-C3A8566B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A15F-90C1-49D8-AD6E-5664EDAB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3FF1-0CD1-4ACF-915F-A5113372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33C4-5740-4F8B-8E11-AA3EC33B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12BA-C8BC-4765-B990-6D1C9245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11DC-381C-4C01-9D5F-CBB7076F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4819-F9C8-49F6-B227-BB9070EC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9A78-D700-41EF-8014-6446C4D1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A0D-899C-4C25-BCD4-7E587DF5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79B0-8E4C-46DD-852C-CCBFA209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9288-E7B2-4D03-96C4-8585310C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E148-8C06-462E-865C-334D47D7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EC0C-9CF0-4CEB-AB7C-D22C99BA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4A7D-26CE-4096-A08B-FC755C74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1AE9B-5CD6-4EAB-914E-174DDF84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AF021-D3CE-4D1A-9646-F098B4D6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2CE5-C763-4B45-9636-A5E35DC0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7A1EA-EE29-457D-A73B-EF109EB7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EC554-F095-4A17-ACAC-8DA97DDE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966-76AA-49DD-8B77-3562BDD5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FC69E-6F3F-4118-B415-FAED71CB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F570-D6CA-4A26-A8CE-876AF2E6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7A80-3DEE-4DEB-8959-0D593432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0B7A8-7E3C-41AF-B843-C2397A63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62EF1-10CF-4FCA-BB6D-20745764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08F5F-15F6-4597-84A9-A69E4895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EDC19-E7AC-4701-8B5E-EECC250F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F65B1-F889-4FA0-AC02-F37E05B6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DFE51-6145-42D9-B6C3-A01AF935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4A7F8-D710-4599-A655-ECA37661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500-C4BE-4DBE-999A-1F9391E8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EB9C6-3B87-439C-88F8-720600AC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8B21D-1A9B-47F8-9365-01BBFAC1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BF238-770A-4431-8915-C9F17B4F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9FFEB-AB49-4796-8880-B8F32D12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16FCA-B657-4E28-83C3-4651012D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0CFA5-CCDE-4C0F-95B9-2AEF3AF7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FC7B7-87AD-4BA1-B421-9C94C6E1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9ADC0-A072-4F01-902C-5D2F328A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F66BB-D489-4DB5-9761-B9FF921E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516-83D4-4BD6-9CAB-0095C57E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7C5-BC91-41FC-A1C0-05E03B8A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743-7DD7-48CD-8EB0-C0A99785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27D4-D74B-4665-9C93-5AA91968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D0E-93DF-4568-9A36-7C55C908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8EAA-8E99-4D8B-B297-94005324FA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A9B3-01BF-4D73-8F80-547441DD3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F593-B511-4A42-8DB2-B8CDF1586F90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78CA-F22C-437C-8737-A9B44E6EFECA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a8e28531959cd104eac4af6d"/>
          <p:cNvPicPr/>
          <p:nvPr/>
        </p:nvPicPr>
        <p:blipFill>
          <a:blip r:embed="rId1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1128600" y="1079640"/>
            <a:ext cx="45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4"/>
          <p:cNvSpPr txBox="1"/>
          <p:nvPr/>
        </p:nvSpPr>
        <p:spPr>
          <a:xfrm rot="5400000">
            <a:off x="-900000" y="2347920"/>
            <a:ext cx="403056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各位家长</a:t>
            </a:r>
            <a:endParaRPr b="1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WordArt 5"/>
          <p:cNvSpPr txBox="1"/>
          <p:nvPr/>
        </p:nvSpPr>
        <p:spPr>
          <a:xfrm rot="5400000">
            <a:off x="538200" y="3572640"/>
            <a:ext cx="410508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欢迎您的到来</a:t>
            </a:r>
            <a:endParaRPr b="1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067280" y="5769000"/>
            <a:ext cx="30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F0ACBC8641026F5A4A7677176F6C297DDC6C4AF1.wma" descr=""/>
          <p:cNvPicPr/>
          <p:nvPr/>
        </p:nvPicPr>
        <p:blipFill>
          <a:blip r:embed="rId2"/>
          <a:stretch/>
        </p:blipFill>
        <p:spPr>
          <a:xfrm>
            <a:off x="7812000" y="515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" name="04.mp3" descr=""/>
          <p:cNvPicPr/>
          <p:nvPr/>
        </p:nvPicPr>
        <p:blipFill>
          <a:blip r:embed="rId3"/>
          <a:stretch/>
        </p:blipFill>
        <p:spPr>
          <a:xfrm>
            <a:off x="7885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3332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0177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74160" cy="6813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知识掌握不扎实，做过的题目还失分。如第十一题写话。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文会背，但是“我会写”的生字不过关，导致失分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Rectangle 3" descr=""/>
          <p:cNvPicPr/>
          <p:nvPr/>
        </p:nvPicPr>
        <p:blipFill>
          <a:blip r:embed="rId1"/>
          <a:stretch/>
        </p:blipFill>
        <p:spPr>
          <a:xfrm>
            <a:off x="36360" y="1440"/>
            <a:ext cx="9001440" cy="6759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改进措施：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注重学生识字能力的培养，引导学生用喜欢的方法识字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继续加大听说读写教学的力度，使字词句训练成为语文教学中的重中之重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加强阅读及写话训练，培养学生审题和语言表达能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Rectangle 3" descr=""/>
          <p:cNvPicPr/>
          <p:nvPr/>
        </p:nvPicPr>
        <p:blipFill>
          <a:blip r:embed="rId1"/>
          <a:stretch/>
        </p:blipFill>
        <p:spPr>
          <a:xfrm>
            <a:off x="36360" y="1440"/>
            <a:ext cx="9072720" cy="68122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多与家长联系，密切配合，抓好中下学生的学习。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加强对学生的分析判断能力的训练。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把好单元检测关，及时弥补不足，以激励表扬的方法让学生在学习中展开竞争，使不同的学生得到不同的发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无标题w"/>
          <p:cNvPicPr/>
          <p:nvPr/>
        </p:nvPicPr>
        <p:blipFill>
          <a:blip r:embed="rId1"/>
          <a:stretch/>
        </p:blipFill>
        <p:spPr>
          <a:xfrm>
            <a:off x="0" y="0"/>
            <a:ext cx="9024840" cy="67676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1116000" y="33336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学习习惯方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预习、口头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前预习非常重要，预习充分了，孩子们上课时学习的劲头也足了，因为我在上课时都要检查孩子们对生字的认识，以及课文朗读情况。但我们家长也不可能一直陪着孩子读，所以我想，你可以先让孩子自己读，先读两遍，最后一遍让孩子读给你听，这遍你要认真听，如果有错你就要及时指正，并让孩子重读。我们一定要让孩子养成良好的预习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课堂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班的课堂纪律逐渐形成，大部分的学生都能坐端正认真听讲，积极与老师互动。但还有一些孩子上课做小动作、画画、说悄悄话、开小差走神。他们的课堂纪律需要进一步强化、规范。不过还要提的是近段时间孩子们举手不够积极，上课有点懒洋洋，感觉像是春天到了，犯困了，有的孩子干脆知道的也懒得举手。整堂课始终在参与的就是那么十几个的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业书写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家庭作业，有些家长非常认真，字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得不好，要求孩子擦掉重写，因为家里有的是时间让孩子写，所以这也是惩罚孩子不认真学习的一个好办法。我们的孩子年纪小，培养的开始应带有一定的强制性，即具体要求、具体督促、具体检查。有的家长要求一大堆，却不认真检查落实，时间长了，孩子摸透了家长的脾气，进而钻了家长的空子。只有对孩子要求具体，检查认真，才能使孩子感觉家长要求的严肃性，进而约束自己把要求化为行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阅读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是非常重要的，孩子通过大量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，可以提高孩子的识字量，提高孩子的理解能力，提高孩子的写作能力。孩子阅读什么，需要在家长的指导和监督。可以去买，可以去书店看，也可以去借。家长要督促孩子每周熟背老师指定的古诗、佳句、成语，每天至少阅读半小时课外书，可以结合我们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春天的声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起使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1763640" y="189000"/>
            <a:ext cx="6480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安全教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由于我校门前各种车辆来来往往。在学校里，我们每天都会叮嘱学生，反复强调，注意安全，增强自我保护意识，校内外不做危险游戏，上学、放学路上不逗留，不玩耍，放学后要直接回家，相信各位家长和我们一样关心孩子的安全。所以需要家长的密切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600200" y="1066680"/>
            <a:ext cx="6705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做一个榜样型的家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配合老师加强对孩子进行思想教育和引导，帮助他们形成正确的世界观、人生观、价值观。用自己的良好的行为习惯做好子女的表率，和子女一起互相监督、勉励，共同进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90720" y="685800"/>
            <a:ext cx="6400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做一个监督型的家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77360" y="16765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作业督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24382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关心学生每一周的学习情况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督促学生晚上在家独立完成各科家庭作业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并进行适当的复习和预习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对于学有余力的学生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安排适当的课外习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24000" y="1574280"/>
            <a:ext cx="8424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前苏联教育家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苏霍姆林斯基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个教育者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校和家庭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不仅要一致行动，要向孩子提出同样的要求，而且要志同道合，抱着一致的信念，始终从同一原则出发，无论在教育的目的上、过程上，还是手段上，都不要发生分歧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371600" y="500040"/>
            <a:ext cx="7620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长应当从哪里入手提高孩子的学习成绩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第一、抓作业。要规定孩子放学后必须做    完作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检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口头作业、复习、预习作业也不容草率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第二、抓态度。要求学习专心、细心，书写要工整、清洁、准确，不能“虎头蛇尾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第三、抓技能。如想问题、做作业时，要求准确而迅速，在高质量中求快，语言表达务求清楚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业签字仍然是常规要求，签字可以用主观看法来代替！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4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09680" y="2438280"/>
            <a:ext cx="4724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谢谢聆听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的每一个进步需要你们点点滴滴的投入和关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4176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1160" y="3505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809280"/>
            <a:ext cx="7490160" cy="378036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生的成功</a:t>
            </a:r>
            <a:r>
              <a:rPr b="1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%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学生的自身努力）</a:t>
            </a:r>
            <a:r>
              <a:rPr b="1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教师的力量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家长的推动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1258920" y="333360"/>
            <a:ext cx="7093080" cy="44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这次家长会目的是架起老师与家长间沟通的桥梁，你们的到来，也说明了“只有形成教育合力，才能更好地帮助学生进步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的会议有四项议程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是期中考试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是孩子的学习习惯、安全方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是结合孩子们的表现，从整体上互相交流     几点教育建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是共同探讨孩子的教育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3" descr=""/>
          <p:cNvPicPr/>
          <p:nvPr/>
        </p:nvPicPr>
        <p:blipFill>
          <a:blip r:embed="rId1"/>
          <a:stretch/>
        </p:blipFill>
        <p:spPr>
          <a:xfrm>
            <a:off x="0" y="-25560"/>
            <a:ext cx="9205920" cy="6912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期中考试分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954080"/>
            <a:ext cx="55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95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分以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90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分以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bj029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2627280" y="33336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学习之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306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5600" y="1094040"/>
            <a:ext cx="1521000" cy="46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光荣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0" y="479736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2482920" y="393372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进步之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56000" y="1486080"/>
            <a:ext cx="24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书写之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2637000"/>
            <a:ext cx="22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诵读之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出题情况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次检测共有十一道大题，试卷内容涵盖丰富，字词句段都有涉猎，试卷出题注重识字、写字、词句积累，很好地体现了学段特点，试卷题型多样，题量和难度较为适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Rectangle 3" descr=""/>
          <p:cNvPicPr/>
          <p:nvPr/>
        </p:nvPicPr>
        <p:blipFill>
          <a:blip r:embed="rId1"/>
          <a:stretch/>
        </p:blipFill>
        <p:spPr>
          <a:xfrm>
            <a:off x="0" y="1440"/>
            <a:ext cx="9072720" cy="6812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试卷分析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次成绩虽然较为理想，但仍然存在很多问题，为了能够及时总结这半学期语文教学方面的经验教训，做好下半学期的语文教学工作，特将本次试卷分析如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36360" y="-25560"/>
            <a:ext cx="9205920" cy="6912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存在问题：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部分学生学习方法较死板，对所学知识不能举一反三，灵活运用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有的学生没有认真听讲，没有听清楚老师读题目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别学生不会审题，不理解题意，且拼音不太过关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23:43Z</dcterms:created>
  <dc:creator>jlw</dc:creator>
  <dc:description/>
  <dc:language>en-US</dc:language>
  <cp:lastModifiedBy>微软用户</cp:lastModifiedBy>
  <cp:lastPrinted>1899-12-30T00:00:00Z</cp:lastPrinted>
  <dcterms:modified xsi:type="dcterms:W3CDTF">2013-05-07T13:10:25Z</dcterms:modified>
  <cp:revision>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