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%E4%BA%A1%E7%81%B5%E5%BA%8F%E6%9B%B2.wav" ContentType="audio/x-wav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6CDA-9985-4CBC-8057-C2A33E27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1F7-5A72-4356-9727-66EEF71B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0DB-DB11-46EA-BB2E-2F2C9C12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41C-836C-4BAA-BFA9-D36DF64E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54AC-5EC4-4641-A4A5-D03421D8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7729-29E5-46BB-BA20-2D2DBC81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EFE7-C870-404A-BFFB-CCCFF789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7FEC-F400-4F05-AB09-A3B89AE9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8083-F3A2-45EF-AD37-B76093A8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D81A-27C6-4B4A-854E-5857EA29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2DAB-50AB-4854-B85F-8404D047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5E4-C89E-41AF-BE22-D0D48BC2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21D6-B72F-441B-BDA4-F6555797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56CB-1E4F-4F12-96E4-C7D888E9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6ED9-31ED-4E62-9662-530A1BB3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EF69-91ED-432E-99BE-8C88BEC2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A17D-7B4B-45EA-A385-409AF58E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FF32D-24B9-4499-A795-86A5F844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994B-7264-44E4-AD1A-F343133C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DBBDD-4E9A-470C-A541-86615D12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9CD2C-7483-44B3-BFA1-F8AEE17B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2251C-C8C5-480D-A669-5DE56936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869-359E-4D33-9C6F-2B4E56A8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7F41C-2E20-4F24-ABFA-539D6CE2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E29FD-8705-4967-9792-1A6FEDE6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8F62B-FEF9-4376-8A42-DCD7C10F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9099A-B912-4E3F-B9F5-FF1337A9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6BE80-A19E-48F0-AA6D-B8A577B0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4662F-E6D6-47AC-BB54-8057BC27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10DE-C5EC-40DF-A9C5-B10F55C9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D8E3C-2EBB-4BC8-BF6A-9AA85DF2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09BC0-7EA6-4078-B410-A08CE23A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ADB88-2CB4-4125-B731-8931B11B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BFF-9DDA-4459-9B93-C87AA162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AE4EE-4B2C-42A6-B241-F15776C3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6B34A-7E7D-4F51-91B3-5C6FCCCE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DF77A-E6F8-441A-90AC-32DA44D6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C080D-83B3-443B-AE41-95CABCAB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465D9-482D-4F46-A455-80E20781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B9004-8C2E-49BC-A177-1E4EC901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B931D-7DB6-4D3C-94A1-B63774C2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0C60C-7D40-48B5-8598-3B6FA660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1BEF7-745A-4FC0-9D58-C2DFB096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2351E-7C5D-4A94-BC1C-760935AD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471-1095-47C0-8565-8D09295E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1FE81-43E9-41B2-8C9B-0A93B53F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6C11F-B886-4AC4-98A6-82BBD4BD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7234C-5E5F-47BF-ADAA-BE6AFAF1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6DAF4-723C-4934-88CC-09529032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B9DA1-6030-410B-B6B1-852B07B0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5E54E-7F26-48B8-99D5-EC20EFE3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34E48-49B5-4FDC-98A9-88D13D45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9DA79-548F-47BD-84E0-2EBF6BAB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9D3D4-036A-4D23-923C-3BF879E2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F7CB4-6B8F-4570-AE73-DC869B3E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178-9190-4BD9-8AD9-E0825887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4ECA0-C1FC-4CA2-958D-BA14BBBD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F62F0-2D8A-44B8-AD3E-00E47A60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16582-8565-4ADB-8AA7-E8C4A6ED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5E602-93A2-4D64-BD97-98AC0893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E69F7-9644-4BD9-BE09-ED10E25D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64F16-5708-4D09-B159-399329A2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F7170-0254-4E65-91CB-67EA67E9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71F9E-7505-4A93-B7DA-D74A8091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14859-C0BE-4290-9BBB-7A417749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78EC5-4249-4C89-A50E-E491A06D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E07-38A9-4C2E-AFD0-3B6BCFC0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744C5-913A-4B7E-B691-E2E255C4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41B75-95AB-4CBF-91AA-85359A6D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254E0-FE71-4771-9A74-A24BA180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1C8-5A49-49BE-93F9-266AFD41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C26-F824-41AA-8F48-4CDE6212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hyperlink" Target="257,-1,PREV" TargetMode="External"/><Relationship Id="rId4" Type="http://schemas.openxmlformats.org/officeDocument/2006/relationships/image" Target="../media/image2.png"/><Relationship Id="rId5" Type="http://schemas.openxmlformats.org/officeDocument/2006/relationships/hyperlink" Target="257,2,&#24187;&#28783;&#29255; 2" TargetMode="External"/><Relationship Id="rId6" Type="http://schemas.openxmlformats.org/officeDocument/2006/relationships/image" Target="../media/image3.png"/><Relationship Id="rId7" Type="http://schemas.openxmlformats.org/officeDocument/2006/relationships/hyperlink" Target="257,-1,NEXT" TargetMode="External"/><Relationship Id="rId8" Type="http://schemas.openxmlformats.org/officeDocument/2006/relationships/image" Target="../media/image4.png"/><Relationship Id="rId9" Type="http://schemas.openxmlformats.org/officeDocument/2006/relationships/hyperlink" Target="257,1,&#33258;&#25105;&#20171;&#32461;  Self Introduction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hyperlink" Target="257,-1,PREV" TargetMode="External"/><Relationship Id="rId4" Type="http://schemas.openxmlformats.org/officeDocument/2006/relationships/image" Target="../media/image2.png"/><Relationship Id="rId5" Type="http://schemas.openxmlformats.org/officeDocument/2006/relationships/hyperlink" Target="257,2,&#24187;&#28783;&#29255; 2" TargetMode="External"/><Relationship Id="rId6" Type="http://schemas.openxmlformats.org/officeDocument/2006/relationships/image" Target="../media/image3.png"/><Relationship Id="rId7" Type="http://schemas.openxmlformats.org/officeDocument/2006/relationships/hyperlink" Target="257,-1,NEXT" TargetMode="External"/><Relationship Id="rId8" Type="http://schemas.openxmlformats.org/officeDocument/2006/relationships/image" Target="../media/image4.png"/><Relationship Id="rId9" Type="http://schemas.openxmlformats.org/officeDocument/2006/relationships/hyperlink" Target="257,1,&#33258;&#25105;&#20171;&#32461;  Self Introduction" TargetMode="External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hyperlink" Target="257,-1,PREV" TargetMode="External"/><Relationship Id="rId4" Type="http://schemas.openxmlformats.org/officeDocument/2006/relationships/image" Target="../media/image2.png"/><Relationship Id="rId5" Type="http://schemas.openxmlformats.org/officeDocument/2006/relationships/hyperlink" Target="257,2,&#24187;&#28783;&#29255; 2" TargetMode="External"/><Relationship Id="rId6" Type="http://schemas.openxmlformats.org/officeDocument/2006/relationships/image" Target="../media/image3.png"/><Relationship Id="rId7" Type="http://schemas.openxmlformats.org/officeDocument/2006/relationships/hyperlink" Target="257,-1,NEXT" TargetMode="External"/><Relationship Id="rId8" Type="http://schemas.openxmlformats.org/officeDocument/2006/relationships/image" Target="../media/image4.png"/><Relationship Id="rId9" Type="http://schemas.openxmlformats.org/officeDocument/2006/relationships/hyperlink" Target="257,1,&#33258;&#25105;&#20171;&#32461;  Self Introduction" TargetMode="External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hyperlink" Target="257,-1,PREV" TargetMode="External"/><Relationship Id="rId4" Type="http://schemas.openxmlformats.org/officeDocument/2006/relationships/image" Target="../media/image2.png"/><Relationship Id="rId5" Type="http://schemas.openxmlformats.org/officeDocument/2006/relationships/hyperlink" Target="257,2,&#24187;&#28783;&#29255; 2" TargetMode="External"/><Relationship Id="rId6" Type="http://schemas.openxmlformats.org/officeDocument/2006/relationships/image" Target="../media/image3.png"/><Relationship Id="rId7" Type="http://schemas.openxmlformats.org/officeDocument/2006/relationships/hyperlink" Target="257,-1,NEXT" TargetMode="External"/><Relationship Id="rId8" Type="http://schemas.openxmlformats.org/officeDocument/2006/relationships/image" Target="../media/image4.png"/><Relationship Id="rId9" Type="http://schemas.openxmlformats.org/officeDocument/2006/relationships/hyperlink" Target="257,1,&#33258;&#25105;&#20171;&#32461;  Self Introduction" TargetMode="External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2BE7-F4BE-48BD-89F4-C12369C995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42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816440" y="6310080"/>
              <a:ext cx="879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45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879720" y="6310080"/>
              <a:ext cx="879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48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751360" y="6310080"/>
              <a:ext cx="9525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51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016080" y="6310080"/>
              <a:ext cx="808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C8F0-6D31-4B18-9DD5-1DA21C2A5E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4437-45FD-4955-9336-8366733CFC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137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816440" y="6310080"/>
              <a:ext cx="879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140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879720" y="6310080"/>
              <a:ext cx="879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143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751360" y="6310080"/>
              <a:ext cx="9525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146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016080" y="6310080"/>
              <a:ext cx="808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885A-A73E-443D-B128-1209DADDC3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191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816440" y="6310080"/>
              <a:ext cx="879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194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879720" y="6310080"/>
              <a:ext cx="879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197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751360" y="6310080"/>
              <a:ext cx="9525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200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016080" y="6310080"/>
              <a:ext cx="808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D1D7-F963-44BC-8B14-36CC1163D5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245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4816440" y="6310080"/>
              <a:ext cx="879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248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879720" y="6310080"/>
              <a:ext cx="879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251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751360" y="6310080"/>
              <a:ext cx="9525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254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016080" y="6310080"/>
              <a:ext cx="808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E85E-218A-47DC-97B7-B5694AF6F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audio" Target="../media/&#20129;&#28789;&#24207;&#26354;.wav"/><Relationship Id="rId6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4,3,&#24187;&#28783;&#29255; 3" TargetMode="External"/><Relationship Id="rId3" Type="http://schemas.openxmlformats.org/officeDocument/2006/relationships/hyperlink" Target="262,4,&#24187;&#28783;&#29255; 4" TargetMode="External"/><Relationship Id="rId4" Type="http://schemas.openxmlformats.org/officeDocument/2006/relationships/hyperlink" Target="260,6,&#24187;&#28783;&#29255; 6" TargetMode="External"/><Relationship Id="rId5" Type="http://schemas.openxmlformats.org/officeDocument/2006/relationships/hyperlink" Target="265,7,&#24187;&#28783;&#29255; 7" TargetMode="External"/><Relationship Id="rId6" Type="http://schemas.openxmlformats.org/officeDocument/2006/relationships/hyperlink" Target="258,8,&#24187;&#28783;&#29255; 8" TargetMode="External"/><Relationship Id="rId7" Type="http://schemas.openxmlformats.org/officeDocument/2006/relationships/image" Target="../media/image7.png"/><Relationship Id="rId8" Type="http://schemas.openxmlformats.org/officeDocument/2006/relationships/hyperlink" Target="261,5,&#24187;&#28783;&#29255; 5" TargetMode="External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74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 rot="5400000">
            <a:off x="2261880" y="2970360"/>
            <a:ext cx="4619520" cy="923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这样的我</a:t>
            </a:r>
            <a:endParaRPr b="1" lang="en-US" sz="72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图片 9" descr="云1.png"/>
          <p:cNvPicPr/>
          <p:nvPr/>
        </p:nvPicPr>
        <p:blipFill>
          <a:blip r:embed="rId2"/>
          <a:stretch/>
        </p:blipFill>
        <p:spPr>
          <a:xfrm>
            <a:off x="250920" y="1701720"/>
            <a:ext cx="2268360" cy="70668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11" descr="云3.png"/>
          <p:cNvPicPr/>
          <p:nvPr/>
        </p:nvPicPr>
        <p:blipFill>
          <a:blip r:embed="rId3"/>
          <a:stretch/>
        </p:blipFill>
        <p:spPr>
          <a:xfrm>
            <a:off x="9858240" y="2363760"/>
            <a:ext cx="2994120" cy="103500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0" y="5943600"/>
            <a:ext cx="9144000" cy="360"/>
            <a:chOff x="0" y="5943600"/>
            <a:chExt cx="9144000" cy="360"/>
          </a:xfrm>
        </p:grpSpPr>
        <p:sp>
          <p:nvSpPr>
            <p:cNvPr id="360" name="Line 7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0" y="59436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-19080" y="1257480"/>
            <a:ext cx="9137520" cy="360"/>
            <a:chOff x="-19080" y="1257480"/>
            <a:chExt cx="9137520" cy="360"/>
          </a:xfrm>
        </p:grpSpPr>
        <p:sp>
          <p:nvSpPr>
            <p:cNvPr id="363" name="Line 33"/>
            <p:cNvSpPr/>
            <p:nvPr/>
          </p:nvSpPr>
          <p:spPr>
            <a:xfrm>
              <a:off x="-19080" y="1257480"/>
              <a:ext cx="913752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-19080" y="1257480"/>
              <a:ext cx="9137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0" y="5956200"/>
            <a:ext cx="9144000" cy="360"/>
            <a:chOff x="0" y="5956200"/>
            <a:chExt cx="9144000" cy="360"/>
          </a:xfrm>
        </p:grpSpPr>
        <p:sp>
          <p:nvSpPr>
            <p:cNvPr id="366" name="Line 36"/>
            <p:cNvSpPr/>
            <p:nvPr/>
          </p:nvSpPr>
          <p:spPr>
            <a:xfrm>
              <a:off x="0" y="5956200"/>
              <a:ext cx="914400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0" y="59562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Box 8"/>
          <p:cNvSpPr/>
          <p:nvPr/>
        </p:nvSpPr>
        <p:spPr>
          <a:xfrm>
            <a:off x="2987640" y="549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致力于优秀的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PPT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分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2629080" y="2476440"/>
            <a:ext cx="53276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</a:rPr>
              <a:t>PPT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</a:rPr>
              <a:t>模板下载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http://ppt.downhot.com/moban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</a:rPr>
              <a:t>PPT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</a:rPr>
              <a:t>素材下载 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http://ppt.downhot.com/tsucai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</a:rPr>
              <a:t>PPT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</a:rPr>
              <a:t>背景图片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http://ppt.downhot.com/gaoqin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</a:rPr>
              <a:t>PPT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</a:rPr>
              <a:t>教程下载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http://ppt.downhot.com/jiaoch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PPT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作品下载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http://ppt.downhot.com/PPTzuopin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2"/>
          <p:cNvSpPr/>
          <p:nvPr/>
        </p:nvSpPr>
        <p:spPr>
          <a:xfrm>
            <a:off x="245160" y="6200640"/>
            <a:ext cx="35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更多管理资料下载：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www.downhot.com/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4" descr="logo"/>
          <p:cNvPicPr/>
          <p:nvPr/>
        </p:nvPicPr>
        <p:blipFill>
          <a:blip r:embed="rId4"/>
          <a:stretch/>
        </p:blipFill>
        <p:spPr>
          <a:xfrm>
            <a:off x="331920" y="284040"/>
            <a:ext cx="1836720" cy="733680"/>
          </a:xfrm>
          <a:prstGeom prst="rect">
            <a:avLst/>
          </a:prstGeom>
          <a:ln w="0">
            <a:noFill/>
          </a:ln>
        </p:spPr>
      </p:pic>
      <p:sp>
        <p:nvSpPr>
          <p:cNvPr id="372" name="TextBox 22"/>
          <p:cNvSpPr/>
          <p:nvPr/>
        </p:nvSpPr>
        <p:spPr>
          <a:xfrm>
            <a:off x="5185080" y="620064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更多谜语、范文：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www.xhxsw88.cn/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1111 L 1.79965 0.01111 E">
                                      <p:cBhvr>
                                        <p:cTn id="287" dur="8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1111 L -1.8467 0.01111 E">
                                      <p:cBhvr>
                                        <p:cTn id="289" dur="10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 repeatCount="2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2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35"/>
          <p:cNvSpPr/>
          <p:nvPr/>
        </p:nvSpPr>
        <p:spPr>
          <a:xfrm>
            <a:off x="1619280" y="1341360"/>
            <a:ext cx="2819520" cy="3812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7"/>
          <p:cNvSpPr/>
          <p:nvPr/>
        </p:nvSpPr>
        <p:spPr>
          <a:xfrm>
            <a:off x="2340000" y="1628640"/>
            <a:ext cx="2521080" cy="50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个人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8"/>
          <p:cNvSpPr/>
          <p:nvPr/>
        </p:nvSpPr>
        <p:spPr>
          <a:xfrm>
            <a:off x="1476360" y="2349360"/>
            <a:ext cx="2592360" cy="50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学习经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9"/>
          <p:cNvSpPr/>
          <p:nvPr/>
        </p:nvSpPr>
        <p:spPr>
          <a:xfrm>
            <a:off x="900000" y="4076640"/>
            <a:ext cx="2664000" cy="504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个人爱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0"/>
          <p:cNvSpPr/>
          <p:nvPr/>
        </p:nvSpPr>
        <p:spPr>
          <a:xfrm>
            <a:off x="1619280" y="4797360"/>
            <a:ext cx="2449440" cy="504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我的理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41"/>
          <p:cNvSpPr/>
          <p:nvPr/>
        </p:nvSpPr>
        <p:spPr>
          <a:xfrm>
            <a:off x="2124000" y="5661000"/>
            <a:ext cx="2664000" cy="504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人生格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47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8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9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AutoShape 64"/>
          <p:cNvGrpSpPr/>
          <p:nvPr/>
        </p:nvGrpSpPr>
        <p:grpSpPr>
          <a:xfrm>
            <a:off x="-254160" y="755640"/>
            <a:ext cx="2851200" cy="1023840"/>
            <a:chOff x="-254160" y="755640"/>
            <a:chExt cx="2851200" cy="1023840"/>
          </a:xfrm>
        </p:grpSpPr>
        <p:pic>
          <p:nvPicPr>
            <p:cNvPr id="310" name="AutoShape 64" descr=""/>
            <p:cNvPicPr/>
            <p:nvPr/>
          </p:nvPicPr>
          <p:blipFill>
            <a:blip r:embed="rId7"/>
            <a:stretch/>
          </p:blipFill>
          <p:spPr>
            <a:xfrm>
              <a:off x="-254160" y="755640"/>
              <a:ext cx="2851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66320" y="912960"/>
              <a:ext cx="200700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目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AutoShape 39"/>
          <p:cNvSpPr/>
          <p:nvPr/>
        </p:nvSpPr>
        <p:spPr>
          <a:xfrm>
            <a:off x="1187280" y="3213000"/>
            <a:ext cx="2664000" cy="50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我的母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2"/>
          <p:cNvSpPr/>
          <p:nvPr/>
        </p:nvSpPr>
        <p:spPr>
          <a:xfrm>
            <a:off x="0" y="549360"/>
            <a:ext cx="3168720" cy="1439640"/>
          </a:xfrm>
          <a:custGeom>
            <a:avLst/>
            <a:gdLst>
              <a:gd name="textAreaLeft" fmla="*/ 396000 w 3168720"/>
              <a:gd name="textAreaRight" fmla="*/ 2772720 w 316872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99" y="5400"/>
                </a:lnTo>
                <a:lnTo>
                  <a:pt x="16199" y="0"/>
                </a:lnTo>
                <a:lnTo>
                  <a:pt x="21600" y="10800"/>
                </a:lnTo>
                <a:lnTo>
                  <a:pt x="16199" y="21600"/>
                </a:lnTo>
                <a:lnTo>
                  <a:pt x="16199" y="16200"/>
                </a:lnTo>
                <a:lnTo>
                  <a:pt x="0" y="16200"/>
                </a:lnTo>
                <a:lnTo>
                  <a:pt x="2701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华文行楷"/>
                <a:ea typeface="华文行楷"/>
              </a:rPr>
              <a:t>我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0" y="1700280"/>
            <a:ext cx="48592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年龄：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姓名：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星座：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血型：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ff"/>
                </a:solidFill>
                <a:latin typeface="Arial"/>
              </a:rPr>
              <a:t>来自：</a:t>
            </a:r>
            <a:r>
              <a:rPr b="1" lang="zh-CN" sz="3200" spc="-1" strike="noStrike">
                <a:solidFill>
                  <a:srgbClr val="00ccff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00ccff"/>
                </a:solidFill>
                <a:latin typeface="Arial"/>
              </a:rPr>
              <a:t>省</a:t>
            </a:r>
            <a:r>
              <a:rPr b="1" lang="zh-CN" sz="3200" spc="-1" strike="noStrike">
                <a:solidFill>
                  <a:srgbClr val="00ccff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00ccff"/>
                </a:solidFill>
                <a:latin typeface="Arial"/>
              </a:rPr>
              <a:t>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喜欢的运动：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6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5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6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3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75"/>
          <p:cNvSpPr/>
          <p:nvPr/>
        </p:nvSpPr>
        <p:spPr>
          <a:xfrm>
            <a:off x="8893080" y="1700280"/>
            <a:ext cx="0" cy="453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6"/>
          <p:cNvSpPr/>
          <p:nvPr/>
        </p:nvSpPr>
        <p:spPr>
          <a:xfrm flipH="1">
            <a:off x="250920" y="6237360"/>
            <a:ext cx="864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77"/>
          <p:cNvSpPr/>
          <p:nvPr/>
        </p:nvSpPr>
        <p:spPr>
          <a:xfrm flipV="1">
            <a:off x="250920" y="1699920"/>
            <a:ext cx="0" cy="453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79"/>
          <p:cNvSpPr/>
          <p:nvPr/>
        </p:nvSpPr>
        <p:spPr>
          <a:xfrm>
            <a:off x="4572000" y="1700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367160" cy="4392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1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468360" y="1916280"/>
          <a:ext cx="8496360" cy="3516120"/>
        </p:xfrm>
        <a:graphic>
          <a:graphicData uri="http://schemas.openxmlformats.org/drawingml/2006/table">
            <a:tbl>
              <a:tblPr/>
              <a:tblGrid>
                <a:gridCol w="4246560"/>
                <a:gridCol w="424980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起止年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43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8000"/>
                          </a:solidFill>
                          <a:latin typeface="华文楷体"/>
                          <a:ea typeface="华文楷体"/>
                        </a:rPr>
                        <a:t>就读学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8545e"/>
                          </a:solidFill>
                          <a:latin typeface="Arial"/>
                        </a:rPr>
                        <a:t>2000——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432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8545e"/>
                          </a:solidFill>
                          <a:latin typeface="华文行楷"/>
                          <a:ea typeface="华文行楷"/>
                        </a:rPr>
                        <a:t>XX</a:t>
                      </a:r>
                      <a:r>
                        <a:rPr b="0" lang="zh-CN" sz="2800" spc="-1" strike="noStrike">
                          <a:solidFill>
                            <a:srgbClr val="28545e"/>
                          </a:solidFill>
                          <a:latin typeface="华文行楷"/>
                          <a:ea typeface="华文行楷"/>
                        </a:rPr>
                        <a:t>小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8545e"/>
                          </a:solidFill>
                          <a:latin typeface="Arial"/>
                        </a:rPr>
                        <a:t>2008——2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432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8545e"/>
                          </a:solidFill>
                          <a:latin typeface="华文行楷"/>
                          <a:ea typeface="华文行楷"/>
                        </a:rPr>
                        <a:t>XX</a:t>
                      </a:r>
                      <a:r>
                        <a:rPr b="0" lang="zh-CN" sz="2800" spc="-1" strike="noStrike">
                          <a:solidFill>
                            <a:srgbClr val="28545e"/>
                          </a:solidFill>
                          <a:latin typeface="华文行楷"/>
                          <a:ea typeface="华文行楷"/>
                        </a:rPr>
                        <a:t>中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8545e"/>
                          </a:solidFill>
                          <a:latin typeface="Arial"/>
                        </a:rPr>
                        <a:t>2011</a:t>
                      </a:r>
                      <a:r>
                        <a:rPr b="0" lang="zh-CN" sz="2800" spc="-1" strike="noStrike">
                          <a:solidFill>
                            <a:srgbClr val="28545e"/>
                          </a:solidFill>
                          <a:latin typeface="Arial"/>
                        </a:rPr>
                        <a:t>至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432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28545e"/>
                          </a:solidFill>
                          <a:latin typeface="华文行楷"/>
                          <a:ea typeface="华文行楷"/>
                        </a:rPr>
                        <a:t>安徽汽车工业学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Line 131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39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40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0" y="765000"/>
            <a:ext cx="3168720" cy="1224000"/>
          </a:xfrm>
          <a:custGeom>
            <a:avLst/>
            <a:gdLst>
              <a:gd name="textAreaLeft" fmla="*/ 336600 w 3168720"/>
              <a:gd name="textAreaRight" fmla="*/ 2832120 w 316872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09" y="5400"/>
                </a:lnTo>
                <a:lnTo>
                  <a:pt x="17009" y="0"/>
                </a:lnTo>
                <a:lnTo>
                  <a:pt x="21600" y="10800"/>
                </a:lnTo>
                <a:lnTo>
                  <a:pt x="17009" y="21600"/>
                </a:lnTo>
                <a:lnTo>
                  <a:pt x="17009" y="16200"/>
                </a:lnTo>
                <a:lnTo>
                  <a:pt x="0" y="16200"/>
                </a:lnTo>
                <a:lnTo>
                  <a:pt x="2296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华文行楷"/>
                <a:ea typeface="华文行楷"/>
              </a:rPr>
              <a:t>学习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ll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4"/>
          <p:cNvSpPr/>
          <p:nvPr/>
        </p:nvSpPr>
        <p:spPr>
          <a:xfrm>
            <a:off x="0" y="549360"/>
            <a:ext cx="3635280" cy="1439640"/>
          </a:xfrm>
          <a:custGeom>
            <a:avLst/>
            <a:gdLst>
              <a:gd name="textAreaLeft" fmla="*/ 396000 w 3635280"/>
              <a:gd name="textAreaRight" fmla="*/ 3239280 w 363528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94" y="5400"/>
                </a:lnTo>
                <a:lnTo>
                  <a:pt x="16894" y="0"/>
                </a:lnTo>
                <a:lnTo>
                  <a:pt x="21600" y="10800"/>
                </a:lnTo>
                <a:lnTo>
                  <a:pt x="16894" y="21600"/>
                </a:lnTo>
                <a:lnTo>
                  <a:pt x="16894" y="16200"/>
                </a:lnTo>
                <a:lnTo>
                  <a:pt x="0" y="16200"/>
                </a:lnTo>
                <a:lnTo>
                  <a:pt x="2353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母校</a:t>
            </a:r>
            <a:r>
              <a:rPr b="0" lang="zh-CN" sz="1800" spc="-1" strike="noStrike">
                <a:solidFill>
                  <a:srgbClr val="990000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0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8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9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形标注 8"/>
          <p:cNvSpPr/>
          <p:nvPr/>
        </p:nvSpPr>
        <p:spPr>
          <a:xfrm>
            <a:off x="4140360" y="404640"/>
            <a:ext cx="2952720" cy="720720"/>
          </a:xfrm>
          <a:prstGeom prst="wedgeEllipseCallout">
            <a:avLst>
              <a:gd name="adj1" fmla="val -54578"/>
              <a:gd name="adj2" fmla="val 1856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汽工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5435640" cy="41720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3708360" cy="23623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5508720" y="3645000"/>
            <a:ext cx="3635280" cy="2552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l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最喜欢的颜色：   </a:t>
            </a:r>
            <a:r>
              <a:rPr b="1" lang="zh-CN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绿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最喜欢的书：    </a:t>
            </a:r>
            <a:r>
              <a:rPr b="1" lang="en-US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钢铁是怎样炼成的</a:t>
            </a:r>
            <a:r>
              <a:rPr b="1" lang="en-US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最喜欢的歌手：  </a:t>
            </a:r>
            <a:r>
              <a:rPr b="1" lang="zh-CN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汪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最喜欢的季节：  </a:t>
            </a:r>
            <a:r>
              <a:rPr b="1" lang="zh-CN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夏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最爱的人：爱我的每个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0" y="620640"/>
            <a:ext cx="2987640" cy="1152720"/>
          </a:xfrm>
          <a:custGeom>
            <a:avLst/>
            <a:gdLst>
              <a:gd name="textAreaLeft" fmla="*/ 316800 w 2987640"/>
              <a:gd name="textAreaRight" fmla="*/ 2670840 w 2987640"/>
              <a:gd name="textAreaTop" fmla="*/ 288000 h 1152720"/>
              <a:gd name="textAreaBottom" fmla="*/ 8647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18" y="5400"/>
                </a:lnTo>
                <a:lnTo>
                  <a:pt x="17018" y="0"/>
                </a:lnTo>
                <a:lnTo>
                  <a:pt x="21600" y="10800"/>
                </a:lnTo>
                <a:lnTo>
                  <a:pt x="17018" y="21600"/>
                </a:lnTo>
                <a:lnTo>
                  <a:pt x="17018" y="16200"/>
                </a:lnTo>
                <a:lnTo>
                  <a:pt x="0" y="16200"/>
                </a:lnTo>
                <a:lnTo>
                  <a:pt x="2291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华文行楷"/>
                <a:ea typeface="华文行楷"/>
              </a:rPr>
              <a:t>个人爱好</a:t>
            </a:r>
            <a:r>
              <a:rPr b="0" lang="zh-CN" sz="1800" spc="-1" strike="noStrike">
                <a:solidFill>
                  <a:srgbClr val="1f497d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push dir="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5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500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p_large_8AnH_2679000523ef2d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7"/>
          <p:cNvSpPr/>
          <p:nvPr/>
        </p:nvSpPr>
        <p:spPr>
          <a:xfrm>
            <a:off x="250920" y="189000"/>
            <a:ext cx="3168720" cy="1439640"/>
          </a:xfrm>
          <a:custGeom>
            <a:avLst/>
            <a:gdLst>
              <a:gd name="textAreaLeft" fmla="*/ 396000 w 3168720"/>
              <a:gd name="textAreaRight" fmla="*/ 2772720 w 316872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Arial"/>
                <a:ea typeface="微软简魏碑"/>
              </a:rPr>
              <a:t>我的理想</a:t>
            </a:r>
            <a:r>
              <a:rPr b="0" lang="zh-CN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3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6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对于未来，曾经有过许多许多设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而如今，似乎那些都已经完全脱离了现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只想做好现在所能做好的一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过去已经过去，而未来还在前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抓紧现在所能抓住的一切机遇与挑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改变，或许从现在就已经开始</a:t>
            </a:r>
            <a:r>
              <a:rPr b="1" lang="en-US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Monotype Corsiva"/>
                <a:ea typeface="微软简隶书"/>
              </a:rPr>
              <a:t>Just Do My Best</a:t>
            </a:r>
            <a:r>
              <a:rPr b="1" lang="zh-CN" sz="3200" spc="-1" strike="noStrike">
                <a:solidFill>
                  <a:srgbClr val="ff5050"/>
                </a:solidFill>
                <a:latin typeface="Monotype Corsiva"/>
                <a:ea typeface="微软简隶书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1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1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1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10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10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10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AutoShape 4"/>
          <p:cNvSpPr/>
          <p:nvPr/>
        </p:nvSpPr>
        <p:spPr>
          <a:xfrm>
            <a:off x="0" y="620640"/>
            <a:ext cx="3168720" cy="1295640"/>
          </a:xfrm>
          <a:custGeom>
            <a:avLst/>
            <a:gdLst>
              <a:gd name="textAreaLeft" fmla="*/ 356400 w 3168720"/>
              <a:gd name="textAreaRight" fmla="*/ 2812320 w 316872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740" y="5400"/>
                </a:ln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16740" y="16200"/>
                </a:lnTo>
                <a:lnTo>
                  <a:pt x="0" y="16200"/>
                </a:lnTo>
                <a:lnTo>
                  <a:pt x="243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Arial"/>
                <a:ea typeface="微软简魏碑"/>
              </a:rPr>
              <a:t>人生格言</a:t>
            </a:r>
            <a:r>
              <a:rPr b="0" lang="zh-CN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0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8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9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7171200" y="1628640"/>
            <a:ext cx="152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圆角矩形 19"/>
          <p:cNvSpPr/>
          <p:nvPr/>
        </p:nvSpPr>
        <p:spPr>
          <a:xfrm>
            <a:off x="468360" y="1916280"/>
            <a:ext cx="790560" cy="4249440"/>
          </a:xfrm>
          <a:custGeom>
            <a:avLst/>
            <a:gdLst>
              <a:gd name="textAreaLeft" fmla="*/ 38520 w 790560"/>
              <a:gd name="textAreaRight" fmla="*/ 752040 w 790560"/>
              <a:gd name="textAreaTop" fmla="*/ 38520 h 4249440"/>
              <a:gd name="textAreaBottom" fmla="*/ 4210920 h 4249440"/>
            </a:gdLst>
            <a:ahLst/>
            <a:rect l="textAreaLeft" t="textAreaTop" r="textAreaRight" b="textAreaBottom"/>
            <a:pathLst>
              <a:path w="21600" h="116062">
                <a:moveTo>
                  <a:pt x="3600" y="0"/>
                </a:moveTo>
                <a:arcTo wR="3600" hR="3600" stAng="16200000" swAng="-5400000"/>
                <a:lnTo>
                  <a:pt x="0" y="112462"/>
                </a:lnTo>
                <a:arcTo wR="3600" hR="3600" stAng="10800000" swAng="-5400000"/>
                <a:lnTo>
                  <a:pt x="18000" y="116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华文行楷"/>
                <a:ea typeface="华文行楷"/>
              </a:rPr>
              <a:t>吾  将  上  下  而  求  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20"/>
          <p:cNvSpPr/>
          <p:nvPr/>
        </p:nvSpPr>
        <p:spPr>
          <a:xfrm>
            <a:off x="7885080" y="1844640"/>
            <a:ext cx="790560" cy="4248360"/>
          </a:xfrm>
          <a:custGeom>
            <a:avLst/>
            <a:gdLst>
              <a:gd name="textAreaLeft" fmla="*/ 38520 w 790560"/>
              <a:gd name="textAreaRight" fmla="*/ 752040 w 790560"/>
              <a:gd name="textAreaTop" fmla="*/ 38520 h 4248360"/>
              <a:gd name="textAreaBottom" fmla="*/ 4209840 h 4248360"/>
            </a:gdLst>
            <a:ahLst/>
            <a:rect l="textAreaLeft" t="textAreaTop" r="textAreaRight" b="textAreaBottom"/>
            <a:pathLst>
              <a:path w="21600" h="116032">
                <a:moveTo>
                  <a:pt x="3600" y="0"/>
                </a:moveTo>
                <a:arcTo wR="3600" hR="3600" stAng="16200000" swAng="-5400000"/>
                <a:lnTo>
                  <a:pt x="0" y="112432"/>
                </a:lnTo>
                <a:arcTo wR="3600" hR="3600" stAng="10800000" swAng="-5400000"/>
                <a:lnTo>
                  <a:pt x="18000" y="1160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华文行楷"/>
                <a:ea typeface="华文行楷"/>
              </a:rPr>
              <a:t>路   漫  漫  其  修  远  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0"/>
          <p:cNvSpPr/>
          <p:nvPr/>
        </p:nvSpPr>
        <p:spPr>
          <a:xfrm>
            <a:off x="1258920" y="1844640"/>
            <a:ext cx="662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不要因为前方一路风雨，就犹豫徘徊畏缩不前，到最后只会使充满希望的生命之花凋谢枯萎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不要因为往日的骄傲而忘勿所以，沉淀其中不能自拔，到最后只会使如火般的激情悄然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所以，在人生的旅途中无论遇到什么、拥有什么、失去什么、都要不忘了人生的启程，忘记了赶路。鲜花和掌声是赠与那些风雨无阻的行者，而不是赐予停留在原地的待兔者，</a:t>
            </a:r>
            <a:br>
              <a:rPr sz="2400"/>
            </a:br>
            <a:r>
              <a:rPr b="0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只有启程和前行才能到达成功的彼岸</a:t>
            </a:r>
            <a:br>
              <a:rPr sz="2400"/>
            </a:br>
            <a:r>
              <a:rPr b="0" lang="zh-CN" sz="2400" spc="-1" strike="noStrike">
                <a:solidFill>
                  <a:srgbClr val="008000"/>
                </a:solidFill>
                <a:latin typeface="华文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cover dir="l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3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4"/>
          <p:cNvSpPr/>
          <p:nvPr/>
        </p:nvSpPr>
        <p:spPr>
          <a:xfrm>
            <a:off x="1908000" y="1773360"/>
            <a:ext cx="5472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nstantia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Best  wishes  to 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"/>
                            </p:stCondLst>
                            <p:childTnLst>
                              <p:par>
                                <p:cTn id="2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1:50:58Z</dcterms:created>
  <dc:creator>Microsoft</dc:creator>
  <dc:description/>
  <dc:language>en-US</dc:language>
  <cp:lastModifiedBy>未知用户</cp:lastModifiedBy>
  <dcterms:modified xsi:type="dcterms:W3CDTF">2014-08-22T01:39:14Z</dcterms:modified>
  <cp:revision>72</cp:revision>
  <dc:subject/>
  <dc:title>自我介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