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1-11-20T23:48:05.290000000" idx="1">
    <p:pos x="5777" y="1055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B5EA-8E9A-49D3-B8C3-8E92F6C9E8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9BF-D2F8-4310-BAF6-E28ADE8B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658-BDB2-4E25-854A-0464508E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EC0-CB05-4776-B4BF-2DED7249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1D9-7430-4471-A828-2614CF80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81B-7CCE-4C80-A1A0-EEA8FF49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8FB-5E90-499E-945B-6D169CE0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E7C-2B7A-4DBA-837B-D394FB7A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D0B-9671-4439-87EF-283EB23C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F37-E43E-4BC1-9C9E-2CBAE100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1DE-A7B4-4353-AE5C-7F9A718B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1AB-9D9E-4BFF-BDA7-C76C4E86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D72-4BF9-40CD-8C4C-0C6888C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F9F1-65DF-448B-B891-8606FCC869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183360"/>
            <a:ext cx="14032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8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292428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Comic Sans MS"/>
                <a:ea typeface="华文行楷"/>
              </a:rPr>
              <a:t>  </a:t>
            </a:r>
            <a:r>
              <a:rPr b="0" lang="en-US" sz="7200" spc="-1" strike="noStrike">
                <a:solidFill>
                  <a:srgbClr val="ff0066"/>
                </a:solidFill>
                <a:latin typeface="Comic Sans MS"/>
                <a:ea typeface="华文行楷"/>
              </a:rPr>
              <a:t>Unit 4 My H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260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人教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PEP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四年级上册英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584352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66ff"/>
                </a:solidFill>
                <a:latin typeface="华文行楷"/>
                <a:ea typeface="华文行楷"/>
              </a:rPr>
              <a:t>Let’s play a  g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55640" y="3500280"/>
            <a:ext cx="3462480" cy="2320920"/>
            <a:chOff x="755640" y="3500280"/>
            <a:chExt cx="3462480" cy="2320920"/>
          </a:xfrm>
        </p:grpSpPr>
        <p:sp>
          <p:nvSpPr>
            <p:cNvPr id="85" name="Cloud"/>
            <p:cNvSpPr/>
            <p:nvPr/>
          </p:nvSpPr>
          <p:spPr>
            <a:xfrm>
              <a:off x="755640" y="3500280"/>
              <a:ext cx="3462480" cy="23209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2840" y="3688920"/>
              <a:ext cx="3257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Comic Sans MS"/>
                  <a:ea typeface="幼圆"/>
                </a:rPr>
                <a:t>guess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17080" y="6113520"/>
            <a:ext cx="8269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oper Black"/>
                <a:ea typeface="宋体-方正超大字符集"/>
              </a:rPr>
              <a:t>Let’s 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6341" t="59477" r="0" b="0"/>
          <a:stretch/>
        </p:blipFill>
        <p:spPr>
          <a:xfrm>
            <a:off x="611280" y="1125360"/>
            <a:ext cx="7956360" cy="498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17080" y="6113520"/>
            <a:ext cx="8269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411280" y="1700280"/>
            <a:ext cx="4824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See you 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575" t="2314" r="2150" b="25077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5088" t="13011" r="13610" b="48370"/>
          <a:stretch/>
        </p:blipFill>
        <p:spPr>
          <a:xfrm>
            <a:off x="0" y="576360"/>
            <a:ext cx="9144000" cy="628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88720" y="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e to m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997360"/>
            <a:ext cx="934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3068640"/>
            <a:ext cx="14400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4941720"/>
            <a:ext cx="1152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4941720"/>
            <a:ext cx="18000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3068640"/>
            <a:ext cx="158436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3564000" y="4508640"/>
            <a:ext cx="303120" cy="338040"/>
          </a:xfrm>
          <a:custGeom>
            <a:avLst/>
            <a:gdLst>
              <a:gd name="textAreaLeft" fmla="*/ 69120 w 303120"/>
              <a:gd name="textAreaRight" fmla="*/ 234000 w 303120"/>
              <a:gd name="textAreaTop" fmla="*/ 77040 h 338040"/>
              <a:gd name="textAreaBottom" fmla="*/ 2610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12000" y="4581360"/>
            <a:ext cx="303480" cy="338400"/>
          </a:xfrm>
          <a:custGeom>
            <a:avLst/>
            <a:gdLst>
              <a:gd name="textAreaLeft" fmla="*/ 69120 w 303480"/>
              <a:gd name="textAreaRight" fmla="*/ 234360 w 303480"/>
              <a:gd name="textAreaTop" fmla="*/ 77040 h 338400"/>
              <a:gd name="textAreaBottom" fmla="*/ 261360 h 33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3640" y="6308640"/>
            <a:ext cx="303120" cy="338400"/>
          </a:xfrm>
          <a:custGeom>
            <a:avLst/>
            <a:gdLst>
              <a:gd name="textAreaLeft" fmla="*/ 69120 w 303120"/>
              <a:gd name="textAreaRight" fmla="*/ 234000 w 303120"/>
              <a:gd name="textAreaTop" fmla="*/ 77040 h 338400"/>
              <a:gd name="textAreaBottom" fmla="*/ 261360 h 33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3789360"/>
            <a:ext cx="303120" cy="338040"/>
          </a:xfrm>
          <a:custGeom>
            <a:avLst/>
            <a:gdLst>
              <a:gd name="textAreaLeft" fmla="*/ 69120 w 303120"/>
              <a:gd name="textAreaRight" fmla="*/ 234000 w 303120"/>
              <a:gd name="textAreaTop" fmla="*/ 77040 h 338040"/>
              <a:gd name="textAreaBottom" fmla="*/ 2610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6237360"/>
            <a:ext cx="303480" cy="338040"/>
          </a:xfrm>
          <a:custGeom>
            <a:avLst/>
            <a:gdLst>
              <a:gd name="textAreaLeft" fmla="*/ 69120 w 303480"/>
              <a:gd name="textAreaRight" fmla="*/ 234360 w 303480"/>
              <a:gd name="textAreaTop" fmla="*/ 77040 h 338040"/>
              <a:gd name="textAreaBottom" fmla="*/ 2610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08480" y="1628280"/>
            <a:ext cx="3035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-What can you do in this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-I c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3879720" cy="5667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17080" y="6113520"/>
            <a:ext cx="8269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749920" y="1557000"/>
            <a:ext cx="3394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-What can you do in this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-I c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3848400" cy="5621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17080" y="6113520"/>
            <a:ext cx="8269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676480" y="1700280"/>
            <a:ext cx="3467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-What can you do in this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-I can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3730680" cy="5450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17080" y="6113520"/>
            <a:ext cx="8269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749920" y="1628280"/>
            <a:ext cx="3394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-What can you do in this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-I c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3868920" cy="5648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17080" y="6113520"/>
            <a:ext cx="8269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965920" y="1628280"/>
            <a:ext cx="3178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-What can you do in this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-I ca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16535" r="0" b="0"/>
          <a:stretch/>
        </p:blipFill>
        <p:spPr>
          <a:xfrm>
            <a:off x="826920" y="404640"/>
            <a:ext cx="4435560" cy="5407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17080" y="6113520"/>
            <a:ext cx="8269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22654" r="7413" b="30600"/>
          <a:stretch/>
        </p:blipFill>
        <p:spPr>
          <a:xfrm>
            <a:off x="0" y="69228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278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  <a:ea typeface="MS Gothic"/>
              </a:rPr>
              <a:t>Listen and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17080" y="6113520"/>
            <a:ext cx="8269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1:51:55Z</dcterms:created>
  <dc:creator>新课标第一网xkb1.com</dc:creator>
  <dc:description>新课标第一网xkb1.com</dc:description>
  <cp:keywords>新课标第一网xkb1.com</cp:keywords>
  <dc:language>en-US</dc:language>
  <cp:lastModifiedBy>新课标第一网</cp:lastModifiedBy>
  <dcterms:modified xsi:type="dcterms:W3CDTF">2011-11-20T15:48:07Z</dcterms:modified>
  <cp:revision>32</cp:revision>
  <dc:subject>新课标第一网xkb1.com</dc:subject>
  <dc:title>新课标第一网xkb1.com</dc:title>
</cp:coreProperties>
</file>