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chimes.wav" ContentType="audio/x-wav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353-E8C1-4A2C-802F-00B39736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218-3946-42DC-AE51-C63B8BA8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648F-6783-4121-B578-CB705C12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0F4-5389-4D03-8A12-0C905EED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890-52C5-42C5-82FF-7973542F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455-3A88-4151-9B2E-FC6959DB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04E-A173-4172-8924-96033B87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972-8563-4ADE-8632-2D55B473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926-B4C7-4754-8C64-7C5B76A9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9B0-5708-4406-827B-06C65A94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BFC-98C5-4EC1-BA07-77C2E48C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184-BA43-40B6-883B-504BAA22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B026-3F39-411A-8389-A9BDA2EC8C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13102" b="2133"/>
          <a:stretch/>
        </p:blipFill>
        <p:spPr>
          <a:xfrm>
            <a:off x="990720" y="304920"/>
            <a:ext cx="6858000" cy="500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53341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6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小英雄雨来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李大叔搬开水缸，跳进洞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096240" cy="41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雨来使尽气力把水缸放回原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095880" cy="416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鬼子在后面喊：“站住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867280" cy="40100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雨来赶紧爬上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90960" cy="3959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是雨来还是被抓了回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248520" cy="4270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鬼子给雨来松绑，问他刚才看见谁进来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雨来说他什么也没看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791320" cy="3957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0160" y="4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四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鬼子给雨来吃好吃的糖块，可是雨来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计可施的鬼子凶狠地殴打雨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并把雨来拉出去准备枪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562360" cy="3801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82480" y="307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村里的人听到枪响，老人们含着泪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雨来是个好孩子！死得好可惜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324840" cy="4322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雨来还没有死！雨来还没有死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095880" cy="416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4840" y="92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33440" y="762120"/>
            <a:ext cx="6553440" cy="447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5627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晋察冀边区的北部有条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河边有个村庄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叫芦花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的雨来就是这村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6760" y="101520"/>
            <a:ext cx="9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来在枪响以前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雨来趁鬼子不防备，一头扎进了河里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5867280" cy="40114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73240" y="1898640"/>
            <a:ext cx="7286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Times New Roman"/>
              </a:rPr>
              <a:t>笤帚   姥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Times New Roman"/>
              </a:rPr>
              <a:t>糠皮   枪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Times New Roman"/>
              </a:rPr>
              <a:t>枪毙   吆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1676520"/>
            <a:ext cx="8458200" cy="40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芦苇  狗刨  黝黑  扭身  糟了  泥鳅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舅舅  吧嗒  哐啷  咕咚  骨碌  门槛  推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枕头  撒谎  嘟囔  瞪眼  刀鞘  咧嘴  揪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趔趄  脑勺  柜板  嗷嗷  旋涡  嗡嗡  哗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软鼓囊囊  呜里哇啦  唧唧咕咕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睁眼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嗖嗖  拧  溅  抹一下  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800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197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读课文，小组同学合作交流探究解决下列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844640"/>
            <a:ext cx="88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了解雨来是哪里人，生活在哪个年代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２、为什么称他是小英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３、用比较快的速度默读课文，大体了解课文主要讲了什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４、一部分一部分地阅读、思考，给每一部分加上小标题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6560" y="416736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、雨来是晋察冀边区北部的还乡河边芦花村的人，生活在抗日战争年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2120" y="4815000"/>
            <a:ext cx="84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、因为他是一个才十二岁的小少年，他为掩护交通员李大叔而机智勇敢地同敌人做斗争，他热爱祖国、不畏强敌、机智勇敢，所以称他是小英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960" y="57513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３、课文主要讲了抗日战争时期，晋察冀边区的少年雨来为了掩护交通员李大叔，机智勇敢地同敌人做斗争的故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330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cc"/>
                </a:solidFill>
                <a:latin typeface="Times New Roman"/>
              </a:rPr>
              <a:t>温馨小贴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加小标题的方法之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抓住每一部分的主要内容，用一句简短的话概括，语句通顺。如（一）游泳本领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00"/>
                </a:solidFill>
                <a:latin typeface="Times New Roman"/>
              </a:rPr>
              <a:t>加小标题的方法之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引用文中的重点词语进行概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如（一）“向河沿跑”或“望着妈妈笑”，引用文中的词语用上“ 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330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cc"/>
                </a:solidFill>
                <a:latin typeface="Times New Roman"/>
              </a:rPr>
              <a:t>作业超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96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摘抄文中三处景物描写的语句，想一想这些景物描写的作用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有兴趣的同学可仔细阅读管桦的中篇小说《小英雄雨来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试着把这个故事讲给家长或其他小朋友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556320" cy="448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5627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雨来最喜欢这条还乡河，每到夏天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就和小朋友在这里玩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553080" cy="4479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5627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不让雨来耍水，怕出危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5627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是雨来还是喜欢耍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629400" cy="4532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324480" cy="4322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爸爸和妈妈商量雨来上夜校的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0320" y="115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雨来上夜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248160" cy="42703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一天，爸爸对妈妈说：“鬼子又‘扫荡’了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6172200" cy="4219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60520" y="4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5334120"/>
            <a:ext cx="9296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突然，李大叔来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6095880" cy="416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2:11:15Z</dcterms:created>
  <dc:creator>zhihui</dc:creator>
  <dc:description/>
  <dc:language>en-US</dc:language>
  <cp:lastModifiedBy>User</cp:lastModifiedBy>
  <dcterms:modified xsi:type="dcterms:W3CDTF">2014-12-08T14:13:49Z</dcterms:modified>
  <cp:revision>23</cp:revision>
  <dc:subject/>
  <dc:title>PowerPoint 演示文稿</dc:title>
</cp:coreProperties>
</file>