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hammer.wav" ContentType="audio/x-wav"/>
  <Override PartName="/ppt/media/image12.jpeg" ContentType="image/jpeg"/>
  <Override PartName="/ppt/media/image7.wmf" ContentType="image/x-wmf"/>
  <Override PartName="/ppt/media/laser.wav" ContentType="audio/x-wav"/>
  <Override PartName="/ppt/media/image18.jpeg" ContentType="image/jpeg"/>
  <Override PartName="/ppt/media/image15.jpeg" ContentType="image/jpeg"/>
  <Override PartName="/ppt/media/type.wav" ContentType="audio/x-wav"/>
  <Override PartName="/ppt/media/camera.wav" ContentType="audio/x-wav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16.jpeg" ContentType="image/jpeg"/>
  <Override PartName="/ppt/media/chimes.wav" ContentType="audio/x-wav"/>
  <Override PartName="/ppt/media/image4.gif" ContentType="image/gi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F975-2F2B-4650-99F5-04DF76024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CE25-E4F1-44D0-86BA-FC31FE87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D0E-5575-43DA-99C1-FEE5A9D7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EE9-6FDF-4F2D-AA05-928419A6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A23-78CB-48DA-A290-2E544BA8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8A7-6BDB-493A-9258-8ABAB0C8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4AD-68CE-4F07-960A-79B38AC0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6F1-ACC8-4C1A-AE60-92FE81C6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538-A3CC-4D2F-8373-1E35908A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569-3D8A-473C-A1CB-E07B8BB1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D25-F78B-4889-A6B3-B018F441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5E2-E324-4CEC-A843-3FDAF3A1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A66-F992-4005-89D9-5AD5D0A7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AAB-A686-4FCE-B15C-C8E49C32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0E35-DDBC-4706-89FF-5BE098DB0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87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38880" y="990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游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1720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读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482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掩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3244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斗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4006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死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4768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3336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速读课文，讨论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773360"/>
            <a:ext cx="7488000" cy="3506040"/>
          </a:xfrm>
          <a:prstGeom prst="rect">
            <a:avLst/>
          </a:prstGeom>
          <a:noFill/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课文哪几部分最能表现雨来是个小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雄？（画出相关句子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通过这些句子，我们可感受到雨来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怎样的孩子？他身上具有哪些优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品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鬼子对雨来使用了哪些卑劣手段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7240" y="2293920"/>
            <a:ext cx="74772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文中哪些词句把鬼子哄骗、利诱、威胁、毒打雨来的丑态形象地勾画出来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哪些词语体现雨来在鬼子面前表现得坚强不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828520"/>
            <a:ext cx="729144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雨来为什么能在鬼子面前表现得这样勇敢坚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7242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们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国人，我们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爱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己的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祖国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7238880" cy="6896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7596360" y="1197000"/>
            <a:ext cx="129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雨来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451640" y="4653000"/>
            <a:ext cx="12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英雄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740720" y="2781360"/>
            <a:ext cx="100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?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rcRect l="16741" t="4860" r="8322" b="9374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87280" y="1484280"/>
            <a:ext cx="676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我们是中国人，我们爱自己的祖国”这句话在课文中一共出现几次，分别是在什么情况下出现的，作者为什么要多次强调这句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D:\数据库\五年级\第五单元\16.小英雄雨来\chatu2.jpg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-76320" y="0"/>
            <a:ext cx="6556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705720" y="1063800"/>
            <a:ext cx="914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幼圆"/>
              </a:rPr>
              <a:t>机智勇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848720" y="1066680"/>
            <a:ext cx="1066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幼圆"/>
              </a:rPr>
              <a:t>热爱祖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2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5100" spc="-1" strike="noStrike">
                <a:solidFill>
                  <a:srgbClr val="0000ff"/>
                </a:solidFill>
                <a:latin typeface="Times New Roman"/>
              </a:rPr>
              <a:t>小结：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3000" y="1988640"/>
            <a:ext cx="7856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文通过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讲述抗日战争时期，晋察冀边区的少年雨来为了掩护革命干部李大叔，机智的同敌人作斗争的故事，歌颂了雨来热爱祖国，不畏强敌的斗争精神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428760" y="85716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个故事发生在抗日战争相持阶段，根据地的人民配合八路军对敌人展开了英勇的斗争，其间涌现了无数的英雄人物和可歌可泣的事迹。课文记叙了晋察冀边区的少年雨来聪明灵活，游泳本领高强，为了掩护革命干部交通员李大叔，机智勇敢地同敌人作斗争的故事，歌颂了雨来热爱祖国、不畏强敌、机智勇敢的品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59200" y="-322272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大"/>
            </a:endParaRPr>
          </a:p>
        </p:txBody>
      </p:sp>
      <p:sp>
        <p:nvSpPr>
          <p:cNvPr id="52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79800">
            <a:off x="468000" y="404640"/>
            <a:ext cx="4203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华文新魏"/>
              </a:rPr>
              <a:t>学习目标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华文新魏"/>
              <a:ea typeface="华文新魏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9640" y="2281320"/>
            <a:ext cx="75567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自学生字新词，掌握读音，理解词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速读课文，了解课文内容，简要复述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理解课文内容，学习雨来热爱祖国，机智勇敢的品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084720" y="260280"/>
            <a:ext cx="2819520" cy="4647960"/>
            <a:chOff x="6084720" y="260280"/>
            <a:chExt cx="2819520" cy="46479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6084720" y="2602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7837560" y="384156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7456320" y="25462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7837560" y="132696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7608960" y="33624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6156360" y="5300640"/>
            <a:ext cx="1314360" cy="131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83560" y="83664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704fc"/>
                </a:solidFill>
                <a:latin typeface="黑体"/>
                <a:ea typeface="黑体"/>
              </a:rPr>
              <a:t>给加点的字注音或写出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44640"/>
            <a:ext cx="7777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ù                             sǎng sǎ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晋察冀   苇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劫难     推推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●           ●                            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ō       liè    qi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笤帚     揉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嘟嘟囔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●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●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                                                                   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  <p:sndAc>
      <p:stSnd>
        <p:snd r:embed="rId8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3190800">
            <a:off x="7164360" y="50130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1864200">
            <a:off x="4355640" y="69228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19419600">
            <a:off x="250560" y="3357720"/>
            <a:ext cx="121896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867280" y="260280"/>
            <a:ext cx="2938680" cy="1911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9640" y="836640"/>
            <a:ext cx="365760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思考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2852640"/>
            <a:ext cx="6048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速读课文，说说课文讲了一件什么事？（用自己的话复述课文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>
            <a:grayscl/>
            <a:lum bright="40000"/>
          </a:blip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>
            <a:lum bright="40000"/>
          </a:blip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>
            <a:lum bright="40000"/>
          </a:blip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19280" y="2997360"/>
            <a:ext cx="58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62064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答案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本文讲述了在抗日战争时期，晋察冀边区的少年雨来为了掩护革命干部，机智地同敌人作斗争的故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0720" y="106668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55736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看看课文一共分为几部分，请给每一部分加上小标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:\数据库\五年级\第五单元\16.小英雄雨来\chatu1.jpg"/>
          <p:cNvPicPr/>
          <p:nvPr/>
        </p:nvPicPr>
        <p:blipFill>
          <a:blip r:embed="rId2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324480" y="1600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１、游泳本领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324480" y="2209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２、上夜校念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318360" y="2971800"/>
            <a:ext cx="28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３、掩护李大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338880" y="37339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４、与鬼子斗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095880" y="44956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５、河沿的枪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248520" y="54100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６、雨来没有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629400" y="5335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小标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12000" y="99072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游泳技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3280" y="172080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读书明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249228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掩护大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324468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勇斗日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400680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宁死不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83280" y="47689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机智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0:15:25Z</dcterms:created>
  <dc:creator>xiaoli</dc:creator>
  <dc:description/>
  <dc:language>en-US</dc:language>
  <cp:lastModifiedBy>User</cp:lastModifiedBy>
  <dcterms:modified xsi:type="dcterms:W3CDTF">2014-12-08T14:15:02Z</dcterms:modified>
  <cp:revision>15</cp:revision>
  <dc:subject/>
  <dc:title>小英雄雨来</dc:title>
</cp:coreProperties>
</file>