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894-0207-4D7B-A4EB-0C963A07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01E-566B-44DA-9A0F-32F94424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7F8-72D8-4D91-9FA5-D885E1F6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2FE-83E8-4155-A491-863A8654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2FD-7DB8-4BFC-8CE9-7EA9F1B7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271A-EA27-45F5-830B-C522758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DA3A-BB69-4BBB-B20D-FC4F6629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13F4-7B3A-4210-AE18-4B8EBC9E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E4AC-1479-4676-8B83-DF1E9B6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24F-EB62-4D48-89C7-53F84DAD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C33-83C3-4927-8AA7-0F5E876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D40-91C1-47CC-83EB-36FDDF20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1F8-B4AD-45E6-9285-C04069F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430E-4342-424C-9D00-18C8F85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9695-53D1-4EC4-8E73-439BCB80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F0F-EDF1-44BD-A74F-D6754444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68E0-BCCB-4557-8669-47BA6B72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7EF-CD81-4CA0-A56E-99846DEF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F2F-E7FF-41FC-8BC2-3CC01C4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2A2-420E-407B-841D-2C777D6F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25B-3E8E-4CCA-BB4F-4E677F0E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66D-22AE-4742-98D1-549566A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5D3-B5FB-458F-B512-858D40F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2AB-0EE5-4218-A508-0DAF68E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9B97-104A-4B38-981D-B510D2D8B76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9AB8-CBE0-46EB-8FAF-585E010516E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33336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小结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773360"/>
            <a:ext cx="78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本文通过描写抗战时期，晋察冀边区的少年雨来 为了掩护革命干部李大叔，机智的同敌人作斗争的故事。歌颂了雨来热爱祖国不畏强敌的斗争精神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692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205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通过这节课的学习，我们有认识了一位与你们同龄的向英雄，也许现在与有许多话相想对雨来说，拿起笔与雨来说说心里话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4360" y="765000"/>
            <a:ext cx="345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6856560" y="4659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91628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自学生字新词，掌握读音理解词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速读课文了解课文内容简要复述课文内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理解内容学习与来学习爱国机智勇敢的品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1484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765000"/>
            <a:ext cx="5975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给加点字注音或写出词语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晋察冀      苇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xu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劫难   推推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sangsang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·       ·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笤帚   揉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cuo  lieqie     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嘟嘟嚷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·   ·                                     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24360" y="260280"/>
            <a:ext cx="4464000" cy="252108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98100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字词答案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3357720"/>
            <a:ext cx="6121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Jin  ji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絮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jie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桑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Tao   zhou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搓   趔趄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nang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125360"/>
            <a:ext cx="468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作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管桦，原名鲍华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代表作中篇小说《小英雄雨来》：长篇小说《将军祠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0"/>
            <a:ext cx="3673440" cy="1413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333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思考！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11640" y="260280"/>
            <a:ext cx="18730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300720" y="5157720"/>
            <a:ext cx="2033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4005360"/>
            <a:ext cx="2033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2565360"/>
            <a:ext cx="4896000" cy="1368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285264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979a5"/>
                </a:solidFill>
                <a:latin typeface="Arial"/>
              </a:rPr>
              <a:t>速读课文，说说课文叫了一件什么事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979a5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7979a5"/>
                </a:solidFill>
                <a:latin typeface="Arial"/>
              </a:rPr>
              <a:t>用自己的话概述可闻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333360"/>
            <a:ext cx="734544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答案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本文讲述了在抗日战争时期，晋察冀边区的少年雨来为了掩护革命干部机制的同敌人作斗争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97400" cy="3176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2760" y="3321000"/>
            <a:ext cx="3351240" cy="3537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1413000"/>
            <a:ext cx="388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游泳高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夜校读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爸爸归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智久交通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坚贞不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水底脱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04640"/>
            <a:ext cx="914400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速读课文，讨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文哪几部分最能表现雨来是个小英雄？（画出相关句子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通过这些句子，我们可以感受到雨来是个怎样的孩子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他身上具有那些有些品质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09:38:51Z</dcterms:created>
  <dc:creator>UQi.me</dc:creator>
  <dc:description/>
  <dc:language>en-US</dc:language>
  <cp:lastModifiedBy>UQi.me</cp:lastModifiedBy>
  <dcterms:modified xsi:type="dcterms:W3CDTF">2015-11-02T17:43:35Z</dcterms:modified>
  <cp:revision>4</cp:revision>
  <dc:subject/>
  <dc:title>幻灯片 1</dc:title>
</cp:coreProperties>
</file>