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FCE-A4C3-46CC-A2F7-8D8B9FB7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183-6689-4A43-B44F-4BF25AD4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A3D-6DD5-4066-8A2B-DD5F70A1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46C-DB7D-403E-B80D-E7065DCE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3C1-17EB-4DFE-9514-9D151FEF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26B-15CE-42E0-819D-CE458314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E9F-FD50-4C2C-9AD1-C87B77AC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8B9-82C4-44FE-A813-087A6941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10F-8BC2-4CFD-A4E2-44D4D181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EB4-6FF1-487E-ADAB-EFECA08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30B-D2D7-49AB-9484-908204B5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69F-4915-40A4-8DCA-8658DF42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582E-DE62-4B6B-978A-58E93DDF6B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3141720"/>
            <a:ext cx="431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0e08"/>
                </a:solidFill>
                <a:latin typeface="Times New Roman"/>
              </a:rPr>
              <a:t>六、雨来没有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9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雨来半天才喘过气来，脑袋里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像有一窝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嗡嗡地叫。他两眼直冒金花，鼻子流着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2360" y="27496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像有一窝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2920" y="227664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我们是中国人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　　我们爱自己的祖国。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2276640"/>
            <a:ext cx="80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在屋里，什么也没看见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148428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鬼子露出满口金牙，做了个鬼脸，温和地对雨来说：“不要害怕！小孩，皇军是爱护的！”说着，就叫人给他松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76280"/>
            <a:ext cx="15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哄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125360"/>
            <a:ext cx="85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扁鼻子军官把糖往雨来手里一塞，说：“吃！你吃！你得说出来，他在什么地方？”他又伸出那个戴金戒指的手指，说：“这个，金的，也给你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3336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利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060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旁边一个鬼子嗖地抽出刀来，瞪着眼睛要向雨来头上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0526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威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54936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啊！那双手就像鹰的爪子，扭着雨来的两只耳朵，向两拉。雨来疼得直咧嘴。鬼子又抽出一只手来，在雨来的脸上打了两巴掌，又把他脸上的肉揪起一块，咬着牙拧。雨来的脸立时变成白一块，青一块，紫一块。鬼子又向他胸脯上打了一拳。雨来打个趔趄，后退几步，后脑勺正碰在柜板上，但立刻又被抓过来，肚子撞在炕沿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毒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1844640"/>
            <a:ext cx="84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老人们含着泪，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“雨来是个好孩子！死得可惜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“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有志不在年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40449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志不在年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177336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芦花开的时候，远远望去，黄绿的芦苇上                                           。风一吹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鹅毛般的苇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就飘飘悠悠地飞起来，把这几十家小房屋都罩在柔软的芦花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2421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像盖了一层厚厚的的白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558972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83400" y="31417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鹅毛般的苇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42920" y="1197000"/>
            <a:ext cx="727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晋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察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苇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絮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挪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回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枕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头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劈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柴     睁 眼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瞎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歪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歪斜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76500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109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6080" y="977760"/>
            <a:ext cx="69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4920" y="1125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98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119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08760" y="1052640"/>
            <a:ext cx="3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4560" y="2637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21160" y="2492280"/>
            <a:ext cx="2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26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5880" y="25495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565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8600" y="2478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67880" y="3917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400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1880" y="3917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7440" y="162864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太阳已经落下去。蓝蓝的天上飘着的浮云                             ，映在还乡河上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像开了一大朵一大朵鸡冠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苇塘的芦花被风吹起来，在上面飘飘悠悠地飞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276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像一块一块红绸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924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像开了一大朵一大朵鸡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3645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213372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家呆呆地在河沿上立着。还乡河静静的，河水打着漩涡哗哗地向下流去。虫子在草窝里叫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04640"/>
            <a:ext cx="8569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还乡   黝黑   炕上   门槛   笤帚 泥鳅   背诵   子弹   姥姥   舅舅 一趟   糠皮   枪栓   枪毙   劫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133800"/>
            <a:ext cx="8424720" cy="36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挣        塞进    瞪着   刀鞘   咧嘴   揪起   趔趄   尸首   漩涡    吆喝      鸡冠花      一骨碌      飘飘悠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1813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81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1197000"/>
            <a:ext cx="784872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哐啷       咕咚       咔啦  嘟囔嘟囔      唧唧咕咕      嗷嗷地叫      唔哩哇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5516640"/>
            <a:ext cx="82090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0e08"/>
                </a:solidFill>
                <a:latin typeface="Times New Roman"/>
              </a:rPr>
              <a:t>一、</a:t>
            </a: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雨来家乡景色优美，雨来游泳本领高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989000"/>
            <a:ext cx="87692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雨来上夜校读书，受到爱国主义教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2924280"/>
            <a:ext cx="6624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0e08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三、雨来为了掩护交通员李大叔，被鬼子捆绑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76360" y="2924280"/>
            <a:ext cx="65516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四、雨来和鬼子进行不屈的斗争，始终不说出李大叔的藏身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84200" y="1916280"/>
            <a:ext cx="68598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e08"/>
                </a:solidFill>
                <a:latin typeface="Times New Roman"/>
              </a:rPr>
              <a:t>五、芦花村的人误以为雨来牺牲了，都很难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0:40:42Z</dcterms:created>
  <dc:creator>微软用户</dc:creator>
  <dc:description/>
  <dc:language>en-US</dc:language>
  <cp:lastModifiedBy>User</cp:lastModifiedBy>
  <dcterms:modified xsi:type="dcterms:W3CDTF">2014-12-08T14:13:02Z</dcterms:modified>
  <cp:revision>17</cp:revision>
  <dc:subject/>
  <dc:title>幻灯片 1</dc:title>
</cp:coreProperties>
</file>