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E42-797C-466E-A6DA-12B70495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08F-24F8-415F-81EC-C4FE3B1D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EEF-7047-4697-B19E-044442CE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770-88C6-4745-BE3B-AFCC6DCF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2512-E0C7-4BF2-A5BA-3CCAA449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4654-AC31-41CB-A919-25256D9C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A3A2-6BE4-483E-91A2-4AA429D3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61B4-0B27-4C52-98BC-5B3F56D9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37A8-7533-4455-AE51-C157DFD2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710B-029C-459A-8EC4-B701B200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4D53-C151-4F2C-B587-7FE7F7B7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F3A2-9B8D-43CF-8DA6-881C91D0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84E9-196D-4CB0-9BCE-899AC6FD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44D2-28A3-4C77-BCE1-871C6E05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0F68-B8EB-4209-A1F3-DE78923F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17EB-D7AF-4661-B5D1-CD932939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5AE7-91BC-4218-914E-08C31D2F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1FD-E2D2-415E-8017-ED03680E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7B7-7E22-45FA-B70C-4EE11683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3BA-0599-453B-9505-F84A353C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6907-F521-4E50-A8AA-6657F366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880-2D4C-4384-89D4-56E3E7A6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282-A89C-425B-832E-53488D63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17C-3DDA-40BB-8485-3C481ECF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21E3-5AEB-4FFD-B8DD-E6A89D9AF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6A15-38CF-41EA-8CD6-EFB1920ECB73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2" descr="chatu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4"/>
          <p:cNvSpPr txBox="1"/>
          <p:nvPr/>
        </p:nvSpPr>
        <p:spPr>
          <a:xfrm>
            <a:off x="893880" y="1125360"/>
            <a:ext cx="73562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小英雄雨来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2261880" y="6021360"/>
            <a:ext cx="302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304920" y="1752480"/>
            <a:ext cx="8839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203640" y="1773360"/>
            <a:ext cx="640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作业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给雨来写人物小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缩写故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两题选一题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267920"/>
            <a:ext cx="84470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默读课文，说说课文讲了雨来的    哪几件事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在文章中有感受的地方作批注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0" y="404640"/>
            <a:ext cx="87138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读准多音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还</a:t>
            </a:r>
            <a:r>
              <a:rPr b="1" lang="en-US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(h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i  hu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n)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乡河     扫</a:t>
            </a:r>
            <a:r>
              <a:rPr b="1" lang="en-US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(sǎo  s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o)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归还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(hái  huán)                  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扫</a:t>
            </a:r>
            <a:r>
              <a:rPr b="1" lang="en-US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(sǎo  s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o)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子弹</a:t>
            </a:r>
            <a:r>
              <a:rPr b="1" lang="en-US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(d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n t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n)         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鸡冠</a:t>
            </a:r>
            <a:r>
              <a:rPr b="1" lang="en-US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(gu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n  gu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n)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花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í</a:t>
            </a:r>
            <a:r>
              <a:rPr b="1" lang="en-US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ng    nǐng       n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拧毛巾  拧瓶盖  脾气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zā     zhā     zh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扎腰带   扎针   挣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芦花开的时候，远远望去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黄绿的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芦苇上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好像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盖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一层厚厚的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白雪。风一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，（鹅毛般的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苇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就飘飘悠悠地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飞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起来），（把这几十家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小房屋都罩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柔软的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芦花里。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7360" y="907920"/>
            <a:ext cx="90266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芦花开的时候，远远望去，芦苇上盖了白雪。风一吹苇絮飞，小房屋都罩在芦花里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88423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“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我们是中国人，我们爱自己的祖国。”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“我们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是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中国人，我们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爱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自己的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祖国。”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鬼子对雨来使用了哪些卑劣手段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3360" y="2276280"/>
            <a:ext cx="821664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课文中哪些词句把鬼子哄骗、利诱、威胁、毒打雨来的丑态形象地勾画出来了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哪些词语体现雨来在鬼子面前表现得坚强不屈？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2781360"/>
            <a:ext cx="80121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雨来为什么能在鬼子面前表现得这样勇敢坚强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24000" y="472428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我们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中国人，我们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爱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己的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祖国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1"/>
          <p:cNvSpPr/>
          <p:nvPr/>
        </p:nvSpPr>
        <p:spPr>
          <a:xfrm>
            <a:off x="1547640" y="8748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Picture 2" descr="chatu1"/>
          <p:cNvPicPr/>
          <p:nvPr/>
        </p:nvPicPr>
        <p:blipFill>
          <a:blip r:embed="rId1"/>
          <a:stretch/>
        </p:blipFill>
        <p:spPr>
          <a:xfrm>
            <a:off x="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7238880" y="990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游泳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238880" y="1720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读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238880" y="2482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掩护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238880" y="3244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斗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7238880" y="4006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枪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7238880" y="4768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、脱险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Picture 2" descr="chatu2"/>
          <p:cNvPicPr/>
          <p:nvPr/>
        </p:nvPicPr>
        <p:blipFill>
          <a:blip r:embed="rId1"/>
          <a:stretch/>
        </p:blipFill>
        <p:spPr>
          <a:xfrm>
            <a:off x="-76320" y="0"/>
            <a:ext cx="65563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6705720" y="1063800"/>
            <a:ext cx="914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幼圆"/>
              </a:rPr>
              <a:t>机智勇敢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848720" y="1066680"/>
            <a:ext cx="1066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幼圆"/>
              </a:rPr>
              <a:t>热爱祖国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7:23:25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7-10-17T07:28:22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</Properties>
</file>