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82D-BD5F-4F22-88D2-A21A4E7BD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D58-72AA-49C8-AC82-0458B049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077F-C37F-402F-ACE7-C8563BA9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CBE-C1E1-47B2-8A23-EA97BBF35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C78-0B56-4F47-A4E5-4D7ECFC9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5FE-8285-4C14-A6E1-E635CE3B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9DC-026C-475E-9059-B3D561F8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837-A392-48A4-93F1-7EA66969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A752-BCA4-4A72-B97B-EEBCCA24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2934-B663-490B-87D7-DB8F459B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57C-53B0-4931-9BF8-744407C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D3D-5B98-401C-9FEA-44F79BF7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A8C3-0CD1-4FAC-A078-62807ABA062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520" y="146160"/>
            <a:ext cx="8609400" cy="6986520"/>
            <a:chOff x="533520" y="146160"/>
            <a:chExt cx="8609400" cy="6986520"/>
          </a:xfrm>
        </p:grpSpPr>
        <p:sp>
          <p:nvSpPr>
            <p:cNvPr id="42" name=""/>
            <p:cNvSpPr/>
            <p:nvPr/>
          </p:nvSpPr>
          <p:spPr>
            <a:xfrm>
              <a:off x="533520" y="146160"/>
              <a:ext cx="672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雁门太守行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①</a:t>
              </a:r>
              <a:endParaRPr b="0" lang="en-US" sz="1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33520" y="1735200"/>
              <a:ext cx="8609400" cy="53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366ff"/>
                  </a:solidFill>
                  <a:latin typeface="Arial"/>
                  <a:ea typeface="隶书"/>
                </a:rPr>
                <a:t>雁门太守行</a:t>
              </a:r>
              <a:endParaRPr b="0" lang="en-US" sz="6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ff"/>
                  </a:solidFill>
                  <a:latin typeface="Arial"/>
                  <a:ea typeface="隶书"/>
                </a:rPr>
                <a:t>　黑云压城城欲摧，甲光向日金鳞开。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ff"/>
                  </a:solidFill>
                  <a:latin typeface="Arial"/>
                  <a:ea typeface="隶书"/>
                </a:rPr>
                <a:t>　角声满天秋色里，塞上胭脂凝夜紫。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ff"/>
                  </a:solidFill>
                  <a:latin typeface="Arial"/>
                  <a:ea typeface="隶书"/>
                </a:rPr>
                <a:t>　</a:t>
              </a:r>
              <a:r>
                <a:rPr b="1" lang="zh-CN" sz="3600" spc="-1" strike="noStrike">
                  <a:solidFill>
                    <a:srgbClr val="3366ff"/>
                  </a:solidFill>
                  <a:latin typeface="Arial"/>
                </a:rPr>
                <a:t>半卷红旗临易水，霜重鼓寒声不起。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66ff"/>
                  </a:solidFill>
                  <a:latin typeface="Arial"/>
                  <a:ea typeface="隶书"/>
                </a:rPr>
                <a:t>　报君黄金台上意，提携玉龙为君死。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Arial"/>
                <a:ea typeface="方正琥珀简体"/>
              </a:rPr>
              <a:t>比较思考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文天祥《过零丁洋》：“人生自古谁无死，留取丹心照汗青。”与本诗结尾所表现的爱国精神哪一个更值得敬佩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2670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、陈毅《梅岭三章》：“此去泉台招旧部，旌旗十万斩阎罗。”与本诗结尾有何异同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Arial"/>
                <a:ea typeface="黑体"/>
              </a:rPr>
              <a:t>诗歌总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　　　这是一首用血和生命写出来的诗篇，它真实地记录了诗人永别故乡时复杂的心情，表现了诗人强烈的爱国热情和英雄末路的哀痛，音调悲凉，文情并茂，具有震撼人心的艺术力量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04920" y="3048120"/>
            <a:ext cx="832464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隶书"/>
              </a:rPr>
              <a:t>让我们永远记住爱国诗人夏完淳！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黑云压城城欲摧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66ff"/>
                </a:solidFill>
                <a:latin typeface="Arial"/>
              </a:rPr>
              <a:t>甲光向日金鳞开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乌云弥漫在城上，城郭似乎被摧垮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日光穿过云的缝隙，战士们的铠甲上金光闪闪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4437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314172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首句于“云”上着“黑”字，已感气氛沉重。而这“黑云”又“压城”以至压得“城欲摧”，明显有象征意义。“云”上特加“黑”字，自然不会用以象征我军而是象征敌军。敌军压境围城如此凶猛，则我军只有杀出重围，才有生路。“甲光向日金鳞开”，在色彩和形相上与上句形成强烈对比，明含欣喜、赞美之情，当然是指我军。始而黑云压城，适度围逼，既而黑云崩溃、红日当空，我军将士的金甲在日光下犹如片片金鳞，耀人眼目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4428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角声满天秋色里，塞上胭脂凝夜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720" y="909720"/>
            <a:ext cx="7772400" cy="106884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隶书"/>
              </a:rPr>
              <a:t>　　在深秋的季节里吹响号角，长城附近的泥土在夕阳的掩映下更加凝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60" y="2062080"/>
            <a:ext cx="907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2133720"/>
            <a:ext cx="90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角声满天秋色里”一句，正是</a:t>
            </a:r>
            <a:r>
              <a:rPr b="1" lang="zh-CN" sz="2800" spc="-1" strike="noStrike" u="sng">
                <a:solidFill>
                  <a:srgbClr val="3366ff"/>
                </a:solidFill>
                <a:uFillTx/>
                <a:latin typeface="Arial"/>
              </a:rPr>
              <a:t>以虚写实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。在读者想象中展现敌退我追的壮阔场景。“塞上胭脂凝夜紫”中的“夜”字照应第一句中的“日”字，表明从突围至此，已过了较长一段时间，双方互有杀伤。“塞上胭脂”，旧注引《古今注》“秦筑长城，土色皆紫、故曰紫塞”解释，紧承“角声”、“秋色”描绘塞土赤紫，已令人想见战血；于“紫”前加一“凝”字，更强化了这种联想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31840" y="3322800"/>
            <a:ext cx="5080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55640" y="189000"/>
            <a:ext cx="755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</a:rPr>
              <a:t>半卷红旗临易水，霜重鼓寒声不起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054080"/>
            <a:ext cx="8077320" cy="64260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　　深夜里，部队行进在易水河边，寒风卷动着红旗。浓霜湿透了鼓皮，低沉的鼓声在四周回荡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720" y="3392640"/>
            <a:ext cx="85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由“日”到“夜”，以至夜深“霜重”，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半卷红旗”军队卷起红旗急速行军，潜师夜袭，一场苦战。北地的秋夜，风急霜浓，连战鼓也擂不响，但将士们无所畏惧，勇往直前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31840" y="3322800"/>
            <a:ext cx="5080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27080" y="533520"/>
            <a:ext cx="70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报君黄金台上意，提携玉龙为君死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1989000"/>
            <a:ext cx="7848360" cy="1477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隶书"/>
              </a:rPr>
              <a:t>　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　为了报答君王招纳贤才的厚爱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隶书"/>
              </a:rPr>
              <a:t>我宁愿手提利剑战死在沙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66416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表现了将士不惜为国捐躯的崇高精神，以及君主重用贤才的美德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971800" y="3886200"/>
            <a:ext cx="373392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方正琥珀简体"/>
              </a:rPr>
              <a:t>南明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方正琥珀简体"/>
              </a:rPr>
              <a:t>·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方正琥珀简体"/>
              </a:rPr>
              <a:t>夏完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762120"/>
            <a:ext cx="54104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8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别云间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685440"/>
            <a:ext cx="579096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  <a:ea typeface="华文行楷"/>
              </a:rPr>
              <a:t>作者和解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36576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这首诗作于作者在故乡云间被清兵逮捕后，解往南京前临别松江时，是一首悲壮慷慨的绝命诗。从体裁看，是一首五言律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6765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夏完淳：原名复，字存古，号小隐，南明诗人，著名的抗清将领。他被捕就义时，年仅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7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岁。著有《夏内史集》及《玉樊堂词》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0c0c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66ff"/>
                </a:solidFill>
                <a:latin typeface="Arial"/>
                <a:ea typeface="方正康体简体"/>
              </a:rPr>
              <a:t>诗歌理解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60020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方正琥珀简体"/>
              </a:rPr>
              <a:t>首联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过了三年漂泊在外的生活，今天又成了清兵的囚徒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作者运用典故，抒发了诗人苦战被捕后的沉痛、愤懑之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860640"/>
            <a:ext cx="868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方正琥珀简体"/>
              </a:rPr>
              <a:t>颔联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为山河破碎而流下的眼泪无尽地流着，却没有地方容纳，谁还能说天地广袤无边呢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作者在此抒发了英雄失路之悲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609480"/>
            <a:ext cx="8686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方正琥珀简体"/>
              </a:rPr>
              <a:t>颈联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已经知道去黄泉的路很近了，要永远告别故乡真是难舍难分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作者在此已抱定了杀身成仁的决心，但又难以告别家乡和亲人，表现出了作者情感和心理的矛盾，抒发了依恋故乡之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9880"/>
            <a:ext cx="8381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  <a:ea typeface="方正琥珀简体"/>
              </a:rPr>
              <a:t>尾联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自己死后成了鬼魂，也要回来从空中看看后继者们打着抗清的旗帜收复河山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这里表现出了作者誓死不屈、战斗不止的决心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20:03:12Z</dcterms:created>
  <dc:creator>  </dc:creator>
  <dc:description>  </dc:description>
  <cp:keywords/>
  <dc:language>en-US</dc:language>
  <cp:lastModifiedBy>User</cp:lastModifiedBy>
  <cp:lastPrinted>1899-12-30T00:00:00Z</cp:lastPrinted>
  <dcterms:modified xsi:type="dcterms:W3CDTF">2014-09-17T00:51:40Z</dcterms:modified>
  <cp:revision>1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