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camera.wav" ContentType="audio/x-wav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DB4-AAB5-4038-9BAD-EAFD0810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DC6-A212-4815-8795-24088409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A26-9078-48CC-86A7-DEAA8BE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3F28-E485-4ABE-AB2C-79FD3425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E511C-9B28-43EF-BFB8-D51C82B5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9AE66-BEDC-4A39-823D-BB875B7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D82AD-89D5-45CA-A07A-6532C8A6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8A3B8-3105-44E8-A174-FA14EC4A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B201C-BB35-4F3A-9E1E-EE8C5C2B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24512-6C7A-4827-8722-7C4214A6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8B85B9-A1B9-4B07-9350-1B4C917D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798-DE38-410F-9151-7829F8B1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4B41C6-D794-4EB1-BE0D-78F88839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D7A12-70D8-48FE-ABD5-102123C9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04DD7-8614-41DA-963F-80BF249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1E1BE-3D78-48CA-A9E2-3D22102C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C91A-B1F4-480C-A478-E39CC327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AC0-1FDC-4EA8-8815-E362FC84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2C5-3D25-434B-A754-CBB90082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C4FD-98B5-40AB-A1DE-BEF527ED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845C-E4D8-4FC2-B2D1-D4C60CDA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3607-EC38-4154-B628-07218E38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8653-5472-4BE7-A57C-A52A44E6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0BA-768B-4E1F-A4D1-A3773EC8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9826-A323-4673-9AA9-52B02311A64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0C6-4902-4AB8-A479-27E8656CB39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AD84-5728-4421-8928-412A2613A7E5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D141-4165-4807-934F-0C5D05BC7057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949338.htm" TargetMode="External"/><Relationship Id="rId2" Type="http://schemas.openxmlformats.org/officeDocument/2006/relationships/hyperlink" Target="http://baike.baidu.com/view/7079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441452.htm" TargetMode="External"/><Relationship Id="rId2" Type="http://schemas.openxmlformats.org/officeDocument/2006/relationships/hyperlink" Target="http://baike.baidu.com/view/65532.htm" TargetMode="External"/><Relationship Id="rId3" Type="http://schemas.openxmlformats.org/officeDocument/2006/relationships/hyperlink" Target="http://baike.baidu.com/view/112914.htm" TargetMode="External"/><Relationship Id="rId4" Type="http://schemas.openxmlformats.org/officeDocument/2006/relationships/hyperlink" Target="http://baike.baidu.com/view/735524.htm" TargetMode="External"/><Relationship Id="rId5" Type="http://schemas.openxmlformats.org/officeDocument/2006/relationships/hyperlink" Target="http://baike.baidu.com/view/2376.htm" TargetMode="External"/><Relationship Id="rId6" Type="http://schemas.openxmlformats.org/officeDocument/2006/relationships/hyperlink" Target="http://baike.baidu.com/view/84405.htm" TargetMode="External"/><Relationship Id="rId7" Type="http://schemas.openxmlformats.org/officeDocument/2006/relationships/hyperlink" Target="http://baike.baidu.com/view/61999.htm" TargetMode="External"/><Relationship Id="rId8" Type="http://schemas.openxmlformats.org/officeDocument/2006/relationships/hyperlink" Target="http://baike.baidu.com/view/19878.htm" TargetMode="External"/><Relationship Id="rId9" Type="http://schemas.openxmlformats.org/officeDocument/2006/relationships/hyperlink" Target="http://baike.baidu.com/view/538318.htm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 rot="5400000">
            <a:off x="-1287000" y="2591640"/>
            <a:ext cx="6095880" cy="2011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雁门太守行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32000" y="5373720"/>
            <a:ext cx="18288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李贺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2C632-5E79-45E0-B0A1-76EAE90A53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报君黄金台上意，提携玉龙为君死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为了报答国君的赏赐和厚爱，手操宝剑甘愿为国血战到死！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B12A7-F095-4A19-AA76-AF2765F96A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作品鉴赏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全诗写了三个画面：一个白天，表现官军戒备森严；一个在黄昏前，表现刻苦练兵；一个在中夜，写官军出其不意地袭击敌人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首联写景又写事，渲染兵临城下的紧张气氛和危急形势。后句写守城将士严阵以待，借日光显示守军威武雄壮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颈联颔联分别从声色两方面渲染战场的悲壮气氛和战斗的残酷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颈联写部队黑夜行军和投入战斗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尾联引用典故写出将士誓死报效国家的决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E3F52-202A-4A80-87FD-630A135C91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50328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诗中哪句话构思新奇，写出战争的危急形势</a:t>
            </a:r>
            <a:r>
              <a:rPr b="1" lang="zh-CN" sz="2800" spc="-1" strike="noStrike">
                <a:solidFill>
                  <a:srgbClr val="e3e3ff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7414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黑云压城城欲摧”，点明了战争的危急形势敌人兵临城下，大军压境，有如乌云重重压下要把城墙摧垮。这样构思较新颖，用“黑云压城”极力渲染了兵临城下的紧急形势，用“城欲摧”极言大军压境的紧张气氛。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3556F-0027-4F7B-9680-D38A2BCD64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诗中哪句话写出了战场的惨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角声满天秋色里，塞上燕脂凝夜紫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诗中写危城守将誓死报效朝廷的决心的诗句是什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报君黄金台上意，提携玉龙为君死。”同时也反映了刚届青年的作者已经立志报效国家。</a:t>
            </a:r>
            <a:br>
              <a:rPr sz="2800"/>
            </a:b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4D378-0BC5-45B5-98D2-A5A3DDB519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363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诗句赏析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557360"/>
            <a:ext cx="8305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一二句：写景又叙事，写敌我两军的态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   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前句用象征手法渲染兵临城下的紧张气氛和危急形势。后句用外貌描写和环境烘托，写守城将士严阵以待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黑云压城城欲摧，甲光向日金鳞开。”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Times New Roman"/>
              </a:rPr>
              <a:t>压、摧”两个动词，把敌军人马众多，来势凶猛，以及交战双方力量悬殊、守军将士处境艰难、我方城池摇摇欲坠等等，淋漓尽致地揭示出来。写城内的守军，以与城外的敌军相对比，忽然，风云变幻，一缕日光从云缝里透射下来，映照在守城将士的甲衣上，只见金光闪闪，令人眩晕。此刻他们正披坚执锐，严阵以待。这里借日光金光来显示守军的威严和高昂士气。铁锅遭遇铜刷把，魔高一尺，道高一丈，未及开战，便觉杀气腾腾，奇妙无比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4A444-C685-40D2-B267-A5C0E6ACBC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820728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三四句：叙事写景，从听觉和视觉写惨烈的战斗场景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角声满天秋色里，塞上燕脂凝夜紫。”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满”，勾画出战争的规模之大，“秋色”渲染凄凉悲壮的气氛。“夜”点明交战时间之长。特别有表现力的是“凝”字。胭脂是为了突出脸蛋、嘴唇自然红晕的效果的红色化妆品，这里的泥土颜色酷似胭脂，而作者又是在侧面烘托，以泥土写血，仿佛让人闻到了战斗的血腥气息。作者告诉我们，血流遍野，染红了泥土，从早到晚，鲜红的血慢慢凝固，凝成了紫色。这个“凝”字的特写，妙在既表现了死伤惨重，又显示了动态变化过程，还渲染了黯然凝重的氛围，衬托出战地的悲壮场面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C473A-11D6-4369-A59D-66C0D3EF55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7724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五六句：叙事写景。偷袭敌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半卷红旗临易水，霜重鼓寒声不起”，“半卷”二字含义极为含蓄丰富。战斗从早到晚那样惨烈，可并没有黑夜到来而停止。我军势弱，不能坐以待毙，而选择主动出击。“半卷”，为的是隐蔽突袭，攻其不备，这也体现了我军的智慧。“易水”既表明交战的地点，又引用典故，显示出将要有一场悲壮的生死战：“风萧萧兮易水寒，壮士一去兮不复还”，高渐离永别勇士荆轲的场景历历如在目前，催人泪下。“声不起”三字，表面上写天气极寒，以至于鼓皮僵硬失去弹性；作者更是巧妙地用拟人的手法写出了战场的壮烈，以至于鼓声呜咽，泣不成声。这样理解更能表现我军将士的牺牲精神感天动地，撼人心魄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30901-DDF4-4AB9-B1E1-EC35351C1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    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七八句：抒情明旨。抒发爱国激情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报君黄金台上意，提携玉龙为君死。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黄金台是战国时燕昭王在易水东南修筑的，传说他曾把大量黄金放在台上，表示不惜以重金招揽天下士。诗人引用这个故事，写出将士们誓死报效朝廷的决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这里要特别指出的是，这里的“君”，不能一概解释成皇帝或朝廷，准确的应当是国家。对于李贺来说，“君”或许是“昏君”。李贺受到了极不公平的待遇，被拒之于仕途之外，而置个人私怨于不顾，仍乃以国家安危为重，这需要何等的气量，实在难能可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一个体弱多病的李贺，不像岑参陆游等人一样有过沙场亲身经历，却能完全凭想象描绘出高于写生的战斗场景，叹为观止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EEA11-6279-4B0C-AB40-C4FE27E01C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4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课文分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10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诗中“角声满无秋色里，塞 上燕脂凝夜紫”分别从哪两方面写 战地气氛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2133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两句分别从听觉 和视觉两方面铺写阴寒惨切的战 地气氛。时值深秋，万木摇落，在一片死寂之中，那角声呜呜咽咽地响 起来。显然，一场惊心动魄的战斗 正在进行。“角声满地”勾画出战争 的规模。敌军依仗人多势众，鼓噪 而前，步步紧逼。守军并不因势孤 力弱而怯阵，在号角声的鼓舞下， 他们士气高昂，奋力反击。战斗从 白昼持续到黄昏。晚霞映照着战 场，那大块大块的胭脂般鲜红的血迹，透过夜雾凝结在大 地上呈现出一片紫色 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213E6-8D4B-451B-A673-BA01B8AF9A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14300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．“报君黄金台上意，提携五龙为君死”的含义是什么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31444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黄金台是战国时期昭王在易水东南修筑的，传说他曾把大量的黄金放在台上，表示不惜以重金招揽天下。诗人引用这个故事，写出将士们报效朝廷的决心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BE6C6-21B8-43FD-8201-936ACFECC6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223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作者简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4479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李贺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9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1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，唐代著名诗人，汉族，河南福昌人。字长吉，世称李长吉、鬼才、诗鬼等，与李白、李商隐三人并称唐代“三李”。祖籍陇西，生于福昌县昌谷（今河南洛阳宜阳县）。一生愁苦多病，仅做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从九品微官奉礼郎，因病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7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岁卒。李贺是中唐浪漫主义诗人的代表，又是中唐到晚唐诗风转变期的重要人物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A1D7F-C4B4-4E43-AB80-4204ED4C08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9144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．体会李贺诗歌的艺术特色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6002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般说来，写悲壮惨烈的战斗场面不宜使用表现浓艳色彩的词语，而李贺这首诗几乎句句都有鲜明的色彩，其中如金色、胭脂色和紫红色，非但鲜明，而且浓艳，它们和黑色、秋色、玉白色等等交织在一起，构成色彩斑斓的画面。这首诗用浓艳斑驳的色彩描绘悲壮惨烈的战斗场面，可算是奇诡了；而这种色彩斑斓的奇异画面却难确地表现了特定时间、特定地点的边塞风光和瞬息变幻的战争风云，又显得很妥站。这是李贺创作诗歌的特色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CCF30-1704-4C27-8AEE-5897AA28E2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总结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这首诗属于边塞诗歌。《雁门太守行》一诗渲染了一种悲壮惨烈的气氛：那就是兵临城下，号角声声，战士们的鲜血染红了土地，战场很残酷，但危城守将誓死要报效朝廷，决心誓死不改。构思奇特，想像丰富，富有诗的意境和情趣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98C2D-94E7-4577-9394-9E03B23784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743200" y="533520"/>
            <a:ext cx="31240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完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133720" y="3886200"/>
            <a:ext cx="5257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2052-9CD2-437F-9A0A-969C58B30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33520"/>
            <a:ext cx="50292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692280"/>
            <a:ext cx="6324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《雁门太守行》选自《李贺歌诗编》。是乐府旧题，</a:t>
            </a:r>
            <a:r>
              <a:rPr b="0" lang="zh-CN" sz="3200" spc="-1" strike="noStrike" u="sng">
                <a:solidFill>
                  <a:srgbClr val="00ffcc"/>
                </a:solidFill>
                <a:uFillTx/>
                <a:latin typeface="Times New Roman"/>
                <a:hlinkClick r:id="rId1"/>
              </a:rPr>
              <a:t>中唐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诗人</a:t>
            </a:r>
            <a:r>
              <a:rPr b="0" lang="zh-CN" sz="32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李贺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用它创作了一首描写战争场面的诗歌。这首诗，用浓艳斑驳的色彩描绘悲壮惨烈的战斗场面，奇异的画面准确地表现了特定时间、特定地点的边塞风光和瞬息万变的战争风云。唐人的这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拟古诗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是相对唐代“近体诗”而言的。它有较宽押韵，不受太多格律束缚，可以说是古人的一种半自由诗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F13B5-AE6A-4068-8047-DC2493CD67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写作背景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630080"/>
            <a:ext cx="77724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李贺生活的时代藩镇叛乱此伏彼起，发生过重大的战争。如史载，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809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年（元和四年），王承宗的叛军攻打易州和定州，爱国将领李光颜曾率兵驰救。元和九年，他身先士卒，突出、冲击吴元济叛军的包围，杀得敌人人仰马翻，狼狈逃窜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　　从有关《雁门太守行》这首诗的一些传说和材料记载推测，可能是写平定藩镇叛乱的战争。 当时是元和二年，公元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807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年。李贺当时仅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岁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　　此诗写一位激昂慷慨、逆境奋战、誓死疆场的英雄。诗以热烈的礼赞和深沉追念的心情，塑造出一个十分具体而动人的英雄人物形象，格调浓丽而壮烈。以“报君黄金台上意”作结，反映了作者投笔从戎，建功立业，但又得不到赏识的一种“英雄无用”的悲哀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817D59-E70E-4E72-B2DE-9BB746EF58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雁门太守行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cuī                                           lín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黑云压城城欲摧，甲光向日金鳞开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jiǎo                                             sài        yān zhī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角声满天秋色里，塞上燕脂凝夜紫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　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juǎn                                                zhò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半卷红旗临易水，霜重鼓寒声不起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　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xi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报君黄金台上意，提携玉龙为君死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0ECCC-5FE5-4ED7-AADA-666AE8F178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2960" y="423720"/>
            <a:ext cx="602136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e3e3ff"/>
                </a:solidFill>
                <a:latin typeface="Arial"/>
              </a:rPr>
              <a:t>【注释】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黑云：厚厚的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乌云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这里指攻城敌军的气势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摧：毁坏。这句形容敌军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兵临城下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的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紧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气氛和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危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形势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甲光：铠甲迎着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太阳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闪出的光。甲，指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铠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战衣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金鳞：形容铠甲闪光如金色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7"/>
              </a:rPr>
              <a:t>鱼鳞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金：像金子一样的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8"/>
              </a:rPr>
              <a:t>颜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和光泽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角：古代军中一种吹奏乐器，多用兽角制成，也是古代军中的号角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塞上燕脂凝夜紫：长城附近多紫色</a:t>
            </a:r>
            <a:r>
              <a:rPr b="0" lang="zh-CN" sz="2000" spc="-1" strike="noStrike" u="sng">
                <a:solidFill>
                  <a:srgbClr val="00ffcc"/>
                </a:solidFill>
                <a:uFillTx/>
                <a:latin typeface="Arial"/>
                <a:hlinkClick r:id="rId9"/>
              </a:rPr>
              <a:t>泥土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所以叫做“紫塞”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燕脂：即胭脂，一种红色化妆品。这里指暮色中塞上泥土有胭脂凝成。据说长城附近多半是紫色泥土。　临：靠近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易水：河名，大清河上源支流，源出今河北省易县，向东南流入大清河。“塞上”一作“塞土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霜重鼓寒：天寒霜降，战鼓声沉闷而不响亮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声不起：形容鼓声低沉；不高扬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黄金台：故址在今河北省易县东南，相传战国燕昭王所筑，置千金于台上，以招聘人材、招揽隐士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玉龙：指一种珍贵的宝剑，这里代指剑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　君：君王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A416A-A4AF-4EA6-94FB-7D19B11329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e3ff"/>
                </a:solidFill>
                <a:latin typeface="Arial"/>
              </a:rPr>
              <a:t>【译文】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黑云压城城欲摧，甲光向日金鳞开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敌军似乌云压进，危城似乎要被摧垮。阳光照射在鱼鳞一般的铠甲上，金光闪闪。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DB4E5-E86D-4DBF-BB5D-8B45CEB307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角声满天秋色里，塞上燕脂凝夜紫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角的声音在这秋色里响彻天空；塞上泥土犹如胭脂凝成，夜色中浓艳得如紫色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D3A97-CB06-4899-9101-0C17CF7D8A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半卷红旗临易水，霜重鼓寒声不起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寒风卷动着红旗，部队悄悄临近易水；凝重的霜湿透了鼓皮，鼓声低沉，扬不起来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该课件由【语文公社】www.yuwen520.com友情提供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FF75E-F516-469F-ADE2-ADF5E9685E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4:05:55Z</dcterms:created>
  <dc:creator>itry</dc:creator>
  <dc:description/>
  <dc:language>en-US</dc:language>
  <cp:lastModifiedBy>微软用户</cp:lastModifiedBy>
  <dcterms:modified xsi:type="dcterms:W3CDTF">2011-05-23T14:01:23Z</dcterms:modified>
  <cp:revision>32</cp:revision>
  <dc:subject/>
  <dc:title>PowerPoint 演示文稿</dc:title>
</cp:coreProperties>
</file>