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1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9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3650-8441-4A7D-A55B-0F8C4B77E6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5F85-1C3B-4F39-A2D3-A8FD8BE4A6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7B61-17D3-4CE2-B0D5-2D4CD0774E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F05E-E95C-4577-8D51-14E34FDDD3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3975-A128-4217-BF87-D56ADDC0D7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A10D-3C3C-4A79-99F2-A45DCE2831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B8DF-C3BD-4EF0-AA5D-D52B7F86CD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559C-1637-4ED4-84FC-1B699E5044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A1DB-9D3D-4A91-9272-E47EBC83B5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0FBD-129F-4D53-B5BF-00720C792A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1D76-2718-44F6-8179-453D1EF875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0DAC-8F66-46EB-8940-D9DA348E65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B03A-E485-4BFF-8308-EA8DAB8D5D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30F2-BA03-4990-8D39-2C365C6F67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BAF5-BD87-420E-9E27-9AA8B9574B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FFC4-21B2-40B4-84CF-685F58E22C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6CE7-3EAA-4340-957A-8096F6E76C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41DF-169A-4F8A-B998-4B786879D6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269F-76E4-4017-8C71-3B361B529C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4823-F045-4959-818B-26F56E39B0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7DE1-903D-452E-9D59-F78F5DAD1D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BF5B-835E-4C6F-AC8C-CDF4CAEA4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2670-0F35-47BE-9BFD-40020498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87E1-DD5B-4851-9527-171C3F3A3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9565-07DE-4887-BFB3-37E77FDF4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5482-736B-426F-A79D-21C8EFED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C593-5221-4E49-8539-AF9DCE95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A7ED-DECF-4903-8716-7E1BD433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0F05-A890-4B4A-B55A-F80E6990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5668-210C-4189-83DA-FFD0B205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1F3B-31D6-4E41-A212-0ADBCD8E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DDB8-170C-4ED3-82A6-5C4C34BC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AEE6-90B1-4F89-82B8-1FC0714E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8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350E-5AD5-48E5-BE41-FDB8319F8FB4}" type="slidenum">
              <a:rPr b="0" lang="en-US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18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17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8.xml"/><Relationship Id="rId3" Type="http://schemas.openxmlformats.org/officeDocument/2006/relationships/slide" Target="slide15.xml"/><Relationship Id="rId4" Type="http://schemas.openxmlformats.org/officeDocument/2006/relationships/slide" Target="slide20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1.xml"/><Relationship Id="rId3" Type="http://schemas.openxmlformats.org/officeDocument/2006/relationships/slide" Target="slide6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WordArt 3" descr=""/>
          <p:cNvPicPr/>
          <p:nvPr/>
        </p:nvPicPr>
        <p:blipFill>
          <a:blip r:embed="rId1"/>
          <a:stretch/>
        </p:blipFill>
        <p:spPr>
          <a:xfrm>
            <a:off x="1176480" y="1743120"/>
            <a:ext cx="60656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6"/>
          <p:cNvGrpSpPr/>
          <p:nvPr/>
        </p:nvGrpSpPr>
        <p:grpSpPr>
          <a:xfrm>
            <a:off x="3203640" y="2287440"/>
            <a:ext cx="3197160" cy="2810160"/>
            <a:chOff x="3203640" y="2287440"/>
            <a:chExt cx="3197160" cy="2810160"/>
          </a:xfrm>
        </p:grpSpPr>
        <p:sp>
          <p:nvSpPr>
            <p:cNvPr id="88" name="Rectangle 4"/>
            <p:cNvSpPr/>
            <p:nvPr/>
          </p:nvSpPr>
          <p:spPr>
            <a:xfrm>
              <a:off x="3381480" y="3357720"/>
              <a:ext cx="2638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800080"/>
                  </a:solidFill>
                  <a:latin typeface="Times New Roman"/>
                </a:rPr>
                <a:t>  </a:t>
              </a:r>
              <a:r>
                <a:rPr b="1" lang="zh-CN" sz="5400" spc="-1" strike="noStrike">
                  <a:solidFill>
                    <a:srgbClr val="800080"/>
                  </a:solidFill>
                  <a:latin typeface="Times New Roman"/>
                </a:rPr>
                <a:t>特 殊　</a:t>
              </a:r>
              <a:endParaRPr b="1" lang="en-US" sz="5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203640" y="2287440"/>
              <a:ext cx="31971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800080"/>
                  </a:solidFill>
                  <a:latin typeface="Times New Roman"/>
                  <a:ea typeface="宋体"/>
                </a:rPr>
                <a:t>　   </a:t>
              </a:r>
              <a:r>
                <a:rPr b="1" lang="en-US" sz="5400" spc="-1" strike="noStrike">
                  <a:solidFill>
                    <a:srgbClr val="800080"/>
                  </a:solidFill>
                  <a:latin typeface="Times New Roman"/>
                  <a:ea typeface="宋体"/>
                </a:rPr>
                <a:t>shū</a:t>
              </a:r>
              <a:r>
                <a:rPr b="1" lang="zh-CN" sz="5400" spc="-1" strike="noStrike">
                  <a:solidFill>
                    <a:srgbClr val="800080"/>
                  </a:solidFill>
                  <a:latin typeface="Times New Roman"/>
                  <a:ea typeface="宋体"/>
                </a:rPr>
                <a:t>　</a:t>
              </a:r>
              <a:endParaRPr b="1" lang="en-US" sz="5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sp>
        <p:nvSpPr>
          <p:cNvPr id="90" name="AutoShape 9">
            <a:hlinkClick r:id="rId1" action="ppaction://hlinksldjump"/>
          </p:cNvPr>
          <p:cNvSpPr/>
          <p:nvPr/>
        </p:nvSpPr>
        <p:spPr>
          <a:xfrm>
            <a:off x="7010280" y="5867280"/>
            <a:ext cx="2133720" cy="990720"/>
          </a:xfrm>
          <a:custGeom>
            <a:avLst/>
            <a:gdLst>
              <a:gd name="textAreaLeft" fmla="*/ 64080 w 2133720"/>
              <a:gd name="textAreaRight" fmla="*/ 2069640 w 2133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6511" h="21600">
                <a:moveTo>
                  <a:pt x="0" y="0"/>
                </a:moveTo>
                <a:lnTo>
                  <a:pt x="46511" y="0"/>
                </a:lnTo>
                <a:lnTo>
                  <a:pt x="46511" y="21600"/>
                </a:lnTo>
                <a:lnTo>
                  <a:pt x="0" y="21600"/>
                </a:lnTo>
                <a:close/>
              </a:path>
              <a:path fill="lightenLess" w="46511" h="21600">
                <a:moveTo>
                  <a:pt x="0" y="0"/>
                </a:moveTo>
                <a:lnTo>
                  <a:pt x="46511" y="0"/>
                </a:lnTo>
                <a:lnTo>
                  <a:pt x="45111" y="1400"/>
                </a:lnTo>
                <a:lnTo>
                  <a:pt x="1400" y="1400"/>
                </a:lnTo>
                <a:close/>
              </a:path>
              <a:path fill="darken" w="46511" h="21600">
                <a:moveTo>
                  <a:pt x="46511" y="0"/>
                </a:moveTo>
                <a:lnTo>
                  <a:pt x="46511" y="21600"/>
                </a:lnTo>
                <a:lnTo>
                  <a:pt x="45111" y="20200"/>
                </a:lnTo>
                <a:lnTo>
                  <a:pt x="45111" y="1400"/>
                </a:lnTo>
                <a:close/>
              </a:path>
              <a:path fill="darkenLess" w="46511" h="21600">
                <a:moveTo>
                  <a:pt x="46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11" y="20200"/>
                </a:lnTo>
                <a:close/>
              </a:path>
              <a:path fill="lighten" w="46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511" h="21600">
                <a:moveTo>
                  <a:pt x="16249" y="10800"/>
                </a:moveTo>
                <a:lnTo>
                  <a:pt x="30262" y="3794"/>
                </a:lnTo>
                <a:lnTo>
                  <a:pt x="3026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971640" y="2060640"/>
            <a:ext cx="77770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自由朗读课文，要求：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）借助拼音读准文中的新字；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）努力把课文读正确，圈出不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理解的字词。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6"/>
          <p:cNvGrpSpPr/>
          <p:nvPr/>
        </p:nvGrpSpPr>
        <p:grpSpPr>
          <a:xfrm>
            <a:off x="914400" y="1376280"/>
            <a:ext cx="7618320" cy="6247800"/>
            <a:chOff x="914400" y="1376280"/>
            <a:chExt cx="7618320" cy="6247800"/>
          </a:xfrm>
        </p:grpSpPr>
        <p:sp>
          <p:nvSpPr>
            <p:cNvPr id="93" name="Rectangle 4"/>
            <p:cNvSpPr/>
            <p:nvPr/>
          </p:nvSpPr>
          <p:spPr>
            <a:xfrm>
              <a:off x="914400" y="1447920"/>
              <a:ext cx="7618320" cy="61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3300"/>
                </a:solidFill>
                <a:latin typeface="Times New Roman"/>
              </a:endParaRPr>
            </a:p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800080"/>
                  </a:solidFill>
                  <a:latin typeface="Times New Roman"/>
                </a:rPr>
                <a:t>      </a:t>
              </a:r>
              <a:r>
                <a:rPr b="1" lang="zh-CN" sz="5400" spc="-1" strike="noStrike">
                  <a:solidFill>
                    <a:srgbClr val="800080"/>
                  </a:solidFill>
                  <a:latin typeface="Times New Roman"/>
                </a:rPr>
                <a:t>骤然　　跋涉</a:t>
              </a:r>
              <a:endParaRPr b="1" lang="en-US" sz="5400" spc="-1" strike="noStrike">
                <a:solidFill>
                  <a:srgbClr val="ff3300"/>
                </a:solidFill>
                <a:latin typeface="Times New Roman"/>
              </a:endParaRPr>
            </a:p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800080"/>
                  </a:solidFill>
                  <a:latin typeface="Times New Roman"/>
                </a:rPr>
                <a:t>　</a:t>
              </a:r>
              <a:endParaRPr b="1" lang="en-US" sz="5400" spc="-1" strike="noStrike">
                <a:solidFill>
                  <a:srgbClr val="ff3300"/>
                </a:solidFill>
                <a:latin typeface="Times New Roman"/>
              </a:endParaRPr>
            </a:p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800080"/>
                  </a:solidFill>
                  <a:latin typeface="Times New Roman"/>
                </a:rPr>
                <a:t>     </a:t>
              </a:r>
              <a:r>
                <a:rPr b="1" lang="zh-CN" sz="5400" spc="-1" strike="noStrike">
                  <a:solidFill>
                    <a:srgbClr val="800080"/>
                  </a:solidFill>
                  <a:latin typeface="Times New Roman"/>
                </a:rPr>
                <a:t>濒临    覆盖     </a:t>
              </a:r>
              <a:endParaRPr b="1" lang="en-US" sz="5400" spc="-1" strike="noStrike">
                <a:solidFill>
                  <a:srgbClr val="ff3300"/>
                </a:solidFill>
                <a:latin typeface="Times New Roman"/>
              </a:endParaRPr>
            </a:p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ff33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80"/>
                  </a:solidFill>
                  <a:latin typeface="Times New Roman"/>
                </a:rPr>
                <a:t>　　　　　　　</a:t>
              </a:r>
              <a:endParaRPr b="1" lang="en-US" sz="2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94" name="Rectangle 5"/>
            <p:cNvSpPr/>
            <p:nvPr/>
          </p:nvSpPr>
          <p:spPr>
            <a:xfrm>
              <a:off x="1332000" y="1376280"/>
              <a:ext cx="7188120" cy="46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800080"/>
                  </a:solidFill>
                  <a:latin typeface="Times New Roman"/>
                  <a:ea typeface="宋体"/>
                </a:rPr>
                <a:t>  </a:t>
              </a:r>
              <a:r>
                <a:rPr b="1" lang="en-US" sz="5400" spc="-1" strike="noStrike">
                  <a:solidFill>
                    <a:srgbClr val="800080"/>
                  </a:solidFill>
                  <a:latin typeface="Times New Roman"/>
                  <a:ea typeface="宋体"/>
                </a:rPr>
                <a:t>zhòu</a:t>
              </a:r>
              <a:r>
                <a:rPr b="1" lang="zh-CN" sz="5400" spc="-1" strike="noStrike">
                  <a:solidFill>
                    <a:srgbClr val="800080"/>
                  </a:solidFill>
                  <a:latin typeface="Times New Roman"/>
                  <a:ea typeface="宋体"/>
                </a:rPr>
                <a:t>　    </a:t>
              </a:r>
              <a:r>
                <a:rPr b="1" lang="en-US" sz="5400" spc="-1" strike="noStrike">
                  <a:solidFill>
                    <a:srgbClr val="800080"/>
                  </a:solidFill>
                  <a:latin typeface="Times New Roman"/>
                  <a:ea typeface="宋体"/>
                </a:rPr>
                <a:t>b</a:t>
              </a:r>
              <a:r>
                <a:rPr b="1" lang="en-US" sz="5400" spc="-1" strike="noStrike">
                  <a:solidFill>
                    <a:srgbClr val="800080"/>
                  </a:solidFill>
                  <a:latin typeface="Century Gothic"/>
                  <a:ea typeface="宋体"/>
                </a:rPr>
                <a:t>á</a:t>
              </a:r>
              <a:r>
                <a:rPr b="1" lang="en-US" sz="5400" spc="-1" strike="noStrike">
                  <a:solidFill>
                    <a:srgbClr val="800080"/>
                  </a:solidFill>
                  <a:latin typeface="Times New Roman"/>
                  <a:ea typeface="宋体"/>
                </a:rPr>
                <a:t> shè</a:t>
              </a:r>
              <a:endParaRPr b="1" lang="en-US" sz="5400" spc="-1" strike="noStrike">
                <a:solidFill>
                  <a:srgbClr val="ff33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800080"/>
                  </a:solidFill>
                  <a:latin typeface="Times New Roman"/>
                  <a:ea typeface="宋体"/>
                </a:rPr>
                <a:t>　</a:t>
              </a:r>
              <a:endParaRPr b="1" lang="en-US" sz="5400" spc="-1" strike="noStrike">
                <a:solidFill>
                  <a:srgbClr val="ff33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ff33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800080"/>
                  </a:solidFill>
                  <a:latin typeface="Times New Roman"/>
                  <a:ea typeface="宋体"/>
                </a:rPr>
                <a:t> </a:t>
              </a:r>
              <a:r>
                <a:rPr b="1" lang="en-US" sz="5400" spc="-1" strike="noStrike">
                  <a:solidFill>
                    <a:srgbClr val="800080"/>
                  </a:solidFill>
                  <a:latin typeface="Times New Roman"/>
                  <a:ea typeface="宋体"/>
                </a:rPr>
                <a:t>bīn       fù           xiān</a:t>
              </a:r>
              <a:r>
                <a:rPr b="0" lang="en-US" sz="5400" spc="-1" strike="noStrike">
                  <a:solidFill>
                    <a:srgbClr val="800080"/>
                  </a:solidFill>
                  <a:latin typeface="Arial"/>
                  <a:ea typeface="宋体"/>
                </a:rPr>
                <a:t>g  </a:t>
              </a:r>
              <a:endParaRPr b="1" lang="en-US" sz="5400" spc="-1" strike="noStrike">
                <a:solidFill>
                  <a:srgbClr val="ff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800080"/>
                  </a:solidFill>
                  <a:latin typeface="Arial"/>
                  <a:ea typeface="宋体"/>
                </a:rPr>
                <a:t>                         </a:t>
              </a:r>
              <a:r>
                <a:rPr b="1" lang="zh-CN" sz="5400" spc="-1" strike="noStrike">
                  <a:solidFill>
                    <a:srgbClr val="800080"/>
                  </a:solidFill>
                  <a:latin typeface="Times New Roman"/>
                </a:rPr>
                <a:t>车厢</a:t>
              </a:r>
              <a:endParaRPr b="1" lang="en-US" sz="5400" spc="-1" strike="noStrike">
                <a:solidFill>
                  <a:srgbClr val="ff33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80"/>
                  </a:solidFill>
                  <a:latin typeface="Times New Roman"/>
                  <a:ea typeface="宋体"/>
                </a:rPr>
                <a:t>　　　　　　　　</a:t>
              </a:r>
              <a:endParaRPr b="1" lang="en-US" sz="2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026"/>
          <p:cNvGrpSpPr/>
          <p:nvPr/>
        </p:nvGrpSpPr>
        <p:grpSpPr>
          <a:xfrm>
            <a:off x="1143000" y="1523880"/>
            <a:ext cx="7618320" cy="4996080"/>
            <a:chOff x="1143000" y="1523880"/>
            <a:chExt cx="7618320" cy="4996080"/>
          </a:xfrm>
        </p:grpSpPr>
        <p:sp>
          <p:nvSpPr>
            <p:cNvPr id="96" name="Rectangle 1027"/>
            <p:cNvSpPr/>
            <p:nvPr/>
          </p:nvSpPr>
          <p:spPr>
            <a:xfrm>
              <a:off x="1143000" y="1595520"/>
              <a:ext cx="7618320" cy="492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3300"/>
                </a:solidFill>
                <a:latin typeface="Times New Roman"/>
              </a:endParaRPr>
            </a:p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800080"/>
                  </a:solidFill>
                  <a:latin typeface="Times New Roman"/>
                </a:rPr>
                <a:t>　　跋涉      车厢 </a:t>
              </a:r>
              <a:endParaRPr b="1" lang="en-US" sz="5400" spc="-1" strike="noStrike">
                <a:solidFill>
                  <a:srgbClr val="ff3300"/>
                </a:solidFill>
                <a:latin typeface="Times New Roman"/>
              </a:endParaRPr>
            </a:p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800080"/>
                  </a:solidFill>
                  <a:latin typeface="Times New Roman"/>
                </a:rPr>
                <a:t>    </a:t>
              </a:r>
              <a:r>
                <a:rPr b="1" lang="zh-CN" sz="5400" spc="-1" strike="noStrike">
                  <a:solidFill>
                    <a:srgbClr val="800080"/>
                  </a:solidFill>
                  <a:latin typeface="Times New Roman"/>
                </a:rPr>
                <a:t>濒临    骤然   覆盖</a:t>
              </a:r>
              <a:endParaRPr b="1" lang="en-US" sz="5400" spc="-1" strike="noStrike">
                <a:solidFill>
                  <a:srgbClr val="ff3300"/>
                </a:solidFill>
                <a:latin typeface="Times New Roman"/>
              </a:endParaRPr>
            </a:p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ff33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80"/>
                  </a:solidFill>
                  <a:latin typeface="Times New Roman"/>
                </a:rPr>
                <a:t>　　　　　　　</a:t>
              </a:r>
              <a:endParaRPr b="1" lang="en-US" sz="2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97" name="Rectangle 1028"/>
            <p:cNvSpPr/>
            <p:nvPr/>
          </p:nvSpPr>
          <p:spPr>
            <a:xfrm>
              <a:off x="1560600" y="1523880"/>
              <a:ext cx="7188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1219320" y="2971800"/>
            <a:ext cx="723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　　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990720" y="1905120"/>
            <a:ext cx="761976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Times New Roman"/>
                <a:ea typeface="宋体"/>
              </a:rPr>
              <a:t>    </a:t>
            </a:r>
            <a:r>
              <a:rPr b="1" lang="zh-CN" sz="5400" spc="-1" strike="noStrike">
                <a:solidFill>
                  <a:srgbClr val="800080"/>
                </a:solidFill>
                <a:latin typeface="Times New Roman"/>
                <a:ea typeface="宋体"/>
              </a:rPr>
              <a:t>欧洲    瑞士    舒适 </a:t>
            </a:r>
            <a:endParaRPr b="1" lang="en-US" sz="54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80"/>
                </a:solidFill>
                <a:latin typeface="Times New Roman"/>
                <a:ea typeface="宋体"/>
              </a:rPr>
              <a:t>    </a:t>
            </a:r>
            <a:r>
              <a:rPr b="1" lang="zh-CN" sz="5400" spc="-1" strike="noStrike">
                <a:solidFill>
                  <a:srgbClr val="800080"/>
                </a:solidFill>
                <a:latin typeface="Times New Roman"/>
                <a:ea typeface="宋体"/>
              </a:rPr>
              <a:t>启程    特殊    骤降</a:t>
            </a:r>
            <a:endParaRPr b="1" lang="en-US" sz="54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80"/>
                </a:solidFill>
                <a:latin typeface="Times New Roman"/>
                <a:ea typeface="宋体"/>
              </a:rPr>
              <a:t>疲劳    政府    饥寒交迫</a:t>
            </a:r>
            <a:r>
              <a:rPr b="1" lang="zh-CN" sz="54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1219320" y="2971800"/>
            <a:ext cx="723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　　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1219320" y="4610160"/>
            <a:ext cx="723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　　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219320" y="510552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　　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838080" y="1295280"/>
            <a:ext cx="7620120" cy="48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事情是这样的：这年春天，成千上万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只燕子从南方飞回北方时，在瑞士境内遇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到了麻烦。当地气温骤降，风雪不止，几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乎所有昆虫都被冻死了。燕子经过长途跋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涉，已经非常疲劳，再加上找不到食物，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饥寒交迫，濒临死亡。瑞士政府知道了这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个情况，决定用火车把这些燕子送到温暖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的地方。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4" name="AutoShape 10">
            <a:hlinkClick r:id="rId1" action="ppaction://hlinksldjump"/>
          </p:cNvPr>
          <p:cNvSpPr/>
          <p:nvPr/>
        </p:nvSpPr>
        <p:spPr>
          <a:xfrm>
            <a:off x="7010280" y="5867280"/>
            <a:ext cx="2133720" cy="990720"/>
          </a:xfrm>
          <a:custGeom>
            <a:avLst/>
            <a:gdLst>
              <a:gd name="textAreaLeft" fmla="*/ 64080 w 2133720"/>
              <a:gd name="textAreaRight" fmla="*/ 2069640 w 2133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6511" h="21600">
                <a:moveTo>
                  <a:pt x="0" y="0"/>
                </a:moveTo>
                <a:lnTo>
                  <a:pt x="46511" y="0"/>
                </a:lnTo>
                <a:lnTo>
                  <a:pt x="46511" y="21600"/>
                </a:lnTo>
                <a:lnTo>
                  <a:pt x="0" y="21600"/>
                </a:lnTo>
                <a:close/>
              </a:path>
              <a:path fill="lightenLess" w="46511" h="21600">
                <a:moveTo>
                  <a:pt x="0" y="0"/>
                </a:moveTo>
                <a:lnTo>
                  <a:pt x="46511" y="0"/>
                </a:lnTo>
                <a:lnTo>
                  <a:pt x="45111" y="1400"/>
                </a:lnTo>
                <a:lnTo>
                  <a:pt x="1400" y="1400"/>
                </a:lnTo>
                <a:close/>
              </a:path>
              <a:path fill="darken" w="46511" h="21600">
                <a:moveTo>
                  <a:pt x="46511" y="0"/>
                </a:moveTo>
                <a:lnTo>
                  <a:pt x="46511" y="21600"/>
                </a:lnTo>
                <a:lnTo>
                  <a:pt x="45111" y="20200"/>
                </a:lnTo>
                <a:lnTo>
                  <a:pt x="45111" y="1400"/>
                </a:lnTo>
                <a:close/>
              </a:path>
              <a:path fill="darkenLess" w="46511" h="21600">
                <a:moveTo>
                  <a:pt x="46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11" y="20200"/>
                </a:lnTo>
                <a:close/>
              </a:path>
              <a:path fill="lighten" w="46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511" h="21600">
                <a:moveTo>
                  <a:pt x="16249" y="10800"/>
                </a:moveTo>
                <a:lnTo>
                  <a:pt x="30262" y="3794"/>
                </a:lnTo>
                <a:lnTo>
                  <a:pt x="3026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5" name="AutoShape 11">
            <a:hlinkClick r:id="rId2" action="ppaction://hlinksldjump"/>
          </p:cNvPr>
          <p:cNvSpPr/>
          <p:nvPr/>
        </p:nvSpPr>
        <p:spPr>
          <a:xfrm>
            <a:off x="6553080" y="320040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6" name="AutoShape 12">
            <a:hlinkClick r:id="rId3" action="ppaction://hlinksldjump"/>
          </p:cNvPr>
          <p:cNvSpPr/>
          <p:nvPr/>
        </p:nvSpPr>
        <p:spPr>
          <a:xfrm>
            <a:off x="838080" y="4419720"/>
            <a:ext cx="1676520" cy="457200"/>
          </a:xfrm>
          <a:custGeom>
            <a:avLst/>
            <a:gdLst>
              <a:gd name="textAreaLeft" fmla="*/ 29520 w 1676520"/>
              <a:gd name="textAreaRight" fmla="*/ 1647000 w 1676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7760" y="1400"/>
                </a:lnTo>
                <a:lnTo>
                  <a:pt x="1400" y="140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7760" y="20200"/>
                </a:lnTo>
                <a:lnTo>
                  <a:pt x="77760" y="140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60" y="2020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7" name="AutoShape 14">
            <a:hlinkClick r:id="rId4" action="ppaction://hlinksldjump"/>
          </p:cNvPr>
          <p:cNvSpPr/>
          <p:nvPr/>
        </p:nvSpPr>
        <p:spPr>
          <a:xfrm>
            <a:off x="2971800" y="4419720"/>
            <a:ext cx="1905120" cy="457200"/>
          </a:xfrm>
          <a:custGeom>
            <a:avLst/>
            <a:gdLst>
              <a:gd name="textAreaLeft" fmla="*/ 29520 w 1905120"/>
              <a:gd name="textAreaRight" fmla="*/ 1875600 w 1905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9952" h="21600">
                <a:moveTo>
                  <a:pt x="0" y="0"/>
                </a:moveTo>
                <a:lnTo>
                  <a:pt x="89952" y="0"/>
                </a:lnTo>
                <a:lnTo>
                  <a:pt x="89952" y="21600"/>
                </a:lnTo>
                <a:lnTo>
                  <a:pt x="0" y="21600"/>
                </a:lnTo>
                <a:close/>
              </a:path>
              <a:path fill="lightenLess" w="89952" h="21600">
                <a:moveTo>
                  <a:pt x="0" y="0"/>
                </a:moveTo>
                <a:lnTo>
                  <a:pt x="89952" y="0"/>
                </a:lnTo>
                <a:lnTo>
                  <a:pt x="88552" y="1400"/>
                </a:lnTo>
                <a:lnTo>
                  <a:pt x="1400" y="1400"/>
                </a:lnTo>
                <a:close/>
              </a:path>
              <a:path fill="darken" w="89952" h="21600">
                <a:moveTo>
                  <a:pt x="89952" y="0"/>
                </a:moveTo>
                <a:lnTo>
                  <a:pt x="89952" y="21600"/>
                </a:lnTo>
                <a:lnTo>
                  <a:pt x="88552" y="20200"/>
                </a:lnTo>
                <a:lnTo>
                  <a:pt x="88552" y="1400"/>
                </a:lnTo>
                <a:close/>
              </a:path>
              <a:path fill="darkenLess" w="89952" h="21600">
                <a:moveTo>
                  <a:pt x="89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52" y="20200"/>
                </a:lnTo>
                <a:close/>
              </a:path>
              <a:path fill="lighten" w="89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8" name="AutoShape 15">
            <a:hlinkClick r:id="rId5" action="ppaction://hlinksldjump"/>
          </p:cNvPr>
          <p:cNvSpPr/>
          <p:nvPr/>
        </p:nvSpPr>
        <p:spPr>
          <a:xfrm>
            <a:off x="3962520" y="2590920"/>
            <a:ext cx="1676160" cy="457200"/>
          </a:xfrm>
          <a:custGeom>
            <a:avLst/>
            <a:gdLst>
              <a:gd name="textAreaLeft" fmla="*/ 29520 w 1676160"/>
              <a:gd name="textAreaRight" fmla="*/ 1646640 w 1676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43" h="21600">
                <a:moveTo>
                  <a:pt x="0" y="0"/>
                </a:moveTo>
                <a:lnTo>
                  <a:pt x="79143" y="0"/>
                </a:lnTo>
                <a:lnTo>
                  <a:pt x="79143" y="21600"/>
                </a:lnTo>
                <a:lnTo>
                  <a:pt x="0" y="21600"/>
                </a:lnTo>
                <a:close/>
              </a:path>
              <a:path fill="lightenLess" w="79143" h="21600">
                <a:moveTo>
                  <a:pt x="0" y="0"/>
                </a:moveTo>
                <a:lnTo>
                  <a:pt x="79143" y="0"/>
                </a:lnTo>
                <a:lnTo>
                  <a:pt x="77743" y="1400"/>
                </a:lnTo>
                <a:lnTo>
                  <a:pt x="1400" y="1400"/>
                </a:lnTo>
                <a:close/>
              </a:path>
              <a:path fill="darken" w="79143" h="21600">
                <a:moveTo>
                  <a:pt x="79143" y="0"/>
                </a:moveTo>
                <a:lnTo>
                  <a:pt x="79143" y="21600"/>
                </a:lnTo>
                <a:lnTo>
                  <a:pt x="77743" y="20200"/>
                </a:lnTo>
                <a:lnTo>
                  <a:pt x="77743" y="1400"/>
                </a:lnTo>
                <a:close/>
              </a:path>
              <a:path fill="darkenLess" w="79143" h="21600">
                <a:moveTo>
                  <a:pt x="79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43" y="20200"/>
                </a:lnTo>
                <a:close/>
              </a:path>
              <a:path fill="lighten" w="79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900000" y="765000"/>
            <a:ext cx="7559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宋体"/>
              </a:rPr>
              <a:t>       </a:t>
            </a:r>
            <a:r>
              <a:rPr b="1" lang="zh-CN" sz="4800" spc="-1" strike="noStrike">
                <a:solidFill>
                  <a:srgbClr val="800080"/>
                </a:solidFill>
                <a:latin typeface="Arial"/>
                <a:ea typeface="隶书"/>
              </a:rPr>
              <a:t>当地　　　　，风雪不止，几乎所有昆虫都被冻死了。燕子经过　　　　，已经非常疲劳，再加上找不到食物，               ，          。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132000" y="765000"/>
            <a:ext cx="26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Arial"/>
                <a:ea typeface="隶书"/>
              </a:rPr>
              <a:t>气温骤降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132000" y="0"/>
            <a:ext cx="180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4572000" y="2205000"/>
            <a:ext cx="26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Arial"/>
                <a:ea typeface="隶书"/>
              </a:rPr>
              <a:t>长途跋涉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2372040" y="3716280"/>
            <a:ext cx="288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Arial"/>
                <a:ea typeface="隶书"/>
              </a:rPr>
              <a:t>  </a:t>
            </a:r>
            <a:r>
              <a:rPr b="1" lang="zh-CN" sz="4800" spc="-1" strike="noStrike">
                <a:solidFill>
                  <a:srgbClr val="800080"/>
                </a:solidFill>
                <a:latin typeface="Arial"/>
                <a:ea typeface="隶书"/>
              </a:rPr>
              <a:t>饥寒交迫 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6004440" y="36450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Arial"/>
                <a:ea typeface="隶书"/>
              </a:rPr>
              <a:t>濒临死亡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1219320" y="2971800"/>
            <a:ext cx="723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　　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219320" y="4610160"/>
            <a:ext cx="723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　　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219320" y="510552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　　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838080" y="1295280"/>
            <a:ext cx="7620120" cy="48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事情是这样的：这年春天，成千上万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只燕子从南方飞回北方时，在瑞士境内遇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到了麻烦。当地气温骤降，风雪不止，几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乎所有昆虫都被冻死了。燕子经过长途跋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涉，已经非常疲劳，再加上找不到食物，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饥寒交迫，濒临死亡。瑞士政府知道了这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个情况，决定用火车把这些燕子送到温暖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的地方。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19" name="AutoShape 7">
            <a:hlinkClick r:id="rId1" action="ppaction://hlinksldjump"/>
          </p:cNvPr>
          <p:cNvSpPr/>
          <p:nvPr/>
        </p:nvSpPr>
        <p:spPr>
          <a:xfrm>
            <a:off x="609480" y="426708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20" name="AutoShape 8">
            <a:hlinkClick r:id="rId2" action="ppaction://hlinksldjump"/>
          </p:cNvPr>
          <p:cNvSpPr/>
          <p:nvPr/>
        </p:nvSpPr>
        <p:spPr>
          <a:xfrm>
            <a:off x="2438280" y="4952880"/>
            <a:ext cx="1676520" cy="457200"/>
          </a:xfrm>
          <a:custGeom>
            <a:avLst/>
            <a:gdLst>
              <a:gd name="textAreaLeft" fmla="*/ 29520 w 1676520"/>
              <a:gd name="textAreaRight" fmla="*/ 1647000 w 1676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7760" y="1400"/>
                </a:lnTo>
                <a:lnTo>
                  <a:pt x="1400" y="140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7760" y="20200"/>
                </a:lnTo>
                <a:lnTo>
                  <a:pt x="77760" y="140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60" y="2020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21" name="AutoShape 9">
            <a:hlinkClick r:id="rId3" action="ppaction://hlinksldjump"/>
          </p:cNvPr>
          <p:cNvSpPr/>
          <p:nvPr/>
        </p:nvSpPr>
        <p:spPr>
          <a:xfrm>
            <a:off x="2895480" y="2895480"/>
            <a:ext cx="1752840" cy="457200"/>
          </a:xfrm>
          <a:custGeom>
            <a:avLst/>
            <a:gdLst>
              <a:gd name="textAreaLeft" fmla="*/ 29520 w 1752840"/>
              <a:gd name="textAreaRight" fmla="*/ 1723320 w 1752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1363" y="1400"/>
                </a:lnTo>
                <a:lnTo>
                  <a:pt x="1400" y="140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1363" y="20200"/>
                </a:lnTo>
                <a:lnTo>
                  <a:pt x="81363" y="140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63" y="2020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22" name="AutoShape 10">
            <a:hlinkClick r:id="rId4" action="ppaction://hlinksldjump"/>
          </p:cNvPr>
          <p:cNvSpPr/>
          <p:nvPr/>
        </p:nvSpPr>
        <p:spPr>
          <a:xfrm>
            <a:off x="4648320" y="4952880"/>
            <a:ext cx="1904760" cy="457200"/>
          </a:xfrm>
          <a:custGeom>
            <a:avLst/>
            <a:gdLst>
              <a:gd name="textAreaLeft" fmla="*/ 29520 w 1904760"/>
              <a:gd name="textAreaRight" fmla="*/ 1875240 w 1904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9935" h="21600">
                <a:moveTo>
                  <a:pt x="0" y="0"/>
                </a:moveTo>
                <a:lnTo>
                  <a:pt x="89935" y="0"/>
                </a:lnTo>
                <a:lnTo>
                  <a:pt x="89935" y="21600"/>
                </a:lnTo>
                <a:lnTo>
                  <a:pt x="0" y="21600"/>
                </a:lnTo>
                <a:close/>
              </a:path>
              <a:path fill="lightenLess" w="89935" h="21600">
                <a:moveTo>
                  <a:pt x="0" y="0"/>
                </a:moveTo>
                <a:lnTo>
                  <a:pt x="89935" y="0"/>
                </a:lnTo>
                <a:lnTo>
                  <a:pt x="88535" y="1400"/>
                </a:lnTo>
                <a:lnTo>
                  <a:pt x="1400" y="1400"/>
                </a:lnTo>
                <a:close/>
              </a:path>
              <a:path fill="darken" w="89935" h="21600">
                <a:moveTo>
                  <a:pt x="89935" y="0"/>
                </a:moveTo>
                <a:lnTo>
                  <a:pt x="89935" y="21600"/>
                </a:lnTo>
                <a:lnTo>
                  <a:pt x="88535" y="20200"/>
                </a:lnTo>
                <a:lnTo>
                  <a:pt x="88535" y="1400"/>
                </a:lnTo>
                <a:close/>
              </a:path>
              <a:path fill="darkenLess" w="89935" h="21600">
                <a:moveTo>
                  <a:pt x="89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35" y="20200"/>
                </a:lnTo>
                <a:close/>
              </a:path>
              <a:path fill="lighten" w="89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23" name="AutoShape 14">
            <a:hlinkClick r:id="rId5" action="ppaction://hlinksldjump"/>
          </p:cNvPr>
          <p:cNvSpPr/>
          <p:nvPr/>
        </p:nvSpPr>
        <p:spPr>
          <a:xfrm>
            <a:off x="6934320" y="5715000"/>
            <a:ext cx="2209680" cy="1143000"/>
          </a:xfrm>
          <a:custGeom>
            <a:avLst/>
            <a:gdLst>
              <a:gd name="textAreaLeft" fmla="*/ 73800 w 2209680"/>
              <a:gd name="textAreaRight" fmla="*/ 2135880 w 22096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41751" h="21600">
                <a:moveTo>
                  <a:pt x="0" y="0"/>
                </a:moveTo>
                <a:lnTo>
                  <a:pt x="41751" y="0"/>
                </a:lnTo>
                <a:lnTo>
                  <a:pt x="41751" y="21600"/>
                </a:lnTo>
                <a:lnTo>
                  <a:pt x="0" y="21600"/>
                </a:lnTo>
                <a:close/>
              </a:path>
              <a:path fill="lightenLess" w="41751" h="21600">
                <a:moveTo>
                  <a:pt x="0" y="0"/>
                </a:moveTo>
                <a:lnTo>
                  <a:pt x="41751" y="0"/>
                </a:lnTo>
                <a:lnTo>
                  <a:pt x="40351" y="1400"/>
                </a:lnTo>
                <a:lnTo>
                  <a:pt x="1400" y="1400"/>
                </a:lnTo>
                <a:close/>
              </a:path>
              <a:path fill="darken" w="41751" h="21600">
                <a:moveTo>
                  <a:pt x="41751" y="0"/>
                </a:moveTo>
                <a:lnTo>
                  <a:pt x="41751" y="21600"/>
                </a:lnTo>
                <a:lnTo>
                  <a:pt x="40351" y="20200"/>
                </a:lnTo>
                <a:lnTo>
                  <a:pt x="40351" y="1400"/>
                </a:lnTo>
                <a:close/>
              </a:path>
              <a:path fill="darkenLess" w="41751" h="21600">
                <a:moveTo>
                  <a:pt x="417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51" y="20200"/>
                </a:lnTo>
                <a:close/>
              </a:path>
              <a:path fill="lighten" w="417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751" h="21600">
                <a:moveTo>
                  <a:pt x="13869" y="10800"/>
                </a:moveTo>
                <a:lnTo>
                  <a:pt x="27882" y="3794"/>
                </a:lnTo>
                <a:lnTo>
                  <a:pt x="2788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3581280" y="2209680"/>
            <a:ext cx="2527560" cy="13096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Times New Roman"/>
              </a:rPr>
              <a:t>骤 降</a:t>
            </a:r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1219320" y="2971800"/>
            <a:ext cx="723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　　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1219320" y="4610160"/>
            <a:ext cx="723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　　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219320" y="510552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　　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838080" y="1295280"/>
            <a:ext cx="7620120" cy="48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事情是这样的：这年春天，成千上万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只燕子从南方飞回北方时，在瑞士境内遇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到了麻烦。当地气温骤降，风雪不止，几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乎所有昆虫都被冻死了。燕子经过长途跋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涉，已经非常疲劳，再加上找不到食物，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饥寒交迫，濒临死亡。瑞士政府知道了这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个情况，决定用火车把这些燕子送到温暖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的地方。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29" name="AutoShape 7">
            <a:hlinkClick r:id="rId1" action="ppaction://hlinksldjump"/>
          </p:cNvPr>
          <p:cNvSpPr/>
          <p:nvPr/>
        </p:nvSpPr>
        <p:spPr>
          <a:xfrm>
            <a:off x="609480" y="426708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30" name="AutoShape 8">
            <a:hlinkClick r:id="rId2" action="ppaction://hlinksldjump"/>
          </p:cNvPr>
          <p:cNvSpPr/>
          <p:nvPr/>
        </p:nvSpPr>
        <p:spPr>
          <a:xfrm>
            <a:off x="2438280" y="4952880"/>
            <a:ext cx="1676520" cy="457200"/>
          </a:xfrm>
          <a:custGeom>
            <a:avLst/>
            <a:gdLst>
              <a:gd name="textAreaLeft" fmla="*/ 29520 w 1676520"/>
              <a:gd name="textAreaRight" fmla="*/ 1647000 w 1676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7760" y="1400"/>
                </a:lnTo>
                <a:lnTo>
                  <a:pt x="1400" y="140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7760" y="20200"/>
                </a:lnTo>
                <a:lnTo>
                  <a:pt x="77760" y="140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60" y="2020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31" name="AutoShape 9"/>
          <p:cNvSpPr/>
          <p:nvPr/>
        </p:nvSpPr>
        <p:spPr>
          <a:xfrm>
            <a:off x="2895480" y="2895480"/>
            <a:ext cx="1752840" cy="457200"/>
          </a:xfrm>
          <a:custGeom>
            <a:avLst/>
            <a:gdLst>
              <a:gd name="textAreaLeft" fmla="*/ 29520 w 1752840"/>
              <a:gd name="textAreaRight" fmla="*/ 1723320 w 1752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1363" y="1400"/>
                </a:lnTo>
                <a:lnTo>
                  <a:pt x="1400" y="140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1363" y="20200"/>
                </a:lnTo>
                <a:lnTo>
                  <a:pt x="81363" y="140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63" y="2020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32" name="AutoShape 10"/>
          <p:cNvSpPr/>
          <p:nvPr/>
        </p:nvSpPr>
        <p:spPr>
          <a:xfrm>
            <a:off x="4648320" y="4952880"/>
            <a:ext cx="1904760" cy="457200"/>
          </a:xfrm>
          <a:custGeom>
            <a:avLst/>
            <a:gdLst>
              <a:gd name="textAreaLeft" fmla="*/ 29520 w 1904760"/>
              <a:gd name="textAreaRight" fmla="*/ 1875240 w 1904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9935" h="21600">
                <a:moveTo>
                  <a:pt x="0" y="0"/>
                </a:moveTo>
                <a:lnTo>
                  <a:pt x="89935" y="0"/>
                </a:lnTo>
                <a:lnTo>
                  <a:pt x="89935" y="21600"/>
                </a:lnTo>
                <a:lnTo>
                  <a:pt x="0" y="21600"/>
                </a:lnTo>
                <a:close/>
              </a:path>
              <a:path fill="lightenLess" w="89935" h="21600">
                <a:moveTo>
                  <a:pt x="0" y="0"/>
                </a:moveTo>
                <a:lnTo>
                  <a:pt x="89935" y="0"/>
                </a:lnTo>
                <a:lnTo>
                  <a:pt x="88535" y="1400"/>
                </a:lnTo>
                <a:lnTo>
                  <a:pt x="1400" y="1400"/>
                </a:lnTo>
                <a:close/>
              </a:path>
              <a:path fill="darken" w="89935" h="21600">
                <a:moveTo>
                  <a:pt x="89935" y="0"/>
                </a:moveTo>
                <a:lnTo>
                  <a:pt x="89935" y="21600"/>
                </a:lnTo>
                <a:lnTo>
                  <a:pt x="88535" y="20200"/>
                </a:lnTo>
                <a:lnTo>
                  <a:pt x="88535" y="1400"/>
                </a:lnTo>
                <a:close/>
              </a:path>
              <a:path fill="darkenLess" w="89935" h="21600">
                <a:moveTo>
                  <a:pt x="89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35" y="20200"/>
                </a:lnTo>
                <a:close/>
              </a:path>
              <a:path fill="lighten" w="89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5105520" y="2819520"/>
            <a:ext cx="3240000" cy="16570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Times New Roman"/>
              </a:rPr>
              <a:t>长途跋涉</a:t>
            </a:r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34" name="AutoShape 12"/>
          <p:cNvSpPr/>
          <p:nvPr/>
        </p:nvSpPr>
        <p:spPr>
          <a:xfrm>
            <a:off x="7010280" y="5867280"/>
            <a:ext cx="2133720" cy="990720"/>
          </a:xfrm>
          <a:custGeom>
            <a:avLst/>
            <a:gdLst>
              <a:gd name="textAreaLeft" fmla="*/ 64080 w 2133720"/>
              <a:gd name="textAreaRight" fmla="*/ 2069640 w 2133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6511" h="21600">
                <a:moveTo>
                  <a:pt x="0" y="0"/>
                </a:moveTo>
                <a:lnTo>
                  <a:pt x="46511" y="0"/>
                </a:lnTo>
                <a:lnTo>
                  <a:pt x="46511" y="21600"/>
                </a:lnTo>
                <a:lnTo>
                  <a:pt x="0" y="21600"/>
                </a:lnTo>
                <a:close/>
              </a:path>
              <a:path fill="lightenLess" w="46511" h="21600">
                <a:moveTo>
                  <a:pt x="0" y="0"/>
                </a:moveTo>
                <a:lnTo>
                  <a:pt x="46511" y="0"/>
                </a:lnTo>
                <a:lnTo>
                  <a:pt x="45111" y="1400"/>
                </a:lnTo>
                <a:lnTo>
                  <a:pt x="1400" y="1400"/>
                </a:lnTo>
                <a:close/>
              </a:path>
              <a:path fill="darken" w="46511" h="21600">
                <a:moveTo>
                  <a:pt x="46511" y="0"/>
                </a:moveTo>
                <a:lnTo>
                  <a:pt x="46511" y="21600"/>
                </a:lnTo>
                <a:lnTo>
                  <a:pt x="45111" y="20200"/>
                </a:lnTo>
                <a:lnTo>
                  <a:pt x="45111" y="1400"/>
                </a:lnTo>
                <a:close/>
              </a:path>
              <a:path fill="darkenLess" w="46511" h="21600">
                <a:moveTo>
                  <a:pt x="46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11" y="20200"/>
                </a:lnTo>
                <a:close/>
              </a:path>
              <a:path fill="lighten" w="46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511" h="21600">
                <a:moveTo>
                  <a:pt x="16249" y="10800"/>
                </a:moveTo>
                <a:lnTo>
                  <a:pt x="30262" y="3794"/>
                </a:lnTo>
                <a:lnTo>
                  <a:pt x="3026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1219320" y="2971800"/>
            <a:ext cx="723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　　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1219320" y="4610160"/>
            <a:ext cx="723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　　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219320" y="510552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　　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838080" y="1295280"/>
            <a:ext cx="7620120" cy="48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事情是这样的：这年春天，成千上万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只燕子从南方飞回北方时，在瑞士境内遇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到了麻烦。当地气温骤降，风雪不止，几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乎所有昆虫都被冻死了。燕子经过长途跋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涉，已经非常疲劳，再加上找不到食物，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饥寒交迫，濒临死亡。瑞士政府知道了这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个情况，决定用火车把这些燕子送到温暖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的地方。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609480" y="426708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2438280" y="4952880"/>
            <a:ext cx="1676520" cy="457200"/>
          </a:xfrm>
          <a:custGeom>
            <a:avLst/>
            <a:gdLst>
              <a:gd name="textAreaLeft" fmla="*/ 29520 w 1676520"/>
              <a:gd name="textAreaRight" fmla="*/ 1647000 w 1676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7760" y="1400"/>
                </a:lnTo>
                <a:lnTo>
                  <a:pt x="1400" y="140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7760" y="20200"/>
                </a:lnTo>
                <a:lnTo>
                  <a:pt x="77760" y="140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60" y="2020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2895480" y="2895480"/>
            <a:ext cx="1752840" cy="457200"/>
          </a:xfrm>
          <a:custGeom>
            <a:avLst/>
            <a:gdLst>
              <a:gd name="textAreaLeft" fmla="*/ 29520 w 1752840"/>
              <a:gd name="textAreaRight" fmla="*/ 1723320 w 1752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1363" y="1400"/>
                </a:lnTo>
                <a:lnTo>
                  <a:pt x="1400" y="140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1363" y="20200"/>
                </a:lnTo>
                <a:lnTo>
                  <a:pt x="81363" y="140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63" y="2020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4648320" y="4952880"/>
            <a:ext cx="1904760" cy="457200"/>
          </a:xfrm>
          <a:custGeom>
            <a:avLst/>
            <a:gdLst>
              <a:gd name="textAreaLeft" fmla="*/ 29520 w 1904760"/>
              <a:gd name="textAreaRight" fmla="*/ 1875240 w 1904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9935" h="21600">
                <a:moveTo>
                  <a:pt x="0" y="0"/>
                </a:moveTo>
                <a:lnTo>
                  <a:pt x="89935" y="0"/>
                </a:lnTo>
                <a:lnTo>
                  <a:pt x="89935" y="21600"/>
                </a:lnTo>
                <a:lnTo>
                  <a:pt x="0" y="21600"/>
                </a:lnTo>
                <a:close/>
              </a:path>
              <a:path fill="lightenLess" w="89935" h="21600">
                <a:moveTo>
                  <a:pt x="0" y="0"/>
                </a:moveTo>
                <a:lnTo>
                  <a:pt x="89935" y="0"/>
                </a:lnTo>
                <a:lnTo>
                  <a:pt x="88535" y="1400"/>
                </a:lnTo>
                <a:lnTo>
                  <a:pt x="1400" y="1400"/>
                </a:lnTo>
                <a:close/>
              </a:path>
              <a:path fill="darken" w="89935" h="21600">
                <a:moveTo>
                  <a:pt x="89935" y="0"/>
                </a:moveTo>
                <a:lnTo>
                  <a:pt x="89935" y="21600"/>
                </a:lnTo>
                <a:lnTo>
                  <a:pt x="88535" y="20200"/>
                </a:lnTo>
                <a:lnTo>
                  <a:pt x="88535" y="1400"/>
                </a:lnTo>
                <a:close/>
              </a:path>
              <a:path fill="darkenLess" w="89935" h="21600">
                <a:moveTo>
                  <a:pt x="89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35" y="20200"/>
                </a:lnTo>
                <a:close/>
              </a:path>
              <a:path fill="lighten" w="89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990720" y="3733920"/>
            <a:ext cx="3240000" cy="16570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Times New Roman"/>
              </a:rPr>
              <a:t>饥寒交迫</a:t>
            </a:r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7010280" y="5867280"/>
            <a:ext cx="2133720" cy="990720"/>
          </a:xfrm>
          <a:custGeom>
            <a:avLst/>
            <a:gdLst>
              <a:gd name="textAreaLeft" fmla="*/ 64080 w 2133720"/>
              <a:gd name="textAreaRight" fmla="*/ 2069640 w 2133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6511" h="21600">
                <a:moveTo>
                  <a:pt x="0" y="0"/>
                </a:moveTo>
                <a:lnTo>
                  <a:pt x="46511" y="0"/>
                </a:lnTo>
                <a:lnTo>
                  <a:pt x="46511" y="21600"/>
                </a:lnTo>
                <a:lnTo>
                  <a:pt x="0" y="21600"/>
                </a:lnTo>
                <a:close/>
              </a:path>
              <a:path fill="lightenLess" w="46511" h="21600">
                <a:moveTo>
                  <a:pt x="0" y="0"/>
                </a:moveTo>
                <a:lnTo>
                  <a:pt x="46511" y="0"/>
                </a:lnTo>
                <a:lnTo>
                  <a:pt x="45111" y="1400"/>
                </a:lnTo>
                <a:lnTo>
                  <a:pt x="1400" y="1400"/>
                </a:lnTo>
                <a:close/>
              </a:path>
              <a:path fill="darken" w="46511" h="21600">
                <a:moveTo>
                  <a:pt x="46511" y="0"/>
                </a:moveTo>
                <a:lnTo>
                  <a:pt x="46511" y="21600"/>
                </a:lnTo>
                <a:lnTo>
                  <a:pt x="45111" y="20200"/>
                </a:lnTo>
                <a:lnTo>
                  <a:pt x="45111" y="1400"/>
                </a:lnTo>
                <a:close/>
              </a:path>
              <a:path fill="darkenLess" w="46511" h="21600">
                <a:moveTo>
                  <a:pt x="46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11" y="20200"/>
                </a:lnTo>
                <a:close/>
              </a:path>
              <a:path fill="lighten" w="46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511" h="21600">
                <a:moveTo>
                  <a:pt x="16249" y="10800"/>
                </a:moveTo>
                <a:lnTo>
                  <a:pt x="30262" y="3794"/>
                </a:lnTo>
                <a:lnTo>
                  <a:pt x="3026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瑞士03"/>
          <p:cNvPicPr/>
          <p:nvPr/>
        </p:nvPicPr>
        <p:blipFill>
          <a:blip r:embed="rId1"/>
          <a:stretch/>
        </p:blipFill>
        <p:spPr>
          <a:xfrm>
            <a:off x="1447920" y="1295280"/>
            <a:ext cx="6019560" cy="4496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20053251526370"/>
          <p:cNvPicPr/>
          <p:nvPr/>
        </p:nvPicPr>
        <p:blipFill>
          <a:blip r:embed="rId2"/>
          <a:stretch/>
        </p:blipFill>
        <p:spPr>
          <a:xfrm>
            <a:off x="1447920" y="1295280"/>
            <a:ext cx="6100560" cy="4577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20031119143145660"/>
          <p:cNvPicPr/>
          <p:nvPr/>
        </p:nvPicPr>
        <p:blipFill>
          <a:blip r:embed="rId3"/>
          <a:stretch/>
        </p:blipFill>
        <p:spPr>
          <a:xfrm>
            <a:off x="1447920" y="129528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20040323_downz_16"/>
          <p:cNvPicPr/>
          <p:nvPr/>
        </p:nvPicPr>
        <p:blipFill>
          <a:blip r:embed="rId4"/>
          <a:stretch/>
        </p:blipFill>
        <p:spPr>
          <a:xfrm>
            <a:off x="1447920" y="129528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20040323_downz_12"/>
          <p:cNvPicPr/>
          <p:nvPr/>
        </p:nvPicPr>
        <p:blipFill>
          <a:blip r:embed="rId5"/>
          <a:stretch/>
        </p:blipFill>
        <p:spPr>
          <a:xfrm>
            <a:off x="1447920" y="129528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ct"/>
          <p:cNvPicPr/>
          <p:nvPr/>
        </p:nvPicPr>
        <p:blipFill>
          <a:blip r:embed="rId6"/>
          <a:stretch/>
        </p:blipFill>
        <p:spPr>
          <a:xfrm>
            <a:off x="1447920" y="129528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2005022318453698c0b"/>
          <p:cNvPicPr/>
          <p:nvPr/>
        </p:nvPicPr>
        <p:blipFill>
          <a:blip r:embed="rId7"/>
          <a:stretch/>
        </p:blipFill>
        <p:spPr>
          <a:xfrm>
            <a:off x="1371600" y="1219320"/>
            <a:ext cx="6296040" cy="4814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2005611103338785"/>
          <p:cNvPicPr/>
          <p:nvPr/>
        </p:nvPicPr>
        <p:blipFill>
          <a:blip r:embed="rId8"/>
          <a:stretch/>
        </p:blipFill>
        <p:spPr>
          <a:xfrm>
            <a:off x="1371600" y="1219320"/>
            <a:ext cx="6400800" cy="4914720"/>
          </a:xfrm>
          <a:prstGeom prst="rect">
            <a:avLst/>
          </a:prstGeom>
          <a:ln w="0">
            <a:noFill/>
          </a:ln>
        </p:spPr>
      </p:pic>
      <p:pic>
        <p:nvPicPr>
          <p:cNvPr id="57" name="05牧场上的家.MP3" descr=""/>
          <p:cNvPicPr/>
          <p:nvPr/>
        </p:nvPicPr>
        <p:blipFill>
          <a:blip r:embed="rId9"/>
          <a:stretch/>
        </p:blipFill>
        <p:spPr>
          <a:xfrm>
            <a:off x="8459640" y="6173640"/>
            <a:ext cx="684360" cy="6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500"/>
                            </p:stCondLst>
                            <p:childTnLst>
                              <p:par>
                                <p:cTn id="35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219320" y="2971800"/>
            <a:ext cx="723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　　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1219320" y="4610160"/>
            <a:ext cx="723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　　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219320" y="510552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　　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838080" y="1295280"/>
            <a:ext cx="7620120" cy="48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事情是这样的：这年春天，成千上万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只燕子从南方飞回北方时，在瑞士境内遇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到了麻烦。当地气温骤降，风雪不止，几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乎所有昆虫都被冻死了。燕子经过长途跋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涉，已经非常疲劳，再加上找不到食物，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饥寒交迫，濒临死亡。瑞士政府知道了这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个情况，决定用火车把这些燕子送到温暖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的地方。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609480" y="426708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2438280" y="4952880"/>
            <a:ext cx="1676520" cy="457200"/>
          </a:xfrm>
          <a:custGeom>
            <a:avLst/>
            <a:gdLst>
              <a:gd name="textAreaLeft" fmla="*/ 29520 w 1676520"/>
              <a:gd name="textAreaRight" fmla="*/ 1647000 w 1676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7760" y="1400"/>
                </a:lnTo>
                <a:lnTo>
                  <a:pt x="1400" y="140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7760" y="20200"/>
                </a:lnTo>
                <a:lnTo>
                  <a:pt x="77760" y="140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60" y="2020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1" name="AutoShape 9"/>
          <p:cNvSpPr/>
          <p:nvPr/>
        </p:nvSpPr>
        <p:spPr>
          <a:xfrm>
            <a:off x="2895480" y="2895480"/>
            <a:ext cx="1752840" cy="457200"/>
          </a:xfrm>
          <a:custGeom>
            <a:avLst/>
            <a:gdLst>
              <a:gd name="textAreaLeft" fmla="*/ 29520 w 1752840"/>
              <a:gd name="textAreaRight" fmla="*/ 1723320 w 1752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1363" y="1400"/>
                </a:lnTo>
                <a:lnTo>
                  <a:pt x="1400" y="140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1363" y="20200"/>
                </a:lnTo>
                <a:lnTo>
                  <a:pt x="81363" y="140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63" y="2020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2" name="AutoShape 10"/>
          <p:cNvSpPr/>
          <p:nvPr/>
        </p:nvSpPr>
        <p:spPr>
          <a:xfrm>
            <a:off x="4648320" y="4952880"/>
            <a:ext cx="1904760" cy="457200"/>
          </a:xfrm>
          <a:custGeom>
            <a:avLst/>
            <a:gdLst>
              <a:gd name="textAreaLeft" fmla="*/ 29520 w 1904760"/>
              <a:gd name="textAreaRight" fmla="*/ 1875240 w 1904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9935" h="21600">
                <a:moveTo>
                  <a:pt x="0" y="0"/>
                </a:moveTo>
                <a:lnTo>
                  <a:pt x="89935" y="0"/>
                </a:lnTo>
                <a:lnTo>
                  <a:pt x="89935" y="21600"/>
                </a:lnTo>
                <a:lnTo>
                  <a:pt x="0" y="21600"/>
                </a:lnTo>
                <a:close/>
              </a:path>
              <a:path fill="lightenLess" w="89935" h="21600">
                <a:moveTo>
                  <a:pt x="0" y="0"/>
                </a:moveTo>
                <a:lnTo>
                  <a:pt x="89935" y="0"/>
                </a:lnTo>
                <a:lnTo>
                  <a:pt x="88535" y="1400"/>
                </a:lnTo>
                <a:lnTo>
                  <a:pt x="1400" y="1400"/>
                </a:lnTo>
                <a:close/>
              </a:path>
              <a:path fill="darken" w="89935" h="21600">
                <a:moveTo>
                  <a:pt x="89935" y="0"/>
                </a:moveTo>
                <a:lnTo>
                  <a:pt x="89935" y="21600"/>
                </a:lnTo>
                <a:lnTo>
                  <a:pt x="88535" y="20200"/>
                </a:lnTo>
                <a:lnTo>
                  <a:pt x="88535" y="1400"/>
                </a:lnTo>
                <a:close/>
              </a:path>
              <a:path fill="darkenLess" w="89935" h="21600">
                <a:moveTo>
                  <a:pt x="89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35" y="20200"/>
                </a:lnTo>
                <a:close/>
              </a:path>
              <a:path fill="lighten" w="89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2895480" y="3733920"/>
            <a:ext cx="3240360" cy="16570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Times New Roman"/>
              </a:rPr>
              <a:t>濒临死亡</a:t>
            </a:r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4" name="AutoShape 12"/>
          <p:cNvSpPr/>
          <p:nvPr/>
        </p:nvSpPr>
        <p:spPr>
          <a:xfrm>
            <a:off x="7010280" y="5867280"/>
            <a:ext cx="2133720" cy="990720"/>
          </a:xfrm>
          <a:custGeom>
            <a:avLst/>
            <a:gdLst>
              <a:gd name="textAreaLeft" fmla="*/ 64080 w 2133720"/>
              <a:gd name="textAreaRight" fmla="*/ 2069640 w 2133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6511" h="21600">
                <a:moveTo>
                  <a:pt x="0" y="0"/>
                </a:moveTo>
                <a:lnTo>
                  <a:pt x="46511" y="0"/>
                </a:lnTo>
                <a:lnTo>
                  <a:pt x="46511" y="21600"/>
                </a:lnTo>
                <a:lnTo>
                  <a:pt x="0" y="21600"/>
                </a:lnTo>
                <a:close/>
              </a:path>
              <a:path fill="lightenLess" w="46511" h="21600">
                <a:moveTo>
                  <a:pt x="0" y="0"/>
                </a:moveTo>
                <a:lnTo>
                  <a:pt x="46511" y="0"/>
                </a:lnTo>
                <a:lnTo>
                  <a:pt x="45111" y="1400"/>
                </a:lnTo>
                <a:lnTo>
                  <a:pt x="1400" y="1400"/>
                </a:lnTo>
                <a:close/>
              </a:path>
              <a:path fill="darken" w="46511" h="21600">
                <a:moveTo>
                  <a:pt x="46511" y="0"/>
                </a:moveTo>
                <a:lnTo>
                  <a:pt x="46511" y="21600"/>
                </a:lnTo>
                <a:lnTo>
                  <a:pt x="45111" y="20200"/>
                </a:lnTo>
                <a:lnTo>
                  <a:pt x="45111" y="1400"/>
                </a:lnTo>
                <a:close/>
              </a:path>
              <a:path fill="darkenLess" w="46511" h="21600">
                <a:moveTo>
                  <a:pt x="46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11" y="20200"/>
                </a:lnTo>
                <a:close/>
              </a:path>
              <a:path fill="lighten" w="46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511" h="21600">
                <a:moveTo>
                  <a:pt x="16249" y="10800"/>
                </a:moveTo>
                <a:lnTo>
                  <a:pt x="30262" y="3794"/>
                </a:lnTo>
                <a:lnTo>
                  <a:pt x="3026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1219320" y="2971800"/>
            <a:ext cx="723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　　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1219320" y="4610160"/>
            <a:ext cx="723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　　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219320" y="510552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　　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838080" y="1563840"/>
            <a:ext cx="762012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这年春天，成千上万只燕子从南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方飞回北方时，在瑞士境内遇到了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麻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烦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。当地气温骤降，风雪不止，几乎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所有昆虫都被冻死了。燕子经过长途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跋涉，已经非常疲劳，再加上找不到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食物，饥寒交迫，濒临死亡。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1219320" y="2971800"/>
            <a:ext cx="723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　　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1219320" y="4610160"/>
            <a:ext cx="723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　　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219320" y="510552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　　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838080" y="1563840"/>
            <a:ext cx="762012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这年春天，成千上万只燕子从南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方飞回北方时，在瑞士境内遇到了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麻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烦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当地气温骤降，风雪不止，几乎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所有昆虫都被冻死了。燕子经过长途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跋涉，已经非常疲劳，再加上找不到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食物，饥寒交迫，濒临死亡。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-4088520" y="3357720"/>
            <a:ext cx="1720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傍晚，小明在书桌旁学习。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傍晚，小明在书桌旁学习，（                     ）。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傍晚，小明在书桌旁学习，（                    ）。他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（                                                                             ）。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4071240" y="1052640"/>
            <a:ext cx="88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例：小红和琳琳去公园除草。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小红和琳琳在公园除草，特别仔细。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小红和琳琳在公园除草，特别仔细。她将枯黄的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枝叶一根根的捡起，小心翼翼的放进垃圾袋里。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755640" y="1125360"/>
            <a:ext cx="7345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80"/>
                </a:solidFill>
                <a:latin typeface="Arial"/>
                <a:ea typeface="隶书"/>
              </a:rPr>
              <a:t>        </a:t>
            </a:r>
            <a:r>
              <a:rPr b="0" lang="zh-CN" sz="4800" spc="-1" strike="noStrike">
                <a:solidFill>
                  <a:srgbClr val="800080"/>
                </a:solidFill>
                <a:latin typeface="楷体_GB2312"/>
              </a:rPr>
              <a:t>听到消息后，居民们 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00080"/>
                </a:solidFill>
                <a:latin typeface="楷体_GB2312"/>
              </a:rPr>
              <a:t>    </a:t>
            </a:r>
            <a:r>
              <a:rPr b="0" lang="zh-CN" sz="4800" spc="-1" strike="noStrike">
                <a:solidFill>
                  <a:srgbClr val="ff3300"/>
                </a:solidFill>
                <a:latin typeface="楷体_GB2312"/>
              </a:rPr>
              <a:t>走出</a:t>
            </a:r>
            <a:r>
              <a:rPr b="0" lang="zh-CN" sz="4800" spc="-1" strike="noStrike">
                <a:solidFill>
                  <a:srgbClr val="800080"/>
                </a:solidFill>
                <a:latin typeface="楷体_GB2312"/>
              </a:rPr>
              <a:t>家门，   料峭的春寒，   满天飞舞的大雪，   冻得坚硬的山路，             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00080"/>
                </a:solidFill>
                <a:latin typeface="楷体_GB2312"/>
              </a:rPr>
              <a:t>    </a:t>
            </a:r>
            <a:r>
              <a:rPr b="0" lang="zh-CN" sz="4800" spc="-1" strike="noStrike">
                <a:solidFill>
                  <a:srgbClr val="ff3300"/>
                </a:solidFill>
                <a:latin typeface="楷体_GB2312"/>
              </a:rPr>
              <a:t>寻找</a:t>
            </a:r>
            <a:r>
              <a:rPr b="0" lang="zh-CN" sz="4800" spc="-1" strike="noStrike">
                <a:solidFill>
                  <a:srgbClr val="800080"/>
                </a:solidFill>
                <a:latin typeface="楷体_GB2312"/>
              </a:rPr>
              <a:t>冻僵的燕子。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072440" y="1844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00080"/>
                </a:solidFill>
                <a:latin typeface="Arial"/>
                <a:ea typeface="隶书"/>
              </a:rPr>
              <a:t>纷纷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72440" y="4005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00080"/>
                </a:solidFill>
                <a:latin typeface="Arial"/>
                <a:ea typeface="隶书"/>
              </a:rPr>
              <a:t>四处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4961880" y="1844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冒着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2415960" y="256536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顶着</a:t>
            </a:r>
            <a:r>
              <a:rPr b="0" lang="zh-CN" sz="4800" spc="-1" strike="noStrike">
                <a:solidFill>
                  <a:srgbClr val="800080"/>
                </a:solidFill>
                <a:latin typeface="Arial"/>
                <a:ea typeface="隶书"/>
              </a:rPr>
              <a:t> 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619280" y="3284640"/>
            <a:ext cx="14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踏着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22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3"/>
          <p:cNvSpPr/>
          <p:nvPr/>
        </p:nvSpPr>
        <p:spPr>
          <a:xfrm>
            <a:off x="1887480" y="4083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1476360" y="2276640"/>
            <a:ext cx="201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24920" y="0"/>
            <a:ext cx="453636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  <a:ea typeface="隶书"/>
              </a:rPr>
              <a:t>        </a:t>
            </a:r>
            <a:r>
              <a:rPr b="0" lang="zh-CN" sz="4000" spc="-1" strike="noStrike">
                <a:solidFill>
                  <a:srgbClr val="800080"/>
                </a:solidFill>
                <a:latin typeface="Arial"/>
                <a:ea typeface="隶书"/>
              </a:rPr>
              <a:t>一个叫贝蒂的小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80"/>
                </a:solidFill>
                <a:latin typeface="Arial"/>
                <a:ea typeface="隶书"/>
              </a:rPr>
              <a:t>姑娘，听到广播后，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80"/>
                </a:solidFill>
                <a:latin typeface="Arial"/>
                <a:ea typeface="隶书"/>
              </a:rPr>
              <a:t>和爸爸妈妈一起，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80"/>
                </a:solidFill>
                <a:latin typeface="Arial"/>
                <a:ea typeface="隶书"/>
              </a:rPr>
              <a:t>在覆盖着皑皑白雪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80"/>
                </a:solidFill>
                <a:latin typeface="Arial"/>
                <a:ea typeface="隶书"/>
              </a:rPr>
              <a:t>的山间岩缝里，寻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80"/>
                </a:solidFill>
                <a:latin typeface="Arial"/>
                <a:ea typeface="隶书"/>
              </a:rPr>
              <a:t>找冻僵的燕子。一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80"/>
                </a:solidFill>
                <a:latin typeface="Arial"/>
                <a:ea typeface="隶书"/>
              </a:rPr>
              <a:t>天下来，她一个人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80"/>
                </a:solidFill>
                <a:latin typeface="Arial"/>
                <a:ea typeface="隶书"/>
              </a:rPr>
              <a:t>就救护了十几只燕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80"/>
                </a:solidFill>
                <a:latin typeface="Arial"/>
                <a:ea typeface="隶书"/>
              </a:rPr>
              <a:t>子。她的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80"/>
                </a:solidFill>
                <a:latin typeface="Arial"/>
                <a:ea typeface="隶书"/>
              </a:rPr>
              <a:t>但她一点也           。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2556000" y="6040440"/>
            <a:ext cx="170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80"/>
                </a:solidFill>
                <a:latin typeface="Arial"/>
                <a:ea typeface="隶书"/>
              </a:rPr>
              <a:t>不在乎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179280" y="4869000"/>
            <a:ext cx="424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  <a:ea typeface="隶书"/>
              </a:rPr>
              <a:t>           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脸冻得通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红，手冻得僵硬，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0" y="256536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列车开动了。载着燕子的列车，带着人类的友情驶向远方。燕子在车厢里 唧唧喳喳，仿佛在向人类致谢。                           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-1759320" y="1989000"/>
            <a:ext cx="127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我想对贝蒂说：“                                                      。” 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-1007640" y="3500280"/>
            <a:ext cx="112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我想对好心的人们说：“                                                。”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47640" y="1628280"/>
            <a:ext cx="73915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Times New Roman"/>
              </a:rPr>
              <a:t>连一连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舒适的                  客人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特殊的                  空调车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飞舞的                 大雪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料峭的                 燕子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冻僵的                 春寒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971640" y="1700280"/>
            <a:ext cx="576000" cy="718920"/>
          </a:xfrm>
          <a:prstGeom prst="smileyFace">
            <a:avLst>
              <a:gd name="adj" fmla="val 9282"/>
            </a:avLst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381720"/>
            <a:ext cx="1547640" cy="4762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背景图片"/>
          <p:cNvPicPr/>
          <p:nvPr/>
        </p:nvPicPr>
        <p:blipFill>
          <a:blip r:embed="rId1"/>
          <a:stretch/>
        </p:blipFill>
        <p:spPr>
          <a:xfrm>
            <a:off x="0" y="-171360"/>
            <a:ext cx="9372600" cy="7029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空调列车光"/>
          <p:cNvPicPr/>
          <p:nvPr/>
        </p:nvPicPr>
        <p:blipFill>
          <a:blip r:embed="rId2"/>
          <a:stretch/>
        </p:blipFill>
        <p:spPr>
          <a:xfrm>
            <a:off x="1258920" y="1773360"/>
            <a:ext cx="727380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同义词  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特殊</a:t>
            </a: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特别   疲劳</a:t>
            </a: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劳累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     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反义词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温暖</a:t>
            </a: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寒冷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6381720"/>
            <a:ext cx="1547640" cy="4762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76320" y="2266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欧洲  东欧                  亚洲  非洲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欧元  西欧            </a:t>
            </a: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 五洲四海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grpSp>
        <p:nvGrpSpPr>
          <p:cNvPr id="190" name="Group 4"/>
          <p:cNvGrpSpPr/>
          <p:nvPr/>
        </p:nvGrpSpPr>
        <p:grpSpPr>
          <a:xfrm>
            <a:off x="611280" y="1027080"/>
            <a:ext cx="7952400" cy="3468240"/>
            <a:chOff x="611280" y="1027080"/>
            <a:chExt cx="7952400" cy="3468240"/>
          </a:xfrm>
        </p:grpSpPr>
        <p:grpSp>
          <p:nvGrpSpPr>
            <p:cNvPr id="191" name="Group 5"/>
            <p:cNvGrpSpPr/>
            <p:nvPr/>
          </p:nvGrpSpPr>
          <p:grpSpPr>
            <a:xfrm>
              <a:off x="611280" y="1376280"/>
              <a:ext cx="3456720" cy="3119040"/>
              <a:chOff x="611280" y="1376280"/>
              <a:chExt cx="3456720" cy="3119040"/>
            </a:xfrm>
          </p:grpSpPr>
          <p:sp>
            <p:nvSpPr>
              <p:cNvPr id="192" name="Rectangle 6"/>
              <p:cNvSpPr/>
              <p:nvPr/>
            </p:nvSpPr>
            <p:spPr>
              <a:xfrm>
                <a:off x="611280" y="1376280"/>
                <a:ext cx="3456720" cy="311904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3" name="Line 7"/>
              <p:cNvSpPr/>
              <p:nvPr/>
            </p:nvSpPr>
            <p:spPr>
              <a:xfrm>
                <a:off x="2338560" y="1508040"/>
                <a:ext cx="0" cy="2986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4" name="Line 8"/>
              <p:cNvSpPr/>
              <p:nvPr/>
            </p:nvSpPr>
            <p:spPr>
              <a:xfrm>
                <a:off x="743400" y="2936880"/>
                <a:ext cx="319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Text Box 9"/>
            <p:cNvSpPr/>
            <p:nvPr/>
          </p:nvSpPr>
          <p:spPr>
            <a:xfrm>
              <a:off x="828360" y="1027080"/>
              <a:ext cx="3276360" cy="34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0" spc="-1" strike="noStrike">
                  <a:solidFill>
                    <a:srgbClr val="ff0000"/>
                  </a:solidFill>
                  <a:latin typeface="Arial"/>
                </a:rPr>
                <a:t>欧</a:t>
              </a:r>
              <a:endParaRPr b="1" lang="en-US" sz="22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96" name="Text Box 10"/>
            <p:cNvSpPr/>
            <p:nvPr/>
          </p:nvSpPr>
          <p:spPr>
            <a:xfrm>
              <a:off x="5395680" y="1027080"/>
              <a:ext cx="2908080" cy="34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0" spc="-1" strike="noStrike">
                  <a:solidFill>
                    <a:srgbClr val="ff0000"/>
                  </a:solidFill>
                  <a:latin typeface="Arial"/>
                </a:rPr>
                <a:t>洲</a:t>
              </a:r>
              <a:endParaRPr b="1" lang="en-US" sz="22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197" name="Group 11"/>
            <p:cNvGrpSpPr/>
            <p:nvPr/>
          </p:nvGrpSpPr>
          <p:grpSpPr>
            <a:xfrm>
              <a:off x="5106600" y="1315800"/>
              <a:ext cx="3457080" cy="3119040"/>
              <a:chOff x="5106600" y="1315800"/>
              <a:chExt cx="3457080" cy="3119040"/>
            </a:xfrm>
          </p:grpSpPr>
          <p:sp>
            <p:nvSpPr>
              <p:cNvPr id="198" name="Rectangle 12"/>
              <p:cNvSpPr/>
              <p:nvPr/>
            </p:nvSpPr>
            <p:spPr>
              <a:xfrm>
                <a:off x="5106600" y="1315800"/>
                <a:ext cx="3457080" cy="311904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9" name="Line 13"/>
              <p:cNvSpPr/>
              <p:nvPr/>
            </p:nvSpPr>
            <p:spPr>
              <a:xfrm>
                <a:off x="6833880" y="1447560"/>
                <a:ext cx="0" cy="2986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00" name="Line 14"/>
              <p:cNvSpPr/>
              <p:nvPr/>
            </p:nvSpPr>
            <p:spPr>
              <a:xfrm>
                <a:off x="5238720" y="2876400"/>
                <a:ext cx="3192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" name="Rectangle 15"/>
          <p:cNvSpPr/>
          <p:nvPr/>
        </p:nvSpPr>
        <p:spPr>
          <a:xfrm>
            <a:off x="0" y="6381720"/>
            <a:ext cx="1547640" cy="4762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47600" y="2266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瑞典  瑞士                   士兵   士气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瑞雪  祥瑞                   战士  勇士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grpSp>
        <p:nvGrpSpPr>
          <p:cNvPr id="204" name="Group 4"/>
          <p:cNvGrpSpPr/>
          <p:nvPr/>
        </p:nvGrpSpPr>
        <p:grpSpPr>
          <a:xfrm>
            <a:off x="581040" y="1027080"/>
            <a:ext cx="7953120" cy="3468240"/>
            <a:chOff x="581040" y="1027080"/>
            <a:chExt cx="7953120" cy="3468240"/>
          </a:xfrm>
        </p:grpSpPr>
        <p:grpSp>
          <p:nvGrpSpPr>
            <p:cNvPr id="205" name="Group 5"/>
            <p:cNvGrpSpPr/>
            <p:nvPr/>
          </p:nvGrpSpPr>
          <p:grpSpPr>
            <a:xfrm>
              <a:off x="581040" y="1376280"/>
              <a:ext cx="3457080" cy="3119040"/>
              <a:chOff x="581040" y="1376280"/>
              <a:chExt cx="3457080" cy="3119040"/>
            </a:xfrm>
          </p:grpSpPr>
          <p:sp>
            <p:nvSpPr>
              <p:cNvPr id="206" name="Rectangle 6"/>
              <p:cNvSpPr/>
              <p:nvPr/>
            </p:nvSpPr>
            <p:spPr>
              <a:xfrm>
                <a:off x="581040" y="1376280"/>
                <a:ext cx="3457080" cy="311904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07" name="Line 7"/>
              <p:cNvSpPr/>
              <p:nvPr/>
            </p:nvSpPr>
            <p:spPr>
              <a:xfrm>
                <a:off x="2308320" y="1508040"/>
                <a:ext cx="0" cy="2986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08" name="Line 8"/>
              <p:cNvSpPr/>
              <p:nvPr/>
            </p:nvSpPr>
            <p:spPr>
              <a:xfrm>
                <a:off x="713160" y="2936880"/>
                <a:ext cx="3192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209" name="Text Box 9"/>
            <p:cNvSpPr/>
            <p:nvPr/>
          </p:nvSpPr>
          <p:spPr>
            <a:xfrm>
              <a:off x="798480" y="1027080"/>
              <a:ext cx="3276720" cy="34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0" spc="-1" strike="noStrike">
                  <a:solidFill>
                    <a:srgbClr val="ff0000"/>
                  </a:solidFill>
                  <a:latin typeface="Arial"/>
                </a:rPr>
                <a:t>瑞</a:t>
              </a:r>
              <a:endParaRPr b="1" lang="en-US" sz="22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210" name="Text Box 10"/>
            <p:cNvSpPr/>
            <p:nvPr/>
          </p:nvSpPr>
          <p:spPr>
            <a:xfrm>
              <a:off x="5365800" y="1027080"/>
              <a:ext cx="2908440" cy="34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0" spc="-1" strike="noStrike">
                  <a:solidFill>
                    <a:srgbClr val="ff0000"/>
                  </a:solidFill>
                  <a:latin typeface="Arial"/>
                </a:rPr>
                <a:t>士</a:t>
              </a:r>
              <a:endParaRPr b="1" lang="en-US" sz="22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211" name="Group 11"/>
            <p:cNvGrpSpPr/>
            <p:nvPr/>
          </p:nvGrpSpPr>
          <p:grpSpPr>
            <a:xfrm>
              <a:off x="5076720" y="1315800"/>
              <a:ext cx="3457440" cy="3119040"/>
              <a:chOff x="5076720" y="1315800"/>
              <a:chExt cx="3457440" cy="3119040"/>
            </a:xfrm>
          </p:grpSpPr>
          <p:sp>
            <p:nvSpPr>
              <p:cNvPr id="212" name="Rectangle 12"/>
              <p:cNvSpPr/>
              <p:nvPr/>
            </p:nvSpPr>
            <p:spPr>
              <a:xfrm>
                <a:off x="5076720" y="1315800"/>
                <a:ext cx="3457440" cy="311904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13" name="Line 13"/>
              <p:cNvSpPr/>
              <p:nvPr/>
            </p:nvSpPr>
            <p:spPr>
              <a:xfrm>
                <a:off x="6804360" y="1447560"/>
                <a:ext cx="0" cy="2986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14" name="Line 14"/>
              <p:cNvSpPr/>
              <p:nvPr/>
            </p:nvSpPr>
            <p:spPr>
              <a:xfrm>
                <a:off x="5208840" y="2876400"/>
                <a:ext cx="3193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5" name="Rectangle 15"/>
          <p:cNvSpPr/>
          <p:nvPr/>
        </p:nvSpPr>
        <p:spPr>
          <a:xfrm>
            <a:off x="0" y="6381720"/>
            <a:ext cx="1547640" cy="4762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03240" y="2266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舒缓  舒服                   启发   启迪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舒展  舒心                   启示   开启 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grpSp>
        <p:nvGrpSpPr>
          <p:cNvPr id="218" name="Group 4"/>
          <p:cNvGrpSpPr/>
          <p:nvPr/>
        </p:nvGrpSpPr>
        <p:grpSpPr>
          <a:xfrm>
            <a:off x="581040" y="981000"/>
            <a:ext cx="7953120" cy="3468240"/>
            <a:chOff x="581040" y="981000"/>
            <a:chExt cx="7953120" cy="3468240"/>
          </a:xfrm>
        </p:grpSpPr>
        <p:grpSp>
          <p:nvGrpSpPr>
            <p:cNvPr id="219" name="Group 5"/>
            <p:cNvGrpSpPr/>
            <p:nvPr/>
          </p:nvGrpSpPr>
          <p:grpSpPr>
            <a:xfrm>
              <a:off x="581040" y="1330200"/>
              <a:ext cx="3457080" cy="3119040"/>
              <a:chOff x="581040" y="1330200"/>
              <a:chExt cx="3457080" cy="3119040"/>
            </a:xfrm>
          </p:grpSpPr>
          <p:sp>
            <p:nvSpPr>
              <p:cNvPr id="220" name="Rectangle 6"/>
              <p:cNvSpPr/>
              <p:nvPr/>
            </p:nvSpPr>
            <p:spPr>
              <a:xfrm>
                <a:off x="581040" y="1330200"/>
                <a:ext cx="3457080" cy="311904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21" name="Line 7"/>
              <p:cNvSpPr/>
              <p:nvPr/>
            </p:nvSpPr>
            <p:spPr>
              <a:xfrm>
                <a:off x="2308320" y="1461960"/>
                <a:ext cx="0" cy="2986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22" name="Line 8"/>
              <p:cNvSpPr/>
              <p:nvPr/>
            </p:nvSpPr>
            <p:spPr>
              <a:xfrm>
                <a:off x="713160" y="2890800"/>
                <a:ext cx="3192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Text Box 9"/>
            <p:cNvSpPr/>
            <p:nvPr/>
          </p:nvSpPr>
          <p:spPr>
            <a:xfrm>
              <a:off x="798480" y="981000"/>
              <a:ext cx="3276720" cy="34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0" spc="-1" strike="noStrike">
                  <a:solidFill>
                    <a:srgbClr val="ff0000"/>
                  </a:solidFill>
                  <a:latin typeface="Arial"/>
                </a:rPr>
                <a:t>舒</a:t>
              </a:r>
              <a:endParaRPr b="1" lang="en-US" sz="22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224" name="Text Box 10"/>
            <p:cNvSpPr/>
            <p:nvPr/>
          </p:nvSpPr>
          <p:spPr>
            <a:xfrm>
              <a:off x="5365800" y="981000"/>
              <a:ext cx="2908440" cy="34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0" spc="-1" strike="noStrike">
                  <a:solidFill>
                    <a:srgbClr val="ff0000"/>
                  </a:solidFill>
                  <a:latin typeface="Arial"/>
                </a:rPr>
                <a:t>启</a:t>
              </a:r>
              <a:endParaRPr b="1" lang="en-US" sz="22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225" name="Group 11"/>
            <p:cNvGrpSpPr/>
            <p:nvPr/>
          </p:nvGrpSpPr>
          <p:grpSpPr>
            <a:xfrm>
              <a:off x="5076720" y="1269720"/>
              <a:ext cx="3457440" cy="3119040"/>
              <a:chOff x="5076720" y="1269720"/>
              <a:chExt cx="3457440" cy="3119040"/>
            </a:xfrm>
          </p:grpSpPr>
          <p:sp>
            <p:nvSpPr>
              <p:cNvPr id="226" name="Rectangle 12"/>
              <p:cNvSpPr/>
              <p:nvPr/>
            </p:nvSpPr>
            <p:spPr>
              <a:xfrm>
                <a:off x="5076720" y="1269720"/>
                <a:ext cx="3457440" cy="311904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27" name="Line 13"/>
              <p:cNvSpPr/>
              <p:nvPr/>
            </p:nvSpPr>
            <p:spPr>
              <a:xfrm>
                <a:off x="6804360" y="1401480"/>
                <a:ext cx="0" cy="2986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28" name="Line 14"/>
              <p:cNvSpPr/>
              <p:nvPr/>
            </p:nvSpPr>
            <p:spPr>
              <a:xfrm>
                <a:off x="5208840" y="2830320"/>
                <a:ext cx="3193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9" name="Rectangle 15"/>
          <p:cNvSpPr/>
          <p:nvPr/>
        </p:nvSpPr>
        <p:spPr>
          <a:xfrm>
            <a:off x="0" y="6381720"/>
            <a:ext cx="1547640" cy="4762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76320" y="2266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特殊  悬殊                 步骤   骤雨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殊途同归                     暴风骤雨   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grpSp>
        <p:nvGrpSpPr>
          <p:cNvPr id="232" name="Group 4"/>
          <p:cNvGrpSpPr/>
          <p:nvPr/>
        </p:nvGrpSpPr>
        <p:grpSpPr>
          <a:xfrm>
            <a:off x="581040" y="1027080"/>
            <a:ext cx="7953120" cy="3468240"/>
            <a:chOff x="581040" y="1027080"/>
            <a:chExt cx="7953120" cy="3468240"/>
          </a:xfrm>
        </p:grpSpPr>
        <p:grpSp>
          <p:nvGrpSpPr>
            <p:cNvPr id="233" name="Group 5"/>
            <p:cNvGrpSpPr/>
            <p:nvPr/>
          </p:nvGrpSpPr>
          <p:grpSpPr>
            <a:xfrm>
              <a:off x="581040" y="1376280"/>
              <a:ext cx="3457080" cy="3119040"/>
              <a:chOff x="581040" y="1376280"/>
              <a:chExt cx="3457080" cy="3119040"/>
            </a:xfrm>
          </p:grpSpPr>
          <p:sp>
            <p:nvSpPr>
              <p:cNvPr id="234" name="Rectangle 6"/>
              <p:cNvSpPr/>
              <p:nvPr/>
            </p:nvSpPr>
            <p:spPr>
              <a:xfrm>
                <a:off x="581040" y="1376280"/>
                <a:ext cx="3457080" cy="311904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35" name="Line 7"/>
              <p:cNvSpPr/>
              <p:nvPr/>
            </p:nvSpPr>
            <p:spPr>
              <a:xfrm>
                <a:off x="2308320" y="1508040"/>
                <a:ext cx="0" cy="2986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36" name="Line 8"/>
              <p:cNvSpPr/>
              <p:nvPr/>
            </p:nvSpPr>
            <p:spPr>
              <a:xfrm>
                <a:off x="713160" y="2936880"/>
                <a:ext cx="3192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Text Box 9"/>
            <p:cNvSpPr/>
            <p:nvPr/>
          </p:nvSpPr>
          <p:spPr>
            <a:xfrm>
              <a:off x="798480" y="1027080"/>
              <a:ext cx="3276720" cy="34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0" spc="-1" strike="noStrike">
                  <a:solidFill>
                    <a:srgbClr val="ff0000"/>
                  </a:solidFill>
                  <a:latin typeface="Arial"/>
                </a:rPr>
                <a:t>殊</a:t>
              </a:r>
              <a:endParaRPr b="1" lang="en-US" sz="22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238" name="Text Box 10"/>
            <p:cNvSpPr/>
            <p:nvPr/>
          </p:nvSpPr>
          <p:spPr>
            <a:xfrm>
              <a:off x="5365800" y="1027080"/>
              <a:ext cx="2908440" cy="34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0" spc="-1" strike="noStrike">
                  <a:solidFill>
                    <a:srgbClr val="ff0000"/>
                  </a:solidFill>
                  <a:latin typeface="Arial"/>
                </a:rPr>
                <a:t>骤</a:t>
              </a:r>
              <a:endParaRPr b="1" lang="en-US" sz="22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239" name="Group 11"/>
            <p:cNvGrpSpPr/>
            <p:nvPr/>
          </p:nvGrpSpPr>
          <p:grpSpPr>
            <a:xfrm>
              <a:off x="5076720" y="1315800"/>
              <a:ext cx="3457440" cy="3119040"/>
              <a:chOff x="5076720" y="1315800"/>
              <a:chExt cx="3457440" cy="3119040"/>
            </a:xfrm>
          </p:grpSpPr>
          <p:sp>
            <p:nvSpPr>
              <p:cNvPr id="240" name="Rectangle 12"/>
              <p:cNvSpPr/>
              <p:nvPr/>
            </p:nvSpPr>
            <p:spPr>
              <a:xfrm>
                <a:off x="5076720" y="1315800"/>
                <a:ext cx="3457440" cy="311904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41" name="Line 13"/>
              <p:cNvSpPr/>
              <p:nvPr/>
            </p:nvSpPr>
            <p:spPr>
              <a:xfrm>
                <a:off x="6804360" y="1447560"/>
                <a:ext cx="0" cy="2986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42" name="Line 14"/>
              <p:cNvSpPr/>
              <p:nvPr/>
            </p:nvSpPr>
            <p:spPr>
              <a:xfrm>
                <a:off x="5208840" y="2876400"/>
                <a:ext cx="3193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3" name="Rectangle 15"/>
          <p:cNvSpPr/>
          <p:nvPr/>
        </p:nvSpPr>
        <p:spPr>
          <a:xfrm>
            <a:off x="0" y="6381720"/>
            <a:ext cx="1547640" cy="4762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76320" y="233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跋涉  涉足                   疲劳  疲倦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跋山涉水          </a:t>
            </a: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  筋疲力尽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</p:txBody>
      </p:sp>
      <p:grpSp>
        <p:nvGrpSpPr>
          <p:cNvPr id="246" name="Group 4"/>
          <p:cNvGrpSpPr/>
          <p:nvPr/>
        </p:nvGrpSpPr>
        <p:grpSpPr>
          <a:xfrm>
            <a:off x="581040" y="1027080"/>
            <a:ext cx="7953120" cy="3468240"/>
            <a:chOff x="581040" y="1027080"/>
            <a:chExt cx="7953120" cy="3468240"/>
          </a:xfrm>
        </p:grpSpPr>
        <p:grpSp>
          <p:nvGrpSpPr>
            <p:cNvPr id="247" name="Group 5"/>
            <p:cNvGrpSpPr/>
            <p:nvPr/>
          </p:nvGrpSpPr>
          <p:grpSpPr>
            <a:xfrm>
              <a:off x="581040" y="1376280"/>
              <a:ext cx="3457080" cy="3119040"/>
              <a:chOff x="581040" y="1376280"/>
              <a:chExt cx="3457080" cy="3119040"/>
            </a:xfrm>
          </p:grpSpPr>
          <p:sp>
            <p:nvSpPr>
              <p:cNvPr id="248" name="Rectangle 6"/>
              <p:cNvSpPr/>
              <p:nvPr/>
            </p:nvSpPr>
            <p:spPr>
              <a:xfrm>
                <a:off x="581040" y="1376280"/>
                <a:ext cx="3457080" cy="311904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49" name="Line 7"/>
              <p:cNvSpPr/>
              <p:nvPr/>
            </p:nvSpPr>
            <p:spPr>
              <a:xfrm>
                <a:off x="2308320" y="1508040"/>
                <a:ext cx="0" cy="2986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50" name="Line 8"/>
              <p:cNvSpPr/>
              <p:nvPr/>
            </p:nvSpPr>
            <p:spPr>
              <a:xfrm>
                <a:off x="713160" y="2936880"/>
                <a:ext cx="3192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Text Box 9"/>
            <p:cNvSpPr/>
            <p:nvPr/>
          </p:nvSpPr>
          <p:spPr>
            <a:xfrm>
              <a:off x="798480" y="1027080"/>
              <a:ext cx="3276720" cy="34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0" spc="-1" strike="noStrike">
                  <a:solidFill>
                    <a:srgbClr val="ff0000"/>
                  </a:solidFill>
                  <a:latin typeface="Arial"/>
                </a:rPr>
                <a:t>涉</a:t>
              </a:r>
              <a:endParaRPr b="1" lang="en-US" sz="22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252" name="Text Box 10"/>
            <p:cNvSpPr/>
            <p:nvPr/>
          </p:nvSpPr>
          <p:spPr>
            <a:xfrm>
              <a:off x="5365800" y="1027080"/>
              <a:ext cx="2908440" cy="34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0" spc="-1" strike="noStrike">
                  <a:solidFill>
                    <a:srgbClr val="ff0000"/>
                  </a:solidFill>
                  <a:latin typeface="Arial"/>
                </a:rPr>
                <a:t>疲</a:t>
              </a:r>
              <a:endParaRPr b="1" lang="en-US" sz="22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253" name="Group 11"/>
            <p:cNvGrpSpPr/>
            <p:nvPr/>
          </p:nvGrpSpPr>
          <p:grpSpPr>
            <a:xfrm>
              <a:off x="5076720" y="1315800"/>
              <a:ext cx="3457440" cy="3119040"/>
              <a:chOff x="5076720" y="1315800"/>
              <a:chExt cx="3457440" cy="3119040"/>
            </a:xfrm>
          </p:grpSpPr>
          <p:sp>
            <p:nvSpPr>
              <p:cNvPr id="254" name="Rectangle 12"/>
              <p:cNvSpPr/>
              <p:nvPr/>
            </p:nvSpPr>
            <p:spPr>
              <a:xfrm>
                <a:off x="5076720" y="1315800"/>
                <a:ext cx="3457440" cy="311904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55" name="Line 13"/>
              <p:cNvSpPr/>
              <p:nvPr/>
            </p:nvSpPr>
            <p:spPr>
              <a:xfrm>
                <a:off x="6804360" y="1447560"/>
                <a:ext cx="0" cy="2986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56" name="Line 14"/>
              <p:cNvSpPr/>
              <p:nvPr/>
            </p:nvSpPr>
            <p:spPr>
              <a:xfrm>
                <a:off x="5208840" y="2876400"/>
                <a:ext cx="3193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7" name="Rectangle 15"/>
          <p:cNvSpPr/>
          <p:nvPr/>
        </p:nvSpPr>
        <p:spPr>
          <a:xfrm>
            <a:off x="0" y="6381720"/>
            <a:ext cx="1547640" cy="4762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5280" y="28195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政府   行政                踏步    踏青                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财政      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         脚踏实地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  <p:grpSp>
        <p:nvGrpSpPr>
          <p:cNvPr id="260" name="Group 4"/>
          <p:cNvGrpSpPr/>
          <p:nvPr/>
        </p:nvGrpSpPr>
        <p:grpSpPr>
          <a:xfrm>
            <a:off x="611280" y="1052640"/>
            <a:ext cx="7952400" cy="3468240"/>
            <a:chOff x="611280" y="1052640"/>
            <a:chExt cx="7952400" cy="3468240"/>
          </a:xfrm>
        </p:grpSpPr>
        <p:grpSp>
          <p:nvGrpSpPr>
            <p:cNvPr id="261" name="Group 5"/>
            <p:cNvGrpSpPr/>
            <p:nvPr/>
          </p:nvGrpSpPr>
          <p:grpSpPr>
            <a:xfrm>
              <a:off x="611280" y="1401840"/>
              <a:ext cx="3456720" cy="3119040"/>
              <a:chOff x="611280" y="1401840"/>
              <a:chExt cx="3456720" cy="3119040"/>
            </a:xfrm>
          </p:grpSpPr>
          <p:sp>
            <p:nvSpPr>
              <p:cNvPr id="262" name="Rectangle 6"/>
              <p:cNvSpPr/>
              <p:nvPr/>
            </p:nvSpPr>
            <p:spPr>
              <a:xfrm>
                <a:off x="611280" y="1401840"/>
                <a:ext cx="3456720" cy="311904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63" name="Line 7"/>
              <p:cNvSpPr/>
              <p:nvPr/>
            </p:nvSpPr>
            <p:spPr>
              <a:xfrm>
                <a:off x="2338560" y="1533600"/>
                <a:ext cx="0" cy="2986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64" name="Line 8"/>
              <p:cNvSpPr/>
              <p:nvPr/>
            </p:nvSpPr>
            <p:spPr>
              <a:xfrm>
                <a:off x="743400" y="2962440"/>
                <a:ext cx="319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Text Box 9"/>
            <p:cNvSpPr/>
            <p:nvPr/>
          </p:nvSpPr>
          <p:spPr>
            <a:xfrm>
              <a:off x="828360" y="1052640"/>
              <a:ext cx="3276360" cy="34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0" spc="-1" strike="noStrike">
                  <a:solidFill>
                    <a:srgbClr val="ff0000"/>
                  </a:solidFill>
                  <a:latin typeface="Arial"/>
                </a:rPr>
                <a:t>政</a:t>
              </a:r>
              <a:endParaRPr b="1" lang="en-US" sz="22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266" name="Text Box 10"/>
            <p:cNvSpPr/>
            <p:nvPr/>
          </p:nvSpPr>
          <p:spPr>
            <a:xfrm>
              <a:off x="5395680" y="1052640"/>
              <a:ext cx="2908080" cy="34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0" spc="-1" strike="noStrike">
                  <a:solidFill>
                    <a:srgbClr val="ff0000"/>
                  </a:solidFill>
                  <a:latin typeface="Arial"/>
                </a:rPr>
                <a:t>踏</a:t>
              </a:r>
              <a:endParaRPr b="1" lang="en-US" sz="22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267" name="Group 11"/>
            <p:cNvGrpSpPr/>
            <p:nvPr/>
          </p:nvGrpSpPr>
          <p:grpSpPr>
            <a:xfrm>
              <a:off x="5106600" y="1341360"/>
              <a:ext cx="3457080" cy="3119040"/>
              <a:chOff x="5106600" y="1341360"/>
              <a:chExt cx="3457080" cy="3119040"/>
            </a:xfrm>
          </p:grpSpPr>
          <p:sp>
            <p:nvSpPr>
              <p:cNvPr id="268" name="Rectangle 12"/>
              <p:cNvSpPr/>
              <p:nvPr/>
            </p:nvSpPr>
            <p:spPr>
              <a:xfrm>
                <a:off x="5106600" y="1341360"/>
                <a:ext cx="3457080" cy="311904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69" name="Line 13"/>
              <p:cNvSpPr/>
              <p:nvPr/>
            </p:nvSpPr>
            <p:spPr>
              <a:xfrm>
                <a:off x="6833880" y="1473120"/>
                <a:ext cx="0" cy="2986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70" name="Line 14"/>
              <p:cNvSpPr/>
              <p:nvPr/>
            </p:nvSpPr>
            <p:spPr>
              <a:xfrm>
                <a:off x="5238720" y="2901960"/>
                <a:ext cx="3192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1" name="Rectangle 15"/>
          <p:cNvSpPr/>
          <p:nvPr/>
        </p:nvSpPr>
        <p:spPr>
          <a:xfrm>
            <a:off x="0" y="6381720"/>
            <a:ext cx="1547640" cy="4762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20680" y="233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救人   救命                  载客   载重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救死扶伤                     满载而归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grpSp>
        <p:nvGrpSpPr>
          <p:cNvPr id="274" name="Group 4"/>
          <p:cNvGrpSpPr/>
          <p:nvPr/>
        </p:nvGrpSpPr>
        <p:grpSpPr>
          <a:xfrm>
            <a:off x="581040" y="1027080"/>
            <a:ext cx="7953120" cy="3468240"/>
            <a:chOff x="581040" y="1027080"/>
            <a:chExt cx="7953120" cy="3468240"/>
          </a:xfrm>
        </p:grpSpPr>
        <p:grpSp>
          <p:nvGrpSpPr>
            <p:cNvPr id="275" name="Group 5"/>
            <p:cNvGrpSpPr/>
            <p:nvPr/>
          </p:nvGrpSpPr>
          <p:grpSpPr>
            <a:xfrm>
              <a:off x="581040" y="1376280"/>
              <a:ext cx="3457080" cy="3119040"/>
              <a:chOff x="581040" y="1376280"/>
              <a:chExt cx="3457080" cy="3119040"/>
            </a:xfrm>
          </p:grpSpPr>
          <p:sp>
            <p:nvSpPr>
              <p:cNvPr id="276" name="Rectangle 6"/>
              <p:cNvSpPr/>
              <p:nvPr/>
            </p:nvSpPr>
            <p:spPr>
              <a:xfrm>
                <a:off x="581040" y="1376280"/>
                <a:ext cx="3457080" cy="311904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77" name="Line 7"/>
              <p:cNvSpPr/>
              <p:nvPr/>
            </p:nvSpPr>
            <p:spPr>
              <a:xfrm>
                <a:off x="2308320" y="1508040"/>
                <a:ext cx="0" cy="2986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78" name="Line 8"/>
              <p:cNvSpPr/>
              <p:nvPr/>
            </p:nvSpPr>
            <p:spPr>
              <a:xfrm>
                <a:off x="713160" y="2936880"/>
                <a:ext cx="3192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Text Box 9"/>
            <p:cNvSpPr/>
            <p:nvPr/>
          </p:nvSpPr>
          <p:spPr>
            <a:xfrm>
              <a:off x="798480" y="1027080"/>
              <a:ext cx="3276720" cy="34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0" spc="-1" strike="noStrike">
                  <a:solidFill>
                    <a:srgbClr val="ff0000"/>
                  </a:solidFill>
                  <a:latin typeface="Arial"/>
                </a:rPr>
                <a:t>救</a:t>
              </a:r>
              <a:endParaRPr b="1" lang="en-US" sz="22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280" name="Text Box 10"/>
            <p:cNvSpPr/>
            <p:nvPr/>
          </p:nvSpPr>
          <p:spPr>
            <a:xfrm>
              <a:off x="5365800" y="1027080"/>
              <a:ext cx="2908440" cy="34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0" spc="-1" strike="noStrike">
                  <a:solidFill>
                    <a:srgbClr val="ff0000"/>
                  </a:solidFill>
                  <a:latin typeface="Arial"/>
                </a:rPr>
                <a:t>载</a:t>
              </a:r>
              <a:endParaRPr b="1" lang="en-US" sz="22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281" name="Group 11"/>
            <p:cNvGrpSpPr/>
            <p:nvPr/>
          </p:nvGrpSpPr>
          <p:grpSpPr>
            <a:xfrm>
              <a:off x="5076720" y="1315800"/>
              <a:ext cx="3457440" cy="3119040"/>
              <a:chOff x="5076720" y="1315800"/>
              <a:chExt cx="3457440" cy="3119040"/>
            </a:xfrm>
          </p:grpSpPr>
          <p:sp>
            <p:nvSpPr>
              <p:cNvPr id="282" name="Rectangle 12"/>
              <p:cNvSpPr/>
              <p:nvPr/>
            </p:nvSpPr>
            <p:spPr>
              <a:xfrm>
                <a:off x="5076720" y="1315800"/>
                <a:ext cx="3457440" cy="311904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83" name="Line 13"/>
              <p:cNvSpPr/>
              <p:nvPr/>
            </p:nvSpPr>
            <p:spPr>
              <a:xfrm>
                <a:off x="6804360" y="1447560"/>
                <a:ext cx="0" cy="2986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84" name="Line 14"/>
              <p:cNvSpPr/>
              <p:nvPr/>
            </p:nvSpPr>
            <p:spPr>
              <a:xfrm>
                <a:off x="5208840" y="2876400"/>
                <a:ext cx="3193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5" name="Rectangle 15"/>
          <p:cNvSpPr/>
          <p:nvPr/>
        </p:nvSpPr>
        <p:spPr>
          <a:xfrm>
            <a:off x="0" y="6381720"/>
            <a:ext cx="1547640" cy="4762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026" descr="背景图片"/>
          <p:cNvPicPr/>
          <p:nvPr/>
        </p:nvPicPr>
        <p:blipFill>
          <a:blip r:embed="rId1"/>
          <a:stretch/>
        </p:blipFill>
        <p:spPr>
          <a:xfrm>
            <a:off x="0" y="-17136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027"/>
          <p:cNvSpPr/>
          <p:nvPr/>
        </p:nvSpPr>
        <p:spPr>
          <a:xfrm>
            <a:off x="990720" y="3962520"/>
            <a:ext cx="792468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宋体"/>
              </a:rPr>
              <a:t>有一年春天，在欧（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宋体"/>
              </a:rPr>
              <a:t>ōu 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宋体"/>
              </a:rPr>
              <a:t>）洲（ 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宋体"/>
              </a:rPr>
              <a:t>zhōu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宋体"/>
              </a:rPr>
              <a:t>）瑞（ 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宋体"/>
              </a:rPr>
              <a:t>ruì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宋体"/>
              </a:rPr>
              <a:t>）  士的一个车站，一列漂亮舒适的空调列  车正准备启（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宋体"/>
              </a:rPr>
              <a:t>qǐ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宋体"/>
              </a:rPr>
              <a:t>）程，站台上站满了送行的人。他们送的是一批特殊（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宋体"/>
              </a:rPr>
              <a:t>shū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宋体"/>
              </a:rPr>
              <a:t>）的客人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宋体"/>
              </a:rPr>
              <a:t>燕子。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2" name="AutoShape 1029">
            <a:hlinkClick r:id="rId2" action="ppaction://hlinksldjump"/>
          </p:cNvPr>
          <p:cNvSpPr/>
          <p:nvPr/>
        </p:nvSpPr>
        <p:spPr>
          <a:xfrm>
            <a:off x="7010280" y="5867280"/>
            <a:ext cx="2362320" cy="990720"/>
          </a:xfrm>
          <a:custGeom>
            <a:avLst/>
            <a:gdLst>
              <a:gd name="textAreaLeft" fmla="*/ 64080 w 2362320"/>
              <a:gd name="textAreaRight" fmla="*/ 2298240 w 23623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51493" h="21600">
                <a:moveTo>
                  <a:pt x="0" y="0"/>
                </a:moveTo>
                <a:lnTo>
                  <a:pt x="51493" y="0"/>
                </a:lnTo>
                <a:lnTo>
                  <a:pt x="51493" y="21600"/>
                </a:lnTo>
                <a:lnTo>
                  <a:pt x="0" y="21600"/>
                </a:lnTo>
                <a:close/>
              </a:path>
              <a:path fill="lightenLess" w="51493" h="21600">
                <a:moveTo>
                  <a:pt x="0" y="0"/>
                </a:moveTo>
                <a:lnTo>
                  <a:pt x="51493" y="0"/>
                </a:lnTo>
                <a:lnTo>
                  <a:pt x="50093" y="1400"/>
                </a:lnTo>
                <a:lnTo>
                  <a:pt x="1400" y="1400"/>
                </a:lnTo>
                <a:close/>
              </a:path>
              <a:path fill="darken" w="51493" h="21600">
                <a:moveTo>
                  <a:pt x="51493" y="0"/>
                </a:moveTo>
                <a:lnTo>
                  <a:pt x="51493" y="21600"/>
                </a:lnTo>
                <a:lnTo>
                  <a:pt x="50093" y="20200"/>
                </a:lnTo>
                <a:lnTo>
                  <a:pt x="50093" y="1400"/>
                </a:lnTo>
                <a:close/>
              </a:path>
              <a:path fill="darkenLess" w="51493" h="21600">
                <a:moveTo>
                  <a:pt x="514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093" y="20200"/>
                </a:lnTo>
                <a:close/>
              </a:path>
              <a:path fill="lighten" w="514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493" h="21600">
                <a:moveTo>
                  <a:pt x="18740" y="10800"/>
                </a:moveTo>
                <a:lnTo>
                  <a:pt x="32753" y="3794"/>
                </a:lnTo>
                <a:lnTo>
                  <a:pt x="3275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3" name="AutoShape 1030">
            <a:hlinkClick r:id="" action="ppaction://hlinkshowjump?jump=nextslide"/>
          </p:cNvPr>
          <p:cNvSpPr/>
          <p:nvPr/>
        </p:nvSpPr>
        <p:spPr>
          <a:xfrm>
            <a:off x="4495680" y="4114800"/>
            <a:ext cx="3505320" cy="457200"/>
          </a:xfrm>
          <a:custGeom>
            <a:avLst/>
            <a:gdLst>
              <a:gd name="textAreaLeft" fmla="*/ 29520 w 3505320"/>
              <a:gd name="textAreaRight" fmla="*/ 3475800 w 35053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65492" h="21600">
                <a:moveTo>
                  <a:pt x="0" y="0"/>
                </a:moveTo>
                <a:lnTo>
                  <a:pt x="165492" y="0"/>
                </a:lnTo>
                <a:lnTo>
                  <a:pt x="165492" y="21600"/>
                </a:lnTo>
                <a:lnTo>
                  <a:pt x="0" y="21600"/>
                </a:lnTo>
                <a:close/>
              </a:path>
              <a:path fill="lightenLess" w="165492" h="21600">
                <a:moveTo>
                  <a:pt x="0" y="0"/>
                </a:moveTo>
                <a:lnTo>
                  <a:pt x="165492" y="0"/>
                </a:lnTo>
                <a:lnTo>
                  <a:pt x="164092" y="1400"/>
                </a:lnTo>
                <a:lnTo>
                  <a:pt x="1400" y="1400"/>
                </a:lnTo>
                <a:close/>
              </a:path>
              <a:path fill="darken" w="165492" h="21600">
                <a:moveTo>
                  <a:pt x="165492" y="0"/>
                </a:moveTo>
                <a:lnTo>
                  <a:pt x="165492" y="21600"/>
                </a:lnTo>
                <a:lnTo>
                  <a:pt x="164092" y="20200"/>
                </a:lnTo>
                <a:lnTo>
                  <a:pt x="164092" y="1400"/>
                </a:lnTo>
                <a:close/>
              </a:path>
              <a:path fill="darkenLess" w="165492" h="21600">
                <a:moveTo>
                  <a:pt x="165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4092" y="20200"/>
                </a:lnTo>
                <a:close/>
              </a:path>
              <a:path fill="lighten" w="165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4" name="AutoShape 1031">
            <a:hlinkClick r:id="rId3" action="ppaction://hlinksldjump"/>
          </p:cNvPr>
          <p:cNvSpPr/>
          <p:nvPr/>
        </p:nvSpPr>
        <p:spPr>
          <a:xfrm>
            <a:off x="1219320" y="4495680"/>
            <a:ext cx="1676160" cy="457200"/>
          </a:xfrm>
          <a:custGeom>
            <a:avLst/>
            <a:gdLst>
              <a:gd name="textAreaLeft" fmla="*/ 29520 w 1676160"/>
              <a:gd name="textAreaRight" fmla="*/ 1646640 w 1676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43" h="21600">
                <a:moveTo>
                  <a:pt x="0" y="0"/>
                </a:moveTo>
                <a:lnTo>
                  <a:pt x="79143" y="0"/>
                </a:lnTo>
                <a:lnTo>
                  <a:pt x="79143" y="21600"/>
                </a:lnTo>
                <a:lnTo>
                  <a:pt x="0" y="21600"/>
                </a:lnTo>
                <a:close/>
              </a:path>
              <a:path fill="lightenLess" w="79143" h="21600">
                <a:moveTo>
                  <a:pt x="0" y="0"/>
                </a:moveTo>
                <a:lnTo>
                  <a:pt x="79143" y="0"/>
                </a:lnTo>
                <a:lnTo>
                  <a:pt x="77743" y="1400"/>
                </a:lnTo>
                <a:lnTo>
                  <a:pt x="1400" y="1400"/>
                </a:lnTo>
                <a:close/>
              </a:path>
              <a:path fill="darken" w="79143" h="21600">
                <a:moveTo>
                  <a:pt x="79143" y="0"/>
                </a:moveTo>
                <a:lnTo>
                  <a:pt x="79143" y="21600"/>
                </a:lnTo>
                <a:lnTo>
                  <a:pt x="77743" y="20200"/>
                </a:lnTo>
                <a:lnTo>
                  <a:pt x="77743" y="1400"/>
                </a:lnTo>
                <a:close/>
              </a:path>
              <a:path fill="darkenLess" w="79143" h="21600">
                <a:moveTo>
                  <a:pt x="79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43" y="20200"/>
                </a:lnTo>
                <a:close/>
              </a:path>
              <a:path fill="lighten" w="79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5" name="AutoShape 1032">
            <a:hlinkClick r:id="rId4" action="ppaction://hlinksldjump"/>
          </p:cNvPr>
          <p:cNvSpPr/>
          <p:nvPr/>
        </p:nvSpPr>
        <p:spPr>
          <a:xfrm>
            <a:off x="2514600" y="4952880"/>
            <a:ext cx="1752480" cy="457200"/>
          </a:xfrm>
          <a:custGeom>
            <a:avLst/>
            <a:gdLst>
              <a:gd name="textAreaLeft" fmla="*/ 29520 w 1752480"/>
              <a:gd name="textAreaRight" fmla="*/ 1722960 w 1752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81346" y="1400"/>
                </a:lnTo>
                <a:lnTo>
                  <a:pt x="1400" y="1400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81346" y="20200"/>
                </a:lnTo>
                <a:lnTo>
                  <a:pt x="81346" y="1400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46" y="20200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6" name="AutoShape 1033">
            <a:hlinkClick r:id="rId5" action="ppaction://hlinksldjump"/>
          </p:cNvPr>
          <p:cNvSpPr/>
          <p:nvPr/>
        </p:nvSpPr>
        <p:spPr>
          <a:xfrm>
            <a:off x="3581280" y="5410080"/>
            <a:ext cx="1905120" cy="457200"/>
          </a:xfrm>
          <a:custGeom>
            <a:avLst/>
            <a:gdLst>
              <a:gd name="textAreaLeft" fmla="*/ 29520 w 1905120"/>
              <a:gd name="textAreaRight" fmla="*/ 1875600 w 1905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9952" h="21600">
                <a:moveTo>
                  <a:pt x="0" y="0"/>
                </a:moveTo>
                <a:lnTo>
                  <a:pt x="89952" y="0"/>
                </a:lnTo>
                <a:lnTo>
                  <a:pt x="89952" y="21600"/>
                </a:lnTo>
                <a:lnTo>
                  <a:pt x="0" y="21600"/>
                </a:lnTo>
                <a:close/>
              </a:path>
              <a:path fill="lightenLess" w="89952" h="21600">
                <a:moveTo>
                  <a:pt x="0" y="0"/>
                </a:moveTo>
                <a:lnTo>
                  <a:pt x="89952" y="0"/>
                </a:lnTo>
                <a:lnTo>
                  <a:pt x="88552" y="1400"/>
                </a:lnTo>
                <a:lnTo>
                  <a:pt x="1400" y="1400"/>
                </a:lnTo>
                <a:close/>
              </a:path>
              <a:path fill="darken" w="89952" h="21600">
                <a:moveTo>
                  <a:pt x="89952" y="0"/>
                </a:moveTo>
                <a:lnTo>
                  <a:pt x="89952" y="21600"/>
                </a:lnTo>
                <a:lnTo>
                  <a:pt x="88552" y="20200"/>
                </a:lnTo>
                <a:lnTo>
                  <a:pt x="88552" y="1400"/>
                </a:lnTo>
                <a:close/>
              </a:path>
              <a:path fill="darkenLess" w="89952" h="21600">
                <a:moveTo>
                  <a:pt x="89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52" y="20200"/>
                </a:lnTo>
                <a:close/>
              </a:path>
              <a:path fill="lighten" w="89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67" name="Picture 1034" descr="空调列车光"/>
          <p:cNvPicPr/>
          <p:nvPr/>
        </p:nvPicPr>
        <p:blipFill>
          <a:blip r:embed="rId6"/>
          <a:stretch/>
        </p:blipFill>
        <p:spPr>
          <a:xfrm>
            <a:off x="1332000" y="836640"/>
            <a:ext cx="6769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空调列车光"/>
          <p:cNvPicPr/>
          <p:nvPr/>
        </p:nvPicPr>
        <p:blipFill>
          <a:blip r:embed="rId1"/>
          <a:stretch/>
        </p:blipFill>
        <p:spPr>
          <a:xfrm>
            <a:off x="0" y="0"/>
            <a:ext cx="8532720" cy="3645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900000" y="4101840"/>
            <a:ext cx="7005600" cy="17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隶书"/>
                <a:ea typeface="隶书"/>
              </a:rPr>
              <a:t>          </a:t>
            </a:r>
            <a:r>
              <a:rPr b="0" lang="zh-CN" sz="4400" spc="-1" strike="noStrike">
                <a:solidFill>
                  <a:srgbClr val="800080"/>
                </a:solidFill>
                <a:latin typeface="隶书"/>
                <a:ea typeface="隶书"/>
              </a:rPr>
              <a:t>燕子专列是专门把燕子从（       ）送到（     ）的火车。</a:t>
            </a:r>
            <a:r>
              <a:rPr b="0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    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6934320" y="3200400"/>
            <a:ext cx="47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欧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洲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1" name="AutoShape 6">
            <a:hlinkClick r:id="rId1" action="ppaction://hlinksldjump"/>
          </p:cNvPr>
          <p:cNvSpPr/>
          <p:nvPr/>
        </p:nvSpPr>
        <p:spPr>
          <a:xfrm>
            <a:off x="7010280" y="5867280"/>
            <a:ext cx="2133720" cy="990720"/>
          </a:xfrm>
          <a:custGeom>
            <a:avLst/>
            <a:gdLst>
              <a:gd name="textAreaLeft" fmla="*/ 64080 w 2133720"/>
              <a:gd name="textAreaRight" fmla="*/ 2069640 w 2133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6511" h="21600">
                <a:moveTo>
                  <a:pt x="0" y="0"/>
                </a:moveTo>
                <a:lnTo>
                  <a:pt x="46511" y="0"/>
                </a:lnTo>
                <a:lnTo>
                  <a:pt x="46511" y="21600"/>
                </a:lnTo>
                <a:lnTo>
                  <a:pt x="0" y="21600"/>
                </a:lnTo>
                <a:close/>
              </a:path>
              <a:path fill="lightenLess" w="46511" h="21600">
                <a:moveTo>
                  <a:pt x="0" y="0"/>
                </a:moveTo>
                <a:lnTo>
                  <a:pt x="46511" y="0"/>
                </a:lnTo>
                <a:lnTo>
                  <a:pt x="45111" y="1400"/>
                </a:lnTo>
                <a:lnTo>
                  <a:pt x="1400" y="1400"/>
                </a:lnTo>
                <a:close/>
              </a:path>
              <a:path fill="darken" w="46511" h="21600">
                <a:moveTo>
                  <a:pt x="46511" y="0"/>
                </a:moveTo>
                <a:lnTo>
                  <a:pt x="46511" y="21600"/>
                </a:lnTo>
                <a:lnTo>
                  <a:pt x="45111" y="20200"/>
                </a:lnTo>
                <a:lnTo>
                  <a:pt x="45111" y="1400"/>
                </a:lnTo>
                <a:close/>
              </a:path>
              <a:path fill="darkenLess" w="46511" h="21600">
                <a:moveTo>
                  <a:pt x="46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11" y="20200"/>
                </a:lnTo>
                <a:close/>
              </a:path>
              <a:path fill="lighten" w="46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511" h="21600">
                <a:moveTo>
                  <a:pt x="16249" y="10800"/>
                </a:moveTo>
                <a:lnTo>
                  <a:pt x="30262" y="3794"/>
                </a:lnTo>
                <a:lnTo>
                  <a:pt x="3026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72" name="Picture 7" descr="世界地图"/>
          <p:cNvPicPr/>
          <p:nvPr/>
        </p:nvPicPr>
        <p:blipFill>
          <a:blip r:embed="rId2"/>
          <a:stretch/>
        </p:blipFill>
        <p:spPr>
          <a:xfrm>
            <a:off x="990720" y="1523880"/>
            <a:ext cx="7200720" cy="4079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10"/>
          <p:cNvGrpSpPr/>
          <p:nvPr/>
        </p:nvGrpSpPr>
        <p:grpSpPr>
          <a:xfrm>
            <a:off x="2286000" y="762120"/>
            <a:ext cx="6019920" cy="5519520"/>
            <a:chOff x="2286000" y="762120"/>
            <a:chExt cx="6019920" cy="5519520"/>
          </a:xfrm>
        </p:grpSpPr>
        <p:pic>
          <p:nvPicPr>
            <p:cNvPr id="74" name="Picture 2" descr="欧洲"/>
            <p:cNvPicPr/>
            <p:nvPr/>
          </p:nvPicPr>
          <p:blipFill>
            <a:blip r:embed="rId1"/>
            <a:srcRect l="0" t="8370" r="0" b="0"/>
            <a:stretch/>
          </p:blipFill>
          <p:spPr>
            <a:xfrm>
              <a:off x="2286000" y="762120"/>
              <a:ext cx="4816440" cy="55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3"/>
            <p:cNvSpPr/>
            <p:nvPr/>
          </p:nvSpPr>
          <p:spPr>
            <a:xfrm>
              <a:off x="7451640" y="2514600"/>
              <a:ext cx="8542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800080"/>
                  </a:solidFill>
                  <a:latin typeface="Times New Roman"/>
                </a:rPr>
                <a:t>欧</a:t>
              </a:r>
              <a:endParaRPr b="1" lang="en-US" sz="3600" spc="-1" strike="noStrike">
                <a:solidFill>
                  <a:srgbClr val="ff33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33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800080"/>
                  </a:solidFill>
                  <a:latin typeface="Times New Roman"/>
                </a:rPr>
                <a:t>洲</a:t>
              </a:r>
              <a:endParaRPr b="1" lang="en-US" sz="36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sp>
        <p:nvSpPr>
          <p:cNvPr id="76" name="AutoShape 5">
            <a:hlinkClick r:id="rId2" action="ppaction://hlinksldjump"/>
          </p:cNvPr>
          <p:cNvSpPr/>
          <p:nvPr/>
        </p:nvSpPr>
        <p:spPr>
          <a:xfrm>
            <a:off x="7010280" y="5867280"/>
            <a:ext cx="2133720" cy="990720"/>
          </a:xfrm>
          <a:custGeom>
            <a:avLst/>
            <a:gdLst>
              <a:gd name="textAreaLeft" fmla="*/ 64080 w 2133720"/>
              <a:gd name="textAreaRight" fmla="*/ 2069640 w 2133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6511" h="21600">
                <a:moveTo>
                  <a:pt x="0" y="0"/>
                </a:moveTo>
                <a:lnTo>
                  <a:pt x="46511" y="0"/>
                </a:lnTo>
                <a:lnTo>
                  <a:pt x="46511" y="21600"/>
                </a:lnTo>
                <a:lnTo>
                  <a:pt x="0" y="21600"/>
                </a:lnTo>
                <a:close/>
              </a:path>
              <a:path fill="lightenLess" w="46511" h="21600">
                <a:moveTo>
                  <a:pt x="0" y="0"/>
                </a:moveTo>
                <a:lnTo>
                  <a:pt x="46511" y="0"/>
                </a:lnTo>
                <a:lnTo>
                  <a:pt x="45111" y="1400"/>
                </a:lnTo>
                <a:lnTo>
                  <a:pt x="1400" y="1400"/>
                </a:lnTo>
                <a:close/>
              </a:path>
              <a:path fill="darken" w="46511" h="21600">
                <a:moveTo>
                  <a:pt x="46511" y="0"/>
                </a:moveTo>
                <a:lnTo>
                  <a:pt x="46511" y="21600"/>
                </a:lnTo>
                <a:lnTo>
                  <a:pt x="45111" y="20200"/>
                </a:lnTo>
                <a:lnTo>
                  <a:pt x="45111" y="1400"/>
                </a:lnTo>
                <a:close/>
              </a:path>
              <a:path fill="darkenLess" w="46511" h="21600">
                <a:moveTo>
                  <a:pt x="46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11" y="20200"/>
                </a:lnTo>
                <a:close/>
              </a:path>
              <a:path fill="lighten" w="46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511" h="21600">
                <a:moveTo>
                  <a:pt x="16249" y="10800"/>
                </a:moveTo>
                <a:lnTo>
                  <a:pt x="30262" y="3794"/>
                </a:lnTo>
                <a:lnTo>
                  <a:pt x="3026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7"/>
          <p:cNvGrpSpPr/>
          <p:nvPr/>
        </p:nvGrpSpPr>
        <p:grpSpPr>
          <a:xfrm>
            <a:off x="2286000" y="762120"/>
            <a:ext cx="6019920" cy="5519520"/>
            <a:chOff x="2286000" y="762120"/>
            <a:chExt cx="6019920" cy="5519520"/>
          </a:xfrm>
        </p:grpSpPr>
        <p:pic>
          <p:nvPicPr>
            <p:cNvPr id="78" name="Picture 8" descr="欧洲"/>
            <p:cNvPicPr/>
            <p:nvPr/>
          </p:nvPicPr>
          <p:blipFill>
            <a:blip r:embed="rId1"/>
            <a:srcRect l="0" t="8370" r="0" b="0"/>
            <a:stretch/>
          </p:blipFill>
          <p:spPr>
            <a:xfrm>
              <a:off x="2286000" y="762120"/>
              <a:ext cx="4816440" cy="55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9"/>
            <p:cNvSpPr/>
            <p:nvPr/>
          </p:nvSpPr>
          <p:spPr>
            <a:xfrm>
              <a:off x="7451640" y="2514600"/>
              <a:ext cx="8542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800080"/>
                  </a:solidFill>
                  <a:latin typeface="Times New Roman"/>
                </a:rPr>
                <a:t>欧</a:t>
              </a:r>
              <a:endParaRPr b="1" lang="en-US" sz="3600" spc="-1" strike="noStrike">
                <a:solidFill>
                  <a:srgbClr val="ff33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33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800080"/>
                  </a:solidFill>
                  <a:latin typeface="Times New Roman"/>
                </a:rPr>
                <a:t>洲</a:t>
              </a:r>
              <a:endParaRPr b="1" lang="en-US" sz="36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sp>
        <p:nvSpPr>
          <p:cNvPr id="80" name="AutoShape 4">
            <a:hlinkClick r:id="rId2" action="ppaction://hlinksldjump"/>
          </p:cNvPr>
          <p:cNvSpPr/>
          <p:nvPr/>
        </p:nvSpPr>
        <p:spPr>
          <a:xfrm>
            <a:off x="7010280" y="5867280"/>
            <a:ext cx="2133720" cy="990720"/>
          </a:xfrm>
          <a:custGeom>
            <a:avLst/>
            <a:gdLst>
              <a:gd name="textAreaLeft" fmla="*/ 64080 w 2133720"/>
              <a:gd name="textAreaRight" fmla="*/ 2069640 w 2133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6511" h="21600">
                <a:moveTo>
                  <a:pt x="0" y="0"/>
                </a:moveTo>
                <a:lnTo>
                  <a:pt x="46511" y="0"/>
                </a:lnTo>
                <a:lnTo>
                  <a:pt x="46511" y="21600"/>
                </a:lnTo>
                <a:lnTo>
                  <a:pt x="0" y="21600"/>
                </a:lnTo>
                <a:close/>
              </a:path>
              <a:path fill="lightenLess" w="46511" h="21600">
                <a:moveTo>
                  <a:pt x="0" y="0"/>
                </a:moveTo>
                <a:lnTo>
                  <a:pt x="46511" y="0"/>
                </a:lnTo>
                <a:lnTo>
                  <a:pt x="45111" y="1400"/>
                </a:lnTo>
                <a:lnTo>
                  <a:pt x="1400" y="1400"/>
                </a:lnTo>
                <a:close/>
              </a:path>
              <a:path fill="darken" w="46511" h="21600">
                <a:moveTo>
                  <a:pt x="46511" y="0"/>
                </a:moveTo>
                <a:lnTo>
                  <a:pt x="46511" y="21600"/>
                </a:lnTo>
                <a:lnTo>
                  <a:pt x="45111" y="20200"/>
                </a:lnTo>
                <a:lnTo>
                  <a:pt x="45111" y="1400"/>
                </a:lnTo>
                <a:close/>
              </a:path>
              <a:path fill="darkenLess" w="46511" h="21600">
                <a:moveTo>
                  <a:pt x="46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11" y="20200"/>
                </a:lnTo>
                <a:close/>
              </a:path>
              <a:path fill="lighten" w="46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511" h="21600">
                <a:moveTo>
                  <a:pt x="16249" y="10800"/>
                </a:moveTo>
                <a:lnTo>
                  <a:pt x="30262" y="3794"/>
                </a:lnTo>
                <a:lnTo>
                  <a:pt x="3026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446400" y="3809880"/>
            <a:ext cx="12776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瑞  士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2" name="AutoShape 10"/>
          <p:cNvSpPr/>
          <p:nvPr/>
        </p:nvSpPr>
        <p:spPr>
          <a:xfrm>
            <a:off x="1676520" y="4267080"/>
            <a:ext cx="2666880" cy="304920"/>
          </a:xfrm>
          <a:prstGeom prst="rightArrow">
            <a:avLst>
              <a:gd name="adj1" fmla="val 50000"/>
              <a:gd name="adj2" fmla="val 218654"/>
            </a:avLst>
          </a:prstGeom>
          <a:solidFill>
            <a:srgbClr val="ff33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8"/>
          <p:cNvGrpSpPr/>
          <p:nvPr/>
        </p:nvGrpSpPr>
        <p:grpSpPr>
          <a:xfrm>
            <a:off x="3511440" y="2276640"/>
            <a:ext cx="2736720" cy="2820960"/>
            <a:chOff x="3511440" y="2276640"/>
            <a:chExt cx="2736720" cy="2820960"/>
          </a:xfrm>
        </p:grpSpPr>
        <p:sp>
          <p:nvSpPr>
            <p:cNvPr id="84" name="Rectangle 4"/>
            <p:cNvSpPr/>
            <p:nvPr/>
          </p:nvSpPr>
          <p:spPr>
            <a:xfrm>
              <a:off x="3582720" y="3357720"/>
              <a:ext cx="2665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800080"/>
                  </a:solidFill>
                  <a:latin typeface="Times New Roman"/>
                </a:rPr>
                <a:t>启 程　　</a:t>
              </a:r>
              <a:endParaRPr b="1" lang="en-US" sz="5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85" name="Rectangle 5"/>
            <p:cNvSpPr/>
            <p:nvPr/>
          </p:nvSpPr>
          <p:spPr>
            <a:xfrm>
              <a:off x="3511440" y="2276640"/>
              <a:ext cx="1425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800080"/>
                  </a:solidFill>
                  <a:latin typeface="Times New Roman"/>
                  <a:ea typeface="宋体"/>
                </a:rPr>
                <a:t>qǐ</a:t>
              </a:r>
              <a:endParaRPr b="1" lang="en-US" sz="5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sp>
        <p:nvSpPr>
          <p:cNvPr id="86" name="AutoShape 10">
            <a:hlinkClick r:id="rId1" action="ppaction://hlinksldjump"/>
          </p:cNvPr>
          <p:cNvSpPr/>
          <p:nvPr/>
        </p:nvSpPr>
        <p:spPr>
          <a:xfrm>
            <a:off x="7010280" y="5867280"/>
            <a:ext cx="2133720" cy="990720"/>
          </a:xfrm>
          <a:custGeom>
            <a:avLst/>
            <a:gdLst>
              <a:gd name="textAreaLeft" fmla="*/ 64080 w 2133720"/>
              <a:gd name="textAreaRight" fmla="*/ 2069640 w 2133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6511" h="21600">
                <a:moveTo>
                  <a:pt x="0" y="0"/>
                </a:moveTo>
                <a:lnTo>
                  <a:pt x="46511" y="0"/>
                </a:lnTo>
                <a:lnTo>
                  <a:pt x="46511" y="21600"/>
                </a:lnTo>
                <a:lnTo>
                  <a:pt x="0" y="21600"/>
                </a:lnTo>
                <a:close/>
              </a:path>
              <a:path fill="lightenLess" w="46511" h="21600">
                <a:moveTo>
                  <a:pt x="0" y="0"/>
                </a:moveTo>
                <a:lnTo>
                  <a:pt x="46511" y="0"/>
                </a:lnTo>
                <a:lnTo>
                  <a:pt x="45111" y="1400"/>
                </a:lnTo>
                <a:lnTo>
                  <a:pt x="1400" y="1400"/>
                </a:lnTo>
                <a:close/>
              </a:path>
              <a:path fill="darken" w="46511" h="21600">
                <a:moveTo>
                  <a:pt x="46511" y="0"/>
                </a:moveTo>
                <a:lnTo>
                  <a:pt x="46511" y="21600"/>
                </a:lnTo>
                <a:lnTo>
                  <a:pt x="45111" y="20200"/>
                </a:lnTo>
                <a:lnTo>
                  <a:pt x="45111" y="1400"/>
                </a:lnTo>
                <a:close/>
              </a:path>
              <a:path fill="darkenLess" w="46511" h="21600">
                <a:moveTo>
                  <a:pt x="46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11" y="20200"/>
                </a:lnTo>
                <a:close/>
              </a:path>
              <a:path fill="lighten" w="46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511" h="21600">
                <a:moveTo>
                  <a:pt x="16249" y="10800"/>
                </a:moveTo>
                <a:lnTo>
                  <a:pt x="30262" y="3794"/>
                </a:lnTo>
                <a:lnTo>
                  <a:pt x="3026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2:55:00Z</dcterms:created>
  <dc:creator/>
  <dc:description/>
  <dc:language>en-US</dc:language>
  <cp:lastModifiedBy/>
  <dcterms:modified xsi:type="dcterms:W3CDTF">2015-07-09T07:22:29Z</dcterms:modified>
  <cp:revision>151</cp:revision>
  <dc:subject/>
  <dc:title/>
</cp:coreProperties>
</file>