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chimes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AB4-9E67-4FC4-8879-1A8658DE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B99-2386-4CE4-975D-1541E612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D94-5CF7-464D-9102-92C8B5A7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3AC-C1D0-4A11-B3B5-CC0F48BE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101-B327-4404-AA55-01A5622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33A-5BF8-4911-8FA9-D644C80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54F-9F7A-4872-8621-0C584E7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985-2AD0-4BC8-BDF5-EE9A664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993-E116-4829-8494-41B9E1D7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721-1DE1-44EF-9361-2A15EA9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5EE-F4CD-4E80-89F7-8EE729DF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C0D-B3AE-48FC-A89F-E96D7CA0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B848-1AA9-4E3B-86C2-1C8458331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70828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燕子专列</a:t>
            </a:r>
            <a:endParaRPr b="0" lang="en-US" sz="6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人教版三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5157720"/>
            <a:ext cx="53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槐阳中心小学     李荣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8920" y="4076640"/>
            <a:ext cx="878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纷纷”“冒着”“顶着”“踏着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360" y="189000"/>
            <a:ext cx="1857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91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居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纷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走出家门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冒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严寒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顶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满天飞舞的大雪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踏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冻得坚硬的山路，四处寻找冻僵的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43200" y="1143000"/>
            <a:ext cx="23623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8640" y="1413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贝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57600"/>
            <a:ext cx="7740720" cy="320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860640"/>
            <a:ext cx="64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天下来，她一个人就救护了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十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只燕子。她的脸冻得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通红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手冻得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僵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但她一点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在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1125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2557440" y="1483560"/>
            <a:ext cx="14201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民：纷纷（                 ），冒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    ），顶着（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踏着（                    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处寻找冻僵的燕子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18840" y="4507200"/>
            <a:ext cx="52250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贝蒂：脸冻得（              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手冻得（                  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但她一点也（                 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0400" y="1413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走出家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560" y="2060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严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4200" y="213372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满天飞舞的大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2200" y="278136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冻得坚硬的山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365720"/>
            <a:ext cx="851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通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54640" y="52293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僵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4880" y="595008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不在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4760" y="0"/>
            <a:ext cx="2649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按原文填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1125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42480" y="907920"/>
            <a:ext cx="5427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列车开动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载着燕子的列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带着人类的友情驶向远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燕子在车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里唧唧喳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仿佛在向人们致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213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祝福小燕子们无论到什么地方，都永远幸福快乐！因为我们人类都关爱着你们！再见了，燕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倒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倒叙是指把后面发生的事情或结果写在前面，把先发生的事情或原因写在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本文就是采用了倒叙的写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开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写人们为燕子送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记叙事情发生的原因及经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最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回到开头送行的那一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尾呼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1557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请爱护鸟，爱护所有生灵，尊重所有的生命，因为我们同在一个地球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987640" y="1989000"/>
            <a:ext cx="2879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4797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制作人   李荣巧     电话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6338097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9800" y="1413000"/>
            <a:ext cx="2892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专列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4760" y="2421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指专为某人或某事特别增开的列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213000"/>
            <a:ext cx="568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燕子专列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480" y="4149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指专门为运送燕子的列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瑞士是世界著名的旅游胜地，她美丽的湖光山色吸引了世界各地的无数游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41840" y="1484280"/>
            <a:ext cx="5231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欧洲  瑞士  舒适  载着  政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启程  麻烦  骤降  跋涉　踏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疲劳  覆盖  车厢　料峭　呼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濒临  饥寒交迫  皑皑白雪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828720" y="260280"/>
            <a:ext cx="4033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770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瑞士  麻烦   濒临死亡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呼吁    纷纷   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484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读课文，选择几个词语，说说课文告诉我们一件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24720" y="4292640"/>
            <a:ext cx="7923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7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年春天，成千上万只燕子从南方飞回北方时，在瑞士境内遇到了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麻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&lt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请你在文中找一找，燕子到底遇到什么麻烦？用波浪线画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2160" y="39052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7960" y="39052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7880" y="40464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fa00"/>
                </a:solidFill>
                <a:latin typeface="黑体"/>
                <a:ea typeface="黑体"/>
              </a:rPr>
              <a:t>当地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气温骤降</a:t>
            </a:r>
            <a:r>
              <a:rPr b="1" lang="zh-CN" sz="4800" spc="-1" strike="noStrike">
                <a:solidFill>
                  <a:srgbClr val="fffa00"/>
                </a:solidFill>
                <a:latin typeface="黑体"/>
                <a:ea typeface="黑体"/>
              </a:rPr>
              <a:t>，风雪不止，几乎所有昆虫都被冻死了。燕子经过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长途跋涉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fffa00"/>
                </a:solidFill>
                <a:latin typeface="黑体"/>
                <a:ea typeface="黑体"/>
              </a:rPr>
              <a:t>已经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非常疲劳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fffa00"/>
                </a:solidFill>
                <a:latin typeface="黑体"/>
                <a:ea typeface="黑体"/>
              </a:rPr>
              <a:t>再加上找不到食物，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饥寒交迫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濒临死亡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02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瑞士政府知道了这个情况，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决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用火车把这些燕子送到温暖的地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97240"/>
            <a:ext cx="505476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4840" y="2997360"/>
            <a:ext cx="5118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这个“决定”说明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81000"/>
            <a:ext cx="9753840" cy="702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4880" y="620640"/>
            <a:ext cx="70203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，政府通过电视和广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呼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立即行动起来，寻找燕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们送到火车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42280" y="3357720"/>
            <a:ext cx="44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人们是如何做的呢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3:41:53Z</dcterms:created>
  <dc:creator>lenovo</dc:creator>
  <dc:description/>
  <dc:language>en-US</dc:language>
  <cp:lastModifiedBy>User</cp:lastModifiedBy>
  <dcterms:modified xsi:type="dcterms:W3CDTF">2013-03-27T06:47:08Z</dcterms:modified>
  <cp:revision>7</cp:revision>
  <dc:subject/>
  <dc:title>幻灯片 1</dc:title>
</cp:coreProperties>
</file>