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31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14.png" ContentType="image/png"/>
  <Override PartName="/ppt/media/image15.jpeg" ContentType="image/jpeg"/>
  <Override PartName="/ppt/media/image16.gif" ContentType="image/gif"/>
  <Override PartName="/ppt/media/image27.jpeg" ContentType="image/jpeg"/>
  <Override PartName="/ppt/media/image17.gif" ContentType="image/gif"/>
  <Override PartName="/ppt/media/image6.gif" ContentType="image/gif"/>
  <Override PartName="/ppt/media/image21.jpeg" ContentType="image/jpeg"/>
  <Override PartName="/ppt/media/image32.wmf" ContentType="image/x-wmf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0037-A8EC-4F46-BB12-42CFB1C98A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447A-B1C9-4D05-A4C2-E72731949B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8055-6FF9-4460-A4EB-274A0CA330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707A-AFF0-43CF-820A-D345DDEDE4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ECF-1656-477A-9AB2-5F9E215C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21C-AEEB-43E0-A965-56152223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A6A-5993-4998-9A1C-E274AD2D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435-2794-4534-B50F-21B657B5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034-FFB6-4FDF-8E83-E1B693C4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100-E07F-463A-BFD1-84E1CCD7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E6B-F440-43DB-8231-C3CB3213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B7D-8769-4307-B336-CEC0EBBE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A8E-AACA-4D64-98A8-98007B2B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0D9-7BE9-4976-BA39-F971ACC7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B29-6F4E-4F3A-80FF-8478FF3D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B4B-891D-4B30-AD2E-7F1EB1C2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F3C5-EA03-4946-BC98-1C8E40D9BC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5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5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6.xml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5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2.wmf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image" Target="../media/image32.wmf"/><Relationship Id="rId7" Type="http://schemas.openxmlformats.org/officeDocument/2006/relationships/image" Target="../media/image32.wmf"/><Relationship Id="rId8" Type="http://schemas.openxmlformats.org/officeDocument/2006/relationships/image" Target="../media/image32.wmf"/><Relationship Id="rId9" Type="http://schemas.openxmlformats.org/officeDocument/2006/relationships/image" Target="../media/image32.wmf"/><Relationship Id="rId10" Type="http://schemas.openxmlformats.org/officeDocument/2006/relationships/image" Target="../media/image32.wmf"/><Relationship Id="rId11" Type="http://schemas.openxmlformats.org/officeDocument/2006/relationships/image" Target="../media/image32.wmf"/><Relationship Id="rId12" Type="http://schemas.openxmlformats.org/officeDocument/2006/relationships/image" Target="../media/image32.wmf"/><Relationship Id="rId13" Type="http://schemas.openxmlformats.org/officeDocument/2006/relationships/image" Target="../media/image32.wmf"/><Relationship Id="rId14" Type="http://schemas.openxmlformats.org/officeDocument/2006/relationships/image" Target="../media/image32.wmf"/><Relationship Id="rId15" Type="http://schemas.openxmlformats.org/officeDocument/2006/relationships/image" Target="../media/image32.wmf"/><Relationship Id="rId1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5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8" descr="Img222667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1" descr=""/>
          <p:cNvPicPr/>
          <p:nvPr/>
        </p:nvPicPr>
        <p:blipFill>
          <a:blip r:embed="rId2"/>
          <a:stretch/>
        </p:blipFill>
        <p:spPr>
          <a:xfrm>
            <a:off x="2328840" y="182520"/>
            <a:ext cx="42735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200411091735347776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108000" y="-4680"/>
            <a:ext cx="88567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感悟居民奉献的爱心</a:t>
            </a:r>
            <a:br>
              <a:rPr sz="3200"/>
            </a:b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　居民知道了这个消息以后，表现怎样</a:t>
            </a:r>
            <a:r>
              <a:rPr b="1" lang="en-US" sz="3200" spc="-1" strike="noStrike">
                <a:solidFill>
                  <a:srgbClr val="cc6600"/>
                </a:solidFill>
                <a:latin typeface="黑体"/>
                <a:ea typeface="黑体"/>
              </a:rPr>
              <a:t>?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(l) 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按照课文补充句子</a:t>
            </a: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听到消息以后，居民     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走出家门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寒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满天飞舞的大雪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冻得僵硬的山路，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寻找冻僵的燕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从横线上的词语读懂了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答：体会人们得知燕子的危险情况后的焦急心情和不畏严寒、不辞辛苦拯救燕子的博大爱心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(3) 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想象成百上千的居民又焦急而又耐心  地四处寻找燕子的感人场面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684360" y="134784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纷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780000" y="12762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冒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443640" y="13478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顶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419640" y="185112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踏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395280" y="23558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四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ic_64002"/>
          <p:cNvPicPr/>
          <p:nvPr/>
        </p:nvPicPr>
        <p:blipFill>
          <a:blip r:embed="rId1"/>
          <a:srcRect l="0" t="51739" r="1151" b="58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0" y="0"/>
            <a:ext cx="9325080" cy="3781080"/>
          </a:xfrm>
          <a:prstGeom prst="rect">
            <a:avLst/>
          </a:prstGeom>
          <a:solidFill>
            <a:srgbClr val="ff99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悟贝蒂付出的真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让我们把目光一起集中到一位名叫贝蒂的小姑娘身上，她跟随爸爸妈妈在覆盖着皑皑白雪的山间，一天就救护了十几只冻僵的燕子，虽然小脸冻得通红，小手冻得僵硬，但她却一点也不在乎。　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(l)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想象她一整天遇到什么困难，是怎么克服的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小贝蒂不在乎什么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她在乎的又是什么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朗读第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自然段，从“冻得通红”、“冻得僵硬”“不在乎”等词语感受小贝蒂对待燕子的忘我真情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8"/>
          <p:cNvSpPr/>
          <p:nvPr/>
        </p:nvSpPr>
        <p:spPr>
          <a:xfrm>
            <a:off x="5076720" y="1484280"/>
            <a:ext cx="352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0" y="2492280"/>
            <a:ext cx="356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9"/>
          <p:cNvSpPr/>
          <p:nvPr/>
        </p:nvSpPr>
        <p:spPr>
          <a:xfrm>
            <a:off x="6588000" y="1989000"/>
            <a:ext cx="21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435640" y="1052640"/>
            <a:ext cx="1584360" cy="504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taiyan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192760" y="1125360"/>
            <a:ext cx="4696200" cy="37508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叫贝蒂的小姑娘，听到广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后，和爸爸妈妈一起，在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覆盖着皑皑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白雪的山间岩缝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寻找冻僵的燕子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天下来，她一个人就救护了十几只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燕子。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她的脸冻得通红，手冻得僵硬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但她一点也不在乎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Oval 3"/>
          <p:cNvSpPr/>
          <p:nvPr/>
        </p:nvSpPr>
        <p:spPr>
          <a:xfrm>
            <a:off x="395280" y="1052640"/>
            <a:ext cx="496872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贝蒂：我想对你说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6001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-228600" y="10587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自读自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692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交流一下，人们为了燕子做了些什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95280" y="1628640"/>
            <a:ext cx="8496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政府方面：做决定、呼吁人们、燕子专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人们方面：纷纷走出家门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竭尽全力寻找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专程送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贝蒂：抢救燕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6001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187280" y="105264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Comic Sans MS"/>
              </a:rPr>
              <a:t>        </a:t>
            </a:r>
            <a:r>
              <a:rPr b="0" lang="zh-CN" sz="4000" spc="-1" strike="noStrike">
                <a:solidFill>
                  <a:srgbClr val="6666ff"/>
                </a:solidFill>
                <a:latin typeface="Comic Sans MS"/>
              </a:rPr>
              <a:t>根据自己的体会和感悟，在“人”和“燕子”之间加上合适的词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3276720" y="436572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6" descr="20051105162944413"/>
          <p:cNvPicPr/>
          <p:nvPr/>
        </p:nvPicPr>
        <p:blipFill>
          <a:blip r:embed="rId2"/>
          <a:stretch/>
        </p:blipFill>
        <p:spPr>
          <a:xfrm flipH="1">
            <a:off x="-612720" y="3500280"/>
            <a:ext cx="3673440" cy="381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20051017205907197"/>
          <p:cNvPicPr/>
          <p:nvPr/>
        </p:nvPicPr>
        <p:blipFill>
          <a:blip r:embed="rId3"/>
          <a:stretch/>
        </p:blipFill>
        <p:spPr>
          <a:xfrm>
            <a:off x="5003640" y="2565360"/>
            <a:ext cx="3656160" cy="2658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2268360" y="378936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人        燕子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taiyan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24000" y="260280"/>
            <a:ext cx="8569080" cy="173988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燕子在车厢里唧唧喳喳，仿佛在向人们致谢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课文插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24000" y="189000"/>
            <a:ext cx="8208720" cy="13129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祝福小燕子们无论到什么地方，都永远幸福快乐！因为我们人类都关爱着你们！再见了，燕子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8900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你写一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我想对贝蒂说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我想对救护燕子的瑞士居民说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我想对瑞士政府说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3203640" y="1989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4"/>
          <p:cNvSpPr/>
          <p:nvPr/>
        </p:nvSpPr>
        <p:spPr>
          <a:xfrm flipV="1">
            <a:off x="755640" y="3429000"/>
            <a:ext cx="8388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826920" y="4797000"/>
            <a:ext cx="8317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24000" y="631800"/>
            <a:ext cx="8624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洲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元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美    亚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非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美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雪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士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程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迪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动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特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悬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荣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降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雨 步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骤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跋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濒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临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濒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危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濒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湖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盖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灭   天翻地覆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包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房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500_PeJBT5X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278080" y="981000"/>
            <a:ext cx="5362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专列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欧洲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瑞士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舒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适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空调  列车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启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程  站台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特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殊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致谢 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麻烦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骤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降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气温  风雪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疲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劳  温暖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政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府  纷纷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救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护  开动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友情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踏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着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载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长途跋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涉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  成千上万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饥寒交迫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taiyan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taiyan"/>
          <p:cNvPicPr/>
          <p:nvPr/>
        </p:nvPicPr>
        <p:blipFill>
          <a:blip r:embed="rId4"/>
          <a:stretch/>
        </p:blipFill>
        <p:spPr>
          <a:xfrm>
            <a:off x="1820880" y="586728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taiyan"/>
          <p:cNvPicPr/>
          <p:nvPr/>
        </p:nvPicPr>
        <p:blipFill>
          <a:blip r:embed="rId5"/>
          <a:stretch/>
        </p:blipFill>
        <p:spPr>
          <a:xfrm>
            <a:off x="3048120" y="586728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taiyan"/>
          <p:cNvPicPr/>
          <p:nvPr/>
        </p:nvPicPr>
        <p:blipFill>
          <a:blip r:embed="rId6"/>
          <a:stretch/>
        </p:blipFill>
        <p:spPr>
          <a:xfrm>
            <a:off x="4343400" y="5905440"/>
            <a:ext cx="617400" cy="571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taiyan"/>
          <p:cNvPicPr/>
          <p:nvPr/>
        </p:nvPicPr>
        <p:blipFill>
          <a:blip r:embed="rId7"/>
          <a:stretch/>
        </p:blipFill>
        <p:spPr>
          <a:xfrm>
            <a:off x="5707080" y="5905440"/>
            <a:ext cx="61740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taiyan"/>
          <p:cNvPicPr/>
          <p:nvPr/>
        </p:nvPicPr>
        <p:blipFill>
          <a:blip r:embed="rId2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1350720" y="1523880"/>
            <a:ext cx="67028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到消息后，居民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纷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门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冒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料峭的春寒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顶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天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舞的大雪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踏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冻得坚硬的山路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四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寻找冻僵的燕子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课文插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24000" y="18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68360" y="0"/>
            <a:ext cx="9178920" cy="3284640"/>
          </a:xfrm>
          <a:prstGeom prst="cloudCallout">
            <a:avLst>
              <a:gd name="adj1" fmla="val -41958"/>
              <a:gd name="adj2" fmla="val -43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这是心的呼唤，这是爱的奉献， 这是人间的春风， 这是生命的源泉 ，再没有心的沙漠 ，再没有爱的荒原， 死神也望而却步 ，幸福之花处处开遍 ，啊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――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只要人人都献出一点爱， 世界将变成美好的人间 ！</a:t>
            </a:r>
            <a:br>
              <a:rPr sz="2400"/>
            </a:b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啊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――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只要人人都献出一点爱， 世界将变成美好的人间 ！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黑鸭子合唱组-爱的奉献.mp3" descr=""/>
          <p:cNvPicPr/>
          <p:nvPr/>
        </p:nvPicPr>
        <p:blipFill>
          <a:blip r:embed="rId2"/>
          <a:stretch/>
        </p:blipFill>
        <p:spPr>
          <a:xfrm>
            <a:off x="7667640" y="5950080"/>
            <a:ext cx="93672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13446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背景图片"/>
          <p:cNvPicPr/>
          <p:nvPr/>
        </p:nvPicPr>
        <p:blipFill>
          <a:blip r:embed="rId1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990720" y="3962520"/>
            <a:ext cx="79246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一年春天，在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ōu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洲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hō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瑞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u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  士的一个车站，一列漂亮舒适的空调列  车正准备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程，站台上站满了送行的人。他们送的是一批特殊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h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的客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燕子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7010280" y="5867280"/>
            <a:ext cx="2362320" cy="990720"/>
          </a:xfrm>
          <a:custGeom>
            <a:avLst/>
            <a:gdLst>
              <a:gd name="textAreaLeft" fmla="*/ 64080 w 2362320"/>
              <a:gd name="textAreaRight" fmla="*/ 2298240 w 2362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1493" h="21600">
                <a:moveTo>
                  <a:pt x="0" y="0"/>
                </a:moveTo>
                <a:lnTo>
                  <a:pt x="51493" y="0"/>
                </a:lnTo>
                <a:lnTo>
                  <a:pt x="51493" y="21600"/>
                </a:lnTo>
                <a:lnTo>
                  <a:pt x="0" y="21600"/>
                </a:lnTo>
                <a:close/>
              </a:path>
              <a:path fill="lightenLess" w="51493" h="21600">
                <a:moveTo>
                  <a:pt x="0" y="0"/>
                </a:moveTo>
                <a:lnTo>
                  <a:pt x="51493" y="0"/>
                </a:lnTo>
                <a:lnTo>
                  <a:pt x="50093" y="1400"/>
                </a:lnTo>
                <a:lnTo>
                  <a:pt x="1400" y="1400"/>
                </a:lnTo>
                <a:close/>
              </a:path>
              <a:path fill="darken" w="51493" h="21600">
                <a:moveTo>
                  <a:pt x="51493" y="0"/>
                </a:moveTo>
                <a:lnTo>
                  <a:pt x="51493" y="21600"/>
                </a:lnTo>
                <a:lnTo>
                  <a:pt x="50093" y="20200"/>
                </a:lnTo>
                <a:lnTo>
                  <a:pt x="50093" y="1400"/>
                </a:lnTo>
                <a:close/>
              </a:path>
              <a:path fill="darkenLess" w="51493" h="21600">
                <a:moveTo>
                  <a:pt x="51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093" y="20200"/>
                </a:lnTo>
                <a:close/>
              </a:path>
              <a:path fill="lighten" w="51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493" h="21600">
                <a:moveTo>
                  <a:pt x="18740" y="10800"/>
                </a:moveTo>
                <a:lnTo>
                  <a:pt x="32753" y="3794"/>
                </a:lnTo>
                <a:lnTo>
                  <a:pt x="327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5">
            <a:hlinkClick r:id="" action="ppaction://hlinkshowjump?jump=nextslide"/>
          </p:cNvPr>
          <p:cNvSpPr/>
          <p:nvPr/>
        </p:nvSpPr>
        <p:spPr>
          <a:xfrm>
            <a:off x="4495680" y="4114800"/>
            <a:ext cx="3505320" cy="457200"/>
          </a:xfrm>
          <a:custGeom>
            <a:avLst/>
            <a:gdLst>
              <a:gd name="textAreaLeft" fmla="*/ 29520 w 3505320"/>
              <a:gd name="textAreaRight" fmla="*/ 3475800 w 3505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5492" h="21600">
                <a:moveTo>
                  <a:pt x="0" y="0"/>
                </a:moveTo>
                <a:lnTo>
                  <a:pt x="165492" y="0"/>
                </a:lnTo>
                <a:lnTo>
                  <a:pt x="165492" y="21600"/>
                </a:lnTo>
                <a:lnTo>
                  <a:pt x="0" y="21600"/>
                </a:lnTo>
                <a:close/>
              </a:path>
              <a:path fill="lightenLess" w="165492" h="21600">
                <a:moveTo>
                  <a:pt x="0" y="0"/>
                </a:moveTo>
                <a:lnTo>
                  <a:pt x="165492" y="0"/>
                </a:lnTo>
                <a:lnTo>
                  <a:pt x="164092" y="1400"/>
                </a:lnTo>
                <a:lnTo>
                  <a:pt x="1400" y="1400"/>
                </a:lnTo>
                <a:close/>
              </a:path>
              <a:path fill="darken" w="165492" h="21600">
                <a:moveTo>
                  <a:pt x="165492" y="0"/>
                </a:moveTo>
                <a:lnTo>
                  <a:pt x="165492" y="21600"/>
                </a:lnTo>
                <a:lnTo>
                  <a:pt x="164092" y="20200"/>
                </a:lnTo>
                <a:lnTo>
                  <a:pt x="164092" y="1400"/>
                </a:lnTo>
                <a:close/>
              </a:path>
              <a:path fill="darkenLess" w="165492" h="21600">
                <a:moveTo>
                  <a:pt x="165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092" y="20200"/>
                </a:lnTo>
                <a:close/>
              </a:path>
              <a:path fill="lighten" w="165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219320" y="449568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514600" y="495288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581280" y="541008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6381720"/>
            <a:ext cx="1547640" cy="476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10" descr="u=3393861165,1499611761&amp;gp=30"/>
          <p:cNvPicPr/>
          <p:nvPr/>
        </p:nvPicPr>
        <p:blipFill>
          <a:blip r:embed="rId2"/>
          <a:stretch/>
        </p:blipFill>
        <p:spPr>
          <a:xfrm>
            <a:off x="1763640" y="836640"/>
            <a:ext cx="604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24000" y="260280"/>
            <a:ext cx="8569080" cy="764280"/>
          </a:xfrm>
          <a:prstGeom prst="rect">
            <a:avLst/>
          </a:prstGeom>
          <a:solidFill>
            <a:srgbClr val="3366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燕子在车厢里唧唧喳喳，仿佛在向人们致谢</a:t>
            </a: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ic_2544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0" y="189000"/>
            <a:ext cx="30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自由读课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91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、体会送别的感人场面</a:t>
            </a:r>
            <a:br>
              <a:rPr sz="3200"/>
            </a:br>
            <a:r>
              <a:rPr b="0" lang="zh-CN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　　这些冰天雪地中饥寒交迫的燕子，等待它们的似乎只有死亡，但因为政府的伟大决策，居民的爱心奉献，贝蒂的真情付出，它们却走进了漂亮舒适的空调列车，并即将启程返回自己眷恋的家园。列车缓缓启动，在人们送别与祝福的目光中，车厢里的燕子对着人们卿卿喳喳地叫个不停，它们在说些什么呢</a:t>
            </a:r>
            <a:r>
              <a:rPr b="0" lang="en-US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?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  <a:ea typeface="华文新魏"/>
              </a:rPr>
              <a:t>—</a:t>
            </a:r>
            <a:r>
              <a:rPr b="0" lang="zh-CN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同学们，假如你就是车厢中的一只曾经被居民或贝蒂救护的燕子，在你即将告别他们的时候会对他们说些什么呢</a:t>
            </a:r>
            <a:r>
              <a:rPr b="0" lang="en-US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想好了，请写下来。然后用你最在真挚的声音把它读出来和大家一起分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484000" y="764640"/>
            <a:ext cx="6202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、与贝蒂关切交流</a:t>
            </a:r>
            <a:br>
              <a:rPr sz="3200"/>
            </a:br>
            <a:r>
              <a:rPr b="0" lang="zh-CN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　　列车在人们的视线中渐渐远去，大家陆续离开站台，然而贝蒂却依然眺望着列车远去的力一向，挥动着冻得僵硬的小手，为车厢中的燕子们祝福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  <a:ea typeface="华文新魏"/>
              </a:rPr>
              <a:t>……</a:t>
            </a:r>
            <a:r>
              <a:rPr b="0" lang="zh-CN" sz="3200" spc="-1" strike="noStrike">
                <a:solidFill>
                  <a:srgbClr val="bbe0e3"/>
                </a:solidFill>
                <a:latin typeface="华文新魏"/>
                <a:ea typeface="华文新魏"/>
              </a:rPr>
              <a:t>同学们，你们一定知道此时此刻的贝蒂内心深处的语言，也一定有很多的心里话想对贝蒂说。请同桌的同学相互说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ic_64002"/>
          <p:cNvPicPr/>
          <p:nvPr/>
        </p:nvPicPr>
        <p:blipFill>
          <a:blip r:embed="rId2"/>
          <a:srcRect l="20902" t="0" r="0" b="-100"/>
          <a:stretch/>
        </p:blipFill>
        <p:spPr>
          <a:xfrm>
            <a:off x="179280" y="1341360"/>
            <a:ext cx="24735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图片3"/>
          <p:cNvPicPr/>
          <p:nvPr/>
        </p:nvPicPr>
        <p:blipFill>
          <a:blip r:embed="rId1"/>
          <a:stretch/>
        </p:blipFill>
        <p:spPr>
          <a:xfrm>
            <a:off x="179280" y="3919680"/>
            <a:ext cx="3961080" cy="2604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图片4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519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8"/>
          <p:cNvPicPr/>
          <p:nvPr/>
        </p:nvPicPr>
        <p:blipFill>
          <a:blip r:embed="rId3"/>
          <a:stretch/>
        </p:blipFill>
        <p:spPr>
          <a:xfrm>
            <a:off x="5003640" y="765000"/>
            <a:ext cx="3810240" cy="2505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图片10"/>
          <p:cNvPicPr/>
          <p:nvPr/>
        </p:nvPicPr>
        <p:blipFill>
          <a:blip r:embed="rId4"/>
          <a:stretch/>
        </p:blipFill>
        <p:spPr>
          <a:xfrm>
            <a:off x="5003640" y="3933720"/>
            <a:ext cx="3810240" cy="257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图片9"/>
          <p:cNvPicPr/>
          <p:nvPr/>
        </p:nvPicPr>
        <p:blipFill>
          <a:blip r:embed="rId5"/>
          <a:stretch/>
        </p:blipFill>
        <p:spPr>
          <a:xfrm>
            <a:off x="2627280" y="2492280"/>
            <a:ext cx="3809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taiyan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629720" y="2133720"/>
            <a:ext cx="6296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列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漂亮舒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空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车正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备启程，站台上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站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送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2464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5832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755640" y="1413000"/>
            <a:ext cx="77770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认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欧、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等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个生字，会写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欧、洲、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等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个字。正确读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欧洲、瑞士、舒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等词语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了解课文内容，体会人与动物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间的美好的情意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5092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200412619431561169"/>
          <p:cNvPicPr/>
          <p:nvPr/>
        </p:nvPicPr>
        <p:blipFill>
          <a:blip r:embed="rId1"/>
          <a:srcRect l="0" t="0" r="1403" b="1368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755640" y="134136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  <a:ea typeface="宋体"/>
              </a:rPr>
              <a:t>你还记得</a:t>
            </a:r>
            <a:r>
              <a:rPr b="1" lang="en-US" sz="3600" spc="-1" strike="noStrike">
                <a:solidFill>
                  <a:srgbClr val="6666ff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  <a:ea typeface="宋体"/>
              </a:rPr>
              <a:t>燕子</a:t>
            </a:r>
            <a:r>
              <a:rPr b="1" lang="en-US" sz="3600" spc="-1" strike="noStrike">
                <a:solidFill>
                  <a:srgbClr val="6666ff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  <a:ea typeface="宋体"/>
              </a:rPr>
              <a:t>的第二段吗？我们现在一起背诵好吗？是啊，每年春天燕子都会给我们带来欣喜。它们春来秋去，在这一来一回的长途跋涉中，会发生多少事？可能还会遇到很多危险！今天我们就来学习</a:t>
            </a:r>
            <a:r>
              <a:rPr b="1" lang="en-US" sz="3600" spc="-1" strike="noStrike">
                <a:solidFill>
                  <a:srgbClr val="6666ff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  <a:ea typeface="宋体"/>
              </a:rPr>
              <a:t>燕子专列</a:t>
            </a:r>
            <a:r>
              <a:rPr b="1" lang="en-US" sz="3600" spc="-1" strike="noStrike">
                <a:solidFill>
                  <a:srgbClr val="6666ff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6666ff"/>
                </a:solidFill>
                <a:latin typeface="Times New Roman"/>
                <a:ea typeface="宋体"/>
              </a:rPr>
              <a:t>这一课，它一定让你产生很多感慨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50920" y="404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课文导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pic242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24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684360" y="1560960"/>
            <a:ext cx="489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欧   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瑞                              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殊                              骤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跋  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濒                              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厢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4000" y="69228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435640" y="1574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(</a:t>
            </a:r>
            <a:r>
              <a:rPr b="0" lang="zh-CN" sz="4000" spc="-1" strike="noStrike">
                <a:solidFill>
                  <a:srgbClr val="6666ff"/>
                </a:solidFill>
                <a:latin typeface="Arial"/>
                <a:ea typeface="华文新魏"/>
              </a:rPr>
              <a:t>欧洲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340000" y="157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ō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u)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258920" y="508464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xi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ā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ng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292720" y="436572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fù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708360" y="36640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shè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291280" y="2997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zhòu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333440" y="4383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b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ī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n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2195640" y="36640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bá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333440" y="2997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sh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ū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332000" y="2295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ruì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5291280" y="2276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q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ǐ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708360" y="1574640"/>
            <a:ext cx="15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(zh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ō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  <a:ea typeface="华文新魏"/>
              </a:rPr>
              <a:t>u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6732720" y="43718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(</a:t>
            </a:r>
            <a:r>
              <a:rPr b="0" lang="zh-CN" sz="4000" spc="-1" strike="noStrike">
                <a:solidFill>
                  <a:srgbClr val="6666ff"/>
                </a:solidFill>
                <a:latin typeface="Arial"/>
                <a:ea typeface="华文新魏"/>
              </a:rPr>
              <a:t>覆盖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2627280" y="5084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(</a:t>
            </a:r>
            <a:r>
              <a:rPr b="0" lang="zh-CN" sz="4000" spc="-1" strike="noStrike">
                <a:solidFill>
                  <a:srgbClr val="6666ff"/>
                </a:solidFill>
                <a:latin typeface="Arial"/>
                <a:ea typeface="华文新魏"/>
              </a:rPr>
              <a:t>车厢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2556000" y="4437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(</a:t>
            </a:r>
            <a:r>
              <a:rPr b="0" lang="zh-CN" sz="4000" spc="-1" strike="noStrike">
                <a:solidFill>
                  <a:srgbClr val="6666ff"/>
                </a:solidFill>
                <a:latin typeface="Arial"/>
                <a:ea typeface="华文新魏"/>
              </a:rPr>
              <a:t>濒临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5508720" y="371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(</a:t>
            </a:r>
            <a:r>
              <a:rPr b="0" lang="zh-CN" sz="4000" spc="-1" strike="noStrike">
                <a:solidFill>
                  <a:srgbClr val="6666ff"/>
                </a:solidFill>
                <a:latin typeface="Arial"/>
                <a:ea typeface="华文新魏"/>
              </a:rPr>
              <a:t>跋涉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2484360" y="2997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(</a:t>
            </a:r>
            <a:r>
              <a:rPr b="0" lang="zh-CN" sz="4000" spc="-1" strike="noStrike">
                <a:solidFill>
                  <a:srgbClr val="6666ff"/>
                </a:solidFill>
                <a:latin typeface="Arial"/>
                <a:ea typeface="华文新魏"/>
              </a:rPr>
              <a:t>特殊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2484360" y="2295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(</a:t>
            </a:r>
            <a:r>
              <a:rPr b="0" lang="zh-CN" sz="4000" spc="-1" strike="noStrike">
                <a:solidFill>
                  <a:srgbClr val="6666ff"/>
                </a:solidFill>
                <a:latin typeface="Arial"/>
                <a:ea typeface="华文新魏"/>
              </a:rPr>
              <a:t>瑞士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6732720" y="30034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(</a:t>
            </a:r>
            <a:r>
              <a:rPr b="0" lang="zh-CN" sz="4000" spc="-1" strike="noStrike">
                <a:solidFill>
                  <a:srgbClr val="6666ff"/>
                </a:solidFill>
                <a:latin typeface="Arial"/>
                <a:ea typeface="华文新魏"/>
              </a:rPr>
              <a:t>骤然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6732720" y="22827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(</a:t>
            </a:r>
            <a:r>
              <a:rPr b="0" lang="zh-CN" sz="4000" spc="-1" strike="noStrike">
                <a:solidFill>
                  <a:srgbClr val="6666ff"/>
                </a:solidFill>
                <a:latin typeface="Arial"/>
                <a:ea typeface="华文新魏"/>
              </a:rPr>
              <a:t>启程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pic242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24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图片9"/>
          <p:cNvPicPr/>
          <p:nvPr/>
        </p:nvPicPr>
        <p:blipFill>
          <a:blip r:embed="rId2"/>
          <a:stretch/>
        </p:blipFill>
        <p:spPr>
          <a:xfrm>
            <a:off x="140328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图片9"/>
          <p:cNvPicPr/>
          <p:nvPr/>
        </p:nvPicPr>
        <p:blipFill>
          <a:blip r:embed="rId3"/>
          <a:stretch/>
        </p:blipFill>
        <p:spPr>
          <a:xfrm>
            <a:off x="2916360" y="328464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图片9"/>
          <p:cNvPicPr/>
          <p:nvPr/>
        </p:nvPicPr>
        <p:blipFill>
          <a:blip r:embed="rId4"/>
          <a:stretch/>
        </p:blipFill>
        <p:spPr>
          <a:xfrm>
            <a:off x="2916360" y="177156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图片9"/>
          <p:cNvPicPr/>
          <p:nvPr/>
        </p:nvPicPr>
        <p:blipFill>
          <a:blip r:embed="rId5"/>
          <a:stretch/>
        </p:blipFill>
        <p:spPr>
          <a:xfrm>
            <a:off x="435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图片9"/>
          <p:cNvPicPr/>
          <p:nvPr/>
        </p:nvPicPr>
        <p:blipFill>
          <a:blip r:embed="rId6"/>
          <a:stretch/>
        </p:blipFill>
        <p:spPr>
          <a:xfrm>
            <a:off x="291456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图片9"/>
          <p:cNvPicPr/>
          <p:nvPr/>
        </p:nvPicPr>
        <p:blipFill>
          <a:blip r:embed="rId7"/>
          <a:stretch/>
        </p:blipFill>
        <p:spPr>
          <a:xfrm>
            <a:off x="579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图片9"/>
          <p:cNvPicPr/>
          <p:nvPr/>
        </p:nvPicPr>
        <p:blipFill>
          <a:blip r:embed="rId8"/>
          <a:stretch/>
        </p:blipFill>
        <p:spPr>
          <a:xfrm>
            <a:off x="435600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图片9"/>
          <p:cNvPicPr/>
          <p:nvPr/>
        </p:nvPicPr>
        <p:blipFill>
          <a:blip r:embed="rId9"/>
          <a:stretch/>
        </p:blipFill>
        <p:spPr>
          <a:xfrm>
            <a:off x="140328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图片9"/>
          <p:cNvPicPr/>
          <p:nvPr/>
        </p:nvPicPr>
        <p:blipFill>
          <a:blip r:embed="rId10"/>
          <a:stretch/>
        </p:blipFill>
        <p:spPr>
          <a:xfrm>
            <a:off x="7236000" y="17733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图片9"/>
          <p:cNvPicPr/>
          <p:nvPr/>
        </p:nvPicPr>
        <p:blipFill>
          <a:blip r:embed="rId11"/>
          <a:stretch/>
        </p:blipFill>
        <p:spPr>
          <a:xfrm>
            <a:off x="579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图片9"/>
          <p:cNvPicPr/>
          <p:nvPr/>
        </p:nvPicPr>
        <p:blipFill>
          <a:blip r:embed="rId12"/>
          <a:stretch/>
        </p:blipFill>
        <p:spPr>
          <a:xfrm>
            <a:off x="435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图片9"/>
          <p:cNvPicPr/>
          <p:nvPr/>
        </p:nvPicPr>
        <p:blipFill>
          <a:blip r:embed="rId13"/>
          <a:stretch/>
        </p:blipFill>
        <p:spPr>
          <a:xfrm>
            <a:off x="1403280" y="3284640"/>
            <a:ext cx="936720" cy="936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476000" y="1844280"/>
            <a:ext cx="6767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欧     洲     瑞     士     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6" descr="图片9"/>
          <p:cNvPicPr/>
          <p:nvPr/>
        </p:nvPicPr>
        <p:blipFill>
          <a:blip r:embed="rId14"/>
          <a:stretch/>
        </p:blipFill>
        <p:spPr>
          <a:xfrm>
            <a:off x="5796000" y="4797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7"/>
          <p:cNvSpPr/>
          <p:nvPr/>
        </p:nvSpPr>
        <p:spPr>
          <a:xfrm>
            <a:off x="1476360" y="4869000"/>
            <a:ext cx="5256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  <a:ea typeface="宋体"/>
              </a:rPr>
              <a:t>政     踏     救     载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8" descr="图片9"/>
          <p:cNvPicPr/>
          <p:nvPr/>
        </p:nvPicPr>
        <p:blipFill>
          <a:blip r:embed="rId15"/>
          <a:stretch/>
        </p:blipFill>
        <p:spPr>
          <a:xfrm>
            <a:off x="7236000" y="3284640"/>
            <a:ext cx="936360" cy="936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9"/>
          <p:cNvSpPr/>
          <p:nvPr/>
        </p:nvSpPr>
        <p:spPr>
          <a:xfrm>
            <a:off x="1476360" y="33256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  <a:ea typeface="宋体"/>
              </a:rPr>
              <a:t>启     殊     骤     涉     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pic242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24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640" y="1486080"/>
            <a:ext cx="756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专列     欧洲     瑞士     舒适     空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列车     启程     站台     特殊     长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麻烦     骤降     气温     风雪     疲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温暖     政府     纷纷     救护     开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友情     致谢     成千上万    饥寒交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6001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826920" y="1844640"/>
            <a:ext cx="777744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1</a:t>
            </a:r>
            <a:r>
              <a:rPr b="0" lang="zh-CN" sz="3600" spc="-1" strike="noStrike">
                <a:solidFill>
                  <a:srgbClr val="6666ff"/>
                </a:solidFill>
                <a:latin typeface="Comic Sans MS"/>
              </a:rPr>
              <a:t>、把课文读正确、流利。认读生字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2 </a:t>
            </a:r>
            <a:r>
              <a:rPr b="0" lang="zh-CN" sz="3600" spc="-1" strike="noStrike">
                <a:solidFill>
                  <a:srgbClr val="6666ff"/>
                </a:solidFill>
                <a:latin typeface="Comic Sans MS"/>
              </a:rPr>
              <a:t>、边读边思考，人们为了燕子做了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66ff"/>
                </a:solidFill>
                <a:latin typeface="Comic Sans MS"/>
              </a:rPr>
              <a:t>       </a:t>
            </a:r>
            <a:r>
              <a:rPr b="0" lang="zh-CN" sz="3600" spc="-1" strike="noStrike">
                <a:solidFill>
                  <a:srgbClr val="6666ff"/>
                </a:solidFill>
                <a:latin typeface="Comic Sans MS"/>
              </a:rPr>
              <a:t>什么，从中你体会到了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0920" y="765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自读自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gq_25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3348000" y="1413000"/>
            <a:ext cx="403236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爱的奉献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5435640" y="2349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韦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0" name="爱的奉献(韦唯).mp3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290619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564000" y="620640"/>
            <a:ext cx="518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走过那条小河你可曾听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一位女孩她曾经来过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走过那片芦苇坡你可曾听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一位女孩她留下一首歌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何片片白云悄悄落泪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何阵阵风儿为她诉说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还有一群丹顶鹤轻轻地轻轻地飞过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走过那条小河你可曾听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一位女孩她曾经来过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走过那片芦苇坡你可曾听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一位女孩她再也没来过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只有片片白云为她落泪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只有阵阵风儿为她诉说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还有一群丹顶鹤轻轻地轻轻地飞过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只有片片白云为她落泪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只有阵阵风儿为她诉说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还有一群丹顶鹤轻轻地轻轻地飞过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~~~~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~~~~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8" descr="yz01"/>
          <p:cNvPicPr/>
          <p:nvPr/>
        </p:nvPicPr>
        <p:blipFill>
          <a:blip r:embed="rId1"/>
          <a:srcRect l="62724" t="45017" r="0" b="0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yz01"/>
          <p:cNvPicPr/>
          <p:nvPr/>
        </p:nvPicPr>
        <p:blipFill>
          <a:blip r:embed="rId2"/>
          <a:srcRect l="6334" t="0" r="0" b="0"/>
          <a:stretch/>
        </p:blipFill>
        <p:spPr>
          <a:xfrm>
            <a:off x="0" y="0"/>
            <a:ext cx="37306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2914560" y="169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燕子、别名拙燕、观音燕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额、喉栗色，且侵入胸部，胸具不完整的黑色横带，下体余部白无条纹，上体余部均为蓝黑色。多见于居民点附近的空中、建筑物、电线上等。耐飞，觅食和营巢时来回不停，往往在飞行时伴随发出“咝咝”声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3-8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月繁殖，巢筑于屋檐下或横梁上，用泥土混和稻草、羽毛构成半碗状，内垫细草根和羽毛，雌雄二鸟合同衔泥作巢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主要以蚊、蝇等小型昆虫为食，是众所周知的益鸟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934320" y="3200400"/>
            <a:ext cx="47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3">
            <a:hlinkClick r:id="rId1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4" descr="世界地图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179360" y="333360"/>
            <a:ext cx="7964280" cy="5519520"/>
            <a:chOff x="1179360" y="333360"/>
            <a:chExt cx="7964280" cy="5519520"/>
          </a:xfrm>
        </p:grpSpPr>
        <p:pic>
          <p:nvPicPr>
            <p:cNvPr id="62" name="Picture 3" descr="欧洲"/>
            <p:cNvPicPr/>
            <p:nvPr/>
          </p:nvPicPr>
          <p:blipFill>
            <a:blip r:embed="rId1"/>
            <a:srcRect l="0" t="8370" r="0" b="0"/>
            <a:stretch/>
          </p:blipFill>
          <p:spPr>
            <a:xfrm>
              <a:off x="1179360" y="333360"/>
              <a:ext cx="6372000" cy="55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4"/>
            <p:cNvSpPr/>
            <p:nvPr/>
          </p:nvSpPr>
          <p:spPr>
            <a:xfrm>
              <a:off x="8013600" y="2085840"/>
              <a:ext cx="1130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欧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洲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" name="Text Box 6"/>
          <p:cNvSpPr/>
          <p:nvPr/>
        </p:nvSpPr>
        <p:spPr>
          <a:xfrm>
            <a:off x="-220320" y="3500280"/>
            <a:ext cx="127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  士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187280" y="3860640"/>
            <a:ext cx="2667240" cy="304920"/>
          </a:xfrm>
          <a:prstGeom prst="rightArrow">
            <a:avLst>
              <a:gd name="adj1" fmla="val 50000"/>
              <a:gd name="adj2" fmla="val 21868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7"/>
          <p:cNvSpPr/>
          <p:nvPr/>
        </p:nvSpPr>
        <p:spPr>
          <a:xfrm>
            <a:off x="324000" y="404640"/>
            <a:ext cx="83516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悟燕子面临的“麻烦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、春暖花开，万物复苏，成千上万只燕子高高兴兴地从南方飞往北方。然而，它们在瑞士境内却遇到了麻烦。究竟是什么麻烦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当地气温骤降，风雪不止，几乎所有昆虫都被冻死了。燕子经过长途跋涉，已经非常疲劳，再加上找不致食物，饥寒交迫，濒临死亡”借以体会燕子所面临的艰难处境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想象成千上万只燕子瘫痪在雪地里的场面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0" y="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精读课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2400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如果你此时能听懂燕子说话，燕子们会说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68360" y="1268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假如你是瑞士总统你准备为燕子做些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79280" y="3984480"/>
            <a:ext cx="8713800" cy="287244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黑体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感悟政府决策的伟大</a:t>
            </a:r>
            <a:br>
              <a:rPr sz="3600"/>
            </a:br>
            <a:r>
              <a:rPr b="1" lang="zh-CN" sz="3600" spc="-1" strike="noStrike">
                <a:solidFill>
                  <a:srgbClr val="cc6600"/>
                </a:solidFill>
                <a:latin typeface="黑体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正当这些燕子处于生死存亡的关键时刻，瑞士政府做出了怎样的决策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br>
              <a:rPr sz="40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无标题"/>
          <p:cNvPicPr/>
          <p:nvPr/>
        </p:nvPicPr>
        <p:blipFill>
          <a:blip r:embed="rId1"/>
          <a:stretch/>
        </p:blipFill>
        <p:spPr>
          <a:xfrm>
            <a:off x="-468360" y="-171360"/>
            <a:ext cx="10296720" cy="741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taiyan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867280"/>
            <a:ext cx="617400" cy="571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018800" y="189000"/>
            <a:ext cx="6703200" cy="19224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士政府知道了这个情况，决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用火车把这些燕子送到温暖的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95280" y="2421000"/>
            <a:ext cx="8064360" cy="8251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P2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泡：答：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燕子专列：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群遇难的燕子与一个国家的其他大事比较，实在是太微不足道了。但政府却决定用专列送燕子回温暖的地方，真是了不起的举动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/>
  <dcterms:modified xsi:type="dcterms:W3CDTF">2015-07-09T07:38:09Z</dcterms:modified>
  <cp:revision>689</cp:revision>
  <dc:subject/>
  <dc:title/>
</cp:coreProperties>
</file>