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0.jpeg" ContentType="image/jpeg"/>
  <Override PartName="/ppt/media/image2.gif" ContentType="image/gif"/>
  <Override PartName="/ppt/media/image5.jpeg" ContentType="image/jpeg"/>
  <Override PartName="/ppt/media/image8.gif" ContentType="image/gif"/>
  <Override PartName="/ppt/media/image4.jpeg" ContentType="image/jpeg"/>
  <Override PartName="/ppt/media/image7.wmf" ContentType="image/x-wmf"/>
  <Override PartName="/ppt/media/image6.jpeg" ContentType="image/jpeg"/>
  <Override PartName="/ppt/media/chimes.wav" ContentType="audio/x-wav"/>
  <Override PartName="/ppt/media/image16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image20.gif" ContentType="image/gif"/>
  <Override PartName="/ppt/media/image22.jpeg" ContentType="image/jpeg"/>
  <Override PartName="/ppt/media/image1.jpeg" ContentType="image/jpe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290C-8467-490F-9455-C71D5D69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702C-BA47-4930-BCCB-CFE5282D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6902-3E8C-42DA-B1F1-63E4F1FBA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44B6-A47C-496F-97A8-4FA2A78BA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5CB0-6D2E-4BF6-9D90-6EF183F4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48AD-785B-4AF5-A741-C4735BFD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B7A6-665D-40E0-BC85-70A6F6EB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0A95-0482-4809-9CB0-781D57A0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7001-2B4E-432B-AFC1-C4B5C92C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2AAF-7300-4479-B6A9-2E4396F4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A675-D52A-42E4-B007-90265ABF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C646-FFD1-4F40-AE55-7395319E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039F-55ED-4466-928C-496B4AB342EA}" type="slidenum">
              <a:rPr b="0" lang="zh-CN" sz="14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hyperlink" Target="http://www.1ydt.com/video/n_show/Nav_188/9DCB88E0_1.htm" TargetMode="External"/><Relationship Id="rId4" Type="http://schemas.openxmlformats.org/officeDocument/2006/relationships/hyperlink" Target="http://www.1ydt.com/video/n_show/Nav_188/9DCB88E0_1.htm" TargetMode="Externa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ydt.com/video/n_show/Nav_188/9DCB88E0_1.htm" TargetMode="External"/><Relationship Id="rId3" Type="http://schemas.openxmlformats.org/officeDocument/2006/relationships/hyperlink" Target="http://www.1ydt.com/video/n_show/Nav_188/9DCB88E0_1.htm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ydt.com/video/n_show/Nav_188/9DCB88E0_1.htm" TargetMode="External"/><Relationship Id="rId3" Type="http://schemas.openxmlformats.org/officeDocument/2006/relationships/hyperlink" Target="http://www.1ydt.com/video/n_show/Nav_188/9DCB88E0_1.htm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ydt.com/video/n_show/Nav_188/9DCB88E0_1.htm" TargetMode="External"/><Relationship Id="rId3" Type="http://schemas.openxmlformats.org/officeDocument/2006/relationships/hyperlink" Target="http://www.1ydt.com/video/n_show/Nav_188/9DCB88E0_1.htm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hyperlink" Target="http://www.1ydt.com/video/n_show/Nav_188/9DCB88E0_1.htm" TargetMode="External"/><Relationship Id="rId4" Type="http://schemas.openxmlformats.org/officeDocument/2006/relationships/hyperlink" Target="http://www.1ydt.com/video/n_show/Nav_188/9DCB88E0_1.htm" TargetMode="External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hyperlink" Target="http://www.1ydt.com/video/n_show/Nav_188/9DCB88E0_1.htm" TargetMode="External"/><Relationship Id="rId4" Type="http://schemas.openxmlformats.org/officeDocument/2006/relationships/hyperlink" Target="http://www.1ydt.com/video/n_show/Nav_188/9DCB88E0_1.htm" TargetMode="Externa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hyperlink" Target="http://www.1ydt.com/video/n_show/Nav_188/9DCB88E0_1.htm" TargetMode="External"/><Relationship Id="rId4" Type="http://schemas.openxmlformats.org/officeDocument/2006/relationships/hyperlink" Target="http://www.1ydt.com/video/n_show/Nav_188/9DCB88E0_1.htm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hyperlink" Target="http://www.1ydt.com/video/n_show/Nav_188/9DCB88E0_1.htm" TargetMode="External"/><Relationship Id="rId4" Type="http://schemas.openxmlformats.org/officeDocument/2006/relationships/hyperlink" Target="http://www.1ydt.com/video/n_show/Nav_188/9DCB88E0_1.htm" TargetMode="Externa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hyperlink" Target="http://www.1ydt.com/video/n_show/Nav_188/9DCB88E0_1.htm" TargetMode="External"/><Relationship Id="rId4" Type="http://schemas.openxmlformats.org/officeDocument/2006/relationships/hyperlink" Target="http://www.1ydt.com/video/n_show/Nav_188/9DCB88E0_1.htm" TargetMode="External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hyperlink" Target="http://www.1ydt.com/video/n_show/Nav_188/9DCB88E0_1.htm" TargetMode="External"/><Relationship Id="rId5" Type="http://schemas.openxmlformats.org/officeDocument/2006/relationships/hyperlink" Target="http://www.1ydt.com/video/n_show/Nav_188/9DCB88E0_1.htm" TargetMode="External"/><Relationship Id="rId6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hyperlink" Target="http://www.1ydt.com/video/n_show/Nav_188/9DCB88E0_1.htm" TargetMode="External"/><Relationship Id="rId5" Type="http://schemas.openxmlformats.org/officeDocument/2006/relationships/hyperlink" Target="http://www.1ydt.com/video/n_show/Nav_188/9DCB88E0_1.htm" TargetMode="External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http://www.1ydt.com/video/n_show/Nav_188/9DCB88E0_1.htm" TargetMode="External"/><Relationship Id="rId4" Type="http://schemas.openxmlformats.org/officeDocument/2006/relationships/hyperlink" Target="http://www.1ydt.com/video/n_show/Nav_188/9DCB88E0_1.htm" TargetMode="Externa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hyperlink" Target="http://www.1ydt.com/video/n_show/Nav_188/9DCB88E0_1.htm" TargetMode="External"/><Relationship Id="rId5" Type="http://schemas.openxmlformats.org/officeDocument/2006/relationships/hyperlink" Target="http://www.1ydt.com/video/n_show/Nav_188/9DCB88E0_1.htm" TargetMode="External"/><Relationship Id="rId6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hyperlink" Target="http://www.1ydt.com/video/n_show/Nav_188/9DCB88E0_1.htm" TargetMode="External"/><Relationship Id="rId5" Type="http://schemas.openxmlformats.org/officeDocument/2006/relationships/hyperlink" Target="http://www.1ydt.com/video/n_show/Nav_188/9DCB88E0_1.htm" TargetMode="External"/><Relationship Id="rId6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hyperlink" Target="http://www.1ydt.com/video/n_show/Nav_188/9DCB88E0_1.htm" TargetMode="External"/><Relationship Id="rId4" Type="http://schemas.openxmlformats.org/officeDocument/2006/relationships/hyperlink" Target="http://www.1ydt.com/video/n_show/Nav_188/9DCB88E0_1.htm" TargetMode="External"/><Relationship Id="rId5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hyperlink" Target="http://www.1ydt.com/video/n_show/Nav_188/9DCB88E0_1.htm" TargetMode="External"/><Relationship Id="rId4" Type="http://schemas.openxmlformats.org/officeDocument/2006/relationships/hyperlink" Target="http://www.1ydt.com/video/n_show/Nav_188/9DCB88E0_1.htm" TargetMode="External"/><Relationship Id="rId5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hyperlink" Target="http://www.1ydt.com/video/n_show/Nav_188/9DCB88E0_1.htm" TargetMode="External"/><Relationship Id="rId4" Type="http://schemas.openxmlformats.org/officeDocument/2006/relationships/hyperlink" Target="http://www.1ydt.com/video/n_show/Nav_188/9DCB88E0_1.htm" TargetMode="External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hyperlink" Target="http://www.1ydt.com/video/n_show/Nav_188/9DCB88E0_1.htm" TargetMode="External"/><Relationship Id="rId4" Type="http://schemas.openxmlformats.org/officeDocument/2006/relationships/hyperlink" Target="http://www.1ydt.com/video/n_show/Nav_188/9DCB88E0_1.htm" TargetMode="External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5.jpeg"/><Relationship Id="rId4" Type="http://schemas.openxmlformats.org/officeDocument/2006/relationships/hyperlink" Target="http://www.1ydt.com/video/n_show/Nav_188/9DCB88E0_1.htm" TargetMode="External"/><Relationship Id="rId5" Type="http://schemas.openxmlformats.org/officeDocument/2006/relationships/hyperlink" Target="http://www.1ydt.com/video/n_show/Nav_188/9DCB88E0_1.htm" TargetMode="External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hyperlink" Target="http://www.1ydt.com/video/n_show/Nav_188/9DCB88E0_1.htm" TargetMode="External"/><Relationship Id="rId4" Type="http://schemas.openxmlformats.org/officeDocument/2006/relationships/hyperlink" Target="http://www.1ydt.com/video/n_show/Nav_188/9DCB88E0_1.htm" TargetMode="External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hyperlink" Target="http://www.1ydt.com/video/n_show/Nav_188/9DCB88E0_1.htm" TargetMode="External"/><Relationship Id="rId5" Type="http://schemas.openxmlformats.org/officeDocument/2006/relationships/hyperlink" Target="http://www.1ydt.com/video/n_show/Nav_188/9DCB88E0_1.htm" TargetMode="External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hyperlink" Target="http://www.1ydt.com/video/n_show/Nav_188/9DCB88E0_1.htm" TargetMode="External"/><Relationship Id="rId4" Type="http://schemas.openxmlformats.org/officeDocument/2006/relationships/hyperlink" Target="http://www.1ydt.com/video/n_show/Nav_188/9DCB88E0_1.htm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http://www.1ydt.com/video/n_show/Nav_188/9DCB88E0_1.htm" TargetMode="External"/><Relationship Id="rId4" Type="http://schemas.openxmlformats.org/officeDocument/2006/relationships/hyperlink" Target="http://www.1ydt.com/video/n_show/Nav_188/9DCB88E0_1.htm" TargetMode="External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hyperlink" Target="http://www.1ydt.com/video/n_show/Nav_188/9DCB88E0_1.htm" TargetMode="External"/><Relationship Id="rId4" Type="http://schemas.openxmlformats.org/officeDocument/2006/relationships/hyperlink" Target="http://www.1ydt.com/video/n_show/Nav_188/9DCB88E0_1.htm" TargetMode="External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ydt.com/video/n_show/Nav_188/9DCB88E0_1.htm" TargetMode="External"/><Relationship Id="rId3" Type="http://schemas.openxmlformats.org/officeDocument/2006/relationships/hyperlink" Target="http://www.1ydt.com/video/n_show/Nav_188/9DCB88E0_1.htm" TargetMode="Externa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1.xml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slide" Target="slide17.xml"/><Relationship Id="rId6" Type="http://schemas.openxmlformats.org/officeDocument/2006/relationships/slide" Target="slide14.xml"/><Relationship Id="rId7" Type="http://schemas.openxmlformats.org/officeDocument/2006/relationships/hyperlink" Target="http://www.1ydt.com/video/n_show/Nav_188/9DCB88E0_1.htm" TargetMode="External"/><Relationship Id="rId8" Type="http://schemas.openxmlformats.org/officeDocument/2006/relationships/hyperlink" Target="http://www.1ydt.com/video/n_show/Nav_188/9DCB88E0_1.htm" TargetMode="External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1.xml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slide" Target="slide17.xml"/><Relationship Id="rId6" Type="http://schemas.openxmlformats.org/officeDocument/2006/relationships/slide" Target="slide14.xml"/><Relationship Id="rId7" Type="http://schemas.openxmlformats.org/officeDocument/2006/relationships/hyperlink" Target="http://www.1ydt.com/video/n_show/Nav_188/9DCB88E0_1.htm" TargetMode="External"/><Relationship Id="rId8" Type="http://schemas.openxmlformats.org/officeDocument/2006/relationships/hyperlink" Target="http://www.1ydt.com/video/n_show/Nav_188/9DCB88E0_1.htm" TargetMode="External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1.xml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slide" Target="slide17.xml"/><Relationship Id="rId6" Type="http://schemas.openxmlformats.org/officeDocument/2006/relationships/slide" Target="slide14.xml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" Target="slide6.xml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" Target="slide6.xml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http://www.1ydt.com/video/n_show/Nav_188/9DCB88E0_1.htm" TargetMode="External"/><Relationship Id="rId4" Type="http://schemas.openxmlformats.org/officeDocument/2006/relationships/hyperlink" Target="http://www.1ydt.com/video/n_show/Nav_188/9DCB88E0_1.htm" TargetMode="External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ydt.com/video/n_show/Nav_188/9DCB88E0_1.htm" TargetMode="External"/><Relationship Id="rId3" Type="http://schemas.openxmlformats.org/officeDocument/2006/relationships/hyperlink" Target="http://www.1ydt.com/video/n_show/Nav_188/9DCB88E0_1.htm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image" Target="../media/image7.wmf"/><Relationship Id="rId13" Type="http://schemas.openxmlformats.org/officeDocument/2006/relationships/image" Target="../media/image7.wmf"/><Relationship Id="rId14" Type="http://schemas.openxmlformats.org/officeDocument/2006/relationships/image" Target="../media/image7.wmf"/><Relationship Id="rId15" Type="http://schemas.openxmlformats.org/officeDocument/2006/relationships/image" Target="../media/image7.wmf"/><Relationship Id="rId16" Type="http://schemas.openxmlformats.org/officeDocument/2006/relationships/image" Target="../media/image7.wmf"/><Relationship Id="rId17" Type="http://schemas.openxmlformats.org/officeDocument/2006/relationships/hyperlink" Target="http://www.1ydt.com/video/n_show/Nav_188/9DCB88E0_1.htm" TargetMode="External"/><Relationship Id="rId18" Type="http://schemas.openxmlformats.org/officeDocument/2006/relationships/hyperlink" Target="http://www.1ydt.com/video/n_show/Nav_188/9DCB88E0_1.htm" TargetMode="External"/><Relationship Id="rId1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http://www.1ydt.com/video/n_show/Nav_188/9DCB88E0_1.htm" TargetMode="External"/><Relationship Id="rId4" Type="http://schemas.openxmlformats.org/officeDocument/2006/relationships/hyperlink" Target="http://www.1ydt.com/video/n_show/Nav_188/9DCB88E0_1.htm" TargetMode="Externa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hyperlink" Target="http://www.1ydt.com/video/n_show/Nav_188/9DCB88E0_1.htm" TargetMode="External"/><Relationship Id="rId6" Type="http://schemas.openxmlformats.org/officeDocument/2006/relationships/hyperlink" Target="http://www.1ydt.com/video/n_show/Nav_188/9DCB88E0_1.htm" TargetMode="External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ydt.com/video/n_show/Nav_188/9DCB88E0_1.htm" TargetMode="External"/><Relationship Id="rId3" Type="http://schemas.openxmlformats.org/officeDocument/2006/relationships/hyperlink" Target="http://www.1ydt.com/video/n_show/Nav_188/9DCB88E0_1.htm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0" y="4941720"/>
            <a:ext cx="316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6666ff"/>
                </a:solidFill>
                <a:latin typeface="Arial"/>
                <a:ea typeface="华文新魏"/>
              </a:rPr>
              <a:t>燕子</a:t>
            </a:r>
            <a:endParaRPr b="0" lang="en-US" sz="9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3280" y="6129360"/>
            <a:ext cx="1873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8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            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228600" y="105876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3760" y="4075200"/>
            <a:ext cx="19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4200" y="12589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1773360"/>
            <a:ext cx="8569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Comic Sans MS"/>
                <a:ea typeface="华文中宋"/>
              </a:rPr>
              <a:t>政府方面</a:t>
            </a:r>
            <a:r>
              <a:rPr b="1" lang="zh-CN" sz="4800" spc="-1" strike="noStrike">
                <a:solidFill>
                  <a:srgbClr val="ff0000"/>
                </a:solidFill>
                <a:latin typeface="Comic Sans MS"/>
                <a:ea typeface="华文中宋"/>
              </a:rPr>
              <a:t>：做决定、呼吁人们、            燕子专列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Comic Sans MS"/>
                <a:ea typeface="华文中宋"/>
              </a:rPr>
              <a:t>人们方面</a:t>
            </a:r>
            <a:r>
              <a:rPr b="1" lang="zh-CN" sz="4800" spc="-1" strike="noStrike">
                <a:solidFill>
                  <a:srgbClr val="ff0000"/>
                </a:solidFill>
                <a:latin typeface="Comic Sans MS"/>
                <a:ea typeface="华文中宋"/>
              </a:rPr>
              <a:t>：纷纷走出家门、竭尽全力寻找、专程送行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43280" y="6129360"/>
            <a:ext cx="1873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8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            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8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Times New Roman"/>
              </a:rPr>
              <a:t>按照课文补充句子</a:t>
            </a:r>
            <a:r>
              <a:rPr b="1" lang="zh-CN" sz="4800" spc="-1" strike="noStrike">
                <a:solidFill>
                  <a:srgbClr val="0066ff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听到消息后，居民们（      ）走出家门，（      ）严寒，（       ）满天飞舞的大雪， （      ）冻得坚硬的山路，（     ）寻找冻僵的燕子。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64360" y="119700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64360" y="907920"/>
            <a:ext cx="23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80"/>
                </a:solidFill>
                <a:latin typeface="Comic Sans MS"/>
                <a:ea typeface="华文中宋"/>
              </a:rPr>
              <a:t>纷纷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170028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80"/>
                </a:solidFill>
                <a:latin typeface="Comic Sans MS"/>
                <a:ea typeface="华文中宋"/>
              </a:rPr>
              <a:t>冒着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2637000"/>
            <a:ext cx="16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80"/>
                </a:solidFill>
                <a:latin typeface="Comic Sans MS"/>
                <a:ea typeface="华文中宋"/>
              </a:rPr>
              <a:t>顶着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342900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80"/>
                </a:solidFill>
                <a:latin typeface="Comic Sans MS"/>
                <a:ea typeface="华文中宋"/>
              </a:rPr>
              <a:t>踏着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26920" y="4149720"/>
            <a:ext cx="18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80"/>
                </a:solidFill>
                <a:latin typeface="Comic Sans MS"/>
                <a:ea typeface="华文中宋"/>
              </a:rPr>
              <a:t>四处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43280" y="6129360"/>
            <a:ext cx="1873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8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            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04920" y="620280"/>
            <a:ext cx="85406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6000" spc="-1" strike="noStrike">
                <a:solidFill>
                  <a:srgbClr val="800080"/>
                </a:solidFill>
                <a:latin typeface="Times New Roman"/>
              </a:rPr>
              <a:t>她跟随爸爸妈妈一天就救护了十几只冻僵的燕子，虽然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小脸冻得通红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小手冻得僵硬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6000" spc="-1" strike="noStrike">
                <a:solidFill>
                  <a:srgbClr val="800080"/>
                </a:solidFill>
                <a:latin typeface="Times New Roman"/>
              </a:rPr>
              <a:t>但她却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一点也不在乎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　　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43280" y="6129360"/>
            <a:ext cx="1873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8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            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　　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936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0" t="51739" r="1151" b="58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5661000"/>
            <a:ext cx="46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  <a:ea typeface="华文中宋"/>
              </a:rPr>
              <a:t>仔细看图：小贝蒂在哪儿发现的燕子？她怎么做的？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20000" y="616572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感人的一幕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43280" y="6129360"/>
            <a:ext cx="1873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8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            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-324360" y="1484280"/>
            <a:ext cx="88203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     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你读了这个故事，想对贝蒂说什么呢？请用几句话写下来吧！（提示：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可以是对贝蒂行为的赞赏，可以表达对贝蒂是否被冻坏的关心，可以是自己从贝蒂身上得到的启示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……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812000" y="5661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743280" y="6129360"/>
            <a:ext cx="1873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8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            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24142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434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16286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Comic Sans MS"/>
                <a:ea typeface="华文中宋"/>
              </a:rPr>
              <a:t>希望每一位同学，都能像小贝蒂那样，爱护动物，保护动物！</a:t>
            </a:r>
            <a:endParaRPr b="0" lang="en-US" sz="6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43280" y="6129360"/>
            <a:ext cx="1873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8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            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rcRect l="0" t="0" r="1403" b="1368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55640" y="134136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cc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6666ff"/>
                </a:solidFill>
                <a:latin typeface="Times New Roman"/>
              </a:rPr>
              <a:t>你还记得《燕子》的第二段吗？我们现在一起背诵好吗？是啊，每年春天燕子都会给我们带来欣喜。它们春来秋去，在这一来一回的长途跋涉中，会发生多少事？可能还会遇到很多危险！今天我们就来学习《燕子专列》这一课，它一定让你产生很多感慨！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40464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Arial"/>
                <a:ea typeface="华文新魏"/>
              </a:rPr>
              <a:t>课文导入</a:t>
            </a: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43280" y="6129360"/>
            <a:ext cx="1873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8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            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-190440" y="-909720"/>
            <a:ext cx="9524880" cy="86774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1219320" y="11426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a68d7"/>
                </a:solidFill>
                <a:latin typeface="Times New Roman"/>
              </a:rPr>
              <a:t>燕 子 专 列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43280" y="6129360"/>
            <a:ext cx="1873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8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            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-190440" y="-909720"/>
            <a:ext cx="9524880" cy="8677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-1676520" y="-838080"/>
            <a:ext cx="11125440" cy="93740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437920"/>
            <a:ext cx="380988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b0528"/>
                </a:solidFill>
                <a:latin typeface="Times New Roman"/>
              </a:rPr>
              <a:t>初读感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-360" y="3124080"/>
            <a:ext cx="7467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8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800080"/>
                </a:solidFill>
                <a:latin typeface="Times New Roman"/>
              </a:rPr>
              <a:t>自读课文，想一想在瑞士的春天，燕子发生了什么样的事情？借助拼音认读生字，互相交流识字方法。</a:t>
            </a:r>
            <a:r>
              <a:rPr b="0" lang="zh-CN" sz="40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3280" y="6129360"/>
            <a:ext cx="1873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点此播放教学视频</a:t>
            </a:r>
            <a:r>
              <a:rPr b="0" lang="zh-CN" sz="1800" spc="-1" strike="noStrike" u="sng">
                <a:solidFill>
                  <a:srgbClr val="3333cc"/>
                </a:solidFill>
                <a:uFillTx/>
                <a:latin typeface="Times New Roman"/>
                <a:hlinkClick r:id="rId5"/>
              </a:rPr>
              <a:t>            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-190440" y="-909720"/>
            <a:ext cx="9524880" cy="8677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-2286000" y="-914400"/>
            <a:ext cx="11125080" cy="93740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2362320"/>
            <a:ext cx="198108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b0528"/>
                </a:solidFill>
                <a:latin typeface="Times New Roman"/>
              </a:rPr>
              <a:t>读读认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28240" y="3124080"/>
            <a:ext cx="7467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0080"/>
                </a:solidFill>
                <a:latin typeface="Times New Roman"/>
              </a:rPr>
              <a:t>欧洲    瑞士    启程    特殊   </a:t>
            </a: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0080"/>
                </a:solidFill>
                <a:latin typeface="Times New Roman"/>
              </a:rPr>
              <a:t>骤降    跋涉    濒临    呼吁</a:t>
            </a: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0080"/>
                </a:solidFill>
                <a:latin typeface="Times New Roman"/>
              </a:rPr>
              <a:t>覆盖    皑皑    车厢     </a:t>
            </a: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43280" y="6129360"/>
            <a:ext cx="1873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点此播放教学视频</a:t>
            </a:r>
            <a:r>
              <a:rPr b="0" lang="zh-CN" sz="1800" spc="-1" strike="noStrike" u="sng">
                <a:solidFill>
                  <a:srgbClr val="3333cc"/>
                </a:solidFill>
                <a:uFillTx/>
                <a:latin typeface="Times New Roman"/>
                <a:hlinkClick r:id="rId5"/>
              </a:rPr>
              <a:t>            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2195640" y="2133720"/>
            <a:ext cx="424944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9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cc00"/>
                  </a:solidFill>
                  <a:prstDash val="sysDot"/>
                  <a:miter/>
                </a:ln>
                <a:solidFill>
                  <a:srgbClr val="ff6600"/>
                </a:solidFill>
                <a:latin typeface="华文新魏"/>
              </a:rPr>
              <a:t>燕子专列</a:t>
            </a:r>
            <a:endParaRPr b="0" lang="en-US" sz="2400" spc="1" strike="noStrike">
              <a:ln w="9360">
                <a:solidFill>
                  <a:srgbClr val="ffcc00"/>
                </a:solidFill>
                <a:prstDash val="sysDot"/>
                <a:miter/>
              </a:ln>
              <a:solidFill>
                <a:srgbClr val="ff6600"/>
              </a:solidFill>
              <a:latin typeface="华文新魏"/>
              <a:ea typeface="华文新魏"/>
            </a:endParaRPr>
          </a:p>
        </p:txBody>
      </p:sp>
      <p:sp>
        <p:nvSpPr>
          <p:cNvPr id="46" name=""/>
          <p:cNvSpPr/>
          <p:nvPr/>
        </p:nvSpPr>
        <p:spPr>
          <a:xfrm>
            <a:off x="3743280" y="6129360"/>
            <a:ext cx="1873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8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            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-190440" y="-909720"/>
            <a:ext cx="9524880" cy="8677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-1371600" y="-1600200"/>
            <a:ext cx="11125080" cy="93740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380988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b0528"/>
                </a:solidFill>
                <a:latin typeface="Times New Roman"/>
              </a:rPr>
              <a:t>读读写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066680" y="213372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8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州——洲    株——殊 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聚——骤    证——政  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栽——载    瑞——端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43280" y="6129360"/>
            <a:ext cx="1873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点此播放教学视频</a:t>
            </a:r>
            <a:r>
              <a:rPr b="0" lang="zh-CN" sz="1800" spc="-1" strike="noStrike" u="sng">
                <a:solidFill>
                  <a:srgbClr val="3333cc"/>
                </a:solidFill>
                <a:uFillTx/>
                <a:latin typeface="Times New Roman"/>
                <a:hlinkClick r:id="rId5"/>
              </a:rPr>
              <a:t>            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190440" y="-909720"/>
            <a:ext cx="9524880" cy="8677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-1523880" y="-838080"/>
            <a:ext cx="11125080" cy="93740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1600200"/>
            <a:ext cx="381024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b0528"/>
                </a:solidFill>
                <a:latin typeface="Times New Roman"/>
              </a:rPr>
              <a:t>细读感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066680" y="213372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80"/>
                </a:solidFill>
                <a:latin typeface="Times New Roman"/>
              </a:rPr>
              <a:t>      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2211120"/>
            <a:ext cx="601992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读</a:t>
            </a: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自然段，想一想：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、燕子冬去春来，能长途飞行，为什么要用列车专送？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、这是一列什么样的火车？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43280" y="6129360"/>
            <a:ext cx="1873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点此播放教学视频</a:t>
            </a:r>
            <a:r>
              <a:rPr b="0" lang="zh-CN" sz="1800" spc="-1" strike="noStrike" u="sng">
                <a:solidFill>
                  <a:srgbClr val="3333cc"/>
                </a:solidFill>
                <a:uFillTx/>
                <a:latin typeface="Times New Roman"/>
                <a:hlinkClick r:id="rId5"/>
              </a:rPr>
              <a:t>            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-1981080" y="-1143000"/>
            <a:ext cx="11125080" cy="93740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2437920"/>
            <a:ext cx="8458200" cy="37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课文中“能够作出这个决定真了不起”，“这个决定”是什么？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为什么说“做出这个决定真了不起”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43280" y="6129360"/>
            <a:ext cx="1873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8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            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-1981080" y="-533520"/>
            <a:ext cx="11125080" cy="93744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3124080"/>
            <a:ext cx="7924680" cy="32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默读课文第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自然段：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说一说居民们是怎么知道这件事的？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76212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43280" y="6129360"/>
            <a:ext cx="1873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8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            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-533520" y="-228600"/>
            <a:ext cx="9525240" cy="85536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629080" y="1981080"/>
            <a:ext cx="582912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如果你是一名记者或者播音员，你该怎么呼吁居民能迅速出来救助燕子呢？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43280" y="6129360"/>
            <a:ext cx="1873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8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            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-228600" y="-990720"/>
            <a:ext cx="9524880" cy="91918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2666880"/>
            <a:ext cx="69343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文中的瑞士居民们在这件事中怎么做的？  用横线画出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43280" y="6129360"/>
            <a:ext cx="1873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8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            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-190440" y="-909720"/>
            <a:ext cx="9524880" cy="8677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-228600" y="-228600"/>
            <a:ext cx="9524880" cy="91915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520" y="3581280"/>
            <a:ext cx="86108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80"/>
                </a:solidFill>
                <a:latin typeface="Times New Roman"/>
              </a:rPr>
              <a:t>           </a:t>
            </a:r>
            <a:r>
              <a:rPr b="0" lang="zh-CN" sz="4000" spc="-1" strike="noStrike">
                <a:solidFill>
                  <a:srgbClr val="800080"/>
                </a:solidFill>
                <a:latin typeface="Times New Roman"/>
              </a:rPr>
              <a:t>听到消息后，居民们纷纷走出家门，冒着严寒，顶着满天飞舞的大雪，踏着冻得坚硬的山路，四处寻找冻僵的燕子。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43280" y="6129360"/>
            <a:ext cx="1873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点此播放教学视频</a:t>
            </a:r>
            <a:r>
              <a:rPr b="0" lang="zh-CN" sz="1800" spc="-1" strike="noStrike" u="sng">
                <a:solidFill>
                  <a:srgbClr val="3333cc"/>
                </a:solidFill>
                <a:uFillTx/>
                <a:latin typeface="Times New Roman"/>
                <a:hlinkClick r:id="rId5"/>
              </a:rPr>
              <a:t>            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-190440" y="-847800"/>
            <a:ext cx="9524880" cy="85536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563640" y="1980720"/>
            <a:ext cx="4894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8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800080"/>
                </a:solidFill>
                <a:latin typeface="Times New Roman"/>
              </a:rPr>
              <a:t>请同学们再次默读第四自然段，静静地体会，勾画出最让你感动的句子。 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43280" y="6129360"/>
            <a:ext cx="1873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8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            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-190440" y="-1166760"/>
            <a:ext cx="9524880" cy="91915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-380880" y="-228600"/>
            <a:ext cx="9524880" cy="85536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8120" y="266688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你想对贝蒂说几句话吗？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贝蒂</a:t>
            </a:r>
            <a:r>
              <a:rPr b="0" lang="zh-CN" sz="3200" spc="-1" strike="noStrike">
                <a:solidFill>
                  <a:srgbClr val="800080"/>
                </a:solidFill>
                <a:latin typeface="Times New Roman"/>
              </a:rPr>
              <a:t>＿＿＿＿＿＿＿＿＿＿＿＿＿＿＿＿＿＿＿＿＿＿＿＿＿＿＿＿＿＿＿＿＿＿＿。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2361960" y="144756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拓展学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43280" y="6129360"/>
            <a:ext cx="1873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点此播放教学视频</a:t>
            </a:r>
            <a:r>
              <a:rPr b="0" lang="zh-CN" sz="1800" spc="-1" strike="noStrike" u="sng">
                <a:solidFill>
                  <a:srgbClr val="3333cc"/>
                </a:solidFill>
                <a:uFillTx/>
                <a:latin typeface="Times New Roman"/>
                <a:hlinkClick r:id="rId5"/>
              </a:rPr>
              <a:t>            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443640" y="1197000"/>
            <a:ext cx="73080" cy="71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48360" y="1197000"/>
            <a:ext cx="71640" cy="71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203640" y="981000"/>
            <a:ext cx="1904760" cy="1092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专列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79280" y="981000"/>
            <a:ext cx="2880000" cy="1092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10.</a:t>
            </a: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燕子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81" name=""/>
          <p:cNvSpPr/>
          <p:nvPr/>
        </p:nvSpPr>
        <p:spPr>
          <a:xfrm>
            <a:off x="3743280" y="6129360"/>
            <a:ext cx="1873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8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            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9280" y="692280"/>
            <a:ext cx="8785440" cy="5832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55640" y="1413000"/>
            <a:ext cx="777708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、认识“欧、洲”等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个生字，会写 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   “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欧、洲、瑞”等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个字。正确读  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写“欧洲、瑞士、舒适”等词语。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、正确、流利、有感情地朗读课文。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、了解课文内容，体会人与动物之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间的美好的情意。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9228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学习目标</a:t>
            </a: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43280" y="6129360"/>
            <a:ext cx="1873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8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            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755640" y="404640"/>
            <a:ext cx="7273800" cy="32785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826920" y="3860640"/>
            <a:ext cx="7925040" cy="6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有一年春天，在欧洲瑞士的一个车站，一列漂亮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舒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的空调列车正准备启程，站台上站满了送行的人。他们送的是一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特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的客人——燕子。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43280" y="6129360"/>
            <a:ext cx="1873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8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            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219320" y="2971800"/>
            <a:ext cx="7238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4610160"/>
            <a:ext cx="7238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5105520"/>
            <a:ext cx="739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　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1563840"/>
            <a:ext cx="7620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4000" y="115920"/>
            <a:ext cx="2305080" cy="1081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小组合作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90" name=""/>
          <p:cNvSpPr/>
          <p:nvPr/>
        </p:nvSpPr>
        <p:spPr>
          <a:xfrm>
            <a:off x="755640" y="198900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、合作朗读课文。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、思考：燕子在长途跋涉中遇到了什么困难？人们又是怎样帮助燕子的？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、圈出关键词语说一说。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43280" y="6129360"/>
            <a:ext cx="1873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8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            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19320" y="2971800"/>
            <a:ext cx="7238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19320" y="4610160"/>
            <a:ext cx="7238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5105520"/>
            <a:ext cx="739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　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1295280"/>
            <a:ext cx="7620120" cy="48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事情是这样的：这年春天，成千上万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只燕子从南方飞回北方时，在瑞士境内遇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到了麻烦。当地气温骤降，风雪不止，几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乎所有昆虫都被冻死了。燕子经过长途跋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涉，已经非常疲劳，再加上找不到食物，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饥寒交迫，濒临死亡。瑞士政府知道了这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个情况，决定用火车把这些燕子送到温暖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的地方。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6" name="">
            <a:hlinkClick r:id="rId2" action="ppaction://hlinksldjump"/>
          </p:cNvPr>
          <p:cNvSpPr/>
          <p:nvPr/>
        </p:nvSpPr>
        <p:spPr>
          <a:xfrm>
            <a:off x="7010280" y="5867280"/>
            <a:ext cx="2133720" cy="990720"/>
          </a:xfrm>
          <a:custGeom>
            <a:avLst/>
            <a:gdLst>
              <a:gd name="textAreaLeft" fmla="*/ 64080 w 2133720"/>
              <a:gd name="textAreaRight" fmla="*/ 2069640 w 2133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6511" h="21600">
                <a:moveTo>
                  <a:pt x="0" y="0"/>
                </a:moveTo>
                <a:lnTo>
                  <a:pt x="46511" y="0"/>
                </a:lnTo>
                <a:lnTo>
                  <a:pt x="46511" y="21600"/>
                </a:lnTo>
                <a:lnTo>
                  <a:pt x="0" y="21600"/>
                </a:lnTo>
                <a:close/>
              </a:path>
              <a:path fill="lightenLess" w="46511" h="21600">
                <a:moveTo>
                  <a:pt x="0" y="0"/>
                </a:moveTo>
                <a:lnTo>
                  <a:pt x="46511" y="0"/>
                </a:lnTo>
                <a:lnTo>
                  <a:pt x="45111" y="1400"/>
                </a:lnTo>
                <a:lnTo>
                  <a:pt x="1400" y="1400"/>
                </a:lnTo>
                <a:close/>
              </a:path>
              <a:path fill="darken" w="46511" h="21600">
                <a:moveTo>
                  <a:pt x="46511" y="0"/>
                </a:moveTo>
                <a:lnTo>
                  <a:pt x="46511" y="21600"/>
                </a:lnTo>
                <a:lnTo>
                  <a:pt x="45111" y="20200"/>
                </a:lnTo>
                <a:lnTo>
                  <a:pt x="45111" y="1400"/>
                </a:lnTo>
                <a:close/>
              </a:path>
              <a:path fill="darkenLess" w="46511" h="21600">
                <a:moveTo>
                  <a:pt x="465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11" y="20200"/>
                </a:lnTo>
                <a:close/>
              </a:path>
              <a:path fill="lighten" w="465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511" h="21600">
                <a:moveTo>
                  <a:pt x="16249" y="10800"/>
                </a:moveTo>
                <a:lnTo>
                  <a:pt x="30262" y="3794"/>
                </a:lnTo>
                <a:lnTo>
                  <a:pt x="3026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7" name="">
            <a:hlinkClick r:id="rId3" action="ppaction://hlinksldjump"/>
          </p:cNvPr>
          <p:cNvSpPr/>
          <p:nvPr/>
        </p:nvSpPr>
        <p:spPr>
          <a:xfrm>
            <a:off x="6553080" y="320040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8" name="">
            <a:hlinkClick r:id="rId4" action="ppaction://hlinksldjump"/>
          </p:cNvPr>
          <p:cNvSpPr/>
          <p:nvPr/>
        </p:nvSpPr>
        <p:spPr>
          <a:xfrm>
            <a:off x="838080" y="4419720"/>
            <a:ext cx="1676520" cy="457200"/>
          </a:xfrm>
          <a:custGeom>
            <a:avLst/>
            <a:gdLst>
              <a:gd name="textAreaLeft" fmla="*/ 29520 w 1676520"/>
              <a:gd name="textAreaRight" fmla="*/ 1647000 w 1676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7760" y="1400"/>
                </a:lnTo>
                <a:lnTo>
                  <a:pt x="1400" y="140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7760" y="20200"/>
                </a:lnTo>
                <a:lnTo>
                  <a:pt x="77760" y="140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60" y="2020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9" name="">
            <a:hlinkClick r:id="rId5" action="ppaction://hlinksldjump"/>
          </p:cNvPr>
          <p:cNvSpPr/>
          <p:nvPr/>
        </p:nvSpPr>
        <p:spPr>
          <a:xfrm>
            <a:off x="2971800" y="4419720"/>
            <a:ext cx="1905120" cy="457200"/>
          </a:xfrm>
          <a:custGeom>
            <a:avLst/>
            <a:gdLst>
              <a:gd name="textAreaLeft" fmla="*/ 29520 w 1905120"/>
              <a:gd name="textAreaRight" fmla="*/ 1875600 w 1905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9952" h="21600">
                <a:moveTo>
                  <a:pt x="0" y="0"/>
                </a:moveTo>
                <a:lnTo>
                  <a:pt x="89952" y="0"/>
                </a:lnTo>
                <a:lnTo>
                  <a:pt x="89952" y="21600"/>
                </a:lnTo>
                <a:lnTo>
                  <a:pt x="0" y="21600"/>
                </a:lnTo>
                <a:close/>
              </a:path>
              <a:path fill="lightenLess" w="89952" h="21600">
                <a:moveTo>
                  <a:pt x="0" y="0"/>
                </a:moveTo>
                <a:lnTo>
                  <a:pt x="89952" y="0"/>
                </a:lnTo>
                <a:lnTo>
                  <a:pt x="88552" y="1400"/>
                </a:lnTo>
                <a:lnTo>
                  <a:pt x="1400" y="1400"/>
                </a:lnTo>
                <a:close/>
              </a:path>
              <a:path fill="darken" w="89952" h="21600">
                <a:moveTo>
                  <a:pt x="89952" y="0"/>
                </a:moveTo>
                <a:lnTo>
                  <a:pt x="89952" y="21600"/>
                </a:lnTo>
                <a:lnTo>
                  <a:pt x="88552" y="20200"/>
                </a:lnTo>
                <a:lnTo>
                  <a:pt x="88552" y="1400"/>
                </a:lnTo>
                <a:close/>
              </a:path>
              <a:path fill="darkenLess" w="89952" h="21600">
                <a:moveTo>
                  <a:pt x="89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52" y="20200"/>
                </a:lnTo>
                <a:close/>
              </a:path>
              <a:path fill="lighten" w="89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0" name="">
            <a:hlinkClick r:id="rId6" action="ppaction://hlinksldjump"/>
          </p:cNvPr>
          <p:cNvSpPr/>
          <p:nvPr/>
        </p:nvSpPr>
        <p:spPr>
          <a:xfrm>
            <a:off x="3962520" y="2590920"/>
            <a:ext cx="1676160" cy="457200"/>
          </a:xfrm>
          <a:custGeom>
            <a:avLst/>
            <a:gdLst>
              <a:gd name="textAreaLeft" fmla="*/ 29520 w 1676160"/>
              <a:gd name="textAreaRight" fmla="*/ 1646640 w 1676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43" h="21600">
                <a:moveTo>
                  <a:pt x="0" y="0"/>
                </a:moveTo>
                <a:lnTo>
                  <a:pt x="79143" y="0"/>
                </a:lnTo>
                <a:lnTo>
                  <a:pt x="79143" y="21600"/>
                </a:lnTo>
                <a:lnTo>
                  <a:pt x="0" y="21600"/>
                </a:lnTo>
                <a:close/>
              </a:path>
              <a:path fill="lightenLess" w="79143" h="21600">
                <a:moveTo>
                  <a:pt x="0" y="0"/>
                </a:moveTo>
                <a:lnTo>
                  <a:pt x="79143" y="0"/>
                </a:lnTo>
                <a:lnTo>
                  <a:pt x="77743" y="1400"/>
                </a:lnTo>
                <a:lnTo>
                  <a:pt x="1400" y="1400"/>
                </a:lnTo>
                <a:close/>
              </a:path>
              <a:path fill="darken" w="79143" h="21600">
                <a:moveTo>
                  <a:pt x="79143" y="0"/>
                </a:moveTo>
                <a:lnTo>
                  <a:pt x="79143" y="21600"/>
                </a:lnTo>
                <a:lnTo>
                  <a:pt x="77743" y="20200"/>
                </a:lnTo>
                <a:lnTo>
                  <a:pt x="77743" y="1400"/>
                </a:lnTo>
                <a:close/>
              </a:path>
              <a:path fill="darkenLess" w="79143" h="21600">
                <a:moveTo>
                  <a:pt x="79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43" y="20200"/>
                </a:lnTo>
                <a:close/>
              </a:path>
              <a:path fill="lighten" w="79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35280" y="3068640"/>
            <a:ext cx="1429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40000" y="3068640"/>
            <a:ext cx="14436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43280" y="6129360"/>
            <a:ext cx="1873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Times New Roman"/>
                <a:hlinkClick r:id="rId7"/>
              </a:rPr>
              <a:t>点此播放教学视频</a:t>
            </a:r>
            <a:r>
              <a:rPr b="0" lang="zh-CN" sz="1800" spc="-1" strike="noStrike" u="sng">
                <a:solidFill>
                  <a:srgbClr val="3333cc"/>
                </a:solidFill>
                <a:uFillTx/>
                <a:latin typeface="Times New Roman"/>
                <a:hlinkClick r:id="rId8"/>
              </a:rPr>
              <a:t>            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19320" y="2971800"/>
            <a:ext cx="7238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4610160"/>
            <a:ext cx="7238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19320" y="5105520"/>
            <a:ext cx="739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　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16000" y="14130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几乎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所有昆虫都被冻死了。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8" name="">
            <a:hlinkClick r:id="rId2" action="ppaction://hlinksldjump"/>
          </p:cNvPr>
          <p:cNvSpPr/>
          <p:nvPr/>
        </p:nvSpPr>
        <p:spPr>
          <a:xfrm>
            <a:off x="7010280" y="5867280"/>
            <a:ext cx="2133720" cy="990720"/>
          </a:xfrm>
          <a:custGeom>
            <a:avLst/>
            <a:gdLst>
              <a:gd name="textAreaLeft" fmla="*/ 64080 w 2133720"/>
              <a:gd name="textAreaRight" fmla="*/ 2069640 w 2133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6511" h="21600">
                <a:moveTo>
                  <a:pt x="0" y="0"/>
                </a:moveTo>
                <a:lnTo>
                  <a:pt x="46511" y="0"/>
                </a:lnTo>
                <a:lnTo>
                  <a:pt x="46511" y="21600"/>
                </a:lnTo>
                <a:lnTo>
                  <a:pt x="0" y="21600"/>
                </a:lnTo>
                <a:close/>
              </a:path>
              <a:path fill="lightenLess" w="46511" h="21600">
                <a:moveTo>
                  <a:pt x="0" y="0"/>
                </a:moveTo>
                <a:lnTo>
                  <a:pt x="46511" y="0"/>
                </a:lnTo>
                <a:lnTo>
                  <a:pt x="45111" y="1400"/>
                </a:lnTo>
                <a:lnTo>
                  <a:pt x="1400" y="1400"/>
                </a:lnTo>
                <a:close/>
              </a:path>
              <a:path fill="darken" w="46511" h="21600">
                <a:moveTo>
                  <a:pt x="46511" y="0"/>
                </a:moveTo>
                <a:lnTo>
                  <a:pt x="46511" y="21600"/>
                </a:lnTo>
                <a:lnTo>
                  <a:pt x="45111" y="20200"/>
                </a:lnTo>
                <a:lnTo>
                  <a:pt x="45111" y="1400"/>
                </a:lnTo>
                <a:close/>
              </a:path>
              <a:path fill="darkenLess" w="46511" h="21600">
                <a:moveTo>
                  <a:pt x="465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11" y="20200"/>
                </a:lnTo>
                <a:close/>
              </a:path>
              <a:path fill="lighten" w="465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511" h="21600">
                <a:moveTo>
                  <a:pt x="16249" y="10800"/>
                </a:moveTo>
                <a:lnTo>
                  <a:pt x="30262" y="3794"/>
                </a:lnTo>
                <a:lnTo>
                  <a:pt x="3026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9" name="">
            <a:hlinkClick r:id="rId3" action="ppaction://hlinksldjump"/>
          </p:cNvPr>
          <p:cNvSpPr/>
          <p:nvPr/>
        </p:nvSpPr>
        <p:spPr>
          <a:xfrm>
            <a:off x="6553080" y="320040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0" name="">
            <a:hlinkClick r:id="rId4" action="ppaction://hlinksldjump"/>
          </p:cNvPr>
          <p:cNvSpPr/>
          <p:nvPr/>
        </p:nvSpPr>
        <p:spPr>
          <a:xfrm>
            <a:off x="838080" y="4419720"/>
            <a:ext cx="1676520" cy="457200"/>
          </a:xfrm>
          <a:custGeom>
            <a:avLst/>
            <a:gdLst>
              <a:gd name="textAreaLeft" fmla="*/ 29520 w 1676520"/>
              <a:gd name="textAreaRight" fmla="*/ 1647000 w 1676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7760" y="1400"/>
                </a:lnTo>
                <a:lnTo>
                  <a:pt x="1400" y="140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7760" y="20200"/>
                </a:lnTo>
                <a:lnTo>
                  <a:pt x="77760" y="140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60" y="2020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1" name="">
            <a:hlinkClick r:id="rId5" action="ppaction://hlinksldjump"/>
          </p:cNvPr>
          <p:cNvSpPr/>
          <p:nvPr/>
        </p:nvSpPr>
        <p:spPr>
          <a:xfrm>
            <a:off x="2987640" y="4437000"/>
            <a:ext cx="1905120" cy="457200"/>
          </a:xfrm>
          <a:custGeom>
            <a:avLst/>
            <a:gdLst>
              <a:gd name="textAreaLeft" fmla="*/ 29520 w 1905120"/>
              <a:gd name="textAreaRight" fmla="*/ 1875600 w 1905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9952" h="21600">
                <a:moveTo>
                  <a:pt x="0" y="0"/>
                </a:moveTo>
                <a:lnTo>
                  <a:pt x="89952" y="0"/>
                </a:lnTo>
                <a:lnTo>
                  <a:pt x="89952" y="21600"/>
                </a:lnTo>
                <a:lnTo>
                  <a:pt x="0" y="21600"/>
                </a:lnTo>
                <a:close/>
              </a:path>
              <a:path fill="lightenLess" w="89952" h="21600">
                <a:moveTo>
                  <a:pt x="0" y="0"/>
                </a:moveTo>
                <a:lnTo>
                  <a:pt x="89952" y="0"/>
                </a:lnTo>
                <a:lnTo>
                  <a:pt x="88552" y="1400"/>
                </a:lnTo>
                <a:lnTo>
                  <a:pt x="1400" y="1400"/>
                </a:lnTo>
                <a:close/>
              </a:path>
              <a:path fill="darken" w="89952" h="21600">
                <a:moveTo>
                  <a:pt x="89952" y="0"/>
                </a:moveTo>
                <a:lnTo>
                  <a:pt x="89952" y="21600"/>
                </a:lnTo>
                <a:lnTo>
                  <a:pt x="88552" y="20200"/>
                </a:lnTo>
                <a:lnTo>
                  <a:pt x="88552" y="1400"/>
                </a:lnTo>
                <a:close/>
              </a:path>
              <a:path fill="darkenLess" w="89952" h="21600">
                <a:moveTo>
                  <a:pt x="89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52" y="20200"/>
                </a:lnTo>
                <a:close/>
              </a:path>
              <a:path fill="lighten" w="89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2" name="">
            <a:hlinkClick r:id="rId6" action="ppaction://hlinksldjump"/>
          </p:cNvPr>
          <p:cNvSpPr/>
          <p:nvPr/>
        </p:nvSpPr>
        <p:spPr>
          <a:xfrm>
            <a:off x="3962520" y="2590920"/>
            <a:ext cx="1676160" cy="457200"/>
          </a:xfrm>
          <a:custGeom>
            <a:avLst/>
            <a:gdLst>
              <a:gd name="textAreaLeft" fmla="*/ 29520 w 1676160"/>
              <a:gd name="textAreaRight" fmla="*/ 1646640 w 1676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43" h="21600">
                <a:moveTo>
                  <a:pt x="0" y="0"/>
                </a:moveTo>
                <a:lnTo>
                  <a:pt x="79143" y="0"/>
                </a:lnTo>
                <a:lnTo>
                  <a:pt x="79143" y="21600"/>
                </a:lnTo>
                <a:lnTo>
                  <a:pt x="0" y="21600"/>
                </a:lnTo>
                <a:close/>
              </a:path>
              <a:path fill="lightenLess" w="79143" h="21600">
                <a:moveTo>
                  <a:pt x="0" y="0"/>
                </a:moveTo>
                <a:lnTo>
                  <a:pt x="79143" y="0"/>
                </a:lnTo>
                <a:lnTo>
                  <a:pt x="77743" y="1400"/>
                </a:lnTo>
                <a:lnTo>
                  <a:pt x="1400" y="1400"/>
                </a:lnTo>
                <a:close/>
              </a:path>
              <a:path fill="darken" w="79143" h="21600">
                <a:moveTo>
                  <a:pt x="79143" y="0"/>
                </a:moveTo>
                <a:lnTo>
                  <a:pt x="79143" y="21600"/>
                </a:lnTo>
                <a:lnTo>
                  <a:pt x="77743" y="20200"/>
                </a:lnTo>
                <a:lnTo>
                  <a:pt x="77743" y="1400"/>
                </a:lnTo>
                <a:close/>
              </a:path>
              <a:path fill="darkenLess" w="79143" h="21600">
                <a:moveTo>
                  <a:pt x="79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43" y="20200"/>
                </a:lnTo>
                <a:close/>
              </a:path>
              <a:path fill="lighten" w="79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24000" y="26370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所有昆虫都被冻死了。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43280" y="6129360"/>
            <a:ext cx="1873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Times New Roman"/>
                <a:hlinkClick r:id="rId7"/>
              </a:rPr>
              <a:t>点此播放教学视频</a:t>
            </a:r>
            <a:r>
              <a:rPr b="0" lang="zh-CN" sz="1800" spc="-1" strike="noStrike" u="sng">
                <a:solidFill>
                  <a:srgbClr val="3333cc"/>
                </a:solidFill>
                <a:uFillTx/>
                <a:latin typeface="Times New Roman"/>
                <a:hlinkClick r:id="rId8"/>
              </a:rPr>
              <a:t>            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219320" y="2971800"/>
            <a:ext cx="7238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4610160"/>
            <a:ext cx="7238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5105520"/>
            <a:ext cx="739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　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1295280"/>
            <a:ext cx="8197920" cy="48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事情是这样的：这年春天，成千上万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只燕子从南方飞回北方时，在瑞士境内遇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到了麻烦。当地气温骤降，风雪不止，几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乎所有昆虫都被冻死了。燕子经过长途跋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涉，已经非常疲劳，再加上找不到食物，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饥寒交迫，濒临死亡。瑞士政府知道了这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个情况，决定用火车把这些燕子送到温暖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的地方。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9" name="">
            <a:hlinkClick r:id="rId2" action="ppaction://hlinksldjump"/>
          </p:cNvPr>
          <p:cNvSpPr/>
          <p:nvPr/>
        </p:nvSpPr>
        <p:spPr>
          <a:xfrm>
            <a:off x="7010280" y="5867280"/>
            <a:ext cx="2133720" cy="990720"/>
          </a:xfrm>
          <a:custGeom>
            <a:avLst/>
            <a:gdLst>
              <a:gd name="textAreaLeft" fmla="*/ 64080 w 2133720"/>
              <a:gd name="textAreaRight" fmla="*/ 2069640 w 2133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6511" h="21600">
                <a:moveTo>
                  <a:pt x="0" y="0"/>
                </a:moveTo>
                <a:lnTo>
                  <a:pt x="46511" y="0"/>
                </a:lnTo>
                <a:lnTo>
                  <a:pt x="46511" y="21600"/>
                </a:lnTo>
                <a:lnTo>
                  <a:pt x="0" y="21600"/>
                </a:lnTo>
                <a:close/>
              </a:path>
              <a:path fill="lightenLess" w="46511" h="21600">
                <a:moveTo>
                  <a:pt x="0" y="0"/>
                </a:moveTo>
                <a:lnTo>
                  <a:pt x="46511" y="0"/>
                </a:lnTo>
                <a:lnTo>
                  <a:pt x="45111" y="1400"/>
                </a:lnTo>
                <a:lnTo>
                  <a:pt x="1400" y="1400"/>
                </a:lnTo>
                <a:close/>
              </a:path>
              <a:path fill="darken" w="46511" h="21600">
                <a:moveTo>
                  <a:pt x="46511" y="0"/>
                </a:moveTo>
                <a:lnTo>
                  <a:pt x="46511" y="21600"/>
                </a:lnTo>
                <a:lnTo>
                  <a:pt x="45111" y="20200"/>
                </a:lnTo>
                <a:lnTo>
                  <a:pt x="45111" y="1400"/>
                </a:lnTo>
                <a:close/>
              </a:path>
              <a:path fill="darkenLess" w="46511" h="21600">
                <a:moveTo>
                  <a:pt x="465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11" y="20200"/>
                </a:lnTo>
                <a:close/>
              </a:path>
              <a:path fill="lighten" w="465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511" h="21600">
                <a:moveTo>
                  <a:pt x="16249" y="10800"/>
                </a:moveTo>
                <a:lnTo>
                  <a:pt x="30262" y="3794"/>
                </a:lnTo>
                <a:lnTo>
                  <a:pt x="3026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0" name="">
            <a:hlinkClick r:id="rId3" action="ppaction://hlinksldjump"/>
          </p:cNvPr>
          <p:cNvSpPr/>
          <p:nvPr/>
        </p:nvSpPr>
        <p:spPr>
          <a:xfrm>
            <a:off x="6553080" y="320040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1" name="">
            <a:hlinkClick r:id="rId4" action="ppaction://hlinksldjump"/>
          </p:cNvPr>
          <p:cNvSpPr/>
          <p:nvPr/>
        </p:nvSpPr>
        <p:spPr>
          <a:xfrm>
            <a:off x="838080" y="4419720"/>
            <a:ext cx="1676520" cy="457200"/>
          </a:xfrm>
          <a:custGeom>
            <a:avLst/>
            <a:gdLst>
              <a:gd name="textAreaLeft" fmla="*/ 29520 w 1676520"/>
              <a:gd name="textAreaRight" fmla="*/ 1647000 w 1676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7760" y="1400"/>
                </a:lnTo>
                <a:lnTo>
                  <a:pt x="1400" y="140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7760" y="20200"/>
                </a:lnTo>
                <a:lnTo>
                  <a:pt x="77760" y="140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60" y="2020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2" name="">
            <a:hlinkClick r:id="rId5" action="ppaction://hlinksldjump"/>
          </p:cNvPr>
          <p:cNvSpPr/>
          <p:nvPr/>
        </p:nvSpPr>
        <p:spPr>
          <a:xfrm>
            <a:off x="2971800" y="4419720"/>
            <a:ext cx="1905120" cy="457200"/>
          </a:xfrm>
          <a:custGeom>
            <a:avLst/>
            <a:gdLst>
              <a:gd name="textAreaLeft" fmla="*/ 29520 w 1905120"/>
              <a:gd name="textAreaRight" fmla="*/ 1875600 w 1905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9952" h="21600">
                <a:moveTo>
                  <a:pt x="0" y="0"/>
                </a:moveTo>
                <a:lnTo>
                  <a:pt x="89952" y="0"/>
                </a:lnTo>
                <a:lnTo>
                  <a:pt x="89952" y="21600"/>
                </a:lnTo>
                <a:lnTo>
                  <a:pt x="0" y="21600"/>
                </a:lnTo>
                <a:close/>
              </a:path>
              <a:path fill="lightenLess" w="89952" h="21600">
                <a:moveTo>
                  <a:pt x="0" y="0"/>
                </a:moveTo>
                <a:lnTo>
                  <a:pt x="89952" y="0"/>
                </a:lnTo>
                <a:lnTo>
                  <a:pt x="88552" y="1400"/>
                </a:lnTo>
                <a:lnTo>
                  <a:pt x="1400" y="1400"/>
                </a:lnTo>
                <a:close/>
              </a:path>
              <a:path fill="darken" w="89952" h="21600">
                <a:moveTo>
                  <a:pt x="89952" y="0"/>
                </a:moveTo>
                <a:lnTo>
                  <a:pt x="89952" y="21600"/>
                </a:lnTo>
                <a:lnTo>
                  <a:pt x="88552" y="20200"/>
                </a:lnTo>
                <a:lnTo>
                  <a:pt x="88552" y="1400"/>
                </a:lnTo>
                <a:close/>
              </a:path>
              <a:path fill="darkenLess" w="89952" h="21600">
                <a:moveTo>
                  <a:pt x="89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52" y="20200"/>
                </a:lnTo>
                <a:close/>
              </a:path>
              <a:path fill="lighten" w="89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3" name="">
            <a:hlinkClick r:id="rId6" action="ppaction://hlinksldjump"/>
          </p:cNvPr>
          <p:cNvSpPr/>
          <p:nvPr/>
        </p:nvSpPr>
        <p:spPr>
          <a:xfrm>
            <a:off x="3962520" y="2590920"/>
            <a:ext cx="1676160" cy="457200"/>
          </a:xfrm>
          <a:custGeom>
            <a:avLst/>
            <a:gdLst>
              <a:gd name="textAreaLeft" fmla="*/ 29520 w 1676160"/>
              <a:gd name="textAreaRight" fmla="*/ 1646640 w 1676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43" h="21600">
                <a:moveTo>
                  <a:pt x="0" y="0"/>
                </a:moveTo>
                <a:lnTo>
                  <a:pt x="79143" y="0"/>
                </a:lnTo>
                <a:lnTo>
                  <a:pt x="79143" y="21600"/>
                </a:lnTo>
                <a:lnTo>
                  <a:pt x="0" y="21600"/>
                </a:lnTo>
                <a:close/>
              </a:path>
              <a:path fill="lightenLess" w="79143" h="21600">
                <a:moveTo>
                  <a:pt x="0" y="0"/>
                </a:moveTo>
                <a:lnTo>
                  <a:pt x="79143" y="0"/>
                </a:lnTo>
                <a:lnTo>
                  <a:pt x="77743" y="1400"/>
                </a:lnTo>
                <a:lnTo>
                  <a:pt x="1400" y="1400"/>
                </a:lnTo>
                <a:close/>
              </a:path>
              <a:path fill="darken" w="79143" h="21600">
                <a:moveTo>
                  <a:pt x="79143" y="0"/>
                </a:moveTo>
                <a:lnTo>
                  <a:pt x="79143" y="21600"/>
                </a:lnTo>
                <a:lnTo>
                  <a:pt x="77743" y="20200"/>
                </a:lnTo>
                <a:lnTo>
                  <a:pt x="77743" y="1400"/>
                </a:lnTo>
                <a:close/>
              </a:path>
              <a:path fill="darkenLess" w="79143" h="21600">
                <a:moveTo>
                  <a:pt x="79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43" y="20200"/>
                </a:lnTo>
                <a:close/>
              </a:path>
              <a:path fill="lighten" w="79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35280" y="3068640"/>
            <a:ext cx="1429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40000" y="3068640"/>
            <a:ext cx="14436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59280" y="3065400"/>
            <a:ext cx="5184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42920" y="3789360"/>
            <a:ext cx="7129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71640" y="4365720"/>
            <a:ext cx="6913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42920" y="5013360"/>
            <a:ext cx="3745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44000" y="2489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"/>
              </a:rPr>
              <a:t>骤降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278480" y="31212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"/>
              </a:rPr>
              <a:t>长途跋涉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57040" y="4365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饥寒交迫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73400" y="4365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濒临死亡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743280" y="6129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0008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800080"/>
                </a:solidFill>
                <a:latin typeface="Times New Roman"/>
              </a:rPr>
              <a:t>            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5800" y="5867280"/>
            <a:ext cx="617400" cy="5716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356840" y="620640"/>
            <a:ext cx="670320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听到消息后，居民们纷纷走出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家门，冒着料峭的春寒，顶着满天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飞舞的大雪，踏着冻得坚硬的山路，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处寻找冻僵的燕子。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43280" y="6129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0008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800080"/>
                </a:solidFill>
                <a:latin typeface="Times New Roman"/>
              </a:rPr>
              <a:t>            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5800" y="5867280"/>
            <a:ext cx="617400" cy="5716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356840" y="620640"/>
            <a:ext cx="670320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听到消息后，居民们纷纷走出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家门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冒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料峭的春寒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顶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满天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飞舞的大雪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踏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冻得坚硬的山路，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处寻找冻僵的燕子。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43640" y="1197000"/>
            <a:ext cx="73080" cy="71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48360" y="1197000"/>
            <a:ext cx="71640" cy="71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997360"/>
            <a:ext cx="73080" cy="71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32000" y="2997360"/>
            <a:ext cx="71280" cy="72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743280" y="6129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0008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800080"/>
                </a:solidFill>
                <a:latin typeface="Times New Roman"/>
              </a:rPr>
              <a:t>            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2">
            <a:lum contrast="-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79280" y="476280"/>
            <a:ext cx="41054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一个叫贝蒂的小姑娘，听到广播后，和爸爸妈妈一起，在覆盖着皑皑白雪的山间岩缝里，寻找冻僵的燕子。一天下来，她一个人就救护了十几只燕子。她的脸冻得通红，手冻得僵硬，但她一点也不在乎。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79280" y="476280"/>
            <a:ext cx="410544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一个叫贝蒂的小姑娘，听到广播后，和爸爸妈妈一起，在覆盖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皑皑白雪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的山间岩缝里，寻找冻僵的燕子。一天下来，她一个人就救护了十几只燕子。她的脸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冻得通红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，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冻得僵硬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但她一点也不在乎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743280" y="6129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0008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800080"/>
                </a:solidFill>
                <a:latin typeface="Times New Roman"/>
              </a:rPr>
              <a:t>            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301400" y="1197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方正少儿简体"/>
              </a:rPr>
              <a:t>风雪不止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94120" y="907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方正少儿简体"/>
              </a:rPr>
              <a:t>饥寒交迫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73040" y="2924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方正少儿简体"/>
              </a:rPr>
              <a:t>春寒料峭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70120" y="2060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方正少儿简体"/>
              </a:rPr>
              <a:t>满天飞舞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49760" y="177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方正少儿简体"/>
              </a:rPr>
              <a:t>皑皑白雪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06480" y="4220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方正少儿简体"/>
                <a:ea typeface="方正少儿简体"/>
              </a:rPr>
              <a:t>北风呼啸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32600" y="34995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方正少儿简体"/>
                <a:ea typeface="方正少儿简体"/>
              </a:rPr>
              <a:t>天寒地冻 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65400" y="3212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方正少儿简体"/>
                <a:ea typeface="方正少儿简体"/>
              </a:rPr>
              <a:t>冰天雪地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09840" y="47307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方正少儿简体"/>
              </a:rPr>
              <a:t>滴水成冰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6129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0008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800080"/>
                </a:solidFill>
                <a:latin typeface="Times New Roman"/>
              </a:rPr>
              <a:t>            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539640" y="587520"/>
            <a:ext cx="83534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列车开动了，载着燕子的列车，带着人类的友情驶向远方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。燕子在车厢里唧唧喳喳，仿佛在向人们致谢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66560" y="1628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谢谢你们……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743280" y="6129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0008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800080"/>
                </a:solidFill>
                <a:latin typeface="Times New Roman"/>
              </a:rPr>
              <a:t>            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00000" y="1844640"/>
            <a:ext cx="777744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Comic Sans MS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  <a:ea typeface="华文中宋"/>
              </a:rPr>
              <a:t>、把课文读正确、流利。认读生字。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Comic Sans MS"/>
                <a:ea typeface="华文中宋"/>
              </a:rPr>
              <a:t>2 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  <a:ea typeface="华文中宋"/>
              </a:rPr>
              <a:t>、边读边思考：课文讲了一件什么事？从中你体会到了什么？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7650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华文新魏"/>
              </a:rPr>
              <a:t>自读自悟</a:t>
            </a: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43280" y="6129360"/>
            <a:ext cx="1873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8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            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324000" y="189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80"/>
                </a:solidFill>
                <a:latin typeface="Times New Roman"/>
              </a:rPr>
              <a:t>　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祝福小燕子们无论到什么地方，都永远幸福快乐！因为我们人类都关爱着你们！再见了，燕子！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743280" y="6129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0008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800080"/>
                </a:solidFill>
                <a:latin typeface="Times New Roman"/>
              </a:rPr>
              <a:t>            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914400" y="1376280"/>
            <a:ext cx="7618320" cy="6247800"/>
            <a:chOff x="914400" y="1376280"/>
            <a:chExt cx="7618320" cy="6247800"/>
          </a:xfrm>
        </p:grpSpPr>
        <p:sp>
          <p:nvSpPr>
            <p:cNvPr id="269" name=""/>
            <p:cNvSpPr/>
            <p:nvPr/>
          </p:nvSpPr>
          <p:spPr>
            <a:xfrm>
              <a:off x="914400" y="1447920"/>
              <a:ext cx="7618320" cy="61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00080"/>
                </a:solidFill>
                <a:latin typeface="Times New Roman"/>
              </a:endParaRPr>
            </a:p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800080"/>
                  </a:solidFill>
                  <a:latin typeface="Times New Roman"/>
                  <a:ea typeface="楷体_GB2312"/>
                </a:rPr>
                <a:t>      </a:t>
              </a:r>
              <a:r>
                <a:rPr b="1" lang="zh-CN" sz="5400" spc="-1" strike="noStrike">
                  <a:solidFill>
                    <a:srgbClr val="800080"/>
                  </a:solidFill>
                  <a:latin typeface="Times New Roman"/>
                  <a:ea typeface="楷体_GB2312"/>
                </a:rPr>
                <a:t>骤然　　跋涉</a:t>
              </a:r>
              <a:endParaRPr b="0" lang="en-US" sz="5400" spc="-1" strike="noStrike">
                <a:solidFill>
                  <a:srgbClr val="800080"/>
                </a:solidFill>
                <a:latin typeface="Times New Roman"/>
              </a:endParaRPr>
            </a:p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800080"/>
                  </a:solidFill>
                  <a:latin typeface="Times New Roman"/>
                  <a:ea typeface="楷体_GB2312"/>
                </a:rPr>
                <a:t>　</a:t>
              </a:r>
              <a:endParaRPr b="0" lang="en-US" sz="5400" spc="-1" strike="noStrike">
                <a:solidFill>
                  <a:srgbClr val="800080"/>
                </a:solidFill>
                <a:latin typeface="Times New Roman"/>
              </a:endParaRPr>
            </a:p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800080"/>
                  </a:solidFill>
                  <a:latin typeface="Times New Roman"/>
                  <a:ea typeface="楷体_GB2312"/>
                </a:rPr>
                <a:t>     </a:t>
              </a:r>
              <a:r>
                <a:rPr b="1" lang="zh-CN" sz="5400" spc="-1" strike="noStrike">
                  <a:solidFill>
                    <a:srgbClr val="800080"/>
                  </a:solidFill>
                  <a:latin typeface="Times New Roman"/>
                  <a:ea typeface="楷体_GB2312"/>
                </a:rPr>
                <a:t>濒临         </a:t>
              </a:r>
              <a:endParaRPr b="0" lang="en-US" sz="5400" spc="-1" strike="noStrike">
                <a:solidFill>
                  <a:srgbClr val="800080"/>
                </a:solidFill>
                <a:latin typeface="Times New Roman"/>
              </a:endParaRPr>
            </a:p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80008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80"/>
                  </a:solidFill>
                  <a:latin typeface="Times New Roman"/>
                  <a:ea typeface="楷体_GB2312"/>
                </a:rPr>
                <a:t>　　　　　　　</a:t>
              </a:r>
              <a:endParaRPr b="0" lang="en-US" sz="28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332000" y="1376280"/>
              <a:ext cx="7188120" cy="46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800080"/>
                  </a:solidFill>
                  <a:latin typeface="Times New Roman"/>
                </a:rPr>
                <a:t>  </a:t>
              </a:r>
              <a:r>
                <a:rPr b="1" lang="zh-CN" sz="5400" spc="-1" strike="noStrike">
                  <a:solidFill>
                    <a:srgbClr val="800080"/>
                  </a:solidFill>
                  <a:latin typeface="Times New Roman"/>
                </a:rPr>
                <a:t>zhòu</a:t>
              </a:r>
              <a:r>
                <a:rPr b="1" lang="zh-CN" sz="5400" spc="-1" strike="noStrike">
                  <a:solidFill>
                    <a:srgbClr val="800080"/>
                  </a:solidFill>
                  <a:latin typeface="Times New Roman"/>
                </a:rPr>
                <a:t>　    </a:t>
              </a:r>
              <a:r>
                <a:rPr b="1" lang="zh-CN" sz="5400" spc="-1" strike="noStrike">
                  <a:solidFill>
                    <a:srgbClr val="800080"/>
                  </a:solidFill>
                  <a:latin typeface="Times New Roman"/>
                </a:rPr>
                <a:t>b</a:t>
              </a:r>
              <a:r>
                <a:rPr b="1" lang="zh-CN" sz="5400" spc="-1" strike="noStrike">
                  <a:solidFill>
                    <a:srgbClr val="800080"/>
                  </a:solidFill>
                  <a:latin typeface="Century Gothic"/>
                </a:rPr>
                <a:t>á</a:t>
              </a:r>
              <a:r>
                <a:rPr b="1" lang="zh-CN" sz="5400" spc="-1" strike="noStrike">
                  <a:solidFill>
                    <a:srgbClr val="800080"/>
                  </a:solidFill>
                  <a:latin typeface="Times New Roman"/>
                </a:rPr>
                <a:t> shè</a:t>
              </a:r>
              <a:endParaRPr b="0" lang="en-US" sz="5400" spc="-1" strike="noStrike">
                <a:solidFill>
                  <a:srgbClr val="80008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800080"/>
                  </a:solidFill>
                  <a:latin typeface="Times New Roman"/>
                </a:rPr>
                <a:t>　</a:t>
              </a:r>
              <a:endParaRPr b="0" lang="en-US" sz="5400" spc="-1" strike="noStrike">
                <a:solidFill>
                  <a:srgbClr val="80008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80008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800080"/>
                  </a:solidFill>
                  <a:latin typeface="Times New Roman"/>
                </a:rPr>
                <a:t> </a:t>
              </a:r>
              <a:r>
                <a:rPr b="1" lang="zh-CN" sz="5400" spc="-1" strike="noStrike">
                  <a:solidFill>
                    <a:srgbClr val="800080"/>
                  </a:solidFill>
                  <a:latin typeface="Times New Roman"/>
                </a:rPr>
                <a:t>bīn</a:t>
              </a:r>
              <a:endParaRPr b="0" lang="en-US" sz="5400" spc="-1" strike="noStrike">
                <a:solidFill>
                  <a:srgbClr val="8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800080"/>
                  </a:solidFill>
                  <a:latin typeface="Arial"/>
                </a:rPr>
                <a:t>                         </a:t>
              </a:r>
              <a:endParaRPr b="0" lang="en-US" sz="5400" spc="-1" strike="noStrike">
                <a:solidFill>
                  <a:srgbClr val="80008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80"/>
                  </a:solidFill>
                  <a:latin typeface="Times New Roman"/>
                </a:rPr>
                <a:t>　　　　　　　　</a:t>
              </a:r>
              <a:endParaRPr b="0" lang="en-US" sz="28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3743280" y="6129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0008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800080"/>
                </a:solidFill>
                <a:latin typeface="Times New Roman"/>
              </a:rPr>
              <a:t>            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1042920" y="0"/>
            <a:ext cx="7618320" cy="8052840"/>
            <a:chOff x="1042920" y="0"/>
            <a:chExt cx="7618320" cy="8052840"/>
          </a:xfrm>
        </p:grpSpPr>
        <p:sp>
          <p:nvSpPr>
            <p:cNvPr id="273" name=""/>
            <p:cNvSpPr/>
            <p:nvPr/>
          </p:nvSpPr>
          <p:spPr>
            <a:xfrm>
              <a:off x="1042920" y="71640"/>
              <a:ext cx="7618320" cy="79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舒适  特殊  境内  骤降</a:t>
              </a:r>
              <a:endParaRPr b="0" lang="en-US" sz="4800" spc="-1" strike="noStrike">
                <a:solidFill>
                  <a:srgbClr val="8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疲劳  政府  呼吁  立即</a:t>
              </a:r>
              <a:endParaRPr b="0" lang="en-US" sz="4800" spc="-1" strike="noStrike">
                <a:solidFill>
                  <a:srgbClr val="8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坚硬  致谢  饥寒交迫</a:t>
              </a:r>
              <a:endParaRPr b="0" lang="en-US" sz="4800" spc="-1" strike="noStrike">
                <a:solidFill>
                  <a:srgbClr val="8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皑皑白雪    风雪不止    </a:t>
              </a:r>
              <a:endParaRPr b="0" lang="en-US" sz="4800" spc="-1" strike="noStrike">
                <a:solidFill>
                  <a:srgbClr val="8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长途跋涉</a:t>
              </a:r>
              <a:endParaRPr b="0" lang="en-US" sz="4800" spc="-1" strike="noStrike">
                <a:solidFill>
                  <a:srgbClr val="800080"/>
                </a:solidFill>
                <a:latin typeface="Times New Roman"/>
              </a:endParaRPr>
            </a:p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80008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80"/>
                  </a:solidFill>
                  <a:latin typeface="Times New Roman"/>
                  <a:ea typeface="楷体_GB2312"/>
                </a:rPr>
                <a:t>　　　　　　　</a:t>
              </a:r>
              <a:endParaRPr b="0" lang="en-US" sz="28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460520" y="0"/>
              <a:ext cx="7188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3743280" y="6129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0008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800080"/>
                </a:solidFill>
                <a:latin typeface="Times New Roman"/>
              </a:rPr>
              <a:t>            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63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专列     欧洲     瑞士     舒适     空调</a:t>
            </a: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列车     启程     站台     特殊     长途</a:t>
            </a: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麻烦     骤降     气温     风雪     疲劳</a:t>
            </a: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温暖     政府     纷纷     救护     开动 </a:t>
            </a: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友情     致谢     成千上万    饥寒交迫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43280" y="6129360"/>
            <a:ext cx="1873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8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            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403280" y="17715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2916360" y="3284640"/>
            <a:ext cx="936360" cy="936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916360" y="177156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4356000" y="3284640"/>
            <a:ext cx="936720" cy="936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2914560" y="4797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5796000" y="3284640"/>
            <a:ext cx="936720" cy="936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9"/>
          <a:stretch/>
        </p:blipFill>
        <p:spPr>
          <a:xfrm>
            <a:off x="4356000" y="4797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0"/>
          <a:stretch/>
        </p:blipFill>
        <p:spPr>
          <a:xfrm>
            <a:off x="1403280" y="4797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1"/>
          <a:stretch/>
        </p:blipFill>
        <p:spPr>
          <a:xfrm>
            <a:off x="7236000" y="1773360"/>
            <a:ext cx="936360" cy="936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2"/>
          <a:stretch/>
        </p:blipFill>
        <p:spPr>
          <a:xfrm>
            <a:off x="5796000" y="17715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3"/>
          <a:stretch/>
        </p:blipFill>
        <p:spPr>
          <a:xfrm>
            <a:off x="4356000" y="17715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4"/>
          <a:stretch/>
        </p:blipFill>
        <p:spPr>
          <a:xfrm>
            <a:off x="1403280" y="3284640"/>
            <a:ext cx="936720" cy="9363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647720" y="2203200"/>
            <a:ext cx="6392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欧     洲     瑞     士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舒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5"/>
          <a:stretch/>
        </p:blipFill>
        <p:spPr>
          <a:xfrm>
            <a:off x="5796000" y="479736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476360" y="4869000"/>
            <a:ext cx="5256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Arial"/>
                <a:ea typeface="楷体_GB2312"/>
              </a:rPr>
              <a:t>政     踏     救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载</a:t>
            </a:r>
            <a:r>
              <a:rPr b="0" lang="zh-CN" sz="4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6"/>
          <a:stretch/>
        </p:blipFill>
        <p:spPr>
          <a:xfrm>
            <a:off x="7236000" y="3284640"/>
            <a:ext cx="936360" cy="936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76360" y="3325680"/>
            <a:ext cx="68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Arial"/>
                <a:ea typeface="楷体_GB2312"/>
              </a:rPr>
              <a:t>启     殊     骤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涉</a:t>
            </a:r>
            <a:r>
              <a:rPr b="1" lang="zh-CN" sz="4800" spc="-1" strike="noStrike">
                <a:solidFill>
                  <a:srgbClr val="0066ff"/>
                </a:solidFill>
                <a:latin typeface="Arial"/>
                <a:ea typeface="楷体_GB2312"/>
              </a:rPr>
              <a:t>     疲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43280" y="6129360"/>
            <a:ext cx="1873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Times New Roman"/>
                <a:hlinkClick r:id="rId17"/>
              </a:rPr>
              <a:t>点此播放教学视频</a:t>
            </a:r>
            <a:r>
              <a:rPr b="0" lang="zh-CN" sz="1800" spc="-1" strike="noStrike" u="sng">
                <a:solidFill>
                  <a:srgbClr val="3333cc"/>
                </a:solidFill>
                <a:uFillTx/>
                <a:latin typeface="Times New Roman"/>
                <a:hlinkClick r:id="rId18"/>
              </a:rPr>
              <a:t>            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1052640"/>
            <a:ext cx="96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Comic Sans MS"/>
                <a:ea typeface="华文中宋"/>
              </a:rPr>
              <a:t>     </a:t>
            </a:r>
            <a:r>
              <a:rPr b="1" lang="zh-CN" sz="6000" spc="-1" strike="noStrike">
                <a:solidFill>
                  <a:srgbClr val="0000ff"/>
                </a:solidFill>
                <a:latin typeface="Comic Sans MS"/>
                <a:ea typeface="华文中宋"/>
              </a:rPr>
              <a:t>课文讲了一件什么事？从中你体会到了什么？</a:t>
            </a:r>
            <a:endParaRPr b="0" lang="en-US" sz="6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475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99"/>
                </a:solidFill>
                <a:latin typeface="Arial"/>
                <a:ea typeface="华文新魏"/>
              </a:rPr>
              <a:t>交流自学</a:t>
            </a:r>
            <a:r>
              <a:rPr b="1" lang="zh-CN" sz="6600" spc="-1" strike="noStrike">
                <a:solidFill>
                  <a:srgbClr val="ff3399"/>
                </a:solidFill>
                <a:latin typeface="Arial"/>
                <a:ea typeface="华文新魏"/>
              </a:rPr>
              <a:t>:</a:t>
            </a:r>
            <a:endParaRPr b="0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43280" y="6129360"/>
            <a:ext cx="1873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8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            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87280" y="1052640"/>
            <a:ext cx="65534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66ff"/>
                </a:solidFill>
                <a:latin typeface="Comic Sans MS"/>
                <a:ea typeface="华文中宋"/>
              </a:rPr>
              <a:t>        </a:t>
            </a:r>
            <a:r>
              <a:rPr b="1" lang="zh-CN" sz="4400" spc="-1" strike="noStrike">
                <a:solidFill>
                  <a:srgbClr val="0000ff"/>
                </a:solidFill>
                <a:latin typeface="Comic Sans MS"/>
                <a:ea typeface="华文中宋"/>
              </a:rPr>
              <a:t>根据自己的体会和感悟，在“人”和“燕子”之间加上合适的词。</a:t>
            </a: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66920" y="3795840"/>
            <a:ext cx="49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66ff"/>
                </a:solidFill>
                <a:latin typeface="Comic Sans MS"/>
                <a:ea typeface="华文中宋"/>
              </a:rPr>
              <a:t>人                  燕子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76720" y="4365720"/>
            <a:ext cx="2016000" cy="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 flipH="1">
            <a:off x="-324360" y="3048120"/>
            <a:ext cx="4535640" cy="3809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5724360" y="3645000"/>
            <a:ext cx="3656160" cy="2658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743280" y="6129360"/>
            <a:ext cx="1873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Times New Roman"/>
                <a:hlinkClick r:id="rId5"/>
              </a:rPr>
              <a:t>点此播放教学视频</a:t>
            </a:r>
            <a:r>
              <a:rPr b="0" lang="zh-CN" sz="1800" spc="-1" strike="noStrike" u="sng">
                <a:solidFill>
                  <a:srgbClr val="3333cc"/>
                </a:solidFill>
                <a:uFillTx/>
                <a:latin typeface="Times New Roman"/>
                <a:hlinkClick r:id="rId6"/>
              </a:rPr>
              <a:t>            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读书讨论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            </a:t>
            </a:r>
            <a:r>
              <a:rPr b="1" lang="zh-CN" sz="4500" spc="-1" strike="noStrike">
                <a:solidFill>
                  <a:srgbClr val="0000ff"/>
                </a:solidFill>
                <a:latin typeface="Times New Roman"/>
              </a:rPr>
              <a:t>人们帮助燕子，救助燕子，都是源于一种最朴素、最真挚的感情，那就是对动物的爱！</a:t>
            </a:r>
            <a:r>
              <a:rPr b="1" lang="zh-CN" sz="4500" spc="-1" strike="noStrike">
                <a:solidFill>
                  <a:srgbClr val="ff0000"/>
                </a:solidFill>
                <a:latin typeface="Times New Roman"/>
              </a:rPr>
              <a:t>从文中哪些地方我们可以看到“爱”呢？</a:t>
            </a:r>
            <a:endParaRPr b="0" lang="en-US" sz="45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Times New Roman"/>
              </a:rPr>
              <a:t>（注意：先自学圈画，后小组交流）</a:t>
            </a:r>
            <a:endParaRPr b="0" lang="en-US" sz="41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43280" y="6129360"/>
            <a:ext cx="1873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8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            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2:55:00Z</dcterms:created>
  <dc:creator>fqun</dc:creator>
  <dc:description/>
  <dc:language>en-US</dc:language>
  <cp:lastModifiedBy>User</cp:lastModifiedBy>
  <dcterms:modified xsi:type="dcterms:W3CDTF">2014-02-18T16:42:44Z</dcterms:modified>
  <cp:revision>151</cp:revision>
  <dc:subject/>
  <dc:title>PowerPoint 演示文稿</dc:title>
</cp:coreProperties>
</file>