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24B-1C01-44B1-A579-46D56E4A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819-C1F3-4E51-A493-7A027E9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036-2328-4DA3-A756-0F7D78A6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BAD-5CBC-4D88-97B3-74D2AE36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540-DA42-47F1-882F-E264C790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A1B-3A17-42BC-B1D5-870DEB17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3CE-997D-4A8B-B73A-75A2B11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3AE-6237-43E2-B90B-3B432483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A60-1941-45E9-B7AB-BF7BE97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200-C50F-4465-AD60-CEFE72EA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40B-CB65-43E3-96D5-1CA7413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4DE-3999-4FD8-822C-03208EC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54C-07D9-43D8-8C04-FF2CEEC9E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352040" y="3594240"/>
            <a:ext cx="273888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stan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stil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fal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微软雅黑"/>
                <a:ea typeface="宋体"/>
              </a:rPr>
              <a:t>behin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4390920" y="4838760"/>
            <a:ext cx="21531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Execu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To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Mi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4334400" y="5765760"/>
            <a:ext cx="14029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宋体"/>
              </a:rPr>
              <a:t>kpmg.com/CMsurve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764520" y="4597560"/>
            <a:ext cx="15897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宋体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宋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3357000" y="5321160"/>
            <a:ext cx="2391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responden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sai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h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3088080" y="5562720"/>
            <a:ext cx="29296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underst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h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hei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custom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3693600" y="5803920"/>
            <a:ext cx="173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wi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actuall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behav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275040" y="44460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30120" y="2247840"/>
            <a:ext cx="34290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eti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an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74680" y="3073320"/>
            <a:ext cx="39466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u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s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value.’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364320" y="4216320"/>
            <a:ext cx="1608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om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r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290880" y="4483080"/>
            <a:ext cx="341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ni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artner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275040" y="44460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2518200" y="1892160"/>
            <a:ext cx="4082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Suppl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cha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362600" y="3187800"/>
            <a:ext cx="6380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mo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mob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hop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u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res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693880" y="3467160"/>
            <a:ext cx="3718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ffici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spec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upp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072440" y="4038480"/>
            <a:ext cx="6973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resul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re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2098080" y="4317840"/>
            <a:ext cx="4910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nam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r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crea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vest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275040" y="44460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3973320" y="3949560"/>
            <a:ext cx="14011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24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3247920" y="4775040"/>
            <a:ext cx="2838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xecu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a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2945520" y="5054760"/>
            <a:ext cx="3456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lan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cre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3587400" y="5334120"/>
            <a:ext cx="2172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up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75040" y="44460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91600" y="1486080"/>
            <a:ext cx="388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Regardl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he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up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h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mprove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nee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row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n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’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ross-functiona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85840" y="3543480"/>
            <a:ext cx="3187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ell-construc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up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trategy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353520" y="4699080"/>
            <a:ext cx="2277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dr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Underw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03480" y="4978440"/>
            <a:ext cx="2669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up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ha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75040" y="44460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2445120" y="1917720"/>
            <a:ext cx="4215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secur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084680" y="3213000"/>
            <a:ext cx="694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ha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respond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elie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mp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h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echnolog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man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y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ecurity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dic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3260880" y="3772080"/>
            <a:ext cx="2584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curity</a:t>
            </a:r>
            <a:r>
              <a:rPr b="0" lang="en-US" sz="1800" spc="-1" strike="noStrike">
                <a:solidFill>
                  <a:srgbClr val="409dad"/>
                </a:solidFill>
                <a:latin typeface="微软雅黑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1099800" y="4343400"/>
            <a:ext cx="6982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Ev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execu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h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lrea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experienc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rea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h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1445040" y="4622760"/>
            <a:ext cx="6216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gre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nce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b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ss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h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n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250560" y="44460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250560" y="44460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62000" y="5156280"/>
            <a:ext cx="68389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宋体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ignific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rea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xecu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a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ea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r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2070000"/>
                <a:tab algn="l" pos="2616120"/>
                <a:tab algn="l" pos="3873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780840" y="3035160"/>
            <a:ext cx="137232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127080"/>
                <a:tab algn="l" pos="2030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Reputation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27080"/>
                <a:tab algn="l" pos="2030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dama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27080"/>
                <a:tab algn="l" pos="2030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los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27080"/>
                <a:tab algn="l" pos="20304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7480440" y="3454560"/>
            <a:ext cx="10414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50760"/>
                <a:tab algn="l" pos="13968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Inabilit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50760"/>
                <a:tab algn="l" pos="13968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deli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50760"/>
                <a:tab algn="l" pos="13968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produc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50760"/>
                <a:tab algn="l" pos="13968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3326760" y="3200400"/>
            <a:ext cx="1207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3816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Los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im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3816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du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cri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3816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5623920" y="3327480"/>
            <a:ext cx="982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10152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Los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0152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intellectu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0152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proper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312120" y="2082960"/>
            <a:ext cx="338868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rea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anies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[also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271440" y="2908440"/>
            <a:ext cx="3889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ttack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ctivist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etitors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318240" y="4051440"/>
            <a:ext cx="24116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tho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uffom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312840" y="4330800"/>
            <a:ext cx="28159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y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250560" y="44460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993960" y="1930320"/>
            <a:ext cx="71179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微软雅黑"/>
                <a:ea typeface="宋体"/>
              </a:rPr>
              <a:t>CSR and Sustainabil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114920" y="3251160"/>
            <a:ext cx="68763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rpor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oc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responsi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(CSR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o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408320" y="3530520"/>
            <a:ext cx="6276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afe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rank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mpanies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riority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r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2629440" y="3809880"/>
            <a:ext cx="3847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vestmen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great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hallen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1596600" y="4381560"/>
            <a:ext cx="5912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dr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rus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urpris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250560" y="44460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3499920" y="4533840"/>
            <a:ext cx="1877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宋体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780640" y="5016600"/>
            <a:ext cx="3329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xecu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a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2941560" y="5295960"/>
            <a:ext cx="3020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r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3313080" y="5587920"/>
            <a:ext cx="2251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ustain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250560" y="44460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892400" y="4089240"/>
            <a:ext cx="33602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d4ef"/>
                </a:solidFill>
                <a:latin typeface="微软雅黑"/>
                <a:ea typeface="宋体"/>
              </a:rPr>
              <a:t>…</a:t>
            </a:r>
            <a:r>
              <a:rPr b="0" lang="en-US" sz="24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b2d4ef"/>
                </a:solidFill>
                <a:latin typeface="微软雅黑"/>
                <a:ea typeface="宋体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b2d4ef"/>
                </a:solidFill>
                <a:latin typeface="微软雅黑"/>
                <a:ea typeface="宋体"/>
              </a:rPr>
              <a:t>i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b2d4ef"/>
                </a:solidFill>
                <a:latin typeface="微软雅黑"/>
                <a:ea typeface="宋体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906120" y="2298600"/>
            <a:ext cx="3598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grow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267480" y="1625760"/>
            <a:ext cx="345312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ustom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le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on’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li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ran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an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b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t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or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angi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rust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350280" y="4838760"/>
            <a:ext cx="1814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Jul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ernand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53880" y="5105520"/>
            <a:ext cx="2454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PMG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19680" y="5384880"/>
            <a:ext cx="32850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xcell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250560" y="44460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366480" y="482760"/>
            <a:ext cx="56934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COMPAN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READ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GROWTH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1629000" y="1752480"/>
            <a:ext cx="2355480" cy="35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ompan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ctive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build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trus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omni-chann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strate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dynam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merchandi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pla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underst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secur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breach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prepared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5759280" y="1650960"/>
            <a:ext cx="260388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ustom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underst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ommit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S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sustainability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leverag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intellig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hold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supp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cha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g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effici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me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grow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宋体"/>
              </a:rPr>
              <a:t>demand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523800" y="1905120"/>
            <a:ext cx="74304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Omn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76320"/>
                <a:tab algn="l" pos="13968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4621680" y="1803240"/>
            <a:ext cx="840600" cy="34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CS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Sustain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38160"/>
                <a:tab algn="l" pos="88920"/>
                <a:tab algn="l" pos="139680"/>
                <a:tab algn="l" pos="16524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343440" y="546120"/>
            <a:ext cx="30214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WH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W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SURVEY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3240" y="6121440"/>
            <a:ext cx="68389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Sour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Executiv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To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Min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宋体"/>
              </a:rPr>
              <a:t>Surve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685080" y="4952880"/>
            <a:ext cx="1309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CEO/President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16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Director/Boar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membe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Oth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C-suit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5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Senio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management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2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Othe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2706840" y="4952880"/>
            <a:ext cx="149508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Compan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siz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(USD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Les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tha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$5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million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14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$50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million-$99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million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$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-$4.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7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$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-$19.9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19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$2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-$5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Ov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$5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illion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4956480" y="4952880"/>
            <a:ext cx="89496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Primar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usines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Manufacture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48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Retaile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32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Distributo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6961680" y="4952880"/>
            <a:ext cx="16596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Subsec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Consum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goods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38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Foo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o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beverages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31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Clothing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apparel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o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footwea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16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Diversified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8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Agribusiness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Other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1077120" y="1359000"/>
            <a:ext cx="1287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Europ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an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Russ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Lat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Americ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Asi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Pacifi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8228520" y="1384200"/>
            <a:ext cx="2307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28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4911120" y="1828800"/>
            <a:ext cx="17280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154520" y="2120760"/>
            <a:ext cx="2732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250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Africa/Middl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Eas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250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North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Americ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0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250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1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021480" y="1359000"/>
            <a:ext cx="2307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16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5625000" y="584280"/>
            <a:ext cx="2307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宋体"/>
              </a:rPr>
              <a:t>34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72960" y="482760"/>
            <a:ext cx="7445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DRIVER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ENABL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DERAIL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宋体"/>
              </a:rPr>
              <a:t>GROWT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100160" y="4800600"/>
            <a:ext cx="1774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mni-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533520" y="1371600"/>
            <a:ext cx="11682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7271280" y="4800600"/>
            <a:ext cx="15735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S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6734160" y="1371600"/>
            <a:ext cx="9212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4664520" y="4800600"/>
            <a:ext cx="7671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535200" y="1371600"/>
            <a:ext cx="1261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499320" y="325116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2023200" y="325116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6486480" y="323856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513600" y="325116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037840" y="325116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8022960" y="3251160"/>
            <a:ext cx="616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erai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027160" y="1905120"/>
            <a:ext cx="50389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520640" y="3162240"/>
            <a:ext cx="606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xecu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a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uil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r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ou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r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crea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vest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2345760" y="3720960"/>
            <a:ext cx="4414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r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oc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grow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334080" y="44460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4587480" y="4546440"/>
            <a:ext cx="1468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宋体"/>
              </a:rPr>
              <a:t>$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85480" y="2247840"/>
            <a:ext cx="37728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a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r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ustomers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351360" y="4216320"/>
            <a:ext cx="11772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i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ru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90520" y="4483080"/>
            <a:ext cx="3483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hair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34080" y="44460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572480" y="1486080"/>
            <a:ext cx="59486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Omni-channe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751840" y="2324160"/>
            <a:ext cx="35899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465120" y="3517920"/>
            <a:ext cx="81633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grow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ro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rough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urch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ntin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050840" y="3797280"/>
            <a:ext cx="69919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ritic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anies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e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Y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r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remai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ignific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executi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4102200" y="4991040"/>
            <a:ext cx="6224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62"/>
                </a:solidFill>
                <a:latin typeface="微软雅黑"/>
                <a:ea typeface="宋体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4028760" y="5346720"/>
            <a:ext cx="7567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62"/>
                </a:solidFill>
                <a:latin typeface="微软雅黑"/>
                <a:ea typeface="宋体"/>
              </a:rPr>
              <a:t>sa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5062"/>
                </a:solidFill>
                <a:latin typeface="微软雅黑"/>
                <a:ea typeface="宋体"/>
              </a:rPr>
              <a:t>it’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400" spc="-1" strike="noStrike">
                <a:solidFill>
                  <a:srgbClr val="005062"/>
                </a:solidFill>
                <a:latin typeface="微软雅黑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4278240" y="5562720"/>
            <a:ext cx="282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62"/>
                </a:solidFill>
                <a:latin typeface="微软雅黑"/>
                <a:ea typeface="宋体"/>
              </a:rPr>
              <a:t>t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015440" y="5778360"/>
            <a:ext cx="8085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62"/>
                </a:solidFill>
                <a:latin typeface="微软雅黑"/>
                <a:ea typeface="宋体"/>
              </a:rPr>
              <a:t>chall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34080" y="44460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60200" y="4788000"/>
            <a:ext cx="703332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J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a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retail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urvey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aml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hop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xperi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light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fe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ob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h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1765440"/>
                <a:tab algn="l" pos="1968480"/>
                <a:tab algn="l" pos="318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2062800" y="2336760"/>
            <a:ext cx="176760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5076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宋体"/>
              </a:rPr>
              <a:t>55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5076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Seamles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sh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5076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experi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253840" y="2336760"/>
            <a:ext cx="19126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1015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宋体"/>
              </a:rPr>
              <a:t>52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Abilit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sho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fro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0152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mobi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宋体"/>
              </a:rPr>
              <a:t>devi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334080" y="44460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299880" y="1765440"/>
            <a:ext cx="370584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ecom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‘diagonal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i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mpan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emerg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echnolog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li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m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watch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ay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control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parties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389520" y="4699080"/>
            <a:ext cx="1773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Jean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303120" y="4965840"/>
            <a:ext cx="2454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Omni-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334080" y="444600"/>
            <a:ext cx="474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3240" y="6489720"/>
            <a:ext cx="6838920" cy="1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©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201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ooperati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(“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”),a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wis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entity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etwork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f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depend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r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ffiliate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wit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rovid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client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ervices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th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hir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parties,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n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doe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KPMG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Internationa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hav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such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uthorit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to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bligate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o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bind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ny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member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firm.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All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ights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00" spc="-1" strike="noStrike">
                <a:solidFill>
                  <a:srgbClr val="ffffff"/>
                </a:solidFill>
                <a:latin typeface="微软雅黑"/>
                <a:ea typeface="宋体"/>
              </a:rPr>
              <a:t>reserved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000800" y="1905120"/>
            <a:ext cx="70538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微软雅黑"/>
                <a:ea typeface="宋体"/>
              </a:rPr>
              <a:t>Consumer knowled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206000" y="3187800"/>
            <a:ext cx="6643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ossibil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nalyt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h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y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2086560" y="3467160"/>
            <a:ext cx="4882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bsorb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m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mpan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1074600" y="3898800"/>
            <a:ext cx="689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de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ins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n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prefere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behavior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succ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guarante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re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ompeti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3283200" y="4470480"/>
            <a:ext cx="2489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th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gras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b2d4ef"/>
                </a:solidFill>
                <a:latin typeface="微软雅黑"/>
                <a:ea typeface="宋体"/>
              </a:rPr>
              <a:t>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75040" y="444600"/>
            <a:ext cx="579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7595a"/>
                </a:solidFill>
                <a:latin typeface="微软雅黑"/>
                <a:ea typeface="宋体"/>
              </a:rPr>
              <a:t>Ena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1415爱生活</dc:creator>
  <dc:description/>
  <dc:language>en-US</dc:language>
  <cp:lastModifiedBy>Windows 用户</cp:lastModifiedBy>
  <dcterms:modified xsi:type="dcterms:W3CDTF">2015-09-24T09:30:14Z</dcterms:modified>
  <cp:revision>11</cp:revision>
  <dc:subject/>
  <dc:title>Slide 1</dc:title>
</cp:coreProperties>
</file>