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B23B-73BB-41B6-ACEA-4657295C79C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B9B6-7D74-4D99-A194-3404A71DBB7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250A-1365-4B8F-BE44-A35DCFD55E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03C9-03B7-4A7F-9D34-B2257DFBBEC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59F8-DCCA-4576-8C37-47D7A7D1AE5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C1DC-3336-4138-A37F-DFBB7F30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72D4-BD43-4E96-AA18-8E24FAA9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CEB-BFC4-4340-A8DD-D067585F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69CA-7A21-4B92-9511-CCEF64D2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EA46-7CC3-4A13-8FD3-5E5284B4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21E3-A45A-4189-8ED4-3AC97CCD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BBDC-E0CE-4349-842A-919CB537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EB33-D582-4A57-8294-DA65A128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69DD-874A-4106-9793-69308C6B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0DD1-58CD-4D1A-8B80-B727BDDB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ABC8-2C6F-4AB4-A529-628165EC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540E-CD1E-4F35-BD2D-50EEBAC0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3CB8-EC5C-4291-96C8-A3E4E36F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088D-F6E6-404E-8740-0D2E1B69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4E9F-7E06-42AB-9F46-79698C3C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4C17-6F6F-4EDA-BF50-43CCC8CD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5913-77BF-463E-9404-E57819BF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FDD9-9170-4870-B4D8-56910FE2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8E3-4D7B-4965-960E-DB8B7DCA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255-48B8-482A-A83C-08C188B5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BB65-24AA-4119-8317-284F8833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17D5-F797-4DC1-9666-1DE6B8C2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8F6-267A-4B4F-8479-B7E1BB04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B9F31-09DB-4DDF-B64C-4987622A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296DA-5F87-4EC4-A95A-66DBBF23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B0583-E2BE-4607-84B1-8C661430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FCD3A-26E3-4EDC-B236-363FF184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C481E-8385-40FE-BFB0-B589DEE3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7D8D-557B-4510-8031-2A85BB93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FB86F-FE76-464C-A2DE-52D79A73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27969-01F7-46DC-AF9F-95B395F9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99E24-8F04-4E4F-8331-2293C70A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9E10E-2A59-403E-892E-2405FD40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9C38F-C45E-4E71-AAFD-122B860D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19112-7C56-4F8B-BC80-B3F56141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F784C-A967-4689-A0AC-04E3D283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352E-D586-4B69-B673-01F2070BC3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1" descr="1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212B-3563-4774-8A6B-DEA040B993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ed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8" descr="bg2_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508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7" descr="bg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ed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ed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图片 11" descr="bg3_03.png"/>
          <p:cNvPicPr/>
          <p:nvPr/>
        </p:nvPicPr>
        <p:blipFill>
          <a:blip r:embed="rId2"/>
          <a:stretch/>
        </p:blipFill>
        <p:spPr>
          <a:xfrm>
            <a:off x="0" y="5210280"/>
            <a:ext cx="2467080" cy="164772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12" descr="bg3_01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5080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ed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6" descr="bg2_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5080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1902-7647-4EF3-8C86-41CA6EF3A0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pt-to-dvd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3"/>
          <p:cNvSpPr/>
          <p:nvPr/>
        </p:nvSpPr>
        <p:spPr>
          <a:xfrm>
            <a:off x="3500280" y="285768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lephant"/>
              </a:rPr>
              <a:t>PowerPoint 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"/>
          <p:cNvSpPr/>
          <p:nvPr/>
        </p:nvSpPr>
        <p:spPr>
          <a:xfrm>
            <a:off x="6929280" y="3429000"/>
            <a:ext cx="5715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Elephant"/>
              </a:rPr>
              <a:t>na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5"/>
          <p:cNvSpPr/>
          <p:nvPr/>
        </p:nvSpPr>
        <p:spPr>
          <a:xfrm>
            <a:off x="500040" y="357120"/>
            <a:ext cx="5715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Elephant"/>
              </a:rPr>
              <a:t>Enter you tex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6"/>
          <p:cNvSpPr/>
          <p:nvPr/>
        </p:nvSpPr>
        <p:spPr>
          <a:xfrm>
            <a:off x="571680" y="4457880"/>
            <a:ext cx="12855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xt</a:t>
            </a:r>
            <a:r>
              <a:rPr b="1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t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o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图片占位符 9" descr="family012.jpg"/>
          <p:cNvPicPr/>
          <p:nvPr/>
        </p:nvPicPr>
        <p:blipFill>
          <a:blip r:embed="rId1"/>
          <a:srcRect l="0" t="0" r="48" b="0"/>
          <a:stretch/>
        </p:blipFill>
        <p:spPr>
          <a:xfrm>
            <a:off x="1857240" y="1285920"/>
            <a:ext cx="1643040" cy="5572080"/>
          </a:xfrm>
          <a:prstGeom prst="rect">
            <a:avLst/>
          </a:prstGeom>
          <a:ln w="0">
            <a:noFill/>
          </a:ln>
        </p:spPr>
      </p:pic>
      <p:pic>
        <p:nvPicPr>
          <p:cNvPr id="335" name="图片占位符 12" descr="family011.jpg"/>
          <p:cNvPicPr/>
          <p:nvPr/>
        </p:nvPicPr>
        <p:blipFill>
          <a:blip r:embed="rId2"/>
          <a:srcRect l="17230" t="0" r="17267" b="0"/>
          <a:stretch/>
        </p:blipFill>
        <p:spPr>
          <a:xfrm>
            <a:off x="3643200" y="1285920"/>
            <a:ext cx="5072040" cy="5572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9"/>
          <p:cNvSpPr/>
          <p:nvPr/>
        </p:nvSpPr>
        <p:spPr>
          <a:xfrm>
            <a:off x="857160" y="584280"/>
            <a:ext cx="5715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Elephant"/>
              </a:rPr>
              <a:t>Enter you tex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图片占位符 18" descr="family019.jpg"/>
          <p:cNvPicPr/>
          <p:nvPr/>
        </p:nvPicPr>
        <p:blipFill>
          <a:blip r:embed="rId1"/>
          <a:srcRect l="0" t="0" r="0" b="26"/>
          <a:stretch/>
        </p:blipFill>
        <p:spPr>
          <a:xfrm>
            <a:off x="4786200" y="1357200"/>
            <a:ext cx="3672000" cy="2643480"/>
          </a:xfrm>
          <a:prstGeom prst="rect">
            <a:avLst/>
          </a:prstGeom>
          <a:ln w="0">
            <a:noFill/>
          </a:ln>
        </p:spPr>
      </p:pic>
      <p:pic>
        <p:nvPicPr>
          <p:cNvPr id="338" name="图片占位符 21" descr="family016.jpg"/>
          <p:cNvPicPr/>
          <p:nvPr/>
        </p:nvPicPr>
        <p:blipFill>
          <a:blip r:embed="rId2"/>
          <a:srcRect l="0" t="0" r="46" b="0"/>
          <a:stretch/>
        </p:blipFill>
        <p:spPr>
          <a:xfrm>
            <a:off x="4786200" y="4111560"/>
            <a:ext cx="3672000" cy="2643120"/>
          </a:xfrm>
          <a:prstGeom prst="rect">
            <a:avLst/>
          </a:prstGeom>
          <a:ln w="0">
            <a:noFill/>
          </a:ln>
        </p:spPr>
      </p:pic>
      <p:pic>
        <p:nvPicPr>
          <p:cNvPr id="339" name="图片占位符 28" descr="family018.jpg"/>
          <p:cNvPicPr/>
          <p:nvPr/>
        </p:nvPicPr>
        <p:blipFill>
          <a:blip r:embed="rId3"/>
          <a:srcRect l="0" t="0" r="0" b="26"/>
          <a:stretch/>
        </p:blipFill>
        <p:spPr>
          <a:xfrm>
            <a:off x="1000080" y="1357200"/>
            <a:ext cx="3672000" cy="2643480"/>
          </a:xfrm>
          <a:prstGeom prst="rect">
            <a:avLst/>
          </a:prstGeom>
          <a:ln w="0">
            <a:noFill/>
          </a:ln>
        </p:spPr>
      </p:pic>
      <p:pic>
        <p:nvPicPr>
          <p:cNvPr id="340" name="图片占位符 31" descr="family011.jpg"/>
          <p:cNvPicPr/>
          <p:nvPr/>
        </p:nvPicPr>
        <p:blipFill>
          <a:blip r:embed="rId4"/>
          <a:srcRect l="0" t="0" r="37" b="0"/>
          <a:stretch/>
        </p:blipFill>
        <p:spPr>
          <a:xfrm>
            <a:off x="1000080" y="4111560"/>
            <a:ext cx="3672000" cy="2643120"/>
          </a:xfrm>
          <a:prstGeom prst="rect">
            <a:avLst/>
          </a:prstGeom>
          <a:ln w="0">
            <a:noFill/>
          </a:ln>
        </p:spPr>
      </p:pic>
      <p:sp>
        <p:nvSpPr>
          <p:cNvPr id="341" name="椭圆 32"/>
          <p:cNvSpPr/>
          <p:nvPr/>
        </p:nvSpPr>
        <p:spPr>
          <a:xfrm>
            <a:off x="3857760" y="3143160"/>
            <a:ext cx="1785960" cy="1785960"/>
          </a:xfrm>
          <a:prstGeom prst="ellipse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33"/>
          <p:cNvSpPr/>
          <p:nvPr/>
        </p:nvSpPr>
        <p:spPr>
          <a:xfrm>
            <a:off x="4068000" y="336384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594c"/>
                </a:solidFill>
                <a:latin typeface="Elephant"/>
                <a:ea typeface="DFGLeiGaSo-W9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34"/>
          <p:cNvSpPr/>
          <p:nvPr/>
        </p:nvSpPr>
        <p:spPr>
          <a:xfrm>
            <a:off x="4905720" y="336384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594c"/>
                </a:solidFill>
                <a:latin typeface="Elephant"/>
                <a:ea typeface="DFGLeiGaSo-W9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35"/>
          <p:cNvSpPr/>
          <p:nvPr/>
        </p:nvSpPr>
        <p:spPr>
          <a:xfrm>
            <a:off x="4116960" y="407196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594c"/>
                </a:solidFill>
                <a:latin typeface="Elephant"/>
                <a:ea typeface="DFGLeiGaSo-W9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36"/>
          <p:cNvSpPr/>
          <p:nvPr/>
        </p:nvSpPr>
        <p:spPr>
          <a:xfrm>
            <a:off x="4905720" y="407196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594c"/>
                </a:solidFill>
                <a:latin typeface="Elephant"/>
                <a:ea typeface="DFGLeiGaSo-W9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8"/>
          <p:cNvSpPr/>
          <p:nvPr/>
        </p:nvSpPr>
        <p:spPr>
          <a:xfrm>
            <a:off x="4143240" y="2928960"/>
            <a:ext cx="5715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Elephant"/>
              </a:rPr>
              <a:t>Thanks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"/>
          <p:cNvSpPr/>
          <p:nvPr/>
        </p:nvSpPr>
        <p:spPr>
          <a:xfrm>
            <a:off x="4500720" y="371484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  <a:hlinkClick r:id="rId1"/>
              </a:rPr>
              <a:t>Wondershare 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350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22"/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4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11:28:07Z</dcterms:created>
  <dc:creator>Administrator</dc:creator>
  <dc:description/>
  <dc:language>en-US</dc:language>
  <cp:lastModifiedBy>a</cp:lastModifiedBy>
  <dcterms:modified xsi:type="dcterms:W3CDTF">2014-08-28T03:28:46Z</dcterms:modified>
  <cp:revision>6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11000000000001024140</vt:lpwstr>
  </property>
</Properties>
</file>