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9A7-A871-466C-913F-7709587E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B39-3DD3-4398-AC80-68EE270B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73B7-C4EA-47FC-A09E-AFEC14F6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C172-B2A9-49C9-95FF-32A29A3E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360-DE68-4456-9499-A21F107C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79C-03EA-4B64-867D-630BC82B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B0E-D163-4827-BB80-7EA52784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34E8-EFAB-4C10-98DC-9C430B14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F11-4FD0-4776-8C17-4419B58D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3FF-CA64-4A1D-B024-75CB11BE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AC0A-38AC-42F6-8217-878DBFDD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F409-CDF5-4357-846F-6FC8109B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FA1B-AD42-4CD6-B147-B8D9A4452413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hyperlink" Target="http://www.weibo.com/51ppt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262626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14440" y="157176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62626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62626"/>
                </a:solidFill>
                <a:latin typeface="Calibri"/>
              </a:rPr>
              <a:t>Lorem ipsum dolor sit amet, consectetuer adipiscing elit. Vivamus et magna. Fusce sed sem sed magna suscipit eges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47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22">
            <a:hlinkClick r:id="rId6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5:46:53Z</dcterms:created>
  <dc:creator>Eric</dc:creator>
  <dc:description/>
  <dc:language>en-US</dc:language>
  <cp:lastModifiedBy>微软中国</cp:lastModifiedBy>
  <dcterms:modified xsi:type="dcterms:W3CDTF">2013-11-14T03:36:15Z</dcterms:modified>
  <cp:revision>12</cp:revision>
  <dc:subject/>
  <dc:title>PRESENTATION  NAME</dc:title>
</cp:coreProperties>
</file>