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22F-9E48-4316-BBDD-B2199577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2A1-E559-4626-A5BD-2C251EFF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83B-595A-4F08-8FA7-0645BDE0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D0D-46CC-46A9-AB53-31C6A1ED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80E-4500-476A-9E7B-1F269C6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99D-8E66-4E48-A4CF-DC5E2A1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717-7298-42A8-8DD8-3C869DEA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12E-5332-40B6-BB5A-99089A86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BD1-4FEE-44A8-9F2C-899E9E37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D10-44C9-407C-BB3E-39B1B10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827-A2B3-41CF-BEC7-0B8A4D44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1CE-96F0-4808-931D-5C62F696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4E7-7735-47F6-91B0-484272EAB75F}" type="slidenum">
              <a:rPr b="0" lang="zh-CN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yl_yong.ex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227664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咏  柳</a:t>
            </a:r>
            <a:endParaRPr b="0" lang="en-US" sz="9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0" b="10112"/>
          <a:stretch/>
        </p:blipFill>
        <p:spPr>
          <a:xfrm>
            <a:off x="990720" y="1800360"/>
            <a:ext cx="731520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916360" y="981000"/>
            <a:ext cx="4286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87280" y="1197000"/>
            <a:ext cx="7010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放声朗读课文，结合拼音认读生字，同学间可互相交流。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1600200" cy="435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2700360" y="1989000"/>
            <a:ext cx="5471640" cy="2053080"/>
            <a:chOff x="2700360" y="1989000"/>
            <a:chExt cx="5471640" cy="2053080"/>
          </a:xfrm>
        </p:grpSpPr>
        <p:sp>
          <p:nvSpPr>
            <p:cNvPr id="65" name=""/>
            <p:cNvSpPr/>
            <p:nvPr/>
          </p:nvSpPr>
          <p:spPr>
            <a:xfrm>
              <a:off x="2700360" y="2352600"/>
              <a:ext cx="5471640" cy="16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咏　柳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贺知章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碧玉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妆成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一 树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高，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6" name="">
              <a:hlinkClick r:id="rId3"/>
            </p:cNvPr>
            <p:cNvSpPr/>
            <p:nvPr/>
          </p:nvSpPr>
          <p:spPr>
            <a:xfrm>
              <a:off x="4386240" y="1989000"/>
              <a:ext cx="979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yǒn</a:t>
              </a:r>
              <a:r>
                <a:rPr b="0" lang="en-US" sz="2800" spc="-1" strike="noStrike">
                  <a:solidFill>
                    <a:srgbClr val="3333cc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03640" y="3789360"/>
            <a:ext cx="5141880" cy="2286360"/>
            <a:chOff x="3203640" y="3789360"/>
            <a:chExt cx="5141880" cy="2286360"/>
          </a:xfrm>
        </p:grpSpPr>
        <p:sp>
          <p:nvSpPr>
            <p:cNvPr id="68" name=""/>
            <p:cNvSpPr/>
            <p:nvPr/>
          </p:nvSpPr>
          <p:spPr>
            <a:xfrm>
              <a:off x="3203640" y="4257720"/>
              <a:ext cx="51418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万 条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垂 下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绿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丝 绦。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不 知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细 叶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谁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裁 出，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二 月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春 风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似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/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剪 刀。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75880" y="3789360"/>
              <a:ext cx="76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tāo</a:t>
              </a:r>
              <a:endParaRPr b="0" lang="en-US" sz="2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1600200" cy="514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76360" y="1341360"/>
            <a:ext cx="691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题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选择题：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咏柳》中用“碧玉”比喻柳树的原因是（　　）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的枝叶鲜嫩新翠有如碧玉一般碧绿润泽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高高地站在那儿，像年轻美貌的女子一般亭亭玉立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不但有如碧玉一般碧绿润泽，而且又如年轻美貌的女子般袅娜多姿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柳树的枝叶轻盈、下垂，被风一吹，飘飘摇摇，像一位年轻潇洒的女子。　　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1197000"/>
            <a:ext cx="74563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☆诗人用古诗赞美了柳树。你能用自己的话来赞美柳树吗？把你想到的写下来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☆背诵《咏柳》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356000" y="3284640"/>
            <a:ext cx="365760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学会本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个生字，认识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个生字，理解词语的意思。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正确、流利地朗读课文，理解诗句的意思，领略春天自然景物的美，增强同学们热爱大自然的思想感情；背诵课文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教材简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《咏柳》这首诗，通过描写在春风吹拂下，柳树迷人的姿态，赞美了万物复苏、生机盎然的春天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　“碧玉妆成一树高”写柳树的全貌，突出了柳树绿的特点。整棵树枝叶翠绿，好像是用碧玉装扮起来一样。“万条垂下绿丝绦”，写柳枝，突出了它们柔美而细长的特点。无数柳条如同一根根柔软的丝带，纷纷下垂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      “不知细叶谁裁出”，写柳叶，突出它们细巧的特点。“谁裁出”是诗人对柳叶发出的赞叹。那一片片细小精致的新叶，是哪个心灵手巧的人剪裁出来的呢？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二月春风似剪刀”是对上一句的回答。原来是二月的春风，像剪刀一样，把这细巧的叶子裁剪出来的。这一问一答，是全诗的点睛之笔，使我们感到强烈的春天气息，抒发了作者赞美柳树春风、讴歌大自然的思想感情。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6520" y="160020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　　春天，柳树发芽了，吐绿了，细细的叶子编成柔嫩的柳条，随风轻拂，跳起了婀娜的舞蹈……真美呵！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59280" y="1052640"/>
            <a:ext cx="373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258920" y="1557360"/>
            <a:ext cx="6629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03280" y="1557360"/>
            <a:ext cx="64008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1600200" cy="435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19280" y="1557360"/>
            <a:ext cx="61722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8:20:30Z</dcterms:created>
  <dc:creator>fqun</dc:creator>
  <dc:description/>
  <dc:language>en-US</dc:language>
  <cp:lastModifiedBy>User</cp:lastModifiedBy>
  <dcterms:modified xsi:type="dcterms:W3CDTF">2014-12-02T13:13:35Z</dcterms:modified>
  <cp:revision>72</cp:revision>
  <dc:subject/>
  <dc:title>PowerPoint 演示文稿</dc:title>
</cp:coreProperties>
</file>