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6.gif" ContentType="image/gif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0A4-B72E-471B-9DDF-3CB69596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712-26A2-429E-8407-8F0EDA3C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AEC-9C42-4DDC-B7F1-A7828A6C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639-7963-4839-BC9D-CD860463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7F9-3E4F-4166-B974-75AE2B1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066-C697-41B6-84B0-C9FAF8FE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417-A0EE-4E50-B119-67F831E7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599-3955-4698-8C28-B7F0C40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7ED-4BE7-4D56-8E43-529ED09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D12-D2B3-46E4-8800-9A73095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6DA-8601-4D2B-AE5E-9C3DF087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906-9493-49D0-B811-D31FBD45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4C20-48C1-4E8F-A26D-7D9561D35C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0B6-CAF4-4BF6-9E3C-723408BAD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4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1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13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4.xml"/><Relationship Id="rId6" Type="http://schemas.openxmlformats.org/officeDocument/2006/relationships/image" Target="../media/image5.jpeg"/><Relationship Id="rId7" Type="http://schemas.openxmlformats.org/officeDocument/2006/relationships/slide" Target="slide13.xml"/><Relationship Id="rId8" Type="http://schemas.openxmlformats.org/officeDocument/2006/relationships/image" Target="../media/image6.jpeg"/><Relationship Id="rId9" Type="http://schemas.openxmlformats.org/officeDocument/2006/relationships/image" Target="../media/image14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14.xml"/><Relationship Id="rId5" Type="http://schemas.openxmlformats.org/officeDocument/2006/relationships/image" Target="../media/image4.jpeg"/><Relationship Id="rId6" Type="http://schemas.openxmlformats.org/officeDocument/2006/relationships/slide" Target="slide4.xml"/><Relationship Id="rId7" Type="http://schemas.openxmlformats.org/officeDocument/2006/relationships/image" Target="../media/image5.jpeg"/><Relationship Id="rId8" Type="http://schemas.openxmlformats.org/officeDocument/2006/relationships/slide" Target="slide13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jpeg"/><Relationship Id="rId3" Type="http://schemas.openxmlformats.org/officeDocument/2006/relationships/slide" Target="slide7.xml"/><Relationship Id="rId4" Type="http://schemas.openxmlformats.org/officeDocument/2006/relationships/image" Target="../media/image10.jpeg"/><Relationship Id="rId5" Type="http://schemas.openxmlformats.org/officeDocument/2006/relationships/slide" Target="slide9.xml"/><Relationship Id="rId6" Type="http://schemas.openxmlformats.org/officeDocument/2006/relationships/image" Target="../media/image11.jpeg"/><Relationship Id="rId7" Type="http://schemas.openxmlformats.org/officeDocument/2006/relationships/slide" Target="slide11.xml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slide" Target="slide2.xml"/><Relationship Id="rId11" Type="http://schemas.openxmlformats.org/officeDocument/2006/relationships/image" Target="../media/image3.jpeg"/><Relationship Id="rId12" Type="http://schemas.openxmlformats.org/officeDocument/2006/relationships/slide" Target="slide14.xml"/><Relationship Id="rId13" Type="http://schemas.openxmlformats.org/officeDocument/2006/relationships/image" Target="../media/image4.jpeg"/><Relationship Id="rId14" Type="http://schemas.openxmlformats.org/officeDocument/2006/relationships/slide" Target="slide4.xml"/><Relationship Id="rId15" Type="http://schemas.openxmlformats.org/officeDocument/2006/relationships/image" Target="../media/image5.jpeg"/><Relationship Id="rId16" Type="http://schemas.openxmlformats.org/officeDocument/2006/relationships/slide" Target="slide13.xml"/><Relationship Id="rId17" Type="http://schemas.openxmlformats.org/officeDocument/2006/relationships/image" Target="../media/image6.jpeg"/><Relationship Id="rId18" Type="http://schemas.openxmlformats.org/officeDocument/2006/relationships/image" Target="../media/image14.png"/><Relationship Id="rId19" Type="http://schemas.openxmlformats.org/officeDocument/2006/relationships/image" Target="../media/image7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" Target="slide4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5.xml"/><Relationship Id="rId3" Type="http://schemas.openxmlformats.org/officeDocument/2006/relationships/image" Target="../media/image16.jpeg"/><Relationship Id="rId4" Type="http://schemas.openxmlformats.org/officeDocument/2006/relationships/slide" Target="slide4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7.xml"/><Relationship Id="rId3" Type="http://schemas.openxmlformats.org/officeDocument/2006/relationships/image" Target="../media/image16.jpeg"/><Relationship Id="rId4" Type="http://schemas.openxmlformats.org/officeDocument/2006/relationships/slide" Target="slide4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25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不知细叶谁裁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这细细的嫩叶是谁的巧手裁剪出来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柳4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4648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4495680"/>
            <a:ext cx="510552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imgbar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50292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imgbar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95288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7180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95"/>
                </a:solidFill>
                <a:latin typeface="Times New Roman"/>
                <a:ea typeface="黑体"/>
              </a:rPr>
              <a:t>似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6091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二月春风似剪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原来是二月春风这把剪刀裁出来的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80" y="792000"/>
            <a:ext cx="733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9320" y="441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419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0292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05440" y="51055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gbar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imgba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915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imgbar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5943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imgbar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791320" y="594360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105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imgbar1" descr=""/>
          <p:cNvPicPr/>
          <p:nvPr/>
        </p:nvPicPr>
        <p:blipFill>
          <a:blip r:embed="rId10"/>
          <a:stretch/>
        </p:blipFill>
        <p:spPr>
          <a:xfrm>
            <a:off x="2362320" y="594360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685800"/>
            <a:ext cx="2819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57200"/>
            <a:ext cx="6477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新  柳 （ 宋 杨万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柳条百尺拂银塘，且莫深青只浅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未必柳条能蘸水，水中柳影引他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304920" y="23623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春　日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（宋 朱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胜日寻芳泗水滨，无边光景一时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等闲识得东风面，万紫千红总是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14800"/>
            <a:ext cx="6096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回乡偶书（唐 贺知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少小离家老大回，乡音无改鬓毛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儿童相见不相识，笑问客从何处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l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743200" cy="5257800"/>
          </a:xfrm>
          <a:prstGeom prst="rect">
            <a:avLst/>
          </a:prstGeom>
          <a:ln w="0">
            <a:noFill/>
          </a:ln>
        </p:spPr>
      </p:pic>
      <p:pic>
        <p:nvPicPr>
          <p:cNvPr id="141" name="imgbar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imgbar" descr=""/>
          <p:cNvPicPr/>
          <p:nvPr/>
        </p:nvPicPr>
        <p:blipFill>
          <a:blip r:embed="rId4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imgbar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imgbar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1295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7391520" y="548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imgbar1" descr=""/>
          <p:cNvPicPr/>
          <p:nvPr/>
        </p:nvPicPr>
        <p:blipFill>
          <a:blip r:embed="rId10"/>
          <a:stretch/>
        </p:blipFill>
        <p:spPr>
          <a:xfrm>
            <a:off x="7543800" y="6019920"/>
            <a:ext cx="126540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15200" y="5086440"/>
            <a:ext cx="1828800" cy="177156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endshow"/>
            <a:hlinkClick r:id="rId3"/>
          </p:cNvPr>
          <p:cNvSpPr/>
          <p:nvPr/>
        </p:nvSpPr>
        <p:spPr>
          <a:xfrm>
            <a:off x="7947360" y="599904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81840" y="488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553080" y="5943600"/>
            <a:ext cx="789120" cy="708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700360" y="1844640"/>
            <a:ext cx="51433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你真棒！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要记住哦！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9072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贺知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唐代诗人、书法家，字季真，少年就以文章出名。他的诗今存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首，其中写景的诗，文字通俗，意境清新，代表作《回乡偶书》更是妙趣横生，传诵至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45720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作者介绍</a:t>
            </a:r>
            <a:endParaRPr b="0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8" name="hanyu_small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imgbar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imgbar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imgbar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91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imgbar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gbar1" descr=""/>
          <p:cNvPicPr/>
          <p:nvPr/>
        </p:nvPicPr>
        <p:blipFill>
          <a:blip r:embed="rId10"/>
          <a:stretch/>
        </p:blipFill>
        <p:spPr>
          <a:xfrm>
            <a:off x="2438280" y="6019920"/>
            <a:ext cx="1295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gbar3" descr=""/>
          <p:cNvPicPr/>
          <p:nvPr/>
        </p:nvPicPr>
        <p:blipFill>
          <a:blip r:embed="rId1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imgbar" descr=""/>
          <p:cNvPicPr/>
          <p:nvPr/>
        </p:nvPicPr>
        <p:blipFill>
          <a:blip r:embed="rId2"/>
          <a:stretch/>
        </p:blipFill>
        <p:spPr>
          <a:xfrm>
            <a:off x="7467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imgbar5" descr=""/>
          <p:cNvPicPr/>
          <p:nvPr/>
        </p:nvPicPr>
        <p:blipFill>
          <a:blip r:embed="rId3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imgbar6" descr=""/>
          <p:cNvPicPr/>
          <p:nvPr/>
        </p:nvPicPr>
        <p:blipFill>
          <a:blip r:embed="rId4"/>
          <a:stretch/>
        </p:blipFill>
        <p:spPr>
          <a:xfrm>
            <a:off x="579132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咏柳（第八册）" descr=""/>
          <p:cNvPicPr/>
          <p:nvPr/>
        </p:nvPicPr>
        <p:blipFill>
          <a:blip r:embed="rId5"/>
          <a:stretch/>
        </p:blipFill>
        <p:spPr>
          <a:xfrm>
            <a:off x="609480" y="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066680" y="19051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咏柳</a:t>
            </a:r>
            <a:endParaRPr b="0" lang="en-US" sz="6000" spc="1" strike="noStrike">
              <a:ln w="1260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19320" y="38098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唐</a:t>
            </a: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贺知章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65" name="imgbar1" descr=""/>
          <p:cNvPicPr/>
          <p:nvPr/>
        </p:nvPicPr>
        <p:blipFill>
          <a:blip r:embed="rId6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8920" y="404640"/>
            <a:ext cx="5688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咏      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1628640"/>
            <a:ext cx="1828800" cy="42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59640" y="2708280"/>
            <a:ext cx="1828800" cy="444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3789360"/>
            <a:ext cx="182880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04000" y="4869000"/>
            <a:ext cx="1752480" cy="39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0" y="1295280"/>
            <a:ext cx="1314360" cy="403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5480" y="685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ǒ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ɡ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295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zhu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243828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3505320"/>
            <a:ext cx="13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á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4360" y="60930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524720" y="60930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067280" y="60930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867280" y="6093000"/>
            <a:ext cx="1295640" cy="609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143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唐 贺知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9"/>
          <a:stretch/>
        </p:blipFill>
        <p:spPr>
          <a:xfrm>
            <a:off x="2411280" y="6093000"/>
            <a:ext cx="1295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柳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933960" cy="4343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4876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7150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碧玉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绿色的玉石。这里用来比喻柳树的枝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172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妆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扮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495680"/>
            <a:ext cx="487692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imgbar1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92" name="imgbar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4952880"/>
            <a:ext cx="960480" cy="34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碧玉妆成一树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高高的柳树，长满了翠绿的新叶，看上去好像用碧玉装扮的一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柳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80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丝绦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种丝织的带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724280"/>
            <a:ext cx="495324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gbar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5105520"/>
            <a:ext cx="960480" cy="342720"/>
          </a:xfrm>
          <a:prstGeom prst="rect">
            <a:avLst/>
          </a:prstGeom>
          <a:ln w="0">
            <a:noFill/>
          </a:ln>
        </p:spPr>
      </p:pic>
      <p:pic>
        <p:nvPicPr>
          <p:cNvPr id="101" name="imgbar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5105520"/>
            <a:ext cx="960480" cy="34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60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万条垂下绿丝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从树上垂下来无数好像绿丝带一样的绿条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柳3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90920" y="4724280"/>
            <a:ext cx="4647960" cy="12193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不知细叶谁裁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mgbar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52578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08" name="imgbar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525780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71800" y="6095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裁：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裁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1:42:50Z</dcterms:created>
  <dc:creator/>
  <dc:description/>
  <dc:language>en-US</dc:language>
  <cp:lastModifiedBy>User</cp:lastModifiedBy>
  <dcterms:modified xsi:type="dcterms:W3CDTF">2014-12-02T13:14:49Z</dcterms:modified>
  <cp:revision>28</cp:revision>
  <dc:subject/>
  <dc:title>PowerPoint 演示文稿</dc:title>
</cp:coreProperties>
</file>