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ype.wav" ContentType="audio/x-wav"/>
  <Override PartName="/ppt/media/image6.jpeg" ContentType="image/jpeg"/>
  <Override PartName="/ppt/media/image21.png" ContentType="image/png"/>
  <Override PartName="/ppt/media/image19.png" ContentType="image/png"/>
  <Override PartName="/ppt/media/image22.png" ContentType="image/png"/>
  <Override PartName="/ppt/media/image24.jpeg" ContentType="image/jpeg"/>
  <Override PartName="/ppt/media/image16.png" ContentType="image/png"/>
  <Override PartName="/ppt/media/chimes.wav" ContentType="audio/x-wav"/>
  <Override PartName="/ppt/media/image4.jpeg" ContentType="image/jpeg"/>
  <Override PartName="/ppt/media/image25.jpeg" ContentType="image/jpeg"/>
  <Override PartName="/ppt/media/suction.wav" ContentType="audio/x-wav"/>
  <Override PartName="/ppt/media/image28.gif" ContentType="image/gif"/>
  <Override PartName="/ppt/media/image8.jpeg" ContentType="image/jpeg"/>
  <Override PartName="/ppt/media/image11.jpeg" ContentType="image/jpeg"/>
  <Override PartName="/ppt/media/image7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coin.wav" ContentType="audio/x-wav"/>
  <Override PartName="/ppt/media/image26.png" ContentType="image/png"/>
  <Override PartName="/ppt/media/image17.jpeg" ContentType="image/jpeg"/>
  <Override PartName="/ppt/media/image5.jpeg" ContentType="image/jpeg"/>
  <Override PartName="/ppt/media/image27.png" ContentType="image/png"/>
  <Override PartName="/ppt/media/voltage.wav" ContentType="audio/x-wav"/>
  <Override PartName="/ppt/media/image3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12.jpeg" ContentType="image/jpeg"/>
  <Override PartName="/ppt/media/cashreg.wav" ContentType="audio/x-wav"/>
  <Override PartName="/ppt/media/image10.jpeg" ContentType="image/jpeg"/>
  <Override PartName="/ppt/media/image14.png" ContentType="image/png"/>
  <Override PartName="/ppt/media/image15.png" ContentType="image/png"/>
  <Override PartName="/ppt/media/image18.jpeg" ContentType="image/jpeg"/>
  <Override PartName="/ppt/media/camera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D256-5706-4F26-B984-630C5CF4B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C0DD-A54E-4EFF-A674-E603D036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82FE-828B-428D-812A-EF5DAE055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5362-DB9C-45B8-9F04-E35F35A80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A1C7-3072-4601-BBCB-F5C07E07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CC42-757F-4860-B50E-64BD11CC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B161-F6A7-498C-A9CB-3FB0D971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E418-413B-42C3-AE6B-CBE6E001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08FC-A2F1-45A0-A966-D0D8EDA6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E5F3-D722-4D07-A2F7-AD088931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41E0-99AC-4D94-817F-05D26803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4982-A0C3-4401-B360-1F567E0F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8AD5-F340-4EAD-9A38-CE070B537DC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9EB8-2466-4712-A6FF-9A9896D277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voltage.wav"/><Relationship Id="rId5" Type="http://schemas.openxmlformats.org/officeDocument/2006/relationships/audio" Target="../media/cashreg.wav"/><Relationship Id="rId6" Type="http://schemas.openxmlformats.org/officeDocument/2006/relationships/audio" Target="../media/coin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2.xml"/><Relationship Id="rId3" Type="http://schemas.openxmlformats.org/officeDocument/2006/relationships/image" Target="../media/image3.jpeg"/><Relationship Id="rId4" Type="http://schemas.openxmlformats.org/officeDocument/2006/relationships/slide" Target="slide12.xml"/><Relationship Id="rId5" Type="http://schemas.openxmlformats.org/officeDocument/2006/relationships/image" Target="../media/image4.jpeg"/><Relationship Id="rId6" Type="http://schemas.openxmlformats.org/officeDocument/2006/relationships/slide" Target="slide5.xml"/><Relationship Id="rId7" Type="http://schemas.openxmlformats.org/officeDocument/2006/relationships/image" Target="../media/image5.jpeg"/><Relationship Id="rId8" Type="http://schemas.openxmlformats.org/officeDocument/2006/relationships/slide" Target="slide11.xml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23.png"/><Relationship Id="rId12" Type="http://schemas.openxmlformats.org/officeDocument/2006/relationships/audio" Target="../media/suction.wav"/><Relationship Id="rId13" Type="http://schemas.openxmlformats.org/officeDocument/2006/relationships/audio" Target="../media/voltage.wav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2.xml"/><Relationship Id="rId3" Type="http://schemas.openxmlformats.org/officeDocument/2006/relationships/image" Target="../media/image3.jpeg"/><Relationship Id="rId4" Type="http://schemas.openxmlformats.org/officeDocument/2006/relationships/slide" Target="slide12.xml"/><Relationship Id="rId5" Type="http://schemas.openxmlformats.org/officeDocument/2006/relationships/image" Target="../media/image4.jpeg"/><Relationship Id="rId6" Type="http://schemas.openxmlformats.org/officeDocument/2006/relationships/slide" Target="slide5.xml"/><Relationship Id="rId7" Type="http://schemas.openxmlformats.org/officeDocument/2006/relationships/image" Target="../media/image5.jpeg"/><Relationship Id="rId8" Type="http://schemas.openxmlformats.org/officeDocument/2006/relationships/slide" Target="slide11.xml"/><Relationship Id="rId9" Type="http://schemas.openxmlformats.org/officeDocument/2006/relationships/image" Target="../media/image6.jpeg"/><Relationship Id="rId10" Type="http://schemas.openxmlformats.org/officeDocument/2006/relationships/image" Target="../media/image15.png"/><Relationship Id="rId11" Type="http://schemas.openxmlformats.org/officeDocument/2006/relationships/image" Target="../media/image25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image" Target="../media/image3.jpeg"/><Relationship Id="rId4" Type="http://schemas.openxmlformats.org/officeDocument/2006/relationships/slide" Target="slide12.xml"/><Relationship Id="rId5" Type="http://schemas.openxmlformats.org/officeDocument/2006/relationships/image" Target="../media/image4.jpeg"/><Relationship Id="rId6" Type="http://schemas.openxmlformats.org/officeDocument/2006/relationships/slide" Target="slide5.xml"/><Relationship Id="rId7" Type="http://schemas.openxmlformats.org/officeDocument/2006/relationships/image" Target="../media/image5.jpeg"/><Relationship Id="rId8" Type="http://schemas.openxmlformats.org/officeDocument/2006/relationships/slide" Target="slide11.xml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8.jpeg"/><Relationship Id="rId6" Type="http://schemas.openxmlformats.org/officeDocument/2006/relationships/image" Target="../media/image7.jpeg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suction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0.jpeg"/><Relationship Id="rId3" Type="http://schemas.openxmlformats.org/officeDocument/2006/relationships/slide" Target="slide7.xml"/><Relationship Id="rId4" Type="http://schemas.openxmlformats.org/officeDocument/2006/relationships/image" Target="../media/image11.jpeg"/><Relationship Id="rId5" Type="http://schemas.openxmlformats.org/officeDocument/2006/relationships/slide" Target="slide8.xml"/><Relationship Id="rId6" Type="http://schemas.openxmlformats.org/officeDocument/2006/relationships/image" Target="../media/image12.jpeg"/><Relationship Id="rId7" Type="http://schemas.openxmlformats.org/officeDocument/2006/relationships/slide" Target="slide9.xml"/><Relationship Id="rId8" Type="http://schemas.openxmlformats.org/officeDocument/2006/relationships/image" Target="../media/image13.jpeg"/><Relationship Id="rId9" Type="http://schemas.openxmlformats.org/officeDocument/2006/relationships/image" Target="../media/image14.png"/><Relationship Id="rId10" Type="http://schemas.openxmlformats.org/officeDocument/2006/relationships/slide" Target="slide2.xml"/><Relationship Id="rId11" Type="http://schemas.openxmlformats.org/officeDocument/2006/relationships/image" Target="../media/image3.jpeg"/><Relationship Id="rId12" Type="http://schemas.openxmlformats.org/officeDocument/2006/relationships/slide" Target="slide12.xml"/><Relationship Id="rId13" Type="http://schemas.openxmlformats.org/officeDocument/2006/relationships/image" Target="../media/image4.jpeg"/><Relationship Id="rId14" Type="http://schemas.openxmlformats.org/officeDocument/2006/relationships/slide" Target="slide5.xml"/><Relationship Id="rId15" Type="http://schemas.openxmlformats.org/officeDocument/2006/relationships/image" Target="../media/image5.jpeg"/><Relationship Id="rId16" Type="http://schemas.openxmlformats.org/officeDocument/2006/relationships/slide" Target="slide11.xml"/><Relationship Id="rId17" Type="http://schemas.openxmlformats.org/officeDocument/2006/relationships/image" Target="../media/image6.jpeg"/><Relationship Id="rId18" Type="http://schemas.openxmlformats.org/officeDocument/2006/relationships/image" Target="../media/image15.png"/><Relationship Id="rId19" Type="http://schemas.openxmlformats.org/officeDocument/2006/relationships/image" Target="../media/image7.jpeg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" Target="slide5.xml"/><Relationship Id="rId4" Type="http://schemas.openxmlformats.org/officeDocument/2006/relationships/image" Target="../media/image18.jpeg"/><Relationship Id="rId5" Type="http://schemas.openxmlformats.org/officeDocument/2006/relationships/audio" Target="../media/camera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6.xml"/><Relationship Id="rId3" Type="http://schemas.openxmlformats.org/officeDocument/2006/relationships/image" Target="../media/image17.jpeg"/><Relationship Id="rId4" Type="http://schemas.openxmlformats.org/officeDocument/2006/relationships/slide" Target="slide5.xml"/><Relationship Id="rId5" Type="http://schemas.openxmlformats.org/officeDocument/2006/relationships/image" Target="../media/image18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7.xml"/><Relationship Id="rId3" Type="http://schemas.openxmlformats.org/officeDocument/2006/relationships/image" Target="../media/image17.jpeg"/><Relationship Id="rId4" Type="http://schemas.openxmlformats.org/officeDocument/2006/relationships/slide" Target="slide5.xml"/><Relationship Id="rId5" Type="http://schemas.openxmlformats.org/officeDocument/2006/relationships/image" Target="../media/image18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8.xml"/><Relationship Id="rId3" Type="http://schemas.openxmlformats.org/officeDocument/2006/relationships/image" Target="../media/image17.jpeg"/><Relationship Id="rId4" Type="http://schemas.openxmlformats.org/officeDocument/2006/relationships/slide" Target="slide5.xml"/><Relationship Id="rId5" Type="http://schemas.openxmlformats.org/officeDocument/2006/relationships/image" Target="../media/image18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70000" y="6576840"/>
            <a:ext cx="31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1" lang="zh-CN" sz="1200" spc="-1" strike="noStrike">
                <a:solidFill>
                  <a:srgbClr val="000000"/>
                </a:solidFill>
                <a:latin typeface="Comic Sans MS"/>
              </a:rPr>
              <a:t>教学资源网整理发布： </a:t>
            </a:r>
            <a:r>
              <a:rPr b="1" lang="zh-CN" sz="1200" spc="-1" strike="noStrike">
                <a:solidFill>
                  <a:srgbClr val="000000"/>
                </a:solidFill>
                <a:latin typeface="Comic Sans MS"/>
              </a:rPr>
              <a:t>Http://www.21jiao.n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828720" y="0"/>
            <a:ext cx="997272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-324000" y="765000"/>
            <a:ext cx="712944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500" spc="-1" strike="noStrike">
                <a:solidFill>
                  <a:srgbClr val="000000"/>
                </a:solidFill>
                <a:latin typeface="Times New Roman"/>
              </a:rPr>
              <a:t>｛ ｝</a:t>
            </a:r>
            <a:endParaRPr b="0" lang="en-US" sz="30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00" y="1678320"/>
            <a:ext cx="1094760" cy="33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咏      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29280" y="1598760"/>
            <a:ext cx="153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碧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33440" y="3017880"/>
            <a:ext cx="19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绿丝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柳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43880" y="436572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剪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二月春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95000" y="2708280"/>
            <a:ext cx="164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春天的喜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赞美之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3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6858000" cy="41148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8680" y="792000"/>
            <a:ext cx="733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89320" y="44197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碧玉妆成一树高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05440" y="441972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万条垂下绿丝绦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5029200"/>
            <a:ext cx="42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不知细叶谁裁出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05440" y="510552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二月春风似剪刀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5800" y="5943600"/>
            <a:ext cx="1295280" cy="609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391520" y="5943600"/>
            <a:ext cx="1295280" cy="6094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038480" y="5943600"/>
            <a:ext cx="1371600" cy="6094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791320" y="5943600"/>
            <a:ext cx="1295280" cy="609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0"/>
            <a:ext cx="0" cy="685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449568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/       /                        /       /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76360" y="508464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/       /                        /       /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0"/>
          <a:stretch/>
        </p:blipFill>
        <p:spPr>
          <a:xfrm>
            <a:off x="2362320" y="5943600"/>
            <a:ext cx="1295280" cy="6094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1"/>
          <a:stretch/>
        </p:blipFill>
        <p:spPr>
          <a:xfrm>
            <a:off x="1403280" y="3860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685800"/>
            <a:ext cx="2819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457200"/>
            <a:ext cx="647712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400" spc="-1" strike="noStrike">
                <a:solidFill>
                  <a:srgbClr val="ff2b95"/>
                </a:solidFill>
                <a:latin typeface="黑体"/>
                <a:ea typeface="黑体"/>
              </a:rPr>
              <a:t>新  柳 （ 宋 杨万里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2b95"/>
                </a:solidFill>
                <a:latin typeface="黑体"/>
                <a:ea typeface="黑体"/>
              </a:rPr>
              <a:t>柳条百尺拂银塘，且莫深青只浅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2b95"/>
                </a:solidFill>
                <a:latin typeface="黑体"/>
                <a:ea typeface="黑体"/>
              </a:rPr>
              <a:t>未必柳条能蘸水，水中柳影引他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-304920" y="2362320"/>
            <a:ext cx="72392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春　日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 （宋 朱熹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胜日寻芳泗水滨，无边光景一时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等闲识得东风面，万紫千红总是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4114800"/>
            <a:ext cx="60962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99"/>
                </a:solidFill>
                <a:latin typeface="黑体"/>
                <a:ea typeface="黑体"/>
              </a:rPr>
              <a:t>回乡偶书（唐 贺知章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99"/>
                </a:solidFill>
                <a:latin typeface="黑体"/>
                <a:ea typeface="黑体"/>
              </a:rPr>
              <a:t>少小离家老大回，乡音无改鬓毛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99"/>
                </a:solidFill>
                <a:latin typeface="黑体"/>
                <a:ea typeface="黑体"/>
              </a:rPr>
              <a:t>儿童相见不相识，笑问客从何处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172200" y="457200"/>
            <a:ext cx="2743200" cy="5257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9480" y="6019920"/>
            <a:ext cx="1295640" cy="6094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867280" y="6019920"/>
            <a:ext cx="1295640" cy="609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362320" y="6019920"/>
            <a:ext cx="1295280" cy="6094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114800" y="6019920"/>
            <a:ext cx="1295280" cy="6094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0" y="579132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0"/>
            <a:ext cx="0" cy="685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05520" y="4343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u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1295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zhà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0"/>
          <a:stretch/>
        </p:blipFill>
        <p:spPr>
          <a:xfrm>
            <a:off x="7391520" y="54864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1"/>
          <a:stretch/>
        </p:blipFill>
        <p:spPr>
          <a:xfrm>
            <a:off x="7543800" y="6019920"/>
            <a:ext cx="1265400" cy="609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59" dur="indefinite" restart="never" nodeType="tmRoot">
          <p:childTnLst>
            <p:seq>
              <p:cTn id="160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315200" y="5086440"/>
            <a:ext cx="1828800" cy="177156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" action="ppaction://hlinkshowjump?jump=endshow"/>
            <a:hlinkClick r:id="rId3"/>
          </p:cNvPr>
          <p:cNvSpPr/>
          <p:nvPr/>
        </p:nvSpPr>
        <p:spPr>
          <a:xfrm>
            <a:off x="7947360" y="5999040"/>
            <a:ext cx="596160" cy="509400"/>
          </a:xfrm>
          <a:prstGeom prst="roundRect">
            <a:avLst>
              <a:gd name="adj" fmla="val 16667"/>
            </a:avLst>
          </a:prstGeom>
          <a:solidFill>
            <a:srgbClr val="99ccff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881840" y="4883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6553080" y="5943600"/>
            <a:ext cx="789120" cy="7081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1905120" y="1066680"/>
            <a:ext cx="533376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谢谢大家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22096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贺知章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唐代诗人、书法家，字季真，少年就以文章出名。他的诗今存在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9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首，其中写景的诗，文字通俗，意境清新，代表作《回乡偶书》更是妙趣横生，传诵至今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666880" y="457200"/>
            <a:ext cx="34290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作者介绍</a:t>
            </a:r>
            <a:endParaRPr b="0" lang="en-US" sz="2400" spc="1" strike="noStrike">
              <a:ln w="9360">
                <a:solidFill>
                  <a:srgbClr val="00808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705720" y="380880"/>
            <a:ext cx="1523880" cy="1905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2120" y="6019920"/>
            <a:ext cx="1295280" cy="609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543800" y="6019920"/>
            <a:ext cx="1295280" cy="609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191120" y="6019920"/>
            <a:ext cx="1295280" cy="609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867280" y="6019920"/>
            <a:ext cx="1295640" cy="609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579132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0"/>
            <a:ext cx="0" cy="685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2438280" y="6019920"/>
            <a:ext cx="1295640" cy="609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6019920"/>
            <a:ext cx="1295640" cy="609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467480" y="6019920"/>
            <a:ext cx="1295640" cy="609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114800" y="6019920"/>
            <a:ext cx="1295280" cy="609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5791320" y="6019920"/>
            <a:ext cx="1295280" cy="609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0"/>
            <a:ext cx="0" cy="685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609480" y="0"/>
            <a:ext cx="8229600" cy="5638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1066680" y="1905120"/>
            <a:ext cx="2057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咏柳</a:t>
            </a:r>
            <a:endParaRPr b="0" lang="en-US" sz="6000" spc="1" strike="noStrike">
              <a:ln w="12600">
                <a:solidFill>
                  <a:srgbClr val="339966"/>
                </a:solidFill>
                <a:miter/>
              </a:ln>
              <a:solidFill>
                <a:srgbClr val="339966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219320" y="3809880"/>
            <a:ext cx="2286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细黑"/>
              </a:rPr>
              <a:t>唐</a:t>
            </a: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细黑"/>
              </a:rPr>
              <a:t>.</a:t>
            </a:r>
            <a:r>
              <a:rPr b="0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细黑"/>
              </a:rPr>
              <a:t>贺知章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细黑"/>
              <a:ea typeface="华文细黑"/>
            </a:endParaRPr>
          </a:p>
        </p:txBody>
      </p:sp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2362320" y="6019920"/>
            <a:ext cx="1295280" cy="609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796120" y="6553080"/>
            <a:ext cx="34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Http://www.21jiao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111600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63480" y="-596880"/>
            <a:ext cx="184320" cy="1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692360" y="333360"/>
            <a:ext cx="2592360" cy="86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朗读要求：</a:t>
            </a:r>
            <a:endParaRPr b="0" lang="en-US" sz="2400" spc="1" strike="noStrike">
              <a:ln w="9360">
                <a:solidFill>
                  <a:srgbClr val="ff00ff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67" name=""/>
          <p:cNvSpPr/>
          <p:nvPr/>
        </p:nvSpPr>
        <p:spPr>
          <a:xfrm>
            <a:off x="-547200" y="1125360"/>
            <a:ext cx="6258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读准带拼音的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                               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找出能体现柳树美的句子，多读几遍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会一下柳树的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不懂的地方，用铅笔做一下记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suction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19320" y="533520"/>
            <a:ext cx="4572000" cy="51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咏       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碧玉妆成一树高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万条垂下绿丝绦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不知细叶谁裁出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二月春风似剪刀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867280" y="1773360"/>
            <a:ext cx="1828800" cy="426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867280" y="2637000"/>
            <a:ext cx="1828800" cy="444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867280" y="3645000"/>
            <a:ext cx="1828800" cy="428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867280" y="4508640"/>
            <a:ext cx="1800360" cy="396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9"/>
          <a:stretch/>
        </p:blipFill>
        <p:spPr>
          <a:xfrm>
            <a:off x="0" y="1052640"/>
            <a:ext cx="1314360" cy="4038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195640" y="1890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yǒn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50920" y="1268280"/>
            <a:ext cx="12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zhuān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84720" y="2133720"/>
            <a:ext cx="131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ā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08360" y="2924280"/>
            <a:ext cx="13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cá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09480" y="5943600"/>
            <a:ext cx="1295640" cy="60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7391520" y="5943600"/>
            <a:ext cx="1295280" cy="6094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4038480" y="5943600"/>
            <a:ext cx="1295640" cy="609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5715000" y="5943600"/>
            <a:ext cx="1295280" cy="609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40" y="-747720"/>
            <a:ext cx="0" cy="685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27640" y="112536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黑体"/>
                <a:ea typeface="黑体"/>
              </a:rPr>
              <a:t>唐 贺知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8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9"/>
          <a:stretch/>
        </p:blipFill>
        <p:spPr>
          <a:xfrm>
            <a:off x="2286000" y="5943600"/>
            <a:ext cx="1295280" cy="609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7924680" cy="4572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85800" y="4876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5715000"/>
            <a:ext cx="8915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碧玉：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绿色的玉石。这里用来比喻柳树的枝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61722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妆：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打扮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63868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4495680"/>
            <a:ext cx="4876920" cy="99072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碧玉妆成一树高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90720" y="4952880"/>
            <a:ext cx="960480" cy="343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67480" y="4952880"/>
            <a:ext cx="960480" cy="343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5" name="camera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7238880" cy="4572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579132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48006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58672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丝绦：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一种丝织的带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4724280"/>
            <a:ext cx="4953240" cy="99072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万条垂下绿丝绦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66680" y="5105520"/>
            <a:ext cx="960480" cy="342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543800" y="5105520"/>
            <a:ext cx="960480" cy="342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195640" y="4724280"/>
            <a:ext cx="4952880" cy="99072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万条垂下绿丝绦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934320" cy="4572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590920" y="4724280"/>
            <a:ext cx="4647960" cy="121932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不知细叶谁裁出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447920" y="5257800"/>
            <a:ext cx="960480" cy="343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67480" y="5257800"/>
            <a:ext cx="960480" cy="343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971800" y="609588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Times New Roman"/>
                <a:ea typeface="黑体"/>
              </a:rPr>
              <a:t>裁：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裁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7238880" cy="4114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586728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464832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4495680"/>
            <a:ext cx="5105520" cy="114300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二月春风似剪刀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66680" y="5029200"/>
            <a:ext cx="960480" cy="343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543800" y="4952880"/>
            <a:ext cx="960480" cy="343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971800" y="59436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2b95"/>
                </a:solidFill>
                <a:latin typeface="Times New Roman"/>
                <a:ea typeface="黑体"/>
              </a:rPr>
              <a:t>似：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好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1:42:50Z</dcterms:created>
  <dc:creator/>
  <dc:description/>
  <dc:language>en-US</dc:language>
  <cp:lastModifiedBy>User</cp:lastModifiedBy>
  <dcterms:modified xsi:type="dcterms:W3CDTF">2015-08-24T08:47:20Z</dcterms:modified>
  <cp:revision>44</cp:revision>
  <dc:subject/>
  <dc:title>PowerPoint 演示文稿</dc:title>
</cp:coreProperties>
</file>