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8AE-A0E3-4CDE-B90A-A7963ADE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169-E950-4474-8C16-36E7133C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0A-1A98-4E3A-895F-6699C956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737-A0CA-4D4D-9FD9-2B79D705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425-F5D5-4FC4-91FE-6141C721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6DB6-FF20-4C1F-8E8B-86A9FCD0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9704-6310-4F70-9634-91C20C94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1210-56A4-41F3-8AB7-7337A1D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D78-A509-43FA-813A-6228238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E29B-9F1A-48F4-B760-8234FB4F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ACAF-42A9-45FD-9C27-7AAADAF3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854-7B7E-4DA8-B75E-098FDCB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C2BB-037D-4289-A599-868C2A4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B0BD-5B0D-4A17-B3A0-DDB61A17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1FEC-164E-43D8-8E85-44091307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FA85-05FD-4D67-AE4E-33C6D64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1D3-AF9F-45E1-93F1-338321A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590-8E1D-4739-9187-48F62A3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945-7D3A-477E-8144-D697B3D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241A-61DA-4EBE-90F6-7D884CC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EF6-F86F-41CD-93C7-8CD2F9B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ED6-F92A-4B77-8795-918705B6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7CB-2917-4E9B-985E-CDFA19E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657-1DA7-42BE-918E-1384CBC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A1C-B91F-496F-8912-F16BC5AF7C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CFE-178F-4D8A-B017-0F60782FC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867280" y="386064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陆  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0520" y="19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游山西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960" y="6324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八年级语文下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148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《游山西村》中，哪两句诗流传最广？你是怎样理解这两句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421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重水复疑无路，柳暗花明又一村。”山西村山环水绕，柳暗花明，一派花团锦簇的景象。用来说明困境中仍然蕴涵着希望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933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为什么会成为千古名句？           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其富于生活哲理，给人以鼓舞和希望，所以千百年来一直为人们喜爱，流传甚广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180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轶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09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起文人，就使人想起肩不能挑、手不能提的文弱书生。然而陆游既是文人之佼佼者，又有非凡的武艺。为了实现收复失地的心愿，他曾经千里投师学习剑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岁时，他应邀到了抗金前线南郑。有一天，他带兵到山中围猎，天色渐暗，大家准备回营了，。猛然见袭来一阵腥风，传来一声怒吼，随着扑出一只吊睛白额猛虎。大家见了无不惊慌失色，纷纷逃避；只有陆游毫不惧怕，挺身仗剑，向虎刺了去，于是人虎之间展开了一场殊死搏斗。最后，陆游一剑刺中了老虎的咽喉。陆兄如此骁勇，怎不令人咋舌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681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笑农家腊酒浑，丰年留客足鸡豚．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鉴赏：首联渲染出丰收之年农村一片宁静，欢跃的情景．这两句是说农家酒味虽薄，而待客情意却十分深厚．“足”字表达了农家款客尽其所有的盛情；“莫笑”二字，道出了诗人对农村淳朴民风的赞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山穷水复疑无路，柳暗花明又一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鉴赏：颔联写山间水畔的景色，写景中富含哲理，千百年来广泛被人引用．这里描写的是诗人置身山阴道上，信步而行，疑若无路，忽而又开朗的情景．不仅反映了诗人对前途所抱的希望，也道出了世间事物消长变化的哲理，体现了宋诗特有的理趣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箫鼓追随春社近，衣冠简朴古风存．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鉴赏：此联展开了一幅春光明媚的山水图，描摹了南宋初年的农村风俗画卷．读者不难体味出诗人所要表达的热爱传统文化的深情，显示了他对吾土吾民的热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090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今若许闲乘月，拄杖无时夜叩门．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鉴赏：写诗人的愿望．诗人盼望着以后能够有时间趁月夜出游，随时拄着手杖敲门拜访，恋恋不舍之情益于言表．一个热爱农村，与农民亲密无间的诗人形象跃然纸上．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0048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81579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山西村在行文上有什么特点？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游山西村＞全诗紧扣“游”字，按时间推移展开记叙，层次清晰，语言生动．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在一个丰收的年景，诗人受到邀请，来到农家．走在通往山西村的小路上，“山重水复疑无路，柳暗花明又一村”，路疑无而实有，景似绝而复出，终于来到山西村．这里山环水绕，柳暗花明，一派花团锦簇的景象，这两句诗蕴涵着生活的哲理，比喻困境中也往往蕴涵着希望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483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山西村，正植社日临近，农民们衣着简朴，吹箫击鼓，结队往来，热闹非凡．诗人陶醉在山野风光和农村的人情美里，对这次郊游发出了由衷的感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3440" y="3068640"/>
            <a:ext cx="533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720817"/>
                </a:solidFill>
                <a:latin typeface="楷体_GB2312"/>
                <a:ea typeface="楷体_GB2312"/>
              </a:rPr>
              <a:t>思考：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生路上并非一帆风顺，当你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困难和挫折时，只要你鼓足勇气挺挺，你就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越过道道坎坷，体会到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________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__________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的真正含义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0" y="3768840"/>
            <a:ext cx="221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山重水复疑无路　　柳暗花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17560" y="41497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明又一村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288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讨论下列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全诗围绕哪个字展开？用自己的话说说这首诗的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一个“游”字展开。在一个丰收的年景，诗人受到邀请，来到农家。走在通往山西村的山路上，山环水绕，柳暗花明，一派花团锦簇的景象，终于来到山西村。在山西村，正值社日临近，农民们衣着简朴，吹箫击鼓，结队往来，热闹非凡。诗人盼望着以后能够有时间乘月色出游，随时拄着手杖来敲门拜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6134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诗歌表现了诗人怎样的心情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了诗人陶醉，留恋之情，（作者陶醉在山野风光和农村的人情美中，留恋村民的好客，热情，淳朴，对此次郊游发出了由衷的感叹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1034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8:21:16Z</dcterms:created>
  <dc:creator/>
  <dc:description/>
  <dc:language>en-US</dc:language>
  <cp:lastModifiedBy>MKL</cp:lastModifiedBy>
  <dcterms:modified xsi:type="dcterms:W3CDTF">2013-02-26T06:11:06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1000000000001024140</vt:lpwstr>
  </property>
</Properties>
</file>