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46D-52A4-45A3-A4E9-B0C1ED5C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B98-9F10-4269-8249-DDDF806C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A73-0FB7-4C84-82F6-339BF51E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A2F-D400-4BC8-B428-9B57B585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4033-6C66-4647-9197-8A134199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2E89-150F-4F69-A80F-1C3D1B97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26ED-5444-4068-82C4-BF3260C2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3153-CCAF-4D8F-846C-8EFC3571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5224-7D13-4FCB-9DE6-5922EAA0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8D9B-477A-4279-9328-5E8697C9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C42E-4B47-4F0F-AC2B-25B81E77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F54-FA73-4A1F-BC82-BBB4165A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C24E-4461-41AC-B7C1-97EBB6AA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F9F3-ED51-493E-8BC5-2065431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B18F-569E-474F-8DA7-4EE6F53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51C5-E5A6-4C32-BAA6-309A6823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2C98-92BD-49C1-A521-D459B9BA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C15-1907-4053-BB15-D748B51D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889-2A24-49E2-B6F8-D0552EFA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ED1-1174-49BB-B7DE-57C3B501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85A-66EA-4567-83A7-5DABCB30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130-86A2-4F0A-B32E-9FDB68FF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489-1B82-4A03-9C23-C1FFB87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71F-7A58-43B5-AD47-20AD21F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1A29-F1D6-452F-A2D5-DF8751C9551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3395-C906-48B0-B92C-F1D392BBDB7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620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8200" y="13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1112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9120" y="1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114880" y="1773360"/>
            <a:ext cx="11858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141300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游山西村</a:t>
            </a:r>
            <a:endParaRPr b="0" lang="en-US" sz="8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213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丰收之年款待客人，有足够的鸡和猪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1413000"/>
            <a:ext cx="52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丰年留客足鸡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213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丰收之年款待客人，有足够的鸡和猪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15800" y="24922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要笑话农家的腊酒浑浊，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13640" y="19162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重水复疑无路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4040" y="3500280"/>
            <a:ext cx="13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暗花明又一村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76360" y="184464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62064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峦重重，水道弯弯，正怀疑无路可走时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7777080" cy="4589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1341360"/>
            <a:ext cx="424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突然发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荫深深，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鲜花簇簇，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眼前又是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山村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6360" cy="674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笑话农家的腊酒浑浊，在丰收之年款待客人，有足够的鸡和猪。山峦重重，水道弯弯，正怀疑无路可走时突然发现柳荫深深，鲜花簇簇，眼前又是 一个山村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18920" y="620280"/>
            <a:ext cx="684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笑农家腊酒浑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丰年留客足鸡豚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2781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赞扬了农民的淳朴、好客的品性，表现了诗人对农村生活的真挚感情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213372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3480" y="20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220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9280" y="6922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重水复疑无路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58040" y="1700280"/>
            <a:ext cx="13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暗花明又一村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335772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用以形容陷入困境，好像已经没有希望，忽然绝处逢生，出现新的契机，增强克服困难的信心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76360" y="620640"/>
            <a:ext cx="304920" cy="5181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1557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叙事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628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3933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写景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3357720"/>
            <a:ext cx="152280" cy="121896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2909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游山西村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1268280"/>
            <a:ext cx="287280" cy="1157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3573360"/>
            <a:ext cx="144360" cy="115740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7400"/>
              <a:gd name="textAreaBottom" fmla="*/ 1127520 h 11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1268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2160" y="9079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莫  笑   腊   酒   浑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33520" y="371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景色迷人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柳  绿   花   艳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05160" y="162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盛情待客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5840" y="352116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山  水  环   绕 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7884720" y="765000"/>
            <a:ext cx="576360" cy="51818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10880" y="218448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留 客  足  鸡    豚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33800" y="393372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92680" y="2029680"/>
            <a:ext cx="6069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景美人更美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618920" y="620640"/>
            <a:ext cx="6840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山西村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宋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陆游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笑农家腊酒浑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丰年留客足鸡豚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重水复疑无路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暗花明又一村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33480" y="2971800"/>
            <a:ext cx="7277040" cy="360"/>
            <a:chOff x="933480" y="2971800"/>
            <a:chExt cx="7277040" cy="360"/>
          </a:xfrm>
        </p:grpSpPr>
        <p:sp>
          <p:nvSpPr>
            <p:cNvPr id="93" name=""/>
            <p:cNvSpPr/>
            <p:nvPr/>
          </p:nvSpPr>
          <p:spPr>
            <a:xfrm>
              <a:off x="933480" y="2971800"/>
              <a:ext cx="7277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33480" y="2971800"/>
              <a:ext cx="7277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933480" y="2971800"/>
            <a:ext cx="7277040" cy="360"/>
            <a:chOff x="933480" y="2971800"/>
            <a:chExt cx="7277040" cy="360"/>
          </a:xfrm>
        </p:grpSpPr>
        <p:sp>
          <p:nvSpPr>
            <p:cNvPr id="97" name=""/>
            <p:cNvSpPr/>
            <p:nvPr/>
          </p:nvSpPr>
          <p:spPr>
            <a:xfrm>
              <a:off x="933480" y="2971800"/>
              <a:ext cx="7277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33480" y="2971800"/>
              <a:ext cx="7277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7542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陆游， “六十年间万首诗”，他是我国文学史上作品最多的诗人之一。他的诗歌的主要内容和最突出的主题是表现‘恢复神州”的爱国主义精神。除了大量的爱国诗篇，陆游还有很多写景和抒发生活情感的优秀作品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06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82520" y="1628640"/>
            <a:ext cx="530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腊  浑  豚</a:t>
            </a:r>
            <a:endParaRPr b="0" lang="en-US" sz="9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1480" y="400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628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闲人莫入  腊梅  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浑浊  怀疑  海豚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18920" y="620640"/>
            <a:ext cx="6840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山西村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宋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陆游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笑农家腊酒浑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丰年留客足鸡豚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重水复疑无路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暗花明又一村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18920" y="620640"/>
            <a:ext cx="6840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山西村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宋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陆游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笑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家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腊酒浑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丰年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客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足鸡豚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重水复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疑无路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暗花明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村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理解字词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413000"/>
            <a:ext cx="8839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莫：不要。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足：充分，充足。</a:t>
            </a: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5335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琥珀"/>
              </a:rPr>
              <a:t>诗句意思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26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457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2400" y="1690560"/>
            <a:ext cx="841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206064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莫笑农家腊酒浑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66960" y="3816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要笑话农家的腊酒浑浊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6:53:57Z</dcterms:created>
  <dc:creator>likun</dc:creator>
  <dc:description/>
  <dc:language>en-US</dc:language>
  <cp:lastModifiedBy>USER</cp:lastModifiedBy>
  <dcterms:modified xsi:type="dcterms:W3CDTF">2012-02-13T02:16:16Z</dcterms:modified>
  <cp:revision>39</cp:revision>
  <dc:subject/>
  <dc:title>PowerPoint 演示文稿</dc:title>
</cp:coreProperties>
</file>