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10.gif" ContentType="image/gif"/>
  <Override PartName="/ppt/media/image12.jpeg" ContentType="image/jpeg"/>
  <Override PartName="/ppt/media/image14.gif" ContentType="image/gif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3.gif" ContentType="image/gif"/>
  <Override PartName="/ppt/media/chimes.wav" ContentType="audio/x-wav"/>
  <Override PartName="/ppt/media/image8.png" ContentType="image/png"/>
  <Override PartName="/ppt/media/image11.jpeg" ContentType="image/jpeg"/>
  <Override PartName="/ppt/media/image7.jpeg" ContentType="image/jpeg"/>
  <Override PartName="/ppt/media/image9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6B06C-11CB-46C2-B405-71D36666A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5B7DE-306F-41F9-A4CE-F6E0BDD4B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1000AD-B0D2-403F-B5CD-C774031BB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F5B2FD-AD1F-423B-BFB3-3843521A2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269E7A-2ADD-4C41-9632-B21BF2BCE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505166-E8D4-470D-A469-8534D305E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A292A9-6FFB-40E9-8E76-C14708906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F6B15D-F258-4A1C-A13A-6E8ECC608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6C684C-A0ED-497C-9C4C-C6E88DF25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EE7D0E-5A04-46C9-BC28-C47C5C71F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748D7D-29C6-4401-9542-B3334D5E1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E2C977-E9BC-44BF-9DA2-0F0EED7C8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43B4A-85D0-4CB8-AF03-658A499C0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8BEF6E-C1AD-4871-BF25-EA6A6CD63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3FACB6-7DD8-4A08-A328-4D61CAC42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AC74EC-F8A1-4F7E-8DFD-7FCEFC8B2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ABF01F-CB1B-4625-9F37-C7B627444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5E0F6F-4DAE-4CD1-9DA4-686781448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4C1E3E-F727-4AF3-9732-4ED5A6D83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E07638-61E1-4F14-B94D-998422D12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22B057-5EA4-4D58-9978-271CF2D97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CE6108-72A3-46D1-8F4A-33E46D749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8096A1-5376-4761-B9C9-9D5EA12C1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6AC56-1456-4A7F-9583-ED363AC85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310470-8068-468E-8288-597996B71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86C7F8-50AE-41CC-9770-9FA68DF72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D121A1-26E9-4995-8B5B-23ED407FB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E8B6F9-9B0E-4613-A859-511306BF7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F9FA19-D316-4B64-A0F7-3FFCDE6A6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6650A6-3A21-4DFD-8240-85345D5FC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5E3834-B395-423B-A57A-4FEB50BF4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C284CB-AC0D-45B4-B134-B6B88375D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CC1856-FFD2-4483-A35E-622DD783E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1B275B-A24E-4235-84B0-DA4141487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49FA1-2532-463A-8735-82B7AA54C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42D74A-94E1-4C5C-8144-4EC2F5B92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4B4C5C-849C-447C-90B6-9D2D80207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C39045-457E-449C-B1AB-9B093E27D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5D725-C10F-4089-AF5F-A41CF29A8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D8942-6D58-499C-B0B6-14380C95A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04353-2A5F-4D7C-AAB9-1C89538EA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3BD0E-64EC-4BC7-8C6E-0396F88CC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DF2CD-AD39-4B85-BF83-0CA827011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4D63E-46AE-4366-894A-9EE22393E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A8DC6-AACC-47CD-B674-3C9F149E4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32AB7-F33F-4ED1-83C9-E04E6DF72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04036-4D66-4853-9589-680699807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7610E-DBA2-45E5-A253-FA3E4DC71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6F4F5-EB0F-44E0-A3D4-2C2B109FF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95D08-9187-423E-B3FF-0ED410449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16875F-D8BE-4E6A-8DC1-4A3E138E2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0C239A-B5EF-48D5-A38D-0478116E6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300FA9-6227-4078-9356-07281F546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C4AA9F-A1AC-42E1-803E-F61BA5B81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DD985E-BC9D-49D7-B629-3E9FC0BCC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F2BA2-FBED-4176-BC10-8C0D23029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CCD035-EC28-4A8B-B6A2-D4A2086A1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4FB180-6FA9-46B9-9FC1-1CCDABD9D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F933B8-956A-484C-B664-236A9AC9F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C31B24-ABA4-48FE-8FC8-0DDDBFB12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6CA2BE-D000-4A93-B3FD-58E5B0CD9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E5400E-EF66-44E8-80CE-E707BB81D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82B84C-E50C-42AE-B9D7-9D9AD60A6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797D3D-7B26-47EF-B054-AF5CC7844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2CE681-C0E0-472C-80D7-5A1E76BF7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197514-9AE4-4ED5-9766-DD6639FD2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65E78-FE80-40C2-9229-12C229EC8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984D00-7D21-40AC-A78B-7F14505F5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FCD70B-D68E-48A5-98F7-5114C5861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2023D6-F888-4CEA-A86C-E7E787A27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174029-722E-435F-AFC5-8EE6CD43E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97C526-0D5A-47B1-B1D8-D37BC93A2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3C93D0-4987-4DF7-8D6D-A7D3A863C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2DB77D-0125-4ED7-A0AA-21C4A30CF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D7251D-A806-402A-BBF0-5B7EA7113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3157DD-C2D4-4C1F-B340-DC4113D98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A49C7B-CC7B-40D7-85A1-D194DD3E2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DDDF7-DD9A-4882-B983-3D86DD0F9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B55BED-0AFB-44E8-9EAD-0D5E8770E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26CB30-E61C-43D9-BC08-710FE5E61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6EA5F0-4633-4BCC-95F7-F8EC13D66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6190C6-C1FB-4ECD-913F-B47342DFB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376A1D-7F71-432C-A1D9-FB36148A3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AB1E2D-265D-4D59-BE50-937B67EC1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474E25-230F-470B-884A-AACC39315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B89A71-3796-451F-B9E1-AB820E34D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AB99BF-5B06-46E7-BCBC-27F6F269F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91C800-FBA5-4DD8-AF32-D860FD557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2B82C-EA9E-41D5-AE30-8CEABDECC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FCC540-BB9E-4F9B-AD7D-05B83C02B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F044D3-3191-40CC-9384-C2D97DC51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B5880C-EEE6-4525-B701-528E03C86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8C282E-151F-44D6-B035-4A08133C5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DAEAB2-1F4C-4AE2-9DFF-0B511F04A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7CEE39-AC2E-4D07-9CCF-04DE764AB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3CCBBD-37BB-4091-851C-A733C8FB7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906BA3-63A9-4605-BE51-64BC193FE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4843F4-F9EB-43D0-A273-2D0EECEB7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381EF4-F303-49B4-A470-4185B8E9B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82BDB-8B29-4977-BB1F-108868D74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CC5879-8ECC-4005-8C48-4CC03BD47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B09E3A-31A0-4CC3-A9DF-54F3CC465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71F6DD-5C67-4CC5-B304-17BC7EED4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9F3BD5-6F5C-4164-9D12-7B95DBD14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E25EE2-830B-4E27-B64C-4112EA04C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1A4576-BF1D-40D7-A16E-B87BDB809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D35E86-3478-4B9E-BEBF-468AA3DAA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2C399C-DED6-4655-98A4-B8DD41310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E76435-9AB3-4742-8FD5-AACF7C7E4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87FB48-B767-4080-9DCE-FD4FB5D4F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91CA3-5B8C-4E4D-8689-3FA34BAD4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732B38-4F8E-4815-8A8F-6DA228BCC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40069F-04F3-4076-9A4F-7B12A3ACD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1FA0E4-BC7C-4261-8EB1-07A0A0C17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B8A0F2-DB54-400E-8341-9C5E768E4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812C97-AB82-496F-A4B3-48CADE34D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E3634FA-461E-4972-851A-4A2B6B61F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E0FBC6C-A00D-4840-9413-6C1F367C4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D51AC31-7BC7-4873-912F-A0F0CA60E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0D41DD5-54E7-4C83-840F-0DE5D9784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C2B8D66-39F1-48AD-BAF6-1CBDC62F4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343A8-2EFC-41EE-8088-741253E91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72CDCCA-F68F-4C62-9B75-C998557CE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B4BE1B3-1153-4317-B257-3FD985654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9AD0C81-2BB2-4F97-86C8-3B3BCE156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56DA583-090D-4E2B-A342-43C72C15B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B41C1A4-29F8-4247-A533-0D01844A0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1940C6A-7D27-4446-8DD3-1CE69AB09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EBFC8B3-9DEE-4C47-8B3C-D6D872783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607344-FEB4-4FF6-AC7A-F1942351E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304CEA-87BF-4469-BCDA-E0E8EF1A9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852199-188B-4C95-80C2-F9E55F5B2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778BC-738A-4C79-9966-47DE29B9EBC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 type="dt" idx="28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 type="ftr" idx="29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 type="sldNum" idx="30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E6EB8-F24B-4CF2-A055-3A59E4EBD0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 type="dt" idx="3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B046C-0EF3-4FAE-A99E-D30D241FB6BE}" type="slidenum">
              <a:rPr b="0" lang="en-US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AB68E-D015-492B-8CC4-A26749F532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12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SzPct val="12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CC619-0237-4660-9B77-5397207DB1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9DD54-E330-4C34-86F5-0049DFD1DFD5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991F4-AA60-4C4C-A0E7-37AB5EF3B3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8CA20-6943-493D-A7EB-7A91FBF24E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4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255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97155-292F-405E-BB38-91D3E1C01CF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12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SzPct val="12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ftr" idx="2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sldNum" idx="2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0D888-B339-4A9C-8BE4-9A716211D1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dt" idx="2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dt" idx="25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ftr" idx="26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8CB1F-6134-4876-95FE-6F1F016D5E68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0.gif"/><Relationship Id="rId3" Type="http://schemas.openxmlformats.org/officeDocument/2006/relationships/image" Target="../media/image10.gif"/><Relationship Id="rId4" Type="http://schemas.openxmlformats.org/officeDocument/2006/relationships/image" Target="../media/image10.gi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WordArt 3"/>
          <p:cNvSpPr txBox="1"/>
          <p:nvPr/>
        </p:nvSpPr>
        <p:spPr>
          <a:xfrm>
            <a:off x="1332000" y="2033640"/>
            <a:ext cx="63450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隶书"/>
              </a:rPr>
              <a:t>永生的眼睛</a:t>
            </a:r>
            <a:endParaRPr b="1" lang="en-US" sz="1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470" name="Rectangle 4"/>
          <p:cNvSpPr/>
          <p:nvPr/>
        </p:nvSpPr>
        <p:spPr>
          <a:xfrm>
            <a:off x="566640" y="324000"/>
            <a:ext cx="4037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0066"/>
                </a:solidFill>
                <a:latin typeface="Arial"/>
              </a:rPr>
              <a:t>人教新课标小学语文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矩形 7"/>
          <p:cNvSpPr/>
          <p:nvPr/>
        </p:nvSpPr>
        <p:spPr>
          <a:xfrm>
            <a:off x="2081160" y="5950080"/>
            <a:ext cx="3027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www.downcc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 Box 1026"/>
          <p:cNvSpPr/>
          <p:nvPr/>
        </p:nvSpPr>
        <p:spPr>
          <a:xfrm>
            <a:off x="457200" y="228600"/>
            <a:ext cx="8686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想想看另一对父母，如果他们的女儿也能像温迪一样将会多么自豪。况且当你得知我的眼睛其了起了作用的时候，又会多么骄傲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父亲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98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年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日溘然长逝，我们遵从其遗愿捐赠了他的眼睛。三天之后，温迪告诉我：“妈咪，我真为你为外公所做的一切而感到骄傲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在这一刻，我领悟到父亲献出的远非一副角膜，他所遗留的仍辉映在我女儿的眼睛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怎样的一种骄傲！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金发温迪手中的画笔依旧不停地挥动着，她的碧眼仍然闪烁着骄傲的光芒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7" name="Picture 1027" descr="muzu12"/>
          <p:cNvPicPr/>
          <p:nvPr/>
        </p:nvPicPr>
        <p:blipFill>
          <a:blip r:embed="rId1"/>
          <a:stretch/>
        </p:blipFill>
        <p:spPr>
          <a:xfrm>
            <a:off x="685800" y="304920"/>
            <a:ext cx="309600" cy="331560"/>
          </a:xfrm>
          <a:prstGeom prst="rect">
            <a:avLst/>
          </a:prstGeom>
          <a:ln w="0">
            <a:noFill/>
          </a:ln>
        </p:spPr>
      </p:pic>
      <p:pic>
        <p:nvPicPr>
          <p:cNvPr id="498" name="Picture 1028" descr="muzu12"/>
          <p:cNvPicPr/>
          <p:nvPr/>
        </p:nvPicPr>
        <p:blipFill>
          <a:blip r:embed="rId2"/>
          <a:stretch/>
        </p:blipFill>
        <p:spPr>
          <a:xfrm>
            <a:off x="685800" y="2057400"/>
            <a:ext cx="309600" cy="331920"/>
          </a:xfrm>
          <a:prstGeom prst="rect">
            <a:avLst/>
          </a:prstGeom>
          <a:ln w="0">
            <a:noFill/>
          </a:ln>
        </p:spPr>
      </p:pic>
      <p:pic>
        <p:nvPicPr>
          <p:cNvPr id="499" name="Picture 1029" descr="muzu12"/>
          <p:cNvPicPr/>
          <p:nvPr/>
        </p:nvPicPr>
        <p:blipFill>
          <a:blip r:embed="rId3"/>
          <a:stretch/>
        </p:blipFill>
        <p:spPr>
          <a:xfrm>
            <a:off x="762120" y="3733920"/>
            <a:ext cx="309600" cy="331560"/>
          </a:xfrm>
          <a:prstGeom prst="rect">
            <a:avLst/>
          </a:prstGeom>
          <a:ln w="0">
            <a:noFill/>
          </a:ln>
        </p:spPr>
      </p:pic>
      <p:pic>
        <p:nvPicPr>
          <p:cNvPr id="500" name="Picture 1030" descr="muzu12"/>
          <p:cNvPicPr/>
          <p:nvPr/>
        </p:nvPicPr>
        <p:blipFill>
          <a:blip r:embed="rId4"/>
          <a:stretch/>
        </p:blipFill>
        <p:spPr>
          <a:xfrm>
            <a:off x="762120" y="5486400"/>
            <a:ext cx="309600" cy="3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" dur="500"/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4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2"/>
          <p:cNvSpPr/>
          <p:nvPr/>
        </p:nvSpPr>
        <p:spPr>
          <a:xfrm>
            <a:off x="380880" y="990720"/>
            <a:ext cx="8763120" cy="25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宋体"/>
              </a:rPr>
              <a:t>         </a:t>
            </a:r>
            <a:r>
              <a:rPr b="1" lang="zh-CN" sz="6000" spc="-1" strike="noStrike">
                <a:solidFill>
                  <a:srgbClr val="ff0066"/>
                </a:solidFill>
                <a:latin typeface="宋体"/>
                <a:ea typeface="宋体"/>
              </a:rPr>
              <a:t>作业设计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5400" spc="-1" strike="noStrike">
                <a:solidFill>
                  <a:srgbClr val="000000"/>
                </a:solidFill>
                <a:latin typeface="宋体"/>
                <a:ea typeface="宋体"/>
              </a:rPr>
              <a:t>替重见天日的角膜接受者写一封感谢信，表达出对于那些勇于奉献的人们的感恩之情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宋体"/>
              </a:rPr>
              <a:t> 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zh-CN" sz="3400" spc="-1" strike="noStrike">
                <a:solidFill>
                  <a:srgbClr val="ff0066"/>
                </a:solidFill>
                <a:latin typeface="Arial"/>
              </a:rPr>
              <a:t>课外拓展，实践活动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　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向你身边的人讲述这个故事，并结合课前搜集的资料向他们宣传器官捐献的意义。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写一封倡议书，号召你的小伙伴参与到器官捐献的事业中来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矩形 7"/>
          <p:cNvSpPr/>
          <p:nvPr/>
        </p:nvSpPr>
        <p:spPr>
          <a:xfrm>
            <a:off x="1376280" y="502452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 Box 2"/>
          <p:cNvSpPr/>
          <p:nvPr/>
        </p:nvSpPr>
        <p:spPr>
          <a:xfrm>
            <a:off x="0" y="0"/>
            <a:ext cx="8893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日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时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分，丛飞因病医治无效在深圳市人民医院去世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7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岁的丛飞生前立下遗嘱捐献眼角膜，以他最后的爱心之举，将光明永远馈赠社会、长留人间。</a:t>
            </a:r>
            <a:br>
              <a:rPr sz="2400"/>
            </a:b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　作为一名著名歌手，丛飞商业演出频繁，本应该生活富裕。但他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年来倾其所有，累计捐款捐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0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多万元，资助失学儿童和残疾人超过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5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人，自己却一直过着清贫的生活，甚至不惜向生命借贷。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9" name="Picture 3" descr="F200604211045182160121482"/>
          <p:cNvPicPr/>
          <p:nvPr/>
        </p:nvPicPr>
        <p:blipFill>
          <a:blip r:embed="rId1"/>
          <a:stretch/>
        </p:blipFill>
        <p:spPr>
          <a:xfrm>
            <a:off x="3589200" y="2787480"/>
            <a:ext cx="5554800" cy="4070520"/>
          </a:xfrm>
          <a:prstGeom prst="rect">
            <a:avLst/>
          </a:prstGeom>
          <a:ln w="0">
            <a:noFill/>
          </a:ln>
        </p:spPr>
      </p:pic>
      <p:pic>
        <p:nvPicPr>
          <p:cNvPr id="510" name="Picture 4" descr="bcd1d1f3d531421478dd5d40570a93e9"/>
          <p:cNvPicPr/>
          <p:nvPr/>
        </p:nvPicPr>
        <p:blipFill>
          <a:blip r:embed="rId2"/>
          <a:stretch/>
        </p:blipFill>
        <p:spPr>
          <a:xfrm>
            <a:off x="0" y="3191040"/>
            <a:ext cx="3627360" cy="36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 Box 2"/>
          <p:cNvSpPr/>
          <p:nvPr/>
        </p:nvSpPr>
        <p:spPr>
          <a:xfrm>
            <a:off x="2057400" y="0"/>
            <a:ext cx="6924600" cy="612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隶书"/>
              </a:rPr>
              <a:t>你的眼睛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宋体"/>
                <a:ea typeface="宋体"/>
              </a:rPr>
              <a:t>像远方淡蓝的大海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宋体"/>
                <a:ea typeface="宋体"/>
              </a:rPr>
              <a:t>那永恒的痛苦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宋体"/>
                <a:ea typeface="宋体"/>
              </a:rPr>
              <a:t>像尘土隐没在你的眼中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宋体"/>
                <a:ea typeface="宋体"/>
              </a:rPr>
              <a:t>你的眼睛是清泉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宋体"/>
                <a:ea typeface="宋体"/>
              </a:rPr>
              <a:t>它的希望的光照着我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宋体"/>
                <a:ea typeface="宋体"/>
              </a:rPr>
              <a:t>通过流水的闪烁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宋体"/>
                <a:ea typeface="宋体"/>
              </a:rPr>
              <a:t>宛如水底的珍珠。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3" name="Picture 3" descr="27_4200_427"/>
          <p:cNvPicPr/>
          <p:nvPr/>
        </p:nvPicPr>
        <p:blipFill>
          <a:blip r:embed="rId1"/>
          <a:stretch/>
        </p:blipFill>
        <p:spPr>
          <a:xfrm>
            <a:off x="609480" y="6248520"/>
            <a:ext cx="8305920" cy="230040"/>
          </a:xfrm>
          <a:prstGeom prst="rect">
            <a:avLst/>
          </a:prstGeom>
          <a:ln w="0">
            <a:noFill/>
          </a:ln>
        </p:spPr>
      </p:pic>
      <p:pic>
        <p:nvPicPr>
          <p:cNvPr id="514" name="Picture 4" descr="xsgs555"/>
          <p:cNvPicPr/>
          <p:nvPr/>
        </p:nvPicPr>
        <p:blipFill>
          <a:blip r:embed="rId2"/>
          <a:stretch/>
        </p:blipFill>
        <p:spPr>
          <a:xfrm>
            <a:off x="685800" y="0"/>
            <a:ext cx="10288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66"/>
                </a:solidFill>
                <a:latin typeface="Times New Roman"/>
              </a:rPr>
              <a:t>自学反馈，质疑问难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指名按自然段朗读课文，引导学生进行正音。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说说琳达一家为了让盲人重见光明是怎样做的？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 Box 2"/>
          <p:cNvSpPr/>
          <p:nvPr/>
        </p:nvSpPr>
        <p:spPr>
          <a:xfrm>
            <a:off x="1150920" y="1133640"/>
            <a:ext cx="7704000" cy="41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zh-CN" sz="4400" spc="-1" strike="noStrike">
                <a:solidFill>
                  <a:srgbClr val="ff0066"/>
                </a:solidFill>
                <a:latin typeface="Times New Roman"/>
              </a:rPr>
              <a:t>认识生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永生    角膜    给予   搂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不假思索   捐赠  屡屡获奖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热泪盈眶   遵从  重见天日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 Box 2"/>
          <p:cNvSpPr/>
          <p:nvPr/>
        </p:nvSpPr>
        <p:spPr>
          <a:xfrm>
            <a:off x="311040" y="1314360"/>
            <a:ext cx="883296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宋体"/>
              </a:rPr>
              <a:t>振聋发聩    热泪盈眶     萦绕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宋体"/>
              </a:rPr>
              <a:t>天壤之别    溘然长逝     慷慨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宋体"/>
              </a:rPr>
              <a:t>栩栩如生    策马扬鞭     捐赠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9" name="Picture 3" descr="27_4200_27"/>
          <p:cNvPicPr/>
          <p:nvPr/>
        </p:nvPicPr>
        <p:blipFill>
          <a:blip r:embed="rId1"/>
          <a:stretch/>
        </p:blipFill>
        <p:spPr>
          <a:xfrm>
            <a:off x="457200" y="5334120"/>
            <a:ext cx="8305920" cy="10364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66"/>
                </a:solidFill>
                <a:latin typeface="Arial"/>
              </a:rPr>
              <a:t>赏读课文，感受人性美</a:t>
            </a:r>
            <a:br>
              <a:rPr sz="4000"/>
            </a:b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1.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课文中的故事感人至深，请你带着自己的感受朗读全文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2.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以小组合作的方式，分角色朗读课文。要求读好人物的对话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3.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交流感想：读过课文之后，你又产生了哪些新的感受，与同学们谈一谈。可以对文中的某个人物发表看法，也可以对事情本身阐发议论。</a:t>
            </a:r>
            <a:br>
              <a:rPr sz="2800"/>
            </a:b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4" dur="2000"/>
                                        <p:tgtEl>
                                          <p:spTgt spid="4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 Box 2"/>
          <p:cNvSpPr/>
          <p:nvPr/>
        </p:nvSpPr>
        <p:spPr>
          <a:xfrm>
            <a:off x="154080" y="620640"/>
            <a:ext cx="9144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你怎么能让他们这样对待妈妈！”我冲着爸爸哭喊，“妈妈完整地来到世上，也应该完整地离去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3"/>
          <p:cNvSpPr/>
          <p:nvPr/>
        </p:nvSpPr>
        <p:spPr>
          <a:xfrm>
            <a:off x="179280" y="3068640"/>
            <a:ext cx="8893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身体发肤，受之于父母”，深爱着母亲的我无法接受捐赠母亲角膜的决定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使我忍不住冲着父亲哭喊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—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使我忍不住深深地责怪父亲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—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使我忍不住痛哭失声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—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4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4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4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页脚占位符 2"/>
          <p:cNvSpPr/>
          <p:nvPr/>
        </p:nvSpPr>
        <p:spPr>
          <a:xfrm>
            <a:off x="3124080" y="60199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 Box 2"/>
          <p:cNvSpPr/>
          <p:nvPr/>
        </p:nvSpPr>
        <p:spPr>
          <a:xfrm>
            <a:off x="900000" y="112536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宋体"/>
              </a:rPr>
              <a:t>一个人能给予他人的最珍贵的东西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宋体"/>
              </a:rPr>
              <a:t>莫过于自己身体的一部分。很久以前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,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宋体"/>
              </a:rPr>
              <a:t>你妈妈和我就认为，如果我们死后的身体能有助于他人恢复健康，我们的死就是有意义的。”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6" dur="2000" fill="hold"/>
                                        <p:tgtEl>
                                          <p:spTgt spid="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5" dur="2000"/>
                                        <p:tgtEl>
                                          <p:spTgt spid="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 Box 2"/>
          <p:cNvSpPr/>
          <p:nvPr/>
        </p:nvSpPr>
        <p:spPr>
          <a:xfrm>
            <a:off x="179280" y="352440"/>
            <a:ext cx="8785440" cy="174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我的可爱的小女儿，才华横溢的小温迪，在一次交通事故中丧生。一辆卡车无情地碾过正在策马扬鞭的她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这样一位才华横溢的孩子，这样一位善良可爱的孩子，十四岁，最美好的时候离开了我们，离开了这个世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当我签字时，她的话萦绕在耳际：你想过如果什么也看不见会有多么痛苦吗？”</a:t>
            </a:r>
            <a:br>
              <a:rPr sz="32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3"/>
          <p:cNvSpPr/>
          <p:nvPr/>
        </p:nvSpPr>
        <p:spPr>
          <a:xfrm>
            <a:off x="108000" y="2492280"/>
            <a:ext cx="903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4"/>
          <p:cNvSpPr/>
          <p:nvPr/>
        </p:nvSpPr>
        <p:spPr>
          <a:xfrm>
            <a:off x="179280" y="3867120"/>
            <a:ext cx="89647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亲爱的里弗斯先生和太太，角膜移植非常成功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现在两位昔日的盲人已重见天日，他们成为令爱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——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一位极其热爱生命的女孩的活的纪念，并有幸终生分享她的美丽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2" name="1001.mp3" descr=""/>
          <p:cNvPicPr/>
          <p:nvPr/>
        </p:nvPicPr>
        <p:blipFill>
          <a:blip r:embed="rId1"/>
          <a:stretch/>
        </p:blipFill>
        <p:spPr>
          <a:xfrm>
            <a:off x="8317080" y="63817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1" dur="194926" fill="hold"/>
                                        <p:tgtEl>
                                          <p:spTgt spid="4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 Box 2"/>
          <p:cNvSpPr/>
          <p:nvPr/>
        </p:nvSpPr>
        <p:spPr>
          <a:xfrm>
            <a:off x="0" y="765000"/>
            <a:ext cx="91440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父亲曾平静地对我说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——“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一个人所能给予他人的最珍贵的东西，莫过于自己身体的一部分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父亲语重心长地说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——“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如果我们死后的身体能有助于他人恢复健康，我们的死就是有意义的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父亲愉快地说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——“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如果一个盲童能在我们的帮助下重见光明，并像温迪一样画出栩栩如生的马儿，那多么美妙！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父亲骄傲地说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——“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当你们得知是我的眼睛角膜起了作用，你们会为我自豪！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8T15:46:17Z</dcterms:created>
  <dc:creator>第一PPT模板网-WWW.1PPT.COM</dc:creator>
  <dc:description>第一PPT模板网-WWW.1PPT.COM
</dc:description>
  <cp:keywords>第一PPT模板网-WWW.1PPT.COM</cp:keywords>
  <dc:language>en-US</dc:language>
  <cp:lastModifiedBy>wuhan</cp:lastModifiedBy>
  <cp:lastPrinted>1900-01-03T05:48:54Z</cp:lastPrinted>
  <dcterms:modified xsi:type="dcterms:W3CDTF">2017-10-17T07:37:46Z</dcterms:modified>
  <cp:revision>24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875</vt:lpwstr>
  </property>
</Properties>
</file>