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9.jpeg" ContentType="image/jpeg"/>
  <Override PartName="/ppt/media/image23.wmf" ContentType="image/x-wmf"/>
  <Override PartName="/ppt/media/image4.png" ContentType="image/png"/>
  <Override PartName="/ppt/media/image24.gif" ContentType="image/gif"/>
  <Override PartName="/ppt/media/image6.png" ContentType="image/png"/>
  <Override PartName="/ppt/media/image7.png" ContentType="image/png"/>
  <Override PartName="/ppt/media/image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image12.gif" ContentType="image/gif"/>
  <Override PartName="/ppt/media/image30.gif" ContentType="image/gif"/>
  <Override PartName="/ppt/media/image32.png" ContentType="image/png"/>
  <Override PartName="/ppt/media/image2.png" ContentType="image/png"/>
  <Override PartName="/ppt/media/image31.jpeg" ContentType="image/jpeg"/>
  <Override PartName="/ppt/media/image14.gif" ContentType="image/gif"/>
  <Override PartName="/ppt/media/image11.wmf" ContentType="image/x-wmf"/>
  <Override PartName="/ppt/media/image15.gif" ContentType="image/gif"/>
  <Override PartName="/ppt/media/image16.gif" ContentType="image/gif"/>
  <Override PartName="/ppt/media/image13.wmf" ContentType="image/x-wmf"/>
  <Override PartName="/ppt/media/image17.gif" ContentType="image/gif"/>
  <Override PartName="/ppt/media/image21.jpeg" ContentType="image/jpeg"/>
  <Override PartName="/ppt/media/image18.gif" ContentType="image/gif"/>
  <Override PartName="/ppt/media/image19.wmf" ContentType="image/x-wmf"/>
  <Override PartName="/ppt/media/image20.jpeg" ContentType="image/jpeg"/>
  <Override PartName="/ppt/media/image22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42A-388B-4D43-993A-B88FE78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E44-4785-4F96-B3AB-8522B60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48333-B0B7-4040-A7F4-349BD595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9406-736C-454B-8CA3-58EDF36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1D79-5345-474E-8F25-49F25F94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16AFF-E25C-45C8-AAE4-F776EB3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77B7C-88D3-4222-87A6-39850D5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611B7-0816-45B6-9A0F-2229CDE7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EFB84-73FC-4F59-871E-6E86AB76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1EE9-DB4E-4D49-AACC-46154336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1F150-A422-4893-B46C-5135CB12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9F687-882A-4244-B0C5-C2A253DF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88F-EE94-452D-842E-F14BA6AC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8464-AD06-4F79-840D-4491504D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19326-7B32-4D6B-8AD1-F6C57E1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A335F-E91D-4BA8-A51B-719D3B4F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BCD47-3D3E-4FA8-8776-68B8B7EB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AA5C3-F00A-4889-B9E4-7C2F7DA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02F5A-CD58-4427-A6FA-B91A64B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2A84-942C-4CCD-AEBD-E9108B6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5650B-A33E-4E0A-B766-CB0647F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14C1-7B3F-4037-86E2-72E6C568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D87F3-5485-454E-BD3D-8FDEBA6C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117-ED8D-4398-A2AE-5D7B4BF6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8F406-0604-45D0-AEDB-4F8768B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80B-8042-40BE-8A6E-5B402BDF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ABE-C71B-4F23-9BB0-5C7EA48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1FCE-7691-40C8-934F-BA038BDD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F90A-7949-4662-B3FC-A513B79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FECE-6BDD-4165-A1B8-E97B648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4F6-A22D-43B9-BBE8-96E41E2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BBED-D0F1-4435-BAF1-36DCEF4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5C3-9BCD-48A2-A04E-8FC143B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F896-75BB-43F3-ACB5-EF4BAB48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905A-1463-4DE2-9912-4156478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AA3-6E20-4B36-92D9-6CB936C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C4D3-5E1F-493F-A209-677B7759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934-2C8F-4EBB-9DA3-C8A86426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880B-446F-4A3A-9FF7-A09A07A6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0BB1-219E-45E7-8111-4799AF2E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0413-5A53-4A54-B7B4-3F437BBA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E3BC-2485-42C0-8053-C8ED8864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5CBB-D7E4-429F-80DA-5CF70C99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888-C061-4C65-9BCB-B1C75522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7D0F-6720-467C-BE8C-B14B8DA3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266B-8327-4B81-8E67-22C8F9E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4A63-E46E-401F-BE12-965F52D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EE09-4CF4-4A04-B9D3-83619BE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BA67-4268-4CE3-94AF-DA9597E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C5EA-B12D-4DFF-881D-D4509E70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DC9A-668A-4F46-978D-0E44C1FE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B7E8-94C5-4ACD-8DD1-B54628B0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ABAA-83FD-4BEC-B6B2-F171DEF9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39FFA-D2B2-4FEA-931E-F8694C79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F91-1B6D-4533-9FD2-49613D7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62CCF-566F-4ED9-9532-5B8328D8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50B2-7FFC-4ED3-9B25-79F8B57B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1C11-CB7C-47CF-85A0-5284313F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F0DF-39B6-4249-87C3-70E0087C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2DEA2-FD04-44C0-8AFB-9BBCECB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2184-AB85-4A64-B6CB-FAE49FE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BF18-AAA9-41A0-ADC3-7552BAD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7481-07F2-4FB2-8934-4D411CE3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881F-A8B4-4146-BD7E-37357528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B4E6-D023-468A-A9F6-A3E008E0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DC3-2051-4F1D-9E49-B4397CE6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7ACAC-FC8E-442A-98F5-4C9029E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AFD9-D009-4507-8D01-281010BE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35169-7E5E-4B75-ADE0-D7AF7A4F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4C25-7728-4855-9EA2-4F59002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736FD-48FF-4EB8-81EF-8B1E9C5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78B1-C98E-4F84-937F-D3CD638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E3E3-FBFA-4078-8541-64B0D387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F0DE5-7126-4DF5-9175-24D0055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F338-9DB3-477A-8910-7D93065B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4296-62AE-4D56-A758-09B07C93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1D7-3534-4E73-B028-EA67D0C0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4809-E08C-4CF3-B0A2-32E21C53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BC93-086F-4090-9111-B2A48B3D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1B93-1FE9-4AB1-AFF4-3E51E82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C01A-E33E-4B84-9F34-62CC66C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2F49-8AA7-4C9D-B2D5-BFD2F42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D1F86-933A-4AF8-BAD6-72A344CB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D7D7A-4FA0-4D30-95A9-1B6BD506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E0E4-E273-4A31-B266-0EB79C6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3F27-C10A-4C5C-B2BA-1FE1F13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60825-5C54-41F0-BE19-DFCA5B0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C30-762E-4BE2-97C6-D8BB940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AE7C2-56D0-4F2B-9579-CA38FA07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567C-0797-4D49-A263-EF70C424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C0C7-64FB-4415-8C3E-534DA220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F56-525B-425C-89E5-D4FB66A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9080-5430-4AA9-951B-0D44C26B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0442-324B-4E61-80B5-86B28F7C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CEBF-F73E-4D76-8419-AC0CBA43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54E6-56A5-4594-AE40-79E6D40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5629-C95D-4CB0-BCEC-22C3A22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CD5-9CAD-4097-9C18-7730B75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556E3-80CE-4DF9-87E7-068DCE51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FC859-E99F-4741-A853-D0786FD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DA239-2CBB-4C3A-AB5F-B0F79842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AFD5-1405-4CF6-BB33-5E9715F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4794-7DDD-4AE4-9D20-05D191C4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EC3CE-DFA7-4303-84B5-8D6545B6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41AB-5983-4FDC-A6FA-6DBC09E3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1263-DDFA-47A8-9E97-67C5B091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4916-4952-4927-8F41-2192AA1D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7F5C6-6A5C-47B7-821B-0F3C5F2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540-710A-4A27-9199-8D0E9F3E2F7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44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58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dt" idx="25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ftr" idx="2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DCE8-F8AC-4C2A-B57B-EE3560ECB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808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C96-AC8F-4B36-B38D-68924B2AFD1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CC5-9802-4BA4-880A-AA37553EF31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4579-EB4E-44A3-A298-59D59DDC9E8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EBFA-FB8F-4810-BF46-2310074414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F52-C40B-4D17-BD9D-D136D9AD2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422D-FDA7-4159-95FA-A9B06D6FD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56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502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16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30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44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58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72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86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88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4046-4E67-4B86-BB5D-034508E75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blog.sina.com.cn/sianlaobaixing" TargetMode="External"/><Relationship Id="rId2" Type="http://schemas.openxmlformats.org/officeDocument/2006/relationships/slideLayout" Target="../slideLayouts/slideLayout9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ff9900"/>
                </a:solidFill>
                <a:latin typeface="Arial"/>
              </a:rPr>
              <a:t>心态</a:t>
            </a:r>
            <a:endParaRPr b="1" lang="en-US" sz="5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716360" y="2637000"/>
            <a:ext cx="3384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心态培训课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87640" y="4005360"/>
            <a:ext cx="396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62c6"/>
                </a:solidFill>
                <a:latin typeface="Arial"/>
              </a:rPr>
              <a:t>主讲：</a:t>
            </a:r>
            <a:r>
              <a:rPr b="0" lang="zh-CN" sz="4400" spc="-1" strike="noStrike">
                <a:solidFill>
                  <a:srgbClr val="f862c6"/>
                </a:solidFill>
                <a:latin typeface="Arial"/>
              </a:rPr>
              <a:t>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292720" y="4941720"/>
            <a:ext cx="3311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cc33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33cc33"/>
                </a:solidFill>
                <a:latin typeface="Arial"/>
              </a:rPr>
              <a:t>行政部门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7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277920"/>
            <a:ext cx="7216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好的心情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03360" y="2060640"/>
            <a:ext cx="82166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你产生向上的力量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你喜悦、生气勃勃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你沉着、冷静，缔造和谐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BD06784_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差的心情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34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你不思进取，甚至颓废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你忧愁、悲观、失望、萎靡不振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你的心情不好，就会跟别人发脾气，不愿意配合别人的工作，人际关系就会紧张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372360" y="765000"/>
            <a:ext cx="205884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258920" y="691920"/>
            <a:ext cx="1403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怎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样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心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3851280" y="549360"/>
            <a:ext cx="5041800" cy="56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学会让自己安静，把思维沉浸下来，慢慢降低对事物的欲望。把自我经常归零，每天都是新的起点，没有年龄的限制，只要你对事物的欲望适当的降低，会赢得更多的求胜机会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学会关爱自己，只有多关爱自己，才能有更多的能量去关爱他人，如果你有足够的能力，就要尽量帮助你能帮助的人，那样你得到的就是几份快乐，多帮助他人，善待自己，也是一种减压的方式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遇到心情烦躁的情况的时候，你喝一杯白水，放一曲舒缓的轻音乐，闭眼，回味身边的人与事，对新的未来可以慢慢的输理，即是一种休息，也是一种冷静的前进思考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多和自己竞争，没有必要嫉妒别人，也没必要羡慕别人。很多人都是由于羡慕别人，而始终把自己当成旁观者，越是这样，越是会把自己掉进一个深渊。你要相信，只要你去做，你也可以的。为自己的每一次进步而开心（事是不分大与小的，复杂的事情简单做，简单的事情认真做，认真的事情反复做，争取做到最好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广泛阅读，阅读实际就是一个吸收养料的过程，现代人面临激烈的竞争，复杂的人际关系，为了让自己不至于在某些场合尴尬，可以进行广泛的阅读，让自己的头脑充实也是一种减压的方式，人有时候是这样的，肚子里空空的时候会自然的焦急，这就对了，正是你的求知欲在呼喊你，要活着就需要这样的养分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不论在任何条件下，自己不能看不起自己，哪怕全世界都不相信你，看不起你，你一定要相信你自己，因为我相信一句话，如果你喜欢上了你自己，那么就会有更多的人喜欢你，如果你想自己是什么样的人，只要你想，努力去实现，就会的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学会调整情绪，尽量往好处想，很多人遇到一些事情的时候，就急的象热锅上的蚂蚁，本来可以很好解决的问题，正是因为情绪的把握不好，让简单的事情复杂化，让复杂的事情更难．其实只要把握好事情的关键，把每个细节处理的得贴就会游刃有余．遇到棘手的事情，冷静点，然后想如何才能把它做好，你越往好处想，心就越开，越往坏处想，心就越窄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珍惜身边的人，用语方面尽量不伤害，哪怕遇到你不喜欢的人，你尽量迂回，找理由离开也不要肆意伤害，这样不仅让自己心情太坏，也让场面更尴尬．珍惜现在身边的一切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热爱生命，每天吸收新的养料，每天要有不同的思维．多学会换位思考，尽量找新的事物满足对世界的新奇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神秘感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只有用真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爱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人格去面对你的生活，你的人生才会更精彩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我们每天的心态，影响着我们生命的质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3059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你能保证眼下心情好，你就能保证今天一天心情好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你能保证每天心情好，你就会获得很好的生命质量，体验别人体验不到的靓丽的生活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68000" y="2349000"/>
            <a:ext cx="496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9900"/>
                </a:solidFill>
                <a:latin typeface="Garamond"/>
                <a:ea typeface="华文隶书"/>
              </a:rPr>
              <a:t>塑造良好心态</a:t>
            </a: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活在当下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34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什么是活在当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禅师回答，吃饭就是吃饭，睡觉就是睡觉，这就叫活在当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要的事情就是现在你做的事情，最重要的人就是现在和你一起做事情的人，最重要的时间就是现在，这种观点就叫活在当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6659640" y="765000"/>
            <a:ext cx="2112840" cy="23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吃草莓的故事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8161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一个人被老虎追赶，他拼命地跑，一不小心掉下悬崖，他眼疾手快抓住了一根藤条，身体悬挂在空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他抬头向上看，老虎在上边盯着他；他往下看，万丈深渊在等着他；他往中间看，突然发现藤条旁有一个熟透了的草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  <a:ea typeface="华文细黑"/>
              </a:rPr>
              <a:t>现在这个人有上去、下去、悬挂在空中和吃草莓四种选择，你们说他干吗？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1439640" cy="137628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1163880" cy="14702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420920" cy="180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468360" y="14918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他选择吃草莓，吃草莓这种心态就是活在当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现在能把握的只有那颗草莓，就要把它吃了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有人说，马上就要死了，还吃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他不是没死吗？机会在动态中出现，没准老虎走了，他还可以爬上来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个问题问幼儿园的孩子，孩子一定毫不犹豫的回答吃草莓．孩子比大人快乐，因为他们活在当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1163880" cy="146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684360" y="1980720"/>
            <a:ext cx="81612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在当下，就要对自己当前的现状满意，要相信每一个时刻发生在你身上的事情都是最好的，要相信自己的生命正以最好的方式展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人说，我对我的现状不满意，怎么办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换一种看法解释现状不就行了吗？你抱怨现状不好，是因为你没看到比你更坏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7240680" y="4292640"/>
            <a:ext cx="1903320" cy="191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062000" y="14126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我们应该用怎样的心态去工作？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5" name="Picture 5" descr="BD06663_"/>
          <p:cNvPicPr/>
          <p:nvPr/>
        </p:nvPicPr>
        <p:blipFill>
          <a:blip r:embed="rId1"/>
          <a:stretch/>
        </p:blipFill>
        <p:spPr>
          <a:xfrm>
            <a:off x="539640" y="3357720"/>
            <a:ext cx="3468960" cy="2768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4" descr="BD00028_"/>
          <p:cNvPicPr/>
          <p:nvPr/>
        </p:nvPicPr>
        <p:blipFill>
          <a:blip r:embed="rId2"/>
          <a:stretch/>
        </p:blipFill>
        <p:spPr>
          <a:xfrm>
            <a:off x="3505320" y="3124080"/>
            <a:ext cx="761760" cy="9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一、积极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积极的心态就是把好的、正确的方面扩张开来，同时第一时间投入进去。一个国家，一个企业肯定都有很多好的方面，也有很多不够好的地方，我们就需要用积极的心态去对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贪污犯还有，可是我们应该看见国家已经大力的整顿了；企业有很多不尽合理的管理，可是我们应该看到企业管理风格的改变。也许你在工作中遇到了很多困难，可是我们应该看到克服这些困难后的一片蓝天。同时，我们应该就正确的、好的事情第一时间去投入，唯有第一时间去投入才会唤起你的激情，唯有第一时间投入才会使困难在你面前变的渺小，好的地方在你眼前光大 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二、主动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主动是什么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主动就是“没有人告诉你而你正做着恰当的事情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在竞争异常激烈的时代，被动就会挨打，主动就可以占据优势地位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我们的事业、我们的人生不是上天安排的，是我们主动的去争取的。在企业里，有很多的事情也许没有人安排你去作，有很多的职位空缺。如果你去主动的行动起来，你不但锻炼了自己，同时也为自己争取这样的职位积蓄了力量，但如果什么事情都需要别人来告诉你时，你已经很落后了，这样的职位也挤满了那些主动行动着的人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主动是为了给自己增加机会，增加锻炼自己的机会，增加实现自己价值的机会。社会、企业只能给你提供道具，而舞台需要自己搭建，演出需要自己排练，能演出什么精彩的节目，有什么样的收视率决定权在你自己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三、双赢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杀头的事情有人干，但亏本的买卖没人作，这是商业规则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你必须站在双赢的心态上去处理你与企业之间的、企业与商家之间的、企业和消费者之间的关系。你不能为了自身的利益去损坏企业的利益。没有大家且有小家？企业首先是一个利润中心，企业都没有了利益，你也肯定没有利益。同样，我们也不能破坏企业与商家之间的双赢规则，只要某一方失去了利益，必定就会放弃这样的合作。消费者满足自己的需求，而企业实现自己的产品价值，这同样也是一个双赢，任何一方的利益受到损坏都会付出代价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四、包容的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为销售人员，你会接触到各种各样的经销商，也会接触到各种各样的消费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个经销商有这样的爱好，那个消费者有那样的需求。我们是为客户提供服务的，满足客户需求的，这就要求我们学会包容，包容他人的不同喜好，包容别人的挑剔。你的同事也许与你也有不同的喜好，有不同的做事风格，你也应该去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们需要锻炼同理心，我们需要去接纳差异，我们需要包容差异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五、自信的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自信是一切行动的源动力，没有了自信就没有的行动。我们对自己服务的企业充满自信，对我们的产品充满自信，对自己的能力充满自信，对同事充满自信，对未来充满自信。自己是将优良的产品推荐给我们的消费者去满足他们的需求，我们的一切活动都是有价值的。很多销售人员自己都不相信自己的产品，又怎么样说服别人相信自己的产品。很多销售人员不相信自己的能力，不相信自己的产品，所以在客户的门外犹豫了很久都不敢敲开客户的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果你充满了自信，你也就会充满了干劲，你开始感觉到这些事情是我们可以完成的，是我们应该完成的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心态对人的影响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11280" y="1980720"/>
            <a:ext cx="792144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良好的心态影响个人、家庭、团队、组织，最后影响社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好的心态让你成功，坏的心态毁灭你自己。</a:t>
            </a:r>
            <a:br>
              <a:rPr sz="2600"/>
            </a:b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855800" cy="216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六、行动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行动是最有说服力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千百句美丽的雄辩胜不过真实的行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们需要用行动去证明自己的存在，证明自己的价值；我们需要用行动去真正的关怀我们的客户；我们需要用行动去完成我们的目标。如果一切计划、一切目标、一切愿景都是停留在纸上，不去付诸行动，那计划就不能执行，目标就不能实现，愿景就是肥皂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七、学习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干到老，学到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竞争在加剧，实力和能力的打拼将越加激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谁不去学习，谁就不能提高，谁就不会去创新，谁的武器就会落后。同事是老师；上级是老师；客户是老师；竞争对手是老师。学习不但是一种心态，更应该是我们的一种生活方式。二十一世纪，谁会学习，谁就会成功，学习成为了自己的竞争力，也成为了企业的竞争力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八、老板的心态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象老板一样思考，象老板一样行动。你具备了老板的心态，你就会去考虑企业的成长，考虑企业的费用，你会感觉到企业的事情就是自己的事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你知道什么是自己应该去作的，什么是自己不应该作的。反之，你就会得过且过，不付责任，认为自己永远是打工者，企业的命运与自己无关。</a:t>
            </a:r>
            <a:r>
              <a:rPr b="1" lang="zh-CN" sz="3000" spc="-1" strike="noStrike">
                <a:solidFill>
                  <a:srgbClr val="006633"/>
                </a:solidFill>
                <a:latin typeface="Arial"/>
              </a:rPr>
              <a:t>你不会得到老板的认同，不会得到重用，低级打工仔将是你永远的职业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6633"/>
                </a:solidFill>
                <a:latin typeface="Garamond"/>
                <a:ea typeface="黑体"/>
              </a:rPr>
              <a:t>九、全力以赴的心态</a:t>
            </a:r>
            <a:endParaRPr b="0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一个猎人带着猎狗去打猎，这时从草丛里跑出一只兔子，猎人举枪射击，兔子被打伤后仓皇逃窜。猎人于是命令猎狗把兔子追回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过了一会猎狗回来了，尽管它已经尽力了，可并没有抓住兔子。猎人生气地说：“你怎么连一只受伤的兔子都不如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那只兔子逃回去后，其他兔子好奇地问：“你都受伤了，是怎么逃回来的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受伤的兔子说：“那只猎狗只是为了完成主人的命令在尽力而为，而我则是为了活命在全力以赴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738036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395280" y="5192640"/>
            <a:ext cx="1297080" cy="97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十、合作的心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09480" y="1744200"/>
            <a:ext cx="8066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在注重的是团队精神要有狼性合作精神，我们要学习狼的合作精神，狼的伟大在于团队合作精神，一个中国人是条虫，十个中国是条龙，更何况每个人都有自己的长处，欣赏一个人就是欣赏一个人的长处，特别是企业的管理者更要注重合作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西游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》中的唐僧师徒四人就是一个很好的合作团队。从一个角度来看，对手又是帮助你更清楚地了解自己弱点在哪里的贵人，感谢对手就是力量，感谢对手就是财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</a:rPr>
              <a:t>十一、创新的心态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1532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信这个世界上唯一不变的就是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着通，痛则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别在竞争激烈的今天。要时刻站在时代的前沿。在快节奏的今天就是工作再忙也要看新闻，看广告，看法制等能反映社会、反映市场情况的节目。当然这也是个人习惯和爱好不同，我想说的是不要让自己和社会脱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跟着好人学好人，跟着巫婆学装神，要成功就要跟成功者在一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十二、感恩的心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我们是一群不具备独立成功的人，我们之所以能成功，是因为公司给我们提供了一个千载难逢的机会，我们要感恩于公司。还要感恩于介绍你加入这个事业中的人，是他使您拥有了自己的事业，他是您一生的贵人。人人知情，人人感恩，营销环境才会其乐融融。奋斗中才会有快乐，成功时更是其乐无穷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  要多讲感恩的话：我们所有感恩之情不要只藏在心里，要经常在不同的场合将这种感激之情公开说出来。在聚会中，别忘多讲感谢的话，要形成一个良好的习惯，在团队中复制下去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  多做感恩的事：心存感激更重要的是要在许多事情上体现出来。感谢父母就要多关心他们，努力奋斗，早日成功，这是对父母最好的报答。感谢公司，在行动中响应公司的号召，遵从公司要求，自觉维护公司形象，将市场开拓和维护好。感激你的上级，就要虚心向他学习，努力配合他的工作，并不断提高业务技能争取早日独立。感谢其他团队就要积极同他们合作，在他们需要的时候尽心尽力的去做自己该做的事。甚至感谢那些讥笑我们，打击我们的人，因为他们让我们更加坚定了要在事业中成功的决心。越是感恩，你得到的会越多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2700360" y="173520"/>
            <a:ext cx="6265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来自偶然像一颗尘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谁看出我的脆弱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来自何方我情归何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谁在下一刻呼唤我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地虽宽这条路却难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看遍这人间坎坷辛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还有多少爱我还有多少泪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苍天知道我不认输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恩的心感谢有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伴我一生让我有勇气作我自己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恩的心感谢命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开花落我一样会珍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7250040" y="2010600"/>
            <a:ext cx="1067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9494" fill="hold"/>
                                        <p:tgtEl>
                                          <p:spTgt spid="9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6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800" spc="-1" strike="noStrike">
                <a:solidFill>
                  <a:srgbClr val="cc0000"/>
                </a:solidFill>
                <a:latin typeface="Times New Roman"/>
              </a:rPr>
              <a:t>谢谢大家</a:t>
            </a:r>
            <a:endParaRPr b="1" lang="en-US" sz="1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3597120" cy="341316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3954600" cy="57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9930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九个人过桥的试验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16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教授说：你们九个人听我的指挥，从这里走过独木桥对面，千万别掉下去，不过掉下去也没关系，底下就是一点水。</a:t>
            </a:r>
            <a:r>
              <a:rPr b="1" lang="zh-CN" sz="1900" spc="-1" strike="noStrike">
                <a:solidFill>
                  <a:srgbClr val="cc0000"/>
                </a:solidFill>
                <a:latin typeface="Arial"/>
              </a:rPr>
              <a:t>——大家顺利过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走过去后，教授打开了一盏黄灯，透过黄灯九个人看到，桥底下不仅仅是一点水，而且还有几条在蠕动的鳄鱼。 </a:t>
            </a:r>
            <a:r>
              <a:rPr b="1" lang="zh-CN" sz="1900" spc="-1" strike="noStrike">
                <a:solidFill>
                  <a:srgbClr val="cc0000"/>
                </a:solidFill>
                <a:latin typeface="Arial"/>
              </a:rPr>
              <a:t>——大家吓了一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教授问：现在你们谁敢走回来？</a:t>
            </a:r>
            <a:r>
              <a:rPr b="1" lang="zh-CN" sz="1900" spc="-1" strike="noStrike">
                <a:solidFill>
                  <a:srgbClr val="cc0000"/>
                </a:solidFill>
                <a:latin typeface="Arial"/>
              </a:rPr>
              <a:t>——没有人敢走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教授说：你们要用心理暗示，想象自己走在坚固的铁桥上。</a:t>
            </a:r>
            <a:r>
              <a:rPr b="1" lang="zh-CN" sz="1900" spc="-1" strike="noStrike">
                <a:solidFill>
                  <a:srgbClr val="cc0000"/>
                </a:solidFill>
                <a:latin typeface="Arial"/>
              </a:rPr>
              <a:t>——只有三个人敢尝试过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</a:rPr>
              <a:t>愿意尝试：第一个人颤颤巍巍，走的时间多花了一倍；第二个人哆哆嗦嗦，走了一半再也坚持不住了，吓得趴在桥上；第三个人才走了三步就吓爬下了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4788000" y="18720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539640" y="2924280"/>
            <a:ext cx="83059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教授这时打开了所有的灯，大家这才发现，在桥和鳄鱼之间还有一层网，网是黄色的，刚才在黄灯下看不清楚。大家现在不怕了，说要知道有网我们早就过去了，几个人哗啦哗啦都走过来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只有一个人不敢走，教授问他，你怎么回事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这个人说，我担心网不结实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01600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这个试验揭示的原理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-468360" y="333000"/>
            <a:ext cx="7561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800" spc="-1" strike="noStrike">
                <a:solidFill>
                  <a:srgbClr val="000000"/>
                </a:solidFill>
                <a:latin typeface="Arial"/>
              </a:rPr>
              <a:t>心态影响能力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1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E01616_" descr=""/>
          <p:cNvPicPr/>
          <p:nvPr/>
        </p:nvPicPr>
        <p:blipFill>
          <a:blip r:embed="rId1"/>
          <a:stretch/>
        </p:blipFill>
        <p:spPr>
          <a:xfrm>
            <a:off x="5435640" y="3429000"/>
            <a:ext cx="327672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57456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心态影响人的能力，能力影响人的命运 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34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古时候有甲、乙两个秀才去赶考，路上遇到了一口棺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甲说，真倒霉，碰上了棺材，这次考试死定了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乙说，棺材，升官发财，看来我的运气来了，这次一定能考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当他们答题的时候，两人的努力程度就不一样，结果乙考上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回家以后他们都跟自己的夫人说，哪口棺材可真灵啊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9900"/>
                </a:solidFill>
                <a:latin typeface="Garamond"/>
              </a:rPr>
              <a:t>人有九类基本情绪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05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                        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兴趣、愉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                             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惊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</a:rPr>
              <a:t>悲伤、厌恶、愤怒、恐惧、轻蔑、羞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81" name=""/>
          <p:cNvGrpSpPr/>
          <p:nvPr/>
        </p:nvGrpSpPr>
        <p:grpSpPr>
          <a:xfrm>
            <a:off x="1476360" y="4508640"/>
            <a:ext cx="6039000" cy="1224000"/>
            <a:chOff x="1476360" y="4508640"/>
            <a:chExt cx="6039000" cy="1224000"/>
          </a:xfrm>
        </p:grpSpPr>
        <p:pic>
          <p:nvPicPr>
            <p:cNvPr id="882" name="" descr=""/>
            <p:cNvPicPr/>
            <p:nvPr/>
          </p:nvPicPr>
          <p:blipFill>
            <a:blip r:embed="rId3"/>
            <a:stretch/>
          </p:blipFill>
          <p:spPr>
            <a:xfrm>
              <a:off x="4068720" y="450864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4"/>
            <a:stretch/>
          </p:blipFill>
          <p:spPr>
            <a:xfrm>
              <a:off x="6296040" y="4513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5"/>
            <a:stretch/>
          </p:blipFill>
          <p:spPr>
            <a:xfrm>
              <a:off x="1476360" y="450864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7:05:12Z</dcterms:created>
  <dc:creator>YlmF</dc:creator>
  <dc:description/>
  <dc:language>en-US</dc:language>
  <cp:lastModifiedBy>微软用户</cp:lastModifiedBy>
  <dcterms:modified xsi:type="dcterms:W3CDTF">2007-10-25T00:33:39Z</dcterms:modified>
  <cp:revision>16</cp:revision>
  <dc:subject/>
  <dc:title>塑造阳光心态</dc:title>
</cp:coreProperties>
</file>