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4.jpeg" ContentType="image/jpeg"/>
  <Override PartName="/ppt/media/image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4.gif" ContentType="image/gi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F1F4-AB71-488B-8702-BFEB8EE529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AA82-7657-4FCD-9664-0B81E62F472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46C5-0503-4C04-83F0-2B958E0A1D83}" type="slidenum">
              <a:rPr b="0" lang="zh-CN" sz="1200" spc="-1" strike="noStrike">
                <a:solidFill>
                  <a:srgbClr val="dde8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939-C364-4092-98AB-45880FCC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5B95-6905-4CF4-9A7E-CF31341F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ADE-3D74-4231-9BF6-45ED39BB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6034-19B0-4BEC-90BE-ECD04698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8C2-F5D3-4B07-8FAE-0C19E549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6B75-D6C9-42F1-B6B8-D785219F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6D9E-FC05-4F1B-83A3-73BDE7A9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A54-7AA4-4091-85BD-B104587C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D3E-E60A-4B95-81B9-DE54EA9E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A4D-97BF-4F9A-B8F7-D41F66BA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B02-8675-410A-ACD2-32A4DA06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6B6E-A142-436D-9833-258A3DCD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90880" cy="53244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>
              <a:gd name="textAreaLeft" fmla="*/ 0 w 8970840"/>
              <a:gd name="textAreaRight" fmla="*/ 8971200 w 89708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>
              <a:gd name="textAreaLeft" fmla="*/ 0 w 8975520"/>
              <a:gd name="textAreaRight" fmla="*/ 8975880 w 8975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>
              <a:gd name="textAreaLeft" fmla="*/ 0 w 8956440"/>
              <a:gd name="textAreaRight" fmla="*/ 8956800 w 895644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938520"/>
              <a:gd name="textAreaBottom" fmla="*/ 938880 h 93852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6B6C-1C4F-4271-95F6-5C755EB82E1A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3D1E-B905-4D09-8236-B116FB765C4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Text Box 37"/>
          <p:cNvSpPr/>
          <p:nvPr/>
        </p:nvSpPr>
        <p:spPr>
          <a:xfrm>
            <a:off x="144360" y="6443640"/>
            <a:ext cx="1843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" name="Rectangle 30"/>
          <p:cNvSpPr/>
          <p:nvPr/>
        </p:nvSpPr>
        <p:spPr>
          <a:xfrm>
            <a:off x="8245440" y="415800"/>
            <a:ext cx="534960" cy="546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" name="Rectangle 31"/>
          <p:cNvSpPr/>
          <p:nvPr/>
        </p:nvSpPr>
        <p:spPr>
          <a:xfrm>
            <a:off x="7620120" y="415800"/>
            <a:ext cx="534960" cy="546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" name="Rectangle 36"/>
          <p:cNvSpPr/>
          <p:nvPr/>
        </p:nvSpPr>
        <p:spPr>
          <a:xfrm>
            <a:off x="7000920" y="415800"/>
            <a:ext cx="534960" cy="54612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3434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B88B9-85E8-43B1-BA12-B4AE9CB86F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2005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6"/>
          <p:cNvGrpSpPr/>
          <p:nvPr/>
        </p:nvGrpSpPr>
        <p:grpSpPr>
          <a:xfrm>
            <a:off x="-6480" y="1166760"/>
            <a:ext cx="9159480" cy="5444640"/>
            <a:chOff x="-6480" y="1166760"/>
            <a:chExt cx="9159480" cy="5444640"/>
          </a:xfrm>
        </p:grpSpPr>
        <p:pic>
          <p:nvPicPr>
            <p:cNvPr id="100" name="单圆角矩形 2" descr=""/>
            <p:cNvPicPr/>
            <p:nvPr/>
          </p:nvPicPr>
          <p:blipFill>
            <a:blip r:embed="rId1"/>
            <a:stretch/>
          </p:blipFill>
          <p:spPr>
            <a:xfrm>
              <a:off x="-6480" y="1166760"/>
              <a:ext cx="9159480" cy="54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单圆角矩形 3" descr=""/>
            <p:cNvPicPr/>
            <p:nvPr/>
          </p:nvPicPr>
          <p:blipFill>
            <a:blip r:embed="rId2">
              <a:lum bright="42000"/>
            </a:blip>
            <a:stretch/>
          </p:blipFill>
          <p:spPr>
            <a:xfrm>
              <a:off x="111240" y="1301040"/>
              <a:ext cx="8872560" cy="521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Text Box 9"/>
          <p:cNvSpPr/>
          <p:nvPr/>
        </p:nvSpPr>
        <p:spPr>
          <a:xfrm>
            <a:off x="395280" y="184464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大家齐声朗读第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节，进一步思考作者对雨寄托了怎样的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思想感情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表达了怎样的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人生态度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r>
              <a:rPr b="0" lang="zh-CN" sz="2800" spc="-1" strike="noStrike">
                <a:solidFill>
                  <a:srgbClr val="dde89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755640" y="4797360"/>
            <a:ext cx="720720" cy="720720"/>
          </a:xfrm>
          <a:prstGeom prst="smileyFace">
            <a:avLst>
              <a:gd name="adj" fmla="val 9282"/>
            </a:avLst>
          </a:prstGeom>
          <a:solidFill>
            <a:srgbClr val="80cb35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1547640" y="450864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托了作者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雨的喜欢与爱恋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达了作者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大自然与生命的热爱。 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250920" y="260280"/>
            <a:ext cx="5400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提炼主旨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·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体会感情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698FB-3725-4F26-BD97-BB2C69F3D3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6"/>
          <p:cNvGrpSpPr/>
          <p:nvPr/>
        </p:nvGrpSpPr>
        <p:grpSpPr>
          <a:xfrm>
            <a:off x="0" y="1197000"/>
            <a:ext cx="9159480" cy="5444640"/>
            <a:chOff x="0" y="1197000"/>
            <a:chExt cx="9159480" cy="5444640"/>
          </a:xfrm>
        </p:grpSpPr>
        <p:pic>
          <p:nvPicPr>
            <p:cNvPr id="107" name="单圆角矩形 2" descr=""/>
            <p:cNvPicPr/>
            <p:nvPr/>
          </p:nvPicPr>
          <p:blipFill>
            <a:blip r:embed="rId1"/>
            <a:stretch/>
          </p:blipFill>
          <p:spPr>
            <a:xfrm>
              <a:off x="0" y="1197000"/>
              <a:ext cx="9159480" cy="54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单圆角矩形 3" descr=""/>
            <p:cNvPicPr/>
            <p:nvPr/>
          </p:nvPicPr>
          <p:blipFill>
            <a:blip r:embed="rId2">
              <a:lum bright="42000"/>
            </a:blip>
            <a:stretch/>
          </p:blipFill>
          <p:spPr>
            <a:xfrm>
              <a:off x="117720" y="1331280"/>
              <a:ext cx="8872560" cy="521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Text Box 9"/>
          <p:cNvSpPr/>
          <p:nvPr/>
        </p:nvSpPr>
        <p:spPr>
          <a:xfrm>
            <a:off x="395280" y="1773360"/>
            <a:ext cx="8424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作者为什么把文题写成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“雨的四季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而不是“四季的雨”？</a:t>
            </a:r>
            <a:endParaRPr b="0" lang="en-US" sz="4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971640" y="3933720"/>
            <a:ext cx="720720" cy="720720"/>
          </a:xfrm>
          <a:prstGeom prst="smileyFace">
            <a:avLst>
              <a:gd name="adj" fmla="val 9282"/>
            </a:avLst>
          </a:prstGeom>
          <a:solidFill>
            <a:srgbClr val="80cb35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908000" y="3573360"/>
            <a:ext cx="6985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者：呆板、生硬；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前者：灵动，赋予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人格       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化，充满情趣和意境。 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50920" y="260280"/>
            <a:ext cx="5400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提炼主旨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·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回归题意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2FF43-36F1-42CE-8665-DB08C0B901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6" descr="3.p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22480" y="558720"/>
            <a:ext cx="183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2920" y="0"/>
            <a:ext cx="5141880" cy="2963880"/>
          </a:xfrm>
          <a:prstGeom prst="irregularSeal1">
            <a:avLst/>
          </a:prstGeom>
          <a:solidFill>
            <a:srgbClr val="fff6d1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97000" y="779400"/>
            <a:ext cx="34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</a:rPr>
              <a:t>作者：刘湛秋</a:t>
            </a:r>
            <a:endParaRPr b="0" lang="en-US" sz="4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115160"/>
            <a:ext cx="728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刘湛秋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安徽芜湖人，当代著名诗人，翻译家，评论家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其作品清新空灵，富有现代意识，手法新颖洒脱，立足表现感觉与情绪，既面对生活，又超越时空。早在八十年代中期，他就被一代大学生誉为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“抒情诗之王。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他结集出版有诗歌、散文、评论、翻译、小说等三十余种，其诗集《无题抒情诗》获过中国新诗奖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2133720" cy="274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56198-B6B6-4ECC-AC97-D57B8D31EEDF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724280" cy="68580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85e25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没体验过那么柔软的阳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没体验过那么柔软的阳光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像飘落的羽毛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像一阵爱的抚摸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秋天，异样的恬静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苹果神秘地挂上白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  </a:t>
            </a: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没体验过那么柔软的阳光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像一只解缆的船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像滚动的绒线球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西风扬起蓝透了的云帆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枫叶在偷偷地把你张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  </a:t>
            </a: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也许追求比秋天更多寥阔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也许幸福会不期而降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大自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  </a:t>
            </a: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你的美每搅动一次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心灵便有一千种和谐的音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A047D-3095-41C7-B1A6-D683A4A4F8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437840"/>
            <a:ext cx="8229600" cy="18334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9a2a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刘湛秋的散文有一种田园美，他的文字自然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亲切、优美，一事一物、一草一木、一色一声，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都能轻松道来，吸引着你跟着他的行文一走到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762120"/>
            <a:ext cx="1676520" cy="52056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教师小结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D1B7B-0604-4F97-B336-361CE9D246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融情于景的写法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本文作者描绘了四季的雨，但他单纯是为了写雨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何才能做到融情于景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明确：《雨的四季》将雨人格化，使雨变得鲜活。同时这也是一段历程，一段经历了春夏秋冬而逐渐丰盈完满的生命历程。因此，可以说，作者热爱四季的雨，更是热爱四季的生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融情于景”者，明写景，即字面都是写景之语；但是，必须暗含情，即“一切景语皆情语”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6A1B8-1E8E-4F26-B5C4-3E6DCB808A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黑体"/>
              </a:rPr>
              <a:t>小结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大自然中的风雨雷电、山水湖泊、花鸟虫鱼，一点一滴，奏出美妙的旋律，只有细心观察、聆听、感悟、思考，才能了解其中的深意，领悟其中美的真谛。让我们做生活的有心人，努力捕捉身边平凡而真实的美丽，用心灵之笔谱写出真情的华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BB12C-0850-482A-A127-25F2EC8CDA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02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拓展训练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-6480" y="1166760"/>
            <a:ext cx="9159480" cy="5444640"/>
            <a:chOff x="-6480" y="1166760"/>
            <a:chExt cx="9159480" cy="5444640"/>
          </a:xfrm>
        </p:grpSpPr>
        <p:pic>
          <p:nvPicPr>
            <p:cNvPr id="130" name="单圆角矩形 2" descr=""/>
            <p:cNvPicPr/>
            <p:nvPr/>
          </p:nvPicPr>
          <p:blipFill>
            <a:blip r:embed="rId1"/>
            <a:stretch/>
          </p:blipFill>
          <p:spPr>
            <a:xfrm>
              <a:off x="-6480" y="1166760"/>
              <a:ext cx="9159480" cy="54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单圆角矩形 3" descr=""/>
            <p:cNvPicPr/>
            <p:nvPr/>
          </p:nvPicPr>
          <p:blipFill>
            <a:blip r:embed="rId2">
              <a:lum bright="42000"/>
            </a:blip>
            <a:stretch/>
          </p:blipFill>
          <p:spPr>
            <a:xfrm>
              <a:off x="111240" y="1301040"/>
              <a:ext cx="8872560" cy="521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Text Box 6"/>
          <p:cNvSpPr/>
          <p:nvPr/>
        </p:nvSpPr>
        <p:spPr>
          <a:xfrm>
            <a:off x="2556000" y="1197000"/>
            <a:ext cx="6372000" cy="56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雨中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题，写一段文字，百字左右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境创设：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考试失利时；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被表扬后；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和朋友产生了误会；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想起了远方的老家；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清明节祭扫亲人的情景；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33" name="Picture 12" descr="u=988949587,403735889&amp;fm=51&amp;gp=0"/>
          <p:cNvPicPr/>
          <p:nvPr/>
        </p:nvPicPr>
        <p:blipFill>
          <a:blip r:embed="rId3"/>
          <a:stretch/>
        </p:blipFill>
        <p:spPr>
          <a:xfrm>
            <a:off x="395280" y="1628640"/>
            <a:ext cx="2232000" cy="446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5F405-1522-41F5-A99A-7BF7676E0B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在飞花轻似梦，无边丝雨细如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秦观《浣溪沙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漠漠轻寒上小楼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空山新雨后，天气晚来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王维《山居秋暝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小楼一夜听春雨，深巷明朝卖杏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陆游《临安春雨初霁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君问归期未有期，巴山夜雨涨秋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李商隐《夜雨寄北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春潮带雨晚来急，野渡无人舟自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韦应物《滁州西涧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21040" y="304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齐诵</a:t>
            </a:r>
            <a:endParaRPr b="0" lang="en-US" sz="4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07F02-9336-456D-A602-08076AE203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cb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cb35"/>
                </a:solidFill>
                <a:latin typeface="Arial"/>
              </a:rPr>
              <a:t>雨是古代诗人的钟爱之物，他们以雨来寄托内心的喜怒哀乐，雨同样也受到现代作家的青睐。今天我们一起阅读刘湛秋的散文——《雨的四季》，共同感受四季不一样的雨之美、情之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162920" y="51814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7914C-FCC3-4D31-91A2-4E42EA8536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63598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勾画关键句子，感受不同季节的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提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全班分为四组：春雨、夏雨、秋雨、冬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出最能体现出四季之雨的特点的句子，并用一两个词语概括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交流、讨论后，每组由代表发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B8413-A215-4AB9-A2A3-2B7DD52046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雨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珠子从花苞里滴下来，比少女的眼泪还娇媚。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（生机、妩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夏雨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夏天的雨也有夏天的性格，热烈而又粗犷。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（热烈、粗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秋雨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雨，似乎也像出嫁生了孩子的母亲，显得端庄而又沉静了。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（端庄、沉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冬雨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既不倾盆瓢泼，又不绵绵如丝，或淅淅沥沥，它显出一种自然、平静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（自然、平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0FC1F-3360-4862-A247-82127207B2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鉴赏语言之精美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你最喜欢的句子是什么？请试着在书上做些批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、示范如何品析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一棵树仿佛都睁开特别明亮的眼睛，树枝的手臂也顿时柔软了，而那萌发的叶子，简直就像起伏着一层绿茵茵的波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提示：从拟人、比喻的修辞入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明确：运用拟人、比喻，赋予了树以人的神态和动作，把萌发的叶子比作绿茵茵的波浪，生动形象地描绘了一幅生机勃勃的景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67C6E-C10A-4B98-9D22-A89904EABB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珠子从花苞里滴下来，比少女的眼泪还娇媚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Arial"/>
              </a:rPr>
              <a:t>（提示：从对比的表现手法入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确：将春雨的水珠与少女的眼泪对比，渲染出春雨的无比娇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2579D-6F99-4B23-94E2-3414E71934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每一位同学选择一个美句进行品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黑体"/>
              </a:rPr>
              <a:t>提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可从如下几个角度去分析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修辞。先说运用了什么修辞手法，再说这种修辞手法的作用或好处，然后结合句子内容去分析。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抓关键词语去分析。比如一些重点的动词、形容词等。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从语言特点上去分析，语言生动形象，清新流畅等。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表达方式。可从运用了什么表达方式点明文章的什么主题角度去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6991F-9E5A-4DBA-8F6D-2EC312C6F2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19"/>
          <p:cNvGrpSpPr/>
          <p:nvPr/>
        </p:nvGrpSpPr>
        <p:grpSpPr>
          <a:xfrm>
            <a:off x="-6480" y="1166760"/>
            <a:ext cx="9159480" cy="5444640"/>
            <a:chOff x="-6480" y="1166760"/>
            <a:chExt cx="9159480" cy="5444640"/>
          </a:xfrm>
        </p:grpSpPr>
        <p:pic>
          <p:nvPicPr>
            <p:cNvPr id="93" name="单圆角矩形 2" descr=""/>
            <p:cNvPicPr/>
            <p:nvPr/>
          </p:nvPicPr>
          <p:blipFill>
            <a:blip r:embed="rId1"/>
            <a:stretch/>
          </p:blipFill>
          <p:spPr>
            <a:xfrm>
              <a:off x="-6480" y="1166760"/>
              <a:ext cx="9159480" cy="54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单圆角矩形 3" descr=""/>
            <p:cNvPicPr/>
            <p:nvPr/>
          </p:nvPicPr>
          <p:blipFill>
            <a:blip r:embed="rId2">
              <a:lum bright="42000"/>
            </a:blip>
            <a:stretch/>
          </p:blipFill>
          <p:spPr>
            <a:xfrm>
              <a:off x="111240" y="1301040"/>
              <a:ext cx="8872560" cy="521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Text Box 18"/>
          <p:cNvSpPr/>
          <p:nvPr/>
        </p:nvSpPr>
        <p:spPr>
          <a:xfrm>
            <a:off x="324000" y="907920"/>
            <a:ext cx="8569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盼望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雨，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渴望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雨，那秋雨和冬雨呢？请同学们默读课文的第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节，静静地思考，在人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忘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秋雨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讨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冬雨的时候，作者为什么还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喜欢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秋雨和冬雨呢？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96" name="Picture 9" descr="20101020134952001"/>
          <p:cNvPicPr/>
          <p:nvPr/>
        </p:nvPicPr>
        <p:blipFill>
          <a:blip r:embed="rId3"/>
          <a:stretch/>
        </p:blipFill>
        <p:spPr>
          <a:xfrm>
            <a:off x="395280" y="4437000"/>
            <a:ext cx="4105440" cy="1687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20101210_111509c7f346"/>
          <p:cNvPicPr/>
          <p:nvPr/>
        </p:nvPicPr>
        <p:blipFill>
          <a:blip r:embed="rId4"/>
          <a:stretch/>
        </p:blipFill>
        <p:spPr>
          <a:xfrm>
            <a:off x="4500720" y="4437000"/>
            <a:ext cx="4248000" cy="17114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60280"/>
            <a:ext cx="48830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研读文章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·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思</a:t>
            </a: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DB73A-0FC9-4299-A366-55B6B64108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9T12:17:15Z</dcterms:created>
  <dc:creator>Administrator</dc:creator>
  <dc:description/>
  <dc:language>en-US</dc:language>
  <cp:lastModifiedBy>User</cp:lastModifiedBy>
  <dcterms:modified xsi:type="dcterms:W3CDTF">2016-09-10T23:22:5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