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380-69D3-42D0-935B-65B958E5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A8E-0140-4AA9-A281-D059116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93E-992C-4B52-9F88-4C3F7CC6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957-3ACD-4DC2-87ED-AA244356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5B1-9A59-402D-9A66-1CD294FA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107-F168-4F3C-B464-8290E06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1EF-301A-47F9-B921-384D4093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A49-7DD6-4A45-AE84-EEE752B1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636-251E-4556-BF1C-852985D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A5F-B854-4885-AD77-EF8AF3A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8B1-F0EC-4D05-9889-585D5FD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9C8-FB9E-48A5-999A-E5CCF35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3730-A4D2-41EA-B29F-7A7C5C3DC5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24720" cy="525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0360" y="1916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渔歌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739440" cy="60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52080" y="6546960"/>
            <a:ext cx="28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2906640" cy="405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465300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仿佛听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还闻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9640" y="981000"/>
            <a:ext cx="5257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63920" y="1052640"/>
            <a:ext cx="34722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92000" y="21337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箬笠，绿蓑衣，斜风细雨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箬笠，绿蓑衣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雨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84200" y="285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989000"/>
            <a:ext cx="779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箬笠，绿蓑衣，斜风细雨不须归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算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我也不须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40960" y="1052640"/>
            <a:ext cx="429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不须归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580000" y="119700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1341360"/>
            <a:ext cx="601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张志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067280" y="6305400"/>
            <a:ext cx="43344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7134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557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张志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唐代的诗人，画家，精通音律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岁中了举人，曾写折子给皇帝，写的是治国良方，后来因事被贬官，看透了官场的黑暗险恶，从此再也不做官，隐居在太湖一带，扁舟垂钓，自称“烟波钓徒”，并作了《渔歌子》五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8000" y="260280"/>
            <a:ext cx="662472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江蟹舍主人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ɡū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饮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ú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亦共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枫叶落，荻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花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醉宿渔舟不觉寒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36572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松江：吴松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蟹舍：形容主人居住之处很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菰饮莼羹：形容饭食非常简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枫叶落，荻花干：枫叶飘零，荻花枯萎，说明凉风袭人的秋季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觉寒：不觉得寒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60640"/>
            <a:ext cx="8893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哪怕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_______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哪怕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我也不须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9400" y="765000"/>
            <a:ext cx="622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江蟹舍主人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ɡū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饮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ú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亦共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枫叶落，荻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花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醉宿渔舟不觉寒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263920" y="1052640"/>
            <a:ext cx="34722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0" y="1143000"/>
            <a:ext cx="561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答弟志和渔父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乐是风波钓是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堂松径已胜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太湖水，洞庭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狂风浪起且须还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24720" cy="525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00720" y="333360"/>
            <a:ext cx="561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答弟志和渔父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乐是风波钓是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堂松径已胜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太湖水，洞庭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狂风浪起且须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404640"/>
            <a:ext cx="601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63920" y="1052640"/>
            <a:ext cx="34722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24720" cy="525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3360" y="1916280"/>
            <a:ext cx="458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4520" y="333360"/>
            <a:ext cx="73702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渔歌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张志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br>
              <a:rPr sz="4400"/>
            </a:b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432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7134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5280" y="0"/>
            <a:ext cx="822960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渔歌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钓台渔父褐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qiú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两三三舴艋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è měng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舟。能纵棹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惯乘流，长江白浪不曾忧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渔歌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霅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溪湾里钓渔翁，舴艋为家西复东。江上雪，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风，笑著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u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荷衣不叹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渔歌子》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草湖中月正圆，巴陵渔父棹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歌连。钓车子，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船，乐在风波不用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424720" cy="56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56720" y="5923080"/>
            <a:ext cx="5238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134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90600"/>
            <a:ext cx="8893080" cy="6467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3360" y="1916280"/>
            <a:ext cx="458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60280"/>
            <a:ext cx="489600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】  张志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ài                    l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塞山前白鹭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流水鳜鱼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uò  lì              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箬笠，绿蓑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风细雨不须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300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要求：每人最少读三次，第一次，要读准字音；第二次读通句子；第三次读出词的韵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80000" y="119700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341360"/>
            <a:ext cx="601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张志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63920" y="1052640"/>
            <a:ext cx="34722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青箬笠，绿蓑衣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斜风细雨不须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38160" y="907920"/>
            <a:ext cx="23738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西塞山前白鹭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桃花流水鳜鱼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03640" cy="412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32000" y="4869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仿佛看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052640"/>
            <a:ext cx="5257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西塞山前白鹭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桃花流水鳜鱼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5400"/>
            <a:ext cx="4848120" cy="67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38160" y="907920"/>
            <a:ext cx="23738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西塞山前白鹭飞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桃花流水鳜鱼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356000" y="6423120"/>
            <a:ext cx="3510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7134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5:39:43Z</dcterms:created>
  <dc:creator>微软用户</dc:creator>
  <dc:description/>
  <dc:language>en-US</dc:language>
  <cp:lastModifiedBy>User</cp:lastModifiedBy>
  <dcterms:modified xsi:type="dcterms:W3CDTF">2015-01-09T12:38:24Z</dcterms:modified>
  <cp:revision>86</cp:revision>
  <dc:subject/>
  <dc:title>幻灯片 1</dc:title>
</cp:coreProperties>
</file>