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5DE-6620-4653-8020-E17D6902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F03-F67C-4E4B-A5D7-181BD65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2A6-DD0C-44E3-B285-CBFF043E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38F-954B-4175-943D-B512F885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1C9-13CA-4225-834C-6CF2ADB5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5EE-DC32-4A49-8B24-1F502A8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CE1-AEF3-4451-9E7D-44F38F87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A2B-DAD3-438A-A3A4-0058B27A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3B4-57DA-46AE-9490-B1E0C439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46C-073C-430D-AAD6-B47CF114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1C3-1FA4-41C4-9722-E6069B62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5F1-CB0F-43CE-82E5-9415211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0DFA-A883-4B34-9487-DBD79E4A4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216400">
            <a:off x="6059880" y="950040"/>
            <a:ext cx="2971800" cy="13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渔歌子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7962840" y="232416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唐 张志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052080" y="6546960"/>
            <a:ext cx="28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14600" y="685800"/>
            <a:ext cx="3276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景：   西塞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桃花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水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鳜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4572000" y="16002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4648320" y="2362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4724280" y="3048120"/>
            <a:ext cx="1067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5" action="ppaction://hlinksldjump"/>
          </p:cNvPr>
          <p:cNvSpPr/>
          <p:nvPr/>
        </p:nvSpPr>
        <p:spPr>
          <a:xfrm>
            <a:off x="6858000" y="48769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41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228600" y="5791320"/>
            <a:ext cx="2286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3" action="ppaction://hlinksldjump"/>
          </p:cNvPr>
          <p:cNvSpPr/>
          <p:nvPr/>
        </p:nvSpPr>
        <p:spPr>
          <a:xfrm>
            <a:off x="7620120" y="6324480"/>
            <a:ext cx="3045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502920"/>
            <a:ext cx="7620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竹外桃花三两枝，春江水暖鸭先知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洛阳城东桃李花，飞来飞去落谁家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桃花一簇开无主，可爱深红爱浅红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桃花复含宿雨，柳绿更带朝烟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雨中草色绿堪染，水上桃花红欲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6080040"/>
            <a:ext cx="857160" cy="77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305920" y="6324480"/>
            <a:ext cx="30456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8686800" y="6400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041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7080" y="8380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塞山前白鹭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箬笠，绿蓑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041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52680" y="17524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： 箬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蓑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5238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43040" y="609120"/>
            <a:ext cx="4343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词人张志和年少得志，十六岁那年中了举人，任命为待诏翰林，正当他少年春风，荣宠之际，却不慎因事得罪朝廷，被贬为南浦（今江西南昌西南）为尉官。虽然被贬时间不长，中途即量移他郡，不久又遇赦回到京城长安，但却在他心灵上留下一道深痕，他似乎看破官场，泯灭仕念。他干脆辞官不做，隐身于大自然，寄情于山水，以游赏为乐，以钓鱼为趣，过起了天大地大四处是我家的游历生活，以至常年不回家。张志和自号“烟波钓徒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040" y="762120"/>
            <a:ext cx="34081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990720"/>
            <a:ext cx="4876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塞山前白鹭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箬笠，绿蓑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066680"/>
            <a:ext cx="43434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答弟志和渔父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松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是风波钓是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草堂松径已胜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湖水，洞庭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狂风浪起且须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980720" y="3049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塞山前白鹭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箬笠，绿蓑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西塞山前白鹭飞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青箬笠，绿蓑衣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浣溪沙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塞山边白鹭飞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散花洲外片帆微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桃花流水鳜鱼肥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庇一身青篛笠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相随到处绿蓑衣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斜风细雨不须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3049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前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箬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uò  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980720" y="3049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前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流水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箬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细雨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371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uò  l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2971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1080" y="304920"/>
            <a:ext cx="4876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【唐】 张志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西塞山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鹭飞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桃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鳜鱼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青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箬笠，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蓑衣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斜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须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1447920"/>
            <a:ext cx="6629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塞山   白鹭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桃花      流水     鳜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箬笠      蓑衣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风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685800"/>
            <a:ext cx="3276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景：   西塞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桃花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水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鳜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685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： 箬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蓑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1-09T12:38:0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