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24C-04E9-41B0-834A-8EC2AFEA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400-6E1A-4598-B6B4-324F2CEB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81F-B69D-436B-839E-9A9FB595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EBE-C5D1-475F-9624-747A5174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9E2-0820-426F-A89F-8C8AD63D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4DE-285D-4561-9E8A-E9D375B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41E-D3A2-4B4B-9314-040BCBFB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D91-32BA-4F42-A342-7449308F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CD3-DE1D-4C76-8315-15F34BCE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94D-A500-4443-A5A3-9019D565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F57-465A-433F-8F00-D620F7EC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DDE-C223-425A-8388-21E70DB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5D5E-4E76-4F73-B9E4-07288BCCA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1125360"/>
            <a:ext cx="547056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渔 歌 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3141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唐  张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2080" y="6546960"/>
            <a:ext cx="28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——，不须归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63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志和 本名张龟龄， 从小才华过人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岁时中了举人，入朝为官，皇帝赐名“志和”，希望他心志平和。安史之乱尚未平息，国家处于动荡不安的纷乱之中时，张志和因事被贬，之后他干脆辞官归隐，隐居在太湖一带，整日扁舟垂钓，自称“烟波钓徒”。过着悠闲自得的渔家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唐书   张志和传》中这样记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志和居江湖，自称“烟波钓徒”。每垂钓，不设饵，志不在鱼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727360"/>
            <a:ext cx="9144000" cy="4130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59752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 人 哪 得 识 深 意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此 翁 取 适 非 取 鱼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 张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塞山前白鹭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流水鳜鱼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箬笠，绿蓑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风细雨不须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58760" y="333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0888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4537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　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宋 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西塞山边白鹭飞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散花洲外片帆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桃花流水鳜鱼肥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自庇一身青箬笠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相随到处绿蓑衣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斜风细雨不须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2053440"/>
            <a:ext cx="25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轼一生仕途坎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官期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关心人民疾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家动荡不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一次又一次的被贬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803680"/>
            <a:ext cx="9144000" cy="4054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 歌 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 张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 塞 山 前 白 鹭 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 花 流 水 鳜 鱼 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 箬 笠，  绿 蓑 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 风 细 雨 不 须 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897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 歌 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 张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 塞 山 前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白 鹭 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 花 流 水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鳜 鱼 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 箬 笠，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绿 蓑 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 风 细 雨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不 须 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232092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词中有画，画中有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36000" y="5661000"/>
            <a:ext cx="6490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88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97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词中有画，画中有词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61000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 张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 塞 山 前 白 鹭 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 花 流 水 鳜 鱼 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 箬 笠，  绿 蓑 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 风 细 雨 不 须 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3650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 歌 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6000" y="580536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888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254320"/>
            <a:ext cx="9144000" cy="4603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 张志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 塞 山 前 白 鹭 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 花 流 水 鳜 鱼 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 箬 笠 ， 绿 蓑 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 风 细 雨 不 须 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33336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10920" y="692280"/>
            <a:ext cx="4681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答弟志和渔父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124000" y="1628640"/>
            <a:ext cx="5616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唐 张松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乐 是 风 波 钓 是 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草 堂 松 径 已 胜 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太 湖 水， 洞 庭 山，狂 风 浪 起 且 须 还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答弟志和渔父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28640"/>
            <a:ext cx="41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张松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是风波钓是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草堂松径已胜攀。太湖水，洞庭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狂风浪起且须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45560" y="112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1773360"/>
            <a:ext cx="50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  张志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西塞山前白鹭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花流水鳜鱼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箬笠，绿蓑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斜风细雨不须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07:45:13Z</dcterms:created>
  <dc:creator>USER</dc:creator>
  <dc:description/>
  <dc:language>en-US</dc:language>
  <cp:lastModifiedBy>User</cp:lastModifiedBy>
  <dcterms:modified xsi:type="dcterms:W3CDTF">2015-01-09T12:38:30Z</dcterms:modified>
  <cp:revision>25</cp:revision>
  <dc:subject/>
  <dc:title>幻灯片 1</dc:title>
</cp:coreProperties>
</file>