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0D43-621E-428C-B264-B3ECA551F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7A06-A0F3-4322-80C8-DABCFC30D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7298-2502-4913-AD35-21DB3D83B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039B-84B9-4179-94FA-5CD15FB1C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30DC-BE4B-4010-8ABF-97CBAD65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1F2C-92A6-4658-9332-5D5F5B1AF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DF6C-C7B5-40CD-92A6-9504DF611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2DDE-258D-448E-A4CF-52B385C65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9DB5-7CE6-4B26-BC2F-B6528FC49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C9B3-0FD0-488D-8CC9-FB8CB0D32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8C25-0245-42A2-B3AA-AEB645FE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206D-200B-460C-87EA-18E8EF0F0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FD71-4306-4EC6-B607-FB1EB1CC7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8631-FD78-4987-9BF5-69E4B291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15AB-FCDB-4457-9BAC-1F7C4D901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FC34-ACA9-4AB2-8504-F448D7DD1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BBA8-5F7B-4992-BC01-0B0E279B3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3DEF-EC7D-4F20-84E3-F51E3045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背景29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3"/>
          <p:cNvSpPr/>
          <p:nvPr/>
        </p:nvSpPr>
        <p:spPr>
          <a:xfrm>
            <a:off x="7143840" y="5000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助修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ttp://5mei8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12"/>
          <p:cNvSpPr txBox="1"/>
          <p:nvPr/>
        </p:nvSpPr>
        <p:spPr>
          <a:xfrm>
            <a:off x="2514600" y="2209680"/>
            <a:ext cx="4572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渔歌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990720" y="1371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请同学们看课文插图，描绘这首词所描写的景物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057400" y="2971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这是一幅垂钓的画面，白色的鹭和红色的桃花点缀其间，色彩本来极其鲜明，而由于斜风细雨的笼罩，却又呈现出迷迷蒙蒙的意境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535040" y="106596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句赏析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971800" y="327672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西塞山前”点明地点，“白鹭”是闲适的象征，写白鹭自在地飞翔，衬托渔父的悠闲自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43000" y="22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西塞山前白鹭飞，桃花流水鳜鱼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1535040" y="106596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句赏析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00400" y="3276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桃花流水鳜鱼肥”意思是说：桃花盛开，江水猛涨，这时节鳜鱼长得正肥。这里桃红与水绿相映，是表现暮春西塞山前的湖光山色，渲染渔父的生活环境。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143000" y="22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西塞山前白鹭飞，桃花流水鳜鱼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276720" y="358128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描写了渔父捕鱼的情态。渔父戴青箬笠，穿绿蓑衣，在斜风细雨中乐而忘归。“斜风”指微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535040" y="106596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句赏析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143000" y="2406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青箬笠，绿蓑衣，斜风细雨不须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849920"/>
            <a:ext cx="1981080" cy="1465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752480" y="1981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此词在秀丽的水乡风光和理想化的渔人生活中，寄托了作者爱自由、爱自然的情怀。词中更吸引我们的不是一蓑风雨，从容自适的渔父，而是江乡二月桃花盛开期间春江水涨、烟雨迷蒙的图景。雨中青山，江上渔舟，天空白鹭，两岸红桃，色泽鲜明但又显得柔和，气氛宁静但又充满活力。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433520" y="1278720"/>
            <a:ext cx="17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赏析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295280" y="16002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请同学们有感情地齐读这首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200400" y="2546280"/>
            <a:ext cx="5486400" cy="3780720"/>
            <a:chOff x="3200400" y="2546280"/>
            <a:chExt cx="5486400" cy="3780720"/>
          </a:xfrm>
        </p:grpSpPr>
        <p:sp>
          <p:nvSpPr>
            <p:cNvPr id="98" name="Text Box 7"/>
            <p:cNvSpPr/>
            <p:nvPr/>
          </p:nvSpPr>
          <p:spPr>
            <a:xfrm>
              <a:off x="3200400" y="3308400"/>
              <a:ext cx="54864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西塞山前白鹭飞，</a:t>
              </a:r>
              <a:br>
                <a:rPr sz="3200"/>
              </a:b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桃花流水鳜鱼肥。</a:t>
              </a:r>
              <a:br>
                <a:rPr sz="3200"/>
              </a:b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青箬笠，</a:t>
              </a:r>
              <a:br>
                <a:rPr sz="3200"/>
              </a:b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绿蓑衣，</a:t>
              </a:r>
              <a:br>
                <a:rPr sz="3200"/>
              </a:b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斜风细雨不须归。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886200" y="254628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渔歌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1535040" y="150732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布置作业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981080" y="26668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背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歌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981080" y="34290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动手给这首词配上一幅彩色画来向人们展示江南的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WordArt 4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353120" cy="14083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3"/>
          <p:cNvSpPr/>
          <p:nvPr/>
        </p:nvSpPr>
        <p:spPr>
          <a:xfrm>
            <a:off x="3200400" y="254628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西塞山前白鹭飞，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桃花流水鳜鱼肥。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青箬笠，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绿蓑衣，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斜风细雨不须归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3886200" y="1784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渔歌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066680" y="19177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渔歌子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又名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渔父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渔父乐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。作者写了五首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渔歌子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，这是第一首。据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词林纪事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转引的记载说，张志和曾谒见湖州刺史颜真卿，因为船破旧了，请颜帮助更换，并作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渔歌子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828800" y="242100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张志和，本名龟龄，字子同，金华（今属浙江）人。生卒年不详。唐肃宗时待诏翰林。后因事被贬，绝意仕进，隐居江湖间。自号玄真子，又自称烟波钓徒。著书亦名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玄真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82760" y="150732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人简介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048120" y="4038480"/>
            <a:ext cx="541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同学们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渔歌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有什么感觉？这首词写了哪些景物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1523880" y="1981080"/>
            <a:ext cx="7162920" cy="2364480"/>
            <a:chOff x="1523880" y="1981080"/>
            <a:chExt cx="7162920" cy="2364480"/>
          </a:xfrm>
        </p:grpSpPr>
        <p:sp>
          <p:nvSpPr>
            <p:cNvPr id="57" name="Text Box 7"/>
            <p:cNvSpPr/>
            <p:nvPr/>
          </p:nvSpPr>
          <p:spPr>
            <a:xfrm>
              <a:off x="1523880" y="2789280"/>
              <a:ext cx="7162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西塞山前白鹭飞，桃花流水鳜鱼肥。</a:t>
              </a:r>
              <a:br>
                <a:rPr sz="3200"/>
              </a:b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青箬笠，绿蓑衣，斜风细雨不须归。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8"/>
            <p:cNvSpPr/>
            <p:nvPr/>
          </p:nvSpPr>
          <p:spPr>
            <a:xfrm>
              <a:off x="3657600" y="198108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渔歌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9"/>
          <p:cNvSpPr/>
          <p:nvPr/>
        </p:nvSpPr>
        <p:spPr>
          <a:xfrm>
            <a:off x="1414440" y="121860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自由读词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295280" y="1752480"/>
            <a:ext cx="6782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全诗着色明丽，用语活泼，生动地表现了渔父悠闲自在的生活情趣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200400" y="38098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景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343400" y="44956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鹭、桃花、流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鳜鱼、斜风、细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143000" y="2362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读这首词，通过查找资料，借助注释理解这首词的意思，遇到不懂的地方作上记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1332000" y="1278720"/>
            <a:ext cx="144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注释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114800" y="46483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不须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想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114800" y="5257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归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回去，回家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438280" y="4191120"/>
            <a:ext cx="358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914400" y="22860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西塞山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即道士矶，在湖北大冶县长江边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914400" y="31240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鳜鱼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俗称“花鱼”“桂鱼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914400" y="38098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箬笠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竹篾编成的斗笠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828800" y="21337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西塞山前白鹭在自由地翱翔，桃花盛开，水流湍急，水中的鳜鱼很肥美。漂浮在水中的桃花是那样的鲜艳。江上一位老翁戴着青色的箬笠，披着绿色的蓑衣，冒着斜风细雨，悠然自得地垂钓，他被美丽的江南春景迷住了，久久不愿回家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332000" y="1278720"/>
            <a:ext cx="144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译文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4:54:49Z</dcterms:created>
  <dc:creator>21cnjy</dc:creator>
  <dc:description>21cnjy</dc:description>
  <cp:keywords>21cnjy</cp:keywords>
  <dc:language>en-US</dc:language>
  <cp:lastModifiedBy>微软中国</cp:lastModifiedBy>
  <dcterms:modified xsi:type="dcterms:W3CDTF">2014-03-07T11:16:39Z</dcterms:modified>
  <cp:revision>4</cp:revision>
  <dc:subject>21cnjy</dc:subject>
  <dc:title>21cnjy</dc:title>
</cp:coreProperties>
</file>