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CFE-E749-494B-AE6A-0E80BFE2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F65-9888-4DEC-8529-C8BE8AFD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2C3-72A7-448D-B59C-7BD5D87D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69B-A7F9-4969-830C-8420106C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C2B5-1F74-49E0-AD49-144A8596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8156-066C-49E0-B6B6-9536D1EB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3324-6BEB-48D5-898B-5E38486C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9187-7D90-450D-BCCC-1CC19618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E91B-9741-4F3A-950E-EBB5BFEF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BDFB-EE48-4707-8B76-9601A227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F054-256E-4189-9E7A-9DD562D2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8C4-0574-4A70-B07F-90CC6B67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A741-A37D-4518-8CF2-2FBB00A0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74C7-75D7-47B1-BFE2-4F88B6EC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3D3F-DF65-4BA1-98F8-226AE388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DE9D-B276-4655-AF6E-4EE35C28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2C66-8D4C-499F-8E22-E39A5812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79B-692D-4012-937F-431C3EB7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01E-0383-4997-A98A-09D9C49A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32F-D75B-4CB2-A171-C42B80A2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10E-4998-4CF5-B361-0B32B1E9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E94-2E72-4679-B6EB-E5855516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9E6-DED1-4CE7-ADAC-8B1AB0AA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991-BE66-4B98-A853-157F14FE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ECCC-0EFA-472A-83FD-B79A488E7023}" type="datetime">
              <a:rPr b="0" lang="zh-CN" sz="12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3951-5A27-4C5D-91EE-A3D7219BB67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F330-8E90-4361-8E18-7A5035F5BA52}" type="datetime">
              <a:rPr b="0" lang="zh-CN" sz="1200" spc="-1" strike="noStrike">
                <a:solidFill>
                  <a:srgbClr val="000000"/>
                </a:solidFill>
                <a:latin typeface="Verdana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283F-A17C-4D67-9106-2722FF64AD1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hyperlink" Target="ygz_sai.exe" TargetMode="External"/><Relationship Id="rId4" Type="http://schemas.openxmlformats.org/officeDocument/2006/relationships/hyperlink" Target="ygz_suo.wav" TargetMode="External"/><Relationship Id="rId5" Type="http://schemas.openxmlformats.org/officeDocument/2006/relationships/image" Target="../media/image7.png"/><Relationship Id="rId6" Type="http://schemas.openxmlformats.org/officeDocument/2006/relationships/hyperlink" Target="&#21476;&#35789;&#31934;&#36873; &#24352;&#24535;&#21644; &#28180;&#27468;&#23376;.lnk" TargetMode="External"/><Relationship Id="rId7" Type="http://schemas.openxmlformats.org/officeDocument/2006/relationships/hyperlink" Target="&#21476;&#35789;&#31934;&#36873; &#24352;&#24535;&#21644; &#28180;&#27468;&#23376;.lnk" TargetMode="External"/><Relationship Id="rId8" Type="http://schemas.openxmlformats.org/officeDocument/2006/relationships/hyperlink" Target="&#21476;&#35789;&#31934;&#36873; &#24352;&#24535;&#21644; &#28180;&#27468;&#23376;.lnk" TargetMode="External"/><Relationship Id="rId9" Type="http://schemas.openxmlformats.org/officeDocument/2006/relationships/hyperlink" Target="&#28180;&#27468;&#23376; &#24352;&#24535;&#21644; &#20799;&#31461;&#23398;&#21776;&#35799;.lnk" TargetMode="External"/><Relationship Id="rId10" Type="http://schemas.openxmlformats.org/officeDocument/2006/relationships/hyperlink" Target="&#28180;&#27468;&#23376; &#24352;&#24535;&#21644; &#20799;&#31461;&#23398;&#21776;&#35799;.lnk" TargetMode="External"/><Relationship Id="rId11" Type="http://schemas.openxmlformats.org/officeDocument/2006/relationships/hyperlink" Target="&#28180;&#27468;&#23376; &#24352;&#24535;&#21644; &#20799;&#31461;&#23398;&#21776;&#35799;.lnk" TargetMode="External"/><Relationship Id="rId12" Type="http://schemas.openxmlformats.org/officeDocument/2006/relationships/hyperlink" Target="&#20799;&#31461;&#27468;&#26354;&#12289;&#20799;&#31461;&#27468;&#26354; - &#28180;&#27468;&#23376;.lnk" TargetMode="External"/><Relationship Id="rId13" Type="http://schemas.openxmlformats.org/officeDocument/2006/relationships/hyperlink" Target="&#20799;&#31461;&#27468;&#26354;&#12289;&#20799;&#31461;&#27468;&#26354; - &#28180;&#27468;&#23376;.lnk" TargetMode="External"/><Relationship Id="rId14" Type="http://schemas.openxmlformats.org/officeDocument/2006/relationships/hyperlink" Target="&#20799;&#31461;&#27468;&#26354;&#12289;&#20799;&#31461;&#27468;&#26354; - &#28180;&#27468;&#23376;.lnk" TargetMode="External"/><Relationship Id="rId15" Type="http://schemas.openxmlformats.org/officeDocument/2006/relationships/hyperlink" Target="&#20799;&#31461;&#27468;&#26354;&#12289;&#20799;&#31461;&#27468;&#26354; - &#28180;&#27468;&#23376;.lnk" TargetMode="External"/><Relationship Id="rId16" Type="http://schemas.openxmlformats.org/officeDocument/2006/relationships/hyperlink" Target="&#20799;&#31461;&#27468;&#26354;&#12289;&#20799;&#31461;&#27468;&#26354; - &#28180;&#27468;&#23376;.lnk" TargetMode="External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1722405_715249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12"/>
          <p:cNvSpPr txBox="1"/>
          <p:nvPr/>
        </p:nvSpPr>
        <p:spPr>
          <a:xfrm>
            <a:off x="5715000" y="1905120"/>
            <a:ext cx="2971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渔歌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6"/>
          <p:cNvGrpSpPr/>
          <p:nvPr/>
        </p:nvGrpSpPr>
        <p:grpSpPr>
          <a:xfrm>
            <a:off x="0" y="0"/>
            <a:ext cx="9143280" cy="7085880"/>
            <a:chOff x="0" y="0"/>
            <a:chExt cx="9143280" cy="7085880"/>
          </a:xfrm>
        </p:grpSpPr>
        <p:grpSp>
          <p:nvGrpSpPr>
            <p:cNvPr id="139" name="Group 18"/>
            <p:cNvGrpSpPr/>
            <p:nvPr/>
          </p:nvGrpSpPr>
          <p:grpSpPr>
            <a:xfrm>
              <a:off x="0" y="0"/>
              <a:ext cx="9143280" cy="7085880"/>
              <a:chOff x="0" y="0"/>
              <a:chExt cx="9143280" cy="7085880"/>
            </a:xfrm>
          </p:grpSpPr>
          <p:pic>
            <p:nvPicPr>
              <p:cNvPr id="140" name="Picture 19" descr=""/>
              <p:cNvPicPr/>
              <p:nvPr/>
            </p:nvPicPr>
            <p:blipFill>
              <a:blip r:embed="rId2"/>
              <a:srcRect l="12446" t="10634" r="9705" b="7817"/>
              <a:stretch/>
            </p:blipFill>
            <p:spPr>
              <a:xfrm>
                <a:off x="0" y="0"/>
                <a:ext cx="9143280" cy="708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20" descr=""/>
              <p:cNvPicPr/>
              <p:nvPr/>
            </p:nvPicPr>
            <p:blipFill>
              <a:blip r:embed="rId3"/>
              <a:srcRect l="18380" t="15861" r="47524" b="55918"/>
              <a:stretch/>
            </p:blipFill>
            <p:spPr>
              <a:xfrm>
                <a:off x="556560" y="363240"/>
                <a:ext cx="8109720" cy="6449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2" name="Picture 22" descr="2007111161551636_1"/>
            <p:cNvPicPr/>
            <p:nvPr/>
          </p:nvPicPr>
          <p:blipFill>
            <a:blip r:embed="rId4"/>
            <a:stretch/>
          </p:blipFill>
          <p:spPr>
            <a:xfrm>
              <a:off x="477000" y="4853160"/>
              <a:ext cx="2305440" cy="194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 Box 23"/>
          <p:cNvSpPr/>
          <p:nvPr/>
        </p:nvSpPr>
        <p:spPr>
          <a:xfrm>
            <a:off x="2819520" y="3124080"/>
            <a:ext cx="5486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西塞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∕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山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∕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白鹭飞，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桃花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∕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流水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∕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鳜鱼肥。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青箬笠，                                 绿蓑衣，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斜风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∕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细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∕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不须归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3581280" y="1905120"/>
            <a:ext cx="3886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渔歌子                                                                  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张志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1425960" y="106596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</a:rPr>
              <a:t>注意停顿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228600" y="609480"/>
            <a:ext cx="8763120" cy="6248160"/>
            <a:chOff x="228600" y="609480"/>
            <a:chExt cx="8763120" cy="6248160"/>
          </a:xfrm>
        </p:grpSpPr>
        <p:pic>
          <p:nvPicPr>
            <p:cNvPr id="147" name="Picture 3" descr=""/>
            <p:cNvPicPr/>
            <p:nvPr/>
          </p:nvPicPr>
          <p:blipFill>
            <a:blip r:embed="rId2"/>
            <a:srcRect l="12446" t="10634" r="9705" b="7817"/>
            <a:stretch/>
          </p:blipFill>
          <p:spPr>
            <a:xfrm>
              <a:off x="228600" y="609480"/>
              <a:ext cx="8763120" cy="62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" descr=""/>
            <p:cNvPicPr/>
            <p:nvPr/>
          </p:nvPicPr>
          <p:blipFill>
            <a:blip r:embed="rId3"/>
            <a:srcRect l="18380" t="15861" r="47524" b="55918"/>
            <a:stretch/>
          </p:blipFill>
          <p:spPr>
            <a:xfrm>
              <a:off x="762120" y="929880"/>
              <a:ext cx="7772400" cy="56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5" descr="2007111161551636_1"/>
          <p:cNvPicPr/>
          <p:nvPr/>
        </p:nvPicPr>
        <p:blipFill>
          <a:blip r:embed="rId4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2743200" y="4495680"/>
            <a:ext cx="60199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思考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隶书"/>
              </a:rPr>
              <a:t>这首词写了哪几种景物？构成了一幅怎样画面？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0"/>
          <p:cNvGrpSpPr/>
          <p:nvPr/>
        </p:nvGrpSpPr>
        <p:grpSpPr>
          <a:xfrm>
            <a:off x="914400" y="1981080"/>
            <a:ext cx="7162920" cy="2548080"/>
            <a:chOff x="914400" y="1981080"/>
            <a:chExt cx="7162920" cy="2548080"/>
          </a:xfrm>
        </p:grpSpPr>
        <p:sp>
          <p:nvSpPr>
            <p:cNvPr id="152" name="Text Box 7"/>
            <p:cNvSpPr/>
            <p:nvPr/>
          </p:nvSpPr>
          <p:spPr>
            <a:xfrm>
              <a:off x="914400" y="2789280"/>
              <a:ext cx="7162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西塞山前白鹭飞，桃花流水鳜鱼肥。</a:t>
              </a:r>
              <a:br>
                <a:rPr sz="3600"/>
              </a:b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青箬笠，绿蓑衣，斜风细雨不须归。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048120" y="1981080"/>
              <a:ext cx="388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渔歌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9"/>
          <p:cNvSpPr/>
          <p:nvPr/>
        </p:nvSpPr>
        <p:spPr>
          <a:xfrm>
            <a:off x="1414440" y="1218600"/>
            <a:ext cx="20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自由读词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228600" y="609480"/>
            <a:ext cx="8763120" cy="6248160"/>
            <a:chOff x="228600" y="609480"/>
            <a:chExt cx="8763120" cy="6248160"/>
          </a:xfrm>
        </p:grpSpPr>
        <p:pic>
          <p:nvPicPr>
            <p:cNvPr id="156" name="Picture 3" descr=""/>
            <p:cNvPicPr/>
            <p:nvPr/>
          </p:nvPicPr>
          <p:blipFill>
            <a:blip r:embed="rId2"/>
            <a:srcRect l="12446" t="10634" r="9705" b="7817"/>
            <a:stretch/>
          </p:blipFill>
          <p:spPr>
            <a:xfrm>
              <a:off x="228600" y="609480"/>
              <a:ext cx="8763120" cy="62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" descr=""/>
            <p:cNvPicPr/>
            <p:nvPr/>
          </p:nvPicPr>
          <p:blipFill>
            <a:blip r:embed="rId3"/>
            <a:srcRect l="18380" t="15861" r="47524" b="55918"/>
            <a:stretch/>
          </p:blipFill>
          <p:spPr>
            <a:xfrm>
              <a:off x="762120" y="929880"/>
              <a:ext cx="7772400" cy="56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Picture 5" descr="2007111161551636_1"/>
          <p:cNvPicPr/>
          <p:nvPr/>
        </p:nvPicPr>
        <p:blipFill>
          <a:blip r:embed="rId4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1143000" y="12952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九种景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1219320" y="2362320"/>
            <a:ext cx="7238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西塞山、白鹭、桃花、流水、鳜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箬笠、蓑衣、斜风、细雨，构成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幅美丽的春雨垂钓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228600" y="609480"/>
            <a:ext cx="8763120" cy="6248160"/>
            <a:chOff x="228600" y="609480"/>
            <a:chExt cx="8763120" cy="6248160"/>
          </a:xfrm>
        </p:grpSpPr>
        <p:pic>
          <p:nvPicPr>
            <p:cNvPr id="162" name="Picture 3" descr=""/>
            <p:cNvPicPr/>
            <p:nvPr/>
          </p:nvPicPr>
          <p:blipFill>
            <a:blip r:embed="rId2"/>
            <a:srcRect l="12446" t="10634" r="9705" b="7817"/>
            <a:stretch/>
          </p:blipFill>
          <p:spPr>
            <a:xfrm>
              <a:off x="228600" y="609480"/>
              <a:ext cx="8763120" cy="62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4" descr=""/>
            <p:cNvPicPr/>
            <p:nvPr/>
          </p:nvPicPr>
          <p:blipFill>
            <a:blip r:embed="rId3"/>
            <a:srcRect l="18380" t="15861" r="47524" b="55918"/>
            <a:stretch/>
          </p:blipFill>
          <p:spPr>
            <a:xfrm>
              <a:off x="762120" y="929880"/>
              <a:ext cx="7772400" cy="56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Picture 5" descr="2007111161551636_1"/>
          <p:cNvPicPr/>
          <p:nvPr/>
        </p:nvPicPr>
        <p:blipFill>
          <a:blip r:embed="rId4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143000" y="23623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读这首词，通过查找资料，借助注释理解这首词的意思，遇到不懂的地方作上记号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1905120" cy="1066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895480" y="8380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理解诗歌的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义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2286000" y="2057400"/>
            <a:ext cx="3886200" cy="2666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286000" y="2286000"/>
            <a:ext cx="4010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西塞山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前白鹭飞，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桃花流水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鳜鱼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肥。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青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箬笠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，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绿蓑衣，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斜风细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不须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归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53000" y="1600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渔歌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228600" y="609480"/>
            <a:ext cx="8763120" cy="6248160"/>
            <a:chOff x="228600" y="609480"/>
            <a:chExt cx="8763120" cy="6248160"/>
          </a:xfrm>
        </p:grpSpPr>
        <p:pic>
          <p:nvPicPr>
            <p:cNvPr id="173" name="Picture 3" descr=""/>
            <p:cNvPicPr/>
            <p:nvPr/>
          </p:nvPicPr>
          <p:blipFill>
            <a:blip r:embed="rId2"/>
            <a:srcRect l="12446" t="10634" r="9705" b="7817"/>
            <a:stretch/>
          </p:blipFill>
          <p:spPr>
            <a:xfrm>
              <a:off x="228600" y="609480"/>
              <a:ext cx="8763120" cy="62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4" descr=""/>
            <p:cNvPicPr/>
            <p:nvPr/>
          </p:nvPicPr>
          <p:blipFill>
            <a:blip r:embed="rId3"/>
            <a:srcRect l="18380" t="15861" r="47524" b="55918"/>
            <a:stretch/>
          </p:blipFill>
          <p:spPr>
            <a:xfrm>
              <a:off x="762120" y="929880"/>
              <a:ext cx="7772400" cy="56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5" name="Picture 5" descr="2007111161551636_1"/>
          <p:cNvPicPr/>
          <p:nvPr/>
        </p:nvPicPr>
        <p:blipFill>
          <a:blip r:embed="rId4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1332000" y="1278720"/>
            <a:ext cx="144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注释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114800" y="46483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不须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想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114800" y="5257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归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回去，回家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438280" y="4191120"/>
            <a:ext cx="358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914400" y="22860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西塞山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今浙江湖州西南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914400" y="312408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鳜鱼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俗称“花鱼”“桂鱼”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914400" y="380988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箬笠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竹篾编成的斗笠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84" name="Picture 3" descr=""/>
            <p:cNvPicPr/>
            <p:nvPr/>
          </p:nvPicPr>
          <p:blipFill>
            <a:blip r:embed="rId2"/>
            <a:srcRect l="12446" t="10634" r="9705" b="7817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" descr=""/>
            <p:cNvPicPr/>
            <p:nvPr/>
          </p:nvPicPr>
          <p:blipFill>
            <a:blip r:embed="rId3"/>
            <a:srcRect l="18380" t="15861" r="47524" b="55918"/>
            <a:stretch/>
          </p:blipFill>
          <p:spPr>
            <a:xfrm>
              <a:off x="556560" y="351720"/>
              <a:ext cx="8110080" cy="624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6" name="Picture 5" descr="2007111161551636_1"/>
          <p:cNvPicPr/>
          <p:nvPr/>
        </p:nvPicPr>
        <p:blipFill>
          <a:blip r:embed="rId4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1676520" y="1219320"/>
            <a:ext cx="678168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西塞山前白鹭在自由地翱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桃花盛开，水流湍急，水中的鳜鱼很肥美。漂浮在水中的桃花是那样的鲜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上一位老翁戴着青色的箬笠，披着绿色的蓑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冒着斜风细雨，悠然自得地垂钓，他被美丽的江南春景迷住了，久久不愿回家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685800" y="532800"/>
            <a:ext cx="23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译文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rcRect l="4979" t="10903" r="4197" b="13625"/>
          <a:stretch/>
        </p:blipFill>
        <p:spPr>
          <a:xfrm>
            <a:off x="0" y="1371600"/>
            <a:ext cx="6324480" cy="5334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867280" y="441972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6553080" y="22860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685800"/>
            <a:ext cx="71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复吟读诗歌，品味诗歌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1295280"/>
            <a:ext cx="3352680" cy="2362320"/>
          </a:xfrm>
          <a:prstGeom prst="cloudCallout">
            <a:avLst>
              <a:gd name="adj1" fmla="val -72157"/>
              <a:gd name="adj2" fmla="val 15302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位渔翁为什么在这样的一个雨天还不回家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342900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228600" y="609480"/>
            <a:ext cx="8763120" cy="6248160"/>
            <a:chOff x="228600" y="609480"/>
            <a:chExt cx="8763120" cy="6248160"/>
          </a:xfrm>
        </p:grpSpPr>
        <p:pic>
          <p:nvPicPr>
            <p:cNvPr id="197" name="Picture 3" descr=""/>
            <p:cNvPicPr/>
            <p:nvPr/>
          </p:nvPicPr>
          <p:blipFill>
            <a:blip r:embed="rId2"/>
            <a:srcRect l="12446" t="10634" r="9705" b="7817"/>
            <a:stretch/>
          </p:blipFill>
          <p:spPr>
            <a:xfrm>
              <a:off x="228600" y="609480"/>
              <a:ext cx="8763120" cy="62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4" descr=""/>
            <p:cNvPicPr/>
            <p:nvPr/>
          </p:nvPicPr>
          <p:blipFill>
            <a:blip r:embed="rId3"/>
            <a:srcRect l="18380" t="15861" r="47524" b="55918"/>
            <a:stretch/>
          </p:blipFill>
          <p:spPr>
            <a:xfrm>
              <a:off x="762120" y="929880"/>
              <a:ext cx="7772400" cy="56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9" name="Picture 5" descr="2007111161551636_1"/>
          <p:cNvPicPr/>
          <p:nvPr/>
        </p:nvPicPr>
        <p:blipFill>
          <a:blip r:embed="rId4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990720" y="1371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请同学们看课文插图，描绘这首词所描写的景物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057400" y="29718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是一幅垂钓的画面，白色的鹭和红色的桃花点缀其间，色彩本来极其鲜明，而由于斜风细雨的笼罩，却又呈现出迷迷蒙蒙的意境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28600" y="609480"/>
            <a:ext cx="8763120" cy="6248160"/>
            <a:chOff x="228600" y="609480"/>
            <a:chExt cx="8763120" cy="6248160"/>
          </a:xfrm>
        </p:grpSpPr>
        <p:pic>
          <p:nvPicPr>
            <p:cNvPr id="203" name="Picture 3" descr=""/>
            <p:cNvPicPr/>
            <p:nvPr/>
          </p:nvPicPr>
          <p:blipFill>
            <a:blip r:embed="rId2"/>
            <a:srcRect l="12446" t="10634" r="9705" b="7817"/>
            <a:stretch/>
          </p:blipFill>
          <p:spPr>
            <a:xfrm>
              <a:off x="228600" y="609480"/>
              <a:ext cx="8763120" cy="62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4" descr=""/>
            <p:cNvPicPr/>
            <p:nvPr/>
          </p:nvPicPr>
          <p:blipFill>
            <a:blip r:embed="rId3"/>
            <a:srcRect l="18380" t="15861" r="47524" b="55918"/>
            <a:stretch/>
          </p:blipFill>
          <p:spPr>
            <a:xfrm>
              <a:off x="762120" y="929880"/>
              <a:ext cx="7772400" cy="56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5" name="Picture 5" descr="2007111161551636_1"/>
          <p:cNvPicPr/>
          <p:nvPr/>
        </p:nvPicPr>
        <p:blipFill>
          <a:blip r:embed="rId4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1535040" y="1065960"/>
            <a:ext cx="20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词句赏析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971800" y="327672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塞山前”点明地点，“白鹭”是闲适的象征，写白鹭自在地飞翔，衬托渔父的悠闲自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1143000" y="2209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西塞山前白鹭飞，桃花流水鳜鱼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6172200" y="91440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457200" y="-343080"/>
            <a:ext cx="9829800" cy="7369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Verdana"/>
              </a:rPr>
              <a:t>【</a:t>
            </a:r>
            <a:r>
              <a:rPr b="1" lang="zh-CN" sz="3800" spc="-1" strike="noStrike">
                <a:solidFill>
                  <a:srgbClr val="a50021"/>
                </a:solidFill>
                <a:latin typeface="Verdana"/>
              </a:rPr>
              <a:t>词简介</a:t>
            </a:r>
            <a:r>
              <a:rPr b="1" lang="en-US" sz="3800" spc="-1" strike="noStrike">
                <a:solidFill>
                  <a:srgbClr val="a50021"/>
                </a:solidFill>
                <a:latin typeface="Verdana"/>
              </a:rPr>
              <a:t>】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20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词：文体名，是一种文学体裁，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诗歌的一种韵文形式，由五言诗、七言诗或民间歌谣发展而成，起源于五代与唐，流行于宋代。原是配乐歌唱的一种诗体，句的长短随歌调而改变，因此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又叫长短句。有小令和慢词两种，一般分上下两阕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380880" y="914400"/>
            <a:ext cx="8763120" cy="5943600"/>
            <a:chOff x="380880" y="914400"/>
            <a:chExt cx="8763120" cy="5943600"/>
          </a:xfrm>
        </p:grpSpPr>
        <p:pic>
          <p:nvPicPr>
            <p:cNvPr id="211" name="Picture 3" descr=""/>
            <p:cNvPicPr/>
            <p:nvPr/>
          </p:nvPicPr>
          <p:blipFill>
            <a:blip r:embed="rId2"/>
            <a:srcRect l="12446" t="10634" r="9705" b="7817"/>
            <a:stretch/>
          </p:blipFill>
          <p:spPr>
            <a:xfrm>
              <a:off x="380880" y="914400"/>
              <a:ext cx="876312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" descr=""/>
            <p:cNvPicPr/>
            <p:nvPr/>
          </p:nvPicPr>
          <p:blipFill>
            <a:blip r:embed="rId3"/>
            <a:srcRect l="18380" t="15861" r="47524" b="55918"/>
            <a:stretch/>
          </p:blipFill>
          <p:spPr>
            <a:xfrm>
              <a:off x="914400" y="1219320"/>
              <a:ext cx="7772400" cy="541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3" name="Picture 5" descr="2007111161551636_1"/>
          <p:cNvPicPr/>
          <p:nvPr/>
        </p:nvPicPr>
        <p:blipFill>
          <a:blip r:embed="rId4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1535040" y="1065960"/>
            <a:ext cx="20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词句赏析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200400" y="32767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桃花流水鳜鱼肥”意思是说：桃花盛开，江水猛涨，这时节鳜鱼长得正肥。这里桃红与水绿相映，是表现暮春西塞山前的湖光山色，渲染渔父的生活环境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143000" y="2209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西塞山前白鹭飞，桃花流水鳜鱼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324480" y="121932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228600" y="609480"/>
            <a:ext cx="8763120" cy="6095880"/>
            <a:chOff x="228600" y="609480"/>
            <a:chExt cx="8763120" cy="6095880"/>
          </a:xfrm>
        </p:grpSpPr>
        <p:pic>
          <p:nvPicPr>
            <p:cNvPr id="219" name="Picture 3" descr=""/>
            <p:cNvPicPr/>
            <p:nvPr/>
          </p:nvPicPr>
          <p:blipFill>
            <a:blip r:embed="rId2"/>
            <a:srcRect l="12446" t="10634" r="9705" b="7817"/>
            <a:stretch/>
          </p:blipFill>
          <p:spPr>
            <a:xfrm>
              <a:off x="228600" y="609480"/>
              <a:ext cx="8763120" cy="60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4" descr=""/>
            <p:cNvPicPr/>
            <p:nvPr/>
          </p:nvPicPr>
          <p:blipFill>
            <a:blip r:embed="rId3"/>
            <a:srcRect l="18380" t="15861" r="47524" b="55918"/>
            <a:stretch/>
          </p:blipFill>
          <p:spPr>
            <a:xfrm>
              <a:off x="762120" y="921960"/>
              <a:ext cx="7772400" cy="5548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Picture 5" descr="2007111161551636_1"/>
          <p:cNvPicPr/>
          <p:nvPr/>
        </p:nvPicPr>
        <p:blipFill>
          <a:blip r:embed="rId4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3276720" y="3581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了渔父捕鱼的情态。渔父戴青箬笠，穿绿蓑衣，在斜风细雨中乐而忘归。“斜风”指微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535040" y="1065960"/>
            <a:ext cx="20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词句赏析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1143000" y="2406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青箬笠，绿蓑衣，斜风细雨不须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6248520" y="91440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228600" y="609480"/>
            <a:ext cx="8763120" cy="6248160"/>
            <a:chOff x="228600" y="609480"/>
            <a:chExt cx="8763120" cy="6248160"/>
          </a:xfrm>
        </p:grpSpPr>
        <p:pic>
          <p:nvPicPr>
            <p:cNvPr id="227" name="Picture 3" descr=""/>
            <p:cNvPicPr/>
            <p:nvPr/>
          </p:nvPicPr>
          <p:blipFill>
            <a:blip r:embed="rId2"/>
            <a:srcRect l="12446" t="10634" r="9705" b="7817"/>
            <a:stretch/>
          </p:blipFill>
          <p:spPr>
            <a:xfrm>
              <a:off x="228600" y="609480"/>
              <a:ext cx="8763120" cy="62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" descr=""/>
            <p:cNvPicPr/>
            <p:nvPr/>
          </p:nvPicPr>
          <p:blipFill>
            <a:blip r:embed="rId3"/>
            <a:srcRect l="18380" t="15861" r="47524" b="55918"/>
            <a:stretch/>
          </p:blipFill>
          <p:spPr>
            <a:xfrm>
              <a:off x="762120" y="929880"/>
              <a:ext cx="7772400" cy="56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9" name="Picture 5" descr="2007111161551636_1"/>
          <p:cNvPicPr/>
          <p:nvPr/>
        </p:nvPicPr>
        <p:blipFill>
          <a:blip r:embed="rId4"/>
          <a:stretch/>
        </p:blipFill>
        <p:spPr>
          <a:xfrm>
            <a:off x="685800" y="4849920"/>
            <a:ext cx="1981080" cy="1465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1752480" y="1981080"/>
            <a:ext cx="6934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词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在秀丽的水乡风光和理想化的渔人生活中，寄托了作者爱自由、爱自然的情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词中更吸引我们的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不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蓑风雨，从容自适的渔父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而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乡二月桃花盛开期间春江水涨、烟雨迷蒙的图景。雨中青山，江上渔舟，天空白鹭，两岸红桃，色泽鲜明但又显得柔和，气氛宁静但又充满活力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思考：从本词中，你能体会到作者的什么乐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433520" y="1218600"/>
            <a:ext cx="17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词赏析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6248520" y="838080"/>
            <a:ext cx="2286000" cy="10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Verdana"/>
              </a:rPr>
              <a:t>【</a:t>
            </a:r>
            <a:r>
              <a:rPr b="0" lang="zh-CN" sz="3800" spc="-1" strike="noStrike">
                <a:solidFill>
                  <a:srgbClr val="990000"/>
                </a:solidFill>
                <a:latin typeface="Verdana"/>
              </a:rPr>
              <a:t>词句赏析</a:t>
            </a:r>
            <a:r>
              <a:rPr b="0" lang="en-US" sz="3800" spc="-1" strike="noStrike">
                <a:solidFill>
                  <a:srgbClr val="990000"/>
                </a:solidFill>
                <a:latin typeface="Verdana"/>
              </a:rPr>
              <a:t>】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Verdana"/>
              </a:rPr>
              <a:t>全词着色明丽，用语活泼，生动地表现了渔父悠闲自在的生活情趣。同时也反映了作者寄情山水、悠然自得的乐趣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5" descr="2007111161551636_1"/>
          <p:cNvPicPr/>
          <p:nvPr/>
        </p:nvPicPr>
        <p:blipFill>
          <a:blip r:embed="rId3"/>
          <a:stretch/>
        </p:blipFill>
        <p:spPr>
          <a:xfrm>
            <a:off x="457200" y="4495680"/>
            <a:ext cx="2438280" cy="2016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066680" y="0"/>
            <a:ext cx="228600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380880" y="762120"/>
            <a:ext cx="8763120" cy="5943600"/>
            <a:chOff x="380880" y="762120"/>
            <a:chExt cx="8763120" cy="5943600"/>
          </a:xfrm>
        </p:grpSpPr>
        <p:pic>
          <p:nvPicPr>
            <p:cNvPr id="239" name="Picture 3" descr=""/>
            <p:cNvPicPr/>
            <p:nvPr/>
          </p:nvPicPr>
          <p:blipFill>
            <a:blip r:embed="rId2"/>
            <a:srcRect l="12446" t="10634" r="9705" b="7817"/>
            <a:stretch/>
          </p:blipFill>
          <p:spPr>
            <a:xfrm>
              <a:off x="380880" y="762120"/>
              <a:ext cx="876312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" descr=""/>
            <p:cNvPicPr/>
            <p:nvPr/>
          </p:nvPicPr>
          <p:blipFill>
            <a:blip r:embed="rId3"/>
            <a:srcRect l="18380" t="15861" r="47524" b="55918"/>
            <a:stretch/>
          </p:blipFill>
          <p:spPr>
            <a:xfrm>
              <a:off x="914400" y="1067040"/>
              <a:ext cx="7772400" cy="541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Picture 5" descr="2007111161551636_1"/>
          <p:cNvPicPr/>
          <p:nvPr/>
        </p:nvPicPr>
        <p:blipFill>
          <a:blip r:embed="rId4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"/>
          <p:cNvSpPr/>
          <p:nvPr/>
        </p:nvSpPr>
        <p:spPr>
          <a:xfrm>
            <a:off x="1295280" y="16002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请同学们有感情地齐读或背诵这首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9"/>
          <p:cNvGrpSpPr/>
          <p:nvPr/>
        </p:nvGrpSpPr>
        <p:grpSpPr>
          <a:xfrm>
            <a:off x="3200400" y="2546280"/>
            <a:ext cx="5486400" cy="3780720"/>
            <a:chOff x="3200400" y="2546280"/>
            <a:chExt cx="5486400" cy="3780720"/>
          </a:xfrm>
        </p:grpSpPr>
        <p:sp>
          <p:nvSpPr>
            <p:cNvPr id="244" name="Text Box 7"/>
            <p:cNvSpPr/>
            <p:nvPr/>
          </p:nvSpPr>
          <p:spPr>
            <a:xfrm>
              <a:off x="3200400" y="3308400"/>
              <a:ext cx="54864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西塞山前白鹭飞，</a:t>
              </a:r>
              <a:br>
                <a:rPr sz="3200"/>
              </a:b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桃花流水鳜鱼肥。</a:t>
              </a:r>
              <a:br>
                <a:rPr sz="3200"/>
              </a:b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青箬笠，</a:t>
              </a:r>
              <a:br>
                <a:rPr sz="3200"/>
              </a:b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绿蓑衣，</a:t>
              </a:r>
              <a:br>
                <a:rPr sz="3200"/>
              </a:b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斜风细雨不须归。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8"/>
            <p:cNvSpPr/>
            <p:nvPr/>
          </p:nvSpPr>
          <p:spPr>
            <a:xfrm>
              <a:off x="3886200" y="2546280"/>
              <a:ext cx="388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渔歌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228600" y="609480"/>
            <a:ext cx="8763120" cy="6248160"/>
            <a:chOff x="228600" y="609480"/>
            <a:chExt cx="8763120" cy="6248160"/>
          </a:xfrm>
        </p:grpSpPr>
        <p:pic>
          <p:nvPicPr>
            <p:cNvPr id="247" name="Picture 3" descr=""/>
            <p:cNvPicPr/>
            <p:nvPr/>
          </p:nvPicPr>
          <p:blipFill>
            <a:blip r:embed="rId2"/>
            <a:srcRect l="12446" t="10634" r="9705" b="7817"/>
            <a:stretch/>
          </p:blipFill>
          <p:spPr>
            <a:xfrm>
              <a:off x="228600" y="609480"/>
              <a:ext cx="8763120" cy="62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" descr=""/>
            <p:cNvPicPr/>
            <p:nvPr/>
          </p:nvPicPr>
          <p:blipFill>
            <a:blip r:embed="rId3"/>
            <a:srcRect l="18380" t="15861" r="47524" b="55918"/>
            <a:stretch/>
          </p:blipFill>
          <p:spPr>
            <a:xfrm>
              <a:off x="762120" y="929880"/>
              <a:ext cx="7772400" cy="56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9" name="Picture 5" descr="2007111161551636_1"/>
          <p:cNvPicPr/>
          <p:nvPr/>
        </p:nvPicPr>
        <p:blipFill>
          <a:blip r:embed="rId4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1535040" y="1507320"/>
            <a:ext cx="20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布置作业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1981080" y="26668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背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歌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981080" y="34290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动手给这首词配上一幅彩色画来向人们展示江南的美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4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-1440" y="1440"/>
            <a:ext cx="9145440" cy="6856560"/>
          </a:xfrm>
          <a:prstGeom prst="rect">
            <a:avLst/>
          </a:prstGeom>
          <a:ln w="0">
            <a:noFill/>
          </a:ln>
        </p:spPr>
      </p:pic>
      <p:pic>
        <p:nvPicPr>
          <p:cNvPr id="256" name="WordArt 4" descr=""/>
          <p:cNvPicPr/>
          <p:nvPr/>
        </p:nvPicPr>
        <p:blipFill>
          <a:blip r:embed="rId3"/>
          <a:stretch/>
        </p:blipFill>
        <p:spPr>
          <a:xfrm>
            <a:off x="2209680" y="2895480"/>
            <a:ext cx="4353120" cy="14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4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-609480" y="-457200"/>
            <a:ext cx="10058400" cy="7540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Verdana"/>
              </a:rPr>
              <a:t>【</a:t>
            </a:r>
            <a:r>
              <a:rPr b="1" lang="zh-CN" sz="3800" spc="-1" strike="noStrike">
                <a:solidFill>
                  <a:srgbClr val="a50021"/>
                </a:solidFill>
                <a:latin typeface="Verdana"/>
              </a:rPr>
              <a:t>词牌简介</a:t>
            </a:r>
            <a:r>
              <a:rPr b="1" lang="en-US" sz="3800" spc="-1" strike="noStrike">
                <a:solidFill>
                  <a:srgbClr val="a50021"/>
                </a:solidFill>
                <a:latin typeface="Verdana"/>
              </a:rPr>
              <a:t>】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Verdana"/>
              </a:rPr>
              <a:t>◆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最初的词，是歌词，是按照一定的曲谱填写的。曲谱又称词牌。它规定某一词牌的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字数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句数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平仄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和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韵脚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Verdana"/>
              </a:rPr>
              <a:t>◆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渔歌子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就是词牌。词牌之下，一般另有题目，但这首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渔歌子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只有词牌没有题目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Verdana"/>
              </a:rPr>
              <a:t>◆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常见的词牌有：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如梦令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忆江南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卜算子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浣溪沙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采桑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-304920" y="0"/>
            <a:ext cx="9448560" cy="6857640"/>
            <a:chOff x="-304920" y="0"/>
            <a:chExt cx="9448560" cy="6857640"/>
          </a:xfrm>
        </p:grpSpPr>
        <p:pic>
          <p:nvPicPr>
            <p:cNvPr id="93" name="Picture 3" descr=""/>
            <p:cNvPicPr/>
            <p:nvPr/>
          </p:nvPicPr>
          <p:blipFill>
            <a:blip r:embed="rId2"/>
            <a:srcRect l="12446" t="10634" r="9705" b="7817"/>
            <a:stretch/>
          </p:blipFill>
          <p:spPr>
            <a:xfrm>
              <a:off x="-304920" y="0"/>
              <a:ext cx="944856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4" descr=""/>
            <p:cNvPicPr/>
            <p:nvPr/>
          </p:nvPicPr>
          <p:blipFill>
            <a:blip r:embed="rId3"/>
            <a:srcRect l="18380" t="15861" r="47524" b="55918"/>
            <a:stretch/>
          </p:blipFill>
          <p:spPr>
            <a:xfrm>
              <a:off x="270000" y="351720"/>
              <a:ext cx="8380440" cy="624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5" descr="2007111161551636_1"/>
          <p:cNvPicPr/>
          <p:nvPr/>
        </p:nvPicPr>
        <p:blipFill>
          <a:blip r:embed="rId4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838080" y="685800"/>
            <a:ext cx="7315200" cy="23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渔歌子简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词牌名。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渔歌子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又名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渔父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或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渔父乐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。作者写了五首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渔歌子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，这是第一首。据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词林纪事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转引的记载说，张志和曾谒见湖州刺史颜真卿，因为船破旧了，请颜帮助更换，并作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渔歌子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98" name="Picture 3" descr=""/>
            <p:cNvPicPr/>
            <p:nvPr/>
          </p:nvPicPr>
          <p:blipFill>
            <a:blip r:embed="rId2"/>
            <a:srcRect l="12446" t="10634" r="9705" b="7817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4" descr=""/>
            <p:cNvPicPr/>
            <p:nvPr/>
          </p:nvPicPr>
          <p:blipFill>
            <a:blip r:embed="rId3"/>
            <a:srcRect l="18380" t="15861" r="47524" b="55918"/>
            <a:stretch/>
          </p:blipFill>
          <p:spPr>
            <a:xfrm>
              <a:off x="556560" y="351720"/>
              <a:ext cx="8110080" cy="6242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Picture 5" descr="2007111161551636_1"/>
          <p:cNvPicPr/>
          <p:nvPr/>
        </p:nvPicPr>
        <p:blipFill>
          <a:blip r:embed="rId4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828800" y="2421000"/>
            <a:ext cx="647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张志和，本名龟龄，字子同，金华（今属浙江）人。生卒年不详。唐肃宗时待诏翰林。后因事被贬，绝意仕进，隐居江湖间。自号玄真子，又自称烟波钓徒。著书亦名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玄真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382760" y="1507320"/>
            <a:ext cx="20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词人简介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7640" y="3352320"/>
            <a:ext cx="685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4876920" cy="5105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533520"/>
            <a:ext cx="167652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504960" y="533376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鳜　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09480" y="1523880"/>
            <a:ext cx="792504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7640" y="3428640"/>
            <a:ext cx="685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85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桃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4800600" cy="5105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9480" y="762120"/>
            <a:ext cx="1524240" cy="76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借助拼音跟读诗歌，初步了解这首诗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33720" y="2057040"/>
            <a:ext cx="4876560" cy="48006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3600" spc="-1" strike="noStrike" u="sng">
                <a:solidFill>
                  <a:srgbClr val="336699"/>
                </a:solidFill>
                <a:uFillTx/>
                <a:latin typeface="Verdana"/>
              </a:rPr>
              <a:t>渔歌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zh-CN" sz="3600" spc="-1" strike="noStrike" u="sng">
                <a:solidFill>
                  <a:srgbClr val="336699"/>
                </a:solidFill>
                <a:uFillTx/>
                <a:latin typeface="Verdana"/>
              </a:rPr>
              <a:t>张志和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西</a:t>
            </a:r>
            <a:r>
              <a:rPr b="0" lang="zh-CN" sz="3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塞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山前</a:t>
            </a:r>
            <a:r>
              <a:rPr b="0" lang="zh-CN" sz="3600" spc="-1" strike="noStrike" u="sng">
                <a:solidFill>
                  <a:srgbClr val="336699"/>
                </a:solidFill>
                <a:uFillTx/>
                <a:latin typeface="Verdana"/>
              </a:rPr>
              <a:t>白鹭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飞，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3600" spc="-1" strike="noStrike" u="sng">
                <a:solidFill>
                  <a:srgbClr val="336699"/>
                </a:solidFill>
                <a:uFillTx/>
                <a:latin typeface="Verdana"/>
              </a:rPr>
              <a:t>桃花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流水</a:t>
            </a:r>
            <a:r>
              <a:rPr b="0" lang="zh-CN" sz="3600" spc="-1" strike="noStrike" u="sng">
                <a:solidFill>
                  <a:srgbClr val="336699"/>
                </a:solidFill>
                <a:uFillTx/>
                <a:latin typeface="Verdana"/>
              </a:rPr>
              <a:t>鳜鱼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肥。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青</a:t>
            </a:r>
            <a:r>
              <a:rPr b="1" lang="zh-CN" sz="3600" spc="-1" strike="noStrike" u="sng">
                <a:solidFill>
                  <a:srgbClr val="336699"/>
                </a:solidFill>
                <a:uFillTx/>
                <a:latin typeface="Verdana"/>
              </a:rPr>
              <a:t>箬笠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绿</a:t>
            </a:r>
            <a:r>
              <a:rPr b="0" lang="zh-CN" sz="3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蓑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衣，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斜风细雨不须归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62120" y="533520"/>
            <a:ext cx="1752480" cy="590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086600" y="5257800"/>
            <a:ext cx="1066680" cy="685800"/>
          </a:xfrm>
          <a:prstGeom prst="wedgeRoundRectCallout">
            <a:avLst>
              <a:gd name="adj1" fmla="val -204166"/>
              <a:gd name="adj2" fmla="val -4699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4191120"/>
            <a:ext cx="1752480" cy="609480"/>
          </a:xfrm>
          <a:prstGeom prst="wedgeRoundRectCallout">
            <a:avLst>
              <a:gd name="adj1" fmla="val 116305"/>
              <a:gd name="adj2" fmla="val 47134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uo  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2514600"/>
            <a:ext cx="1371600" cy="914400"/>
          </a:xfrm>
          <a:prstGeom prst="cloudCallout">
            <a:avLst>
              <a:gd name="adj1" fmla="val -108796"/>
              <a:gd name="adj2" fmla="val 6475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3505320"/>
            <a:ext cx="1295280" cy="761760"/>
          </a:xfrm>
          <a:prstGeom prst="wedgeEllipseCallout">
            <a:avLst>
              <a:gd name="adj1" fmla="val -189703"/>
              <a:gd name="adj2" fmla="val 460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419076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295280" y="4190760"/>
            <a:ext cx="152640" cy="22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5410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7696080" y="3580920"/>
            <a:ext cx="1526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6858000" y="2514240"/>
            <a:ext cx="76320" cy="29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2666880"/>
            <a:ext cx="914400" cy="609840"/>
          </a:xfrm>
          <a:prstGeom prst="wedgeEllipseCallout">
            <a:avLst>
              <a:gd name="adj1" fmla="val 149305"/>
              <a:gd name="adj2" fmla="val 971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2895480"/>
            <a:ext cx="914400" cy="60984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590920"/>
            <a:ext cx="914400" cy="609480"/>
          </a:xfrm>
          <a:prstGeom prst="wedgeEllipseCallout">
            <a:avLst>
              <a:gd name="adj1" fmla="val -31250"/>
              <a:gd name="adj2" fmla="val 763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590920"/>
            <a:ext cx="914400" cy="6094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2286000"/>
            <a:ext cx="838440" cy="609480"/>
          </a:xfrm>
          <a:prstGeom prst="wedgeEllipseCallout">
            <a:avLst>
              <a:gd name="adj1" fmla="val 175000"/>
              <a:gd name="adj2" fmla="val 14921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144792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2438280"/>
            <a:ext cx="1143000" cy="685800"/>
          </a:xfrm>
          <a:prstGeom prst="wedgeEllipseCallout">
            <a:avLst>
              <a:gd name="adj1" fmla="val 147222"/>
              <a:gd name="adj2" fmla="val 1048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904760" y="2514240"/>
            <a:ext cx="152280" cy="22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0"/>
            <a:ext cx="5187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336699"/>
                </a:solidFill>
                <a:uFillTx/>
                <a:latin typeface="Arial"/>
                <a:hlinkClick r:id="rId6"/>
              </a:rPr>
              <a:t>古词精选 张志和 渔歌子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  <a:hlinkClick r:id="rId8"/>
              </a:rPr>
              <a:t>l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72120" y="738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97680" y="533520"/>
            <a:ext cx="3705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336699"/>
                </a:solidFill>
                <a:uFillTx/>
                <a:latin typeface="Arial"/>
                <a:hlinkClick r:id="rId9"/>
              </a:rPr>
              <a:t>渔歌子 张志和 儿童学唐诗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  <a:hlinkClick r:id="rId11"/>
              </a:rPr>
              <a:t>l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32440" y="1066680"/>
            <a:ext cx="2084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336699"/>
                </a:solidFill>
                <a:uFillTx/>
                <a:latin typeface="Arial"/>
                <a:hlinkClick r:id="rId12"/>
              </a:rPr>
              <a:t>儿童歌曲、儿童歌曲 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  <a:hlinkClick r:id="rId13"/>
              </a:rPr>
              <a:t>- </a:t>
            </a:r>
            <a:r>
              <a:rPr b="0" lang="zh-CN" sz="3200" spc="-1" strike="noStrike" u="sng">
                <a:solidFill>
                  <a:srgbClr val="336699"/>
                </a:solidFill>
                <a:uFillTx/>
                <a:latin typeface="Arial"/>
                <a:hlinkClick r:id="rId14"/>
              </a:rPr>
              <a:t>渔歌子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Arial"/>
                <a:hlinkClick r:id="rId16"/>
              </a:rPr>
              <a:t>l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7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绿色圃中小学教育网http://www.lspjy.com</dc:creator>
  <dc:description>绿色圃中小学教育网http://www.lspjy.com
</dc:description>
  <cp:keywords>绿色圃中小学教育网http://www.lspjy.com</cp:keywords>
  <dc:language>en-US</dc:language>
  <cp:lastModifiedBy>微软用户</cp:lastModifiedBy>
  <dcterms:modified xsi:type="dcterms:W3CDTF">2012-05-08T15:12:45Z</dcterms:modified>
  <cp:revision>67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