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E64-25F4-4BCC-8147-05B03472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1EE-B923-4B9F-AA78-0275E81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40350-F1AD-49D3-AB97-D9D50E5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5C3B4-9277-433F-8D21-2E1F206D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F450C-A961-48F6-B6F6-2F88F585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C1FB1-858C-4613-8350-7D7FE00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B76C2-B50E-407E-8F26-F861583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4C0D6-FABA-4235-95BC-5780AD9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48C39-597D-4AEE-8624-7AAFAE45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91C51-4744-448C-911A-16FD234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2F998-8D19-49DF-B8C8-B9DA4C9E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59E55-4444-4DBF-A2B3-62AB67C8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93A-8A4D-4EF9-8386-9833591D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3A92-41EC-444C-B304-47A438AE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74804-58C5-461B-A070-EE8E596D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59AD-F131-4E0E-BCA4-67A2E703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30EC-2CA6-4012-8E34-E1C745A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2BBD9-8F77-4512-B310-DF44C26D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64986-0299-4EBF-A672-D878556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759DF-7444-4355-8F01-E3531E8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FDF4-B720-45D5-BF2A-D5C2B80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74EAC-37BA-4833-A67D-938E2B21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95570-0DF7-4A44-8360-6DF11797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32A-4DE8-4581-A84B-94074D6D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E032A-9354-4117-9243-05A75DF9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2392D-1615-4AE5-B86B-5EA2D431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3786-68BE-456B-8666-3451519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5420E-C2D4-487C-9F8A-D5F8BDEB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34FC3-9371-419F-992E-FC608B8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D5F41-5049-4938-9972-783DF9BD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9290-1F76-4AE8-BB07-234C4BDB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E1352-F01B-47C7-BC31-0B98F3C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7929-8095-45ED-A233-6003AB1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E5D39-97F6-47C3-A2FE-DF39845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1F1-75B5-4A1F-A060-0B698D17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50AF1-409A-4BF2-BC0B-1451236E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69379-310C-4F91-AE20-8ABE7FD7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AB305-4993-4BD7-A63D-F37B7CD0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81153-8AD5-445E-AD40-0B117739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206F2-6E01-4D4D-9F5F-A3E5CB7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58D81-1EBA-4525-B952-BE6FE259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A9CB-D82F-44A9-AAC3-4F5AE3F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5DA98-2D26-4821-8758-CA68FBC7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9C12C-2340-488E-9DAF-F0A8374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527BC-DED5-4ECA-B42C-B6559E3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9A0C-092E-47E7-B5CF-6A594C9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92CC0-3584-47EC-9611-C318953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0CFB8-658E-4B55-9475-E6E4FB0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B582-E7EE-494B-BECF-F16EB3E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67F42-C38B-4200-AAAF-6E70615F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EC835-FB68-49C2-8B58-91E76933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204F-1507-42B2-AAAB-B50E0490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DB6A-B03E-43EA-87D5-3E4B862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A8D-85A1-446C-B6AB-44F1546E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9D0-0B97-4BE3-B075-1B03108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07A-510E-47D0-A9DF-F4EAD56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C52-2D29-4BCC-9B0A-6F495535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348-FCF2-4254-83BB-5333AB2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FB41-7D19-42E0-AFE8-32C1A2F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82B2-5641-4A31-8DDE-66F8188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6511-2E6E-40F4-A68D-AC479C9A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D2BC-58E9-4A55-86DD-B0CACB84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484E-67F4-4E33-BF72-CDDBEE22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9A45-8F82-4297-B702-5EE4DBB6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D85C-D258-46C5-8F3A-2EC238E5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7FDF-A80D-429C-B65B-4E1FA16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A9B1-3E18-4388-81A1-3C37795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DA5-CFA0-4B97-B041-E7570CC0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33F0-F93E-46FF-B292-5354D09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4F1A-0036-4BA3-8137-DBB4BD2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CB83-14D8-46EB-B355-F609E50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1A43-6FD8-48A5-8A36-DC4AB15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3CDD-8180-4013-BA54-FB897114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7078-2914-4DE4-8454-66809E7A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E221-6087-4A85-9257-24F30878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E653-73D1-4FB4-8932-2FB10111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83E1-242B-4969-8043-61F0063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5F2C-2511-4BD6-99D4-C8C0203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5DF-DB8B-40C3-80EF-8A13BF9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A37C-B3B5-4202-A284-18EB702C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DD1F-DAE2-420D-8199-E09C33B0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D6462-36AD-4B53-A336-2EC95E1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D08E-45C7-46CD-B241-4AE07B74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D7CC-3798-4BA5-9CD6-B1B6942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8BA1-DBEC-4C85-8D35-37295A48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9926-7C5A-425C-A54D-CA968DC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55FC-A1D9-4886-8146-310385D0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E6BA-9FBC-463C-B121-1F3EA498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DAD6-2A41-4C7A-A99A-3FE1F0A1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23F-9563-4833-87D9-EC98C05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8974-D31F-4047-A8C4-D89F6B1D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A97D-1686-4B1F-861B-F6B484C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412F-58AC-4F40-B42B-6021506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857D-B71A-467B-B2FF-BE0711B0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CB6F-436D-403C-B294-8B52146F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DAB8-B3A1-44E8-9E0A-EE220DB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835C-4C1A-4399-B1D2-3AACC532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124E-F4B5-43E8-8E43-F6D5643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4D445-B7DE-4ECD-A36B-8514AA2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C99D1-8DD0-4AED-9B7A-59F54C18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FA6-BC49-4D33-B9B9-8E4A0E9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12DF-6C2D-4C97-BFAF-2A15ABAD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FA09-34DB-48EF-BDC6-0C6B702C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35DC-966C-4345-BC20-B1EB065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C374-8659-4484-9608-91BB6E1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5B793-DB24-443D-817E-F94F69F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8AF8-B5CA-4882-9EA8-23026A70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C78F-7279-4BC7-8285-5987A6A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FEEF-1608-4EB4-90E7-BC39478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D102-7047-4175-A84F-215C2786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9EAE-5D29-43D2-A8EF-826BA33D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47B-CB72-4183-BA34-BA27D0B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10A09-7BE4-4758-943F-420B2D33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A78D0-B5DB-4773-B199-99197B5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2C7F-7BF2-4C12-AE66-D3837AC6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59D84-F43B-4EFA-9FE0-C22C1543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F1E2F-0B11-47A7-991E-48D391D3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997F-33B6-4F5F-837D-A56AAA0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E110C-F058-42D3-B4CD-B3DE381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23531-C04D-49AB-B837-3D8A442A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F913-CA29-405F-A9B6-F0D8D1CF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B7FC8-3AAA-47F2-8A07-3F1E4B56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7EE-3DE3-4F98-A990-42B0F65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6462-1BB9-40F2-A4B8-B93FD39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5D1F4-4D33-4ED9-90AA-E42DFF9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AD548-F261-4E20-8A90-A8EA8B9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941B-AE19-4884-8E33-02FC8C5E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F78F-B1D1-4FC3-8DFD-B2EA9988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25F3-F44D-4FEA-BB28-91E3E4AF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4736B-225D-4D6E-8B58-D3EBA37F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AA8F9-D53F-411C-B8B3-126C8E51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FC13C-C3A6-4558-A57D-4BE9609F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04C1-3510-42CF-95C7-557B64D8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2FB-A58E-4556-84BB-FB69BAB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ADFB-16F4-4DF8-AA8A-CB04A6E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40DAC-F2B2-4C38-89EC-DB93D55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F99A-5C04-49B0-A41B-D4A54DB4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91D0-9661-4E42-B288-3059C0E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4E7F9-BB9F-40E1-99D9-60AF551B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1BFCE-A1B5-46E6-A3C7-CC0483B3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C7D91-C8CC-458B-9582-B8E32F9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C515E-8725-43EC-98BF-71B418A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A6574-2DB0-454F-B15F-8615B18B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334AA-B1E0-4604-A18F-05350D6E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7A0-42E0-45C1-AAC9-CA03DB8ACDD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D3B-CA35-4016-A4D7-4F7D61A5F63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461" name="矩形 10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8A92-D6C5-4B9A-BD28-FA18440B72C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A95-3D60-4F95-A1CA-55B03F315904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49" name="矩形 10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F236-5923-46F7-919B-BF0C97EDE53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3FC-26A7-4ECC-9A39-6B916B37647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41" name="矩形 10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A7EE-77AA-4EC2-9F6E-739FBD16E33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87" name="矩形 10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696D-9A59-4A47-B4D9-88DE14EA25E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233" name="矩形 10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AA7-4F03-4E17-99FD-AE98F94E162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279" name="矩形 10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42A-C14C-44F4-BA49-C8A66D6C47A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D425-AFDB-41BB-9E1B-C11547482E4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柳永《雨霖铃》写意"/>
          <p:cNvPicPr/>
          <p:nvPr/>
        </p:nvPicPr>
        <p:blipFill>
          <a:blip r:embed="rId3"/>
          <a:stretch/>
        </p:blipFill>
        <p:spPr>
          <a:xfrm>
            <a:off x="5508720" y="4581360"/>
            <a:ext cx="3193920" cy="212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蜗牛老师04"/>
          <p:cNvPicPr/>
          <p:nvPr/>
        </p:nvPicPr>
        <p:blipFill>
          <a:blip r:embed="rId4"/>
          <a:stretch/>
        </p:blipFill>
        <p:spPr>
          <a:xfrm>
            <a:off x="7812000" y="2602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70" name="矩形 10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0FD-CCA0-49C8-97AD-B5702AFBA30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90560" y="1159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00"/>
                </a:solidFill>
                <a:uFillTx/>
                <a:latin typeface="Arial"/>
                <a:ea typeface="叶根友特隶简体"/>
              </a:rPr>
              <a:t>关于离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259080" y="1484280"/>
            <a:ext cx="29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悲莫悲兮生别离，乐莫乐兮新相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屈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九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少司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009600" y="2565360"/>
            <a:ext cx="19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黯然销魂者，唯别而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江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别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902680" y="3562200"/>
            <a:ext cx="21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剪不断，理还乱，是离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李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相见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2796120" y="4570560"/>
            <a:ext cx="24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何处合成愁？离人心上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吴文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唐多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启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6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7"/>
          <p:cNvSpPr/>
          <p:nvPr/>
        </p:nvSpPr>
        <p:spPr>
          <a:xfrm>
            <a:off x="8026920" y="692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53a20"/>
                </a:solidFill>
                <a:latin typeface="MS UI Gothic"/>
                <a:ea typeface="MS UI Gothic"/>
              </a:rPr>
              <a:t>雨霖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37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52293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928800" y="1371600"/>
            <a:ext cx="402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今宵酒醒何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杨柳岸晓风残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52280" y="42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名句赏析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30492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想象画面：一舟临岸，词人酒醒梦回，只见习习晓风吹拂萧萧疏柳，一弯残月高挂梢头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横卷形 5"/>
          <p:cNvSpPr/>
          <p:nvPr/>
        </p:nvSpPr>
        <p:spPr>
          <a:xfrm>
            <a:off x="428760" y="285840"/>
            <a:ext cx="1428480" cy="1285920"/>
          </a:xfrm>
          <a:prstGeom prst="horizontalScroll">
            <a:avLst>
              <a:gd name="adj" fmla="val 12500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138240" y="1905120"/>
            <a:ext cx="923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喜时杜甫说：“白日放歌须纵酒，青春作伴好还乡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感慨时曹操说：“对酒当歌，人生几何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惜别时王维说：“劝君更进一杯酒，西出阳关无故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愁时李白说：“抽刀断水水更流，举杯消愁愁更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孤独时李白说：“举杯邀明月，对影成三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思念时苏轼说：“明月几时有，把酒问青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哀伤时李清照说：“三杯两盏淡酒，怎敌他，晚来风急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流程图: 资料带 8"/>
          <p:cNvSpPr/>
          <p:nvPr/>
        </p:nvSpPr>
        <p:spPr>
          <a:xfrm>
            <a:off x="1714680" y="5572080"/>
            <a:ext cx="1500120" cy="928800"/>
          </a:xfrm>
          <a:prstGeom prst="flowChartPunchedTap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酒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右箭头 9"/>
          <p:cNvSpPr/>
          <p:nvPr/>
        </p:nvSpPr>
        <p:spPr>
          <a:xfrm>
            <a:off x="3429000" y="5786280"/>
            <a:ext cx="1071720" cy="3574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流程图: 资料带 10"/>
          <p:cNvSpPr/>
          <p:nvPr/>
        </p:nvSpPr>
        <p:spPr>
          <a:xfrm>
            <a:off x="4643280" y="5500800"/>
            <a:ext cx="1500480" cy="928440"/>
          </a:xfrm>
          <a:prstGeom prst="flowChartPunchedTap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愁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7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离人借酒消愁，但举杯消愁愁更愁，帐饮时已然无绪，更何况酒醒之后？此时，前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执手相看泪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的景象依然鲜明在心，而如今却是形影相吊，前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千里烟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不知所终，只能离爱人越行越远，可想而知词人的心情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流程图: 资料带 8"/>
          <p:cNvSpPr/>
          <p:nvPr/>
        </p:nvSpPr>
        <p:spPr>
          <a:xfrm>
            <a:off x="1981080" y="5105520"/>
            <a:ext cx="1500480" cy="928440"/>
          </a:xfrm>
          <a:prstGeom prst="flowChartPunchedTap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酒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箭头 9"/>
          <p:cNvSpPr/>
          <p:nvPr/>
        </p:nvSpPr>
        <p:spPr>
          <a:xfrm>
            <a:off x="4038480" y="5486400"/>
            <a:ext cx="107172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流程图: 资料带 10"/>
          <p:cNvSpPr/>
          <p:nvPr/>
        </p:nvSpPr>
        <p:spPr>
          <a:xfrm>
            <a:off x="5562720" y="5105520"/>
            <a:ext cx="1500120" cy="928440"/>
          </a:xfrm>
          <a:prstGeom prst="flowChartPunchedTap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e90f3e"/>
                </a:solidFill>
                <a:latin typeface="黑体"/>
                <a:ea typeface="黑体"/>
              </a:rPr>
              <a:t>愁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图片 5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511280" y="115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00"/>
                </a:solidFill>
                <a:uFillTx/>
                <a:latin typeface="Arial"/>
                <a:ea typeface="叶根友特隶简体"/>
              </a:rPr>
              <a:t>拓展应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539640" y="112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诗词本是一家，那么大家能不能选取</a:t>
            </a:r>
            <a:r>
              <a:rPr b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雨霖铃</a:t>
            </a:r>
            <a:r>
              <a:rPr b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中的意象，把这首词改写成诗呢？试试看吧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4093560" y="29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迷你简启体"/>
                <a:ea typeface="迷你简启体"/>
              </a:rPr>
              <a:t>别佳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迷你简启体"/>
                <a:ea typeface="迷你简启体"/>
              </a:rPr>
              <a:t>帐饮都门外，相望兰亭边。凝噎留意处，执手望泪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迷你简启体"/>
                <a:ea typeface="迷你简启体"/>
              </a:rPr>
              <a:t>晓风杨柳岸，良景徒虚年。纵有千番情，更与何人言。</a:t>
            </a:r>
            <a:r>
              <a:rPr b="0" lang="zh-CN" sz="2400" spc="-1" strike="noStrike">
                <a:solidFill>
                  <a:srgbClr val="ff3300"/>
                </a:solidFill>
                <a:latin typeface="迷你简启体"/>
                <a:ea typeface="迷你简启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547640" y="4149720"/>
            <a:ext cx="574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迷你简启体"/>
              </a:rPr>
              <a:t>长亭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迷你简启体"/>
              </a:rPr>
              <a:t>寒蝉凄切骤雨歇，执手相望语凝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迷你简启体"/>
              </a:rPr>
              <a:t>杨柳晓风残月夜，那堪冷落清秋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" descr="http_imgloadCA70RLN2.jpg"/>
          <p:cNvPicPr/>
          <p:nvPr/>
        </p:nvPicPr>
        <p:blipFill>
          <a:blip r:embed="rId2"/>
          <a:stretch/>
        </p:blipFill>
        <p:spPr>
          <a:xfrm>
            <a:off x="7812000" y="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511280" y="115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00"/>
                </a:solidFill>
                <a:uFillTx/>
                <a:latin typeface="Arial"/>
                <a:ea typeface="叶根友特隶简体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684360" y="2462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书体坊米芾体"/>
              </a:rPr>
              <a:t>忆柳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书体坊米芾体"/>
              </a:rPr>
              <a:t>忍把浮名换浅唱，只为儿女道情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书体坊米芾体"/>
              </a:rPr>
              <a:t>烟花巷陌君常在，倚翠偎红平生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书体坊米芾体"/>
              </a:rPr>
              <a:t>奉旨填词无冕王，井水歌罢美名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书体坊米芾体"/>
              </a:rPr>
              <a:t>多情最是雨霖铃，至今怀念柳七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679560" y="123192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一曲雨霖铃，千古离别情。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片 4" descr="http_imgloadCA70RLN2.jpg"/>
          <p:cNvPicPr/>
          <p:nvPr/>
        </p:nvPicPr>
        <p:blipFill>
          <a:blip r:embed="rId2"/>
          <a:stretch/>
        </p:blipFill>
        <p:spPr>
          <a:xfrm>
            <a:off x="7667640" y="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4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6" descr="蝶恋花.jpg"/>
          <p:cNvPicPr/>
          <p:nvPr/>
        </p:nvPicPr>
        <p:blipFill>
          <a:blip r:embed="rId3"/>
          <a:stretch/>
        </p:blipFill>
        <p:spPr>
          <a:xfrm>
            <a:off x="179280" y="1197000"/>
            <a:ext cx="5832720" cy="4535640"/>
          </a:xfrm>
          <a:prstGeom prst="rect">
            <a:avLst/>
          </a:prstGeom>
          <a:ln w="0">
            <a:noFill/>
          </a:ln>
        </p:spPr>
      </p:pic>
      <p:sp>
        <p:nvSpPr>
          <p:cNvPr id="611" name="TextBox 7"/>
          <p:cNvSpPr/>
          <p:nvPr/>
        </p:nvSpPr>
        <p:spPr>
          <a:xfrm>
            <a:off x="380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6669360" y="1268280"/>
            <a:ext cx="21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阅读柳永的</a:t>
            </a:r>
            <a:r>
              <a:rPr b="1" lang="en-US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蝶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花</a:t>
            </a:r>
            <a:r>
              <a:rPr b="1" lang="en-US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，思考作者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取了哪些意象，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造出什么样的意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表达了什么样的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感？在此基础上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一段不少于</a:t>
            </a:r>
            <a:r>
              <a:rPr b="1" lang="en-US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鉴赏短文。</a:t>
            </a:r>
            <a:r>
              <a:rPr b="0" lang="zh-CN" sz="28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伫倚危楼风细细。望极春愁，黯黯生天际。草色烟光残照里。无言谁会凭阑意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拟把疏狂图一醉。对酒当歌，强乐还无味。衣带渐宽终不悔。为伊消得人憔悴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105264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柳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80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5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福建崇安人，原名三变，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第七，世称柳七。少年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汴京应试，狂放不羁，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擅长词曲，熟悉了许多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妓，经常流连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秦楼楚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她们填词作曲，表现了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浪子作风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永因了这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不进倍受打击，之后在汴京、苏州、杭州一带过着流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生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方考取进士，做过几任小官。晚年客死襄阳，家无余财，群妓合金葬之南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3" descr="72fe2e2e03ab15704fc22687"/>
          <p:cNvPicPr/>
          <p:nvPr/>
        </p:nvPicPr>
        <p:blipFill>
          <a:blip r:embed="rId2"/>
          <a:stretch/>
        </p:blipFill>
        <p:spPr>
          <a:xfrm>
            <a:off x="4643280" y="189000"/>
            <a:ext cx="4213440" cy="3932280"/>
          </a:xfrm>
          <a:prstGeom prst="rect">
            <a:avLst/>
          </a:prstGeom>
          <a:ln w="0">
            <a:noFill/>
          </a:ln>
        </p:spPr>
      </p:pic>
      <p:sp>
        <p:nvSpPr>
          <p:cNvPr id="617" name="TextBox 3"/>
          <p:cNvSpPr/>
          <p:nvPr/>
        </p:nvSpPr>
        <p:spPr>
          <a:xfrm>
            <a:off x="50112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4038480" y="117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隶书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2602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永才情卓著，但一生仕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坎坷，在北宋著名词人中，他的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最低，但在词史上却占有重要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。他是北宋第一个专力写词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，也是第一个大量写作慢词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词在当时便为人传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据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有井水处，即能歌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永在与歌妓一起生活中得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感情上的慰藉，同时他深深了解歌伎们的生活，同 情她们的不幸遭遇。所以他的作品，很多是反映同她们在一起的悲欢离合，感情真挚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雨霖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是其中的一首，这首词写的是他离开都城汴京时与一位红颜知已缠绵悱恻、哀婉动人的别离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图片 2" descr="QQ截图未命名.jpg"/>
          <p:cNvPicPr/>
          <p:nvPr/>
        </p:nvPicPr>
        <p:blipFill>
          <a:blip r:embed="rId2"/>
          <a:stretch/>
        </p:blipFill>
        <p:spPr>
          <a:xfrm>
            <a:off x="5508720" y="260280"/>
            <a:ext cx="331128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图片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" descr="Zi"/>
          <p:cNvPicPr/>
          <p:nvPr/>
        </p:nvPicPr>
        <p:blipFill>
          <a:blip r:embed="rId3"/>
          <a:stretch/>
        </p:blipFill>
        <p:spPr>
          <a:xfrm>
            <a:off x="611280" y="0"/>
            <a:ext cx="2760480" cy="2971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4"/>
          <p:cNvSpPr/>
          <p:nvPr/>
        </p:nvSpPr>
        <p:spPr>
          <a:xfrm>
            <a:off x="6804000" y="692280"/>
            <a:ext cx="165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Times New Roman"/>
                <a:ea typeface="隶书"/>
              </a:rPr>
              <a:t>雨 霖 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 flipH="1">
            <a:off x="5871600" y="2708280"/>
            <a:ext cx="911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Times New Roman"/>
                <a:ea typeface="隶书"/>
              </a:rPr>
              <a:t>柳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yulinlin"/>
          <p:cNvPicPr/>
          <p:nvPr/>
        </p:nvPicPr>
        <p:blipFill>
          <a:blip r:embed="rId4"/>
          <a:stretch/>
        </p:blipFill>
        <p:spPr>
          <a:xfrm>
            <a:off x="611280" y="2495520"/>
            <a:ext cx="4681440" cy="40132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7"/>
          <p:cNvSpPr/>
          <p:nvPr/>
        </p:nvSpPr>
        <p:spPr>
          <a:xfrm>
            <a:off x="615960" y="3427920"/>
            <a:ext cx="10335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4" descr="z.jpg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62" name="标题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了解宋词相关的知识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体会诗歌的感情，并把握其意境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品味诗歌的语言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66"/>
                </a:solidFill>
                <a:latin typeface="Times New Roman"/>
                <a:ea typeface="隶书"/>
              </a:rPr>
              <a:t>解    题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80880" y="2057400"/>
            <a:ext cx="8534520" cy="33436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雨霖铃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词牌名，也写作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淋铃</a:t>
            </a:r>
            <a:r>
              <a:rPr b="1" lang="en-US" sz="40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。此曲就是柳永取唐时旧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翻制而成。相传，唐玄宗入蜀时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在雨中闻铃声而思念杨贵妃，故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此曲。曲调自身就具有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哀伤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</a:rPr>
              <a:t>的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11280" y="333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00"/>
                </a:solidFill>
                <a:uFillTx/>
                <a:latin typeface="Arial"/>
                <a:ea typeface="叶根友特隶简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2746440" y="35863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柳永雨霖铃诗画"/>
          <p:cNvPicPr/>
          <p:nvPr/>
        </p:nvPicPr>
        <p:blipFill>
          <a:blip r:embed="rId2"/>
          <a:stretch/>
        </p:blipFill>
        <p:spPr>
          <a:xfrm>
            <a:off x="384804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8"/>
          <p:cNvSpPr/>
          <p:nvPr/>
        </p:nvSpPr>
        <p:spPr>
          <a:xfrm>
            <a:off x="250920" y="19890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启体"/>
              </a:rPr>
              <a:t>问题：词中哪句话集中表现了作者和恋人离别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50920" y="4581360"/>
            <a:ext cx="356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多情自古伤离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更那堪，冷落清秋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672480" y="1268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该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前三句借用哪些意象，勾勒出怎样的意境？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3"/>
          <p:cNvSpPr/>
          <p:nvPr/>
        </p:nvSpPr>
        <p:spPr>
          <a:xfrm>
            <a:off x="4520160" y="1341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启体"/>
              </a:rPr>
              <a:t>执手相看泪眼，竟无语凝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013840" y="2637000"/>
            <a:ext cx="464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一个“竟”字，强调了作者什么样的心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把“执手”换成“牵手”或“握手”好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4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2"/>
          <p:cNvSpPr/>
          <p:nvPr/>
        </p:nvSpPr>
        <p:spPr>
          <a:xfrm>
            <a:off x="862200" y="189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800000"/>
                </a:solidFill>
                <a:uFillTx/>
                <a:latin typeface="Arial"/>
                <a:ea typeface="叶根友特隶简体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42920" y="4292640"/>
            <a:ext cx="60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时无声胜有声，说是“无语”，其实有千言万语。柳永和恋人“相顾无言，惟有泪千行”，悲痛得说不出话来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f2f"/>
                </a:solidFill>
                <a:latin typeface="Franklin Gothic Medium"/>
              </a:rPr>
              <a:t>　念去去，千里烟波，</a:t>
            </a:r>
            <a:br>
              <a:rPr sz="4000"/>
            </a:br>
            <a:r>
              <a:rPr b="1" lang="zh-CN" sz="4000" spc="-1" strike="noStrike">
                <a:solidFill>
                  <a:srgbClr val="2f2f2f"/>
                </a:solidFill>
                <a:latin typeface="Franklin Gothic Medium"/>
              </a:rPr>
              <a:t>暮霭沉沉楚天阔。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诗句中用到哪些意象，渲染了怎样的意境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539640" y="16430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今宵酒醒何处？杨柳岸，晓风残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994040" y="2570040"/>
            <a:ext cx="5387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这一句被词评家贺裳称为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千古俊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酒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无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柳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留人，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晓风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秀丽，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残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凄迷。作者借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抒情，用这些意象集中渲染了自己借酒浇愁、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闷难捱的愁苦心情。 正所谓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“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人生自是有情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此恨不关风与月。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迷你简启体"/>
              </a:rPr>
              <a:t>”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 （欧阳修</a:t>
            </a:r>
            <a:r>
              <a:rPr b="1" lang="en-US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《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玉楼春</a:t>
            </a:r>
            <a:r>
              <a:rPr b="1" lang="en-US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》</a:t>
            </a:r>
            <a:r>
              <a:rPr b="1" lang="zh-CN" sz="2800" spc="-1" strike="noStrike">
                <a:solidFill>
                  <a:srgbClr val="800000"/>
                </a:solidFill>
                <a:latin typeface="迷你简启体"/>
                <a:ea typeface="迷你简启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4" descr="http_imgloadCA70RLN2.jpg"/>
          <p:cNvPicPr/>
          <p:nvPr/>
        </p:nvPicPr>
        <p:blipFill>
          <a:blip r:embed="rId2"/>
          <a:stretch/>
        </p:blipFill>
        <p:spPr>
          <a:xfrm>
            <a:off x="7667640" y="189000"/>
            <a:ext cx="11304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49:31Z</dcterms:created>
  <dc:creator>微软用户</dc:creator>
  <dc:description/>
  <dc:language>en-US</dc:language>
  <cp:lastModifiedBy>tclsevers</cp:lastModifiedBy>
  <dcterms:modified xsi:type="dcterms:W3CDTF">2015-09-06T01:00:51Z</dcterms:modified>
  <cp:revision>39</cp:revision>
  <dc:subject/>
  <dc:title>幻灯片 1</dc:title>
</cp:coreProperties>
</file>