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8AD-9A99-4A23-A2F5-A305AF1B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F93-25A8-43C7-902B-CF24F6A7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5D944-7490-49F3-ACB4-ED841988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CA496-18DF-40CB-9CC5-60BE0BEE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DE468-AD80-4AC0-BB74-76A2B3DD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03936-8580-4B6D-A393-5980804C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AA88E-C17C-401E-ACF9-F94DD588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F72B6-13E8-44B5-8F29-C13A94D3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3CCC4-E438-4F8B-A69B-FC0B2632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54D7D-41AC-425D-BEF3-C9DE876D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2FC98-31C9-4C3A-9693-DA8FAA18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16396-15D3-4F7B-BDAB-2668F6C1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63B-AD25-4D8E-9120-26624CCB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4B7A0-B4FD-43FE-93E8-CC995EA0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4222E-473E-4B9C-83B1-4A50F64E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EE4C1-8E9C-433B-83AB-E3C637DC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23A99-1286-491A-9FC9-FE5C8B64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15096-0E90-4B85-A17A-060DCF27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23AA2-2A4C-4C76-B96E-6CF611CB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D45D6-C297-4ED7-B066-DE385CCC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A9F4C-7351-42A7-A83A-3B9054B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4C140-B7AA-43C3-A0E4-260805DA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56C62-4914-47E8-952C-87B0AD7E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503-7FC5-4B8C-A9D2-3E11E251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F4A74-0974-4A0D-86F9-6540FC40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96027-41CE-4F8B-A019-834100A5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F39DF-7581-49EE-8516-AF2D177A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00E64-0307-452C-BA83-5A599682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9AE57-9D17-420C-95EA-F3D41590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BF86C-AF66-4C0A-B5F6-1DBB8944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F52E2-1F54-4A61-9F02-2423739D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0E9BF-A1C4-4937-9C78-86C7C18D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A0914-34BC-4C7B-B619-CD7804D2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BD0D5-98D7-42EF-81AB-BD0D0782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69EE-F37F-449C-8F71-1D142D00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AFA68-4FD4-46D2-89E4-2EC6D2F7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CDD21-ABD1-4990-929B-7B16F6B4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DD7BF-C584-4D53-86E0-E15FB38A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4E08-EAA0-44C5-8B86-9DCC63A7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930A-5F78-4BFB-9E62-6AAF9CD1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054F-64C7-42D2-A0AF-CB448DE8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7E8D-25CD-4F15-A984-9C3B55A6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23A6-3D9D-409E-B240-C6D54534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1A5D-A24E-4F5B-9B80-B0655F84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092-B634-4FDF-93C9-3462E357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FE2B-7F4A-43BB-B54A-5F418ED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6720-3291-40B8-8D6F-EEB2901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EAB2-1EED-44AB-A7E0-AF67084E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3DF8-CD26-4AB6-A9E7-73346C35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BF45-ACD2-4803-9BA9-A16C04B7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2980-67B2-407A-8558-1E23E870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6DDB-617F-4810-8720-9AD61DB8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E146-089F-4928-AEB6-47316F5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DA5D-EC27-4018-B30F-252B873D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46FC-2AB1-4CC5-8DEE-FF4E6017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3A5-55A2-42D8-86C0-4EE9526B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43D5-BCCF-4626-87F2-9B9CB397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07CF-F119-4FE2-9E88-4192A835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D1B4-4B9E-473C-A17F-B4D84F80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951C-A22E-4E23-9C1F-0681D5B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7F83-D62B-4285-AB89-DAE18B13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0B21-E937-47C6-A246-3C67DFD6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8022-B0DF-4472-9AC5-AC1C79E5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55FAE-2419-44C7-95AE-52EB6E5F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E675-C38D-4774-9E2B-25A2D957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267F5-06AC-49E6-907C-995AF054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E51-DEBF-4F24-808A-BAABDD97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841E-0E02-484E-A524-02D89B5C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2F528-ED37-4035-9E64-D323795D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3EB3C-CC28-4F33-B32C-6A29C064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F14FD-FEB4-49B4-B801-67669E56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03CD9-A92F-4D9E-B497-CBE365A1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D8EFA-E5F0-4D83-B658-720393A9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74925-BD12-468C-BD5B-D4536B10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5769D-AA1B-488E-9170-04726F18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FC5F0-9EFE-4BD3-8279-50DEFE60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514D3-8216-49EB-9451-D0ADBED6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C4F-DC76-40CB-BE71-14B0FAE8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03A81-965D-488C-A00B-EAA1AB7D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4EC6D-2CC2-42F1-8507-7D925D2B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8DC28-F393-43BA-9731-66E94629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D039C-1F3B-42D3-956A-F07F6027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A4EEA-1D5B-4F35-839F-D7C87435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BA087-2CA8-4A07-8EF2-7E526ADC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FDF4-0E28-4DEB-A020-42F3D5F8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96D57-19F2-47F2-AAD4-BC180F5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25249-8651-42FA-A0DC-286E8128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E4C24-EC30-43D2-AC07-D2270E75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64D-6F94-43DE-875D-55733CA8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E05E-3F5E-4035-95D9-6AD457E3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D76C6-A7A9-4539-BC23-49C68355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35BBA-E10D-47C8-A903-9AF773C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3A4EA-470E-4481-A3D4-7695A6DC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BF623-7A61-49B8-80A3-7CF37270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E00E1-456E-4438-A01C-D5EDA86D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82F9-888B-4AB3-95CF-F0EAC992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A1823-D61F-482B-B459-16371D29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829EF-FBE1-44BD-BCF9-AF5589C4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C4F12-AA89-4C7F-BBDA-9F5FBDC7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7AC-8111-4122-AFB9-E35AAA0E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89C9A-A99E-4F5C-A211-329D399C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13DC-CA3B-46A4-95CC-3E8973CA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F27EB-2AAD-4A54-A4DC-D67BAF6F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E03FD-D83F-4BCE-BB82-655280F4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99598-5B20-47A3-AA38-B6F40881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8EC2B-B883-4206-8C9F-24503171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A20D4-3A9D-4B9E-93FC-D18DC01A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29C95-924B-4A20-BE19-4D017665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7813B-C64A-41A4-B52E-0D85446D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7AAC9-7DB7-40D0-BDC3-54594B24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BC7-774D-4D3B-B265-E1572DC7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DB5FC-254E-4BB0-A022-73126DC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F6447-B3E6-4F39-858F-E52FD05B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515D-56A3-4614-84D5-41B753CA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52BB2-B32B-4CF9-822C-F5B6A236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2758B-055F-4CA3-8481-4C55C048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EDCCF-6735-41FA-AF9F-BD7A6CBA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12F45-28FB-4F08-A79D-6C7182CD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4623B-F209-43F9-9D5E-039AAC65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04396-0AC5-41A4-A706-8816F13F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4E37D-B694-4B01-AED1-0B3ECA10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AB3-41D5-4147-933D-D8581F4C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FDEE7-ABF9-4C09-9D65-89A3BDAB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D27B6-3006-41CA-A565-044C5867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CBDF6-4FAB-4B9E-93F2-E159358C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564EA-B486-495A-88B5-94C9E9F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152A0-8FB6-4DEC-ACE6-1F44011D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4B178-E3BF-4902-8A58-13123E70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777C6-9463-48A4-BFAF-9A10CA10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7F856-47CD-4173-8800-79ED2108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88057-67D9-407E-A5AC-8548C888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F1D4B-7D34-4B5B-B064-8101524E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95AE-E665-4A84-A190-693FF552BC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5D3E-E840-4046-AEB3-4181AC2B9E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2569-7F62-4DBD-8568-AA873D2C9710}" type="datetime">
              <a:rPr b="0" lang="zh-CN" sz="1400" spc="-1" strike="noStrike">
                <a:solidFill>
                  <a:srgbClr val="0033cc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BD42-B0A9-4C77-A80D-48181A2E421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CFD0-8C3B-4B21-B565-D0852A4DB4ED}" type="datetime">
              <a:rPr b="0" lang="zh-CN" sz="1400" spc="-1" strike="noStrike">
                <a:solidFill>
                  <a:srgbClr val="0033cc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C498-9879-4D52-BC2E-1D4652320A2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7160-3C06-494B-937E-19ED47E723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94A1-0627-478C-B7CF-E036BBDC3B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A544-8C0E-42B6-A24D-B10702041B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2442-075B-4C01-B8C7-CA32465D85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B02A-BDDE-4F1A-85D1-B6040B56730C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219-DB9D-4729-9496-9DCA1E1B0EF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9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C66B-2D00-4388-945F-665C86AAB0A4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91A-A639-4468-A40D-C86175F69F6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02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7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7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ED50-1F0E-49C0-BD4F-77FD4929D897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6AA5-EDD9-4DC4-9DCF-091871BBB362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5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F440-E2B6-44D5-BD71-A7318B0127B2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214D-7174-47F5-B6A9-373C26A0C3D1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FDDB-2B76-4CE5-80CE-C03E49F5577D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2260-2CBB-4877-B969-57881163B85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3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6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6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6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6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3900-5866-459C-B59E-7C86EE10A252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736D-4B02-49C8-9F63-233F626F914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1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2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2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3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video" Target="file:///tmp/home/.config/libreoffice/4/user/gallery/&#24050;&#24405;&#19979;&#30340;&#22768;&#38899;" TargetMode="External"/><Relationship Id="rId3" Type="http://schemas.microsoft.com/office/2007/relationships/media" Target="file:///tmp/home/.config/libreoffice/4/user/gallery/&#24050;&#24405;&#19979;&#30340;&#22768;&#38899;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258920" y="544500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青城山高级中学      苏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4A352-D48D-4998-9D75-80BE2E169F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16000" y="76500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舒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舒体"/>
              </a:rPr>
              <a:t>作者的感情是否和前面一致，有没有其他原因引起他的愁绪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95480" y="329076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258920" y="4525200"/>
            <a:ext cx="6985080" cy="8251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除离别外，词人还悲叹自己前途黯淡，归期渺茫，命运难测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16000" y="3141720"/>
            <a:ext cx="7632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050685F9-5BB1-46A7-A8A3-E13266AFD04A}" type="datetime1">
              <a:rPr lang="en-US"/>
              <a:t>07/29/26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46836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明代词评家贺裳称柳永此词中有一千古俊句，请同学们找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58920" y="227664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情自古</a:t>
            </a:r>
            <a:r>
              <a:rPr b="0" i="1" lang="zh-CN" sz="4400" spc="-1" strike="noStrike">
                <a:solidFill>
                  <a:srgbClr val="0000ff"/>
                </a:solidFill>
                <a:latin typeface="Arial"/>
              </a:rPr>
              <a:t>伤离别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更那堪冷落清秋节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258920" y="4005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今宵酒醒何处？</a:t>
            </a:r>
            <a:r>
              <a:rPr b="0" i="1" lang="zh-CN" sz="4400" spc="-1" strike="noStrike">
                <a:solidFill>
                  <a:srgbClr val="0000ff"/>
                </a:solidFill>
                <a:latin typeface="Arial"/>
              </a:rPr>
              <a:t>杨柳岸晓风残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26920" y="3789360"/>
            <a:ext cx="763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7A751FF1-5043-4521-8726-C63616153D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611280" y="333360"/>
            <a:ext cx="0" cy="431964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94920" y="620640"/>
            <a:ext cx="4249800" cy="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388360" y="2205000"/>
            <a:ext cx="0" cy="431964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716360" y="6165720"/>
            <a:ext cx="4032360" cy="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140360" y="3933720"/>
            <a:ext cx="165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24000" y="3933720"/>
            <a:ext cx="165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95280" y="386064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84720" y="3933720"/>
            <a:ext cx="165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076720" y="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赏意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279680" y="141300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出这句话中的常见意向，并说出其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优美的语言描述意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C90422C9-763E-468D-87A3-CA1685FF8A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2679840" y="1058760"/>
            <a:ext cx="102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7640" y="40464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杨柳岸    晓风     残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 rot="10800000">
            <a:off x="899640" y="3648600"/>
            <a:ext cx="66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推想与恋人分手后，在今夜酒醒的时候，扁舟空空，情景凄清，只看见岸边的杨柳随着晓风在飘拂，一弯残月，孤零零地挂在梢头。此情此景，妙在寓情于景，意在言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9FFBC-9AD4-4E23-871C-7DE220F817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1042920" y="836640"/>
            <a:ext cx="194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作业：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4" name=""/>
          <p:cNvSpPr/>
          <p:nvPr/>
        </p:nvSpPr>
        <p:spPr>
          <a:xfrm>
            <a:off x="684360" y="270828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自读《语文读本》上的柳永的《望海潮》，感受其意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fld id="{F864A7DC-AD74-4E4B-887C-5F484A48FF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539640" y="1022400"/>
            <a:ext cx="8282160" cy="316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了解柳永及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婉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词的风格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感受词中浓浓的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别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之情，提高审美情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掌握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情景交融，虚实相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特点，提高理解和鉴赏词的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A0177C62-4E58-450B-9942-688773F693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 flipH="1">
            <a:off x="468360" y="333360"/>
            <a:ext cx="8207280" cy="626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1042200" y="333360"/>
            <a:ext cx="3457800" cy="719280"/>
          </a:xfrm>
          <a:prstGeom prst="flowChartOnlineStorag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走近柳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971640" y="134136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柳永，字耆卿，名三变，世称柳屯田。屡试不第，作《鹤冲天》词云“忍把浮名，换了浅吟低唱”。后再次应试，宋仁宗故意将其黜落且曰：“且去浅斟低唱，何要浮名”。自是柳永便自称“奉旨填词柳三变”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他是北宋词坛的重要作家，婉约派的典型代表。中国历史上第一个专业的市民文学作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，叶梦得《避暑录话》云：“凡有井水饮处，皆能歌柳词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>
            <a:hlinkClick r:id="" action="ppaction://hlinkshowjump?jump=firstslide"/>
          </p:cNvPr>
          <p:cNvSpPr/>
          <p:nvPr/>
        </p:nvSpPr>
        <p:spPr>
          <a:xfrm>
            <a:off x="8028000" y="602136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12789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10944" y="3794"/>
                </a:lnTo>
                <a:lnTo>
                  <a:pt x="10944" y="17806"/>
                </a:lnTo>
                <a:lnTo>
                  <a:pt x="92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E6E77-9D29-4D74-A934-100113F35C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9280" y="836640"/>
            <a:ext cx="7921800" cy="5616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716360" y="692280"/>
            <a:ext cx="374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244000" y="333360"/>
            <a:ext cx="0" cy="439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667640" y="907920"/>
            <a:ext cx="0" cy="3097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236000" y="907920"/>
            <a:ext cx="0" cy="280836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04000" y="907920"/>
            <a:ext cx="0" cy="2521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28640" y="1341360"/>
            <a:ext cx="1826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雨霖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167600" y="3674160"/>
            <a:ext cx="5461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方正舒体"/>
                <a:ea typeface="方正舒体"/>
              </a:rPr>
              <a:t>柳   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858200" y="907920"/>
            <a:ext cx="21301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方正舒体"/>
                <a:ea typeface="方正舒体"/>
              </a:rPr>
              <a:t>       </a:t>
            </a:r>
            <a:r>
              <a:rPr b="0" lang="zh-CN" sz="3200" spc="-1" strike="noStrike">
                <a:solidFill>
                  <a:srgbClr val="080808"/>
                </a:solidFill>
                <a:latin typeface="方正舒体"/>
                <a:ea typeface="方正舒体"/>
              </a:rPr>
              <a:t>寒蝉凄切，对长亭晚</a:t>
            </a:r>
            <a:r>
              <a:rPr b="0" lang="zh-CN" sz="3200" spc="-1" strike="noStrike">
                <a:solidFill>
                  <a:srgbClr val="080808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080808"/>
                </a:solidFill>
                <a:latin typeface="方正舒体"/>
                <a:ea typeface="方正舒体"/>
              </a:rPr>
              <a:t>骤雨初歇。都门帐饮无绪留恋处兰舟催发，执手相看泪眼竟无语凝噎。念去去，千里烟波，暮霭沉沉楚天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方正舒体"/>
                <a:ea typeface="方正舒体"/>
              </a:rPr>
              <a:t>       </a:t>
            </a:r>
            <a:r>
              <a:rPr b="0" lang="zh-CN" sz="3200" spc="-1" strike="noStrike">
                <a:solidFill>
                  <a:srgbClr val="080808"/>
                </a:solidFill>
                <a:latin typeface="方正舒体"/>
                <a:ea typeface="方正舒体"/>
              </a:rPr>
              <a:t>多情自古伤离别更那堪冷落千秋节。今宵酒醒何处，杨柳岸晓风残月。此去经年，应是良辰好景虚设。便纵有千种风情，更与何人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55280" y="692280"/>
            <a:ext cx="403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11280" y="6237360"/>
            <a:ext cx="77058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55640" y="3860640"/>
            <a:ext cx="0" cy="2665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566100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fld id="{CBECADFF-D44D-4B4B-B06F-964791B1B7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611280" y="620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的上阕一般以写景为主，请找出上阕中描写景物的词语，你能通过这些词语想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773000" y="263700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寒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方正舒体"/>
              </a:rPr>
              <a:t>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547640" y="3573360"/>
            <a:ext cx="130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长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方正舒体"/>
              </a:rPr>
              <a:t>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839960" y="465300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微软雅黑"/>
              </a:rPr>
              <a:t>骤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方正舒体"/>
              </a:rPr>
              <a:t>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fld id="{4ECD1E4F-86DB-4524-BC81-BAD3E8441E9B}" type="datetime1">
              <a:rPr lang="en-US"/>
              <a:t>07/29/26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5707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361600" y="579600"/>
            <a:ext cx="479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寒蝉         长亭         骤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 rot="10830600">
            <a:off x="682920" y="1840680"/>
            <a:ext cx="7854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在寒蝉凄惨的叫声里，在暮色苍茫而又冷清的景象中，送别时面对长亭，该是多么动人愁思的境界。就在此时，阵阵骤雨，刚刚停歇，心上人即将天各一方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4E9D2-6251-4002-9F5C-09BF21792A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403280" y="126828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上阕有一处精妙的细节描写，请结合本册所学诗句说说妙在何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fld id="{579725B8-4C0E-4D63-B38F-EFFB620FBD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064720" cy="523404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042920" y="33336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华文行楷"/>
              </a:rPr>
              <a:t>执手相看泪眼，竟无语凝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76360" y="1773000"/>
            <a:ext cx="53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柔情蜜意千千万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唯在泪花闪烁间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该课件由【语文公社】http://www. 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1BC9E92-7C23-42DD-8197-EB306F8E05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8A47-3B06-4B44-9F17-75CE05A00635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930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1835280" y="39337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烟波     暮霭    楚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152080" y="836640"/>
            <a:ext cx="484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里烟波，暮霭沉沉楚天阔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景物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什么特点？与作者的“愁”有什么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5:40:12Z</dcterms:created>
  <dc:creator>YlmF</dc:creator>
  <dc:description/>
  <dc:language>en-US</dc:language>
  <cp:lastModifiedBy>999宝藏网</cp:lastModifiedBy>
  <dcterms:modified xsi:type="dcterms:W3CDTF">2011-01-04T05:39:21Z</dcterms:modified>
  <cp:revision>112</cp:revision>
  <dc:subject/>
  <dc:title>幻灯片 1</dc:title>
</cp:coreProperties>
</file>