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45EE-6DC3-49D0-B78B-010AE1F0E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BA86-88E8-4405-BD26-DE4904D9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9FCE-0493-45D4-943C-58F4D21B5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74C4-49D4-4FB3-B6DB-83BFF83E5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7A10-AAEF-4C0B-9B23-A87F58EC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03E7-8FCE-4147-91CB-30DDC005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94E6-7562-4F94-AB2D-8846400B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5714-3B7E-433C-A2BC-9FD097D1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86F9-109D-4505-A131-BFEE6B11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A0B8-C7AC-40F5-A432-54BF2585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3156-B4B8-4A92-863C-9325B387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10F6-9F95-4BAD-A76D-00DE2F68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5FEE-2845-4C40-92B7-681447ECFA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HDME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2916720" y="20880"/>
            <a:ext cx="3166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隶书"/>
              </a:rPr>
              <a:t>春花秋月何时了？往事知多少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隶书"/>
              </a:rPr>
              <a:t>小楼昨夜又东风，故国不堪回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隶书"/>
              </a:rPr>
              <a:t>月明中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隶书"/>
              </a:rPr>
              <a:t>雕栏玉砌应犹在，只是朱颜改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隶书"/>
              </a:rPr>
              <a:t>问君能有几多愁？恰似一江春水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隶书"/>
              </a:rPr>
              <a:t>向东流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616440" y="2070720"/>
            <a:ext cx="729000" cy="19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虞美人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214000" y="4138560"/>
            <a:ext cx="60696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  <a:ea typeface="隶书"/>
              </a:rPr>
              <a:t>李煜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"/>
                            </p:stCondLst>
                            <p:childTnLst>
                              <p:par>
                                <p:cTn id="19" dur="indefinite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Akc-0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380880" y="762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长亭、柳”：送别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1981080" y="533520"/>
            <a:ext cx="7162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cc33"/>
                </a:solidFill>
                <a:latin typeface="Times New Roman"/>
              </a:rPr>
              <a:t>渭城朝雨邑轻尘，客舍青青柳色新。（王维《送元二使安西》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cc33"/>
                </a:solidFill>
                <a:latin typeface="Times New Roman"/>
              </a:rPr>
              <a:t>寒蝉凄切，对长亭晚，骤雨初歇。（柳永《雨霖铃》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cc33"/>
                </a:solidFill>
                <a:latin typeface="Times New Roman"/>
              </a:rPr>
              <a:t>长亭外，古道边，芳草碧连天。（李叔同《送别》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1828800" y="609480"/>
            <a:ext cx="228600" cy="1143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1"/>
          <p:cNvPicPr/>
          <p:nvPr/>
        </p:nvPicPr>
        <p:blipFill>
          <a:blip r:embed="rId1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304920" y="838080"/>
            <a:ext cx="114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莲、梅”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高洁的品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676520" y="8380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予独爱莲之出淤泥而不染，濯清莲而不妖。（周敦颐《爱莲说》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无意苦争春，一任群芳妒。零落成泥碾作尘，只有香如故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陆游《卜算子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咏梅》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1143000" y="914400"/>
            <a:ext cx="380880" cy="1523880"/>
          </a:xfrm>
          <a:custGeom>
            <a:avLst/>
            <a:gdLst>
              <a:gd name="textAreaLeft" fmla="*/ 243360 w 380880"/>
              <a:gd name="textAreaRight" fmla="*/ 381240 w 3808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6" descr="bld1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bld10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1647000" y="657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雁：书信、相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724840" y="2004840"/>
            <a:ext cx="331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三杯两盏淡酒，怎敌他晚来风急。雁过也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正伤心，却是旧时相识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                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（李清照《声声慢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·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寻寻觅觅》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944000" y="8618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七、课堂小结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498760" y="4202280"/>
            <a:ext cx="4408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八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听邓丽君的歌                   ，在歌声中进一步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味这首词的意境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>
            <a:hlinkClick r:id="" action="ppaction://hlinkshowjump?jump=nextslide"/>
          </p:cNvPr>
          <p:cNvSpPr/>
          <p:nvPr/>
        </p:nvSpPr>
        <p:spPr>
          <a:xfrm>
            <a:off x="1676520" y="2666880"/>
            <a:ext cx="1371600" cy="890640"/>
          </a:xfrm>
          <a:custGeom>
            <a:avLst/>
            <a:gdLst>
              <a:gd name="textAreaLeft" fmla="*/ 57600 w 1371600"/>
              <a:gd name="textAreaRight" fmla="*/ 1314000 w 137160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33260" h="21600">
                <a:moveTo>
                  <a:pt x="0" y="0"/>
                </a:moveTo>
                <a:lnTo>
                  <a:pt x="33260" y="0"/>
                </a:lnTo>
                <a:lnTo>
                  <a:pt x="33260" y="21600"/>
                </a:lnTo>
                <a:lnTo>
                  <a:pt x="0" y="21600"/>
                </a:lnTo>
                <a:close/>
              </a:path>
              <a:path fill="lightenLess" w="33260" h="21600">
                <a:moveTo>
                  <a:pt x="0" y="0"/>
                </a:moveTo>
                <a:lnTo>
                  <a:pt x="33260" y="0"/>
                </a:lnTo>
                <a:lnTo>
                  <a:pt x="31860" y="1400"/>
                </a:lnTo>
                <a:lnTo>
                  <a:pt x="1400" y="1400"/>
                </a:lnTo>
                <a:close/>
              </a:path>
              <a:path fill="darken" w="33260" h="21600">
                <a:moveTo>
                  <a:pt x="33260" y="0"/>
                </a:moveTo>
                <a:lnTo>
                  <a:pt x="33260" y="21600"/>
                </a:lnTo>
                <a:lnTo>
                  <a:pt x="31860" y="20200"/>
                </a:lnTo>
                <a:lnTo>
                  <a:pt x="31860" y="1400"/>
                </a:lnTo>
                <a:close/>
              </a:path>
              <a:path fill="darkenLess" w="33260" h="21600">
                <a:moveTo>
                  <a:pt x="33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60" y="20200"/>
                </a:lnTo>
                <a:close/>
              </a:path>
              <a:path fill="lighten" w="33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4876920" y="2666880"/>
            <a:ext cx="1447560" cy="890640"/>
          </a:xfrm>
          <a:custGeom>
            <a:avLst/>
            <a:gdLst>
              <a:gd name="textAreaLeft" fmla="*/ 57600 w 1447560"/>
              <a:gd name="textAreaRight" fmla="*/ 1389960 w 144756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35101" h="21600">
                <a:moveTo>
                  <a:pt x="0" y="0"/>
                </a:moveTo>
                <a:lnTo>
                  <a:pt x="35101" y="0"/>
                </a:lnTo>
                <a:lnTo>
                  <a:pt x="35101" y="21600"/>
                </a:lnTo>
                <a:lnTo>
                  <a:pt x="0" y="21600"/>
                </a:lnTo>
                <a:close/>
              </a:path>
              <a:path fill="lightenLess" w="35101" h="21600">
                <a:moveTo>
                  <a:pt x="0" y="0"/>
                </a:moveTo>
                <a:lnTo>
                  <a:pt x="35101" y="0"/>
                </a:lnTo>
                <a:lnTo>
                  <a:pt x="33701" y="1400"/>
                </a:lnTo>
                <a:lnTo>
                  <a:pt x="1400" y="1400"/>
                </a:lnTo>
                <a:close/>
              </a:path>
              <a:path fill="darken" w="35101" h="21600">
                <a:moveTo>
                  <a:pt x="35101" y="0"/>
                </a:moveTo>
                <a:lnTo>
                  <a:pt x="35101" y="21600"/>
                </a:lnTo>
                <a:lnTo>
                  <a:pt x="33701" y="20200"/>
                </a:lnTo>
                <a:lnTo>
                  <a:pt x="33701" y="1400"/>
                </a:lnTo>
                <a:close/>
              </a:path>
              <a:path fill="darkenLess" w="35101" h="21600">
                <a:moveTo>
                  <a:pt x="35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1" y="20200"/>
                </a:lnTo>
                <a:close/>
              </a:path>
              <a:path fill="lighten" w="35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5181480" y="2743200"/>
            <a:ext cx="83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cc"/>
                </a:solidFill>
                <a:latin typeface="Times New Roman"/>
              </a:rPr>
              <a:t>诵读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cc"/>
                </a:solidFill>
                <a:latin typeface="Times New Roman"/>
              </a:rPr>
              <a:t>指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905120" y="2895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李煜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3733920" y="4191120"/>
            <a:ext cx="1500120" cy="662040"/>
          </a:xfrm>
          <a:custGeom>
            <a:avLst/>
            <a:gdLst>
              <a:gd name="textAreaLeft" fmla="*/ 42840 w 1500120"/>
              <a:gd name="textAreaRight" fmla="*/ 1457280 w 15001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48929" h="21600">
                <a:moveTo>
                  <a:pt x="0" y="0"/>
                </a:moveTo>
                <a:lnTo>
                  <a:pt x="48929" y="0"/>
                </a:lnTo>
                <a:lnTo>
                  <a:pt x="48929" y="21600"/>
                </a:lnTo>
                <a:lnTo>
                  <a:pt x="0" y="21600"/>
                </a:lnTo>
                <a:close/>
              </a:path>
              <a:path fill="lightenLess" w="48929" h="21600">
                <a:moveTo>
                  <a:pt x="0" y="0"/>
                </a:moveTo>
                <a:lnTo>
                  <a:pt x="48929" y="0"/>
                </a:lnTo>
                <a:lnTo>
                  <a:pt x="47529" y="1400"/>
                </a:lnTo>
                <a:lnTo>
                  <a:pt x="1400" y="1400"/>
                </a:lnTo>
                <a:close/>
              </a:path>
              <a:path fill="darken" w="48929" h="21600">
                <a:moveTo>
                  <a:pt x="48929" y="0"/>
                </a:moveTo>
                <a:lnTo>
                  <a:pt x="48929" y="21600"/>
                </a:lnTo>
                <a:lnTo>
                  <a:pt x="47529" y="20200"/>
                </a:lnTo>
                <a:lnTo>
                  <a:pt x="47529" y="1400"/>
                </a:lnTo>
                <a:close/>
              </a:path>
              <a:path fill="darkenLess" w="48929" h="21600">
                <a:moveTo>
                  <a:pt x="48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529" y="20200"/>
                </a:lnTo>
                <a:close/>
              </a:path>
              <a:path fill="lighten" w="48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《虞美人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K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0" y="762120"/>
            <a:ext cx="784872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李煜：</a:t>
            </a:r>
            <a:r>
              <a:rPr b="1" lang="zh-CN" sz="24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隶书"/>
                <a:ea typeface="隶书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⑴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后期的词发自内心，写的是从未有人写过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作为亡国之君的故国之思，而词中流露的，又主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是</a:t>
            </a:r>
            <a:r>
              <a:rPr b="0" lang="zh-CN" sz="2400" spc="-1" strike="noStrike">
                <a:solidFill>
                  <a:srgbClr val="9900cc"/>
                </a:solidFill>
                <a:latin typeface="隶书"/>
                <a:ea typeface="隶书"/>
              </a:rPr>
              <a:t>追惜年华、感慨人事变迁无情、哀叹命运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等容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引起普通人共鸣的情绪，因此艺术感染力大大加强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更由于他采用了唐五代词人少用的</a:t>
            </a:r>
            <a:r>
              <a:rPr b="1" lang="zh-CN" sz="2400" spc="-1" strike="noStrike">
                <a:solidFill>
                  <a:srgbClr val="00cc99"/>
                </a:solidFill>
                <a:latin typeface="隶书"/>
                <a:ea typeface="隶书"/>
              </a:rPr>
              <a:t>白描手法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，以</a:t>
            </a:r>
            <a:r>
              <a:rPr b="1" lang="zh-CN" sz="2400" spc="-1" strike="noStrike">
                <a:solidFill>
                  <a:srgbClr val="00cc99"/>
                </a:solidFill>
                <a:latin typeface="隶书"/>
                <a:ea typeface="隶书"/>
              </a:rPr>
              <a:t>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99"/>
                </a:solidFill>
                <a:latin typeface="隶书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0cc99"/>
                </a:solidFill>
                <a:latin typeface="隶书"/>
                <a:ea typeface="隶书"/>
              </a:rPr>
              <a:t>新的语言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写情，因而形成了他独特的风格，使他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为我国词史上一流的大家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-303120" y="4267080"/>
            <a:ext cx="906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⑵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前人吊李后主诗云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2400" spc="-1" strike="noStrike">
                <a:solidFill>
                  <a:srgbClr val="00cc99"/>
                </a:solidFill>
                <a:latin typeface="隶书"/>
                <a:ea typeface="隶书"/>
              </a:rPr>
              <a:t>作个才人真绝代，可怜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99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cc99"/>
                </a:solidFill>
                <a:latin typeface="隶书"/>
                <a:ea typeface="隶书"/>
              </a:rPr>
              <a:t>薄命作君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，这是对南唐后主李煜的真实评价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5">
            <a:hlinkClick r:id="" action="ppaction://hlinkshowjump?jump=previousslide"/>
          </p:cNvPr>
          <p:cNvSpPr/>
          <p:nvPr/>
        </p:nvSpPr>
        <p:spPr>
          <a:xfrm>
            <a:off x="7848720" y="6172200"/>
            <a:ext cx="738000" cy="433440"/>
          </a:xfrm>
          <a:custGeom>
            <a:avLst/>
            <a:gdLst>
              <a:gd name="textAreaLeft" fmla="*/ 28080 w 738000"/>
              <a:gd name="textAreaRight" fmla="*/ 709920 w 738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6765" h="21600">
                <a:moveTo>
                  <a:pt x="0" y="0"/>
                </a:moveTo>
                <a:lnTo>
                  <a:pt x="36765" y="0"/>
                </a:lnTo>
                <a:lnTo>
                  <a:pt x="36765" y="21600"/>
                </a:lnTo>
                <a:lnTo>
                  <a:pt x="0" y="21600"/>
                </a:lnTo>
                <a:close/>
              </a:path>
              <a:path fill="lightenLess" w="36765" h="21600">
                <a:moveTo>
                  <a:pt x="0" y="0"/>
                </a:moveTo>
                <a:lnTo>
                  <a:pt x="36765" y="0"/>
                </a:lnTo>
                <a:lnTo>
                  <a:pt x="35365" y="1400"/>
                </a:lnTo>
                <a:lnTo>
                  <a:pt x="1400" y="1400"/>
                </a:lnTo>
                <a:close/>
              </a:path>
              <a:path fill="darken" w="36765" h="21600">
                <a:moveTo>
                  <a:pt x="36765" y="0"/>
                </a:moveTo>
                <a:lnTo>
                  <a:pt x="36765" y="21600"/>
                </a:lnTo>
                <a:lnTo>
                  <a:pt x="35365" y="20200"/>
                </a:lnTo>
                <a:lnTo>
                  <a:pt x="35365" y="1400"/>
                </a:lnTo>
                <a:close/>
              </a:path>
              <a:path fill="darkenLess" w="36765" h="21600">
                <a:moveTo>
                  <a:pt x="367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65" y="20200"/>
                </a:lnTo>
                <a:close/>
              </a:path>
              <a:path fill="lighten" w="367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65" h="21600">
                <a:moveTo>
                  <a:pt x="11376" y="10800"/>
                </a:moveTo>
                <a:lnTo>
                  <a:pt x="25389" y="3794"/>
                </a:lnTo>
                <a:lnTo>
                  <a:pt x="25389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334880" y="-424080"/>
            <a:ext cx="5726160" cy="73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春化谢了，秋月淡去，时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一年一年溜过，到何时才是人生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尽头？多少的往事还依然记得清清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楚楚。昨晚，东风又吹进小楼，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月光下，实在不忍去回想我那失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的家国！往日宫中那些雕花的栏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和玉石的台阶，应该依旧在那里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只是如今人事已变，面目全非。我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真不知道往后还有多少悲愁？多少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悲愁，如满江的春水，永远不断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向东流，向东流…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7539480" y="49716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音译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3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3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907200" y="739800"/>
            <a:ext cx="738612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说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作者李煜，又称南唐后主。他做了十五年皇帝，国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而被俘。宋太宗封他做“违命侯”。从此，生活十分清苦，他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写信给旧日宫人说：“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  <a:ea typeface="隶书"/>
              </a:rPr>
              <a:t>此间日夕，以眼泪洗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。”后来，宋太宗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听说他于七夕节夜晚在寓中作乐，颇为生气；又因为他的这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词中有“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  <a:ea typeface="隶书"/>
              </a:rPr>
              <a:t>故国不堪回首月明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”的句子，便命人用毒药将李后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毒死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这首词是李后主到宋朝做俘虏后，第二年正月的一个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月夜里写的，距离他前一年正月受降时恰恰是一年。显然，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是一种纪念，所以，李后主才用“又东风”来表示又过了一年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意思。一国之君沦为阶下之囚，第一年的俘虏生涯，其愁苦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其悲切，真是非笔墨所能形容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   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  <a:ea typeface="隶书"/>
              </a:rPr>
              <a:t>作者一字一泪，读者一字一泪，歌者一字一泪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这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词的意境，沉痛悲凉，回肠荡气，被推为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  <a:ea typeface="隶书"/>
              </a:rPr>
              <a:t>千古绝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7696080" y="6095880"/>
            <a:ext cx="738360" cy="433440"/>
          </a:xfrm>
          <a:custGeom>
            <a:avLst/>
            <a:gdLst>
              <a:gd name="textAreaLeft" fmla="*/ 28080 w 738360"/>
              <a:gd name="textAreaRight" fmla="*/ 710280 w 738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6783" h="21600">
                <a:moveTo>
                  <a:pt x="0" y="0"/>
                </a:moveTo>
                <a:lnTo>
                  <a:pt x="36783" y="0"/>
                </a:lnTo>
                <a:lnTo>
                  <a:pt x="36783" y="21600"/>
                </a:lnTo>
                <a:lnTo>
                  <a:pt x="0" y="21600"/>
                </a:lnTo>
                <a:close/>
              </a:path>
              <a:path fill="lightenLess" w="36783" h="21600">
                <a:moveTo>
                  <a:pt x="0" y="0"/>
                </a:moveTo>
                <a:lnTo>
                  <a:pt x="36783" y="0"/>
                </a:lnTo>
                <a:lnTo>
                  <a:pt x="35383" y="1400"/>
                </a:lnTo>
                <a:lnTo>
                  <a:pt x="1400" y="1400"/>
                </a:lnTo>
                <a:close/>
              </a:path>
              <a:path fill="darken" w="36783" h="21600">
                <a:moveTo>
                  <a:pt x="36783" y="0"/>
                </a:moveTo>
                <a:lnTo>
                  <a:pt x="36783" y="21600"/>
                </a:lnTo>
                <a:lnTo>
                  <a:pt x="35383" y="20200"/>
                </a:lnTo>
                <a:lnTo>
                  <a:pt x="35383" y="1400"/>
                </a:lnTo>
                <a:close/>
              </a:path>
              <a:path fill="darkenLess" w="36783" h="21600">
                <a:moveTo>
                  <a:pt x="36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83" y="20200"/>
                </a:lnTo>
                <a:close/>
              </a:path>
              <a:path fill="lighten" w="36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83" h="21600">
                <a:moveTo>
                  <a:pt x="11385" y="10800"/>
                </a:moveTo>
                <a:lnTo>
                  <a:pt x="25398" y="3794"/>
                </a:lnTo>
                <a:lnTo>
                  <a:pt x="25398" y="17806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486160" y="37944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2364120" y="557280"/>
            <a:ext cx="105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介绍词的一般知识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33520" y="1828800"/>
            <a:ext cx="83055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词是隋唐时兴起的一种合乐可歌、句式长短不齐的诗体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词在形式上的特点是“</a:t>
            </a:r>
            <a:r>
              <a:rPr b="0" lang="zh-CN" sz="2400" spc="-1" strike="noStrike">
                <a:solidFill>
                  <a:srgbClr val="9900cc"/>
                </a:solidFill>
                <a:latin typeface="Times New Roman"/>
              </a:rPr>
              <a:t>调有定格，句有定数，字有定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词大多分段，一段就是一个乐段，叫“片”或“阕”，分两片的最为常见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③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词按字数分成</a:t>
            </a:r>
            <a:r>
              <a:rPr b="0" lang="zh-CN" sz="2400" spc="-1" strike="noStrike">
                <a:solidFill>
                  <a:srgbClr val="9900cc"/>
                </a:solidFill>
                <a:latin typeface="Times New Roman"/>
              </a:rPr>
              <a:t>小令、中调和长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种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以内为小令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9~9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为中调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以上为长调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406160" y="40464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词在唐宋的发展历程分为四个时期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838080" y="1397160"/>
          <a:ext cx="7620120" cy="432720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812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cc"/>
                          </a:solidFill>
                          <a:latin typeface="Times New Roman"/>
                        </a:rPr>
                        <a:t>时期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cc"/>
                          </a:solidFill>
                          <a:latin typeface="Times New Roman"/>
                        </a:rPr>
                        <a:t>主要风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cc"/>
                          </a:solidFill>
                          <a:latin typeface="Times New Roman"/>
                        </a:rPr>
                        <a:t>代表作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唐、五代、北宋初年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婉约艳丽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温庭筠、</a:t>
                      </a: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李煜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、晏殊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北宋中叶到南渡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婉约、豪放并举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苏轼、柳永、秦观、李清照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南宋前期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壮怀高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辛弃疾、陆游、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南宋后期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哀感低吟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姜夔、张炎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" dur="1" fill="hold"/>
                                  <p:tgtEl>
                                    <p:spTgt spid="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960200" y="425520"/>
            <a:ext cx="553752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诗歌诵读技巧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①“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音读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字准句清，音正腔圆，语调控制得体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②“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意读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读书声中见人物，读书语气中见事态，读书语调中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通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③“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情读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字字含情，句句融情，篇中洋溢着情感，以一己之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作者之情共鸣、共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④“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美读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追求形象美、形式美、韵律美、情趣美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3"/>
          <p:cNvSpPr/>
          <p:nvPr/>
        </p:nvSpPr>
        <p:spPr>
          <a:xfrm>
            <a:off x="7848720" y="5867280"/>
            <a:ext cx="890640" cy="509760"/>
          </a:xfrm>
          <a:custGeom>
            <a:avLst/>
            <a:gdLst>
              <a:gd name="textAreaLeft" fmla="*/ 32760 w 890640"/>
              <a:gd name="textAreaRight" fmla="*/ 857880 w 89064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7728" h="21600">
                <a:moveTo>
                  <a:pt x="0" y="0"/>
                </a:moveTo>
                <a:lnTo>
                  <a:pt x="37728" y="0"/>
                </a:lnTo>
                <a:lnTo>
                  <a:pt x="37728" y="21600"/>
                </a:lnTo>
                <a:lnTo>
                  <a:pt x="0" y="21600"/>
                </a:lnTo>
                <a:close/>
              </a:path>
              <a:path fill="lightenLess" w="37728" h="21600">
                <a:moveTo>
                  <a:pt x="0" y="0"/>
                </a:moveTo>
                <a:lnTo>
                  <a:pt x="37728" y="0"/>
                </a:lnTo>
                <a:lnTo>
                  <a:pt x="36328" y="1400"/>
                </a:lnTo>
                <a:lnTo>
                  <a:pt x="1400" y="1400"/>
                </a:lnTo>
                <a:close/>
              </a:path>
              <a:path fill="darken" w="37728" h="21600">
                <a:moveTo>
                  <a:pt x="37728" y="0"/>
                </a:moveTo>
                <a:lnTo>
                  <a:pt x="37728" y="21600"/>
                </a:lnTo>
                <a:lnTo>
                  <a:pt x="36328" y="20200"/>
                </a:lnTo>
                <a:lnTo>
                  <a:pt x="36328" y="1400"/>
                </a:lnTo>
                <a:close/>
              </a:path>
              <a:path fill="darkenLess" w="37728" h="21600">
                <a:moveTo>
                  <a:pt x="37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28" y="20200"/>
                </a:lnTo>
                <a:close/>
              </a:path>
              <a:path fill="lighten" w="37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28" h="21600">
                <a:moveTo>
                  <a:pt x="11857" y="3794"/>
                </a:moveTo>
                <a:lnTo>
                  <a:pt x="25870" y="10800"/>
                </a:lnTo>
                <a:lnTo>
                  <a:pt x="11857" y="17806"/>
                </a:lnTo>
                <a:close/>
              </a:path>
            </a:pathLst>
          </a:custGeom>
          <a:solidFill>
            <a:srgbClr val="8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770760" y="111132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、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音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825120" y="1752480"/>
            <a:ext cx="256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握节奏 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语气可于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四字作逗，或上二下七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但终以一气呵成为佳。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找出韵脚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韵一换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o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400" spc="-1" strike="noStrike">
                <a:solidFill>
                  <a:srgbClr val="00cc99"/>
                </a:solidFill>
                <a:latin typeface="Times New Roman"/>
              </a:rPr>
              <a:t>a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o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4"/>
          <p:cNvSpPr/>
          <p:nvPr/>
        </p:nvSpPr>
        <p:spPr>
          <a:xfrm>
            <a:off x="4419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864720" y="4041720"/>
            <a:ext cx="30139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、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意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总理内容与形式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提示：读注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总体把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容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4419720" y="249120"/>
            <a:ext cx="4724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2800" spc="-1" strike="noStrike">
                <a:solidFill>
                  <a:srgbClr val="cc0000"/>
                </a:solidFill>
                <a:latin typeface="隶书"/>
                <a:ea typeface="隶书"/>
              </a:rPr>
              <a:t>虞美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隶书"/>
                <a:ea typeface="隶书"/>
              </a:rPr>
              <a:t>     </a:t>
            </a:r>
            <a:r>
              <a:rPr b="0" lang="zh-CN" sz="2800" spc="-1" strike="noStrike">
                <a:solidFill>
                  <a:srgbClr val="cc0000"/>
                </a:solidFill>
                <a:latin typeface="隶书"/>
                <a:ea typeface="隶书"/>
              </a:rPr>
              <a:t>春花秋月 </a:t>
            </a:r>
            <a:r>
              <a:rPr b="1" lang="zh-CN" sz="2800" spc="-1" strike="noStrike">
                <a:solidFill>
                  <a:srgbClr val="cc0000"/>
                </a:solidFill>
                <a:latin typeface="隶书"/>
                <a:ea typeface="隶书"/>
              </a:rPr>
              <a:t>/ </a:t>
            </a:r>
            <a:r>
              <a:rPr b="0" lang="zh-CN" sz="2800" spc="-1" strike="noStrike">
                <a:solidFill>
                  <a:srgbClr val="cc0000"/>
                </a:solidFill>
                <a:latin typeface="隶书"/>
                <a:ea typeface="隶书"/>
              </a:rPr>
              <a:t>何时</a:t>
            </a:r>
            <a:r>
              <a:rPr b="0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了</a:t>
            </a:r>
            <a:r>
              <a:rPr b="0" lang="zh-CN" sz="2800" spc="-1" strike="noStrike">
                <a:solidFill>
                  <a:srgbClr val="cc0000"/>
                </a:solidFill>
                <a:latin typeface="隶书"/>
                <a:ea typeface="隶书"/>
              </a:rPr>
              <a:t>？往事 </a:t>
            </a:r>
            <a:r>
              <a:rPr b="0" lang="zh-CN" sz="2800" spc="-1" strike="noStrike">
                <a:solidFill>
                  <a:srgbClr val="cc0000"/>
                </a:solidFill>
                <a:latin typeface="隶书"/>
                <a:ea typeface="隶书"/>
              </a:rPr>
              <a:t>/ </a:t>
            </a:r>
            <a:r>
              <a:rPr b="0" lang="zh-CN" sz="2800" spc="-1" strike="noStrike">
                <a:solidFill>
                  <a:srgbClr val="cc0000"/>
                </a:solidFill>
                <a:latin typeface="隶书"/>
                <a:ea typeface="隶书"/>
              </a:rPr>
              <a:t>知多</a:t>
            </a:r>
            <a:r>
              <a:rPr b="0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少</a:t>
            </a:r>
            <a:r>
              <a:rPr b="0" lang="zh-CN" sz="2800" spc="-1" strike="noStrike">
                <a:solidFill>
                  <a:srgbClr val="cc0000"/>
                </a:solidFill>
                <a:latin typeface="隶书"/>
                <a:ea typeface="隶书"/>
              </a:rPr>
              <a:t>。小楼昨夜 </a:t>
            </a:r>
            <a:r>
              <a:rPr b="0" lang="zh-CN" sz="2800" spc="-1" strike="noStrike">
                <a:solidFill>
                  <a:srgbClr val="cc0000"/>
                </a:solidFill>
                <a:latin typeface="隶书"/>
                <a:ea typeface="隶书"/>
              </a:rPr>
              <a:t>/ </a:t>
            </a:r>
            <a:r>
              <a:rPr b="0" lang="zh-CN" sz="2800" spc="-1" strike="noStrike">
                <a:solidFill>
                  <a:srgbClr val="cc0000"/>
                </a:solidFill>
                <a:latin typeface="隶书"/>
                <a:ea typeface="隶书"/>
              </a:rPr>
              <a:t>又东</a:t>
            </a:r>
            <a:r>
              <a:rPr b="0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风</a:t>
            </a:r>
            <a:r>
              <a:rPr b="0" lang="zh-CN" sz="2800" spc="-1" strike="noStrike">
                <a:solidFill>
                  <a:srgbClr val="cc0000"/>
                </a:solidFill>
                <a:latin typeface="隶书"/>
                <a:ea typeface="隶书"/>
              </a:rPr>
              <a:t>，故国 </a:t>
            </a:r>
            <a:r>
              <a:rPr b="0" lang="zh-CN" sz="2800" spc="-1" strike="noStrike">
                <a:solidFill>
                  <a:srgbClr val="cc0000"/>
                </a:solidFill>
                <a:latin typeface="隶书"/>
                <a:ea typeface="隶书"/>
              </a:rPr>
              <a:t>/ </a:t>
            </a:r>
            <a:r>
              <a:rPr b="0" lang="zh-CN" sz="2800" spc="-1" strike="noStrike">
                <a:solidFill>
                  <a:srgbClr val="cc0000"/>
                </a:solidFill>
                <a:latin typeface="隶书"/>
                <a:ea typeface="隶书"/>
              </a:rPr>
              <a:t>不堪回首月明</a:t>
            </a:r>
            <a:r>
              <a:rPr b="0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中</a:t>
            </a:r>
            <a:r>
              <a:rPr b="0" lang="zh-CN" sz="2800" spc="-1" strike="noStrike">
                <a:solidFill>
                  <a:srgbClr val="cc0000"/>
                </a:solidFill>
                <a:latin typeface="隶书"/>
                <a:ea typeface="隶书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隶书"/>
                <a:ea typeface="隶书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隶书"/>
                <a:ea typeface="隶书"/>
              </a:rPr>
              <a:t>     </a:t>
            </a:r>
            <a:r>
              <a:rPr b="0" lang="zh-CN" sz="2800" spc="-1" strike="noStrike">
                <a:solidFill>
                  <a:srgbClr val="cc0000"/>
                </a:solidFill>
                <a:latin typeface="隶书"/>
                <a:ea typeface="隶书"/>
              </a:rPr>
              <a:t>雕栏玉砌 </a:t>
            </a:r>
            <a:r>
              <a:rPr b="0" lang="zh-CN" sz="2800" spc="-1" strike="noStrike">
                <a:solidFill>
                  <a:srgbClr val="cc0000"/>
                </a:solidFill>
                <a:latin typeface="隶书"/>
                <a:ea typeface="隶书"/>
              </a:rPr>
              <a:t>/ </a:t>
            </a:r>
            <a:r>
              <a:rPr b="0" lang="zh-CN" sz="2800" spc="-1" strike="noStrike">
                <a:solidFill>
                  <a:srgbClr val="cc0000"/>
                </a:solidFill>
                <a:latin typeface="隶书"/>
                <a:ea typeface="隶书"/>
              </a:rPr>
              <a:t>应犹</a:t>
            </a:r>
            <a:r>
              <a:rPr b="0" lang="zh-CN" sz="2800" spc="-1" strike="noStrike">
                <a:solidFill>
                  <a:srgbClr val="00cc99"/>
                </a:solidFill>
                <a:latin typeface="隶书"/>
                <a:ea typeface="隶书"/>
              </a:rPr>
              <a:t>在</a:t>
            </a:r>
            <a:r>
              <a:rPr b="0" lang="zh-CN" sz="2800" spc="-1" strike="noStrike">
                <a:solidFill>
                  <a:srgbClr val="cc0000"/>
                </a:solidFill>
                <a:latin typeface="隶书"/>
                <a:ea typeface="隶书"/>
              </a:rPr>
              <a:t>，只是 </a:t>
            </a:r>
            <a:r>
              <a:rPr b="0" lang="zh-CN" sz="2800" spc="-1" strike="noStrike">
                <a:solidFill>
                  <a:srgbClr val="cc0000"/>
                </a:solidFill>
                <a:latin typeface="隶书"/>
                <a:ea typeface="隶书"/>
              </a:rPr>
              <a:t>/ </a:t>
            </a:r>
            <a:r>
              <a:rPr b="0" lang="zh-CN" sz="2800" spc="-1" strike="noStrike">
                <a:solidFill>
                  <a:srgbClr val="cc0000"/>
                </a:solidFill>
                <a:latin typeface="隶书"/>
                <a:ea typeface="隶书"/>
              </a:rPr>
              <a:t>朱颜</a:t>
            </a:r>
            <a:r>
              <a:rPr b="0" lang="zh-CN" sz="2800" spc="-1" strike="noStrike">
                <a:solidFill>
                  <a:srgbClr val="00cc99"/>
                </a:solidFill>
                <a:latin typeface="隶书"/>
                <a:ea typeface="隶书"/>
              </a:rPr>
              <a:t>改</a:t>
            </a:r>
            <a:r>
              <a:rPr b="0" lang="zh-CN" sz="2800" spc="-1" strike="noStrike">
                <a:solidFill>
                  <a:srgbClr val="cc0000"/>
                </a:solidFill>
                <a:latin typeface="隶书"/>
                <a:ea typeface="隶书"/>
              </a:rPr>
              <a:t>。问君能有 </a:t>
            </a:r>
            <a:r>
              <a:rPr b="0" lang="zh-CN" sz="2800" spc="-1" strike="noStrike">
                <a:solidFill>
                  <a:srgbClr val="cc0000"/>
                </a:solidFill>
                <a:latin typeface="隶书"/>
                <a:ea typeface="隶书"/>
              </a:rPr>
              <a:t>/ </a:t>
            </a:r>
            <a:r>
              <a:rPr b="0" lang="zh-CN" sz="2800" spc="-1" strike="noStrike">
                <a:solidFill>
                  <a:srgbClr val="cc0000"/>
                </a:solidFill>
                <a:latin typeface="隶书"/>
                <a:ea typeface="隶书"/>
              </a:rPr>
              <a:t>几多</a:t>
            </a:r>
            <a:r>
              <a:rPr b="0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愁</a:t>
            </a:r>
            <a:r>
              <a:rPr b="0" lang="zh-CN" sz="2800" spc="-1" strike="noStrike">
                <a:solidFill>
                  <a:srgbClr val="cc0000"/>
                </a:solidFill>
                <a:latin typeface="隶书"/>
                <a:ea typeface="隶书"/>
              </a:rPr>
              <a:t>？恰似 </a:t>
            </a:r>
            <a:r>
              <a:rPr b="0" lang="zh-CN" sz="2800" spc="-1" strike="noStrike">
                <a:solidFill>
                  <a:srgbClr val="cc0000"/>
                </a:solidFill>
                <a:latin typeface="隶书"/>
                <a:ea typeface="隶书"/>
              </a:rPr>
              <a:t>/</a:t>
            </a:r>
            <a:r>
              <a:rPr b="0" lang="zh-CN" sz="2800" spc="-1" strike="noStrike">
                <a:solidFill>
                  <a:srgbClr val="cc0000"/>
                </a:solidFill>
                <a:latin typeface="隶书"/>
                <a:ea typeface="隶书"/>
              </a:rPr>
              <a:t>一江春水向东</a:t>
            </a:r>
            <a:r>
              <a:rPr b="0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流</a:t>
            </a:r>
            <a:r>
              <a:rPr b="0" lang="zh-CN" sz="2800" spc="-1" strike="noStrike">
                <a:solidFill>
                  <a:srgbClr val="cc0000"/>
                </a:solidFill>
                <a:latin typeface="隶书"/>
                <a:ea typeface="隶书"/>
              </a:rPr>
              <a:t>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027520" y="5559480"/>
            <a:ext cx="30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绝命诗，对故国的深切怀念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借眼前之景，发忧思之情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304920" y="5562720"/>
            <a:ext cx="152280" cy="761760"/>
          </a:xfrm>
          <a:custGeom>
            <a:avLst/>
            <a:gdLst>
              <a:gd name="textAreaLeft" fmla="*/ 97200 w 152280"/>
              <a:gd name="textAreaRight" fmla="*/ 152640 w 15228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071000" y="272880"/>
            <a:ext cx="205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、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情读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具体研习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795680" y="1031760"/>
            <a:ext cx="552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春花秋月”本是美好事物，词人为什么希望它结束呢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提示：在“知人论世”的基础上，把握该词的思想内容，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切景语皆情语”，景物是感情的外化的道理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80880" y="2631960"/>
            <a:ext cx="857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讨论：“往事知多少”中的“往事”具体指什么？换句话说，李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煜到底在怀念什么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提示：用“两点论”（物质和精神）去思考问题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927440" y="411480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小楼昨夜又东风”中的“又”表现了作者怎样的思想感情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775160" y="4613400"/>
            <a:ext cx="594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参考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①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又东风”中的“又”点明了他归宋后又过了一年，时光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断流逝，与开头句照应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季节的变化引起词人的无限感慨，感慨人的生命随着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谢月残而长逝不返，感慨复国之梦随着花开月圆而逐步破灭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192400" y="447840"/>
            <a:ext cx="43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讨论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前六句中，哪个字可以作为全词的“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诗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801080" y="1316160"/>
            <a:ext cx="495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提示：从前六句中的三组对比入手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何时了              又东风       应犹在（</a:t>
            </a: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宇宙永恒不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往事知多少    不堪回首     朱颜改 （</a:t>
            </a: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人生短暂无常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283760" y="4498920"/>
            <a:ext cx="97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改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666880" y="416232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朱颜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经历风吹雨打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地位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一国之君为阶下之囚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心情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尊荣显贵到忍辱蒙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2362320" y="4267080"/>
            <a:ext cx="152280" cy="129564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7"/>
          <p:cNvSpPr/>
          <p:nvPr/>
        </p:nvSpPr>
        <p:spPr>
          <a:xfrm>
            <a:off x="1371600" y="2438280"/>
            <a:ext cx="0" cy="609840"/>
          </a:xfrm>
          <a:prstGeom prst="line">
            <a:avLst/>
          </a:prstGeom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8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9"/>
          <p:cNvSpPr/>
          <p:nvPr/>
        </p:nvSpPr>
        <p:spPr>
          <a:xfrm>
            <a:off x="3276720" y="2438280"/>
            <a:ext cx="0" cy="533520"/>
          </a:xfrm>
          <a:prstGeom prst="line">
            <a:avLst/>
          </a:prstGeom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457200" y="3808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五、欣赏品味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：“问君能有几多愁，恰似一江春水向东流。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修辞、情感等角度，分组讨论赏析，推举代表汇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457200" y="1752480"/>
            <a:ext cx="80503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提示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水喻愁：抽刀断水水更流，举杯消愁愁复愁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李白《宣州谢眺楼饯别校书叔云》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发喻愁：白发三千丈，缘愁似个长。（李白《秋浦歌》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白头搔更短，浑欲不胜簪。    （杜甫《春望》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359720" y="4343400"/>
            <a:ext cx="657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最美丽的诗歌是最绝望的诗歌，有些不朽篇章是纯粹的眼泪。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缪塞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3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Akw-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Text Box 3"/>
          <p:cNvSpPr/>
          <p:nvPr/>
        </p:nvSpPr>
        <p:spPr>
          <a:xfrm>
            <a:off x="0" y="533520"/>
            <a:ext cx="875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六、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想想：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为什么词中两次提到“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月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”这个意象？联系我们读过的诗歌，“月亮”这个意象有什么特殊含义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380880" y="22860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月”：思乡怀念亲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2057400" y="1828800"/>
            <a:ext cx="76320" cy="1828800"/>
          </a:xfrm>
          <a:custGeom>
            <a:avLst/>
            <a:gdLst>
              <a:gd name="textAreaLeft" fmla="*/ 48960 w 76320"/>
              <a:gd name="textAreaRight" fmla="*/ 76320 w 763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731760" y="1812960"/>
            <a:ext cx="3018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举头望明月，低头思故乡。（李白《静夜思》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我寄愁心与明月，随风直到夜郎西。（李白《闻王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                                     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昌龄左迁龙标，遥有此寄》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露从今夜白，月是故乡明。（杜甫《月夜忆舍第》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海上生明月，天涯共此时。（张九龄《望月怀远》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01:25:53Z</dcterms:created>
  <dc:creator>www.pptbz.com</dc:creator>
  <dc:description/>
  <dc:language>en-US</dc:language>
  <cp:lastModifiedBy>admin</cp:lastModifiedBy>
  <dcterms:modified xsi:type="dcterms:W3CDTF">2017-09-11T09:43:25Z</dcterms:modified>
  <cp:revision>7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