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3.jpeg" ContentType="image/jpeg"/>
  <Override PartName="/ppt/media/image18.gif" ContentType="image/gif"/>
  <Override PartName="/ppt/media/image8.jpeg" ContentType="image/jpeg"/>
  <Override PartName="/ppt/media/image7.gif" ContentType="image/gif"/>
  <Override PartName="/ppt/media/image19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5.jpeg" ContentType="image/jpeg"/>
  <Override PartName="/ppt/media/image1.gif" ContentType="image/gif"/>
  <Override PartName="/ppt/media/image14.jpeg" ContentType="image/jpeg"/>
  <Override PartName="/ppt/media/image5.gif" ContentType="image/gif"/>
  <Override PartName="/ppt/media/image17.jpeg" ContentType="image/jpeg"/>
  <Override PartName="/ppt/media/image3.png" ContentType="image/png"/>
  <Override PartName="/ppt/media/image4.gif" ContentType="image/gif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C5A-1A91-41E7-9874-C1866899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AD0-ED65-4BFF-A6F3-6994C759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F22-E18C-42AC-96CA-227DB409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ECD-E356-44AC-A250-5AB43BD5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B3E-DB8D-4F95-95F4-D7F8B5E2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ACC-EBD6-449F-837F-587C70E7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1BA-7456-4899-AEC4-737E9E24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084-9EFD-443D-B8FA-ACD424B4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57B-36D8-4E43-8D35-5D2955AE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EE8-0CDB-4DA1-8B3C-3E041799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DC8-CA55-4143-85D5-9C885B7C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A49-A8D0-4D12-91F5-4488EDF6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DABA-CD1A-49E9-913F-D9F1178192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4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hyperlink" Target="file:///flash&#26149;&#38632;.swf" TargetMode="External"/><Relationship Id="rId4" Type="http://schemas.openxmlformats.org/officeDocument/2006/relationships/hyperlink" Target="file:///flash&#26149;&#38632;.swf" TargetMode="External"/><Relationship Id="rId5" Type="http://schemas.openxmlformats.org/officeDocument/2006/relationships/hyperlink" Target="file:///flash&#26149;&#38632;.swf" TargetMode="External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441080" cy="7821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2637000"/>
            <a:ext cx="560052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流淌的歌声</a:t>
            </a: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-</a:t>
            </a: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三月里的小雨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9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908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626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1467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这一首诗的副标题是“为生活在中国大地上的儿童而歌”。想一想：作者借“雨”之口，想向中国儿童表达怎样的情怀和期望？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72276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达了诗人对中国儿童的祝福和对中国美好未来的祝愿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76360" y="620640"/>
            <a:ext cx="6624720" cy="4896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1430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</a:rPr>
              <a:t>你认为诗中的哪个句子表达了诗人的这种情感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2323080"/>
            <a:ext cx="7777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全诗的“诗眼”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黑体"/>
                <a:ea typeface="黑体"/>
              </a:rPr>
              <a:t>我来了就不再回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黑体"/>
                <a:ea typeface="黑体"/>
              </a:rPr>
              <a:t>当你们自由地笑了</a:t>
            </a:r>
            <a:r>
              <a:rPr b="1" lang="zh-CN" sz="4400" spc="-1" strike="noStrike">
                <a:solidFill>
                  <a:srgbClr val="ffff66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ff66"/>
                </a:solidFill>
                <a:latin typeface="黑体"/>
                <a:ea typeface="黑体"/>
              </a:rPr>
              <a:t>我就快乐地安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549360"/>
            <a:ext cx="8209080" cy="5111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421000"/>
            <a:ext cx="83516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  ①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这里的“笑”代表着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  ②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诗人为什么要连用两个“我要教你们勇敢地笑”？这表达了诗人怎样的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  ③ “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只要你们笑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大地的希望就有了”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对这个诗句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你是怎样理解的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052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请大家朗读诗的第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7 - 8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节，回答下面三个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1125360"/>
            <a:ext cx="69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765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620640"/>
            <a:ext cx="80773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明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这里的“笑”代表着快乐、乐观向上的生活态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2708280"/>
            <a:ext cx="79200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确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诗人连用两个“我要教你们勇敢地笑”，这是一种重复的表现手法，表示强调；表达了诗人对孩子们的美好祝愿和殷切希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549360"/>
            <a:ext cx="74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2041920"/>
            <a:ext cx="77403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确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孩子是祖国的未来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诗人衷心希望孩子们乐观、勇敢、身心健康地成长。这句诗表达了诗人对祖国未来的深切祝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10393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模仿第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节中的诗句，想象一下：在春天，除了柳条儿、小燕子，还有许多事物都在笑啊，请同学们试着用下面的句式来补充几句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362680"/>
            <a:ext cx="836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见了我笑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华文新魏"/>
                <a:ea typeface="华文新魏"/>
              </a:rPr>
              <a:t>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桃花见了我笑红了脸颊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溪见了我笑亮了嗓子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16000" y="333360"/>
            <a:ext cx="7056360" cy="5111640"/>
          </a:xfrm>
          <a:prstGeom prst="cloudCallout">
            <a:avLst>
              <a:gd name="adj1" fmla="val -43814"/>
              <a:gd name="adj2" fmla="val 6888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170028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联系诗歌的写作年代和诗人的生活经历，想一想：诗人的祝福仅仅是写给孩子们的吗？</a:t>
            </a: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95640" y="1812600"/>
            <a:ext cx="473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首诗写于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79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，那时祖国大陆的“十年文革”刚刚结束不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愁予，原名郑文韬，祖籍河北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出生于山东省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随父到台湾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到美国从事写作与学习。他的诗作有很多篇选入台湾的语文教材，很受人们的喜爱。诗人虽身居海外，但时刻关心着祖国的命运和前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0477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89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诗人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68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赴美后，一直保持沉默、很少发表作品。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73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左右再度出山，笔耕不辍，代表作有《错误》《水手刀》等，大多以旅人为抒情主人公，被称为“浪子诗人”。现旅居美国，为“现代诗社”成员，任耶鲁大学东亚文学系教授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雨说》是他复出之后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写成的，此时诗人虽身在美国，却心系祖国，以满腔的热忱关注祖国儿童的成长。诗人从小在炮火中长大，他深切体味过战争的苦难和流浪的辛酸，所以他更珍视童心的天真烂漫，也更能懂得“关爱”对童年的意义。诗中“雨”成了温柔亲切的爱的使者，正寄寓了诗人对儿童浓浓的关爱之情，表达了对祖国未来真诚的祝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60" y="115920"/>
            <a:ext cx="3672000" cy="2448000"/>
          </a:xfrm>
          <a:prstGeom prst="cloudCallout">
            <a:avLst>
              <a:gd name="adj1" fmla="val 47319"/>
              <a:gd name="adj2" fmla="val 18177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49400" y="2925720"/>
            <a:ext cx="21913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Arial"/>
                <a:ea typeface="隶书"/>
              </a:rPr>
              <a:t>郑愁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1200" y="604800"/>
            <a:ext cx="384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60093"/>
                </a:solidFill>
                <a:latin typeface="华文彩云"/>
                <a:ea typeface="华文彩云"/>
              </a:rPr>
              <a:t>雨 说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32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9144000" cy="6021360"/>
          </a:xfrm>
          <a:prstGeom prst="cloudCallout">
            <a:avLst>
              <a:gd name="adj1" fmla="val -32203"/>
              <a:gd name="adj2" fmla="val 6183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692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请问：诗中突出运用什么手法来塑造“雨”的形象？这样有什么表达效果？作者还运用了什么修辞手法来增强诗歌的感染力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5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5280" y="404640"/>
            <a:ext cx="842472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明确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诗歌中运用了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拟人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手法，通过这种手法拓深了“雨”这个形象的深层含义，让人感到亲切温柔，充满欢快情趣，切合儿童心理，能打动孩子们的心，能形象生动表达思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4360" y="1700280"/>
            <a:ext cx="77770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明确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除了拟人外，作者还用了</a:t>
            </a:r>
            <a:r>
              <a:rPr b="1" lang="zh-CN" sz="4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比喻、排比、反复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修辞手法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1052280"/>
            <a:ext cx="838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比喻：如 “我的爱心像丝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那样把天地织在一起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排比：如 “柳条儿见了我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弯了腰啊石狮子见了我笑出了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啊小燕子见了我笑斜了翅膀啊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反复：如“雨说：我来了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雨说：…，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148428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现在，请你从修辞、语言或内容等角度，选择最喜爱的一句或一节进行赏析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333360"/>
            <a:ext cx="7056360" cy="5111640"/>
          </a:xfrm>
          <a:prstGeom prst="cloudCallout">
            <a:avLst>
              <a:gd name="adj1" fmla="val -43814"/>
              <a:gd name="adj2" fmla="val 6888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75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0"/>
            <a:ext cx="8893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示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我的爱心像丝缕那样把天地织在一起。”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赏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爱心”点明“雨”之所指，而“丝缕”则形象描绘出爱之细之柔，“天地”包括田园、牧场、山峰、白云等，极言爱之广之浓，无私、博大，使人读后如沐春雨。把这样一个丰富深刻的内涵寓于形象贴切的比喻之中，境界全出。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765000"/>
            <a:ext cx="7848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请阅读副标题，然后说说：这对我们理解诗歌的主旨有什么帮助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549360"/>
            <a:ext cx="8209080" cy="5111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29264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理解诗歌开头括号中的话的含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4360" y="1125360"/>
            <a:ext cx="69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765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125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404640"/>
            <a:ext cx="82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明确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：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表明了对象，是诗人借春雨的口气，向生活在中国大地上的儿童唱出的一曲“爱之歌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73360"/>
            <a:ext cx="7704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明确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月”点明时间是春天，“等待久了”表明了对春雨的渴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9480" y="152280"/>
            <a:ext cx="3124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文章结构示意图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2590920"/>
            <a:ext cx="11430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冬景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280" y="3657600"/>
            <a:ext cx="160020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华文新魏"/>
              </a:rPr>
              <a:t>萧索 毫无生气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华文新魏"/>
              <a:ea typeface="华文新魏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828800"/>
            <a:ext cx="609480" cy="4114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09680" y="2133720"/>
            <a:ext cx="1395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华文新魏"/>
              </a:rPr>
              <a:t>冷冻禁锢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10080" y="1752480"/>
            <a:ext cx="94320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田圃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81480" y="2133720"/>
            <a:ext cx="1395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华文新魏"/>
              </a:rPr>
              <a:t>润如油膏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华文新魏"/>
              <a:ea typeface="华文新魏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1337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438280" y="1752480"/>
            <a:ext cx="94320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田圃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0" y="3200400"/>
            <a:ext cx="139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新魏"/>
              </a:rPr>
              <a:t>失去踪迹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30481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486400" y="274320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华文新魏"/>
              </a:rPr>
              <a:t>牧场</a:t>
            </a:r>
            <a:endParaRPr b="1" lang="en-US" sz="24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华文新魏"/>
              <a:ea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257800" y="3200400"/>
            <a:ext cx="139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新魏"/>
              </a:rPr>
              <a:t>抽发新苗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14600" y="274320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华文新魏"/>
              </a:rPr>
              <a:t>牧场</a:t>
            </a:r>
            <a:endParaRPr b="1" lang="en-US" sz="24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4120" y="4114800"/>
            <a:ext cx="139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鱼儿跳跃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6000" y="4191120"/>
            <a:ext cx="1395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寒浅留滞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14600" y="373392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华文新魏"/>
              </a:rPr>
              <a:t>鱼塘</a:t>
            </a:r>
            <a:endParaRPr b="1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486400" y="373392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华文新魏"/>
              </a:rPr>
              <a:t>鱼塘</a:t>
            </a:r>
            <a:endParaRPr b="1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华文新魏"/>
              <a:ea typeface="华文新魏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14600" y="480060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小溪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562720" y="480060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小溪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362320" y="5257800"/>
            <a:ext cx="139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华文新魏"/>
              </a:rPr>
              <a:t>渐渐喑哑</a:t>
            </a:r>
            <a:endParaRPr b="1" lang="en-US" sz="24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华文新魏"/>
              <a:ea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4120" y="5181480"/>
            <a:ext cx="1395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华文新魏"/>
              </a:rPr>
              <a:t>新编的歌谣</a:t>
            </a:r>
            <a:endParaRPr b="1" lang="en-US" sz="24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49528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1905120"/>
            <a:ext cx="609840" cy="3733560"/>
          </a:xfrm>
          <a:custGeom>
            <a:avLst/>
            <a:gdLst>
              <a:gd name="textAreaLeft" fmla="*/ 0 w 609840"/>
              <a:gd name="textAreaRight" fmla="*/ 220320 w 60984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315200" y="2362320"/>
            <a:ext cx="11430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华文新魏"/>
              </a:rPr>
              <a:t>春景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62920" y="3429000"/>
            <a:ext cx="160020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ff33cc"/>
                </a:solidFill>
                <a:latin typeface="华文新魏"/>
              </a:rPr>
              <a:t>希望 生机盎然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ff33cc"/>
              </a:solidFill>
              <a:latin typeface="华文新魏"/>
              <a:ea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114800" y="1295280"/>
            <a:ext cx="476280" cy="1179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5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华文中宋"/>
              </a:rPr>
              <a:t>雨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华文中宋"/>
              <a:ea typeface="华文中宋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114800" y="2209680"/>
            <a:ext cx="476280" cy="1179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5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中宋"/>
              </a:rPr>
              <a:t>来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91120" y="3048120"/>
            <a:ext cx="476280" cy="117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5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中宋"/>
              </a:rPr>
              <a:t>春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中宋"/>
              <a:ea typeface="华文中宋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91120" y="4038480"/>
            <a:ext cx="476280" cy="1179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5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华文中宋"/>
              </a:rPr>
              <a:t>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华文中宋"/>
              <a:ea typeface="华文中宋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8120" y="5715000"/>
            <a:ext cx="32763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仿宋_GB2312"/>
              </a:rPr>
              <a:t>结构上前后照应</a:t>
            </a:r>
            <a:endParaRPr b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仿宋_GB2312"/>
              <a:ea typeface="仿宋_GB2312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19520" y="1066680"/>
            <a:ext cx="3429000" cy="6098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4668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仿宋_GB2312"/>
              </a:rPr>
              <a:t>内容上鲜明对比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00400" y="152280"/>
            <a:ext cx="761760" cy="221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4102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41028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28600"/>
            <a:ext cx="761760" cy="221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4102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41028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46160" y="-61200"/>
            <a:ext cx="1130400" cy="18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8" y="5818"/>
                </a:moveTo>
                <a:arcTo wR="10800" hR="10800" stAng="-9151598" swAng="9762112"/>
                <a:lnTo>
                  <a:pt x="10800" y="10800"/>
                </a:lnTo>
                <a:close/>
              </a:path>
              <a:path fill="none" w="21600" h="21600">
                <a:moveTo>
                  <a:pt x="1218" y="5818"/>
                </a:moveTo>
                <a:arcTo wR="10800" hR="10800" stAng="-9151598" swAng="97621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486400" y="1050840"/>
            <a:ext cx="1527480" cy="191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7"/>
                </a:moveTo>
                <a:arcTo wR="10800" hR="10800" stAng="10705451" swAng="10543368"/>
                <a:lnTo>
                  <a:pt x="10800" y="10800"/>
                </a:lnTo>
                <a:close/>
              </a:path>
              <a:path fill="none" w="21600" h="21600">
                <a:moveTo>
                  <a:pt x="4" y="11097"/>
                </a:moveTo>
                <a:arcTo wR="10800" hR="10800" stAng="10705451" swAng="1054336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19520" y="1050840"/>
            <a:ext cx="1527480" cy="191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7"/>
                </a:moveTo>
                <a:arcTo wR="10800" hR="10800" stAng="10705451" swAng="10543368"/>
                <a:lnTo>
                  <a:pt x="10800" y="10800"/>
                </a:lnTo>
                <a:close/>
              </a:path>
              <a:path fill="none" w="21600" h="21600">
                <a:moveTo>
                  <a:pt x="4" y="11097"/>
                </a:moveTo>
                <a:arcTo wR="10800" hR="10800" stAng="10705451" swAng="1054336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191120" y="1584360"/>
            <a:ext cx="1527480" cy="222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7"/>
                </a:moveTo>
                <a:arcTo wR="10800" hR="10800" stAng="10705451" swAng="10543368"/>
                <a:lnTo>
                  <a:pt x="10800" y="10800"/>
                </a:lnTo>
                <a:close/>
              </a:path>
              <a:path fill="none" w="21600" h="21600">
                <a:moveTo>
                  <a:pt x="4" y="11097"/>
                </a:moveTo>
                <a:arcTo wR="10800" hR="10800" stAng="10705451" swAng="1054336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270400" y="14760"/>
            <a:ext cx="1130040" cy="18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8" y="5818"/>
                </a:moveTo>
                <a:arcTo wR="10800" hR="10800" stAng="-9151598" swAng="9762112"/>
                <a:lnTo>
                  <a:pt x="10800" y="10800"/>
                </a:lnTo>
                <a:close/>
              </a:path>
              <a:path fill="none" w="21600" h="21600">
                <a:moveTo>
                  <a:pt x="1218" y="5818"/>
                </a:moveTo>
                <a:arcTo wR="10800" hR="10800" stAng="-9151598" swAng="97621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886200" y="2138760"/>
            <a:ext cx="2444040" cy="29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7"/>
                </a:moveTo>
                <a:arcTo wR="10800" hR="10800" stAng="10705451" swAng="10543368"/>
                <a:lnTo>
                  <a:pt x="10800" y="10800"/>
                </a:lnTo>
                <a:close/>
              </a:path>
              <a:path fill="none" w="21600" h="21600">
                <a:moveTo>
                  <a:pt x="4" y="11097"/>
                </a:moveTo>
                <a:arcTo wR="10800" hR="10800" stAng="10705451" swAng="1054336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66880" y="1637640"/>
            <a:ext cx="2214720" cy="415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7"/>
                </a:moveTo>
                <a:arcTo wR="10800" hR="10800" stAng="10705451" swAng="10775416"/>
                <a:lnTo>
                  <a:pt x="10800" y="10800"/>
                </a:lnTo>
                <a:close/>
              </a:path>
              <a:path fill="none" w="21600" h="21600">
                <a:moveTo>
                  <a:pt x="4" y="11097"/>
                </a:moveTo>
                <a:arcTo wR="10800" hR="10800" stAng="10705451" swAng="1077541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952880" y="1789920"/>
            <a:ext cx="2215440" cy="415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7"/>
                </a:moveTo>
                <a:arcTo wR="10800" hR="10800" stAng="10705451" swAng="10543368"/>
                <a:lnTo>
                  <a:pt x="10800" y="10800"/>
                </a:lnTo>
                <a:close/>
              </a:path>
              <a:path fill="none" w="21600" h="21600">
                <a:moveTo>
                  <a:pt x="4" y="11097"/>
                </a:moveTo>
                <a:arcTo wR="10800" hR="10800" stAng="10705451" swAng="1054336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914400"/>
            <a:ext cx="232416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柳条儿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781680" y="914400"/>
            <a:ext cx="19432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弯了腰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480" y="2209680"/>
            <a:ext cx="232416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石狮子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0" y="2133720"/>
            <a:ext cx="163836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出了泪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480" y="3581280"/>
            <a:ext cx="232416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燕子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629400" y="3505320"/>
            <a:ext cx="209556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斜了翅膀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5029200"/>
            <a:ext cx="232416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旗子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934320" y="4952880"/>
            <a:ext cx="163836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哗啦啦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24080" y="304920"/>
            <a:ext cx="2590920" cy="16002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628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隶书"/>
              </a:rPr>
              <a:t>春天的声音</a:t>
            </a:r>
            <a:endParaRPr b="0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隶书"/>
              <a:ea typeface="隶书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29000" y="5410080"/>
            <a:ext cx="239076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隶书"/>
              </a:rPr>
              <a:t>大地的希望</a:t>
            </a:r>
            <a:endParaRPr b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0225080" cy="748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9520" y="677880"/>
            <a:ext cx="81309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读下面的古诗句，请你说一说，诗句中的“雨”有着怎样的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沾衣欲湿杏花雨，吹面不寒杨柳风。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志南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天街小雨润如酥，草色遥看近却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韩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好雨知时节，当春乃发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随风潜入夜，润物细无声。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杜甫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112536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　　　这首诗以“雨”为抒情主体，借“＿＿　”的拟人化形象，采用＿＿人称，让“雨” 向孩子们深情地倾诉，令人真切地感受到“雨” 的挚爱之心，展现了一位＿＿的形象。全诗字里行间表达了诗人对中国大地上生活的孩子们的温柔亲切的＿＿和希望孩子们自由欢笑、勇敢生活的诚挚＿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62640" y="0"/>
            <a:ext cx="4581360" cy="3141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4427640" cy="299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-132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3068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汉仪柏青体简"/>
              </a:rPr>
              <a:t>你想对雨说些什么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flipH="1">
            <a:off x="7772040" y="54864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042920" y="1125360"/>
            <a:ext cx="7345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、从诗中挑选一个诗句，仿照下面的示例，进行赏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课外收集一些描写春雨的诗文片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推荐阅读：艾青《黎明的通知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6" dur="244224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611280" y="1125360"/>
          <a:ext cx="802800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25360"/>
                    <a:ext cx="802800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40000" y="2133720"/>
            <a:ext cx="496872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散文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/>
              </a:rPr>
              <a:t>《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4"/>
              </a:rPr>
              <a:t>我爱绵绵春雨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5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0" y="1066680"/>
            <a:ext cx="54864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  <a:ea typeface="Times New Roman"/>
              </a:rPr>
              <a:t>郑愁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我打江南走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那等在季节里的容颜如莲花的开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东风不来，三月的柳絮不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你的心如小小的寂寞的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恰若青石的街道向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qióng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音不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三月的春帷不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你的心是小小的窗扉紧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我达达的马蹄是美丽的错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我不是归人，是个过客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36040" y="6324480"/>
            <a:ext cx="11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95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82840" y="63972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错  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0"/>
          <a:ext cx="304812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0481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04920" y="1522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比较赏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123840"/>
            <a:ext cx="83822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Times New Roman"/>
              </a:rPr>
              <a:t>《错误》赏析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这首诗写了思妇之苦，愁思之浓。诗人借“我”的诚挚表白写思妇的相思之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第一节写过客匆匆，像莲花一样纯洁柔美的江南女子等待着爱人归来；第二节连用寂寞的小城、向晚的青石街道和小小的紧掩的窗扉三个比喻，细致地表现思妇盼望“归人的孤寂心境；第三节点明诗题，“达达的马蹄声”点燃了思妇重逢的希望，因而“美丽”，但这马蹄声仅仅是从前面路过，不为她的期盼而停驻，因此是个“错误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71600" y="1066680"/>
            <a:ext cx="698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大家静下心来听诗歌朗读录音，用下面的句式说一说你听后的感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我想到了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的画面，觉得诗中的“雨”是一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的形象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17080" y="5602320"/>
            <a:ext cx="142560" cy="1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57600" y="30132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596360" y="55897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6851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98064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雨”的形象：</a:t>
            </a:r>
            <a:br>
              <a:rPr sz="4400"/>
            </a:b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温柔亲切</a:t>
            </a:r>
            <a:br>
              <a:rPr sz="4400"/>
            </a:b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乐观勇敢</a:t>
            </a:r>
            <a:br>
              <a:rPr sz="4400"/>
            </a:b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无私奉献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441080" cy="782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84360" y="1773360"/>
            <a:ext cx="6659640" cy="3600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1700280"/>
            <a:ext cx="6629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这首诗的标题是《雨说》，请你概括一下，“雨”主要说了哪些内容？这些诗句集中表达了一个什么意思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0225080" cy="748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242280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“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雨”说她来了；她是温柔亲切的爱的使者；她，静悄悄地走来，孩子们不要拒绝她的来到；她，来自遥远的地方；她曾在幸运的笑中长大。“雨”说她来了，就不再回去，当孩子们学会了自由地笑，她快乐地安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这些话表达了中国的长者们为了让儿童们能够无忧无虑、健康幸福的长大，他们愿意做出一切的努力、付出一切的代价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3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6021360"/>
          </a:xfrm>
          <a:prstGeom prst="cloudCallout">
            <a:avLst>
              <a:gd name="adj1" fmla="val -32203"/>
              <a:gd name="adj2" fmla="val 6183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162864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请问：诗中一共出现了几次提示语“雨说”？这些提示语在诗中起了什么作用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9640" y="76500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明确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诗中的提示语起着转换画面、开启意蕴的过渡作用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352680"/>
            <a:ext cx="77770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明确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诗人就是以这些提示语为界，替我们精心地安排了一幅幅美妙的图画。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8:31:20Z</dcterms:created>
  <dc:creator>USER</dc:creator>
  <dc:description/>
  <dc:language>en-US</dc:language>
  <cp:lastModifiedBy>walkinnet</cp:lastModifiedBy>
  <dcterms:modified xsi:type="dcterms:W3CDTF">2013-09-04T11:32:40Z</dcterms:modified>
  <cp:revision>46</cp:revision>
  <dc:subject/>
  <dc:title> </dc:title>
</cp:coreProperties>
</file>