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CC0-4AE2-4D00-BDF2-D5D0083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45C-5CEB-48C2-8792-F50A7E09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60B-9216-4D5D-AC15-C156D4C5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CD8-F964-424B-9976-2BE2BAE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300-173A-45DA-AB33-E17282BD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BF6-060F-4AFF-9805-FEC43BDD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810-F229-40B0-AAC8-8B54F8CE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3ADE-E9F0-4011-84E2-6B3C05E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321F-05B8-4087-803F-FE28FFD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6B8-BE1B-49B5-AA01-5848ED79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CA25-381F-4FB9-9E72-475E86B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CA9-3309-4819-B7E6-E21A7FE3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385-B0AA-4B16-B03F-EF6ECBB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AC66-AD4C-4FB9-BFD5-1BDDCC76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FD7-FF58-4BA3-AAA7-108710C8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3423-E477-4FCD-BCAF-F5B755F9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FAC-0AA8-4FED-BFC2-076AA7D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51B4-9B5D-416B-825A-0A2D2C5D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39A5-0C96-4BD0-974C-2949A2C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D53E-D4E3-4D92-B7C5-D6BF911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8562-F99B-43FB-BF1A-A89A9603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4F1E-4A22-4519-B800-15D9B42B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EF2-50C1-4669-9153-036FF4A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BE54-1A05-4F4C-A3C0-281157E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F8C6-806B-4071-AE8E-C2272CC0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2F05-D19F-438B-A441-828A8DE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841D-DAEB-454E-BD34-2241D58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015E-C5D6-4C1B-B8E2-5F666361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AE26-F579-4C78-8484-4A34427C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9D1D-88D8-4FFB-A789-01E50BD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02DA-457A-4F95-A004-01653428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E81A-2088-4468-9379-22069DF0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8432-5E88-4FD5-BD7F-54C548A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3E1-D2AF-457F-96F5-B3BB45EE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2305-636E-4948-8A73-FC7639C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0266-3BA1-4849-8351-9136459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210E-8F4E-40F4-84D9-D34364F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1ACE-8F3F-4490-8511-04E4EAB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17F5-4A06-4451-91D1-DFD90A5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26A7-991C-4FE1-83D8-7539F61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24D6-4CBD-46F0-AC86-F6FEF23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459B-A749-4BFD-8FE7-AB3F7D0C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94F5-AE9A-46B7-8524-2D993F4F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4A4D-CC42-4B4D-BCF3-B0770196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794-8827-4027-8B7E-4442DAC3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676F-4B61-4E33-B2E3-32F9532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B403-C53F-4D60-AD0C-ACDFACB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321A-BD2E-40DC-B18E-FF547EC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FD7E-104E-485A-BD22-ED8B87D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7020-7EBB-4D81-9ED2-C733853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0CCB-77E8-47F2-9322-2D44F2E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15ECA-37A6-4A58-991C-87AF754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C311-A9D3-49A8-82A6-EC84C62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3C3E-C0D0-4718-9263-A0107B8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32D0-5FAE-4C03-AEB9-BAD117D2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E11-9E1E-4E16-89D5-A8A6A98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FA0D-2F50-43D1-8C5E-17BFB51E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E713-E9E9-4596-B5F9-727D05A7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7597-57C2-4150-9A7A-B789AE2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0E33-D4CB-4486-9474-AF8FE6E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A732-4242-4522-83D9-27D247A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C1C7-8592-45A1-9572-01E7966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831A-20CF-42A5-BBEE-E225514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4C8B-42CE-4DE6-A4C1-4A916E8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467B-722B-404E-9DDE-0556685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22B95-3021-4282-AAFB-5FD546D8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218-EE43-4EE6-B679-46FB376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1E0C-5F2B-42DD-B6DE-18D870A4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00FC-937E-4642-ABEA-22C22644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F6AC-B5FB-4D28-BB78-33898317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89839-3A6C-4551-9EE6-EC7A297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D350-A0D6-4DA9-A789-1019FDE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16D02-0A14-47F4-B170-40FE726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C664-798C-4B45-A570-F80BE7C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5DECC-5BE7-43E5-807A-D7EF2387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4117-CC4D-496D-AB2F-77C2470D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52A2-A02A-4339-8375-E5E19EF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DF1-0A69-4329-A615-3AC5438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C4A0-C490-43EC-81F2-C52EA4C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CF2D-244F-4DDA-B7A1-76275E7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9A37-ED84-4DFB-9AB8-3F7122DD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2AC8-7EF8-43A8-A7F7-D658AB97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A034-1977-4159-948C-1FDFC8FD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A0A7A-A122-4431-9B37-C27B5D43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92A78-D534-4AB5-8811-5C95A10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9F06-FE22-4924-A0DA-FF035F9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7729-245A-4B33-9E59-0698905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5292-6078-4FE5-BA85-F68DC407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12D-CEE2-40FD-92F2-35F564E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B6C0-A691-4136-82AC-5B455531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868F-31E9-4E80-B867-313A320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7869B-7077-4D24-AD52-0E1E269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54B6E-59EE-44BC-A63E-936C321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11D2-1DB3-4309-80D9-3E40A00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B576-D8B8-4340-B9B6-B05A615E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A04D7-F0EC-4B89-8364-063F8DFA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9FD-93DF-44AF-AB91-EB77035698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32A-DCF0-45FA-B377-5CCFFB2A57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1B82-0DD2-48D1-BC4D-036E18A41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4A6E-A29D-4D1B-AD66-9F95E109D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64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87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BE02-1CE8-467D-9193-FAB0CFFB3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232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255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7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8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387-AE36-41FA-9547-BA8DCCC36A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E9F-DE9A-46C0-82DE-32D8631705A4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388-ABE1-4A3F-AD60-77F57B6FF01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www.ensuisha.co.jp/hana/recipe/g/34.jpg&amp;imgrefurl=http://www.ensuisha.co.jp/hana/recipe/recipe_34.html&amp;h=248&amp;w=358&amp;sz=39&amp;tbnid=3scjQK40SxIJ:&amp;tbnh=81&amp;tbnw=116&amp;start=9&amp;prev=/images%3Fq%3D%25E8%258F%259C%25E6%25B1%25A4%26hl%3Dzh-CN%26lr%3D%26ie%3DUTF-8%26inlang%3Dzh-C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file:///../../../Program%20Files/My%20Documents/&#33891;&#23384;&#29790;.MPG" TargetMode="External"/><Relationship Id="rId4" Type="http://schemas.openxmlformats.org/officeDocument/2006/relationships/hyperlink" Target="file:///../../../Program%20Files/My%20Documents/&#33891;&#23384;&#29790;.M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62120" y="1219320"/>
            <a:ext cx="7619760" cy="25311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富贵不能淫，贫贱不能移，威武不能屈，此之谓大丈夫。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孟子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生命诚可贵，爱情价更高，若为自由故，二者皆可抛。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匈牙利  裴多菲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人生自古谁无死，留取丹心照汗青。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文天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砍头不要紧，只要主义真。杀了夏明翰，还有后来人。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夏明翰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52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读名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谈体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150480"/>
            <a:ext cx="3048120" cy="82548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生为尊严，生为自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生为名声，生为正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549360"/>
            <a:ext cx="1066680" cy="0"/>
          </a:xfrm>
          <a:prstGeom prst="line">
            <a:avLst/>
          </a:prstGeom>
          <a:ln w="38160">
            <a:solidFill>
              <a:srgbClr val="dc5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011320" y="412920"/>
            <a:ext cx="60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朗读课文，整体感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68360" y="2060640"/>
            <a:ext cx="828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对照朗读和注释扫除语音障碍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有不懂的字、句勾划出来，准备进行质疑；有特别欣赏的语句也请勾划下来，准备进行交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参考注释理解文章大意 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654280" cy="2713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0880" y="255960"/>
            <a:ext cx="8458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字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苟得也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wéi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宫室之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之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wèi wé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恶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莫甚于死者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wù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箪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dān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乡　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xiàng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羹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gēng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蹴 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cù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妾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qi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停顿及重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如使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人之所欲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莫甚于生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使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人之所恶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莫甚于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乡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为身死而不受。今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为宫室之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为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亦不可以已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 rot="5400000">
            <a:off x="-288720" y="281592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7a77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鱼我所欲也</a:t>
            </a:r>
            <a:endParaRPr b="1" lang="en-US" sz="1800" spc="1" strike="noStrike">
              <a:ln w="9360">
                <a:solidFill>
                  <a:srgbClr val="007a77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0920" y="476280"/>
            <a:ext cx="145728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4824360" cy="465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09480" y="21337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　　自读课文，参考注释，理解文意，有不懂之处勾画出来，准备质疑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自读课文，把握内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906768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鱼，我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也，熊掌，亦我所欲也，二者不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得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舍鱼而取熊掌者也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亦我所欲也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亦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欲也，二者不可得兼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而取义者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  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42210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鱼，是我喜爱的东西，熊掌，也是我喜爱的东西，（如果）两种东西不能同时得到，（那么），（我要）舍弃鱼而选取熊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命是我所喜爱的，大义也是我所喜爱的，如果这两样东西不能同时都具有的话，那么我就只好牺牲生命而选取大义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836640"/>
            <a:ext cx="57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动词，同时得到或占有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兼”是副词状语置后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836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能愿动词，喜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16360" y="1989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2a26"/>
                </a:solidFill>
                <a:latin typeface="Times New Roman"/>
                <a:ea typeface="楷体_GB2312"/>
              </a:rPr>
              <a:t>生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84720" y="1916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2a26"/>
                </a:solidFill>
                <a:latin typeface="Times New Roman"/>
                <a:ea typeface="楷体_GB2312"/>
              </a:rPr>
              <a:t>大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51280" y="2924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2a26"/>
                </a:solidFill>
                <a:latin typeface="Times New Roman"/>
                <a:ea typeface="楷体_GB2312"/>
              </a:rPr>
              <a:t>舍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1640" y="3500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译文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14810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文章开头写“鱼”和“熊掌”有什么作用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3246840"/>
            <a:ext cx="7921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鱼和熊掌两样东西的价值不同，鱼低贱而熊掌珍贵。二者不能同时得到，必然舍弃鱼而选取熊掌；同理，生命和正义的价值也不同．</a:t>
            </a:r>
            <a:r>
              <a:rPr b="1" lang="zh-CN" sz="2800" spc="-1" strike="noStrike" u="sng">
                <a:solidFill>
                  <a:srgbClr val="3366ff"/>
                </a:solidFill>
                <a:uFillTx/>
                <a:latin typeface="华文中宋"/>
                <a:ea typeface="华文中宋"/>
              </a:rPr>
              <a:t>正义要比生命重要得多，二者不能同时得到的情况下，必须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舍弃生命选取正义</a:t>
            </a:r>
            <a:r>
              <a:rPr b="1" lang="zh-CN" sz="2800" spc="-1" strike="noStrike" u="sng">
                <a:solidFill>
                  <a:srgbClr val="3366ff"/>
                </a:solidFill>
                <a:uFillTx/>
                <a:latin typeface="华文中宋"/>
                <a:ea typeface="华文中宋"/>
              </a:rPr>
              <a:t>。这里运用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比喻论证，提出了“舍生取义”的中心论点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333360"/>
            <a:ext cx="19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960200" y="2276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所欲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98028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鱼、熊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11360" y="3715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生、义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16360" y="191628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91772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提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论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981000"/>
            <a:ext cx="3671640" cy="8114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舍鱼取熊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8000" y="3645000"/>
            <a:ext cx="4356000" cy="792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d82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舍生取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2920" y="4940640"/>
            <a:ext cx="101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由浅人深，自然明晓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419640" y="1773360"/>
            <a:ext cx="187164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设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引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亦我所欲，所欲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甚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者，故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苟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死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恶有甚于死者，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所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83520" y="9079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动词，超过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胜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59840" y="979560"/>
            <a:ext cx="11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读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wéi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动词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做，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32720" y="10476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苟且偷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2840" y="249228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读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Wù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，动词，厌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“欲”相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256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名词，祸患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灾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59640" y="25653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2a26"/>
                </a:solidFill>
                <a:latin typeface="Arial"/>
              </a:rPr>
              <a:t>通“避”，躲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4221000"/>
            <a:ext cx="8255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命是我所喜爱的，但我所喜爱的还有胜过生命的东西，所以我不做苟且偷生的事；死亡是我所厌恶的，但我所厌恶的还有超过死亡的事，所以有灾祸我不躲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732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125360"/>
            <a:ext cx="603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62120" y="10360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欲有甚于生者”“所欲”可以指哪些事情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213732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这里的“所欲”应指正义的事业。如为人民大众作有利之事，为国家建设做事，为了别人安危挺身而出等。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807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恶有甚于死者”“所恶”可以指哪些事情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4846680"/>
            <a:ext cx="84247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这里的“所恶”应指不正义的事情。不合法不道德的事情，如叛变国家，贪污受贿，滥用职权，杀人放火等危害国家危害人民的事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00000" y="477720"/>
            <a:ext cx="3168720" cy="70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段—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476280"/>
            <a:ext cx="244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正面论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2720" y="2133720"/>
            <a:ext cx="7344000" cy="132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从生、死的角度提出为了正义决不能贪生怕死、屈辱人格，而要无所畏惧，义无反顾。分析了人之所以能舍生取义的原因。进一步强调了“义”的价值和作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524720" y="11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2920" y="1700280"/>
            <a:ext cx="6858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在人的一生中，要作出许多各种各样的选择，尤其是在对待象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和死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这样重大的问题上，当我们必须作出非此即彼的选择的时候，这对任何人都是一个严肃的人生课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我们今天学习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鱼我所欲也》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这篇课文告诉了我们应怎样作出选择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839080" cy="5935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835280" y="1557360"/>
            <a:ext cx="209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1557360"/>
            <a:ext cx="568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甚于生（义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249228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故不苟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5280" y="4006800"/>
            <a:ext cx="209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92360" y="4005360"/>
            <a:ext cx="65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甚于死（不义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80000" y="494172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故不避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1628640"/>
            <a:ext cx="732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 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5813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正面论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 rot="5400000">
            <a:off x="5724360" y="278100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81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舍生取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81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920" y="380520"/>
            <a:ext cx="85406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如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之所欲莫甚于生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凡可以得生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何不用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使人之所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甚于死者，则凡可以辟患者何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也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4149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人们所喜爱的东西没有超过生命的，那么凡是能够用来求得生存的手段，哪一样不可以采用呢？如果人们所厌恶的事情没有超过死亡的，那么凡是能够用来逃避灾祸的坏事，哪一桩不可以干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851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假如，假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11640" y="8510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那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4360" y="981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什么手段不可用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88000" y="250668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动词，做，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860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35280" y="2492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2a26"/>
                </a:solidFill>
                <a:latin typeface="Times New Roman"/>
                <a:ea typeface="楷体_GB2312"/>
              </a:rPr>
              <a:t>没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44720" y="549360"/>
            <a:ext cx="2736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段—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29080" y="549360"/>
            <a:ext cx="2666880" cy="7034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反面论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5640" y="2781360"/>
            <a:ext cx="7848720" cy="1312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从反面论证“义”的价值和作用：如果人只是欲生恶死，那么凡是可以苟且偷生的无耻手段都做得出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3962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524720" y="11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51680" y="1052640"/>
            <a:ext cx="59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设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65300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反面论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76500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765000"/>
            <a:ext cx="386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莫甚于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最喜生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2060640"/>
            <a:ext cx="53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何不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（不择手段求生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2360" y="3716280"/>
            <a:ext cx="14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3640" y="3716280"/>
            <a:ext cx="34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莫甚于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最恶死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4900680"/>
            <a:ext cx="46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何不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（不择手段躲祸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 rot="5400000">
            <a:off x="5650920" y="2781360"/>
            <a:ext cx="460836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81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舍义取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81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4560" y="313920"/>
            <a:ext cx="9109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由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生而有不用也；由是则可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而有不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欲有甚于生者，所恶有甚于死者 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038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采用某种手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不正当手段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能够活命，可是有的人却不肯采用；采用某种办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不正当方法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能够躲避灾祸，可是有的人也不肯采用。由此可见，他们所喜爱的有比生命更宝贵的东西（那就是“义”）；他们所厌恶的，有比死亡更严重的事（那就是“不义”）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836640"/>
            <a:ext cx="374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过这种方法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2637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，由此可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732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8991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非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贤者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，人皆有之，贤者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勿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43640" y="4076640"/>
            <a:ext cx="5154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只是有道德的人有这颗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辨别“义’’与“不义”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保持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人人都有这颗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子认为人生下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性是善良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只是有道德的人能永远不失去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罢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1268280"/>
            <a:ext cx="230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仅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95640" y="134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种思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48360" y="126828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丧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0640" y="357336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838080" y="9867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非独贤者有是心”中“是心”指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1770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指恻隐之心、羞恶之心、辞让之心、是非之心等这些善心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295884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什么说“非独贤者有是心，人皆有之，贤者能勿丧耳”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79556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孟子主张人性是善的。“人之初，性本善”。但是只有有道德的人才能保持高尚的操守而不丧失善心（天性、天良）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43280" y="223056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用原文中的语句来回答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所欲者有甚于生者，所恶者有甚于死者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6920" y="2567520"/>
            <a:ext cx="130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升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主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27480" y="1698480"/>
            <a:ext cx="851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说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48840" y="907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非独贤者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87640" y="2565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人皆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71640" y="4437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贤者勿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80000" y="1628640"/>
            <a:ext cx="431640" cy="1081080"/>
          </a:xfrm>
          <a:prstGeom prst="downArrow">
            <a:avLst>
              <a:gd name="adj1" fmla="val 50000"/>
              <a:gd name="adj2" fmla="val 62615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0000" y="3429000"/>
            <a:ext cx="431640" cy="1081080"/>
          </a:xfrm>
          <a:prstGeom prst="downArrow">
            <a:avLst>
              <a:gd name="adj1" fmla="val 50000"/>
              <a:gd name="adj2" fmla="val 62615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理论论证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609480"/>
            <a:ext cx="3733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苏武把气节看的比生命还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81280" y="1676520"/>
            <a:ext cx="36576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屈原宁死不与统治者同流合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2849400"/>
            <a:ext cx="18288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不择手段求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3962520"/>
            <a:ext cx="18288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不择手段避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0" y="2895480"/>
            <a:ext cx="236232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欲有甚于生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恶有甚于死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75200" y="1143000"/>
            <a:ext cx="667800" cy="3733920"/>
            <a:chOff x="475200" y="1143000"/>
            <a:chExt cx="667800" cy="3733920"/>
          </a:xfrm>
        </p:grpSpPr>
        <p:sp>
          <p:nvSpPr>
            <p:cNvPr id="511" name=""/>
            <p:cNvSpPr/>
            <p:nvPr/>
          </p:nvSpPr>
          <p:spPr>
            <a:xfrm>
              <a:off x="475200" y="1143000"/>
              <a:ext cx="667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正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5200" y="3505320"/>
              <a:ext cx="667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反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-606240" y="1447920"/>
            <a:ext cx="1292040" cy="4800600"/>
            <a:chOff x="-606240" y="1447920"/>
            <a:chExt cx="1292040" cy="4800600"/>
          </a:xfrm>
        </p:grpSpPr>
        <p:sp>
          <p:nvSpPr>
            <p:cNvPr id="514" name=""/>
            <p:cNvSpPr/>
            <p:nvPr/>
          </p:nvSpPr>
          <p:spPr>
            <a:xfrm>
              <a:off x="-606240" y="3048120"/>
              <a:ext cx="12157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cc"/>
                  </a:solidFill>
                  <a:latin typeface="Times New Roman"/>
                </a:rPr>
                <a:t>舍生取义</a:t>
              </a:r>
              <a:endParaRPr b="0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1447920"/>
              <a:ext cx="228600" cy="4800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990720" y="838080"/>
            <a:ext cx="152280" cy="3733920"/>
            <a:chOff x="990720" y="838080"/>
            <a:chExt cx="152280" cy="3733920"/>
          </a:xfrm>
        </p:grpSpPr>
        <p:sp>
          <p:nvSpPr>
            <p:cNvPr id="517" name=""/>
            <p:cNvSpPr/>
            <p:nvPr/>
          </p:nvSpPr>
          <p:spPr>
            <a:xfrm>
              <a:off x="990720" y="83808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3200400"/>
              <a:ext cx="152280" cy="1371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066680" y="2849400"/>
            <a:ext cx="2514600" cy="1648440"/>
            <a:chOff x="1066680" y="2849400"/>
            <a:chExt cx="2514600" cy="1648440"/>
          </a:xfrm>
        </p:grpSpPr>
        <p:sp>
          <p:nvSpPr>
            <p:cNvPr id="520" name=""/>
            <p:cNvSpPr/>
            <p:nvPr/>
          </p:nvSpPr>
          <p:spPr>
            <a:xfrm>
              <a:off x="1066680" y="2849400"/>
              <a:ext cx="197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所欲莫甚于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59200" y="3048120"/>
              <a:ext cx="622080" cy="380880"/>
            </a:xfrm>
            <a:prstGeom prst="rightArrow">
              <a:avLst>
                <a:gd name="adj1" fmla="val 50000"/>
                <a:gd name="adj2" fmla="val 40832"/>
              </a:avLst>
            </a:prstGeom>
            <a:solidFill>
              <a:srgbClr val="ff33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6680" y="3916440"/>
              <a:ext cx="195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所恶莫甚于死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44800" y="4038480"/>
              <a:ext cx="636480" cy="381240"/>
            </a:xfrm>
            <a:prstGeom prst="rightArrow">
              <a:avLst>
                <a:gd name="adj1" fmla="val 50000"/>
                <a:gd name="adj2" fmla="val 41737"/>
              </a:avLst>
            </a:prstGeom>
            <a:solidFill>
              <a:srgbClr val="ff33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990720" y="609480"/>
            <a:ext cx="2743200" cy="1648440"/>
            <a:chOff x="990720" y="609480"/>
            <a:chExt cx="2743200" cy="1648440"/>
          </a:xfrm>
        </p:grpSpPr>
        <p:grpSp>
          <p:nvGrpSpPr>
            <p:cNvPr id="525" name=""/>
            <p:cNvGrpSpPr/>
            <p:nvPr/>
          </p:nvGrpSpPr>
          <p:grpSpPr>
            <a:xfrm>
              <a:off x="990720" y="609480"/>
              <a:ext cx="2743200" cy="581400"/>
              <a:chOff x="990720" y="609480"/>
              <a:chExt cx="274320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990720" y="609480"/>
                <a:ext cx="274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所欲甚于生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200400" y="838080"/>
                <a:ext cx="457200" cy="304920"/>
              </a:xfrm>
              <a:prstGeom prst="rightArrow">
                <a:avLst>
                  <a:gd name="adj1" fmla="val 50000"/>
                  <a:gd name="adj2" fmla="val 37485"/>
                </a:avLst>
              </a:prstGeom>
              <a:solidFill>
                <a:srgbClr val="ff3300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990720" y="1676520"/>
              <a:ext cx="2743200" cy="581400"/>
              <a:chOff x="990720" y="1676520"/>
              <a:chExt cx="2743200" cy="581400"/>
            </a:xfrm>
          </p:grpSpPr>
          <p:sp>
            <p:nvSpPr>
              <p:cNvPr id="529" name=""/>
              <p:cNvSpPr/>
              <p:nvPr/>
            </p:nvSpPr>
            <p:spPr>
              <a:xfrm>
                <a:off x="990720" y="1676520"/>
                <a:ext cx="274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所恶甚于死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00400" y="1828800"/>
                <a:ext cx="457200" cy="380880"/>
              </a:xfrm>
              <a:prstGeom prst="rightArrow">
                <a:avLst>
                  <a:gd name="adj1" fmla="val 50000"/>
                  <a:gd name="adj2" fmla="val 30009"/>
                </a:avLst>
              </a:prstGeom>
              <a:solidFill>
                <a:srgbClr val="ff3300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5334120" y="2971800"/>
            <a:ext cx="1676160" cy="2057400"/>
            <a:chOff x="5334120" y="2971800"/>
            <a:chExt cx="1676160" cy="2057400"/>
          </a:xfrm>
        </p:grpSpPr>
        <p:grpSp>
          <p:nvGrpSpPr>
            <p:cNvPr id="532" name=""/>
            <p:cNvGrpSpPr/>
            <p:nvPr/>
          </p:nvGrpSpPr>
          <p:grpSpPr>
            <a:xfrm>
              <a:off x="5486400" y="3282840"/>
              <a:ext cx="1523880" cy="831960"/>
              <a:chOff x="5486400" y="3282840"/>
              <a:chExt cx="1523880" cy="831960"/>
            </a:xfrm>
          </p:grpSpPr>
          <p:sp>
            <p:nvSpPr>
              <p:cNvPr id="533" name=""/>
              <p:cNvSpPr/>
              <p:nvPr/>
            </p:nvSpPr>
            <p:spPr>
              <a:xfrm>
                <a:off x="5486400" y="3282840"/>
                <a:ext cx="152388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</a:rPr>
                  <a:t>有不用有不为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562720" y="3886200"/>
                <a:ext cx="1371600" cy="228600"/>
              </a:xfrm>
              <a:prstGeom prst="rightArrow">
                <a:avLst>
                  <a:gd name="adj1" fmla="val 50000"/>
                  <a:gd name="adj2" fmla="val 150000"/>
                </a:avLst>
              </a:prstGeom>
              <a:solidFill>
                <a:srgbClr val="ff3300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5334120" y="29718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85800" y="5867280"/>
            <a:ext cx="8458200" cy="581400"/>
            <a:chOff x="685800" y="5867280"/>
            <a:chExt cx="8458200" cy="581400"/>
          </a:xfrm>
        </p:grpSpPr>
        <p:sp>
          <p:nvSpPr>
            <p:cNvPr id="537" name=""/>
            <p:cNvSpPr/>
            <p:nvPr/>
          </p:nvSpPr>
          <p:spPr>
            <a:xfrm>
              <a:off x="685800" y="586728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Times New Roman"/>
                </a:rPr>
                <a:t>非独贤者            人皆有            贤者能勿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14600" y="6019920"/>
              <a:ext cx="1219320" cy="304560"/>
            </a:xfrm>
            <a:prstGeom prst="rightArrow">
              <a:avLst>
                <a:gd name="adj1" fmla="val 50000"/>
                <a:gd name="adj2" fmla="val 100089"/>
              </a:avLst>
            </a:prstGeom>
            <a:solidFill>
              <a:srgbClr val="ff33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76920" y="6019920"/>
              <a:ext cx="1218960" cy="30456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ff33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7620120" y="1066680"/>
            <a:ext cx="152388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义可以舍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86600" y="1447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33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 rot="5400000">
            <a:off x="2095200" y="354348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080808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贪生怕死</a:t>
            </a:r>
            <a:endParaRPr b="0" i="1" lang="en-US" sz="3200" spc="1" strike="noStrike">
              <a:ln w="9360">
                <a:solidFill>
                  <a:srgbClr val="080808"/>
                </a:solidFill>
                <a:miter/>
              </a:ln>
              <a:solidFill>
                <a:srgbClr val="080808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箪食，一豆羹，得之则生，弗得则死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呼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之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行道之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弗受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蹴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与之，乞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3789360"/>
            <a:ext cx="84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碗饭，一碗汤，吃了就能活下去，不吃就会饿死。可是轻蔑地、呵叱着给别人吃，过路的饥民也不肯接受；用脚踢着（或踩过）给别人吃，乞丐也不愿意接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53800" y="105264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吆喝。尔，助词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36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547640" y="23493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饥饿的过路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96000" y="2492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因轻视而不肯接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780000" y="2421000"/>
            <a:ext cx="201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脚践踏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5160" y="3054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 rot="5400000">
            <a:off x="-1008360" y="2673360"/>
            <a:ext cx="6048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鱼我所欲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6" name=""/>
          <p:cNvSpPr/>
          <p:nvPr/>
        </p:nvSpPr>
        <p:spPr>
          <a:xfrm>
            <a:off x="3135960" y="2852640"/>
            <a:ext cx="109476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《孟子》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527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55640" y="227664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箪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豆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12160" y="1627920"/>
            <a:ext cx="149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呼尔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蹴尔”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64000" y="2996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屑接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96680" y="1341720"/>
            <a:ext cx="127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羞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之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舍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取义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376360" cy="16081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645000"/>
            <a:ext cx="2232000" cy="15588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2978640" y="184464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得——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8640" y="3213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舍——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843280" y="4508640"/>
            <a:ext cx="54738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正面举例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76320" y="380520"/>
            <a:ext cx="906768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万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则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礼义而受之，万钟于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何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焉！为宫室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美，妻妾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所识穷乏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9280" y="4221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（可是有的人）见了“万钟”的优厚俸禄却不辨是否合乎礼义就接受了。这样，优厚的俸禄对我有什么好处呢？是为了住宅的华丽、大小老婆的侍奉和熟识的穷人感激我吗？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注：“于我何加焉”即“何加于我焉”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9280" y="922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高位厚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31440" y="981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通“辨”，辨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9954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有什么好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80880" y="2421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通“德”，感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72520" y="234936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2a26"/>
                </a:solidFill>
                <a:latin typeface="Arial"/>
              </a:rPr>
              <a:t>通“欤”，语气助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8600" y="3606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16000" y="2421000"/>
            <a:ext cx="126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侍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866560" y="83664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宫室之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妻妾之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所识穷乏者得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155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接受万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31800" y="1658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辨礼义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58920" y="3068640"/>
            <a:ext cx="554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见利忘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反面举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03040" y="380880"/>
            <a:ext cx="88646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身死而不受，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宫室之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之；乡为身死而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受，今为妻妾之奉为之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身死而不受，今为所识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乏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而为之：是亦不可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乎？此之谓失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本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39751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先前（有人）宁肯死也不愿接受，现在（有人）为了住宅的华丽却接受了；先前（有人）宁肯死也不愿接受，现在（有人）为了大小老婆的侍奉却接受了；先前（有人）宁肯死也不愿接受，现在（有人）为了熟识的穷人感激自己却接受了。这种做法不是可以让它停止了吗？这就叫做丧失了人所固有的羞恶廉耻之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90840" y="90792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通“向”，从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80160" y="98100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为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介词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wè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760720" y="98100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做，动词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wé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11640" y="3083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停止，放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740720" y="31417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天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168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译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067080" y="425124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接受万钟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60520" y="1125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不受食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1844640"/>
            <a:ext cx="504720" cy="2521080"/>
          </a:xfrm>
          <a:prstGeom prst="upDownArrow">
            <a:avLst>
              <a:gd name="adj1" fmla="val 50000"/>
              <a:gd name="adj2" fmla="val 99438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435640" y="1844640"/>
            <a:ext cx="244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排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对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5" name=""/>
          <p:cNvSpPr/>
          <p:nvPr/>
        </p:nvSpPr>
        <p:spPr>
          <a:xfrm>
            <a:off x="1099800" y="37465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丧失本心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46000" y="425124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身外 之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8160" y="1157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关乎生死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01800" y="166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保有本 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9640" y="4724280"/>
            <a:ext cx="302436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停止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5640" y="380880"/>
            <a:ext cx="41752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舍生取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7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770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77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77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7" dur="770" fill="hold"/>
                                        <p:tgtEl>
                                          <p:spTgt spid="5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9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1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43000" y="5295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文中说得了“万钟”是为了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12474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为了“宫室之美”，为了“妻妾之奉”，为了“所识穷乏者得我”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246960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作者认为这种作法如何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1280" y="3411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作者认为“此之谓失其本心”应当“可以止”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22440" y="41907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作者列举了两种不同的人生观，赞扬了什么样的人，斥责了什么样的人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50920" y="583668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赞扬了那些重义轻生、舍生取义的人，斥责了那些苟且偷生、见利忘义的人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-22860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752480" y="1141200"/>
            <a:ext cx="198144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义存于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828800"/>
            <a:ext cx="1277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 例 论 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05120" y="4570200"/>
            <a:ext cx="18288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见利忘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429000" y="1216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正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464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1676520"/>
            <a:ext cx="152280" cy="2666880"/>
          </a:xfrm>
          <a:prstGeom prst="downArrow">
            <a:avLst>
              <a:gd name="adj1" fmla="val 50000"/>
              <a:gd name="adj2" fmla="val 4378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2133720"/>
            <a:ext cx="91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对 比 论 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1141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嗟来之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12952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4724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8272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行道之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乞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0666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45705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万钟之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172200" y="419112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4384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宫室之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妻妾之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所识穷乏        者得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81880" y="4191120"/>
            <a:ext cx="54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排 比 论 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153280" y="41911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1523880"/>
            <a:ext cx="152280" cy="320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38080" y="2209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部分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提出“舍生取义”的中心论点，并说明“义”的美德就是人所固有的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, “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义” 重于生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7621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方正舒体"/>
              </a:rPr>
              <a:t>分析结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400536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部分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举例进一步论证“义” 重于生命，不能“见利忘义”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否则就是失掉了人所固有的“羞恶之心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层（从开头至“舍生而取义者也”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以鱼与熊掌不可得兼而取熊掌为喻，引出生与义不可得兼则“舍生取义”的中心论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层（从“生亦我所欲”至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是故所欲有甚于生者，所恶有甚于死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”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正反分析论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38862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层（本段最后一句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回到“性善论”上，说明“舍生取义”的美德，本来人人都有，只不过贤人不使它丧失罢了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舍生取义是人的本性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64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第一段的层次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38080" y="13716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一层：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举例论证“义”的存在。用类似“不受嗟来之食”的故事，阐明为人要辨别义和利，不应苟且偷生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3429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二层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直斥王侯贵族和追求功名利禄的士人不义而贵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第二段的层次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33520" y="1704240"/>
            <a:ext cx="8229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知识目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．积累文言文常用的实词、虚词，扩充文言词汇量，逐步提高文言文阅读能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．了解孟子的道德主张，领会文章的思想内涵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能力目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．强化朗读训练、品味《孟子》散文的语言特色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．把握古人运用具体事例、正反对比或比喻说理的方法，理解作者的观点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德育目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引导学生正确选择，摒弃一己之私利，将正义、道义放在首位，明辨是非，永葆善良之心，做一个大写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08400" y="228600"/>
            <a:ext cx="327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学习目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523880" y="609120"/>
            <a:ext cx="65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理清论证思路，把握说理方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19839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本文的论点是什么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怎样提出来的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为什么不直接提出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4076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论点提出以后，文章是怎样围绕论点逐层论述的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53352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本文的论点是什么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怎样提出来的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为什么不直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提出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3520" y="2394360"/>
            <a:ext cx="8305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论点是：“生，亦我所欲也，义，亦我所欲也；二者不可得兼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舍生而取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者也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个论点是由“鱼”和“熊掌”的比喻引出来的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设比喻而后提出论点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因为“鱼”与“熊掌”是人人皆知的美味，而“熊掌”是其中更为美者。二者不可兼得，取其中最美者合乎情理也符合逻辑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由此及彼，由浅入深，引出“生”与“义”的论题来，自然，明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533520" y="318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论点提出以后，文章是怎样围绕论点逐层论述的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3520" y="1690200"/>
            <a:ext cx="8458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　在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段里，作者用比喻的方式引出“舍生取义”的观点，并分别从正面和反面加以阐明。紧接着“非独贤者有是心也，人皆有之，贤者能勿丧耳”，提出了新的命题：人人都有“是心”（即本心），只是“贤者”能够保有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8360" y="4388040"/>
            <a:ext cx="8458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段就是对这个命题的论说和阐明。作者用一般的人和乞丐都不肯接受“嗟来之食”的故事证明人人都有“本心”，用“不辩礼义”接受“万钟”的故事概括失去“本心”的人的惯有行为，并对此进行批评和嘲讽。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81952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1219320"/>
            <a:ext cx="7621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熊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19920" y="990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舍鱼取熊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1219320"/>
            <a:ext cx="7621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077320" y="135576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类比比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2057400"/>
            <a:ext cx="8380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72200" y="1828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舍生取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57800" y="2057400"/>
            <a:ext cx="7621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19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72400" y="1219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66880" y="12193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6320" y="990720"/>
            <a:ext cx="2438280" cy="840600"/>
            <a:chOff x="76320" y="990720"/>
            <a:chExt cx="2438280" cy="840600"/>
          </a:xfrm>
        </p:grpSpPr>
        <p:sp>
          <p:nvSpPr>
            <p:cNvPr id="647" name=""/>
            <p:cNvSpPr/>
            <p:nvPr/>
          </p:nvSpPr>
          <p:spPr>
            <a:xfrm>
              <a:off x="533520" y="990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以生活常理为喻，引出中心论点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320" y="137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Ａ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590920" y="2362320"/>
            <a:ext cx="1752480" cy="459720"/>
            <a:chOff x="2590920" y="2362320"/>
            <a:chExt cx="1752480" cy="459720"/>
          </a:xfrm>
        </p:grpSpPr>
        <p:sp>
          <p:nvSpPr>
            <p:cNvPr id="650" name=""/>
            <p:cNvSpPr/>
            <p:nvPr/>
          </p:nvSpPr>
          <p:spPr>
            <a:xfrm>
              <a:off x="2590920" y="23623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生、欲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33920" y="2590920"/>
              <a:ext cx="6094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6248520" y="2362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不为苟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343400" y="2362320"/>
            <a:ext cx="1828800" cy="459720"/>
            <a:chOff x="4343400" y="2362320"/>
            <a:chExt cx="1828800" cy="459720"/>
          </a:xfrm>
        </p:grpSpPr>
        <p:sp>
          <p:nvSpPr>
            <p:cNvPr id="654" name=""/>
            <p:cNvSpPr/>
            <p:nvPr/>
          </p:nvSpPr>
          <p:spPr>
            <a:xfrm>
              <a:off x="4343400" y="2362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甚于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10080" y="2590920"/>
              <a:ext cx="762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590920" y="3048120"/>
            <a:ext cx="1676160" cy="459720"/>
            <a:chOff x="2590920" y="3048120"/>
            <a:chExt cx="1676160" cy="459720"/>
          </a:xfrm>
        </p:grpSpPr>
        <p:sp>
          <p:nvSpPr>
            <p:cNvPr id="657" name=""/>
            <p:cNvSpPr/>
            <p:nvPr/>
          </p:nvSpPr>
          <p:spPr>
            <a:xfrm>
              <a:off x="2590920" y="3048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死、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3920" y="3276720"/>
              <a:ext cx="5331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2485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不避祸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343400" y="3048120"/>
            <a:ext cx="1905120" cy="459720"/>
            <a:chOff x="4343400" y="3048120"/>
            <a:chExt cx="1905120" cy="459720"/>
          </a:xfrm>
        </p:grpSpPr>
        <p:sp>
          <p:nvSpPr>
            <p:cNvPr id="661" name=""/>
            <p:cNvSpPr/>
            <p:nvPr/>
          </p:nvSpPr>
          <p:spPr>
            <a:xfrm>
              <a:off x="4343400" y="30481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甚于死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86400" y="3276720"/>
              <a:ext cx="762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590920" y="3581280"/>
            <a:ext cx="1600200" cy="459720"/>
            <a:chOff x="2590920" y="3581280"/>
            <a:chExt cx="1600200" cy="459720"/>
          </a:xfrm>
        </p:grpSpPr>
        <p:sp>
          <p:nvSpPr>
            <p:cNvPr id="664" name=""/>
            <p:cNvSpPr/>
            <p:nvPr/>
          </p:nvSpPr>
          <p:spPr>
            <a:xfrm>
              <a:off x="2590920" y="3581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欲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57600" y="3809880"/>
              <a:ext cx="5335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4008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何不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191120" y="3581280"/>
            <a:ext cx="2133360" cy="459720"/>
            <a:chOff x="4191120" y="3581280"/>
            <a:chExt cx="2133360" cy="459720"/>
          </a:xfrm>
        </p:grpSpPr>
        <p:sp>
          <p:nvSpPr>
            <p:cNvPr id="668" name=""/>
            <p:cNvSpPr/>
            <p:nvPr/>
          </p:nvSpPr>
          <p:spPr>
            <a:xfrm>
              <a:off x="4191120" y="3581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莫甚于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62720" y="3809880"/>
              <a:ext cx="7617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590920" y="4114800"/>
            <a:ext cx="1600200" cy="459720"/>
            <a:chOff x="2590920" y="4114800"/>
            <a:chExt cx="1600200" cy="459720"/>
          </a:xfrm>
        </p:grpSpPr>
        <p:sp>
          <p:nvSpPr>
            <p:cNvPr id="671" name=""/>
            <p:cNvSpPr/>
            <p:nvPr/>
          </p:nvSpPr>
          <p:spPr>
            <a:xfrm>
              <a:off x="2590920" y="41148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81280" y="4343400"/>
              <a:ext cx="60984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64008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何不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191120" y="4114800"/>
            <a:ext cx="2209680" cy="459720"/>
            <a:chOff x="4191120" y="4114800"/>
            <a:chExt cx="2209680" cy="459720"/>
          </a:xfrm>
        </p:grpSpPr>
        <p:sp>
          <p:nvSpPr>
            <p:cNvPr id="675" name=""/>
            <p:cNvSpPr/>
            <p:nvPr/>
          </p:nvSpPr>
          <p:spPr>
            <a:xfrm>
              <a:off x="4191120" y="41148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莫甚于死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8680" y="4343400"/>
              <a:ext cx="762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828800" y="2514600"/>
            <a:ext cx="685800" cy="762120"/>
            <a:chOff x="1828800" y="2514600"/>
            <a:chExt cx="685800" cy="762120"/>
          </a:xfrm>
        </p:grpSpPr>
        <p:sp>
          <p:nvSpPr>
            <p:cNvPr id="678" name=""/>
            <p:cNvSpPr/>
            <p:nvPr/>
          </p:nvSpPr>
          <p:spPr>
            <a:xfrm>
              <a:off x="2438280" y="251460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2880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正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438280" y="3657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76320" y="2666880"/>
            <a:ext cx="1752480" cy="1676520"/>
            <a:chOff x="76320" y="2666880"/>
            <a:chExt cx="1752480" cy="1676520"/>
          </a:xfrm>
        </p:grpSpPr>
        <p:grpSp>
          <p:nvGrpSpPr>
            <p:cNvPr id="683" name=""/>
            <p:cNvGrpSpPr/>
            <p:nvPr/>
          </p:nvGrpSpPr>
          <p:grpSpPr>
            <a:xfrm>
              <a:off x="76320" y="2743200"/>
              <a:ext cx="1620720" cy="856440"/>
              <a:chOff x="76320" y="2743200"/>
              <a:chExt cx="1620720" cy="856440"/>
            </a:xfrm>
          </p:grpSpPr>
          <p:sp>
            <p:nvSpPr>
              <p:cNvPr id="684" name=""/>
              <p:cNvSpPr/>
              <p:nvPr/>
            </p:nvSpPr>
            <p:spPr>
              <a:xfrm>
                <a:off x="533520" y="2743200"/>
                <a:ext cx="116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从正反两面分析论证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320" y="3139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Ｂ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752480" y="2666880"/>
              <a:ext cx="76320" cy="16765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772400" y="2133720"/>
            <a:ext cx="1143000" cy="914400"/>
            <a:chOff x="7772400" y="2133720"/>
            <a:chExt cx="1143000" cy="914400"/>
          </a:xfrm>
        </p:grpSpPr>
        <p:sp>
          <p:nvSpPr>
            <p:cNvPr id="688" name=""/>
            <p:cNvSpPr/>
            <p:nvPr/>
          </p:nvSpPr>
          <p:spPr>
            <a:xfrm>
              <a:off x="7772400" y="2133720"/>
              <a:ext cx="76320" cy="914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77320" y="220968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义重于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696080" y="3586320"/>
            <a:ext cx="1295280" cy="836640"/>
            <a:chOff x="7696080" y="3586320"/>
            <a:chExt cx="1295280" cy="836640"/>
          </a:xfrm>
        </p:grpSpPr>
        <p:sp>
          <p:nvSpPr>
            <p:cNvPr id="691" name=""/>
            <p:cNvSpPr/>
            <p:nvPr/>
          </p:nvSpPr>
          <p:spPr>
            <a:xfrm>
              <a:off x="7696080" y="3586320"/>
              <a:ext cx="80640" cy="761760"/>
            </a:xfrm>
            <a:custGeom>
              <a:avLst/>
              <a:gdLst>
                <a:gd name="textAreaLeft" fmla="*/ 0 w 80640"/>
                <a:gd name="textAreaRight" fmla="*/ 29160 w 806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00720" y="3597480"/>
              <a:ext cx="89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生重于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133720" y="60199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320" y="4572000"/>
            <a:ext cx="5943600" cy="459720"/>
            <a:chOff x="76320" y="4572000"/>
            <a:chExt cx="5943600" cy="459720"/>
          </a:xfrm>
        </p:grpSpPr>
        <p:sp>
          <p:nvSpPr>
            <p:cNvPr id="695" name=""/>
            <p:cNvSpPr/>
            <p:nvPr/>
          </p:nvSpPr>
          <p:spPr>
            <a:xfrm>
              <a:off x="533520" y="45720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人皆有本心，贤者保有本心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320" y="4572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Ｃ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04920" y="92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第一部分 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提出“舍生取义”的中心论点，并说明“义”的美德就是人所固有的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, “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义” 重于生命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5029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第二部分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举例进一步论证“义” 重于生命，不能“见利忘义” 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否则就是失掉了人所固有的“羞恶之心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09680" y="5776920"/>
            <a:ext cx="2895480" cy="459720"/>
            <a:chOff x="2209680" y="5776920"/>
            <a:chExt cx="2895480" cy="459720"/>
          </a:xfrm>
        </p:grpSpPr>
        <p:sp>
          <p:nvSpPr>
            <p:cNvPr id="700" name=""/>
            <p:cNvSpPr/>
            <p:nvPr/>
          </p:nvSpPr>
          <p:spPr>
            <a:xfrm>
              <a:off x="2209680" y="5776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行道之人、乞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72000" y="6005520"/>
              <a:ext cx="533160" cy="14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523880" y="5715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23880" y="6172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09680" y="6234120"/>
            <a:ext cx="3200400" cy="459720"/>
            <a:chOff x="2209680" y="6234120"/>
            <a:chExt cx="3200400" cy="459720"/>
          </a:xfrm>
        </p:grpSpPr>
        <p:sp>
          <p:nvSpPr>
            <p:cNvPr id="705" name=""/>
            <p:cNvSpPr/>
            <p:nvPr/>
          </p:nvSpPr>
          <p:spPr>
            <a:xfrm>
              <a:off x="2209680" y="62341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不辩礼义、乞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95680" y="6477120"/>
              <a:ext cx="9144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410080" y="6234120"/>
            <a:ext cx="2133720" cy="459720"/>
            <a:chOff x="5410080" y="6234120"/>
            <a:chExt cx="2133720" cy="459720"/>
          </a:xfrm>
        </p:grpSpPr>
        <p:sp>
          <p:nvSpPr>
            <p:cNvPr id="708" name=""/>
            <p:cNvSpPr/>
            <p:nvPr/>
          </p:nvSpPr>
          <p:spPr>
            <a:xfrm>
              <a:off x="5410080" y="62341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受万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05360" y="6477120"/>
              <a:ext cx="762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029200" y="5776920"/>
            <a:ext cx="2438280" cy="459720"/>
            <a:chOff x="5029200" y="5776920"/>
            <a:chExt cx="2438280" cy="459720"/>
          </a:xfrm>
        </p:grpSpPr>
        <p:sp>
          <p:nvSpPr>
            <p:cNvPr id="711" name=""/>
            <p:cNvSpPr/>
            <p:nvPr/>
          </p:nvSpPr>
          <p:spPr>
            <a:xfrm>
              <a:off x="5029200" y="5776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黑体"/>
                  <a:ea typeface="黑体"/>
                </a:rPr>
                <a:t>弗受、不屑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05360" y="6019920"/>
              <a:ext cx="7621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09480" y="5943600"/>
            <a:ext cx="914400" cy="536040"/>
            <a:chOff x="609480" y="5943600"/>
            <a:chExt cx="914400" cy="536040"/>
          </a:xfrm>
        </p:grpSpPr>
        <p:sp>
          <p:nvSpPr>
            <p:cNvPr id="714" name=""/>
            <p:cNvSpPr/>
            <p:nvPr/>
          </p:nvSpPr>
          <p:spPr>
            <a:xfrm>
              <a:off x="60948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举例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47560" y="5943600"/>
              <a:ext cx="76320" cy="5335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75438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有本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543800" y="6324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失本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84872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（重义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9246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（取义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87627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结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段：为人应舍生取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从开头至“舍生而取义者也”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中心论点（喻证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从“生亦我所欲”至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故所欲有甚于生者，所恶有甚于死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舍生取义的道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步：辨证分析（正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步：假设分析（反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步：因果分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本段最后一句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舍生取义是人的本心，贤者勿丧。（递进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二段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舍义以利就是丧失本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层：证明“义”之存在。　（正面举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二层：揭示“见利忘义”。　　　（反面举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三层：揭示见利忘义就是丧失本心，再次证明本文论点：舍生取义。（对比论证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作特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议论严密，层层深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文章围绕“舍生取义”的中心论点立论，从正面论述生死与“义”的关系，指出舍生取义是人的本心；从反面论述见利忘义是丧失人的本心，从而再次重申文章论点。结构严谨，层层深化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8360" y="2781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善用比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开篇以鱼和熊掌设喻，引出中心论点。第二段以“行道之人弗受”，“乞人不屑”比喻守义不辱，形象生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3360" y="4221000"/>
            <a:ext cx="8540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善用对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第一段正反对比阐述“义”重于“生”的道理，从反面假设推理，又从正面事实说明人能不贪生，不避患。第二段举例论证，以正反两个事例进行对比，说明人们对待利欲引诱的不同态度，批判为追逐个人名利而丧失羞恶之心的人，重申中心论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86480" cy="48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本文是一篇论述道德标准和政治节操的说理散文。作者以严肃的态度，庄重的言语，阐述生死与“义”的关系，指出“义”的价值高于生命。一个正直的人，有道德修养的人，应当为义而生，为义而死，在必要时要“舍生取义”，而不能“见利忘义”。不辨礼义而贪求富贵的行为是不足取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50760" y="54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总结全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4572000" y="9144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思考、讨论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 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几千年前，孟子就提出了“鱼和熊掌不可得兼”的问题和应当“舍生取义”的观点，那么在我们现代社会，面对愈来愈多的诱惑，面对人生的各种考验，我们应当做出怎样的选择呢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?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038480" y="3049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延伸、拓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429000"/>
            <a:ext cx="6096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23880" y="358128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1219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990720" y="2590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随着时代的发展，“义”的内涵发生了变化。我们现在所说的“义”是指社会公义，“利”指一己之私利，即个人利益要服从于集体利益、国家利益以至民族利益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当今社会，面对越来越多的诱惑，面对人生的各种考验，我们应该作出正确的抉择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它告诫我们不辨礼义而贪求富贵，见利忘义的行为是不可取的。作为新一代的青少年，我们应有高尚的追求与信仰，掌握丰富的科学文化知识，服务社会，造福未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">
            <a:hlinkClick r:id="rId2" action="ppaction://hlinksldjump"/>
          </p:cNvPr>
          <p:cNvSpPr/>
          <p:nvPr/>
        </p:nvSpPr>
        <p:spPr>
          <a:xfrm>
            <a:off x="731520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2"/>
          <a:srcRect l="13250" t="4541" r="6754" b="8465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17184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董存瑞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.MP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260280"/>
            <a:ext cx="464832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孟子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轲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字子舆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战国时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邹人。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儒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家继孔子之后又一位重要的代表人物，后称为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亚圣”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孟子生于战国诸侯混战最激烈的时期，他继承和发扬了孔子的思想，他提出“民贵君轻”、反对掠夺性战争等主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为此，他到各国去游说诸侯，反对“霸道”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倡以“仁”“义”为中心的“仁政”、“王道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rcRect l="11979" t="0" r="4934" b="6400"/>
          <a:stretch/>
        </p:blipFill>
        <p:spPr>
          <a:xfrm>
            <a:off x="5715000" y="1066680"/>
            <a:ext cx="3154320" cy="54864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562720" y="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作者简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大爱至善唐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位农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9280" y="1052640"/>
            <a:ext cx="896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宋志永、杨国明、杨东、王加祥、王得良、宋志先、王宝国、王宝中、曹秀军、尹福、宋久富、杨国平、王金龙，最大的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62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岁，最小的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19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岁，唐山市玉田县东八里铺村二组农民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2008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年初，特大雪灾袭击了华南地区，湖南郴州成了一座冰雪中的孤城。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位农民除夕租了辆中巴车，顶风冒雪到郴州救灾。汶川发生特大地震后，他们辗转来到灾情最重的北川县城，成为最早进入北川的志愿者之一。他们与解放军、武警战士一起，抢救出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名幸存者，刨出近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名遇难者遗体。他们的义举充分诠释了什么叫“勇为”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79280" y="47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颁奖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：不是归途，是千里奔波，雪中送炭；不是邻里，是素不相识，出手相援。他们用纯朴、善良和倔强的行动，告诉了我们“兄弟”的含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58920" y="4046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普通人的大爱  这就是爱  韩惠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76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34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年前，一场飞来横祸，把韩惠民和初恋情人吴月瑛分开，吴月瑛瘫痪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照顾吴月瑛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年多后，韩惠民认识了徐敏芳，而他答应交友的前提是，对方必须同意与他一起照顾吴月瑛。当徐敏芳了解到韩惠民坚持多年不谈恋爱只是为了照顾过去的情人，她被韩惠民的一片痴情所打动。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1980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年，韩惠民与徐敏芳结为伉俪，从此，守护在吴月瑛身边的又多了一个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韩惠民和徐敏芳告诉吴月瑛：“我们一定会守护你，照顾你到老！”吴月瑛被深深地感动了，她流下的不再是悲伤的泪水，而是幸福的泪水，更坚定地活下去的泪水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一段相知带来一个汉子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34</a:t>
            </a: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年的照顾，一声承诺变成一对夫妇共同的看护，一个特殊的传奇连起两个普通的家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157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颁奖词</a:t>
            </a:r>
            <a:r>
              <a:rPr b="1" lang="zh-CN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他用百姓最朴素的方式，回答了生活中最为深奥的问题：有比爱情更坚固的情感，有比婚姻更宏</a:t>
            </a:r>
            <a:r>
              <a:rPr b="1" lang="zh-CN" sz="29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伟的殿堂，</a:t>
            </a:r>
            <a:r>
              <a:rPr b="1" lang="zh-CN" sz="29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4</a:t>
            </a:r>
            <a:r>
              <a:rPr b="1" lang="zh-CN" sz="29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的光阴，青丝转成白发，不变的是真情</a:t>
            </a:r>
            <a:endParaRPr b="0" lang="en-US" sz="29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22860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物欲、生命、义三者之关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6920" y="1219320"/>
            <a:ext cx="7129800" cy="5333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16000" y="1700280"/>
            <a:ext cx="338472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万钟诚可贵，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生命价更高；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若为本心故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二者皆可抛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71640" y="5229360"/>
            <a:ext cx="32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Arial"/>
              </a:rPr>
              <a:t>归纳文言词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通“欤”，语气词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所识穷乏者得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例句：呼尔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连接两个动作，承接连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句：蹴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转折连词，却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句：由是则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不用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例句：所欲有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句：万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何加焉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8" dur="2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3" dur="2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" dur="2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3" dur="2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8" dur="2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3" dur="20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8" dur="20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8" dur="2000"/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3" dur="2000"/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28600" y="2599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种　　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非独贤者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种作法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亦不可以已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到，拥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例句：二者不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通“德”，感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所识穷乏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助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例句：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与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代词，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句：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销万古愁（李白《将进酒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例句： 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身死而不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例句： 今为宫室之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0" dur="20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20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0" dur="20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20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0" dur="20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2000"/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0" dur="2000"/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5" dur="2000"/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5" dur="2000"/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0" dur="2000"/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5" dur="2000"/>
                                        <p:tgtEl>
                                          <p:spTgt spid="7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5964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通假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故患有所不辟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辟”通“避”，躲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万钟则不辨礼义而受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辩”通“辨”，辨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今为所识穷乏者得我而为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”通“德”，恩惠，这里是感激的意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所识穷乏者得我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”通“欤”，语气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乡为身死而不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乡”通“向”，从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2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7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2" dur="20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7" dur="2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2" dur="2000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7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2" dur="2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7" dur="2000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2" dur="2000"/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7" dur="2000"/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2" dur="2000"/>
                                        <p:tgtEl>
                                          <p:spTgt spid="7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7" dur="2000"/>
                                        <p:tgtEl>
                                          <p:spTgt spid="7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677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古今异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例句：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不辨礼义而受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古义：一种量器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今义：计时的器具或中空的响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例句：非独贤者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古义：代词，这种    今义：判断动词，是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所识穷乏者得我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得：恩惠，这里是感激的意思。名词作动词 。   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4" dur="2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9" dur="2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4" dur="20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9" dur="20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4" dur="20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9" dur="20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4" dur="20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9" dur="2000"/>
                                        <p:tgtEl>
                                          <p:spTgt spid="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4" dur="2000"/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9" dur="2000"/>
                                        <p:tgtEl>
                                          <p:spTgt spid="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4" dur="2000"/>
                                        <p:tgtEl>
                                          <p:spTgt spid="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特殊句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判断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鱼，我所欲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”，判断句标志。  译文：鱼，是我所喜爱的东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省略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乡为身死而不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”后面省略了介词的宾语“礼义”，“受”后面省略了宾语“施舍”，全句省略了主语“我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译文：从前我为了“礼义”宁愿死也不接受施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1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1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6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1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6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1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1" dur="500"/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4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六、虚词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之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24000" y="83772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行道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弗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此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谓失其本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如使人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欲莫甚于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代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呼尔而与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皆有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今为宫室之美为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995640" y="1263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140360" y="17524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宾语提前，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80000" y="2286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不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76720" y="3276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87640" y="38098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指羞恶之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95640" y="443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指不辨礼义而受之这件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04920" y="49039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于：介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所恶有甚于死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万钟于我何加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54212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比较，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067280" y="61405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对象，对、对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介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乡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身死而不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今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宫室之美而为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动词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今为宫室之美而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不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苟得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13716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800600" y="1981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00600" y="3124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做，接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36576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4920" y="443376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则：连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万钟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则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不辨礼义而受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由是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则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生而有不用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05520" y="526428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假设，如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105520" y="59119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结果，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68360" y="-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解题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31096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子主张人性是善的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他认为人生而具有侧隐之心、羞恶之心、辞让之心、是非之心。只要不使这些“善心”丧失，就在道德方面具备“仁义礼智”。本文就是从这种理论出发，阐明了义重于生，义重于利和不义可耻的道理。提出“舍生取义”的主张。孟子认为，如果把生命看得比义更重要，就会做出各种不义的事情来。他对比了两种生死观，赞扬了那些重义轻生、舍生取义的人。斥责了那些苟且偷生。见利忘义的人。告诫人们要辨别义和利，不要失去“本心”。本文行文流畅，论证严密；引譬设喻，生动形象；排比铺陈，气势恢弘。体现了《孟子》一书的文笔特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6838920" y="6338880"/>
            <a:ext cx="230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9ac"/>
                </a:solidFill>
                <a:latin typeface="Arial"/>
                <a:ea typeface="方正水柱简体"/>
              </a:rPr>
              <a:t>鱼我所欲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连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舍鱼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取熊掌者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由是则生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有不用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呼尔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与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钟则不辨礼义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受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乡为身死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不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今为所识穷乏者得我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为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88000" y="112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示并列，不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6720" y="19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转折，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356000" y="2565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修饰，不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92720" y="321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承接，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16360" y="400536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56000" y="3933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转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43640" y="458136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承接，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60336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给下列加色字注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　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387160" y="1413000"/>
            <a:ext cx="9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05040" y="1989000"/>
            <a:ext cx="14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ｄ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62080" y="2565360"/>
            <a:ext cx="17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ｎ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55520" y="3284640"/>
            <a:ext cx="9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ｃ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31360" y="3860640"/>
            <a:ext cx="14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ǒ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55480" y="4508640"/>
            <a:ext cx="12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ｘ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68360" y="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隶书"/>
              </a:rPr>
              <a:t>课堂练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２、指出通假字，并说明其词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乡为生死而不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识穷乏者得我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钟则不辩礼义而受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故患有所不辟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71560" y="603972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辟”通“避”；躲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11200" y="17002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乡”通“向”；从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42120" y="299736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得”通“德”；恩惠，此作感激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923120" y="350028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与”通“欤”；语气词，无实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11200" y="47242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辩”通“辨”；辨别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952488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３、解释下列句子中加色的字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者不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得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）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之所欲莫甚于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　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此之谓失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本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 　）　　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贤者能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　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所不辟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呼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与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   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54400" y="141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同时占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00800" y="2117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32360" y="28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天性、本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59560" y="34290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丧失、丢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62840" y="41148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祸患、突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73560" y="48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助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0880" y="9907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24000" y="814320"/>
            <a:ext cx="84582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比较下列各组加点的词，看看意思是否相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所识穷乏者得我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蹴尔而与之，乞人不屑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呼尔而与之，行道之人弗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由是则生而有不用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所欲有甚于生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万钟于我何加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、非独贤者有是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亦不可以已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40360" y="1523880"/>
            <a:ext cx="48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通“欤”，语气词，表示反问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81480" y="22654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给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562720" y="2874960"/>
            <a:ext cx="31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表示修饰，连接修饰语和中心语。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419720" y="3637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但是，表转折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657600" y="417024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比，介词。表示比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733920" y="485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对，介词。引出动作的对象。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55418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指示代词。这个，这样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6151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这样看来，由此看来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257508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非独贤者有是心也，人皆有之，贤者能勿丧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万钟于我何加焉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此之谓失其本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36520" y="57913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就叫做失去了本来的良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就是忘了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" y="4648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优厚的俸禄对我有什么好处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83360" y="806400"/>
            <a:ext cx="55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是故所欲有甚于生者，所恶有甚于死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52280" y="144792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此可见，人们所想要的东西有比生命更重要的，人们所厌恶的东西，有比死更厉害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43000" y="312408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只是有道德的人有这心，人人都有这颗心 ，只是有道德的人能永远不失去它罢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86120" y="18252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彩云"/>
                <a:ea typeface="华文彩云"/>
              </a:rPr>
              <a:t>练习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：翻译下列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457200" y="152280"/>
            <a:ext cx="8283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问答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课文中哪句话可以概括全篇的大意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44197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708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文中两次提到“心”，在第一节中说：“非独贤者有是心也，人皆有之，贤者能勿丧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!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文章最后又说：“此之谓失其本心。”句中“是心”、“本心”各指什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请依据原文回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450864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本心”就是能够做到“舍生取义”的心，“是心”就是“这样的思想。其义与“本心”相同。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人有四种“本心”：同情心、羞耻心、恭敬心、是非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" y="23623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00000" y="1557360"/>
            <a:ext cx="7696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，亦我所欲也，义，亦我所欲也，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简要回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本文的中心论点是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舍生而取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本文主要赞扬了什么？批判了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赞扬了“舍生取义”，批判了“见利忘义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写出一两个你所知道的舍生取义的历史人物以及他的名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文天祥——人生自古谁无死，留取丹心照汗青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夏明翰——砍头不要紧，只要主义真。杀了夏明翰，还有后来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利用文段中“义”的含义，写出三个含“义”的成语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义不容辞、义愤填膺、义无反顾、义正词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2398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开放性试题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、我国历史上，许多人把文中的观点作为自己做人的准则，作为自己最高道德标准来追求。请根据你所掌握的有关知识，举一个能用本文观点来赞美的例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示例：文天祥，拒绝元人的高官厚禄，宁死不降。闻一多，拍案而起，横眉怒对国民党的手枪，宁可倒下，也不屈服。朱自清，宁可饿死，也不吃美国的救济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、宋末抗元民族英雄文天祥在被元军杀害前曾写下绝笔说：“孔曰成仁，孟曰取义，惟其义尽，所以至仁。读圣贤书，所学何事，而今而后，庶几无愧。”文天祥所说的这些话的意思大概是什么？表明了他怎样的人生观？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文天祥所说话的意思是：孔子说要“成仁”，孟子说要“取义”，惟有行为完全符合“义”的要求，才能达到“仁”的境界。我们研读圣人贤士的著作，要从中学习什么东西，从今往后，我没有什么可惭愧的。这表明他舍生取义、视死如归的人生观，用实际行动实践他的“人生自古谁无死，留取丹心照汗青”的壮志和节操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79280" y="609480"/>
            <a:ext cx="864072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本文观点广为后人所赞同，请找出本文观点并写出与之一致的两句诗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*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观点：舍生取义 诗句：（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）取义成仁今日事，人间遍种自由花（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）人生自古谁无死，留取丹心照汗青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本文孟子用“ 舍生而取义 ”来表现他的人生追求（选择）文天祥《过零丁洋》中体现这种追求的诗句是：“人生自古谁无死，留取丹心照汗青”。请写出历史上在人生中有正确选择的人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例如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岳飞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选择精忠报国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天祥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选择忠义守节，布鲁诺选择坚定信念。</a:t>
            </a:r>
            <a:br>
              <a:rPr sz="28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闻一多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拍案而起，横眉怒对国民党手枪，宁可倒下去，不愿屈服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刘胡兰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面对敌人的屠刀毫不畏惧，宁死也不出卖党组织，最后英勇牺牲；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a77"/>
                </a:solidFill>
                <a:latin typeface="Arial"/>
                <a:ea typeface="华文行楷"/>
              </a:rPr>
              <a:t>主要思想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施仁政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民贵君轻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人性本善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rcRect l="11979" t="0" r="4934" b="6400"/>
          <a:stretch/>
        </p:blipFill>
        <p:spPr>
          <a:xfrm>
            <a:off x="5562720" y="685800"/>
            <a:ext cx="342900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23104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本文所强调的“义”与市场经济下的“利”有无矛盾，由此会引发一点什么样的启示，请简要谈谈。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*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矛盾，在市场经济下也要讲诚信、讲道德，不做违法乱纪的事。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本文主要阐述了“舍生取义”的道理。作为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世纪的中学生，你怎样理解这个“义”字？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能见义勇为、为正义事业而献身、做与国与民与人有益的事等。社会上的哥们义气是与小团体个人私利相关的江湖义气与本文的“义”不同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《鱼我所欲也》中，“所识穷乏者得我与”一句，从一个侧面反映出了孟子亲民爱民的民本思想，与此同时，在孟子看来，即使是出于用之于民的目的，也不能“万钟则不辩礼义而受之”。你认为其中的道理是什么？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因为“义”的价值高于“生”，所以，即使出于用之于民的目的，也不能放弃“义”的前提，用“不辩礼义”之财来让人苟且求生，更何况是出于让“贫乏者”“得我”的个人目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孟子提倡的 “舍生取义”曾经造就了一大批仁人志士，而现在的学校教育则强调我们中小学生要“珍爱生命”，最近教育部新修改的《中学生日常行为规范》就删掉了“见义勇为，敢于斗争”的字样，对于这些，你是怎样看待这一问题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*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的观点：（只要言之成理，观点鲜明即可。）如：人的生命是宝贵的，我们应当要珍爱这仅有的一次生命，但并不表示我们不见义勇为，不伸张正义，只是我们在见义勇为时，要量力而行，要在与坏人斗勇的同时还要斗智，尽量避免对自己的损害，对生命的威协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孟子的名言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富贵不能淫，贫贱不能移，威武不能屈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、老吾老以及人之老，幼吾幼以及人之幼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生于忧患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死于安乐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、得道多助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失道寡助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天降大任于是人也，必先苦其心志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劳其筋骨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饿其体肤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003040" y="836640"/>
            <a:ext cx="518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性善论”的要点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   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 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(1)“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善”是人的本性。“人性之善也。犹水之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下也。人无有不善。水无有不下。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    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人有四种“本心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同情心、羞耻心、恭敬心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是非心。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仁义礼智的道德规范即由此产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恻隐之心，人皆有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羞恶之心，人皆有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恭敬之心，人皆有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是非之心，人皆有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恻隐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仁也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：羞恶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义也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恭敬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礼也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；是非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文选自《孟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告子上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《告子上》的主要内容是阐明“性善说”，即人性里天生就有向善的种子，这种善的天性，就是人的“本心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本文讲的是每个人都有“本心”，无论在什么情况下，人都应该保有自己的“本心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8:58:54Z</dcterms:created>
  <dc:creator/>
  <dc:description/>
  <dc:language>en-US</dc:language>
  <cp:lastModifiedBy>Administrator</cp:lastModifiedBy>
  <dcterms:modified xsi:type="dcterms:W3CDTF">2012-12-06T03:23:44Z</dcterms:modified>
  <cp:revision>94</cp:revision>
  <dc:subject/>
  <dc:title>鱼我所欲也</dc:title>
</cp:coreProperties>
</file>