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6.gif" ContentType="image/gif"/>
  <Override PartName="/ppt/media/image7.png" ContentType="image/png"/>
  <Override PartName="/ppt/media/image8.jpeg" ContentType="image/jpeg"/>
  <Override PartName="/ppt/media/image10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501-C4CA-42B4-A696-4D1C5653A9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700-0BBD-4BC4-A087-5FBA1864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335-2144-4164-8835-A39E305E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585-6F66-483F-9388-189CA383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C2B-337A-4A9D-83CE-688A8DE6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89F-F3B5-4B6C-B5A9-1AFE428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E90-69DD-401F-B7F7-485B0AF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D819-9CE8-4D42-B172-48AC808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9474-0AD6-47F9-B8BC-60077B71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05B7-DC2B-436B-9041-7F6BB44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938-6943-4039-9466-BF7D227E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E84A-1A9F-4130-8FFA-C6E2522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780-01CF-42A5-9B2C-C9E8CDE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72E-8F8A-4EB0-80A2-A31EA36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53A1-3CBF-4097-9B94-7004A7BB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B372-03C4-4225-9FAB-1EF2BCA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844B-91BE-4898-89ED-76F9DCC3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4BF2-DECA-4026-A326-95D0AA96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6289-0209-430F-BECB-A666ECBE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CC2A-1CDA-4AEA-8858-B2E7992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6386-74D0-4481-96CE-AB6C9B7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31CF-714C-4ACB-B66B-8820AA8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0C5F-0C78-4194-8A4C-C316363F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1E7-A039-4F2A-9B60-1CC014A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E0AB-EC3F-489B-9D43-DD73B3C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E70D-ABAD-423A-B1D7-F58C90CD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5454-62BF-48F0-8D26-572999F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E36E-2064-433E-841B-DB70596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C199-E0FA-4B17-ACDC-35752318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A10B-F9F6-4D8F-A824-B0F07C03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93D4-360D-4E91-BC43-062B6CC7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7768-DA0F-4CCC-8446-7E361F6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1DA8-5F1C-4B3D-A71B-D14A1C04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3C6C-6756-4649-A439-575D3D6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6C4-6330-4473-B324-E201F0D6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6FFA-190D-4BE4-8B02-3BDF873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D80A-287D-4676-A1E8-B4142E2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7C44-8E68-403B-9C85-B3092221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AF3A-27B7-4AA0-AB02-B78CD27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905D-141D-45AE-94F0-432CA50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9B72-E3F1-4FD1-A21D-3B717CE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DC50-13AD-4E3F-A20F-FCE4C4F1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E809-E0DB-492C-8DCF-1F22870C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5067F-6793-4F0F-B6E5-28B107B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2989-FCCC-4F4F-84C8-AB33A9B6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E27-C3C4-46EA-BE42-098A234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A94F-BFD3-4A06-9BCF-268AE979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FDD3-9BB7-4A9F-8E39-E86C117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13EA-9ADF-4796-9AFC-B56C203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EF88-462B-42B9-81B2-DC86AF0A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CA8A-7FC0-460D-91B6-97A0CE5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8379-2E41-4FE2-A43C-383A342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3824-5383-488C-AD9F-E2338393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47EC-9BC4-4AFF-8D53-27E8803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E0AD-0A87-40C2-B079-08826D67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4CFA-C059-4353-9CF6-1FC38413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6E8-C284-4385-BCE0-C0247791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E349-6E3A-4AFB-9F2B-FB2D6E2A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B5F-F9D0-49A8-980E-24D4609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577-FD28-4273-B0EA-FBD7A39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17D-557A-487A-86A3-16AA5ED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1E0C-F830-4A4F-BCEE-BAD916D65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AFB6-774E-4EA9-9071-C61BA1816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FA57-C2B8-4E03-8CAD-1DC4D0D2D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141-AB33-44BF-9B8D-11A1B18E86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BE5C-D79B-436B-810F-951DB7928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3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80320" y="2708280"/>
            <a:ext cx="789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︽孟子•告子上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1093680" y="0"/>
            <a:ext cx="23749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黑体"/>
              </a:rPr>
              <a:t>鱼我所欲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4365720"/>
            <a:ext cx="539640" cy="158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8604360" y="4365720"/>
            <a:ext cx="539640" cy="158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 action="ppaction://hlinksldjump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5" action="ppaction://hlinksldjump"/>
          </p:cNvPr>
          <p:cNvSpPr/>
          <p:nvPr/>
        </p:nvSpPr>
        <p:spPr>
          <a:xfrm>
            <a:off x="7956720" y="4365720"/>
            <a:ext cx="539640" cy="158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6" action="ppaction://hlinksldjump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863928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163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691" h="21600">
                <a:moveTo>
                  <a:pt x="163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691" h="21600">
                <a:moveTo>
                  <a:pt x="13769" y="8224"/>
                </a:moveTo>
                <a:lnTo>
                  <a:pt x="17634" y="8224"/>
                </a:lnTo>
                <a:lnTo>
                  <a:pt x="17634" y="15221"/>
                </a:lnTo>
                <a:lnTo>
                  <a:pt x="18922" y="15221"/>
                </a:lnTo>
                <a:lnTo>
                  <a:pt x="18922" y="16144"/>
                </a:lnTo>
                <a:lnTo>
                  <a:pt x="13769" y="16144"/>
                </a:lnTo>
                <a:lnTo>
                  <a:pt x="13769" y="15221"/>
                </a:lnTo>
                <a:lnTo>
                  <a:pt x="15057" y="15221"/>
                </a:lnTo>
                <a:lnTo>
                  <a:pt x="15057" y="9129"/>
                </a:lnTo>
                <a:lnTo>
                  <a:pt x="13769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8000" y="6524640"/>
            <a:ext cx="576360" cy="33336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翻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2280" y="28260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假如人们所想要的没有比生命更重要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么凡是可以用来求得生存的手段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什么不可以使用的呢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假如人们厌恶的没有超过死亡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么凡是可以用来躲避祸患的事情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什么不可以去做的呢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这种方法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能得以生存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然而有的人却不愿采用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这种行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能躲避祸患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然而有的人却不愿这样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是因为人所想要的东西有比生命更重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人厌恶的东西有超过死亡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只是贤人有这种本性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人都有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不过贤人能不丢掉罢了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762120"/>
            <a:ext cx="9144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段可分为三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                        用了比喻从正面立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确立了论点：舍生取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                   用假设论证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一步从反面强调为了“义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以不用“生”、“不”“辟患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            强调义的思想境界是人人都有的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是道德高尚贤明的人没有丧失罢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148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从开头到“舍生而取义者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2708280"/>
            <a:ext cx="41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所恶有甚于死者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39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最后一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03280" y="1052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论点（设喻）鱼——熊掌  舍生取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1773360"/>
            <a:ext cx="586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论证（正面）所欲有甚于生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恶有甚于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3213000"/>
            <a:ext cx="6705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假设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反面）所欲莫甚于生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欲莫甚于死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487692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结论       所欲有甚于生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恶有甚于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53240" y="213372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义高于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59720" y="357336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生高于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81960" y="522936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舍生取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2743200"/>
            <a:ext cx="609480" cy="3276720"/>
          </a:xfrm>
          <a:custGeom>
            <a:avLst/>
            <a:gdLst>
              <a:gd name="textAreaLeft" fmla="*/ 81360 w 609480"/>
              <a:gd name="textAreaRight" fmla="*/ 528120 w 60948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700360" y="0"/>
            <a:ext cx="36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结构提纲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6500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比喻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20500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论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58920" y="1989000"/>
            <a:ext cx="144360" cy="165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8964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阅读第一段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释下列字、句意思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生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亦我所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欲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二者不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可得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兼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舍生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取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者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所欲有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者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故不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苟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295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：生命也是我喜爱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想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喜欢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：如果这两样东西不能同时都具有的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那么我只好牺牲生命而选取大义了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同义复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;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同时得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转折关系的连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者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气词复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“也”相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但我所喜爱的还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生命更重要的东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以我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做苟且偷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95280" y="476280"/>
            <a:ext cx="8362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甚于死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所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如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之所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甚于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凡可以得生者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由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不用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但我所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厌恶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的还有比死更严重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所以有灾祸我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躲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如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人们所喜爱的东西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没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比生命更宝贵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那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一切能够求得生存的手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哪一样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不可以采用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呢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：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采用这种手段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就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能够活命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可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有（的人）却不肯采用（它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95280" y="1341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非独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贤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 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贤者能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丧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耳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22860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不仅 有道德的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这种 本性（信念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而且人人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都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有这种本性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不过有道德的人能够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丧失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罢了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之：代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代善性、本性、天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228600"/>
            <a:ext cx="8610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用课文原句回答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章的中心论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反面论证中心论点的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148428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亦我所欲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亦我所欲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二者不可得兼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舍生而取义者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357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如使人之所欲莫甚于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则凡可以得生者何不用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使人之所恶莫甚于死者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则凡可以避患者何不为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62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0464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为了阐明自己的观点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运用了哪些论证方法？请写出两种论证方法并举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本文观点为后人所赞同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写出与本文观点一致的两句诗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7160" y="4797360"/>
            <a:ext cx="828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诗句：人生自古谁无死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留取丹心照汗青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粉骨碎身浑不怕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要留清白在人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773360"/>
            <a:ext cx="59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比喻论证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对比论证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本文中心论点是“舍生而取义者也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你为本文再补充两个事实论据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现实生活中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失其本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者不乏其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举一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12536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天祥宁死而不投降元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董存瑞舍身炸碉堡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刘胡兰面对铡刀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义凛然为了保守党的秘密而英勇就义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5157720"/>
            <a:ext cx="86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陈希同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成克杰等贪官忘记了自己作为一个共产党员的基本要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置党和人民的利益于不顾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贪污腐败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最终受到应有的惩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50920" y="189000"/>
            <a:ext cx="87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面对当前市场经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认为人们所追求的“利”和本文强调的“义” 是否已经过时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结合你所了解的知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这一问题谈几点自己的认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9640" y="206064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过时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义”指的是正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所追求的“利”是不违背市场经济运行的条件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获得的“利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即“取之有道”下的“利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者是不矛盾的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所以并不过时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276840" y="609480"/>
            <a:ext cx="83192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富贵不能淫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贫贱不能移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威武不能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此之谓大丈夫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孟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人生自古谁无死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留取丹心照汗青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文天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生命诚可贵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爱情价更高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若为自由故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者皆可抛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—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裴多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752480"/>
            <a:ext cx="76201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华文行楷"/>
              </a:rPr>
              <a:t>生与死   义与利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华文行楷"/>
              <a:ea typeface="华文行楷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484280"/>
            <a:ext cx="80647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二自然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重点字词、翻译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内容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理解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443640" y="380880"/>
            <a:ext cx="2700360" cy="2210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57200" y="0"/>
            <a:ext cx="84582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箪食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豆羹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得之则生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弗得则死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呼尔而与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行道之人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弗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受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蹴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尔而与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乞人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不屑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万钟则不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辩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礼义而受之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万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我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何加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焉！为宫室之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妻妾之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"/>
              </a:rPr>
              <a:t>奉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所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穷乏者得我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523880"/>
            <a:ext cx="41911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没有礼貌的吆喝着给他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用脚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429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因轻视而不肯接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3429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通“辨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辨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高位厚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450864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有什么益处                                        侍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5715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所认识的贫穷的人感激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320" y="6248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通“德”  感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9400" y="5715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通“欤”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语气助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052640"/>
            <a:ext cx="9144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筐食物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碗汤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得到它就能生存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没有它就会饿死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没有礼貌的吆喝着给他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是过路的饥人也不会接受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脚踢过再给别人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乞丐也不愿意接受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于高位厚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辨别是否合乎礼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欣然接受了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位厚禄对我有什么益处呢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宫室的华美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妻妾的侍奉和我所认识的贫穷的人感激我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476280"/>
            <a:ext cx="845820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乡为身死而不受</a:t>
            </a: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今为宫室之美为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乡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身死而不受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今为妻妾之奉为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乡为身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而不受</a:t>
            </a:r>
            <a:r>
              <a:rPr b="1" lang="zh-CN" sz="3200" spc="-1" strike="noStrike">
                <a:solidFill>
                  <a:srgbClr val="00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今为所识穷乏者得我而为之：是亦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可以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已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乎？此之谓失其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本心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981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从前为了礼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宁愿死也不接受施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42100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通“向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从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5029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天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4920" y="380880"/>
            <a:ext cx="8610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  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前为了礼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宁愿死也不接受施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为了宫室的华美而接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前为了礼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宁愿死也不接受施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为了妻妾的侍奉而接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前为了礼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宁愿死也不接受施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为了所认识的贫穷人的感激而接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种做法不也可以停止了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就叫做丧失了他们的天性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659640" y="5805360"/>
            <a:ext cx="228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文章内容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28600" y="6041880"/>
            <a:ext cx="1371600" cy="816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8839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、第二自然段主要采用了哪两种论证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、根据下面的提示给这一段分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层 ：                        从正面举例论证不能见利忘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第二层：                                                   从反面举例论证不能见利忘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第三层 ：                        与第一部分结束相呼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把上述人的行为归纳为“失其本心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31240" y="220500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从“一箪食”至“乞人不屑也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16680" y="34290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至“是亦不可以已乎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59320" y="4653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最后一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47640" y="620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举例论证、对比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32000" y="331560"/>
            <a:ext cx="1981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义存于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069920"/>
            <a:ext cx="7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举 例 论 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4115880"/>
            <a:ext cx="182880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见利忘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332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4219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08360" y="1413000"/>
            <a:ext cx="152280" cy="2666880"/>
          </a:xfrm>
          <a:prstGeom prst="downArrow">
            <a:avLst>
              <a:gd name="adj1" fmla="val 50000"/>
              <a:gd name="adj2" fmla="val 437825"/>
            </a:avLst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222200"/>
            <a:ext cx="1155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对 比 论 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84720" y="745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嗟来之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67280" y="62064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67280" y="450864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17712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行道之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乞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35640" y="404640"/>
            <a:ext cx="144360" cy="100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56000" y="434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万钟之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2852640"/>
            <a:ext cx="71280" cy="2090880"/>
          </a:xfrm>
          <a:custGeom>
            <a:avLst/>
            <a:gdLst>
              <a:gd name="textAreaLeft" fmla="*/ 45720 w 71280"/>
              <a:gd name="textAreaRight" fmla="*/ 71640 w 71280"/>
              <a:gd name="textAreaTop" fmla="*/ 54360 h 2090880"/>
              <a:gd name="textAreaBottom" fmla="*/ 2036520 h 209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51640" y="308844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宫室之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妻妾之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所识穷乏        者得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72600" y="3213000"/>
            <a:ext cx="66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排 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2852640"/>
            <a:ext cx="71280" cy="2089080"/>
          </a:xfrm>
          <a:custGeom>
            <a:avLst/>
            <a:gdLst>
              <a:gd name="textAreaLeft" fmla="*/ 0 w 71280"/>
              <a:gd name="textAreaRight" fmla="*/ 25560 w 71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917640"/>
            <a:ext cx="152280" cy="320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5667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举出实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一步论证“义”重于生命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得出中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出不应该为物欲所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3049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阅读第二段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解释下列字、句意思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箪 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豆  羹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得之则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弗得则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蹴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与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乞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万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则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礼义而受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万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何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筐 米饭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碗 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了它就能活下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没有它就会死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2743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如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用脚踢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施舍给别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即使是乞丐也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屑一顾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蹴尔：用脚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45086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对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高位厚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否合乎礼义就接受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那么高位厚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来说有什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好处  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33520" y="38088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为身死而不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宫室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今为所识穷乏者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而为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亦不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以 已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乎？此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之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失其本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838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宁肯死也不愿接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却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华美的住宅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接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228600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今天却为了我所认识的穷苦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自己而接受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4038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译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种做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是可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停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吗？这就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丧失了人所固有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羞恶廉耻的天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9280" y="260280"/>
            <a:ext cx="87854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中心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本文以鱼和熊掌为喻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论述了人生的选择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应以“义”为重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应选择“舍生取义”的观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同时批判了那些见利忘义的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4019400"/>
            <a:ext cx="736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写作特点：                           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说理深入浅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层层深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                                     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运用对比论证、比喻论证、举例论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富有论辩性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 rot="1276800">
            <a:off x="7020000" y="3212640"/>
            <a:ext cx="15444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380880"/>
            <a:ext cx="830592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读准字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箪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dān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蹴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cù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苟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gǒu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      屑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xiè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羹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gēng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兼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jiān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sàng)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弗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fú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 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yān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妾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qiè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shèn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 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ér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辟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(bì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7993080" cy="69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古汉语词语小结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通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故患有所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“避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躲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万钟则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礼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“辨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辨别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所识穷乏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“欤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语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;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德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恩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乡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身死而不受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乡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通“向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260280"/>
            <a:ext cx="82803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二、一词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所欲有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生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万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我何加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患有所不辟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故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所欲有甚于生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如使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所欲莫甚于生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人皆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蹴尔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所识穷乏者得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085840" cy="1843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356000" y="83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介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2920" y="141300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介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06280" y="1989000"/>
            <a:ext cx="19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4280" y="249228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连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92560" y="2997360"/>
            <a:ext cx="17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助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21400" y="3645000"/>
            <a:ext cx="31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代前面的想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79840" y="4221000"/>
            <a:ext cx="16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词：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4797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“欤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;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舍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取熊掌者也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由是则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不用也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呼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与之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万钟则不辩礼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受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乡为身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03320" y="0"/>
            <a:ext cx="29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连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转折关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84320" y="719280"/>
            <a:ext cx="29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连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转折关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47480" y="1484280"/>
            <a:ext cx="31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：连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表修饰关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79120" y="2205000"/>
            <a:ext cx="31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：连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表修饰关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52280" y="299736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：连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递进关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尚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51400"/>
            <a:ext cx="914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古今异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例句：万钟则不辩礼义而受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古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：一种量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今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：计时的器具或中空的响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词类活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得：例句：所识穷乏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名词作动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恩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这里是感激的意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、特殊句式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判断句     例句：鱼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所欲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也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判断句标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译文：鱼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是我所喜爱的东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13532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省略句     例句：乡为身死而不受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后面省略了介词的宾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礼义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受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后面省略了宾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施舍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全句省略了主语“我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译文：从前我为了“礼义”宁愿死也不接受施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鱼我所欲也</a:t>
            </a:r>
            <a:br>
              <a:rPr sz="48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所欲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熊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亦我所欲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者不可得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舍鱼而取熊掌者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是我所喜爱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熊掌也是我所喜爱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这两种东西不能同时都得到的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我就只好放弃鱼而选取熊掌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79280" y="0"/>
            <a:ext cx="2376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备用翻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亦我所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亦我所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者不可得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舍生而取义者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生命是我所喜爱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大义也是我所喜爱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这两样东西不能同时都具有的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我就只好牺牲生命而选取大义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亦我所欲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欲有甚于生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故不为苟得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生命是我所喜爱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我所喜爱的还有胜过生命的东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所以我不做只为求利益而不择手段的事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死亦我所恶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恶有甚于死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故患有所不辟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死亡是我所厌恶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我所厌恶的还有超过死亡的事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所以有的灾祸我不躲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如使人之所欲莫甚于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则凡可以得生者何不用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人们所喜爱的东西没有超过生命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一切可以得到生存的办法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什么手段不用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人之所恶莫甚于死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则凡可以辟患者何不为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]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人们所厌恶的事情没有超过死亡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一切可以躲避灾祸的坏事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哪一桩不可以干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是则生而有不用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是则可以辟患而有不为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故所欲有甚于生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恶有甚于死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通过某种办法就可以得到生存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有人不用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通过某种办法就可以躲避祸患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有人不去干这种事情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由此可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他们所喜爱的有比生命更宝贵的东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就是“义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他们所厌恶的有比死亡更严重的事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就是“不义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非独贤者有是心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皆有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贤者能勿丧耳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不仅仅贤人有这种思想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人人都有这种思想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只不过贤人能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操守这种品德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使它不致丧失罢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箪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豆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得之则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弗得则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筐饭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碗汤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得到它便可以活下去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失去它就要死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呼尔而与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道之人弗受；蹴尔而与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乞人不屑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然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轻蔑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呼喝着给他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过路的饥饿的人也不会接受；如果你用脚踢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或踩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给别人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乞丐也不愿意接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万钟则不辨礼义而受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万钟于我何加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万钟的俸禄如果不辨别是否合乎礼义就接受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这万钟的俸禄对我有什么益处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孟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字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期著名的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、      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学派的代表人物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承孔子的思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被称为“亚圣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26342" b="0"/>
          <a:stretch/>
        </p:blipFill>
        <p:spPr>
          <a:xfrm>
            <a:off x="6156360" y="1341360"/>
            <a:ext cx="2592360" cy="468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32720" y="5950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孟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70028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孟子》是儒家学派的经典著作之一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记述了孟子的言行、政治主张、哲学主张及个人修养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孟子的政治主张主要是“仁政”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主张和平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反对战争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宋代朱熹把《孟子》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编在一起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称为《四书》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子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97960" y="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战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22320" y="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76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3880" y="47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414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《大学》《中庸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160" y="46530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《论语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宫室之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妻妾之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识穷乏者得我欤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]</a:t>
            </a:r>
            <a:br>
              <a:rPr sz="36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是为了宫室的华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妻妾的侍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了我所认识的穷困贫苦的人感激我的恩德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向为身死而不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今为宫室之美为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向为身死而不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今为妻妾之奉为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向为身死而不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今为所识穷乏者得我为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亦不可以已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原先为了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羞恶之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宁愿身死而不受“呼尔” “蹴尔”的施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今天却为了宫室的华美而接受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原先为了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羞恶之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宁愿身死而不接受“呼尔” “蹴尔”的施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今天却为了妻妾的侍奉而接受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原先为了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羞恶之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宁愿身死而不受“呼尔”“蹴尔”的施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今天却为了所认识的穷困贫苦的人感激我的恩德而接受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这种做法不也是可以停止不干了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此之谓失其本心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.]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果这样做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,)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这就叫做丧失了本来就有的羞恶廉耻之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firstslide"/>
          </p:cNvPr>
          <p:cNvSpPr/>
          <p:nvPr/>
        </p:nvSpPr>
        <p:spPr>
          <a:xfrm>
            <a:off x="8352000" y="602136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14885" y="3837"/>
                </a:moveTo>
                <a:lnTo>
                  <a:pt x="17461" y="6448"/>
                </a:lnTo>
                <a:lnTo>
                  <a:pt x="17461" y="4707"/>
                </a:lnTo>
                <a:lnTo>
                  <a:pt x="19237" y="4707"/>
                </a:lnTo>
                <a:lnTo>
                  <a:pt x="19237" y="8224"/>
                </a:lnTo>
                <a:lnTo>
                  <a:pt x="21848" y="10800"/>
                </a:lnTo>
                <a:lnTo>
                  <a:pt x="20194" y="10800"/>
                </a:lnTo>
                <a:lnTo>
                  <a:pt x="20194" y="17989"/>
                </a:lnTo>
                <a:lnTo>
                  <a:pt x="9575" y="17989"/>
                </a:lnTo>
                <a:lnTo>
                  <a:pt x="9575" y="10800"/>
                </a:lnTo>
                <a:lnTo>
                  <a:pt x="7922" y="10800"/>
                </a:lnTo>
                <a:close/>
              </a:path>
              <a:path fill="darkenLess" w="29769" h="21600">
                <a:moveTo>
                  <a:pt x="17461" y="6448"/>
                </a:moveTo>
                <a:lnTo>
                  <a:pt x="17461" y="4707"/>
                </a:lnTo>
                <a:lnTo>
                  <a:pt x="19237" y="4707"/>
                </a:lnTo>
                <a:lnTo>
                  <a:pt x="19237" y="8224"/>
                </a:lnTo>
                <a:close/>
              </a:path>
              <a:path fill="darkenLess" w="29769" h="21600">
                <a:moveTo>
                  <a:pt x="13962" y="14299"/>
                </a:moveTo>
                <a:lnTo>
                  <a:pt x="15807" y="14299"/>
                </a:lnTo>
                <a:lnTo>
                  <a:pt x="15807" y="17989"/>
                </a:lnTo>
                <a:lnTo>
                  <a:pt x="20194" y="17989"/>
                </a:lnTo>
                <a:lnTo>
                  <a:pt x="20194" y="10800"/>
                </a:lnTo>
                <a:lnTo>
                  <a:pt x="9575" y="10800"/>
                </a:lnTo>
                <a:lnTo>
                  <a:pt x="9575" y="17989"/>
                </a:lnTo>
                <a:lnTo>
                  <a:pt x="1396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本文中心论点是“舍生而取义者也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你为本文再补充两个事实论据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现实生活中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失其本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者不乏其人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举一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112536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天祥宁死而不投降元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董存瑞舍身炸碉堡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刘胡兰面对铡刀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义凛然为了保守党的秘密而英勇就义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5157720"/>
            <a:ext cx="86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陈希同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成克杰等贪官忘记了自己作为一个共产党员的基本要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置党和人民的利益于不顾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贪污腐败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最终受到应有的惩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50920" y="189000"/>
            <a:ext cx="87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面对当前市场经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认为人们所追求的“利”和本文强调的“义” 是否已经过时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结合你所了解的知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这一问题谈几点自己的认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206064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过时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义”指的是正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所追求的“利”是不违背市场经济运行的条件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获得的“利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即“取之有道”下的“利”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者是不矛盾的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所以并不过时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826920" y="2205000"/>
            <a:ext cx="66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读准课文中的生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熟练的朗读课文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整体感知文章的主要问容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23800" y="1890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609480" y="228600"/>
            <a:ext cx="2781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相关链接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295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子本人是一个比较高傲的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不肯迁就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肯趋附权势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说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富贵不能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贫贱不能移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威武不能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此之谓大丈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子曾经在齐国任客卿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来因为与齐王意见不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便决定辞掉齐卿回家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齐王托人挽留孟子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件是准备在首都的中心地区建一座房子给孟子住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送给孟子万钟粮食作为弟子们的生活费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果遭到孟子的严词拒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见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孟子在本篇中所说的“万钟则不辩礼义而受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钟于我何加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有所为而发的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现了孟子大义凛然的性格和气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背课下注释、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故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所不辟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呼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而与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万钟于我何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加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身死而不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是亦不可以已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981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恶       箪      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1916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乡        羹        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19280" y="907920"/>
            <a:ext cx="75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姚体"/>
                <a:ea typeface="方正姚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方正姚体"/>
                <a:ea typeface="方正姚体"/>
              </a:rPr>
              <a:t>wù         dān         c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91628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xiàng          gēng            q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52360" y="414972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课文中哪句话可以概括全篇的大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5084640"/>
            <a:ext cx="77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我所欲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我所欲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者不可兼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舍生而取义者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32130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15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77080" y="189000"/>
            <a:ext cx="146700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检测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66ff33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23720"/>
            <a:ext cx="85345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本文选自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解释下列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苟得                       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辟                         如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何不用也                   勿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蹴                         何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钟                       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呼尔而与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识穷乏者得我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333360"/>
            <a:ext cx="46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《孟子•告子上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162864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苟且取得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这里是“苟且偷生”的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1844640"/>
            <a:ext cx="23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祸患、灾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26370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通“避”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躲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25653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假如、假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3284640"/>
            <a:ext cx="31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什么手段不可用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3357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不丢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4149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用脚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88000" y="407664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有什么益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38240" y="487692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这里指高位厚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486900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通“向”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从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5562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没有礼貌的吆喝着给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3388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所认识的贫穷的人感激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11280" y="2133720"/>
            <a:ext cx="8049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一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点字词、翻译及理解其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2025720" cy="2209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11280" y="189000"/>
            <a:ext cx="82296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鱼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所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熊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亦我所欲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者不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得兼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舍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鱼而取熊掌者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亦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所欲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亦我所欲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者不可得兼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舍生而取义者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生亦我所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所欲有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甚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生者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故不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苟得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死亦我所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所恶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甚于死者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故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患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有所不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</a:rPr>
              <a:t>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208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所想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1280" y="184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同时得到  舍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7880" y="292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大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5400" y="400536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重要  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029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苟且偷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6049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祸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49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通“避 ”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躲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836640"/>
            <a:ext cx="93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6021360"/>
            <a:ext cx="505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602136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191628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96360" y="4005360"/>
            <a:ext cx="863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1916280"/>
            <a:ext cx="93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5013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2924280"/>
            <a:ext cx="505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400536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3160" y="40053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比……更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1844640"/>
            <a:ext cx="505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3796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生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33480"/>
            <a:ext cx="914400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如使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之所欲莫甚于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凡可以得生者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何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用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使人之所恶莫甚于死者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凡可以辟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者何不为也？由是则生而有不用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是则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辟患而有不为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故所欲有甚于生者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恶有甚于死者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独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贤者有是心也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皆有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贤者能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勿丧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耳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92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假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765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什么手段不可用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5229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仅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6248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不丢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620640"/>
            <a:ext cx="871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鱼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我所想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熊掌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是我所想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这两样东西不能同时得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舍弃鱼而选取熊掌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命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我所想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是我所想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两者不能同时得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舍弃生命而选取正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命也是我所想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想要的东西有比生命更重要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以我不去做苟且偷生的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亡也是我所厌恶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厌恶的东西有比死更厉害的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以有了祸患我不去躲避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03:44:51Z</dcterms:created>
  <dc:creator>teacher</dc:creator>
  <dc:description/>
  <dc:language>en-US</dc:language>
  <cp:lastModifiedBy>T3Z</cp:lastModifiedBy>
  <dcterms:modified xsi:type="dcterms:W3CDTF">2009-03-11T08:45:41Z</dcterms:modified>
  <cp:revision>100</cp:revision>
  <dc:subject/>
  <dc:title>鱼我所欲也</dc:title>
</cp:coreProperties>
</file>