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5.jpeg" ContentType="image/jpeg"/>
  <Override PartName="/ppt/media/image14.jpeg" ContentType="image/jpeg"/>
  <Override PartName="/ppt/media/image9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6.jpeg" ContentType="image/jpeg"/>
  <Override PartName="/ppt/media/image7.gif" ContentType="image/gif"/>
  <Override PartName="/ppt/media/image5.png" ContentType="image/png"/>
  <Override PartName="/ppt/media/image8.jpeg" ContentType="image/jpeg"/>
  <Override PartName="/ppt/media/image10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1A18-AB02-4365-9D83-7D402DED8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1B75-BF7C-456B-96F8-F434040BB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FBF2-93DF-4234-B6C4-540BF974E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82D0-C913-47D9-A9A0-79E0F0F3F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04281-E80C-4F1B-B67C-209FCC3FA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6008-6A9D-4E03-A166-CAE15145A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99AC-6DCF-4D2C-9790-E41D99242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4821F-597D-4EF3-8D86-6063C6367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DBA8-815A-40C0-9ECE-488C06FC4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FCBB-A898-44B4-AFB2-8F0BBC944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2A4E5-D4A4-419E-AD61-BCF6C940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30D2-BA3D-445D-A029-349E8F5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D1D65-A2AD-4493-9CAE-317727E859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437920" y="2796840"/>
            <a:ext cx="4800600" cy="2536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  <a:ea typeface="微软雅黑"/>
              </a:rPr>
              <a:t>雨巷</a:t>
            </a:r>
            <a:br>
              <a:rPr sz="6000"/>
            </a:br>
            <a:br>
              <a:rPr sz="60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微软雅黑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戴望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朗诵 诗朗诵 雨巷 的背景音乐 此生不再.mp3" descr=""/>
          <p:cNvPicPr/>
          <p:nvPr/>
        </p:nvPicPr>
        <p:blipFill>
          <a:blip r:embed="rId2"/>
          <a:stretch/>
        </p:blipFill>
        <p:spPr>
          <a:xfrm>
            <a:off x="7924680" y="60199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27651"/>
          <p:cNvSpPr/>
          <p:nvPr/>
        </p:nvSpPr>
        <p:spPr>
          <a:xfrm>
            <a:off x="3568680" y="2209680"/>
            <a:ext cx="51181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撑着油纸伞，独自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彷徨在悠长、悠长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又寂寥的雨巷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我希望飘过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一个丁香一样地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结着愁怨的姑娘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6" name="图片 27652" descr="5c196a258b3abb24"/>
          <p:cNvPicPr/>
          <p:nvPr/>
        </p:nvPicPr>
        <p:blipFill>
          <a:blip r:embed="rId1"/>
          <a:stretch/>
        </p:blipFill>
        <p:spPr>
          <a:xfrm rot="1200000">
            <a:off x="1066320" y="3123720"/>
            <a:ext cx="2314800" cy="3355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27654" descr="bbe0d311c01ab829b8127b68"/>
          <p:cNvPicPr/>
          <p:nvPr/>
        </p:nvPicPr>
        <p:blipFill>
          <a:blip r:embed="rId2"/>
          <a:stretch/>
        </p:blipFill>
        <p:spPr>
          <a:xfrm>
            <a:off x="1981080" y="380880"/>
            <a:ext cx="216396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4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9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0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" dur="1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三、作品简析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首诗写于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927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夏天。当时全国处于白色恐怖之中，戴望舒因曾参加进步活动而不得不避居于松江的友人家中，在孤寂中咀嚼着大革命失败后的幻灭与痛苦，心中充满了迷惘的情绪和朦胧的希望。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雨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一诗就是他的这种心情的表现，其中交织着失望和希望、幻灭和追求的双重情调。这种情怀在当时是有一定的普遍性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雨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运用了象征性的抒情手法。诗中那狭窄阴沉的雨巷，在雨巷中徘徊的独行者，以及那个像丁香一样结着愁怨的姑娘，都是象征性的意象。这些意象又共同构成了一种象征性的意境，含蓄地暗示出作者即迷惘感伤又有期待的情怀，并给人一种朦胧而又幽深的美感。富于音乐性是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雨巷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的另一个突出的艺术特色。诗中运用了复沓、叠句、重唱等手法，造成了回环往复的旋律和宛转悦耳的乐感。因此叶圣陶称赞这首诗为中国新诗的音节开了一个“新纪元”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3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5" dur="8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29700"/>
          <p:cNvSpPr txBox="1"/>
          <p:nvPr/>
        </p:nvSpPr>
        <p:spPr>
          <a:xfrm>
            <a:off x="3429000" y="2590920"/>
            <a:ext cx="2314440" cy="171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Top">
              <a:avLst>
                <a:gd name="adj" fmla="val 319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"/>
              </a:rPr>
              <a:t>谢谢！</a:t>
            </a:r>
            <a:endParaRPr b="1" lang="en-US" sz="60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"/>
              <a:ea typeface="楷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dur="indefinite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animClr clrSpc="rgb">
                                      <p:cBhvr>
                                        <p:cTn id="240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241" dur="1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242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3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44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45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4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3200040" y="1904760"/>
            <a:ext cx="251460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Wingdings 2"/>
                <a:ea typeface="Wingdings 2"/>
              </a:rPr>
              <a:t>作者简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Wingdings 2"/>
                <a:ea typeface="Wingdings 2"/>
              </a:rPr>
              <a:t>作品展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Wingdings 2"/>
                <a:ea typeface="Wingdings 2"/>
              </a:rPr>
              <a:t>作品简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图片 6147" descr="dd"/>
          <p:cNvPicPr/>
          <p:nvPr/>
        </p:nvPicPr>
        <p:blipFill>
          <a:blip r:embed="rId1"/>
          <a:stretch/>
        </p:blipFill>
        <p:spPr>
          <a:xfrm>
            <a:off x="914400" y="4343400"/>
            <a:ext cx="2133720" cy="1940040"/>
          </a:xfrm>
          <a:prstGeom prst="rect">
            <a:avLst/>
          </a:prstGeom>
          <a:ln w="0">
            <a:noFill/>
          </a:ln>
        </p:spPr>
      </p:pic>
      <p:pic>
        <p:nvPicPr>
          <p:cNvPr id="45" name="图片 6148" descr="ding"/>
          <p:cNvPicPr/>
          <p:nvPr/>
        </p:nvPicPr>
        <p:blipFill>
          <a:blip r:embed="rId2"/>
          <a:stretch/>
        </p:blipFill>
        <p:spPr>
          <a:xfrm>
            <a:off x="6553080" y="1600200"/>
            <a:ext cx="177192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一、作者简介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371240"/>
            <a:ext cx="403848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戴望舒（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05.3.5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～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950.2.28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）现代诗人。又称“雨巷诗人”，中国现代派象征主义诗人。戴望舒为笔名，原名戴朝安，又名戴梦鸥。笔名艾昂甫、江恩等。 浙江杭县（ 今杭州市余杭区）人。他的笔名出自屈原的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离骚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：“前望舒使先驱兮，后飞廉使奔属 。”意思是说屈原上天入地漫游求索，坐着龙马拉来的车子，前面由月神望舒开路，后面由风神飞廉作跟班。望舒就是神话传说中替月亮驾车的天神，美丽温柔，纯洁幽雅。曾赴法国留学，受法国象征派诗人影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14345" descr="d478a800e40453b7e850cd0d"/>
          <p:cNvPicPr/>
          <p:nvPr/>
        </p:nvPicPr>
        <p:blipFill>
          <a:blip r:embed="rId1"/>
          <a:stretch/>
        </p:blipFill>
        <p:spPr>
          <a:xfrm>
            <a:off x="838080" y="1295280"/>
            <a:ext cx="3637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二、作品展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19462"/>
          <p:cNvSpPr/>
          <p:nvPr/>
        </p:nvSpPr>
        <p:spPr>
          <a:xfrm>
            <a:off x="6785640" y="2362320"/>
            <a:ext cx="20091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 Black"/>
                <a:ea typeface="楷体"/>
              </a:rPr>
              <a:t>雨巷</a:t>
            </a:r>
            <a:endParaRPr b="0" lang="en-US" sz="6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" name="文本框 19469"/>
          <p:cNvSpPr/>
          <p:nvPr/>
        </p:nvSpPr>
        <p:spPr>
          <a:xfrm>
            <a:off x="-267840" y="1828800"/>
            <a:ext cx="53924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撑着油纸伞，独自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彷徨在悠长、悠长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又寂寥的雨巷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我希望逢着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一个丁香一样地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结着愁怨的姑娘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" name="图片 19470" descr="73b9443a74c7eaccf4614d225036401d(1)"/>
          <p:cNvPicPr/>
          <p:nvPr/>
        </p:nvPicPr>
        <p:blipFill>
          <a:blip r:embed="rId1"/>
          <a:stretch/>
        </p:blipFill>
        <p:spPr>
          <a:xfrm>
            <a:off x="5334120" y="2133720"/>
            <a:ext cx="2286000" cy="304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6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21508" descr="5122281626181545061"/>
          <p:cNvPicPr/>
          <p:nvPr/>
        </p:nvPicPr>
        <p:blipFill>
          <a:blip r:embed="rId1"/>
          <a:stretch/>
        </p:blipFill>
        <p:spPr>
          <a:xfrm>
            <a:off x="1676520" y="0"/>
            <a:ext cx="6019560" cy="2590920"/>
          </a:xfrm>
          <a:prstGeom prst="rect">
            <a:avLst/>
          </a:prstGeom>
          <a:ln w="0">
            <a:noFill/>
          </a:ln>
        </p:spPr>
      </p:pic>
      <p:sp>
        <p:nvSpPr>
          <p:cNvPr id="55" name="文本框 21509"/>
          <p:cNvSpPr/>
          <p:nvPr/>
        </p:nvSpPr>
        <p:spPr>
          <a:xfrm>
            <a:off x="579240" y="2819520"/>
            <a:ext cx="573588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她是有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丁香一样的颜色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丁香一样的芬芳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丁香一样的忧愁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在雨中哀怨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哀怨又彷徨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3" dur="100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文本框 22531"/>
          <p:cNvSpPr/>
          <p:nvPr/>
        </p:nvSpPr>
        <p:spPr>
          <a:xfrm>
            <a:off x="2136240" y="1523880"/>
            <a:ext cx="5941080" cy="39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她彷徨在这寂寥的雨巷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撑着油纸伞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像我一样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像我一样地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默默彳亍着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冷漠、凄清，又惆怅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 </a:t>
            </a:r>
            <a:br>
              <a:rPr sz="5400"/>
            </a:b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" name="图片 22532" descr="7918705_7918705_1307430558979_mthumb"/>
          <p:cNvPicPr/>
          <p:nvPr/>
        </p:nvPicPr>
        <p:blipFill>
          <a:blip r:embed="rId1"/>
          <a:stretch/>
        </p:blipFill>
        <p:spPr>
          <a:xfrm>
            <a:off x="762120" y="1676520"/>
            <a:ext cx="218412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0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1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2" dur="1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文本框 23555"/>
          <p:cNvSpPr/>
          <p:nvPr/>
        </p:nvSpPr>
        <p:spPr>
          <a:xfrm>
            <a:off x="1530360" y="1600200"/>
            <a:ext cx="37465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她默默地走近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走近，又投出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太息一般的眼光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她飘过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像梦一般地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像梦一般地凄婉迷茫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9" name="图片 23557" descr="2006102316312819346"/>
          <p:cNvPicPr/>
          <p:nvPr/>
        </p:nvPicPr>
        <p:blipFill>
          <a:blip r:embed="rId1"/>
          <a:stretch/>
        </p:blipFill>
        <p:spPr>
          <a:xfrm>
            <a:off x="5943600" y="1752480"/>
            <a:ext cx="259092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2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3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" dur="10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文本框 24579"/>
          <p:cNvSpPr/>
          <p:nvPr/>
        </p:nvSpPr>
        <p:spPr>
          <a:xfrm>
            <a:off x="-55440" y="1981080"/>
            <a:ext cx="676404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像梦中飘过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一枝丁香地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我身旁飘过这女郎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她静默地远了、远了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到了颓圮的篱墙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走尽这雨巷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1" name="图片 24581" descr="untitled"/>
          <p:cNvPicPr/>
          <p:nvPr/>
        </p:nvPicPr>
        <p:blipFill>
          <a:blip r:embed="rId1"/>
          <a:stretch/>
        </p:blipFill>
        <p:spPr>
          <a:xfrm rot="701400">
            <a:off x="7010280" y="1676520"/>
            <a:ext cx="1800360" cy="2590560"/>
          </a:xfrm>
          <a:prstGeom prst="rect">
            <a:avLst/>
          </a:prstGeom>
          <a:ln w="0">
            <a:noFill/>
          </a:ln>
        </p:spPr>
      </p:pic>
      <p:pic>
        <p:nvPicPr>
          <p:cNvPr id="62" name="图片 24583" descr="雨巷"/>
          <p:cNvPicPr/>
          <p:nvPr/>
        </p:nvPicPr>
        <p:blipFill>
          <a:blip r:embed="rId2"/>
          <a:stretch/>
        </p:blipFill>
        <p:spPr>
          <a:xfrm>
            <a:off x="533520" y="2819520"/>
            <a:ext cx="1819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1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2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3" dur="10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8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8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8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文本框 25603"/>
          <p:cNvSpPr/>
          <p:nvPr/>
        </p:nvSpPr>
        <p:spPr>
          <a:xfrm>
            <a:off x="657720" y="1752480"/>
            <a:ext cx="429516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在雨的哀曲里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消了她的颜色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散了她的芬芳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消散了，甚至她的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太息般的眼光 </a:t>
            </a:r>
            <a:br>
              <a:rPr sz="3600"/>
            </a:br>
            <a:r>
              <a:rPr b="0" lang="zh-CN" sz="3600" spc="-1" strike="noStrike">
                <a:solidFill>
                  <a:srgbClr val="000000"/>
                </a:solidFill>
                <a:latin typeface="Arial Black"/>
              </a:rPr>
              <a:t>丁香般的惆怅</a:t>
            </a:r>
            <a:r>
              <a:rPr b="0" lang="zh-CN" sz="54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64" name="图片 25605" descr="街"/>
          <p:cNvPicPr/>
          <p:nvPr/>
        </p:nvPicPr>
        <p:blipFill>
          <a:blip r:embed="rId1"/>
          <a:stretch/>
        </p:blipFill>
        <p:spPr>
          <a:xfrm>
            <a:off x="5638680" y="1676520"/>
            <a:ext cx="2590920" cy="373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1000"/>
                                        <p:tgtEl>
                                          <p:spTgt spid="6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04T09:10:36Z</dcterms:created>
  <dc:creator/>
  <dc:description/>
  <dc:language>en-US</dc:language>
  <cp:lastModifiedBy>admin</cp:lastModifiedBy>
  <dcterms:modified xsi:type="dcterms:W3CDTF">2017-09-04T09:11:09Z</dcterms:modified>
  <cp:revision>28</cp:revision>
  <dc:subject/>
  <dc:title>ppt.glzy8.com提供海量PPT模板免费下载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Version">
    <vt:r8>1</vt:r8>
  </property>
</Properties>
</file>