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0.png" ContentType="image/png"/>
  <Override PartName="/ppt/media/image28.jpeg" ContentType="image/jpeg"/>
  <Override PartName="/ppt/media/image6.png" ContentType="image/png"/>
  <Override PartName="/ppt/media/image29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7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4.png" ContentType="image/png"/>
  <Override PartName="/ppt/media/image1.jpeg" ContentType="image/jpeg"/>
  <Override PartName="/ppt/media/image22.jpeg" ContentType="image/jpeg"/>
  <Override PartName="/ppt/media/image15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C3A3-D3B9-4A6E-82F1-66FAB997B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00DE2-7952-4E68-9D0C-FA053ACCD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191-F37A-4A24-8DE1-341EB5E9D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8BFE-46B0-4215-8E1B-08DDB3804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FA297-A6A3-4D7C-BADE-AB0138A1E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9972FDB-1383-4436-8BCE-EC63A2AFD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CADC50-4DB2-445F-A869-72ADC6DD2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599E60-62EE-4B74-92BA-9FD0D90DC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B949D09-078F-4CC6-9D32-F68AD3A9B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943033-8A99-4437-91F9-02DD13DB3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B39ADEF-01CB-4380-8FC9-74444DB8D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60CE-C302-4BA1-9600-15A3EDB733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AEF0868-2283-4B30-A9DD-B937AE81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6D19CA-BE92-45D0-8ABB-2922E08C3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21D1630-E930-4542-AD5B-467EC79A2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7792B6-0C62-4B60-8C50-555D32C12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A5DCB6-74AB-4B08-92FA-6C96DFBC8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20F5EC-B8E2-437E-9EAC-5071FA8E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7C4EFB-72EB-4B65-814B-6136A204A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80DF11-FBAF-4B4A-9609-70D03BA11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B6068B-9B00-4FF0-8738-A29956F9D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2F85E-1BB1-4791-AE05-8643861D0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05EC-9D43-4AAB-BEA1-C73060269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49DDE-1E6D-4B95-8EC1-F76B83501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9B58FF-9EDA-4E11-AC76-FFE766117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53A5C4-092D-44B9-B7AA-CBB2963F4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2225B-2B0B-452E-9865-1F8C2BAC5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4669F9-5787-4132-AB08-896C8A6B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5A64E-A834-4A7B-8058-B10423FCF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EAEA3A-ADAB-4442-8EC9-1C454817DB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F7B30E-E11A-481E-9529-5A081B4BF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5311F6C-EA54-4C50-9B08-5B68FA0F6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7F468C-A641-4A45-BE5A-CBB79A3CE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C041-272D-40FB-8CFB-DC1E8A242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0D469-BDF2-432A-A34E-173DE6891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DE870B-AAE8-4FEC-A9DE-5F611C78E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5D7583-95E3-4C7D-B01C-87915D0C3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C61A78-4FF6-4271-BB85-5C81B8849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B7AA36-BC7A-45E9-97AB-C8B173C50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BB74B7-D4EC-4073-B7BC-DDEAD41CD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4D51B8-E8E1-4D89-8469-BFF1E440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66D3A3-186D-4B2E-BC72-650F3BB20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8AD151-460E-4CE0-A4D9-B6B6E5808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D5E61-7342-4A80-847E-2AAB6F469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C5FBB-A65C-465D-BB0C-D7096F64C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002E-DDF0-4ED9-BCED-23FF7BACF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6B9C-9E63-4AF5-A911-03494568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B9D1F-2F36-443E-A261-DE716601E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E732-C0B0-4149-82EB-2A408A0BBD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粤教版高中语文200906内文2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5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C8F16-A2AC-4B33-A19C-5DB2E95B2E78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6"/>
          </p:nvPr>
        </p:nvSpPr>
        <p:spPr>
          <a:xfrm>
            <a:off x="2916360" y="6165360"/>
            <a:ext cx="4032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9" descr="粤教版高中语文必修2模板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8"/>
          <p:cNvSpPr/>
          <p:nvPr/>
        </p:nvSpPr>
        <p:spPr>
          <a:xfrm>
            <a:off x="1187280" y="203508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黑体"/>
                <a:ea typeface="黑体"/>
              </a:rPr>
              <a:t>第二单元  诗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514"/>
                </a:solidFill>
                <a:latin typeface="Garamond"/>
              </a:rPr>
              <a:t>Click to edit the title text format</a:t>
            </a:r>
            <a:endParaRPr b="1" lang="en-US" sz="40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514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514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2C318-A67D-4659-A62B-AF330A987DE3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8B5E1-C05F-4A5D-A531-B08692117D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10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club.cat898.com/newbbs/uploadImages/200405082104173499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3718080" y="2763720"/>
            <a:ext cx="390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924360" y="260280"/>
            <a:ext cx="5219640" cy="204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而油纸伞与雨巷、篱笆墙也很好地结合起来了。时间是暮春，并且在寂寥地下着的小雨，在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幽深、寂静、凄美、朦胧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之外，又平添了一份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隶书"/>
                <a:ea typeface="隶书"/>
              </a:rPr>
              <a:t>冷漠，凄清、迷离、空蒙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的氛围，总体来说，</a:t>
            </a:r>
            <a:r>
              <a:rPr b="1" lang="zh-CN" sz="4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朦胧、感伤</a:t>
            </a: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3" name="Picture 6" descr="l7"/>
          <p:cNvPicPr/>
          <p:nvPr/>
        </p:nvPicPr>
        <p:blipFill>
          <a:blip r:embed="rId1"/>
          <a:stretch/>
        </p:blipFill>
        <p:spPr>
          <a:xfrm>
            <a:off x="0" y="0"/>
            <a:ext cx="3887640" cy="68580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 spd="slow" advTm="18000">
    <p:wheel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8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0" y="260280"/>
            <a:ext cx="2843280" cy="914400"/>
          </a:xfrm>
          <a:prstGeom prst="rect">
            <a:avLst/>
          </a:prstGeom>
          <a:solidFill>
            <a:srgbClr val="ffffcc"/>
          </a:solidFill>
          <a:ln w="31680">
            <a:solidFill>
              <a:srgbClr val="bd09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黑体"/>
              </a:rPr>
              <a:t>4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、丁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1413000"/>
            <a:ext cx="389736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整首诗说不清道不明的迷蒙意境都源于“丁香”二字。丁香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形状像结，开在暮春时节，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易凋谢。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开花为白色或紫色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006800" y="0"/>
            <a:ext cx="5137200" cy="401652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4067280" y="4029120"/>
            <a:ext cx="5076720" cy="27781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3"/>
          <p:cNvSpPr/>
          <p:nvPr/>
        </p:nvSpPr>
        <p:spPr>
          <a:xfrm>
            <a:off x="0" y="135828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丁香开花在暮春时节，诗人们对着丁香往往伤春，说丁香是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愁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丁香花白色或紫色，颜色都不轻佻，常常赢得</a:t>
            </a:r>
            <a:r>
              <a:rPr b="1" lang="zh-CN" sz="3600" spc="-1" strike="noStrike">
                <a:solidFill>
                  <a:srgbClr val="0000ff"/>
                </a:solidFill>
                <a:latin typeface="宋体"/>
              </a:rPr>
              <a:t>洁身自好的诗人的青睐。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4"/>
          <p:cNvSpPr/>
          <p:nvPr/>
        </p:nvSpPr>
        <p:spPr>
          <a:xfrm>
            <a:off x="932040" y="2637000"/>
            <a:ext cx="749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美丽     高洁      愁怨 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5" descr="200547165123752"/>
          <p:cNvPicPr/>
          <p:nvPr/>
        </p:nvPicPr>
        <p:blipFill>
          <a:blip r:embed="rId1"/>
          <a:stretch/>
        </p:blipFill>
        <p:spPr>
          <a:xfrm>
            <a:off x="0" y="3789360"/>
            <a:ext cx="4356000" cy="306864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13" descr="丁香花"/>
          <p:cNvPicPr/>
          <p:nvPr/>
        </p:nvPicPr>
        <p:blipFill>
          <a:blip r:embed="rId2"/>
          <a:stretch/>
        </p:blipFill>
        <p:spPr>
          <a:xfrm>
            <a:off x="4427640" y="3860640"/>
            <a:ext cx="4716360" cy="2997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3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pull dir="d"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3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Text Box 2"/>
          <p:cNvSpPr/>
          <p:nvPr/>
        </p:nvSpPr>
        <p:spPr>
          <a:xfrm>
            <a:off x="2411280" y="0"/>
            <a:ext cx="547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代   赠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李商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3"/>
          <p:cNvSpPr/>
          <p:nvPr/>
        </p:nvSpPr>
        <p:spPr>
          <a:xfrm>
            <a:off x="2430000" y="836640"/>
            <a:ext cx="274104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楼上黄昏欲望休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玉梯横绝月如钩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芭蕉不展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丁香结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,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同向春风各自</a:t>
            </a:r>
            <a:r>
              <a:rPr b="1" lang="zh-CN" sz="44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Text Box 4"/>
          <p:cNvSpPr/>
          <p:nvPr/>
        </p:nvSpPr>
        <p:spPr>
          <a:xfrm>
            <a:off x="1835280" y="3645000"/>
            <a:ext cx="6265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摊破浣溪沙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李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5"/>
          <p:cNvSpPr/>
          <p:nvPr/>
        </p:nvSpPr>
        <p:spPr>
          <a:xfrm>
            <a:off x="2419200" y="4365720"/>
            <a:ext cx="2619000" cy="22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青鸟不传云外信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丁香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空结雨中</a:t>
            </a:r>
            <a:r>
              <a:rPr b="1" lang="zh-CN" sz="4400" spc="-1" strike="noStrike">
                <a:solidFill>
                  <a:srgbClr val="0000ff"/>
                </a:solidFill>
                <a:latin typeface="黑体"/>
                <a:ea typeface="楷体_GB2312"/>
              </a:rPr>
              <a:t>愁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楷体_GB2312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340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5029200" y="19810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50920" y="1916280"/>
            <a:ext cx="1447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意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692360" y="692280"/>
            <a:ext cx="431640" cy="3457440"/>
          </a:xfrm>
          <a:custGeom>
            <a:avLst/>
            <a:gdLst>
              <a:gd name="textAreaLeft" fmla="*/ 275760 w 431640"/>
              <a:gd name="textAreaRight" fmla="*/ 432000 w 431640"/>
              <a:gd name="textAreaTop" fmla="*/ 90000 h 3457440"/>
              <a:gd name="textAreaBottom" fmla="*/ 3367440 h 3457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00ccff"/>
          </a:solidFill>
          <a:ln w="9360">
            <a:solidFill>
              <a:srgbClr val="00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50920" y="54936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油纸伞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708000" y="259920"/>
            <a:ext cx="5181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复古、怀旧、迷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124000" y="1628640"/>
            <a:ext cx="221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雨巷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211640" y="1628640"/>
            <a:ext cx="462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悠长、寂寥、迷茫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56536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颓圮的篱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580000" y="2565360"/>
            <a:ext cx="35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破败、凄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195640" y="364500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隶书"/>
                <a:ea typeface="隶书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、丁香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267080" y="364500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美丽、高洁、愁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971640" y="2852640"/>
            <a:ext cx="0" cy="160020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5157720"/>
            <a:ext cx="914400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Times New Roman"/>
                <a:ea typeface="隶书"/>
              </a:rPr>
              <a:t>构成了全诗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隶书"/>
              </a:rPr>
              <a:t>迷离、凄凉而哀伤的超然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意境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92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1" dur="192" fill="hold"/>
                                        <p:tgtEl>
                                          <p:spTgt spid="22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2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63" dur="192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64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65" dur="192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66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92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2" dur="192" fill="hold"/>
                                        <p:tgtEl>
                                          <p:spTgt spid="22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73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4" dur="192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5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6" dur="192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7" dur="30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1908000" y="1371600"/>
            <a:ext cx="7236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1" lang="zh-CN" sz="4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为什么用“丁香姑娘”，而不用“玫瑰姑娘”、“茶花姑娘”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4551480"/>
            <a:ext cx="3048120" cy="230652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 txBox="1"/>
          <p:nvPr/>
        </p:nvSpPr>
        <p:spPr>
          <a:xfrm>
            <a:off x="304920" y="0"/>
            <a:ext cx="34099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7713"/>
                <a:gd name="adj2" fmla="val 65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28440">
                  <a:solidFill>
                    <a:srgbClr val="ffff00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华文行楷"/>
              </a:rPr>
              <a:t>探 究</a:t>
            </a:r>
            <a:endParaRPr b="1" lang="en-US" sz="2400" spc="1" strike="noStrike">
              <a:ln w="28440">
                <a:solidFill>
                  <a:srgbClr val="ffff00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724360" y="3573360"/>
            <a:ext cx="22323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10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丁香姑娘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结着仇怨、丁香一样的颜色、芬芳、忧愁、哀怨、默默、彳亍、冷漠、凄清、惆怅、太息一般的眼光、走近、飘过、像梦一般的、凄婉、、迷茫、到了、走尽、消散了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特征：如花般美丽，满带着忧愁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2"/>
          <p:cNvSpPr/>
          <p:nvPr/>
        </p:nvSpPr>
        <p:spPr>
          <a:xfrm>
            <a:off x="984240" y="3781440"/>
            <a:ext cx="3581280" cy="2311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262699"/>
                </a:solidFill>
                <a:latin typeface="方正姚体"/>
                <a:ea typeface="方正姚体"/>
              </a:rPr>
              <a:t>丁香一样的忧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99"/>
                </a:solidFill>
                <a:latin typeface="方正姚体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262699"/>
                </a:solidFill>
                <a:latin typeface="方正姚体"/>
                <a:ea typeface="方正姚体"/>
              </a:rPr>
              <a:t>在雨中哀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99"/>
                </a:solidFill>
                <a:latin typeface="方正姚体"/>
                <a:ea typeface="方正姚体"/>
              </a:rPr>
              <a:t> </a:t>
            </a:r>
            <a:r>
              <a:rPr b="1" lang="zh-CN" sz="3600" spc="-1" strike="noStrike">
                <a:solidFill>
                  <a:srgbClr val="262699"/>
                </a:solidFill>
                <a:latin typeface="方正姚体"/>
                <a:ea typeface="方正姚体"/>
              </a:rPr>
              <a:t>哀怨又彷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5675400" y="1487880"/>
            <a:ext cx="2786040" cy="8251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美丽高洁</a:t>
            </a:r>
            <a:r>
              <a:rPr b="0" lang="zh-CN" sz="24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Text Box 5"/>
          <p:cNvSpPr/>
          <p:nvPr/>
        </p:nvSpPr>
        <p:spPr>
          <a:xfrm>
            <a:off x="5675400" y="4383360"/>
            <a:ext cx="2857320" cy="825120"/>
          </a:xfrm>
          <a:prstGeom prst="rect">
            <a:avLst/>
          </a:prstGeom>
          <a:solidFill>
            <a:srgbClr val="ffffcc"/>
          </a:solidFill>
          <a:ln w="9360">
            <a:solidFill>
              <a:srgbClr val="f2f2f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隶书"/>
              </a:rPr>
              <a:t>哀怨彷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Rectangle 8"/>
          <p:cNvSpPr/>
          <p:nvPr/>
        </p:nvSpPr>
        <p:spPr>
          <a:xfrm>
            <a:off x="0" y="0"/>
            <a:ext cx="3608280" cy="90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宋体"/>
              </a:rPr>
              <a:t>丁香姑娘</a:t>
            </a:r>
            <a:r>
              <a:rPr b="1" lang="en-US" sz="5400" spc="-1" strike="noStrike">
                <a:solidFill>
                  <a:srgbClr val="ffffcc"/>
                </a:solidFill>
                <a:latin typeface="宋体"/>
              </a:rPr>
              <a:t>: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AutoShape 9"/>
          <p:cNvSpPr/>
          <p:nvPr/>
        </p:nvSpPr>
        <p:spPr>
          <a:xfrm>
            <a:off x="5005440" y="1260360"/>
            <a:ext cx="457200" cy="1752840"/>
          </a:xfrm>
          <a:custGeom>
            <a:avLst/>
            <a:gdLst>
              <a:gd name="textAreaLeft" fmla="*/ 0 w 457200"/>
              <a:gd name="textAreaRight" fmla="*/ 164880 w 457200"/>
              <a:gd name="textAreaTop" fmla="*/ 45720 h 1752840"/>
              <a:gd name="textAreaBottom" fmla="*/ 1707120 h 1752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Rectangle 10"/>
          <p:cNvSpPr/>
          <p:nvPr/>
        </p:nvSpPr>
        <p:spPr>
          <a:xfrm>
            <a:off x="906480" y="1049400"/>
            <a:ext cx="3979800" cy="286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99"/>
                </a:solidFill>
                <a:latin typeface="方正姚体"/>
                <a:ea typeface="方正姚体"/>
              </a:rPr>
              <a:t>她是有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99"/>
                </a:solidFill>
                <a:latin typeface="方正姚体"/>
                <a:ea typeface="方正姚体"/>
              </a:rPr>
              <a:t>丁香一样的颜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2699"/>
                </a:solidFill>
                <a:latin typeface="方正姚体"/>
                <a:ea typeface="方正姚体"/>
              </a:rPr>
              <a:t>丁香一样的芬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AutoShape 11"/>
          <p:cNvSpPr/>
          <p:nvPr/>
        </p:nvSpPr>
        <p:spPr>
          <a:xfrm>
            <a:off x="4888080" y="3914640"/>
            <a:ext cx="533160" cy="1828800"/>
          </a:xfrm>
          <a:custGeom>
            <a:avLst/>
            <a:gdLst>
              <a:gd name="textAreaLeft" fmla="*/ 0 w 533160"/>
              <a:gd name="textAreaRight" fmla="*/ 192600 w 533160"/>
              <a:gd name="textAreaTop" fmla="*/ 54000 h 1828800"/>
              <a:gd name="textAreaBottom" fmla="*/ 177480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2"/>
                  <a:pt x="10800" y="2044"/>
                </a:cubicBezTo>
                <a:lnTo>
                  <a:pt x="10800" y="8756"/>
                </a:lnTo>
                <a:cubicBezTo>
                  <a:pt x="10800" y="9778"/>
                  <a:pt x="16200" y="10800"/>
                  <a:pt x="21600" y="10800"/>
                </a:cubicBezTo>
                <a:cubicBezTo>
                  <a:pt x="16200" y="10800"/>
                  <a:pt x="10800" y="11822"/>
                  <a:pt x="10800" y="12844"/>
                </a:cubicBezTo>
                <a:lnTo>
                  <a:pt x="10800" y="19556"/>
                </a:lnTo>
                <a:cubicBezTo>
                  <a:pt x="10800" y="20578"/>
                  <a:pt x="5400" y="21600"/>
                  <a:pt x="0" y="21600"/>
                </a:cubicBezTo>
              </a:path>
            </a:pathLst>
          </a:custGeom>
          <a:noFill/>
          <a:ln w="63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47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58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5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266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9" dur="251520" fill="hold"/>
                                        <p:tgtEl>
                                          <p:spTgt spid="2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</a:rPr>
              <a:t>重点字词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4360" y="1413000"/>
            <a:ext cx="7772400" cy="39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彷徨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寂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彳亍              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惆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颓圮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1341360"/>
            <a:ext cx="388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páng   huá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556000" y="21337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jì  liá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2781360"/>
            <a:ext cx="3167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ì   ch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84360" y="3573360"/>
            <a:ext cx="453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chóu    chà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56000" y="4292640"/>
            <a:ext cx="34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tuí    pǐ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4836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0" y="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Verdana"/>
                <a:ea typeface="黑体"/>
              </a:rPr>
              <a:t>丁香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黑体"/>
              </a:rPr>
              <a:t>姑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410080" y="2501640"/>
            <a:ext cx="3733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Times New Roman"/>
                <a:ea typeface="隶书"/>
              </a:rPr>
              <a:t>美丽高洁；</a:t>
            </a:r>
            <a:r>
              <a:rPr b="1" lang="zh-CN" sz="4800" spc="-1" strike="noStrike">
                <a:solidFill>
                  <a:srgbClr val="003300"/>
                </a:solidFill>
                <a:latin typeface="隶书"/>
                <a:ea typeface="隶书"/>
              </a:rPr>
              <a:t>愁怨，忧愁，哀怨，彷徨；冷漠</a:t>
            </a:r>
            <a:r>
              <a:rPr b="1" lang="en-US" sz="4800" spc="-1" strike="noStrike">
                <a:solidFill>
                  <a:srgbClr val="0033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3300"/>
                </a:solidFill>
                <a:latin typeface="隶书"/>
                <a:ea typeface="隶书"/>
              </a:rPr>
              <a:t>凄清，又惆怅；叹息，凄婉迷茫；静默，消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49568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5257800" y="3108240"/>
            <a:ext cx="37339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00"/>
                </a:solidFill>
                <a:latin typeface="Times New Roman"/>
                <a:ea typeface="隶书"/>
              </a:rPr>
              <a:t>美丽高洁；</a:t>
            </a:r>
            <a:r>
              <a:rPr b="1" lang="zh-CN" sz="4800" spc="-1" strike="noStrike">
                <a:solidFill>
                  <a:srgbClr val="003300"/>
                </a:solidFill>
                <a:latin typeface="隶书"/>
                <a:ea typeface="隶书"/>
              </a:rPr>
              <a:t>愁怨，忧愁，哀怨，彷徨；冷漠</a:t>
            </a:r>
            <a:r>
              <a:rPr b="1" lang="en-US" sz="4800" spc="-1" strike="noStrike">
                <a:solidFill>
                  <a:srgbClr val="003300"/>
                </a:solidFill>
                <a:latin typeface="隶书"/>
                <a:ea typeface="隶书"/>
              </a:rPr>
              <a:t>,</a:t>
            </a:r>
            <a:r>
              <a:rPr b="1" lang="zh-CN" sz="4800" spc="-1" strike="noStrike">
                <a:solidFill>
                  <a:srgbClr val="003300"/>
                </a:solidFill>
                <a:latin typeface="隶书"/>
                <a:ea typeface="隶书"/>
              </a:rPr>
              <a:t>凄清，又惆怅；叹息，凄婉迷茫；静默，消散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257800" y="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Verdana"/>
                <a:ea typeface="黑体"/>
              </a:rPr>
              <a:t>丁香</a:t>
            </a:r>
            <a:r>
              <a:rPr b="1" lang="zh-CN" sz="4400" spc="-1" strike="noStrike">
                <a:solidFill>
                  <a:srgbClr val="9900cc"/>
                </a:solidFill>
                <a:latin typeface="Times New Roman"/>
                <a:ea typeface="黑体"/>
              </a:rPr>
              <a:t>姑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3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600"/>
                            </p:stCondLst>
                            <p:childTnLst>
                              <p:par>
                                <p:cTn id="29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2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Times New Roman"/>
              </a:rPr>
              <a:t>我</a:t>
            </a: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独自、彷徨、希望、默默、彳亍、冷漠、凄清、惆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Times New Roman"/>
              </a:rPr>
              <a:t>特征：孤独、迷茫、忧愁、寂寞、有追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43308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cc"/>
                </a:solidFill>
                <a:latin typeface="Times New Roman"/>
                <a:ea typeface="黑体"/>
              </a:rPr>
              <a:t>原因探究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6"/>
          <p:cNvSpPr/>
          <p:nvPr/>
        </p:nvSpPr>
        <p:spPr>
          <a:xfrm>
            <a:off x="1071720" y="4214880"/>
            <a:ext cx="2225520" cy="1312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ff"/>
                </a:solidFill>
                <a:latin typeface="隶书"/>
                <a:ea typeface="隶书"/>
              </a:rPr>
              <a:t>忧伤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AutoShape 7"/>
          <p:cNvSpPr/>
          <p:nvPr/>
        </p:nvSpPr>
        <p:spPr>
          <a:xfrm>
            <a:off x="3643200" y="4643280"/>
            <a:ext cx="3353040" cy="609840"/>
          </a:xfrm>
          <a:prstGeom prst="rightArrow">
            <a:avLst>
              <a:gd name="adj1" fmla="val 50000"/>
              <a:gd name="adj2" fmla="val 13745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7020000" y="4149360"/>
            <a:ext cx="1297080" cy="170892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600" spc="-1" strike="noStrike">
                <a:solidFill>
                  <a:srgbClr val="ff00ff"/>
                </a:solidFill>
                <a:latin typeface="Times New Roman"/>
              </a:rPr>
              <a:t>？</a:t>
            </a:r>
            <a:endParaRPr b="0" lang="en-US" sz="10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16286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作者用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雨巷、篱笆墙、油纸伞、丁香姑娘等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典型意象，准确地传达出了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忧伤”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这种典型情绪。为什么戴望舒这么忧伤呢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118120" y="235080"/>
            <a:ext cx="2009520" cy="10083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知人论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9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2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384720" cy="10224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rebuchet MS"/>
              </a:rPr>
              <a:t>走近作者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5" descr="xinsrc_012080205101934328623"/>
          <p:cNvPicPr/>
          <p:nvPr/>
        </p:nvPicPr>
        <p:blipFill>
          <a:blip r:embed="rId1"/>
          <a:stretch/>
        </p:blipFill>
        <p:spPr>
          <a:xfrm>
            <a:off x="0" y="1484280"/>
            <a:ext cx="3387600" cy="480708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6"/>
          <p:cNvSpPr/>
          <p:nvPr/>
        </p:nvSpPr>
        <p:spPr>
          <a:xfrm>
            <a:off x="3564000" y="0"/>
            <a:ext cx="5580000" cy="36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戴望舒（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1905—1950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）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戴望舒为笔名，原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戴朝安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，又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戴梦鸥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。笔名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艾昂甫、江思</a:t>
            </a:r>
            <a:r>
              <a:rPr b="1" lang="zh-CN" sz="3600" spc="-1" strike="noStrike">
                <a:solidFill>
                  <a:srgbClr val="ffffcc"/>
                </a:solidFill>
                <a:latin typeface="Times New Roman"/>
              </a:rPr>
              <a:t>等。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浙江杭州人。现代派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象征主义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诗人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1928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雨巷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发表在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小说月报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上，引起很大反响。叶圣陶称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雨巷</a:t>
            </a:r>
            <a:r>
              <a:rPr b="1" lang="en-US" sz="3600" spc="-1" strike="noStrike">
                <a:solidFill>
                  <a:srgbClr val="ffffcc"/>
                </a:solidFill>
                <a:latin typeface="宋体"/>
              </a:rPr>
              <a:t>》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替新诗的音节开了一个新纪元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”。也因此诗获得“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雨巷诗人</a:t>
            </a:r>
            <a:r>
              <a:rPr b="1" lang="zh-CN" sz="3600" spc="-1" strike="noStrike">
                <a:solidFill>
                  <a:srgbClr val="ffffcc"/>
                </a:solidFill>
                <a:latin typeface="宋体"/>
              </a:rPr>
              <a:t>”的称号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1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6" dur="500"/>
                                        <p:tgtEl>
                                          <p:spTgt spid="2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1" dur="500"/>
                                        <p:tgtEl>
                                          <p:spTgt spid="2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0" y="189000"/>
            <a:ext cx="9144000" cy="61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他的笔名出自屈原的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离骚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前望舒使先驱兮，后飞廉使奔属 。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望舒就是神话传说中替月亮驾车的天神，美丽温柔，纯洁幽雅。飞廉是传说中的风神。意思是说屈原上天入地漫游求索，坐着龙马拉来的车子，前面由月神望舒开路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后面由风神飞廉作跟班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代表作品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我的记忆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望舒草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灾难的岁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寻梦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单恋者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烦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等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48" dur="500"/>
                                        <p:tgtEl>
                                          <p:spTgt spid="2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1" dur="500"/>
                                        <p:tgtEl>
                                          <p:spTgt spid="2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56" dur="500"/>
                                        <p:tgtEl>
                                          <p:spTgt spid="2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1" dur="500"/>
                                        <p:tgtEl>
                                          <p:spTgt spid="2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/>
          </p:nvPr>
        </p:nvSpPr>
        <p:spPr>
          <a:xfrm>
            <a:off x="0" y="980640"/>
            <a:ext cx="9144000" cy="564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日，蒋介石发动了四一二反革命政变，国共合作破裂。反动派对革命者进行血腥屠杀，原来热情响应革命的青年，一下子从高潮坠入深渊。戴望舒此时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岁，之前他与同学一起从事革命文艺活动，宣传党的工作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1927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月还曾因此被捕。四一二政变后，他就一直隐居在江苏友人的家里。此时他很傍徨、痛苦，他看不到革命的前途，也不知道自己该怎样做。他在失望中写下了这首诗歌。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71480" y="0"/>
            <a:ext cx="2466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时代背景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68" dur="5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"/>
          <p:cNvSpPr/>
          <p:nvPr/>
        </p:nvSpPr>
        <p:spPr>
          <a:xfrm>
            <a:off x="0" y="184464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新宋体"/>
              </a:rPr>
              <a:t>         </a:t>
            </a:r>
            <a:r>
              <a:rPr b="1" lang="zh-CN" sz="4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雨巷仅仅是一条狭窄破旧 、阴暗潮湿的小巷吗 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40800" y="386064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Arial"/>
                <a:ea typeface="华文中宋"/>
              </a:rPr>
              <a:t>雨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835280" y="4149720"/>
            <a:ext cx="1368360" cy="289080"/>
          </a:xfrm>
          <a:prstGeom prst="rightArrow">
            <a:avLst>
              <a:gd name="adj1" fmla="val 50000"/>
              <a:gd name="adj2" fmla="val 11833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03640" y="3933720"/>
            <a:ext cx="5940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黑暗 沉闷的社会现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5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Text Box 4"/>
          <p:cNvSpPr/>
          <p:nvPr/>
        </p:nvSpPr>
        <p:spPr>
          <a:xfrm>
            <a:off x="0" y="1125360"/>
            <a:ext cx="9144000" cy="326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buClr>
                <a:srgbClr val="ff0000"/>
              </a:buClr>
              <a:buFont typeface="华文新魏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丁香姑娘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——</a:t>
            </a:r>
            <a:r>
              <a:rPr b="1" lang="zh-CN" sz="4400" spc="-1" strike="noStrike">
                <a:solidFill>
                  <a:srgbClr val="3333cc"/>
                </a:solidFill>
                <a:latin typeface="华文新魏"/>
                <a:ea typeface="华文新魏"/>
              </a:rPr>
              <a:t>人生理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丁香姑娘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美丽高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美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丁香姑娘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哀怨彷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难以实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丁香姑娘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飘然离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的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幻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WordArt 9"/>
          <p:cNvSpPr txBox="1"/>
          <p:nvPr/>
        </p:nvSpPr>
        <p:spPr>
          <a:xfrm>
            <a:off x="1476360" y="4869000"/>
            <a:ext cx="6626160" cy="158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宋体"/>
              </a:rPr>
              <a:t>可望而不可即的美</a:t>
            </a:r>
            <a:endParaRPr b="1" lang="en-US" sz="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0"/>
            <a:ext cx="403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丁香姑娘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4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4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19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2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85800" y="-360"/>
            <a:ext cx="7772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Times New Roman"/>
              </a:rPr>
              <a:t>象征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文学创作中的一种重要的表现手法，是根据事物之间的某种联系，借助某一具体事物的形象（象征体），以表现某种抽象的概念、思想和感情（被象征的本体）。即所谓“托义于物”。象征能够委婉、含蓄地表达不容易或不便于直接说出的思想感情，化抽象为具体，极大地增强作品的艺术表现力和感染力。如蜡烛，光明磊落，焚烧自己，照亮别人的具体形象，可以使我们联想到舍己为人的崇高精神。因此蜡烛是舍己为人的象征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1000" fill="hold"/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1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请听诗朗诵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《</a:t>
            </a:r>
            <a:r>
              <a:rPr b="1" i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雨巷</a:t>
            </a:r>
            <a:r>
              <a:rPr b="1" i="1" lang="en-US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</a:t>
            </a:r>
            <a:r>
              <a:rPr b="1" i="1" lang="zh-CN" sz="4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注意节奏、停顿和重音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赏析意象的方法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首先找出跟意象或句子相关的词语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其次分析找出意象词、句的特征，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Times New Roman"/>
              </a:rPr>
              <a:t>最后结合作品创作背景和该文表达主题分析意象的象征意义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　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0" y="0"/>
            <a:ext cx="9144000" cy="374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buClr>
                <a:srgbClr val="0000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</a:rPr>
              <a:t>总结：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结合作品创作背景和该文表达主题分析意象的象征意义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在本诗中，“丁香”象征美丽高洁与忧愁，阴暗潮湿的“雨巷”象征白色恐怖笼罩下的黑暗现实，“丁香姑娘”其实象征着诗人美好而渺茫的人生理想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5" dur="500"/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0" dur="500"/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64328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艺术特色</a:t>
            </a:r>
            <a:r>
              <a:rPr b="1" lang="en-US" sz="6000" spc="-1" strike="noStrike">
                <a:solidFill>
                  <a:srgbClr val="0000ff"/>
                </a:solidFill>
                <a:latin typeface="Times New Roman"/>
                <a:ea typeface="黑体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1268280"/>
            <a:ext cx="9144000" cy="41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它采用了象征手法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如：丁香一样的姑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丁香姑娘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美丽高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美好的理想和愿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丁香姑娘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哀怨彷徨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难以实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丁香姑娘的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飘然离去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理想的幻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7" dur="500"/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2" dur="500"/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2" dur="500"/>
                                        <p:tgtEl>
                                          <p:spTgt spid="28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7" dur="500"/>
                                        <p:tgtEl>
                                          <p:spTgt spid="28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"/>
          <p:cNvSpPr/>
          <p:nvPr/>
        </p:nvSpPr>
        <p:spPr>
          <a:xfrm>
            <a:off x="0" y="0"/>
            <a:ext cx="9144000" cy="15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r>
              <a:rPr b="1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、优美的音乐旋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隶书"/>
              </a:rPr>
              <a:t>诗中运用了复沓、叠句、重唱等手法，造成了回环反复的旋律和婉转悦耳的乐感。全诗旋律回荡，节奏流畅，一韵到底，韵律和谐，停顿分明。因此叶圣陶先生称赞这首诗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为中国新诗的音节开了一个“新纪元”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4" dur="5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9" dur="5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4"/>
          <p:cNvSpPr/>
          <p:nvPr/>
        </p:nvSpPr>
        <p:spPr>
          <a:xfrm>
            <a:off x="395280" y="404640"/>
            <a:ext cx="424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</a:rPr>
              <a:t>拓展、交流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TextBox 5"/>
          <p:cNvSpPr/>
          <p:nvPr/>
        </p:nvSpPr>
        <p:spPr>
          <a:xfrm>
            <a:off x="0" y="1989000"/>
            <a:ext cx="9144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2f2f2"/>
                </a:solidFill>
                <a:latin typeface="Times New Roman"/>
              </a:rPr>
              <a:t>         </a:t>
            </a:r>
            <a:r>
              <a:rPr b="1" lang="zh-CN" sz="3600" spc="-1" strike="noStrike">
                <a:solidFill>
                  <a:srgbClr val="f2f2f2"/>
                </a:solidFill>
                <a:latin typeface="Times New Roman"/>
              </a:rPr>
              <a:t>调动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联想和想象</a:t>
            </a:r>
            <a:r>
              <a:rPr b="1" lang="en-US" sz="3600" spc="-1" strike="noStrike">
                <a:solidFill>
                  <a:srgbClr val="f2f2f2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2f2f2"/>
                </a:solidFill>
                <a:latin typeface="Times New Roman"/>
              </a:rPr>
              <a:t>假如我们是诗歌中的主人公</a:t>
            </a:r>
            <a:r>
              <a:rPr b="1" lang="en-US" sz="3600" spc="-1" strike="noStrike">
                <a:solidFill>
                  <a:srgbClr val="f2f2f2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2f2f2"/>
                </a:solidFill>
                <a:latin typeface="Times New Roman"/>
              </a:rPr>
              <a:t>结合诗中意象</a:t>
            </a:r>
            <a:r>
              <a:rPr b="1" lang="en-US" sz="3600" spc="-1" strike="noStrike">
                <a:solidFill>
                  <a:srgbClr val="f2f2f2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2f2f2"/>
                </a:solidFill>
                <a:latin typeface="Times New Roman"/>
              </a:rPr>
              <a:t>写一段你想象中的那个雨巷邂逅的场面</a:t>
            </a:r>
            <a:r>
              <a:rPr b="1" lang="en-US" sz="3600" spc="-1" strike="noStrike">
                <a:solidFill>
                  <a:srgbClr val="f2f2f2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用自己的笔</a:t>
            </a:r>
            <a:r>
              <a:rPr b="1" lang="zh-CN" sz="3600" spc="-1" strike="noStrike">
                <a:solidFill>
                  <a:srgbClr val="f2f2f2"/>
                </a:solidFill>
                <a:latin typeface="Times New Roman"/>
              </a:rPr>
              <a:t>描绘出雨巷的独特意境</a:t>
            </a:r>
            <a:r>
              <a:rPr b="1" lang="en-US" sz="3600" spc="-1" strike="noStrike">
                <a:solidFill>
                  <a:srgbClr val="f2f2f2"/>
                </a:solidFill>
                <a:latin typeface="Times New Roman"/>
              </a:rPr>
              <a:t>,</a:t>
            </a:r>
            <a:r>
              <a:rPr b="1" lang="zh-CN" sz="3600" spc="-1" strike="noStrike">
                <a:solidFill>
                  <a:srgbClr val="f2f2f2"/>
                </a:solidFill>
                <a:latin typeface="Times New Roman"/>
              </a:rPr>
              <a:t>展示给大家</a:t>
            </a:r>
            <a:r>
              <a:rPr b="1" lang="en-US" sz="3600" spc="-1" strike="noStrike">
                <a:solidFill>
                  <a:srgbClr val="f2f2f2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4" name="Picture 5" descr="2005051023253095"/>
          <p:cNvPicPr/>
          <p:nvPr/>
        </p:nvPicPr>
        <p:blipFill>
          <a:blip r:embed="rId1"/>
          <a:stretch/>
        </p:blipFill>
        <p:spPr>
          <a:xfrm>
            <a:off x="4716360" y="514440"/>
            <a:ext cx="4079880" cy="58672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5" name="Picture 6" descr="l7"/>
          <p:cNvPicPr/>
          <p:nvPr/>
        </p:nvPicPr>
        <p:blipFill>
          <a:blip r:embed="rId2"/>
          <a:stretch/>
        </p:blipFill>
        <p:spPr>
          <a:xfrm>
            <a:off x="468360" y="549360"/>
            <a:ext cx="3887640" cy="58626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86" name="WordArt 4" descr=""/>
          <p:cNvPicPr/>
          <p:nvPr/>
        </p:nvPicPr>
        <p:blipFill>
          <a:blip r:embed="rId3"/>
          <a:stretch/>
        </p:blipFill>
        <p:spPr>
          <a:xfrm>
            <a:off x="900000" y="2492280"/>
            <a:ext cx="720108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6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9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2" dur="2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6" repeatCount="indefinite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4" dur="5000" fill="hold"/>
                                        <p:tgtEl>
                                          <p:spTgt spid="2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32000" y="1700280"/>
            <a:ext cx="687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《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雨巷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隶书"/>
              </a:rPr>
              <a:t>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隶书"/>
              </a:rPr>
              <a:t>给你最强烈的情感体验是什么？它是欢欣鼓舞、斗志昂扬、激动人心的，还是忧愁哀伤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3440" y="0"/>
            <a:ext cx="2009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ff"/>
                </a:solidFill>
                <a:latin typeface="Times New Roman"/>
              </a:rPr>
              <a:t>思考：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685800" y="1752480"/>
            <a:ext cx="762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523880" y="2209680"/>
            <a:ext cx="5791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1403280"/>
            <a:ext cx="914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这首诗的最大的特点是朦胧，</a:t>
            </a: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作者为了能营造成这种朦胧的意境采用了哪些意象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隶书"/>
                <a:ea typeface="隶书"/>
              </a:rPr>
              <a:t> 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0" y="-2160"/>
            <a:ext cx="46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ff"/>
                </a:solidFill>
                <a:latin typeface="Arial"/>
                <a:ea typeface="隶书"/>
              </a:rPr>
              <a:t>思考：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2781360"/>
            <a:ext cx="406728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041480" indent="-1041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52560"/>
                <a:tab algn="l" pos="1905120"/>
                <a:tab algn="l" pos="2857680"/>
                <a:tab algn="l" pos="3809880"/>
                <a:tab algn="l" pos="4762440"/>
                <a:tab algn="l" pos="5715000"/>
                <a:tab algn="l" pos="6667560"/>
                <a:tab algn="l" pos="7620120"/>
                <a:tab algn="l" pos="8572680"/>
                <a:tab algn="l" pos="9524880"/>
                <a:tab algn="l" pos="1047744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明确：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共有</a:t>
            </a:r>
            <a:r>
              <a:rPr b="1" lang="en-US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</a:t>
            </a:r>
            <a:r>
              <a:rPr b="1" lang="zh-CN" sz="3200" spc="-1" strike="noStrike">
                <a:solidFill>
                  <a:srgbClr val="ffcccc"/>
                </a:solidFill>
                <a:latin typeface="黑体"/>
                <a:ea typeface="黑体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843280" y="3716280"/>
            <a:ext cx="63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巷、油纸伞、篱笆墙、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丁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16360" y="4869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、姑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84360" y="3645000"/>
            <a:ext cx="201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背景道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755640" y="4797360"/>
            <a:ext cx="20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黑体"/>
              </a:rPr>
              <a:t>人物形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24000" y="3860640"/>
            <a:ext cx="502920" cy="1511640"/>
          </a:xfrm>
          <a:custGeom>
            <a:avLst/>
            <a:gdLst>
              <a:gd name="textAreaLeft" fmla="*/ 321480 w 502920"/>
              <a:gd name="textAreaRight" fmla="*/ 503280 w 502920"/>
              <a:gd name="textAreaTop" fmla="*/ 39240 h 1511640"/>
              <a:gd name="textAreaBottom" fmla="*/ 1472400 h 151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227640" y="4221000"/>
            <a:ext cx="1656000" cy="23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？</a:t>
            </a:r>
            <a:endParaRPr b="1" lang="en-US" sz="72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0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5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924360" y="260280"/>
            <a:ext cx="3098880" cy="764280"/>
          </a:xfrm>
          <a:prstGeom prst="rect">
            <a:avLst/>
          </a:prstGeom>
          <a:solidFill>
            <a:srgbClr val="ffffcc"/>
          </a:solidFill>
          <a:ln w="28440">
            <a:solidFill>
              <a:srgbClr val="bd09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黑体"/>
              </a:rPr>
              <a:t>1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、雨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780000" y="1341360"/>
            <a:ext cx="53640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雨：迷茫、潮湿、阴冷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Verdana"/>
                <a:ea typeface="楷体_GB2312"/>
              </a:rPr>
              <a:t>巷：阴暗、狭窄、悠长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来就让人感到幽深，寂静的小巷，再加上蒙蒙的细雨，意境更是充满了朦胧美。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突出阴暗、清冷、寂寥的环境特征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92436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2" dur="5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7" dur="5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2" dur="5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4643280" y="260280"/>
            <a:ext cx="3240360" cy="764280"/>
          </a:xfrm>
          <a:prstGeom prst="rect">
            <a:avLst/>
          </a:prstGeom>
          <a:solidFill>
            <a:srgbClr val="ffffcc"/>
          </a:solidFill>
          <a:ln w="28440">
            <a:solidFill>
              <a:srgbClr val="bd09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黑体"/>
              </a:rPr>
              <a:t>2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、篱笆墙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500720" y="1535040"/>
            <a:ext cx="4643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楷体_GB2312"/>
              </a:rPr>
              <a:t>这个篱笆墙是颓圮的，就是让人感觉有种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  <a:ea typeface="楷体_GB2312"/>
              </a:rPr>
              <a:t>破败、凄凉的气氛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rcRect l="0" t="0" r="0" b="25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15228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468360" y="1600200"/>
            <a:ext cx="820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Verdana"/>
                <a:ea typeface="楷体_GB2312"/>
              </a:rPr>
              <a:t>当雨巷、篱笆墙结合起来，于是便营造出</a:t>
            </a:r>
            <a:r>
              <a:rPr b="1" lang="zh-CN" sz="48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幽深、寂静、朦胧、凄美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的氛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6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0" y="260280"/>
            <a:ext cx="3564000" cy="764280"/>
          </a:xfrm>
          <a:prstGeom prst="rect">
            <a:avLst/>
          </a:prstGeom>
          <a:solidFill>
            <a:srgbClr val="ffffcc"/>
          </a:solidFill>
          <a:ln w="28440">
            <a:solidFill>
              <a:srgbClr val="bd098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Verdana"/>
                <a:ea typeface="黑体"/>
              </a:rPr>
              <a:t>3</a:t>
            </a:r>
            <a:r>
              <a:rPr b="1" lang="zh-CN" sz="4400" spc="-1" strike="noStrike">
                <a:solidFill>
                  <a:srgbClr val="0000ff"/>
                </a:solidFill>
                <a:latin typeface="Verdana"/>
                <a:ea typeface="黑体"/>
              </a:rPr>
              <a:t>、油纸伞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1197000"/>
            <a:ext cx="5508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未做具体的描写，给读者以想像空间。油纸伞本身就有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复古，怀旧，神秘，迷蒙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的特点，充满传统气息。暗合了“雨”，和雨巷很好地结合起来。又寂寥地下着小雨，更凭添了一份</a:t>
            </a:r>
            <a:r>
              <a:rPr b="1" lang="zh-CN" sz="3600" spc="-1" strike="noStrike">
                <a:solidFill>
                  <a:srgbClr val="ff0000"/>
                </a:solidFill>
                <a:latin typeface="Verdana"/>
                <a:ea typeface="楷体_GB2312"/>
              </a:rPr>
              <a:t>冷漠，凄清和孤独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楷体_GB2312"/>
              </a:rPr>
              <a:t>的氛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12" descr="u=1876529692,4073526180&amp;gp=1"/>
          <p:cNvPicPr/>
          <p:nvPr/>
        </p:nvPicPr>
        <p:blipFill>
          <a:blip r:embed="rId1"/>
          <a:stretch/>
        </p:blipFill>
        <p:spPr>
          <a:xfrm>
            <a:off x="5580000" y="0"/>
            <a:ext cx="3564000" cy="34275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pic>
        <p:nvPicPr>
          <p:cNvPr id="200" name="Picture 20" descr="200405082104173499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580000" y="3475080"/>
            <a:ext cx="3564000" cy="33829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2:41:28Z</dcterms:created>
  <dc:creator>a</dc:creator>
  <dc:description/>
  <dc:language>en-US</dc:language>
  <cp:lastModifiedBy>未知用户</cp:lastModifiedBy>
  <dcterms:modified xsi:type="dcterms:W3CDTF">2013-09-10T11:40:41Z</dcterms:modified>
  <cp:revision>469</cp:revision>
  <dc:subject/>
  <dc:title>PowerPoint 演示文稿</dc:title>
</cp:coreProperties>
</file>