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6.jpeg" ContentType="image/jpeg"/>
  <Override PartName="/ppt/media/image25.jpeg" ContentType="image/jpeg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20.jpeg" ContentType="image/jpeg"/>
  <Override PartName="/ppt/media/image28.jpeg" ContentType="image/jpeg"/>
  <Override PartName="/ppt/media/image18.png" ContentType="image/png"/>
  <Override PartName="/ppt/media/image6.jpeg" ContentType="image/jpeg"/>
  <Override PartName="/ppt/media/image17.jpeg" ContentType="image/jpeg"/>
  <Override PartName="/ppt/media/image7.wmf" ContentType="image/x-wmf"/>
  <Override PartName="/ppt/media/image31.jpeg" ContentType="image/jpeg"/>
  <Override PartName="/ppt/media/image41.jpeg" ContentType="image/jpeg"/>
  <Override PartName="/ppt/media/image33.jpeg" ContentType="image/jpeg"/>
  <Override PartName="/ppt/media/image27.jpeg" ContentType="image/jpeg"/>
  <Override PartName="/ppt/media/image34.jpeg" ContentType="image/jpeg"/>
  <Override PartName="/ppt/media/image36.png" ContentType="image/png"/>
  <Override PartName="/ppt/media/image32.jpeg" ContentType="image/jpeg"/>
  <Override PartName="/ppt/media/image38.jpeg" ContentType="image/jpeg"/>
  <Override PartName="/ppt/media/image40.jpeg" ContentType="image/jpeg"/>
  <Override PartName="/ppt/media/image5.png" ContentType="image/png"/>
  <Override PartName="/ppt/media/image35.jpeg" ContentType="image/jpeg"/>
  <Override PartName="/ppt/media/image39.jpeg" ContentType="image/jpeg"/>
  <Override PartName="/ppt/media/image8.jpeg" ContentType="image/jpeg"/>
  <Override PartName="/ppt/media/image30.gif" ContentType="image/gif"/>
  <Override PartName="/ppt/media/image11.png" ContentType="image/png"/>
  <Override PartName="/ppt/media/image9.jpeg" ContentType="image/jpeg"/>
  <Override PartName="/ppt/media/image13.png" ContentType="image/png"/>
  <Override PartName="/ppt/media/image4.png" ContentType="image/png"/>
  <Override PartName="/ppt/media/image2.jpeg" ContentType="image/jpeg"/>
  <Override PartName="/ppt/media/image12.png" ContentType="image/png"/>
  <Override PartName="/ppt/media/image23.jpeg" ContentType="image/jpeg"/>
  <Override PartName="/ppt/media/image37.jpeg" ContentType="image/jpeg"/>
  <Override PartName="/ppt/media/image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  <p:sldId id="267" r:id="rId24"/>
    <p:sldId id="268" r:id="rId25"/>
    <p:sldId id="269" r:id="rId26"/>
    <p:sldId id="270" r:id="rId27"/>
    <p:sldId id="271" r:id="rId28"/>
    <p:sldId id="272" r:id="rId29"/>
    <p:sldId id="273" r:id="rId30"/>
    <p:sldId id="274" r:id="rId31"/>
    <p:sldId id="275" r:id="rId32"/>
    <p:sldId id="276" r:id="rId33"/>
    <p:sldId id="277" r:id="rId34"/>
    <p:sldId id="278" r:id="rId35"/>
    <p:sldId id="279" r:id="rId36"/>
    <p:sldId id="280" r:id="rId37"/>
    <p:sldId id="281" r:id="rId38"/>
    <p:sldId id="282" r:id="rId39"/>
    <p:sldId id="283" r:id="rId40"/>
    <p:sldId id="284" r:id="rId41"/>
    <p:sldId id="285" r:id="rId42"/>
    <p:sldId id="286" r:id="rId43"/>
    <p:sldId id="287" r:id="rId44"/>
    <p:sldId id="288" r:id="rId45"/>
    <p:sldId id="289" r:id="rId46"/>
    <p:sldId id="290" r:id="rId47"/>
    <p:sldId id="291" r:id="rId48"/>
    <p:sldId id="292" r:id="rId49"/>
    <p:sldId id="293" r:id="rId50"/>
    <p:sldId id="294" r:id="rId51"/>
    <p:sldId id="295" r:id="rId52"/>
    <p:sldId id="296" r:id="rId53"/>
    <p:sldId id="297" r:id="rId54"/>
    <p:sldId id="298" r:id="rId55"/>
    <p:sldId id="299" r:id="rId56"/>
    <p:sldId id="30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slide" Target="slides/slide12.xml"/><Relationship Id="rId25" Type="http://schemas.openxmlformats.org/officeDocument/2006/relationships/slide" Target="slides/slide13.xml"/><Relationship Id="rId26" Type="http://schemas.openxmlformats.org/officeDocument/2006/relationships/slide" Target="slides/slide14.xml"/><Relationship Id="rId27" Type="http://schemas.openxmlformats.org/officeDocument/2006/relationships/slide" Target="slides/slide15.xml"/><Relationship Id="rId28" Type="http://schemas.openxmlformats.org/officeDocument/2006/relationships/slide" Target="slides/slide16.xml"/><Relationship Id="rId29" Type="http://schemas.openxmlformats.org/officeDocument/2006/relationships/slide" Target="slides/slide17.xml"/><Relationship Id="rId30" Type="http://schemas.openxmlformats.org/officeDocument/2006/relationships/slide" Target="slides/slide18.xml"/><Relationship Id="rId31" Type="http://schemas.openxmlformats.org/officeDocument/2006/relationships/slide" Target="slides/slide19.xml"/><Relationship Id="rId32" Type="http://schemas.openxmlformats.org/officeDocument/2006/relationships/slide" Target="slides/slide20.xml"/><Relationship Id="rId33" Type="http://schemas.openxmlformats.org/officeDocument/2006/relationships/slide" Target="slides/slide21.xml"/><Relationship Id="rId34" Type="http://schemas.openxmlformats.org/officeDocument/2006/relationships/slide" Target="slides/slide22.xml"/><Relationship Id="rId35" Type="http://schemas.openxmlformats.org/officeDocument/2006/relationships/slide" Target="slides/slide23.xml"/><Relationship Id="rId36" Type="http://schemas.openxmlformats.org/officeDocument/2006/relationships/slide" Target="slides/slide24.xml"/><Relationship Id="rId37" Type="http://schemas.openxmlformats.org/officeDocument/2006/relationships/slide" Target="slides/slide25.xml"/><Relationship Id="rId38" Type="http://schemas.openxmlformats.org/officeDocument/2006/relationships/slide" Target="slides/slide26.xml"/><Relationship Id="rId39" Type="http://schemas.openxmlformats.org/officeDocument/2006/relationships/slide" Target="slides/slide27.xml"/><Relationship Id="rId40" Type="http://schemas.openxmlformats.org/officeDocument/2006/relationships/slide" Target="slides/slide28.xml"/><Relationship Id="rId41" Type="http://schemas.openxmlformats.org/officeDocument/2006/relationships/slide" Target="slides/slide29.xml"/><Relationship Id="rId42" Type="http://schemas.openxmlformats.org/officeDocument/2006/relationships/slide" Target="slides/slide30.xml"/><Relationship Id="rId43" Type="http://schemas.openxmlformats.org/officeDocument/2006/relationships/slide" Target="slides/slide31.xml"/><Relationship Id="rId44" Type="http://schemas.openxmlformats.org/officeDocument/2006/relationships/slide" Target="slides/slide32.xml"/><Relationship Id="rId45" Type="http://schemas.openxmlformats.org/officeDocument/2006/relationships/slide" Target="slides/slide33.xml"/><Relationship Id="rId46" Type="http://schemas.openxmlformats.org/officeDocument/2006/relationships/slide" Target="slides/slide34.xml"/><Relationship Id="rId47" Type="http://schemas.openxmlformats.org/officeDocument/2006/relationships/slide" Target="slides/slide35.xml"/><Relationship Id="rId48" Type="http://schemas.openxmlformats.org/officeDocument/2006/relationships/slide" Target="slides/slide36.xml"/><Relationship Id="rId49" Type="http://schemas.openxmlformats.org/officeDocument/2006/relationships/slide" Target="slides/slide37.xml"/><Relationship Id="rId50" Type="http://schemas.openxmlformats.org/officeDocument/2006/relationships/slide" Target="slides/slide38.xml"/><Relationship Id="rId51" Type="http://schemas.openxmlformats.org/officeDocument/2006/relationships/slide" Target="slides/slide39.xml"/><Relationship Id="rId52" Type="http://schemas.openxmlformats.org/officeDocument/2006/relationships/slide" Target="slides/slide40.xml"/><Relationship Id="rId53" Type="http://schemas.openxmlformats.org/officeDocument/2006/relationships/slide" Target="slides/slide41.xml"/><Relationship Id="rId54" Type="http://schemas.openxmlformats.org/officeDocument/2006/relationships/slide" Target="slides/slide42.xml"/><Relationship Id="rId55" Type="http://schemas.openxmlformats.org/officeDocument/2006/relationships/slide" Target="slides/slide43.xml"/><Relationship Id="rId56" Type="http://schemas.openxmlformats.org/officeDocument/2006/relationships/slide" Target="slides/slide44.xml"/><Relationship Id="rId57" Type="http://schemas.openxmlformats.org/officeDocument/2006/relationships/slide" Target="slides/slide4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B21CD-DE72-49CC-AA1C-10D2F7BC1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30A9-BD96-477F-B8A1-6C57DE575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ADE201-C2D8-4555-AC03-98B892335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0B9B48-091D-4718-8F89-C38F9054B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3EEA5-4DC1-43DC-840B-1AE565306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4F3422-35BB-44B6-BBAF-FF3873A9C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98C6D1-59AD-4E16-B260-5ED57B837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EECFF4-D38A-4DA4-AB7F-76D84F21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D46932-0F3B-4E22-8ED3-15C7F3CC6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FCDE63-896D-4215-80A5-4CFDC90A9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8323F0-CD36-4A97-A3A5-0EF0553D3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CEC615-BD19-4262-B411-79DB6C32B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AB7A-3CE0-4E25-8700-EB9974D00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443C25-34D7-48DC-A7EC-185DC35B9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66E955-2E2D-4848-90EF-16FF09FB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B0FD7C1-48EE-4519-9EFC-8AFC1DC9A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C70E29-E659-4A10-9685-4F13F5C33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216A68-0A0E-4DA9-A7D7-5EFA54357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501D13-17D6-4E99-B56D-723BCF581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24D4C-4568-4A98-BFCE-39540D5CD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E23E272-E7B2-48AC-BE34-D706D9DE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28430C7-2BFC-4CAD-B627-F659327D9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4FC50-1723-4328-BE76-B99D16857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BE710-44A5-4257-B5E9-8D3843A72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FB907A-1FFB-4DBA-A129-C46B37626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AF4346-E572-4568-94B2-CC544A35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C7102D-D984-4A52-83CC-59F61490E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C487CB-F526-453D-A468-AEFB2D2F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F5209C-5514-448A-9FC8-74639408E5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6DB148-811C-4C30-AC15-4AD981145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3AE85B-BF62-4FE1-A5F2-319E287F2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66D01E-2225-43C6-8149-BDB6E05AA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252D1D-BBAB-4971-BCC6-80F4E666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431039A-F4CF-4F57-92EE-D2EA2F82E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44A1E-5FFB-45F3-8CAD-B0E85605D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000CFD-4156-4C4C-B1B9-FECA18A29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032905-5B2E-4F58-8D6F-51AB9F0F5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26E25C-1F28-48EE-A507-84AD95A2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084D0-3DA6-49F6-B9FA-0838A3C95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85581-B5B9-43B1-A015-74E1D50CD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F6888-E2D7-4808-BE4A-C7724224B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374D97-780B-4795-ACF8-DBC9EF4A3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0749D-E098-4FE4-90CE-E78C9551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2947D-E13C-4510-84BE-BA8BBB47A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60641-710E-4B41-BA20-3B548EA86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AE25B-459A-4D4E-BC52-3164AB47C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ED5B8-5163-4E31-A996-F3DFE5696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2D079-5385-44E2-9CF0-9E3B0C698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2379A-6BD1-4C44-9579-35E13EE5C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D070D-F7A9-4360-8636-9255F08EA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C7CFB-2147-4906-9894-EE60BD724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FB3197-0CF9-4B47-A4FC-C40AA5282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453140-CDB1-424F-B109-F89676E82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42D06B-93CC-40D9-A83D-7B63B0FD1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12AC08-A6C5-41AA-8318-0C56C5218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6A83-5366-4511-8E49-808FAC84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654BB0-818E-4BCA-A9FD-4D0517166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F9C27F-1EFA-42AD-9008-6EAD24232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BA3F0E-AB71-4FEE-953E-B8F40BD22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448A41-9E1C-4D7E-985F-BB8B43E26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B0F85-166A-4351-B6E9-F4A42996B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D2DDD9-CDA7-47AC-A742-46B72C49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5CCF67-50F7-4486-9C5F-EB55EAF07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0F65A8-1CA4-402B-A6CF-C8F2C04D4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45486-CA86-4280-A72D-5089D56E6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37AABF8-0A15-4356-ACB6-16E81A5B9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BF5C-770C-45D3-8D9C-A05D59BEF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69A33-3095-48FC-8D6F-4408D8B193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C0F9B-E277-4E53-98ED-E1740E00D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E0EAD0-3D97-4C56-A607-7E1BCD3C4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4B4433-FA25-41B2-9981-60BFAC3B3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E59A06-0256-469C-AC0A-598592A28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9D705-411C-42F0-9CD4-AB82E25E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556D02-7321-40E3-996D-F1CD70128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C92187-D817-4A07-91AC-E36DBFAA25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877DD-E9D3-49AC-8A57-6665BD25A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4FE9A5-0FC8-4C5C-8AC0-2E1486FC9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94D12-B2FC-4EB4-887F-C3DB09CA83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9CADBB-B8C0-4672-87B4-0D7AF3F7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84A191-7EA6-4AF9-AB7D-565A985ED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A7F31-7802-4647-9262-D3A4B4811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96E236-C52C-481D-BA25-17B6DCD4E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A599C6-335E-4DB6-B2CE-7B98E6964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033D72-441C-4C9A-97AF-F466AA88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87C05-AF85-46B5-91D0-BB2AD81E7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6FAC41-7BFF-4BDC-AE19-BC7F4B2FE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9DA490-3DC3-4818-92A4-084287A0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6A07B-F2AE-46AA-A57F-8D6B04A11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1605-1869-4CE4-A34E-3C8DFA718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4EC33-8637-43A3-84A0-02D7FE6A2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FD4F709-E30E-4F9A-88A8-5ED1C28F7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6E2F7F-799B-401D-8EA6-D22E541EA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83F89F-78A0-4CA9-8128-21BF0D2D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6ED706-7BBB-4424-B062-4403BC112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98AEE3-A91B-4DE0-833D-F73D0195C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94EB33-AADB-4808-8B5D-0F3E96B50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A6E5CFE-3DD6-4AB1-AC4F-AF9FF4AD3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E8C905-BD76-4948-A29A-D6A39181C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EB77D-AE8E-45E6-90F7-60D181CC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49B6C-AADE-4FF2-9EB4-15B7AA0A8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17E2B7-9458-480D-95CF-5CC3549B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91DE4-530D-4987-AA85-B9402FD85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049925-5A17-44AC-A146-D419AB26B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F2C4BC-2BFB-43BE-9D6E-D24412EC5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02FFA9-BB68-4638-A108-0821A1075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09201B-9518-4FC2-937A-E28249F2A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6E60FE-D3B3-4E5D-9FEE-6DA49EC09E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36D6AB-6763-4913-9FF0-C8F3300EC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499067-B9D7-4832-9150-EEE28479B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CF83C-A79B-4558-B6EA-10B65AFCB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1236-FFF1-4908-9364-2669C486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B7D2F92-7D98-44D4-9243-8C08D4C85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09D92D-2E25-47C8-9EB1-7C9B7A926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AF12754-DBBB-4CDF-B1FD-91DB8719D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1409A8A-FD4D-4233-840A-0168E27A3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66B45E-AA89-427A-A3AD-2E50DBA6D2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A8ED21-12E2-42CF-B733-80B7CD993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EA4797-7922-41D1-911E-D24130FD8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0EE4AE-8E6F-4E72-B5A3-A5C7DBA9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2819EE-9E78-4759-9893-4173F16C8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D77DC2-052A-484C-94C5-292A5A29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5BB6-7E41-43B4-9923-2C0E7F37C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75A830-F0C5-4C3A-89AE-200A36247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C7408C-9D4B-478E-9C74-9D9DAF92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4D18D5-491B-40DE-A05C-C6F89C9CE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DE8B9A-A523-43F1-9C13-3598B09B6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F8715-9BA5-438A-8B73-DE8D5C2FD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3ADC61-B36D-41FC-8558-7A1F5D37F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EDB78C-6EFC-478B-ABD3-8E3085E33D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2C54E4-4F9C-48D8-AF5A-B04310AA2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8CCFA71-2BE5-44C4-BEEF-774FDF394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E5F5C-AEA1-4F48-AD0B-487B3985E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40793-7C0B-4231-8D1B-35581ADBB6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 type="dt" idx="28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 type="ftr" idx="29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 type="sldNum" idx="30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6D4B0-5720-4AF3-AD16-E8D3AD84E4AB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dt" idx="31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32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33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F755A-47A6-411B-B8C9-E9E5936DE666}" type="slidenum">
              <a:rPr b="0" lang="zh-CN" sz="1400" spc="-1" strike="noStrike">
                <a:solidFill>
                  <a:srgbClr val="0033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F5715-F817-4051-BE0A-9DBA5AF97176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未知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ftr" idx="8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B869-5ABA-4840-ADDE-43AE8C498D95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未知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4D049-9C10-4C8E-B6F6-9CA8B6B8AE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6C324-63EA-4B47-8C8B-65811690BB34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B5F36-FA44-4672-8243-138B7CF98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2140A-22DB-4278-9E34-A1CD832CD78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dt" idx="22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ftr" idx="23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sldNum" idx="24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19541-A61B-4D2F-BB50-D0470CB4975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4FCEB-D5C7-4C10-BB32-CA3CFA2AD5F2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6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6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5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6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image" Target="../media/image29.png"/><Relationship Id="rId3" Type="http://schemas.openxmlformats.org/officeDocument/2006/relationships/image" Target="../media/image30.gif"/><Relationship Id="rId4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5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49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09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5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7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5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5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99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99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99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9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"/>
          <p:cNvSpPr/>
          <p:nvPr/>
        </p:nvSpPr>
        <p:spPr>
          <a:xfrm>
            <a:off x="6620040" y="836640"/>
            <a:ext cx="912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  <a:ea typeface="隶书"/>
              </a:rPr>
              <a:t>雨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ff"/>
                </a:solidFill>
                <a:latin typeface="Times New Roman"/>
                <a:ea typeface="隶书"/>
              </a:rPr>
              <a:t>巷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504400" y="3336840"/>
            <a:ext cx="592200" cy="18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戴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ff"/>
                </a:solidFill>
                <a:latin typeface="Times New Roman"/>
                <a:ea typeface="隶书"/>
              </a:rPr>
              <a:t>舒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陈瑞 - 雨巷" descr=""/>
          <p:cNvPicPr/>
          <p:nvPr/>
        </p:nvPicPr>
        <p:blipFill>
          <a:blip r:embed="rId2"/>
          <a:stretch/>
        </p:blipFill>
        <p:spPr>
          <a:xfrm>
            <a:off x="1187280" y="5373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5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75744" fill="hold"/>
                                        <p:tgtEl>
                                          <p:spTgt spid="4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"/>
          <p:cNvSpPr/>
          <p:nvPr/>
        </p:nvSpPr>
        <p:spPr>
          <a:xfrm>
            <a:off x="611280" y="1268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隶书"/>
                <a:ea typeface="隶书"/>
              </a:rPr>
              <a:t>油纸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484360" y="620640"/>
            <a:ext cx="46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彩云"/>
                <a:ea typeface="华文彩云"/>
              </a:rPr>
              <a:t>意  象  分  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怕怕" descr=""/>
          <p:cNvPicPr/>
          <p:nvPr/>
        </p:nvPicPr>
        <p:blipFill>
          <a:blip r:embed="rId2"/>
          <a:stretch/>
        </p:blipFill>
        <p:spPr>
          <a:xfrm>
            <a:off x="6443640" y="765000"/>
            <a:ext cx="2124000" cy="2016360"/>
          </a:xfrm>
          <a:prstGeom prst="rect">
            <a:avLst/>
          </a:prstGeom>
          <a:ln w="0">
            <a:noFill/>
          </a:ln>
        </p:spPr>
      </p:pic>
      <p:sp>
        <p:nvSpPr>
          <p:cNvPr id="494" name=""/>
          <p:cNvSpPr/>
          <p:nvPr/>
        </p:nvSpPr>
        <p:spPr>
          <a:xfrm>
            <a:off x="755640" y="306864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cc"/>
                </a:solidFill>
                <a:latin typeface="Verdana"/>
                <a:ea typeface="黑体"/>
              </a:rPr>
              <a:t>     </a:t>
            </a: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未做具体的描写，给读者以想像空间。油纸伞本身就有复古，怀旧，神秘，迷蒙的特点。而且和雨巷很好地接合起来了。时间是暮春，在寂寥的下着小雨，凭添了一份冷漠，凄清的氛围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9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"/>
          <p:cNvSpPr/>
          <p:nvPr/>
        </p:nvSpPr>
        <p:spPr>
          <a:xfrm>
            <a:off x="609480" y="1484280"/>
            <a:ext cx="171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隶书"/>
                <a:ea typeface="隶书"/>
              </a:rPr>
              <a:t>雨 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2484360" y="620640"/>
            <a:ext cx="45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彩云"/>
                <a:ea typeface="华文彩云"/>
              </a:rPr>
              <a:t>意  象  分  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7" name="1134bf02113" descr=""/>
          <p:cNvPicPr/>
          <p:nvPr/>
        </p:nvPicPr>
        <p:blipFill>
          <a:blip r:embed="rId2"/>
          <a:stretch/>
        </p:blipFill>
        <p:spPr>
          <a:xfrm>
            <a:off x="1690560" y="2205000"/>
            <a:ext cx="56898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5030640" y="1556640"/>
            <a:ext cx="48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在雨中，悠长、悠长又寂寥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隶书"/>
                <a:ea typeface="隶书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1484280"/>
            <a:ext cx="171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隶书"/>
                <a:ea typeface="隶书"/>
              </a:rPr>
              <a:t>雨 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484360" y="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彩云"/>
                <a:ea typeface="华文彩云"/>
              </a:rPr>
              <a:t>意  象  分  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1134bf02113" descr=""/>
          <p:cNvPicPr/>
          <p:nvPr/>
        </p:nvPicPr>
        <p:blipFill>
          <a:blip r:embed="rId2"/>
          <a:stretch/>
        </p:blipFill>
        <p:spPr>
          <a:xfrm>
            <a:off x="1690560" y="2205000"/>
            <a:ext cx="5689800" cy="38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"/>
          <p:cNvSpPr/>
          <p:nvPr/>
        </p:nvSpPr>
        <p:spPr>
          <a:xfrm>
            <a:off x="609480" y="1484280"/>
            <a:ext cx="1717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隶书"/>
                <a:ea typeface="隶书"/>
              </a:rPr>
              <a:t>雨 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268360" y="0"/>
            <a:ext cx="453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彩云"/>
                <a:ea typeface="华文彩云"/>
              </a:rPr>
              <a:t>意  象  分  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539640" y="270828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隶书"/>
              </a:rPr>
              <a:t>     </a:t>
            </a: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隶书"/>
              </a:rPr>
              <a:t>小巷本来就让人感到幽深，寂静，再加上蒙蒙细雨，意境充满了朦胧美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" descr=""/>
          <p:cNvPicPr/>
          <p:nvPr/>
        </p:nvPicPr>
        <p:blipFill>
          <a:blip r:embed="rId2"/>
          <a:stretch/>
        </p:blipFill>
        <p:spPr>
          <a:xfrm>
            <a:off x="5724360" y="333360"/>
            <a:ext cx="35625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609480" y="1484280"/>
            <a:ext cx="1717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2484360" y="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彩云"/>
                <a:ea typeface="华文彩云"/>
              </a:rPr>
              <a:t>意  象  分  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39640" y="1413000"/>
            <a:ext cx="230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隶书"/>
                <a:ea typeface="隶书"/>
              </a:rPr>
              <a:t>篱 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319480" y="1700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11280" y="2924280"/>
            <a:ext cx="4968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颓圮的，让人有种哀怨、凄凉的氛围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1" name="yuxiang2" descr=""/>
          <p:cNvPicPr/>
          <p:nvPr/>
        </p:nvPicPr>
        <p:blipFill>
          <a:blip r:embed="rId2"/>
          <a:stretch/>
        </p:blipFill>
        <p:spPr>
          <a:xfrm>
            <a:off x="5796000" y="476280"/>
            <a:ext cx="3048120" cy="578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"/>
          <p:cNvSpPr/>
          <p:nvPr/>
        </p:nvSpPr>
        <p:spPr>
          <a:xfrm>
            <a:off x="611280" y="143208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隶书"/>
                <a:ea typeface="隶书"/>
              </a:rPr>
              <a:t>丁 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2484360" y="620640"/>
            <a:ext cx="5040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彩云"/>
                <a:ea typeface="华文彩云"/>
              </a:rPr>
              <a:t>意  象  分  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611280" y="76500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隶书"/>
                <a:ea typeface="隶书"/>
              </a:rPr>
              <a:t>丁 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2484360" y="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彩云"/>
                <a:ea typeface="华文彩云"/>
              </a:rPr>
              <a:t>意  象  分  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6" name="88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3384360" cy="3457800"/>
          </a:xfrm>
          <a:prstGeom prst="rect">
            <a:avLst/>
          </a:prstGeom>
          <a:ln w="0">
            <a:noFill/>
          </a:ln>
        </p:spPr>
      </p:pic>
      <p:pic>
        <p:nvPicPr>
          <p:cNvPr id="517" name="7799" descr=""/>
          <p:cNvPicPr/>
          <p:nvPr/>
        </p:nvPicPr>
        <p:blipFill>
          <a:blip r:embed="rId3"/>
          <a:stretch/>
        </p:blipFill>
        <p:spPr>
          <a:xfrm>
            <a:off x="4500720" y="2349360"/>
            <a:ext cx="3671640" cy="34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"/>
          <p:cNvSpPr/>
          <p:nvPr/>
        </p:nvSpPr>
        <p:spPr>
          <a:xfrm>
            <a:off x="539640" y="83664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隶书"/>
                <a:ea typeface="隶书"/>
              </a:rPr>
              <a:t>丁 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484360" y="0"/>
            <a:ext cx="4824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彩云"/>
                <a:ea typeface="华文彩云"/>
              </a:rPr>
              <a:t>意  象  分  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88" descr=""/>
          <p:cNvPicPr/>
          <p:nvPr/>
        </p:nvPicPr>
        <p:blipFill>
          <a:blip r:embed="rId2"/>
          <a:stretch/>
        </p:blipFill>
        <p:spPr>
          <a:xfrm>
            <a:off x="971640" y="2349360"/>
            <a:ext cx="3384360" cy="3457800"/>
          </a:xfrm>
          <a:prstGeom prst="rect">
            <a:avLst/>
          </a:prstGeom>
          <a:ln w="0">
            <a:noFill/>
          </a:ln>
        </p:spPr>
      </p:pic>
      <p:pic>
        <p:nvPicPr>
          <p:cNvPr id="521" name="7799" descr=""/>
          <p:cNvPicPr/>
          <p:nvPr/>
        </p:nvPicPr>
        <p:blipFill>
          <a:blip r:embed="rId3"/>
          <a:stretch/>
        </p:blipFill>
        <p:spPr>
          <a:xfrm>
            <a:off x="4500720" y="2349360"/>
            <a:ext cx="3671640" cy="340992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611280" y="135432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Times New Roman"/>
                <a:ea typeface="隶书"/>
              </a:rPr>
              <a:t>      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又名紫丁香，春季开花，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开花为白色或紫色，有淡雅细沉的香气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3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539640" y="476280"/>
            <a:ext cx="2448000" cy="581400"/>
          </a:xfrm>
          <a:prstGeom prst="rect">
            <a:avLst/>
          </a:prstGeom>
          <a:blipFill rotWithShape="0">
            <a:blip r:embed="rId2">
              <a:alphaModFix amt="62000"/>
            </a:blip>
            <a:srcRect/>
            <a:stretch/>
          </a:blip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丁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250920" y="11048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  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诗歌中多次出现了丁香这一意象，为什么用丁香来形容姑娘</a:t>
            </a:r>
            <a:r>
              <a:rPr b="1" lang="en-US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形容忧愁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6" name="" descr=""/>
          <p:cNvPicPr/>
          <p:nvPr/>
        </p:nvPicPr>
        <p:blipFill>
          <a:blip r:embed="rId3"/>
          <a:srcRect l="14150" t="27784" r="35145" b="7268"/>
          <a:stretch/>
        </p:blipFill>
        <p:spPr>
          <a:xfrm>
            <a:off x="8172360" y="6081840"/>
            <a:ext cx="838440" cy="776160"/>
          </a:xfrm>
          <a:prstGeom prst="rect">
            <a:avLst/>
          </a:prstGeom>
          <a:ln w="0">
            <a:noFill/>
          </a:ln>
        </p:spPr>
      </p:pic>
      <p:pic>
        <p:nvPicPr>
          <p:cNvPr id="527" name="" descr=""/>
          <p:cNvPicPr/>
          <p:nvPr/>
        </p:nvPicPr>
        <p:blipFill>
          <a:blip r:embed="rId4"/>
          <a:stretch/>
        </p:blipFill>
        <p:spPr>
          <a:xfrm>
            <a:off x="0" y="2060640"/>
            <a:ext cx="3419640" cy="4968720"/>
          </a:xfrm>
          <a:prstGeom prst="rect">
            <a:avLst/>
          </a:prstGeom>
          <a:ln w="0">
            <a:noFill/>
          </a:ln>
        </p:spPr>
      </p:pic>
      <p:pic>
        <p:nvPicPr>
          <p:cNvPr id="528" name="" descr=""/>
          <p:cNvPicPr/>
          <p:nvPr/>
        </p:nvPicPr>
        <p:blipFill>
          <a:blip r:embed="rId5"/>
          <a:stretch/>
        </p:blipFill>
        <p:spPr>
          <a:xfrm>
            <a:off x="3348000" y="2133720"/>
            <a:ext cx="3200400" cy="472428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6588000" y="2421000"/>
            <a:ext cx="25560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丁香颜色为白色或紫色，都不轻佻，常常赢得洁身自好的诗人的青睐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——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美丽、高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丁香未开时形状像结，所以诗人们对着丁香往往伤春，说丁香是愁品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imes New Roman"/>
                <a:ea typeface="宋体"/>
              </a:rPr>
              <a:t>     ——</a:t>
            </a:r>
            <a:r>
              <a:rPr b="1" lang="zh-CN" sz="2000" spc="-1" strike="noStrike">
                <a:solidFill>
                  <a:srgbClr val="ff0000"/>
                </a:solidFill>
                <a:latin typeface="Times New Roman"/>
                <a:ea typeface="宋体"/>
              </a:rPr>
              <a:t>愁怨、易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4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539640" y="836640"/>
            <a:ext cx="165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隶书"/>
                <a:ea typeface="隶书"/>
              </a:rPr>
              <a:t>丁 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556000" y="0"/>
            <a:ext cx="49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彩云"/>
                <a:ea typeface="华文彩云"/>
              </a:rPr>
              <a:t>意  象  分  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2" name="88" descr=""/>
          <p:cNvPicPr/>
          <p:nvPr/>
        </p:nvPicPr>
        <p:blipFill>
          <a:blip r:embed="rId2"/>
          <a:stretch/>
        </p:blipFill>
        <p:spPr>
          <a:xfrm>
            <a:off x="755640" y="2637000"/>
            <a:ext cx="3672000" cy="3457440"/>
          </a:xfrm>
          <a:prstGeom prst="rect">
            <a:avLst/>
          </a:prstGeom>
          <a:ln w="0">
            <a:noFill/>
          </a:ln>
        </p:spPr>
      </p:pic>
      <p:pic>
        <p:nvPicPr>
          <p:cNvPr id="533" name="7799" descr=""/>
          <p:cNvPicPr/>
          <p:nvPr/>
        </p:nvPicPr>
        <p:blipFill>
          <a:blip r:embed="rId3"/>
          <a:stretch/>
        </p:blipFill>
        <p:spPr>
          <a:xfrm>
            <a:off x="4643280" y="2637000"/>
            <a:ext cx="3746520" cy="3482640"/>
          </a:xfrm>
          <a:prstGeom prst="rect">
            <a:avLst/>
          </a:prstGeom>
          <a:ln w="0">
            <a:noFill/>
          </a:ln>
        </p:spPr>
      </p:pic>
      <p:sp>
        <p:nvSpPr>
          <p:cNvPr id="534" name=""/>
          <p:cNvSpPr/>
          <p:nvPr/>
        </p:nvSpPr>
        <p:spPr>
          <a:xfrm>
            <a:off x="2268360" y="765000"/>
            <a:ext cx="56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美丽    高洁   冷艳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哀婉    愁怨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惆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xinsrc_012080205101934328623" descr=""/>
          <p:cNvPicPr/>
          <p:nvPr/>
        </p:nvPicPr>
        <p:blipFill>
          <a:blip r:embed="rId2"/>
          <a:stretch/>
        </p:blipFill>
        <p:spPr>
          <a:xfrm>
            <a:off x="755640" y="1268280"/>
            <a:ext cx="2857680" cy="4011840"/>
          </a:xfrm>
          <a:prstGeom prst="rect">
            <a:avLst/>
          </a:prstGeom>
          <a:ln w="0">
            <a:noFill/>
          </a:ln>
        </p:spPr>
      </p:pic>
      <p:pic>
        <p:nvPicPr>
          <p:cNvPr id="456" name="" descr=""/>
          <p:cNvPicPr/>
          <p:nvPr/>
        </p:nvPicPr>
        <p:blipFill>
          <a:blip r:embed="rId3"/>
          <a:stretch/>
        </p:blipFill>
        <p:spPr>
          <a:xfrm>
            <a:off x="3924360" y="692280"/>
            <a:ext cx="8424720" cy="1809720"/>
          </a:xfrm>
          <a:prstGeom prst="rect">
            <a:avLst/>
          </a:prstGeom>
          <a:ln w="0">
            <a:noFill/>
          </a:ln>
        </p:spPr>
      </p:pic>
      <p:sp>
        <p:nvSpPr>
          <p:cNvPr id="457" name=""/>
          <p:cNvSpPr/>
          <p:nvPr/>
        </p:nvSpPr>
        <p:spPr>
          <a:xfrm>
            <a:off x="828720" y="333360"/>
            <a:ext cx="309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ccff"/>
                </a:solidFill>
                <a:latin typeface="Times New Roman"/>
              </a:rPr>
              <a:t>一、作者</a:t>
            </a:r>
            <a:r>
              <a:rPr b="1" lang="en-US" sz="3600" spc="-1" strike="noStrike">
                <a:solidFill>
                  <a:srgbClr val="ccccff"/>
                </a:solidFill>
                <a:latin typeface="Times New Roman"/>
              </a:rPr>
              <a:t>介</a:t>
            </a:r>
            <a:r>
              <a:rPr b="1" lang="zh-CN" sz="3600" spc="-1" strike="noStrike">
                <a:solidFill>
                  <a:srgbClr val="ccccff"/>
                </a:solidFill>
                <a:latin typeface="Times New Roman"/>
              </a:rPr>
              <a:t>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140360" y="2852640"/>
            <a:ext cx="3997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成名作《雨巷》被叶圣陶先生誉为“替新诗的音节开了一个新的纪元”，作者也由于此诗获得“雨巷诗人”的称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/>
          <p:nvPr/>
        </p:nvSpPr>
        <p:spPr>
          <a:xfrm>
            <a:off x="2528640" y="1485360"/>
            <a:ext cx="3228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幽深  寂静  朦胧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684360" y="1413000"/>
            <a:ext cx="171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隶书"/>
                <a:ea typeface="隶书"/>
              </a:rPr>
              <a:t>雨 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11280" y="3716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隶书"/>
                <a:ea typeface="隶书"/>
              </a:rPr>
              <a:t>油纸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2340000" y="371556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复古、怀旧、神秘、迷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84360" y="270828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隶书"/>
                <a:ea typeface="隶书"/>
              </a:rPr>
              <a:t>丁 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2124000" y="4723560"/>
            <a:ext cx="640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颓圮的，让人有种哀怨、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凉的氛围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611280" y="4797360"/>
            <a:ext cx="16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隶书"/>
                <a:ea typeface="隶书"/>
              </a:rPr>
              <a:t>篱 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2484360" y="620640"/>
            <a:ext cx="46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彩云"/>
                <a:ea typeface="华文彩云"/>
              </a:rPr>
              <a:t>意  象  分  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195640" y="2349360"/>
            <a:ext cx="6480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美丽   高洁  冷艳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愁怨  哀婉  惆怅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"/>
          <p:cNvSpPr/>
          <p:nvPr/>
        </p:nvSpPr>
        <p:spPr>
          <a:xfrm>
            <a:off x="5614920" y="1700280"/>
            <a:ext cx="3529080" cy="25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3200" spc="-1" strike="noStrike">
                <a:solidFill>
                  <a:srgbClr val="000066"/>
                </a:solidFill>
                <a:latin typeface="Times New Roman"/>
                <a:ea typeface="宋体"/>
              </a:rPr>
              <a:t>为什么要将姑娘与丁香联系起来呢？丁香般的姑娘有什么样的象征意义呢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5508720" cy="685800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380880" y="3511440"/>
            <a:ext cx="3581640" cy="231156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ffcc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丁香一样的忧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在雨中哀怨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哀怨又彷徨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3924360" y="87480"/>
            <a:ext cx="936720" cy="33573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高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ff"/>
                </a:solidFill>
                <a:latin typeface="Times New Roman"/>
                <a:ea typeface="隶书"/>
              </a:rPr>
              <a:t>洁</a:t>
            </a:r>
            <a:r>
              <a:rPr b="0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995640" y="3373560"/>
            <a:ext cx="3733920" cy="348444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Times New Roman"/>
                <a:ea typeface="隶书"/>
              </a:rPr>
              <a:t>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0" y="0"/>
            <a:ext cx="2590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Verdana"/>
                <a:ea typeface="黑体"/>
              </a:rPr>
              <a:t>丁香</a:t>
            </a:r>
            <a:r>
              <a:rPr b="1" lang="zh-CN" sz="4400" spc="-1" strike="noStrike">
                <a:solidFill>
                  <a:srgbClr val="ffffff"/>
                </a:solidFill>
                <a:latin typeface="Times New Roman"/>
                <a:ea typeface="黑体"/>
              </a:rPr>
              <a:t>姑娘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4114800" y="990720"/>
            <a:ext cx="457200" cy="1752480"/>
          </a:xfrm>
          <a:custGeom>
            <a:avLst/>
            <a:gdLst>
              <a:gd name="textAreaLeft" fmla="*/ 0 w 457200"/>
              <a:gd name="textAreaRight" fmla="*/ 164880 w 457200"/>
              <a:gd name="textAreaTop" fmla="*/ 45360 h 1752480"/>
              <a:gd name="textAreaBottom" fmla="*/ 1707120 h 1752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95280" y="549360"/>
            <a:ext cx="3619440" cy="340884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她是有                          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丁香一样的颜色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丁香一样的芬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4038480" y="3886200"/>
            <a:ext cx="533520" cy="1828800"/>
          </a:xfrm>
          <a:custGeom>
            <a:avLst/>
            <a:gdLst>
              <a:gd name="textAreaLeft" fmla="*/ 0 w 533520"/>
              <a:gd name="textAreaRight" fmla="*/ 19260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3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612720" y="1628640"/>
            <a:ext cx="287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ff33"/>
                </a:solidFill>
                <a:latin typeface="隶书"/>
                <a:ea typeface="隶书"/>
              </a:rPr>
              <a:t>   </a:t>
            </a:r>
            <a:r>
              <a:rPr b="1" lang="zh-CN" sz="4000" spc="-1" strike="noStrike">
                <a:solidFill>
                  <a:srgbClr val="ccff33"/>
                </a:solidFill>
                <a:latin typeface="隶书"/>
                <a:ea typeface="隶书"/>
              </a:rPr>
              <a:t>我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95640" y="0"/>
            <a:ext cx="46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彩云"/>
                <a:ea typeface="华文彩云"/>
              </a:rPr>
              <a:t>意  象  分  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484360" y="2348280"/>
            <a:ext cx="358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忧愁  感伤</a:t>
            </a:r>
            <a:r>
              <a:rPr b="0" lang="en-US" sz="2400" spc="-1" strike="noStrike">
                <a:solidFill>
                  <a:srgbClr val="ff66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411280" y="3572280"/>
            <a:ext cx="3733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隶书"/>
              </a:rPr>
              <a:t>寂寥  迷惘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" descr=""/>
          <p:cNvPicPr/>
          <p:nvPr/>
        </p:nvPicPr>
        <p:blipFill>
          <a:blip r:embed="rId2"/>
          <a:stretch/>
        </p:blipFill>
        <p:spPr>
          <a:xfrm>
            <a:off x="8315280" y="152280"/>
            <a:ext cx="828720" cy="2286000"/>
          </a:xfrm>
          <a:prstGeom prst="rect">
            <a:avLst/>
          </a:prstGeom>
          <a:ln w="0">
            <a:noFill/>
          </a:ln>
        </p:spPr>
      </p:pic>
      <p:pic>
        <p:nvPicPr>
          <p:cNvPr id="559" name="" descr=""/>
          <p:cNvPicPr/>
          <p:nvPr/>
        </p:nvPicPr>
        <p:blipFill>
          <a:blip r:embed="rId3"/>
          <a:stretch/>
        </p:blipFill>
        <p:spPr>
          <a:xfrm>
            <a:off x="8458200" y="6227640"/>
            <a:ext cx="685800" cy="623880"/>
          </a:xfrm>
          <a:prstGeom prst="rect">
            <a:avLst/>
          </a:prstGeom>
          <a:ln w="0">
            <a:noFill/>
          </a:ln>
        </p:spPr>
      </p:pic>
      <p:sp>
        <p:nvSpPr>
          <p:cNvPr id="560" name=""/>
          <p:cNvSpPr/>
          <p:nvPr/>
        </p:nvSpPr>
        <p:spPr>
          <a:xfrm>
            <a:off x="0" y="0"/>
            <a:ext cx="3276720" cy="82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ff"/>
                </a:solidFill>
                <a:latin typeface="Times New Roman"/>
                <a:ea typeface="黑体"/>
              </a:rPr>
              <a:t>丁香先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0" y="692280"/>
            <a:ext cx="4284720" cy="5338440"/>
          </a:xfrm>
          <a:prstGeom prst="rect">
            <a:avLst/>
          </a:prstGeom>
          <a:solidFill>
            <a:srgbClr val="ccffcc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撑着油纸伞，独自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彷徨在悠长、悠长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又寂寥的雨巷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我希望逢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一个丁香一样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隶书"/>
                <a:ea typeface="隶书"/>
              </a:rPr>
              <a:t>结着愁怨的姑娘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6659640" y="2708280"/>
            <a:ext cx="2484360" cy="703440"/>
          </a:xfrm>
          <a:prstGeom prst="rect">
            <a:avLst/>
          </a:prstGeom>
          <a:solidFill>
            <a:srgbClr val="ffffcc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Times New Roman"/>
                <a:ea typeface="黑体"/>
              </a:rPr>
              <a:t>表现诗人对理想，人生和美好事物的追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4267080" y="2438280"/>
            <a:ext cx="1067040" cy="106704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9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8315280" y="152280"/>
            <a:ext cx="828720" cy="2286000"/>
          </a:xfrm>
          <a:prstGeom prst="rect">
            <a:avLst/>
          </a:prstGeom>
          <a:ln w="0">
            <a:noFill/>
          </a:ln>
        </p:spPr>
      </p:pic>
      <p:pic>
        <p:nvPicPr>
          <p:cNvPr id="565" name="" descr=""/>
          <p:cNvPicPr/>
          <p:nvPr/>
        </p:nvPicPr>
        <p:blipFill>
          <a:blip r:embed="rId3"/>
          <a:stretch/>
        </p:blipFill>
        <p:spPr>
          <a:xfrm>
            <a:off x="8458200" y="6227640"/>
            <a:ext cx="685800" cy="623880"/>
          </a:xfrm>
          <a:prstGeom prst="rect">
            <a:avLst/>
          </a:prstGeom>
          <a:ln w="0">
            <a:noFill/>
          </a:ln>
        </p:spPr>
      </p:pic>
      <p:sp>
        <p:nvSpPr>
          <p:cNvPr id="566" name=""/>
          <p:cNvSpPr/>
          <p:nvPr/>
        </p:nvSpPr>
        <p:spPr>
          <a:xfrm>
            <a:off x="0" y="0"/>
            <a:ext cx="3635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cc"/>
                </a:solidFill>
                <a:latin typeface="Times New Roman"/>
                <a:ea typeface="黑体"/>
              </a:rPr>
              <a:t>丁香先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324000" y="1646640"/>
            <a:ext cx="4495680" cy="521136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她彷徨在这寂寥的雨巷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撑着油纸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像我一样，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像我一样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默默彳亍着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冷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隶书"/>
              </a:rPr>
              <a:t>凄清，又惆怅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。</a:t>
            </a:r>
            <a:r>
              <a:rPr b="1" lang="en-US" sz="2400" spc="-1" strike="noStrike">
                <a:solidFill>
                  <a:srgbClr val="ffcc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4822920" y="3879000"/>
            <a:ext cx="4321080" cy="2574360"/>
          </a:xfrm>
          <a:prstGeom prst="rect">
            <a:avLst/>
          </a:prstGeom>
          <a:solidFill>
            <a:srgbClr val="ffcccc"/>
          </a:solidFill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表面上是说姑娘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实际上是在说诗人自己。他因为理想难以实现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心情是冷漠</a:t>
            </a:r>
            <a:r>
              <a:rPr b="0" lang="en-US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,</a:t>
            </a: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隶书"/>
              </a:rPr>
              <a:t>凄清又惆怅的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3419640" y="2492280"/>
            <a:ext cx="114300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6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" descr=""/>
          <p:cNvPicPr/>
          <p:nvPr/>
        </p:nvPicPr>
        <p:blipFill>
          <a:blip r:embed="rId2"/>
          <a:stretch/>
        </p:blipFill>
        <p:spPr>
          <a:xfrm>
            <a:off x="8315280" y="152280"/>
            <a:ext cx="828720" cy="2286000"/>
          </a:xfrm>
          <a:prstGeom prst="rect">
            <a:avLst/>
          </a:prstGeom>
          <a:ln w="0">
            <a:noFill/>
          </a:ln>
        </p:spPr>
      </p:pic>
      <p:pic>
        <p:nvPicPr>
          <p:cNvPr id="571" name="" descr=""/>
          <p:cNvPicPr/>
          <p:nvPr/>
        </p:nvPicPr>
        <p:blipFill>
          <a:blip r:embed="rId3"/>
          <a:stretch/>
        </p:blipFill>
        <p:spPr>
          <a:xfrm>
            <a:off x="8458200" y="6227640"/>
            <a:ext cx="685800" cy="623880"/>
          </a:xfrm>
          <a:prstGeom prst="rect">
            <a:avLst/>
          </a:prstGeom>
          <a:ln w="0">
            <a:noFill/>
          </a:ln>
        </p:spPr>
      </p:pic>
      <p:sp>
        <p:nvSpPr>
          <p:cNvPr id="572" name=""/>
          <p:cNvSpPr/>
          <p:nvPr/>
        </p:nvSpPr>
        <p:spPr>
          <a:xfrm>
            <a:off x="0" y="0"/>
            <a:ext cx="349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黑体"/>
              </a:rPr>
              <a:t>丁香先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038480" y="2743200"/>
            <a:ext cx="1143000" cy="160020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28600" y="1067760"/>
            <a:ext cx="3733920" cy="521388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撑着油纸伞，独自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彷徨在悠长，悠长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又寂寥的雨巷，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我</a:t>
            </a: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希望</a:t>
            </a: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飘过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一个丁香一样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隶书"/>
                <a:ea typeface="隶书"/>
              </a:rPr>
              <a:t>结着愁怨的姑娘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5185080" y="476280"/>
            <a:ext cx="2384280" cy="6095880"/>
          </a:xfrm>
          <a:prstGeom prst="rect">
            <a:avLst/>
          </a:prstGeom>
          <a:solidFill>
            <a:srgbClr val="ccffff"/>
          </a:solidFill>
          <a:ln w="936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仍然怀着对理想的追求和憧憬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Times New Roman"/>
                <a:ea typeface="隶书"/>
              </a:rPr>
              <a:t>虽然理想渺茫难以实现，但诗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5275800" y="380880"/>
            <a:ext cx="667800" cy="6019920"/>
          </a:xfrm>
          <a:prstGeom prst="rect">
            <a:avLst/>
          </a:prstGeom>
          <a:noFill/>
          <a:ln w="936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诗人继续追寻着丁香一样的姑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4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"/>
          <p:cNvSpPr/>
          <p:nvPr/>
        </p:nvSpPr>
        <p:spPr>
          <a:xfrm>
            <a:off x="0" y="2852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提示：你认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雨巷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是一首什么诗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547640" y="812880"/>
            <a:ext cx="525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     </a:t>
            </a:r>
            <a:r>
              <a:rPr b="1" lang="zh-CN" sz="4400" spc="-1" strike="noStrike">
                <a:solidFill>
                  <a:srgbClr val="ffff00"/>
                </a:solidFill>
                <a:latin typeface="Times New Roman"/>
              </a:rPr>
              <a:t>四、</a:t>
            </a: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主  题  探  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0" name=""/>
          <p:cNvSpPr/>
          <p:nvPr/>
        </p:nvSpPr>
        <p:spPr>
          <a:xfrm>
            <a:off x="3196080" y="476280"/>
            <a:ext cx="3177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你认为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《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雨巷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》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是一首什么诗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39640" y="1628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A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爱情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03640" y="1628640"/>
            <a:ext cx="189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B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哲理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39640" y="256536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C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政治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4419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隶书"/>
              </a:rPr>
              <a:t>失恋的痛苦</a:t>
            </a:r>
            <a:r>
              <a:rPr b="1" lang="zh-CN" sz="4000" spc="-1" strike="noStrike">
                <a:solidFill>
                  <a:srgbClr val="ffffcc"/>
                </a:solidFill>
                <a:latin typeface="宋体"/>
                <a:ea typeface="宋体"/>
              </a:rPr>
              <a:t>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95280" y="692280"/>
            <a:ext cx="83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在爱情上，戴望舒第一次的恋爱在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927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年，他爱恋着同学施蜇存的妹妹，后来恋爱失败了，戴望舒十分痛苦。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6" name="" descr=""/>
          <p:cNvPicPr/>
          <p:nvPr/>
        </p:nvPicPr>
        <p:blipFill>
          <a:blip r:embed="rId1"/>
          <a:stretch/>
        </p:blipFill>
        <p:spPr>
          <a:xfrm>
            <a:off x="1547640" y="2095560"/>
            <a:ext cx="5761080" cy="47624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5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/>
          <p:nvPr/>
        </p:nvSpPr>
        <p:spPr>
          <a:xfrm>
            <a:off x="304920" y="1066680"/>
            <a:ext cx="8610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诗集有《我</a:t>
            </a:r>
            <a:r>
              <a:rPr b="1" lang="zh-CN" sz="3600" spc="-1" strike="noStrike">
                <a:solidFill>
                  <a:srgbClr val="ffffff"/>
                </a:solidFill>
                <a:latin typeface="黑体"/>
                <a:ea typeface="黑体"/>
              </a:rPr>
              <a:t>的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记忆》、《望舒草》、《望舒诗稿》和《灾难的岁月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黑体"/>
                <a:ea typeface="黑体"/>
              </a:rPr>
              <a:t>早期诗歌多写个人的孤寂心境，感伤气息较重，因受西方象征派的影响，意象朦胧、含蓄。后期诗歌表现了热爱祖国、憎恨侵略者的强烈感情和对美好未来的热烈向往，诗风显的明朗、沉挚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"/>
          <p:cNvSpPr/>
          <p:nvPr/>
        </p:nvSpPr>
        <p:spPr>
          <a:xfrm>
            <a:off x="684360" y="1341360"/>
            <a:ext cx="763272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"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雨巷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"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象征了人生际遇上的低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"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丁香般的姑娘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"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可理解为诗人理想中的恋人形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"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"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可理解为一个失恋者的形象，表现了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"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"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失恋后仍苦苦追寻的执著情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整首诗可以理解为诗人对生活中美好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爱情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的追寻的心路历程。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>
            <a:grayscl/>
            <a:lum bright="-1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1619280" y="765000"/>
            <a:ext cx="172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宋体"/>
              </a:rPr>
              <a:t>场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1786320" y="19033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宋体"/>
              </a:rPr>
              <a:t>人物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1805400" y="306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宋体"/>
              </a:rPr>
              <a:t>对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805400" y="458136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宋体"/>
              </a:rPr>
              <a:t>情绪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619280" y="5734080"/>
            <a:ext cx="117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00"/>
                </a:solidFill>
                <a:latin typeface="Times New Roman"/>
                <a:ea typeface="宋体"/>
              </a:rPr>
              <a:t>基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339480" y="1557360"/>
            <a:ext cx="91152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宋体"/>
              </a:rPr>
              <a:t>哲    理    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3348000" y="836640"/>
            <a:ext cx="57960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悠长寂寞的雨巷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冷漠、凄清、愁怨的“我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丁香般的姑娘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---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美好的事物、理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欲求而不得、可望而不可及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宋体"/>
              </a:rPr>
              <a:t>无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"/>
          <p:cNvSpPr/>
          <p:nvPr/>
        </p:nvSpPr>
        <p:spPr>
          <a:xfrm>
            <a:off x="901800" y="1052640"/>
            <a:ext cx="7458120" cy="362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雨巷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象征了黑暗压抑的现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丁香般的姑娘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可理解为生活中一切美的事物，如美好的人生理想等等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是一个苦闷的、人生的追求难以实现的知识分子形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整首诗表现了诗人渴望遇上与自己有同样思想和感情的友人的心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"/>
          <p:cNvSpPr/>
          <p:nvPr/>
        </p:nvSpPr>
        <p:spPr>
          <a:xfrm>
            <a:off x="1440" y="-11160"/>
            <a:ext cx="4859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政治诗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    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  <a:ea typeface="楷体_GB2312"/>
              </a:rPr>
              <a:t>现实的黑暗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0" y="851040"/>
            <a:ext cx="8508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黑体"/>
                <a:ea typeface="黑体"/>
              </a:rPr>
              <a:t>   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雨巷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产生的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927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年夏天，                                        是中国历史上一个最黑暗的时代。                                         反动派对革命者的血腥屠杀，造                                           成了笼罩全国的白色恐怖。原来                                         热烈响应了革命的青年，一下子                                            从火的高潮堕入了夜的深渊。他                                                们中的一部分人，找不到革命的                                             前途。他们在痛苦中陷于彷徨迷惘，他们在失望中渴求着新的希望的出现，在阴霾中盼望飘起绚丽的彩虹。 “四，一二”政变后，他隐居江苏松江，在孤寂中嚼味着“在这个时代做中国人的苦恼”。他这时候所写的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雨巷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等诗中便自然贮满了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彷徨失望和感伤痛苦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情绪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9" name="" descr=""/>
          <p:cNvPicPr/>
          <p:nvPr/>
        </p:nvPicPr>
        <p:blipFill>
          <a:blip r:embed="rId1"/>
          <a:stretch/>
        </p:blipFill>
        <p:spPr>
          <a:xfrm>
            <a:off x="5219640" y="0"/>
            <a:ext cx="3924360" cy="368316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9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755640" y="836640"/>
            <a:ext cx="7507440" cy="31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雨巷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象征了大革命失败后，革命事业陷入低谷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丁香般的姑娘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象征了诗人在大革命失败后苦苦追求的革命前景和希望。 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我</a:t>
            </a:r>
            <a:r>
              <a:rPr b="1" lang="en-US" sz="2800" spc="-1" strike="noStrike">
                <a:solidFill>
                  <a:srgbClr val="0033cc"/>
                </a:solidFill>
                <a:latin typeface="Times New Roman"/>
              </a:rPr>
              <a:t>"</a:t>
            </a:r>
            <a:r>
              <a:rPr b="1" lang="zh-CN" sz="2800" spc="-1" strike="noStrike">
                <a:solidFill>
                  <a:srgbClr val="0033cc"/>
                </a:solidFill>
                <a:latin typeface="Times New Roman"/>
              </a:rPr>
              <a:t>是一个心事重重的知识分子形象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整首诗可理解为诗人在革命遭受挫折后，找不到出路，但不甘沉沦的精神痛苦与迷茫。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徐涛 - 雨巷 - 朗诵" descr=""/>
          <p:cNvPicPr/>
          <p:nvPr/>
        </p:nvPicPr>
        <p:blipFill>
          <a:blip r:embed="rId2"/>
          <a:stretch/>
        </p:blipFill>
        <p:spPr>
          <a:xfrm>
            <a:off x="7956720" y="5734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6" restart="whenNotActive" nodeType="interactiveSeq" fill="hold">
                <p:stCondLst>
                  <p:cond evt="onClick">
                    <p:tgtEl>
                      <p:spTgt spid="601"/>
                    </p:tgtEl>
                  </p:cond>
                </p:stCondLst>
                <p:childTnLst>
                  <p:par>
                    <p:cTn id="307" fill="hold">
                      <p:stCondLst>
                        <p:cond evt="onClick">
                          <p:tgtEl>
                            <p:spTgt spid="601"/>
                          </p:tgtEl>
                        </p:cond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233404" fill="hold"/>
                                        <p:tgtEl>
                                          <p:spTgt spid="6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2340000" y="1123560"/>
            <a:ext cx="40514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黑体"/>
              </a:rPr>
              <a:t>五、</a:t>
            </a: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黑体"/>
              </a:rPr>
              <a:t>艺术特色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03" name="Text Box 5"/>
          <p:cNvSpPr/>
          <p:nvPr/>
        </p:nvSpPr>
        <p:spPr>
          <a:xfrm>
            <a:off x="1042920" y="2276640"/>
            <a:ext cx="712800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、它采用了象征手法：</a:t>
            </a:r>
            <a:r>
              <a:rPr b="1" lang="zh-CN" sz="2800" spc="-1" strike="noStrike">
                <a:solidFill>
                  <a:srgbClr val="3399ff"/>
                </a:solidFill>
                <a:latin typeface="Times New Roman"/>
                <a:ea typeface="隶书"/>
              </a:rPr>
              <a:t>丁香一样的姑娘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ffcc"/>
                </a:solidFill>
                <a:latin typeface="Times New Roman"/>
                <a:ea typeface="隶书"/>
              </a:rPr>
              <a:t>  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隶书"/>
              </a:rPr>
              <a:t>丁香姑娘的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美丽高洁</a:t>
            </a:r>
            <a:r>
              <a:rPr b="1" lang="en-US" sz="2800" spc="-1" strike="noStrike">
                <a:solidFill>
                  <a:srgbClr val="ffcccc"/>
                </a:solidFill>
                <a:latin typeface="Times New Roman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隶书"/>
              </a:rPr>
              <a:t>美好的理想和愿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隶书"/>
              </a:rPr>
              <a:t>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cccc"/>
                </a:solidFill>
                <a:latin typeface="Times New Roman"/>
                <a:ea typeface="隶书"/>
              </a:rPr>
              <a:t>  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隶书"/>
              </a:rPr>
              <a:t>丁香姑娘的</a:t>
            </a:r>
            <a:r>
              <a:rPr b="1" lang="zh-CN" sz="2800" spc="-1" strike="noStrike">
                <a:solidFill>
                  <a:srgbClr val="ff66ff"/>
                </a:solidFill>
                <a:latin typeface="Times New Roman"/>
                <a:ea typeface="隶书"/>
              </a:rPr>
              <a:t>哀怨彷徨</a:t>
            </a:r>
            <a:r>
              <a:rPr b="1" lang="en-US" sz="2800" spc="-1" strike="noStrike">
                <a:solidFill>
                  <a:srgbClr val="ff66ff"/>
                </a:solidFill>
                <a:latin typeface="Times New Roman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隶书"/>
              </a:rPr>
              <a:t>理想难以实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隶书"/>
              </a:rPr>
              <a:t>  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隶书"/>
              </a:rPr>
              <a:t>丁香姑娘的</a:t>
            </a: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隶书"/>
              </a:rPr>
              <a:t>飘然离去</a:t>
            </a:r>
            <a:r>
              <a:rPr b="1" lang="en-US" sz="2800" spc="-1" strike="noStrike">
                <a:solidFill>
                  <a:srgbClr val="ffcccc"/>
                </a:solidFill>
                <a:latin typeface="Times New Roman"/>
                <a:ea typeface="隶书"/>
              </a:rPr>
              <a:t>——</a:t>
            </a:r>
            <a:r>
              <a:rPr b="1" lang="zh-CN" sz="2800" spc="-1" strike="noStrike">
                <a:solidFill>
                  <a:srgbClr val="006699"/>
                </a:solidFill>
                <a:latin typeface="Times New Roman"/>
                <a:ea typeface="隶书"/>
              </a:rPr>
              <a:t>理想的幻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7" dur="500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Text Box 3"/>
          <p:cNvSpPr/>
          <p:nvPr/>
        </p:nvSpPr>
        <p:spPr>
          <a:xfrm>
            <a:off x="1116000" y="836640"/>
            <a:ext cx="6840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、优美的音乐旋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66cc"/>
                </a:solidFill>
                <a:latin typeface="Times New Roman"/>
                <a:ea typeface="隶书"/>
              </a:rPr>
              <a:t>全诗回荡着一种深沉的</a:t>
            </a:r>
            <a:r>
              <a:rPr b="1" i="1" lang="zh-CN" sz="2800" spc="-1" strike="noStrike">
                <a:solidFill>
                  <a:srgbClr val="3366cc"/>
                </a:solidFill>
                <a:latin typeface="黑体"/>
                <a:ea typeface="黑体"/>
              </a:rPr>
              <a:t>舒缓悠扬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  <a:ea typeface="隶书"/>
              </a:rPr>
              <a:t>的旋律。正如叶圣陶所说，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  <a:ea typeface="隶书"/>
              </a:rPr>
              <a:t>《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  <a:ea typeface="隶书"/>
              </a:rPr>
              <a:t>雨巷</a:t>
            </a:r>
            <a:r>
              <a:rPr b="1" lang="en-US" sz="2800" spc="-1" strike="noStrike">
                <a:solidFill>
                  <a:srgbClr val="3366cc"/>
                </a:solidFill>
                <a:latin typeface="Times New Roman"/>
                <a:ea typeface="隶书"/>
              </a:rPr>
              <a:t>》</a:t>
            </a:r>
            <a:r>
              <a:rPr b="1" lang="zh-CN" sz="2800" spc="-1" strike="noStrike">
                <a:solidFill>
                  <a:srgbClr val="3366cc"/>
                </a:solidFill>
                <a:latin typeface="Times New Roman"/>
                <a:ea typeface="隶书"/>
              </a:rPr>
              <a:t>是“替新诗的音节开了一个新的纪元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4"/>
          <p:cNvSpPr/>
          <p:nvPr/>
        </p:nvSpPr>
        <p:spPr>
          <a:xfrm>
            <a:off x="1042920" y="2854440"/>
            <a:ext cx="6783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诗行的顿数基本为三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99"/>
                </a:solidFill>
                <a:latin typeface="黑体"/>
                <a:ea typeface="黑体"/>
              </a:rPr>
              <a:t>加上诗歌语言的音质配合，因此读起来有舒缓悠扬的效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5"/>
          <p:cNvSpPr/>
          <p:nvPr/>
        </p:nvSpPr>
        <p:spPr>
          <a:xfrm>
            <a:off x="971640" y="4292640"/>
            <a:ext cx="6913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d7da9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7d7da9"/>
                </a:solidFill>
                <a:latin typeface="黑体"/>
                <a:ea typeface="黑体"/>
              </a:rPr>
              <a:t>单字顿都设置在诗的首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d7da9"/>
                </a:solidFill>
                <a:latin typeface="黑体"/>
                <a:ea typeface="黑体"/>
              </a:rPr>
              <a:t>一开始就拉长了这个字的韵尾，起着一种强调、舒缓的效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Rectangle 2"/>
          <p:cNvSpPr/>
          <p:nvPr/>
        </p:nvSpPr>
        <p:spPr>
          <a:xfrm>
            <a:off x="1258920" y="1052640"/>
            <a:ext cx="691344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d7da9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7d7da9"/>
                </a:solidFill>
                <a:latin typeface="黑体"/>
                <a:ea typeface="黑体"/>
              </a:rPr>
              <a:t>复沓句式的妙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7d7da9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7d7da9"/>
                </a:solidFill>
                <a:latin typeface="黑体"/>
                <a:ea typeface="黑体"/>
              </a:rPr>
              <a:t>第三节</a:t>
            </a:r>
            <a:r>
              <a:rPr b="1" lang="en-US" sz="2800" spc="-1" strike="noStrike">
                <a:solidFill>
                  <a:srgbClr val="7d7da9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7d7da9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7d7da9"/>
                </a:solidFill>
                <a:latin typeface="黑体"/>
                <a:ea typeface="黑体"/>
              </a:rPr>
              <a:t>象我一样</a:t>
            </a:r>
            <a:r>
              <a:rPr b="1" lang="zh-CN" sz="2800" spc="-1" strike="noStrike">
                <a:solidFill>
                  <a:srgbClr val="7d7da9"/>
                </a:solidFill>
                <a:latin typeface="Times New Roman"/>
                <a:ea typeface="黑体"/>
              </a:rPr>
              <a:t>”“</a:t>
            </a:r>
            <a:r>
              <a:rPr b="1" lang="zh-CN" sz="2800" spc="-1" strike="noStrike">
                <a:solidFill>
                  <a:srgbClr val="7d7da9"/>
                </a:solidFill>
                <a:latin typeface="黑体"/>
                <a:ea typeface="黑体"/>
              </a:rPr>
              <a:t>象我一样地</a:t>
            </a:r>
            <a:r>
              <a:rPr b="1" lang="zh-CN" sz="2800" spc="-1" strike="noStrike">
                <a:solidFill>
                  <a:srgbClr val="7d7da9"/>
                </a:solidFill>
                <a:latin typeface="Times New Roman"/>
                <a:ea typeface="黑体"/>
              </a:rPr>
              <a:t>”</a:t>
            </a:r>
            <a:r>
              <a:rPr b="1" lang="en-US" sz="2800" spc="-1" strike="noStrike">
                <a:solidFill>
                  <a:srgbClr val="7d7da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7d7da9"/>
                </a:solidFill>
                <a:latin typeface="黑体"/>
                <a:ea typeface="黑体"/>
              </a:rPr>
              <a:t>第四节</a:t>
            </a:r>
            <a:r>
              <a:rPr b="1" lang="en-US" sz="2800" spc="-1" strike="noStrike">
                <a:solidFill>
                  <a:srgbClr val="7d7da9"/>
                </a:solidFill>
                <a:latin typeface="黑体"/>
                <a:ea typeface="黑体"/>
              </a:rPr>
              <a:t>:</a:t>
            </a:r>
            <a:r>
              <a:rPr b="1" lang="en-US" sz="2800" spc="-1" strike="noStrike">
                <a:solidFill>
                  <a:srgbClr val="7d7da9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7d7da9"/>
                </a:solidFill>
                <a:latin typeface="黑体"/>
                <a:ea typeface="黑体"/>
              </a:rPr>
              <a:t>象梦一般地</a:t>
            </a:r>
            <a:r>
              <a:rPr b="1" lang="zh-CN" sz="2800" spc="-1" strike="noStrike">
                <a:solidFill>
                  <a:srgbClr val="7d7da9"/>
                </a:solidFill>
                <a:latin typeface="Times New Roman"/>
                <a:ea typeface="黑体"/>
              </a:rPr>
              <a:t>”“</a:t>
            </a:r>
            <a:r>
              <a:rPr b="1" lang="zh-CN" sz="2800" spc="-1" strike="noStrike">
                <a:solidFill>
                  <a:srgbClr val="7d7da9"/>
                </a:solidFill>
                <a:latin typeface="黑体"/>
                <a:ea typeface="黑体"/>
              </a:rPr>
              <a:t>象梦一般地凄婉迷茫</a:t>
            </a:r>
            <a:r>
              <a:rPr b="1" lang="zh-CN" sz="2800" spc="-1" strike="noStrike">
                <a:solidFill>
                  <a:srgbClr val="7d7da9"/>
                </a:solidFill>
                <a:latin typeface="Times New Roman"/>
                <a:ea typeface="黑体"/>
              </a:rPr>
              <a:t>”</a:t>
            </a:r>
            <a:r>
              <a:rPr b="1" lang="en-US" sz="2800" spc="-1" strike="noStrike">
                <a:solidFill>
                  <a:srgbClr val="7d7da9"/>
                </a:solidFill>
                <a:latin typeface="黑体"/>
                <a:ea typeface="黑体"/>
              </a:rPr>
              <a:t>.</a:t>
            </a:r>
            <a:r>
              <a:rPr b="1" lang="zh-CN" sz="2800" spc="-1" strike="noStrike">
                <a:solidFill>
                  <a:srgbClr val="7d7da9"/>
                </a:solidFill>
                <a:latin typeface="黑体"/>
                <a:ea typeface="黑体"/>
              </a:rPr>
              <a:t>这些连贯的上下句式，可以说是诗歌内在的巧妙拉长，形成了诗歌回环叠唱的效果，使阅读时有起势</a:t>
            </a:r>
            <a:r>
              <a:rPr b="1" lang="en-US" sz="2800" spc="-1" strike="noStrike">
                <a:solidFill>
                  <a:srgbClr val="7d7da9"/>
                </a:solidFill>
                <a:latin typeface="Times New Roman"/>
                <a:ea typeface="黑体"/>
              </a:rPr>
              <a:t>—</a:t>
            </a:r>
            <a:r>
              <a:rPr b="1" lang="zh-CN" sz="2800" spc="-1" strike="noStrike">
                <a:solidFill>
                  <a:srgbClr val="7d7da9"/>
                </a:solidFill>
                <a:latin typeface="黑体"/>
                <a:ea typeface="黑体"/>
              </a:rPr>
              <a:t>强调</a:t>
            </a:r>
            <a:r>
              <a:rPr b="1" lang="en-US" sz="2800" spc="-1" strike="noStrike">
                <a:solidFill>
                  <a:srgbClr val="7d7da9"/>
                </a:solidFill>
                <a:latin typeface="Times New Roman"/>
                <a:ea typeface="黑体"/>
              </a:rPr>
              <a:t>—</a:t>
            </a:r>
            <a:r>
              <a:rPr b="1" lang="zh-CN" sz="2800" spc="-1" strike="noStrike">
                <a:solidFill>
                  <a:srgbClr val="7d7da9"/>
                </a:solidFill>
                <a:latin typeface="黑体"/>
                <a:ea typeface="黑体"/>
              </a:rPr>
              <a:t>飞跃的递进效果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7d7da9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7d7da9"/>
                </a:solidFill>
                <a:latin typeface="黑体"/>
                <a:ea typeface="黑体"/>
              </a:rPr>
              <a:t>复沓也表现在</a:t>
            </a:r>
            <a:r>
              <a:rPr b="1" lang="en-US" sz="2800" spc="-1" strike="noStrike">
                <a:solidFill>
                  <a:srgbClr val="7d7da9"/>
                </a:solidFill>
                <a:latin typeface="黑体"/>
                <a:ea typeface="黑体"/>
              </a:rPr>
              <a:t>《</a:t>
            </a:r>
            <a:r>
              <a:rPr b="1" lang="zh-CN" sz="2800" spc="-1" strike="noStrike">
                <a:solidFill>
                  <a:srgbClr val="7d7da9"/>
                </a:solidFill>
                <a:latin typeface="黑体"/>
                <a:ea typeface="黑体"/>
              </a:rPr>
              <a:t>雨巷</a:t>
            </a:r>
            <a:r>
              <a:rPr b="1" lang="en-US" sz="2800" spc="-1" strike="noStrike">
                <a:solidFill>
                  <a:srgbClr val="7d7da9"/>
                </a:solidFill>
                <a:latin typeface="黑体"/>
                <a:ea typeface="黑体"/>
              </a:rPr>
              <a:t>》</a:t>
            </a:r>
            <a:r>
              <a:rPr b="1" lang="zh-CN" sz="2800" spc="-1" strike="noStrike">
                <a:solidFill>
                  <a:srgbClr val="7d7da9"/>
                </a:solidFill>
                <a:latin typeface="黑体"/>
                <a:ea typeface="黑体"/>
              </a:rPr>
              <a:t>首尾两节上，从而使诗歌节奏显得整齐和谐。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Rectangle 2"/>
          <p:cNvSpPr/>
          <p:nvPr/>
        </p:nvSpPr>
        <p:spPr>
          <a:xfrm>
            <a:off x="1042920" y="907920"/>
            <a:ext cx="6985080" cy="289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572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词的重叠运用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有时在同一行诗中，如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悠长，悠长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”</a:t>
            </a:r>
            <a:r>
              <a:rPr b="1" lang="en-US" sz="2800" spc="-1" strike="noStrike">
                <a:solidFill>
                  <a:srgbClr val="007572"/>
                </a:solidFill>
                <a:latin typeface="黑体"/>
                <a:ea typeface="黑体"/>
              </a:rPr>
              <a:t>;</a:t>
            </a: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有时在两行诗的隔开处，如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哀怨，哀怨又彷徨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”</a:t>
            </a:r>
            <a:r>
              <a:rPr b="1" lang="en-US" sz="2800" spc="-1" strike="noStrike">
                <a:solidFill>
                  <a:srgbClr val="007572"/>
                </a:solidFill>
                <a:latin typeface="黑体"/>
                <a:ea typeface="黑体"/>
              </a:rPr>
              <a:t>;</a:t>
            </a: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有时在诗节的分开处，如二、三节间的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“</a:t>
            </a: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彷徨</a:t>
            </a:r>
            <a:r>
              <a:rPr b="1" lang="zh-CN" sz="2800" spc="-1" strike="noStrike">
                <a:solidFill>
                  <a:srgbClr val="007572"/>
                </a:solidFill>
                <a:latin typeface="Times New Roman"/>
                <a:ea typeface="黑体"/>
              </a:rPr>
              <a:t>”</a:t>
            </a: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词的重叠把时值相同的停顿复沓化了，从而形成了舒缓悠扬的节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⑤</a:t>
            </a:r>
            <a:r>
              <a:rPr b="1" lang="zh-CN" sz="2800" spc="-1" strike="noStrike">
                <a:solidFill>
                  <a:srgbClr val="007572"/>
                </a:solidFill>
                <a:latin typeface="黑体"/>
                <a:ea typeface="黑体"/>
              </a:rPr>
              <a:t>压韵的位置错综变化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7" dur="5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1981080" y="3645000"/>
            <a:ext cx="5832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宋体"/>
              </a:rPr>
              <a:t> </a:t>
            </a:r>
            <a:r>
              <a:rPr b="1" lang="zh-CN" sz="6000" spc="-1" strike="noStrike">
                <a:solidFill>
                  <a:srgbClr val="ffff00"/>
                </a:solidFill>
                <a:latin typeface="Times New Roman"/>
                <a:ea typeface="宋体"/>
              </a:rPr>
              <a:t>六、拓展延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514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800" spc="-1" strike="noStrike">
                <a:solidFill>
                  <a:srgbClr val="ffffcc"/>
                </a:solidFill>
                <a:latin typeface="Garamond"/>
                <a:ea typeface="黑体"/>
              </a:rPr>
              <a:t>背</a:t>
            </a:r>
            <a:br>
              <a:rPr sz="3800"/>
            </a:br>
            <a:r>
              <a:rPr b="1" lang="zh-CN" sz="3800" spc="-1" strike="noStrike">
                <a:solidFill>
                  <a:srgbClr val="ffffcc"/>
                </a:solidFill>
                <a:latin typeface="Garamond"/>
                <a:ea typeface="黑体"/>
              </a:rPr>
              <a:t>景</a:t>
            </a:r>
            <a:br>
              <a:rPr sz="3800"/>
            </a:br>
            <a:r>
              <a:rPr b="1" lang="zh-CN" sz="3800" spc="-1" strike="noStrike">
                <a:solidFill>
                  <a:srgbClr val="ffffcc"/>
                </a:solidFill>
                <a:latin typeface="Garamond"/>
                <a:ea typeface="黑体"/>
              </a:rPr>
              <a:t>简</a:t>
            </a:r>
            <a:br>
              <a:rPr sz="3800"/>
            </a:br>
            <a:r>
              <a:rPr b="1" lang="zh-CN" sz="3800" spc="-1" strike="noStrike">
                <a:solidFill>
                  <a:srgbClr val="ffffcc"/>
                </a:solidFill>
                <a:latin typeface="Garamond"/>
                <a:ea typeface="黑体"/>
              </a:rPr>
              <a:t>介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1" name=""/>
          <p:cNvSpPr/>
          <p:nvPr/>
        </p:nvSpPr>
        <p:spPr>
          <a:xfrm>
            <a:off x="1332000" y="1413000"/>
            <a:ext cx="7129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黑体"/>
                <a:ea typeface="黑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《雨巷》产生的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1927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夏天，是中国历史上一个最黑暗的时代。反动派对革命者的血腥屠杀，造成了笼罩全国的白色恐怖。原来热烈响应了革命的青年，一下子从火的高潮堕入了夜的深渊。他们中的一部分人，找不到革命的前途。他们在痛苦中陷于彷徨迷惘，他们在失望中渴求着新的希望的出现，在阴霾中盼望飘起绚丽的彩虹。《雨巷》就是一部分进步青年这种心境的反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1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2" name=""/>
          <p:cNvSpPr/>
          <p:nvPr/>
        </p:nvSpPr>
        <p:spPr>
          <a:xfrm>
            <a:off x="468360" y="260280"/>
            <a:ext cx="8207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宋体"/>
              </a:rPr>
              <a:t>       </a:t>
            </a:r>
            <a:r>
              <a:rPr b="1" lang="en-US" sz="3600" spc="-1" strike="noStrike">
                <a:solidFill>
                  <a:srgbClr val="66ff99"/>
                </a:solidFill>
                <a:latin typeface="Times New Roman"/>
                <a:ea typeface="宋体"/>
              </a:rPr>
              <a:t>1</a:t>
            </a: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宋体"/>
              </a:rPr>
              <a:t>、这样美丽的意境，这些传统而又现代的意象，怎么能不钩起读者的共鸣。我想在座的同学们对于作者的这种感情深有感触。那么拿起我们自己的笔，　分别从“我”“丁香姑娘”的角度，运用第一人称、散文的形式、诗的语言，结合诗歌中的意象，写一段你想象中那个雨巷邂逅的场面。用自己的笔描绘出雨巷那种独特的意境。注意：综合运用环境、景物、动作、肖像、心理等描写方式，字数不超过</a:t>
            </a:r>
            <a:r>
              <a:rPr b="1" lang="en-US" sz="3600" spc="-1" strike="noStrike">
                <a:solidFill>
                  <a:srgbClr val="66ff99"/>
                </a:solidFill>
                <a:latin typeface="Times New Roman"/>
                <a:ea typeface="宋体"/>
              </a:rPr>
              <a:t>200</a:t>
            </a:r>
            <a:r>
              <a:rPr b="1" lang="zh-CN" sz="3600" spc="-1" strike="noStrike">
                <a:solidFill>
                  <a:srgbClr val="66ff99"/>
                </a:solidFill>
                <a:latin typeface="Times New Roman"/>
                <a:ea typeface="宋体"/>
              </a:rPr>
              <a:t>字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3" name="" descr=""/>
          <p:cNvPicPr/>
          <p:nvPr/>
        </p:nvPicPr>
        <p:blipFill>
          <a:blip r:embed="rId1">
            <a:grayscl/>
            <a:lum contrast="24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4" name=""/>
          <p:cNvSpPr/>
          <p:nvPr/>
        </p:nvSpPr>
        <p:spPr>
          <a:xfrm>
            <a:off x="0" y="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黑体"/>
              </a:rPr>
              <a:t>示例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①“</a:t>
            </a:r>
            <a:r>
              <a:rPr b="1" lang="zh-CN" sz="3200" spc="-1" strike="noStrike">
                <a:solidFill>
                  <a:srgbClr val="663300"/>
                </a:solidFill>
                <a:latin typeface="黑体"/>
                <a:ea typeface="黑体"/>
              </a:rPr>
              <a:t>我”：我在一个阴雨天，撑一把油纸伞，彳亍着，巷子阴暗而悠长，我的心情也被淋得湿漉漉的。我的心在期待着，期待着一位丁香一般的姑娘走来。奇迹竟然发生了，她出现在巷子的另一头，也撑着一把油纸伞，穿着紫色的长裙，轻轻而来，如同一个紫丁香般的梦。这姑娘似乎给这寂寥的雨巷注入了生机， “我”似乎忽然抓住了希望。然而，她只是飘过了我的身边，一个照面间，只投出了“太息般的眼光”，又静静地隐去。消了颜色，散了芬芳，眼光也没留住。我感到冷漠、凄清、又惆怅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250920" y="62064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cc66"/>
                </a:solidFill>
                <a:latin typeface="黑体"/>
                <a:ea typeface="黑体"/>
              </a:rPr>
              <a:t>②“</a:t>
            </a:r>
            <a:r>
              <a:rPr b="1" lang="zh-CN" sz="2800" spc="-1" strike="noStrike">
                <a:solidFill>
                  <a:srgbClr val="00cc66"/>
                </a:solidFill>
                <a:latin typeface="黑体"/>
                <a:ea typeface="黑体"/>
              </a:rPr>
              <a:t>丁香姑娘”：我在一个阴雨天，撑一把油纸伞，彳亍着，巷子阴暗而悠长，我的心情也被淋得湿漉漉的。我心里想着，或许会遇到一个着青色长衫的男子，戴着细黑边眼镜，高挑而又清俊。行在清冷的巷子里，渐渐有一种孤寂从心底升起，我望着巷子的另一头，他竟然来了，正是我想象的样子，看上去他是那样的忧愁，也许他只是想遇着一位宁静、美丽、多愁的女子，在相错的刹那，读她哀怨的眼神；相错之后，读她轻甩的发梢。然后，以他多情的心灵作一篇淡紫色的诗章，登在某一报刊的某一个角落给那个不知名的女子，也送给自己一份凄美的灵感。如果不是这样，我走过他的身边的时候，他怎么沉静得如同一粒水滴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324000" y="692280"/>
            <a:ext cx="8459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、阅读顾城的诗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《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小巷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，结合问题进行赏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小巷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又弯又长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没有门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没有窗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我拿把旧钥匙 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敲着厚厚的墙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宋体"/>
              </a:rPr>
              <a:t>其中的“小巷”、“旧钥匙”、“墙”分别象征什么，诗人要表达怎样的情感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4140360" y="1413000"/>
            <a:ext cx="4464000" cy="3673440"/>
          </a:xfrm>
          <a:prstGeom prst="rect">
            <a:avLst/>
          </a:prstGeom>
          <a:ln w="0">
            <a:noFill/>
          </a:ln>
        </p:spPr>
      </p:pic>
      <p:pic>
        <p:nvPicPr>
          <p:cNvPr id="619" name="" descr=""/>
          <p:cNvPicPr/>
          <p:nvPr/>
        </p:nvPicPr>
        <p:blipFill>
          <a:blip r:embed="rId2"/>
          <a:stretch/>
        </p:blipFill>
        <p:spPr>
          <a:xfrm>
            <a:off x="4067280" y="1413000"/>
            <a:ext cx="4514760" cy="367164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63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69" dur="20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1" name=""/>
          <p:cNvSpPr/>
          <p:nvPr/>
        </p:nvSpPr>
        <p:spPr>
          <a:xfrm>
            <a:off x="611280" y="1413000"/>
            <a:ext cx="784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参考提示：小巷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——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历史的长河 ；旧钥匙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——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一种历史的手段 ；墙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——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  <a:ea typeface="宋体"/>
              </a:rPr>
              <a:t>守旧的思想，或者一些应该抛弃的古老的东西 。表达诗人想要破除旧世界，创造一个新世界的决心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76" dur="20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>
            <a:grayscl/>
            <a:lum contrast="48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539640" y="907920"/>
            <a:ext cx="813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宋体"/>
              </a:rPr>
              <a:t>结束语：美是丰富多彩的，清丽明快是一种美，隐逸旷达是一种美，同样舒缓低沉、忧郁凄凉也是一种美，戴望舒的雨巷让我们感受到了这种别样的美。希望有一天，我们也能真的撑着油纸伞，在一条悠长、悠长又寂寥的雨巷里，去亲身体验和领悟他的忧郁和伤情。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mb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/>
          <p:cNvPicPr/>
          <p:nvPr/>
        </p:nvPicPr>
        <p:blipFill>
          <a:blip r:embed="rId1">
            <a:grayscl/>
          </a:blip>
          <a:stretch/>
        </p:blipFill>
        <p:spPr>
          <a:xfrm>
            <a:off x="34920" y="4428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463" name=""/>
          <p:cNvSpPr txBox="1"/>
          <p:nvPr/>
        </p:nvSpPr>
        <p:spPr>
          <a:xfrm rot="5400000">
            <a:off x="7868880" y="420480"/>
            <a:ext cx="1368360" cy="90468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徜徉</a:t>
            </a:r>
            <a:endParaRPr b="0" lang="en-US" sz="2400" spc="-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464" name=""/>
          <p:cNvSpPr/>
          <p:nvPr/>
        </p:nvSpPr>
        <p:spPr>
          <a:xfrm>
            <a:off x="2340000" y="44280"/>
            <a:ext cx="5616720" cy="5814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ffff"/>
                </a:solidFill>
                <a:latin typeface="Times New Roman"/>
                <a:ea typeface="宋体"/>
              </a:rPr>
              <a:t>二、自由诵读诗歌，初步感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4500720" y="3357720"/>
            <a:ext cx="417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1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、读完全诗，你最强烈的情感体验是什么？并确定本诗的感情基调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、这首诗中，诗人用了哪些词语着意表现诗歌的这种凄美、感伤的基调</a:t>
            </a: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3608280" y="1628640"/>
            <a:ext cx="449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4356000" y="1197000"/>
            <a:ext cx="419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彳亍 ：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(chi chu)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慢步走，走走停停。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圮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(pi) 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：毁坏、崩塌。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太息</a:t>
            </a:r>
            <a:r>
              <a:rPr b="1" lang="en-US" sz="2800" spc="-1" strike="noStrike">
                <a:solidFill>
                  <a:srgbClr val="009999"/>
                </a:solidFill>
                <a:latin typeface="Times New Roman"/>
              </a:rPr>
              <a:t>(tai xi)</a:t>
            </a:r>
            <a:r>
              <a:rPr b="1" lang="zh-CN" sz="2800" spc="-1" strike="noStrike">
                <a:solidFill>
                  <a:srgbClr val="009999"/>
                </a:solidFill>
                <a:latin typeface="Times New Roman"/>
              </a:rPr>
              <a:t>：叹气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8" name="徐涛 - 雨巷 - 朗诵" descr=""/>
          <p:cNvPicPr/>
          <p:nvPr/>
        </p:nvPicPr>
        <p:blipFill>
          <a:blip r:embed="rId2"/>
          <a:stretch/>
        </p:blipFill>
        <p:spPr>
          <a:xfrm>
            <a:off x="396720" y="6308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468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468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" dur="233404" fill="hold"/>
                                        <p:tgtEl>
                                          <p:spTgt spid="4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0" y="-61920"/>
            <a:ext cx="9144000" cy="6919920"/>
          </a:xfrm>
          <a:prstGeom prst="rect">
            <a:avLst/>
          </a:prstGeom>
          <a:ln w="0">
            <a:noFill/>
          </a:ln>
        </p:spPr>
      </p:pic>
      <p:sp>
        <p:nvSpPr>
          <p:cNvPr id="47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3399"/>
              </a:buClr>
              <a:buFont typeface="幼圆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幼圆"/>
                <a:ea typeface="幼圆"/>
              </a:rPr>
              <a:t>诗歌是依靠形象来传达思想感情的，雨巷是如此的凄清、哀婉，是哪些意象共同组成了这一情境呢？试着来找一下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380880" y="0"/>
            <a:ext cx="3543480" cy="99072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9999"/>
                </a:solidFill>
                <a:latin typeface="Arial"/>
                <a:ea typeface="黑体"/>
              </a:rPr>
              <a:t>三、内容探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209680" y="99072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99"/>
                </a:solidFill>
                <a:latin typeface="幼圆"/>
                <a:ea typeface="幼圆"/>
              </a:rPr>
              <a:t>意象</a:t>
            </a:r>
            <a:r>
              <a:rPr b="1" lang="en-US" sz="4000" spc="-1" strike="noStrike">
                <a:solidFill>
                  <a:srgbClr val="009999"/>
                </a:solidFill>
                <a:latin typeface="幼圆"/>
                <a:ea typeface="幼圆"/>
              </a:rPr>
              <a:t>·</a:t>
            </a:r>
            <a:r>
              <a:rPr b="1" lang="zh-CN" sz="4000" spc="-1" strike="noStrike">
                <a:solidFill>
                  <a:srgbClr val="009999"/>
                </a:solidFill>
                <a:latin typeface="幼圆"/>
                <a:ea typeface="幼圆"/>
              </a:rPr>
              <a:t>情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3" name="" descr=""/>
          <p:cNvPicPr/>
          <p:nvPr/>
        </p:nvPicPr>
        <p:blipFill>
          <a:blip r:embed="rId2"/>
          <a:stretch/>
        </p:blipFill>
        <p:spPr>
          <a:xfrm>
            <a:off x="2590920" y="4952880"/>
            <a:ext cx="2895480" cy="1905120"/>
          </a:xfrm>
          <a:prstGeom prst="rect">
            <a:avLst/>
          </a:prstGeom>
          <a:ln w="0">
            <a:noFill/>
          </a:ln>
        </p:spPr>
      </p:pic>
      <p:pic>
        <p:nvPicPr>
          <p:cNvPr id="474" name="" descr=""/>
          <p:cNvPicPr/>
          <p:nvPr/>
        </p:nvPicPr>
        <p:blipFill>
          <a:blip r:embed="rId3"/>
          <a:stretch/>
        </p:blipFill>
        <p:spPr>
          <a:xfrm>
            <a:off x="7086600" y="4343400"/>
            <a:ext cx="1857240" cy="234324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1295280" y="4038480"/>
            <a:ext cx="12193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572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油纸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91520" y="3276720"/>
            <a:ext cx="1218960" cy="53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572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篱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4"/>
          <a:stretch/>
        </p:blipFill>
        <p:spPr>
          <a:xfrm>
            <a:off x="228600" y="4648320"/>
            <a:ext cx="2562120" cy="196200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5334120" y="3809880"/>
            <a:ext cx="12189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572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雨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971800" y="3352680"/>
            <a:ext cx="12193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572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幼圆"/>
                <a:ea typeface="幼圆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我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4343400"/>
            <a:ext cx="121932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572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丁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791320" y="5029200"/>
            <a:ext cx="1218960" cy="533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9eff"/>
              </a:gs>
              <a:gs pos="50000">
                <a:srgbClr val="ffebfa"/>
              </a:gs>
              <a:gs pos="100000">
                <a:srgbClr val="5e9eff"/>
              </a:gs>
            </a:gsLst>
            <a:lin ang="5400000"/>
          </a:gradFill>
          <a:ln w="57240">
            <a:solidFill>
              <a:srgbClr val="80808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幼圆"/>
                <a:ea typeface="幼圆"/>
              </a:rPr>
              <a:t>姑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4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6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"/>
          <p:cNvSpPr/>
          <p:nvPr/>
        </p:nvSpPr>
        <p:spPr>
          <a:xfrm>
            <a:off x="612720" y="162864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隶书"/>
                <a:ea typeface="隶书"/>
              </a:rPr>
              <a:t>油纸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2484360" y="620640"/>
            <a:ext cx="46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彩云"/>
                <a:ea typeface="华文彩云"/>
              </a:rPr>
              <a:t>意  象  分  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"/>
          <p:cNvSpPr/>
          <p:nvPr/>
        </p:nvSpPr>
        <p:spPr>
          <a:xfrm>
            <a:off x="612720" y="162864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隶书"/>
                <a:ea typeface="隶书"/>
              </a:rPr>
              <a:t>油纸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484360" y="620640"/>
            <a:ext cx="468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彩云"/>
                <a:ea typeface="华文彩云"/>
              </a:rPr>
              <a:t>意  象  分  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怕怕" descr=""/>
          <p:cNvPicPr/>
          <p:nvPr/>
        </p:nvPicPr>
        <p:blipFill>
          <a:blip r:embed="rId2"/>
          <a:stretch/>
        </p:blipFill>
        <p:spPr>
          <a:xfrm>
            <a:off x="2664000" y="2421000"/>
            <a:ext cx="377964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612720" y="1628640"/>
            <a:ext cx="201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ff33"/>
                </a:solidFill>
                <a:latin typeface="隶书"/>
                <a:ea typeface="隶书"/>
              </a:rPr>
              <a:t>油纸伞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2413080" y="1627920"/>
            <a:ext cx="61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隶书"/>
                <a:ea typeface="隶书"/>
              </a:rPr>
              <a:t>复古、怀旧、神秘、迷蒙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2484360" y="620640"/>
            <a:ext cx="4751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00"/>
                </a:solidFill>
                <a:latin typeface="华文彩云"/>
                <a:ea typeface="华文彩云"/>
              </a:rPr>
              <a:t>意  象  分  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怕怕" descr=""/>
          <p:cNvPicPr/>
          <p:nvPr/>
        </p:nvPicPr>
        <p:blipFill>
          <a:blip r:embed="rId2"/>
          <a:stretch/>
        </p:blipFill>
        <p:spPr>
          <a:xfrm>
            <a:off x="2664000" y="2421000"/>
            <a:ext cx="377964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4T12:41:28Z</dcterms:created>
  <dc:creator>a</dc:creator>
  <dc:description/>
  <dc:language>en-US</dc:language>
  <cp:lastModifiedBy>User</cp:lastModifiedBy>
  <dcterms:modified xsi:type="dcterms:W3CDTF">2013-03-25T14:24:41Z</dcterms:modified>
  <cp:revision>212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