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3CA-6205-4315-A745-987D5D90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677-FA35-426C-8F3E-0EB17A04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F7EA6-98AD-4F05-9E72-13A2FC47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39CC3-BE4D-4CA8-99B5-E57615A2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0E16E-9B93-40D3-8E8E-CBDDDD0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9E174-AFAB-4A08-A113-438B14E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B4602-AB83-457A-8CC5-D0CEFF5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C326-17CB-4C01-B522-45C27E3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97369-3749-4D73-BC52-6A1A891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6501E-4849-4107-8953-EA83D553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97688-A320-4C2D-8D85-9199EA52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F8A4C-B73B-450B-B854-E03F3CA9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4E3-20C3-428A-B23F-C7FAD52F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C1501-E9E3-4F01-9A76-8518A42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A64BA-D0B2-41B7-9FE6-BC64B103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A9DBF-2E26-4B9A-8B4B-A5D726EE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C3F0A-F821-46DF-91F7-1AA2E20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B7AA9-7060-4E75-ADEF-61812495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7F4AC-97E8-4035-9886-89A8A3A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686D2-C28B-45F3-A2FE-C23E071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55FC4-CD9E-4027-843E-DE59154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AEF59-EBB6-4DC0-A1C1-F7B8867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0ADC3-6CA9-46F8-8396-ACF3D422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0B6-FC02-471A-85FA-B65611FF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88ABF-E8D4-496B-9181-78D370B8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E9C30-1B5C-4060-946F-466B53C2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AD03A-E5CB-459D-9F35-1A6F2E30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8DC25-9677-4621-9274-86BF70D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2BAEB-2D7B-4FCC-A237-7864FD92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88A1E-E08E-43D7-8D45-FA8D0253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7A950-294D-44B3-88A7-8308804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3D88-71E9-4BE0-946C-AE0386C8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E2F26-B10A-481A-B34F-7D88FB9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16EC9-92BC-4FEB-96D5-4C13519B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BFF-F307-45FA-89B0-48384C4F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68305-0170-44BC-A09D-4DFE2460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57BA-8CFA-4192-BAEE-63AFA796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68F8E-67B9-40C1-9835-A66850B4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14480-5F75-4D99-879B-57D09B38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56137-5D7A-423A-9FAF-354A9C5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BFDDC-473B-401D-8092-EAABCE1A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9ED0D-71E1-4991-AF9E-27109AA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44B87-710A-4651-85EE-8B2205FF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58C52-F485-4F73-AD66-84CBD1DD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C9783-E692-49F5-9A53-973A6FD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8642-BF27-4DA0-B554-376078B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9AE2B-8CC0-46B4-932E-0C04C78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0393D-FFCA-4CDE-AB5F-D6FBCBBB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EF7B7-10C2-45CF-AE03-8711A23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F6107-68E8-4D48-A50B-BB3675DB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A41C-9553-40C5-9863-65BEE141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1A1ED-7D08-43D6-912E-B8714777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A175C-ACE7-4A79-8E71-1306949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2DB85-87B2-4BD2-B781-C920CD3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816B2-8DAC-4CE8-A4B4-54C31811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CBF61-7AE9-4598-A4C8-C26DB1F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0E1B-E03E-4ADB-BC40-1587DD35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1C420-F8F0-4F29-8E78-259BE80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9A80D-D2E6-45BB-A565-DF7F827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9A410-D626-4630-B9B1-408FF97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78FA4-7319-470E-8084-F1C37D2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8E49F-67E1-4752-8FC2-68FDE1A4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DF858-9B4A-4EEE-9457-AABC699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25A36-E251-47AD-A9FF-71F4DDBE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0D1-83B9-440D-B65D-8BD70D53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2FFA-7EFF-456B-9377-29E67A90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556D-14DD-4A0A-B572-FBB981E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42FE-B777-4024-97D6-8CAE0E6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3C3-DA15-4EF5-B184-292521C7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1697-CDD0-4DAC-9AB6-A756073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C3F3-5A84-4307-B847-8F11EBA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A608-0898-450E-9FE1-1F663A87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945D-2439-49A7-9649-42B43505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32CA-1C0C-4B10-B342-ED583B16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8CC9-48D2-449F-90F2-E5613F3D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26E4-F80B-4BBE-BD55-F28D5A8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C863-D3EE-4B79-8215-672AC92B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A0E0-1415-44C9-AE37-9404B639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CC25-8637-4787-8A43-5128CE21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E12-B619-4AC1-89A9-8064D6D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D5E4-188B-4CEA-AB7B-5B490C7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DB74-D0A9-4211-8EB8-548526AD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5973-6FE7-4D79-8469-902FF41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8DB7-F864-49DF-8F5B-3F3301E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F7EF-4817-48BC-8C71-09B4DE0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EEEA-BF88-48A8-9584-D359AE3A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EB22-3645-46B1-B1EE-6B3C1EF4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22F0-955D-44A0-B42B-872083FD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C46B-2669-4788-8EE3-93F31FC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D2DE-8A45-4FF2-915D-A7B1AFED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418-5C2E-48E3-97AE-D9FC5E7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2A7C-D8F8-4312-9BD5-DCA4763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2969-4BC3-469E-B662-03BBC18F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49D7-D272-48C0-B110-0C2D04A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736C-8BCF-449A-B413-5F0F46D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62E1-6EAE-4F03-B1E6-6091FC6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429F-8E06-4572-BC8F-0B012D7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3AD5-39D2-4ED8-9686-9D681F7D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310F-A250-4455-961A-9CEEC0B1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F780-1F0E-4D4D-9342-E0A27908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A90F-16B5-48AA-B231-47E9753E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41F-AB66-4E48-82AC-1813BD5A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691D-A946-48CE-8C97-F5B7150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369EC-449E-4A9A-8BD8-DCCC169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602A5-D222-4151-8F34-7BD95C9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0B5C-3C69-4CF7-9669-0A78C314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0F2B-4762-4DCB-9A8E-9CFFCA41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2D70-A75F-48EB-91BA-9DBE22D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50C4-DF8A-47ED-8005-27B2714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94147-DBCF-4B3F-B9FE-5C99FDD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B39F-9700-4A1E-A4B2-DE2C6E1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DB07-D7CD-4866-B4D1-57D98F34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84-7C59-4F93-B370-46BD88A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FDAF-D8A9-421F-BC90-DAFB5282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04C5-23CD-4E5D-9600-FB1A6073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CBFD8-2FD9-4D15-B692-5DA4B48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4BF6-3220-4BE3-8E4C-7D7E7E7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EBB2-FEA4-46B7-8CC9-95FAC64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D994-5155-4FF1-A0D4-DE49C3FC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E78D-1C81-43CF-88D8-F2D6264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1104-15C1-46B3-B828-56010A6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5D4A-6B61-43DF-9FAD-3082140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0D3A-99CF-4A60-AE7B-50442BC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CF5-329D-4BFB-B72B-8DF3FBA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4D9A-CB07-49E6-BFF0-E8C8119C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49D0-7646-414F-9BA2-F84B9694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1806-4DBE-4218-BAD0-745A6599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7092-BF36-44FC-9232-D020D029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906BF-99CC-44F8-B810-FF53FA9A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C7AA2-AE21-4752-AFCD-711DB67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111F0-ECCA-41F8-864D-FFF4269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1A69-ABC4-4D64-8F76-D918127F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9A00-8544-4C8F-9928-593EB974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6BBB-7F82-4E3E-91E2-8C0D7CF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40E-38B0-4C3C-9CAB-81B773E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E961-5060-4E70-8F56-12FE833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2E98-98D7-4F9D-AAD4-35FE732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57EB-50E1-481D-AFB5-4545D2F8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2633-87A8-45E3-AD11-F9CB817E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2315-935B-42AF-B130-76E3388D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45D27-3964-48C4-B536-A09F68BA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F5D3A-4295-48F3-9BDD-D5BA4CC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08FEE-BC30-40B7-88A8-357E6FB4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DF61-2E35-47D7-B59D-C5BA6B54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AF43-B6CB-46AE-B149-E0089F5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757-6C15-43C7-A9D2-A823947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CE729-DABC-47DE-8644-ED116AA0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A05C-4480-4EC2-9189-CD896454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07AC-06F2-402B-918F-405F1C5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EA7D4-7EA3-4D8C-96C9-4CE37A9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39327-B05C-44C0-8A67-C100766B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02E5-D176-48DE-A925-707613FC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6D21-A97C-4271-856D-396EAD1D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F5BEC-C98B-4D54-A1F7-16BDB10D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7B48F-9EC0-464D-8A5D-EF09FBBF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7A345-2C2B-4B01-A803-964C284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8B6F-C5EE-45FA-8C4A-D3F833B89E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CC36-4E30-4F0F-89F2-FF40910C8DD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F4F-4601-4C49-93D8-66A75252C2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3C1-5BB1-444A-B2E7-04F233AEFC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0BF-7164-4220-9E9C-EF7A030A26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2907-25C7-4DE4-A070-926570CE785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9C4F-875B-493A-A2A7-F5DD5AEE40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F0BE-E365-4C11-AE38-2118D4052D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241-C0A6-463B-A003-AED892C621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ACB-994A-4748-9738-7A2311200F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0269-5206-45D0-9655-7C1EEA11FD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2D7-F6A5-48DC-8A71-9336B4C8D4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B66-C8E3-40BB-A325-293AABB9D7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"/>
          <p:cNvSpPr/>
          <p:nvPr/>
        </p:nvSpPr>
        <p:spPr>
          <a:xfrm>
            <a:off x="2514600" y="2743200"/>
            <a:ext cx="12193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4" name="Picture 2" descr="1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3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5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7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9" name="Picture 4" descr="17"/>
          <p:cNvPicPr/>
          <p:nvPr/>
        </p:nvPicPr>
        <p:blipFill>
          <a:blip r:embed="rId1"/>
          <a:stretch/>
        </p:blipFill>
        <p:spPr>
          <a:xfrm>
            <a:off x="0" y="-23004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1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7"/>
          <p:cNvSpPr/>
          <p:nvPr/>
        </p:nvSpPr>
        <p:spPr>
          <a:xfrm>
            <a:off x="1893240" y="2895480"/>
            <a:ext cx="53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1" descr="20"/>
          <p:cNvPicPr/>
          <p:nvPr/>
        </p:nvPicPr>
        <p:blipFill>
          <a:blip r:embed="rId1"/>
          <a:stretch/>
        </p:blipFill>
        <p:spPr>
          <a:xfrm>
            <a:off x="0" y="1295280"/>
            <a:ext cx="9101160" cy="56041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8"/>
          <p:cNvSpPr/>
          <p:nvPr/>
        </p:nvSpPr>
        <p:spPr>
          <a:xfrm>
            <a:off x="1828800" y="19051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宋体"/>
              </a:rPr>
              <a:t>Contact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029200" y="266688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aurabh@Phonethics.i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4"/>
          <p:cNvSpPr/>
          <p:nvPr/>
        </p:nvSpPr>
        <p:spPr>
          <a:xfrm>
            <a:off x="1220760" y="4005360"/>
            <a:ext cx="795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0" y="2286000"/>
            <a:ext cx="9144000" cy="2222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0" name="图片 9" descr=""/>
          <p:cNvPicPr/>
          <p:nvPr/>
        </p:nvPicPr>
        <p:blipFill>
          <a:blip r:embed="rId11"/>
          <a:stretch/>
        </p:blipFill>
        <p:spPr>
          <a:xfrm>
            <a:off x="1878120" y="714240"/>
            <a:ext cx="5789520" cy="13464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457200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3" name="Picture 10" descr="png-0644"/>
          <p:cNvPicPr/>
          <p:nvPr/>
        </p:nvPicPr>
        <p:blipFill>
          <a:blip r:embed="rId12"/>
          <a:stretch/>
        </p:blipFill>
        <p:spPr>
          <a:xfrm>
            <a:off x="3703680" y="24876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png-0652"/>
          <p:cNvPicPr/>
          <p:nvPr/>
        </p:nvPicPr>
        <p:blipFill>
          <a:blip r:embed="rId13"/>
          <a:stretch/>
        </p:blipFill>
        <p:spPr>
          <a:xfrm>
            <a:off x="7645320" y="24876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3"/>
          <p:cNvPicPr/>
          <p:nvPr/>
        </p:nvPicPr>
        <p:blipFill>
          <a:blip r:embed="rId1"/>
          <a:stretch/>
        </p:blipFill>
        <p:spPr>
          <a:xfrm>
            <a:off x="-38088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74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1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11430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1676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2T02:00:12Z</dcterms:created>
  <dc:creator/>
  <dc:description/>
  <dc:language>en-US</dc:language>
  <cp:lastModifiedBy>wuhan</cp:lastModifiedBy>
  <dcterms:modified xsi:type="dcterms:W3CDTF">2017-10-12T02:01:5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  <property fmtid="{D5CDD505-2E9C-101B-9397-08002B2CF9AE}" pid="3" name="Version">
    <vt:r8>1</vt:r8>
  </property>
</Properties>
</file>