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58F-3197-463D-9091-5543DE01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405-7BEE-43E6-8353-DCA8C5A4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6D6-09F6-4BCD-B096-827A4D6F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AB4-2035-47C3-8FFB-81E152CD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D9E-3147-41F1-AEF1-694242F0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9B0-285A-4E7D-ACD3-6FE56A2E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074-5C88-48A7-A40D-1ADBEDD9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ABE-10EC-42EA-9F7C-6501B7D0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DD5-1882-485B-BCAF-43397A97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976-D09F-4640-B583-A99262C8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C63-7E0D-426F-A83C-9F1090CA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0A4-867B-4F70-A269-DF3C550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AD63-E4BE-4694-B29A-DEB19C949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1" descr=""/>
          <p:cNvPicPr/>
          <p:nvPr/>
        </p:nvPicPr>
        <p:blipFill>
          <a:blip r:embed="rId2"/>
          <a:stretch/>
        </p:blipFill>
        <p:spPr>
          <a:xfrm>
            <a:off x="1735200" y="1339920"/>
            <a:ext cx="56163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685800" y="60948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写作特色：</a:t>
            </a:r>
            <a:endParaRPr b="0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280" y="1980720"/>
            <a:ext cx="8839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310680" indent="-3106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99"/>
                </a:solidFill>
                <a:latin typeface="华文新魏"/>
                <a:ea typeface="华文新魏"/>
              </a:rPr>
              <a:t>构思别致，不流于浅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0680" indent="-3106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99"/>
                </a:solidFill>
                <a:latin typeface="华文新魏"/>
                <a:ea typeface="华文新魏"/>
              </a:rPr>
              <a:t>色彩鲜明，具有流动的画面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0680" indent="-3106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99"/>
                </a:solidFill>
                <a:latin typeface="华文新魏"/>
                <a:ea typeface="华文新魏"/>
              </a:rPr>
              <a:t>富有节奏感，旋律回荡。（音韵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0680" indent="-3106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99"/>
                </a:solidFill>
                <a:latin typeface="华文新魏"/>
                <a:ea typeface="华文新魏"/>
              </a:rPr>
              <a:t>诗行有变化，但又相对整齐。（建筑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0680" indent="-310680">
              <a:lnSpc>
                <a:spcPct val="100000"/>
              </a:lnSpc>
              <a:spcBef>
                <a:spcPts val="901"/>
              </a:spcBef>
              <a:buClr>
                <a:srgbClr val="336699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99"/>
                </a:solidFill>
                <a:latin typeface="华文新魏"/>
                <a:ea typeface="华文新魏"/>
              </a:rPr>
              <a:t>表现了对于个性自由的追求，显示了</a:t>
            </a:r>
            <a:r>
              <a:rPr b="0" lang="zh-CN" sz="3600" spc="-1" strike="noStrike">
                <a:solidFill>
                  <a:srgbClr val="336699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336699"/>
                </a:solidFill>
                <a:latin typeface="华文新魏"/>
                <a:ea typeface="华文新魏"/>
              </a:rPr>
              <a:t>五四</a:t>
            </a:r>
            <a:r>
              <a:rPr b="0" lang="zh-CN" sz="3600" spc="-1" strike="noStrike">
                <a:solidFill>
                  <a:srgbClr val="336699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336699"/>
                </a:solidFill>
                <a:latin typeface="华文新魏"/>
                <a:ea typeface="华文新魏"/>
              </a:rPr>
              <a:t>民主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85800" y="60948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总结：</a:t>
            </a:r>
            <a:endParaRPr b="0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33520" y="167652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《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再别康桥</a:t>
            </a:r>
            <a:r>
              <a:rPr b="0" lang="en-US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》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写离情别绪，但全诗并不哀婉沮丧，如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河畔的金柳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像夕阳中的新娘，抒发了对康桥浓烈的爱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；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在康河的柔波里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诗人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甘做一条水草，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 抒发了对康桥的无限依恋</a:t>
            </a:r>
            <a:r>
              <a:rPr b="0" lang="zh-CN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；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夏虫也为我沉默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cc00"/>
                </a:solidFill>
                <a:latin typeface="华文新魏"/>
                <a:ea typeface="华文新魏"/>
              </a:rPr>
              <a:t>交织着依恋、无奈、 惆怅等复杂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4786920" y="380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徐志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462720" y="574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897——1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614920" y="137160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华文行楷"/>
                <a:ea typeface="华文行楷"/>
              </a:rPr>
              <a:t>现代诗人</a:t>
            </a:r>
            <a:r>
              <a:rPr b="0" lang="en-US" sz="4000" spc="-1" strike="noStrike">
                <a:solidFill>
                  <a:srgbClr val="003300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003300"/>
                </a:solidFill>
                <a:latin typeface="华文行楷"/>
                <a:ea typeface="华文行楷"/>
              </a:rPr>
              <a:t>散文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136120" y="21765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别名：南湖，云中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868720" y="2895480"/>
            <a:ext cx="397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浙江省海宁人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581280" y="3549600"/>
            <a:ext cx="518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     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追求“爱，自由和美”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267080" y="4267080"/>
            <a:ext cx="46483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主要作品有诗集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       </a:t>
            </a:r>
            <a:r>
              <a:rPr b="0" lang="en-US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《</a:t>
            </a:r>
            <a:r>
              <a:rPr b="0" lang="zh-CN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猛虎集</a:t>
            </a:r>
            <a:r>
              <a:rPr b="0" lang="en-US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》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       </a:t>
            </a:r>
            <a:r>
              <a:rPr b="0" lang="en-US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《</a:t>
            </a:r>
            <a:r>
              <a:rPr b="0" lang="zh-CN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志摩的诗</a:t>
            </a:r>
            <a:r>
              <a:rPr b="0" lang="en-US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》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       </a:t>
            </a:r>
            <a:r>
              <a:rPr b="0" lang="en-US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《</a:t>
            </a:r>
            <a:r>
              <a:rPr b="0" lang="zh-CN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翡冷翠的一夜</a:t>
            </a:r>
            <a:r>
              <a:rPr b="0" lang="en-US" sz="35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》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zm1"/>
          <p:cNvPicPr/>
          <p:nvPr/>
        </p:nvPicPr>
        <p:blipFill>
          <a:blip r:embed="rId2"/>
          <a:stretch/>
        </p:blipFill>
        <p:spPr>
          <a:xfrm>
            <a:off x="314280" y="685800"/>
            <a:ext cx="3952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诗人在来到康桥之前和之后曾经产生过哪些梦想？其结局以及对徐志摩造成的影响如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问题设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371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由之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371600" y="4343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爱之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371600" y="5105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美之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zhimo"/>
          <p:cNvPicPr/>
          <p:nvPr/>
        </p:nvPicPr>
        <p:blipFill>
          <a:blip r:embed="rId1"/>
          <a:stretch/>
        </p:blipFill>
        <p:spPr>
          <a:xfrm>
            <a:off x="5715000" y="2743200"/>
            <a:ext cx="251460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3962520" y="3809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3962520" y="53341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3962520" y="45720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康桥：诗人自由之梦飞翔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这是著名的剑桥大学３５所学院之一的国王学院一角"/>
          <p:cNvPicPr/>
          <p:nvPr/>
        </p:nvPicPr>
        <p:blipFill>
          <a:blip r:embed="rId1"/>
          <a:stretch/>
        </p:blipFill>
        <p:spPr>
          <a:xfrm>
            <a:off x="4648320" y="339084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Bertrand Russell"/>
          <p:cNvPicPr/>
          <p:nvPr/>
        </p:nvPicPr>
        <p:blipFill>
          <a:blip r:embed="rId2"/>
          <a:stretch/>
        </p:blipFill>
        <p:spPr>
          <a:xfrm>
            <a:off x="685800" y="1143000"/>
            <a:ext cx="2884320" cy="3352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4572000" y="144792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2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年，徐志摩经狄更生介绍在皇家学院作旁听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0" y="4648320"/>
            <a:ext cx="4343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ertrand Russel(1872-1970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自由之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幸福之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西方哲学史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3809880" y="5867280"/>
            <a:ext cx="609840" cy="762120"/>
          </a:xfrm>
          <a:prstGeom prst="upArrow">
            <a:avLst>
              <a:gd name="adj1" fmla="val 50000"/>
              <a:gd name="adj2" fmla="val 312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康桥：诗人爱之梦破灭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linhuiyin3"/>
          <p:cNvPicPr/>
          <p:nvPr/>
        </p:nvPicPr>
        <p:blipFill>
          <a:blip r:embed="rId1"/>
          <a:stretch/>
        </p:blipFill>
        <p:spPr>
          <a:xfrm>
            <a:off x="3200400" y="1625760"/>
            <a:ext cx="5715000" cy="38178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7924680" y="5943600"/>
            <a:ext cx="53352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-576000" y="1413000"/>
            <a:ext cx="3781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那河畔的金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是夕阳中的新娘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波光里的艳影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在我的心头荡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康桥：诗人美之梦蕴积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99840" y="4876560"/>
            <a:ext cx="6248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的眼光是康桥教我睁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的求知欲是康桥给我拨动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的自我的意识是康桥给我胚胎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徐志摩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吸烟与文化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8153280" y="5715000"/>
            <a:ext cx="609840" cy="9144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5" descr="剑桥风景1"/>
          <p:cNvPicPr/>
          <p:nvPr/>
        </p:nvPicPr>
        <p:blipFill>
          <a:blip r:embed="rId1"/>
          <a:stretch/>
        </p:blipFill>
        <p:spPr>
          <a:xfrm>
            <a:off x="971640" y="1125360"/>
            <a:ext cx="7200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838080" y="2270160"/>
            <a:ext cx="830592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河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畔</a:t>
            </a: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(             )     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荡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漾</a:t>
            </a: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(             )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青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荇</a:t>
            </a: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(             )    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榆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阴</a:t>
            </a: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(             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揉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碎</a:t>
            </a: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(             )     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浮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藻</a:t>
            </a: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(             )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长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篙</a:t>
            </a: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(             )     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漫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溯</a:t>
            </a: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(             )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斑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斓</a:t>
            </a: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(             )    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笙</a:t>
            </a:r>
            <a:r>
              <a:rPr b="0" lang="zh-CN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</a:t>
            </a:r>
            <a:r>
              <a:rPr b="0" lang="zh-CN" sz="38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箫</a:t>
            </a: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(                        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14400" y="2340000"/>
            <a:ext cx="31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685800" y="609480"/>
            <a:ext cx="2895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字词读音</a:t>
            </a:r>
            <a:endParaRPr b="0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90920" y="2244600"/>
            <a:ext cx="1117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095880" y="2244600"/>
            <a:ext cx="157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514600" y="2819520"/>
            <a:ext cx="1336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211800" y="2828880"/>
            <a:ext cx="1024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ú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2590920" y="3429000"/>
            <a:ext cx="118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ó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6095880" y="3367080"/>
            <a:ext cx="157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ǎ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2514600" y="3962520"/>
            <a:ext cx="1336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ā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6248520" y="3976560"/>
            <a:ext cx="106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ù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2590920" y="4702320"/>
            <a:ext cx="1117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5761080" y="4581360"/>
            <a:ext cx="341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ēng xiā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600200" y="2362320"/>
            <a:ext cx="5486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诗歌欣赏品析</a:t>
            </a:r>
            <a:endParaRPr b="0" lang="en-US" sz="72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457200" y="457200"/>
            <a:ext cx="327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诗歌情感：</a:t>
            </a:r>
            <a:endParaRPr b="0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09480" y="5867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难舍难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066680" y="472428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欢喜和眷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447920" y="358128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更加欢喜和眷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676520" y="2286000"/>
            <a:ext cx="38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对康桥永久的眷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62520" y="990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感情达到高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881680" y="3360600"/>
            <a:ext cx="211932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情绪低落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静思默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629400" y="56386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悄悄作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727280" y="1447920"/>
            <a:ext cx="6481800" cy="5048280"/>
          </a:xfrm>
          <a:custGeom>
            <a:avLst/>
            <a:gdLst/>
            <a:ahLst/>
            <a:rect l="l" t="t" r="r" b="b"/>
            <a:pathLst>
              <a:path w="4083" h="3320">
                <a:moveTo>
                  <a:pt x="0" y="3274"/>
                </a:moveTo>
                <a:cubicBezTo>
                  <a:pt x="749" y="1637"/>
                  <a:pt x="1498" y="0"/>
                  <a:pt x="2178" y="8"/>
                </a:cubicBezTo>
                <a:cubicBezTo>
                  <a:pt x="2858" y="16"/>
                  <a:pt x="3470" y="1668"/>
                  <a:pt x="4083" y="332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3520" y="6324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挥手作别云彩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066680" y="5181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河畔金柳倒影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828800" y="4114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青草水底招摇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209680" y="2743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榆阴浮藻清潭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4114800" y="1523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撑篙漫溯寻梦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867280" y="4343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黄昏夏虫沉默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47712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招手惜别云彩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6:04:58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7-09-04T09:27:07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