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2A7-4240-4570-8021-17265ED5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E27-9D23-4E00-A723-465B83A0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2E5-6C3D-44E3-A66C-AF405EF8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D4A-E222-47A7-B3D4-E70E0B0F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DD3-C8B4-4A11-864C-BD729AB5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41D-72F4-41D2-B1F8-C94218F9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D15-1D1B-4050-B200-72B2DC09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130-74CC-4C06-B989-DC53DA99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9E5-80D6-4AE7-8054-3AA8D138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285-D1B9-4DFA-9B07-92161E1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DF7-2A2A-45BD-BECC-6969461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710-346A-4BB4-BD75-8C884FD7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6975-D2A1-46FD-904F-1AB6F4BCD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310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16000" y="1484280"/>
            <a:ext cx="7129440" cy="26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.</a:t>
            </a:r>
            <a:r>
              <a:rPr b="1" lang="zh-CN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走遍天下书为侣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42900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4076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40720" y="3860640"/>
            <a:ext cx="288720" cy="35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51760" y="5229360"/>
            <a:ext cx="174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敦化六小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邵春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9640" y="6253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课标人教版五年级上册语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310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790200"/>
            <a:ext cx="91440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学习目标：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（第二课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理解课文内容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体会作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选择一本书陪伴自己旅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的理由及反复读书的方法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并受到启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背诵课文第七自然段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57440" y="-47160"/>
            <a:ext cx="581004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自学提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大家自由朗读课文，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一遍又一遍地读那一本书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法是什么？她的读书方法对你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么启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中哪些部分给你的印象最深，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感情地读一读，并谈谈自己的体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做书上课后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后我们来交流。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54936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作者“一遍又一遍地读那本书”的方法是什么？她的读书方法对你有什么启示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77960" y="-2880"/>
            <a:ext cx="5924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首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思考，故事中的人为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么这样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家为什么要写这个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然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我会在脑子里继续把这个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编下去，回过头来品味我最欣赏的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些片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问问自己为什么喜欢它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还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读其他部分，并从中找到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以前忽略的东西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做完这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我会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从书中学到的东西列个单子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最后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想象作者是什么样的，他会有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的生活经历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77960" y="-2880"/>
            <a:ext cx="5924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首先我会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思考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故事中的人为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么这样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家为什么要写这个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然后，我会在脑子里继续把这个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编下去，回过头来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品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最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欣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些片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问问自己为什么喜欢它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还会再读其他部分，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并从中找到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以前忽略的东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做完这些，我会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从书中学到的东西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列个单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最后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想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是什么样的，他会有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的生活经历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633" t="0" r="227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47640" y="83664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方       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421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首先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然后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还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做完这些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最后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31760" y="2492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2600" y="321300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想、品味、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400536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寻找新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48308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小结收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27280" y="566100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发挥想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633" t="2425" r="22798" b="24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11280" y="620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启      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256536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读书只要从不同的角度反复地读，就会常读常新，百读不厌。阅读可以带给人丰硕的收获和精神享受。书读百遍，其义自现，每读一遍书，我们都会收获与上一次不同的体验，寻找到新的发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664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88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9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喜爱的书就像一个朋友，就像你的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349360"/>
            <a:ext cx="9468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这里作者采用了（        ）的手法，把书比作（      ）、（     ），生动巧妙地说明了一本书可以（              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（               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2766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997360"/>
            <a:ext cx="227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2997360"/>
            <a:ext cx="16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3645000"/>
            <a:ext cx="28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常读常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4653000"/>
            <a:ext cx="24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百读不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66408" b="0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88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真像与另一个人同船而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81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这句话是作者在列举了“一遍遍地读一本书”的方式方法后的由衷感叹。从不同的角度以不同的方式去读，无论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理解故事内容，揣摩写作目的，续编故事，品味写法，还是积累所得，都能读得津津有味，收获颇丰。书，不是枯燥的、呆板的，而如一个活生生的人一样生动。这句话也与题目《走遍天下书为侣》相呼应，相对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664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88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9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本你喜爱的书就是一位朋友，也是一处你随时想去就去的故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49360"/>
            <a:ext cx="946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这里作者采用了（        ）的手法，把书比作（      ）、（        ），  反复读一本书，总会有新的（      ）新的（       ），百读而不厌，充分表达了作者对书的（      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2766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2997360"/>
            <a:ext cx="227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2924280"/>
            <a:ext cx="258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故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364500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发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365720"/>
            <a:ext cx="28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收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941720"/>
            <a:ext cx="24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喜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310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260280"/>
            <a:ext cx="864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侣”是伴侣的意思，表示的是最亲爱的朋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852640"/>
            <a:ext cx="89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6600" spc="-1" strike="noStrike">
                <a:solidFill>
                  <a:srgbClr val="cc3300"/>
                </a:solidFill>
                <a:latin typeface="Arial"/>
              </a:rPr>
              <a:t>走遍天下书为侣”意思是：一个人周游世界，书是最好的伴侣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4066" t="0" r="48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从某种意义上说，它是你自己的东西，因为世上没有两个人会用同一种方式读同一本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256536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者指的是每个人都有自己（        ）的读书方式、方法，收获也是（         ）的，以自己的方式阅读，对书有（          ）的见解，才能（              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3213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独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3860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独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458136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独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5229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把书真正转化为自己   的东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664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一本你喜爱的书就是一位朋友，也是一处你随时想去就去的故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068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本你喜爱的书就是                ，也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3789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292428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一位良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450864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78936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一位你可以随时向它请教的智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5373720"/>
            <a:ext cx="76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664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一本你喜爱的书就是</a:t>
            </a:r>
            <a:r>
              <a:rPr b="0" lang="zh-CN" sz="4800" spc="-1" strike="noStrike" u="sng">
                <a:solidFill>
                  <a:srgbClr val="cc3300"/>
                </a:solidFill>
                <a:uFillTx/>
                <a:latin typeface="Arial"/>
              </a:rPr>
              <a:t>一位朋友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，也是</a:t>
            </a:r>
            <a:r>
              <a:rPr b="0" lang="zh-CN" sz="4800" spc="-1" strike="noStrike" u="sng">
                <a:solidFill>
                  <a:srgbClr val="cc3300"/>
                </a:solidFill>
                <a:uFillTx/>
                <a:latin typeface="Arial"/>
              </a:rPr>
              <a:t>一处你随时想去就去的知识乐园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133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一本你喜爱的书就是</a:t>
            </a:r>
            <a:r>
              <a:rPr b="0" lang="zh-CN" sz="4800" spc="-1" strike="noStrike" u="sng">
                <a:solidFill>
                  <a:srgbClr val="cc3300"/>
                </a:solidFill>
                <a:uFillTx/>
                <a:latin typeface="Arial"/>
              </a:rPr>
              <a:t>一缕明媚的阳光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，也是</a:t>
            </a:r>
            <a:r>
              <a:rPr b="0" lang="zh-CN" sz="4800" spc="-1" strike="noStrike" u="sng">
                <a:solidFill>
                  <a:srgbClr val="cc3300"/>
                </a:solidFill>
                <a:uFillTx/>
                <a:latin typeface="Arial"/>
              </a:rPr>
              <a:t>一艘驶向知识海洋的战舰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70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一本你喜爱的书就是</a:t>
            </a:r>
            <a:r>
              <a:rPr b="0" lang="zh-CN" sz="4800" spc="-1" strike="noStrike" u="sng">
                <a:solidFill>
                  <a:srgbClr val="cc3300"/>
                </a:solidFill>
                <a:uFillTx/>
                <a:latin typeface="Arial"/>
              </a:rPr>
              <a:t>一杯耐人寻味的绿茶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，也是</a:t>
            </a:r>
            <a:r>
              <a:rPr b="0" lang="zh-CN" sz="4800" spc="-1" strike="noStrike" u="sng">
                <a:solidFill>
                  <a:srgbClr val="cc3300"/>
                </a:solidFill>
                <a:uFillTx/>
                <a:latin typeface="Arial"/>
              </a:rPr>
              <a:t>一盏陈年的佳酿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60676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小结：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大家比喻得十分贴切，一本好书不仅能给人带来快乐，还有慰藉；不仅能让你深思，还能给你启示。好书是智者，是良师，是益友，也是伴侣。让我们与书交友吧，因为它是你飞翔的翅膀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673560"/>
            <a:ext cx="95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Arial"/>
              </a:rPr>
              <a:t>小练笔 ：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假如你独自旅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你会带上什么东西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仿照课文写一写你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己的想法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52320" y="14130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作业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6840" y="2851920"/>
            <a:ext cx="75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背诵课文第七自然段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310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65200" y="-360"/>
            <a:ext cx="669276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学习目标：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（第一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个生字，会写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生字。正确读写词语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正确、流利地朗读课文。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联系上下文理解本课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语，初步理解课文内容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1280" y="1700280"/>
            <a:ext cx="615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侣    娱    盒   　     豫    趟　诵　       零　编    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5240" y="1413000"/>
            <a:ext cx="10947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333360"/>
            <a:ext cx="93614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侣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l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伴侣）     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娱乐）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盒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é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盒子）    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àng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一趟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诵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sòng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背诵）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íng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零食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iā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编写） 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ǒu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某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y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毫不犹豫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3799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620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8900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伴</a:t>
            </a:r>
            <a:r>
              <a:rPr b="1" lang="zh-CN" sz="6600" spc="-1" strike="noStrike">
                <a:solidFill>
                  <a:srgbClr val="cc3300"/>
                </a:solidFill>
                <a:latin typeface="宋体"/>
              </a:rPr>
              <a:t>侣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    环绕   </a:t>
            </a:r>
            <a:r>
              <a:rPr b="1" lang="zh-CN" sz="6600" spc="-1" strike="noStrike">
                <a:solidFill>
                  <a:srgbClr val="cc3300"/>
                </a:solidFill>
                <a:latin typeface="宋体"/>
              </a:rPr>
              <a:t>娱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乐    一</a:t>
            </a:r>
            <a:r>
              <a:rPr b="1" lang="zh-CN" sz="6600" spc="-1" strike="noStrike">
                <a:solidFill>
                  <a:srgbClr val="cc3300"/>
                </a:solidFill>
                <a:latin typeface="宋体"/>
              </a:rPr>
              <a:t>盒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    感叹   周游一</a:t>
            </a:r>
            <a:r>
              <a:rPr b="1" lang="zh-CN" sz="6600" spc="-1" strike="noStrike">
                <a:solidFill>
                  <a:srgbClr val="cc3300"/>
                </a:solidFill>
                <a:latin typeface="宋体"/>
              </a:rPr>
              <a:t>趟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    背</a:t>
            </a:r>
            <a:r>
              <a:rPr b="1" lang="zh-CN" sz="6600" spc="-1" strike="noStrike">
                <a:solidFill>
                  <a:srgbClr val="cc3300"/>
                </a:solidFill>
                <a:latin typeface="宋体"/>
              </a:rPr>
              <a:t>诵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6600" spc="-1" strike="noStrike">
                <a:solidFill>
                  <a:srgbClr val="cc3300"/>
                </a:solidFill>
                <a:latin typeface="宋体"/>
              </a:rPr>
              <a:t>零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食思考    </a:t>
            </a:r>
            <a:r>
              <a:rPr b="1" lang="zh-CN" sz="6600" spc="-1" strike="noStrike">
                <a:solidFill>
                  <a:srgbClr val="cc3300"/>
                </a:solidFill>
                <a:latin typeface="宋体"/>
              </a:rPr>
              <a:t>编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写   品味片段    忽略   </a:t>
            </a:r>
            <a:r>
              <a:rPr b="1" lang="zh-CN" sz="6600" spc="-1" strike="noStrike">
                <a:solidFill>
                  <a:srgbClr val="cc3300"/>
                </a:solidFill>
                <a:latin typeface="宋体"/>
              </a:rPr>
              <a:t>某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种 意义  方式  毫不犹</a:t>
            </a:r>
            <a:r>
              <a:rPr b="1" lang="zh-CN" sz="6600" spc="-1" strike="noStrike">
                <a:solidFill>
                  <a:srgbClr val="cc3300"/>
                </a:solidFill>
                <a:latin typeface="宋体"/>
              </a:rPr>
              <a:t>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3799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268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一点也不迟疑，很坚决果断。文中指在常人难以作出选择的问题上，自己会坚决地选择一本书，表达了对书喜爱的程度，鲜明地亮出了自己的观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1480" y="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理解词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5520" y="1268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毫不犹豫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62064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65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说说作者选择一本书陪伴自己 旅行的理由是 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26028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是作者对书有浓厚的感情，把书视为自己的挚友和家园，带上自己最珍爱的东西出行，是一件快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50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二是不管看上多少遍，总能从一本书中发现新的东西，得到新收获，给人以不尽的精神享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2:58:09Z</dcterms:created>
  <dc:creator>微软用户</dc:creator>
  <dc:description/>
  <dc:language>en-US</dc:language>
  <cp:lastModifiedBy>DELL-PC.L</cp:lastModifiedBy>
  <dcterms:modified xsi:type="dcterms:W3CDTF">2013-08-27T12:53:26Z</dcterms:modified>
  <cp:revision>33</cp:revision>
  <dc:subject/>
  <dc:title>幻灯片 1</dc:title>
</cp:coreProperties>
</file>