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4.gif" ContentType="image/gif"/>
  <Override PartName="/ppt/media/image16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2.wmf" ContentType="image/x-wmf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9A9-0BA3-4672-A80A-ABDA871A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5B2-E082-4AD4-9ED2-BD77F753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4E1A3-942B-4718-A164-5C2AD4C3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B2E41-2452-4EAE-83D1-BB0D341B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7D23F-685E-4BB1-94C2-F8CFF92E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44192-376C-4C2B-9D95-43A85B88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A398D-8457-4218-8864-7B8DF8D8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0959D-B4DC-4A8D-A109-1449B93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97C03-E0F6-4D01-8C66-94EF30D9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06E95-3A6C-44EB-A7F4-8FF09735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3DBA6-FE61-4379-9571-BB97C43B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A8145-D88C-44BA-829F-38AB56D1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0EF-01D1-403C-A05B-2D8AEB77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C8E92-4D42-4AB3-9AF7-ECDB083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BE636-7FBA-4FC1-9E7D-2CA0C32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CC933-94C0-47BE-A49E-062D5988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8C4E8-6D07-4DDE-92C8-7AEF9C1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BAD04-D06F-4E8A-AB6D-74B7197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542E2-29F0-45A5-9A56-6AE9C30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1100F-413F-41F7-B9E8-255ACAF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D39C8-A180-4AB7-8829-5E43021D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8322A-974C-49F8-B4A7-4F1DC362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36E88-15FD-4C1C-84B0-027DD7EE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4B4-EFAA-4E00-BBB8-394B3635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63B5B-5F25-4747-BD7C-771B8278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8B464-F06E-4BD0-A605-882966F7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CE9BF-8CF2-4F0C-BEF8-CE4A7A43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FF73E-833F-46FF-AC17-62AC8DB7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25690-76D4-4BCC-BDDA-92417B49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FA3E6-1560-4A46-9BBF-371C6DE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364B1-4A6C-4A7E-A1B8-18BDFDEF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B68DA-3B93-40AA-BB4C-66CA866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D435A-928A-4884-9DDA-2630C2A1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773CE-0164-4B84-B2A5-3445182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071E-8D43-47ED-9038-1F0FA7A4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68BF-5173-4AE6-B119-84A3C877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C1852-7822-460E-BAEF-938DD076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CE4F9-7E5B-42AC-B3A1-FD53C00B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3ACB8-086F-47B7-BB0A-13884E93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BBF24-B75D-4A0F-AD18-FF70DC06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1969E-614C-42D3-8357-59958E75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39CAF-7253-4CF9-B135-EAF3FB62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0E8C4-9148-4018-BD5F-26B8F98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02EC0-3E92-46A8-BA51-B3D2BA6D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C9A6-1B69-4D8A-A953-84AD92E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E2F5-2A95-4F02-BF07-09275413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88CB-EF73-4FDD-A192-4F2E3CA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A2D46-D087-447D-8C8D-2B6357F1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A61C-C382-4369-A4B7-96D99AA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FEAEF-4222-4580-BCCE-85B68244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31268-DECF-4414-AC27-58AE8197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EC0D3-A409-4A5E-A5AA-7791A505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06F51-FFBB-441B-BE7E-EBF72759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5DD81-2295-4FEB-97F3-0CD3223A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C151D-362E-4DA6-99DE-4C387D77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4F720-D3C7-4CA9-8C56-080B5ED4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3CC9-463C-4E25-9639-D2DAC1CD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CE678-D916-40F2-A8AC-D17E7CD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74311-2051-4060-B143-0622567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EDB30-9F0E-489B-8B24-156B46D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20FC3-D4D7-4C18-A116-EBD2029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B5936-BABF-4962-ACE7-E3F5D263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B01C9-75DA-418D-867F-1995FC5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6FE1C-440F-4A7F-9FE9-E14EC542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E353C-0C25-480D-A0A4-54547BDB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98419-04C6-46BA-8E5E-F44BDB5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0EBE9-CFAA-4ADA-80FB-51820D53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B8BD-7D56-4649-B8D4-FAA49493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C5564-E227-48C8-9BA8-2AC8B0E8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B4490-3CA4-48A0-A41A-F9F0A944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928C7-E83F-428D-B411-BF6352C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76C54-9825-4182-A4CC-96115ED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C2538-799B-438B-AB00-4B92822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5C75E-48C8-4AD3-A49D-07F93AE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24064-8165-4515-B9FF-69246CC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43457-07B4-441C-B214-CF7A1B70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97EBD-6B11-4A11-878F-426BC165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25CA-28D4-4605-BAB2-EC2B9BDA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5C0B-69A7-4453-B762-62308FB7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AC0C-B4AC-4A55-BE2F-E3F91A7A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285-1707-4BCF-8692-01A3E258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2A60-3E03-482E-83FF-130A443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D49-C9CE-411A-8170-CDFF5F92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B91E-20CD-4FD6-A76A-364C6C6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0D23-ED95-48D2-BC95-AB846DA7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CA49-994E-439D-8D88-74EB8E79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C096-F81B-4BCA-8EF3-24C05EAA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A0E8-EFF7-42D4-A963-D5C7BF81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D8E3-9EDF-41DD-A8F5-2BE645F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6458-1243-4949-A5CC-0E34D7AE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DDF7-FAF1-46BB-9BAB-4A169311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D55-EA55-40A7-8968-C9D87E3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A0F6-E443-4554-9DDE-8FA5C850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4624-F20C-43FC-8B0D-CD3D748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7C09-4962-4860-97E3-87E0A4DA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E720-B199-4836-8F36-C62841E7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69FE-A397-4FD8-BC4A-9D5C1D7E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02EA-F70D-4F17-A0B3-D234C6AF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185D-6F96-4A4B-8243-BE14C534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4379-12B3-4867-98A0-5C5E9845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FADC5-D3CB-4487-B0A0-D8D767DF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4A2B-4601-4F32-AECB-18383A3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F25-360A-48F9-89AE-99147B9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E501-EA4B-4C13-BAB9-EE08533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83BBC-6A66-4515-ACC2-B21C5F22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1D74-996C-49AB-AE3E-17D5A9E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2A6E-9A3C-4B61-BD2E-E0ECA5F5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829C-E078-4701-BB2A-20A6004C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5060-1453-43FE-9092-2B5CAC31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D184-D922-4E66-B42D-B272D14A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35E3-FBD2-4C6F-BCFE-700A4E10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51806-7BCE-4D9E-9AA2-069B4DF5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73FA-3062-4E91-9419-CB7D3CEB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FAB-820A-4CE7-BBF7-E8F004B7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FBC15-AB3C-46B6-B81F-0E8BC2B9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63FC-DB18-4EAE-B861-30301DD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316AF-D54A-440A-94E9-673E5F67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52EBE-EC1B-4F9C-9533-6BB48BCE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1DF8-FB99-42F8-8326-EFE7EE2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EF72-11FD-4AD7-B4FF-6F7D72E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9B40-72CA-49D5-87C1-76F1AC7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2827B-683A-495B-827E-3DCBB1C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06DC-9F6C-406C-A72F-2A53D3CA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D115-FEF6-427F-9719-007DFB1F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07A-2779-4F3F-8B11-20196E06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F333-66B7-4C60-A379-A5ADEAB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75823-E920-435F-9C53-46794665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DEF2-8CDD-4CC0-BC0E-10A05C3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25141-9A7C-4457-ADA8-2E80A9C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D1E55-CC36-42F9-8479-664BAED8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8B218-AB91-402C-88FD-49451FB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12809-F430-49AA-9557-2A07327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913D0-01D5-411A-BE52-CF427E6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9CCA-52DB-4904-B004-E20C173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0753-0221-47B9-B2D6-B0F16965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803-2E02-42E1-825E-DAEED58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BA67-3F17-4F95-95B1-1AA082A1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2FF8-707D-478A-9A2E-40DC98C9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7F4D-6C29-4546-A22C-11298742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AD74F-7884-4E1F-B57C-81A7264A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F573-1CCD-45B3-A0BD-F7E4344A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449B-3E0E-4B51-B227-1A8E63FF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E0B84-C865-428C-A23D-10782A71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A1E9A-B2CE-482F-AC92-A92B97B9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BA3A0-AE72-45E1-875F-AC32216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8C8CB-97AD-4E6E-A35C-2DC02714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BBD-143E-44D9-9C5C-BAF73F6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7512-C207-4581-9C91-8EBD8C3C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69AB-8068-4033-9AA3-B2B7D424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2128-D61E-446B-9032-F42F04AC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041F4-72FA-4CE6-A3C3-B736B0E6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F0E6-97CD-4B8C-B2AB-60FB97DE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C68D-1BB4-417E-8BC2-13640CEC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A6F3-CEF1-4300-B3D0-8BA5D810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4F7BE-A389-42C2-BBAD-9B31A20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5E7FB-503A-4D87-B6B1-23FC563F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D0A44-5A58-4ED6-83E4-432B5FD4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AD6-DEA4-4F15-ACCD-8B12297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76FA8-615C-45A9-A0FF-71196F16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67661-48AB-4241-A3D6-CA61F0F6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8C454-C4FD-4388-82C5-B5230A8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CEA93-34B1-428D-AA25-36467B5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7C9E-1E84-44ED-9A65-3FDE17D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7928-7EC8-4D1C-A93B-52754F8A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61504-9731-4239-87FA-3F74FF64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08E5B-8160-4783-A1BF-C1E9BF29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5729F-6470-446D-A99F-43A5ADA8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B680-950F-42C1-9271-A00ED4F9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504C-7379-4269-AB47-A73CE64E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841-BA4A-4B4A-935A-4DECBDCDFB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2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6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8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9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0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2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3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75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75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FD4-6525-4FBF-97D2-9F9A49CFB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80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82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8715-9C81-4455-B089-CEE749FD5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73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6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5EC-D331-4F2C-9F2F-77C2094D39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9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31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6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4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5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6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7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8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1061" name="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106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063" name="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1064" name="未知"/>
                <p:cNvSpPr/>
                <p:nvPr/>
              </p:nvSpPr>
              <p:spPr>
                <a:xfrm rot="18427200">
                  <a:off x="7860960" y="114120"/>
                  <a:ext cx="2455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5" name="未知"/>
                <p:cNvSpPr/>
                <p:nvPr/>
              </p:nvSpPr>
              <p:spPr>
                <a:xfrm rot="18427200">
                  <a:off x="7990920" y="513000"/>
                  <a:ext cx="4312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6" name="未知"/>
                <p:cNvSpPr/>
                <p:nvPr/>
              </p:nvSpPr>
              <p:spPr>
                <a:xfrm rot="18427200">
                  <a:off x="7687440" y="276840"/>
                  <a:ext cx="8100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7" name="未知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8" name="未知"/>
                <p:cNvSpPr/>
                <p:nvPr/>
              </p:nvSpPr>
              <p:spPr>
                <a:xfrm rot="18427200">
                  <a:off x="8387280" y="1416960"/>
                  <a:ext cx="2707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9" name="未知"/>
                <p:cNvSpPr/>
                <p:nvPr/>
              </p:nvSpPr>
              <p:spPr>
                <a:xfrm rot="18427200">
                  <a:off x="8317080" y="1271160"/>
                  <a:ext cx="29016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0" name="未知"/>
                <p:cNvSpPr/>
                <p:nvPr/>
              </p:nvSpPr>
              <p:spPr>
                <a:xfrm rot="18427200">
                  <a:off x="7890840" y="315360"/>
                  <a:ext cx="29052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1" name="未知"/>
                <p:cNvSpPr/>
                <p:nvPr/>
              </p:nvSpPr>
              <p:spPr>
                <a:xfrm rot="18427200">
                  <a:off x="7832880" y="205560"/>
                  <a:ext cx="28692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2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FF1-72AE-4100-95F6-6DF82B2465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15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6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7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19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0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1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2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3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7781040" y="4314960"/>
            <a:ext cx="991440" cy="1166760"/>
            <a:chOff x="7781040" y="4314960"/>
            <a:chExt cx="991440" cy="1166760"/>
          </a:xfrm>
        </p:grpSpPr>
        <p:sp>
          <p:nvSpPr>
            <p:cNvPr id="1125" name="未知"/>
            <p:cNvSpPr/>
            <p:nvPr/>
          </p:nvSpPr>
          <p:spPr>
            <a:xfrm rot="7320000">
              <a:off x="7772400" y="46400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 rot="7320000">
              <a:off x="7915680" y="460296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7781040" y="4314960"/>
              <a:ext cx="991440" cy="1166760"/>
              <a:chOff x="7781040" y="4314960"/>
              <a:chExt cx="991440" cy="1166760"/>
            </a:xfrm>
          </p:grpSpPr>
          <p:sp>
            <p:nvSpPr>
              <p:cNvPr id="1129" name="未知"/>
              <p:cNvSpPr/>
              <p:nvPr/>
            </p:nvSpPr>
            <p:spPr>
              <a:xfrm rot="7320000">
                <a:off x="7918200" y="5042520"/>
                <a:ext cx="93600" cy="99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0" name="未知"/>
              <p:cNvSpPr/>
              <p:nvPr/>
            </p:nvSpPr>
            <p:spPr>
              <a:xfrm rot="7320000">
                <a:off x="7747200" y="4644360"/>
                <a:ext cx="1058760" cy="5076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1" name="未知"/>
              <p:cNvSpPr/>
              <p:nvPr/>
            </p:nvSpPr>
            <p:spPr>
              <a:xfrm rot="7320000">
                <a:off x="8049600" y="4753440"/>
                <a:ext cx="749160" cy="287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2" name="未知"/>
              <p:cNvSpPr/>
              <p:nvPr/>
            </p:nvSpPr>
            <p:spPr>
              <a:xfrm rot="7320000">
                <a:off x="8511120" y="4538520"/>
                <a:ext cx="100080" cy="1926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3" name="未知"/>
              <p:cNvSpPr/>
              <p:nvPr/>
            </p:nvSpPr>
            <p:spPr>
              <a:xfrm rot="7320000">
                <a:off x="8143920" y="4738680"/>
                <a:ext cx="306360" cy="1695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5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5E2C-F480-4AF3-B5B8-A3BC8D7C9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B422-8CEC-4C57-9406-35A02BB6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CCC9-E9FE-402B-86E5-E26057710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4" name="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30C0-4DD2-4FF8-B360-726CBA5DC8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0" name="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708-022E-47EF-A1FF-6621772A9D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未知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未知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未知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未知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未知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未知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未知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325" name="未知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82440" y="165240"/>
              <a:ext cx="3381480" cy="24300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646600" y="154080"/>
            <a:ext cx="3435480" cy="551880"/>
            <a:chOff x="5646600" y="154080"/>
            <a:chExt cx="3435480" cy="551880"/>
          </a:xfrm>
        </p:grpSpPr>
        <p:sp>
          <p:nvSpPr>
            <p:cNvPr id="331" name="未知"/>
            <p:cNvSpPr/>
            <p:nvPr/>
          </p:nvSpPr>
          <p:spPr>
            <a:xfrm>
              <a:off x="5646600" y="154080"/>
              <a:ext cx="3435480" cy="45036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646600" y="44100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646600" y="50760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667120" y="164880"/>
              <a:ext cx="3380040" cy="25668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5673600" y="57600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DC24-889C-441F-8419-0775DDCAA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未知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未知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未知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未知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未知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未知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384" name="未知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135000" y="654120"/>
              <a:ext cx="279576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135000" y="755640"/>
              <a:ext cx="279576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390" name="未知"/>
            <p:cNvSpPr/>
            <p:nvPr/>
          </p:nvSpPr>
          <p:spPr>
            <a:xfrm>
              <a:off x="6243480" y="222120"/>
              <a:ext cx="2795760" cy="70632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625932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6264000" y="882360"/>
              <a:ext cx="2751120" cy="16380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F03-D91B-4081-B3DA-8E7A7213E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67E7-A73F-4871-867F-5BDD5AF3CE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310,25,&#30740;&#31350;&#35838;&#25991;" TargetMode="External"/><Relationship Id="rId2" Type="http://schemas.openxmlformats.org/officeDocument/2006/relationships/hyperlink" Target="310,20,&#24187;&#28783;&#29255; 20" TargetMode="External"/><Relationship Id="rId3" Type="http://schemas.openxmlformats.org/officeDocument/2006/relationships/hyperlink" Target="310,19,&#24187;&#28783;&#29255; 19" TargetMode="External"/><Relationship Id="rId4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25.gif"/><Relationship Id="rId21" Type="http://schemas.openxmlformats.org/officeDocument/2006/relationships/image" Target="../media/image25.gif"/><Relationship Id="rId22" Type="http://schemas.openxmlformats.org/officeDocument/2006/relationships/image" Target="../media/image25.gif"/><Relationship Id="rId23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310,-1,PREV" TargetMode="External"/><Relationship Id="rId2" Type="http://schemas.openxmlformats.org/officeDocument/2006/relationships/hyperlink" Target="310,4,&#24187;&#28783;&#29255; 4" TargetMode="External"/><Relationship Id="rId3" Type="http://schemas.openxmlformats.org/officeDocument/2006/relationships/hyperlink" Target="310,-1,NEXT" TargetMode="External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4&#1011;%AF+%B7%B6%EA%CA&amp;in=7568&amp;cl=2&amp;cm=1&amp;sc=0&amp;lm=-1&amp;pn=1&amp;rn=1&amp;di=2588315440&amp;ln=3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.baidu.com/i?ct=503316480&amp;z=0&amp;tn=baiduimagedetail&amp;word=%C4&#1011;%AF+%B7%B6%EA%CA&amp;in=1772&amp;cl=2&amp;cm=1&amp;sc=0&amp;lm=-1&amp;pn=2&amp;rn=1&amp;di=1955778604&amp;ln=3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hyperlink" Target="310,-1,PREV" TargetMode="External"/><Relationship Id="rId7" Type="http://schemas.openxmlformats.org/officeDocument/2006/relationships/hyperlink" Target="310,4,&#24187;&#28783;&#29255; 4" TargetMode="External"/><Relationship Id="rId8" Type="http://schemas.openxmlformats.org/officeDocument/2006/relationships/hyperlink" Target="310,-1,NEXT" TargetMode="External"/><Relationship Id="rId9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4800600" y="22860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</a:rPr>
              <a:t>张衡传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685800" y="22860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他在《浑天仪注》中指出天是一个圆球，而不是盖天说中的半圆，地球在天之中类似于鸡蛋黄在鸡蛋内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505320" y="7621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浑天说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592360" cy="327672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1332000" y="235080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为了纪念张衡的功绩，人们将月球背面的一环形山命名为“张衡环形山”，将小行星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1802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命名为“张衡小行星”。 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世纪中国著名文学家、历史学家郭沫若对张衡的评价是：“如此全面发展之人物，在世界史中亦所罕见，万祀千龄（千秋万世），令人景仰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762120" y="245520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张衡观测记录了两千五百颗恒星，创制了世界上第一架能比较准确地表演天象的漏水转浑天仪，第一架测试地震的仪器——候风地动仪，还制造出了指南车、自动记时鼓车、飞行数里的木鸟等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682720" cy="287496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3"/>
          <a:stretch/>
        </p:blipFill>
        <p:spPr>
          <a:xfrm>
            <a:off x="6012000" y="3716280"/>
            <a:ext cx="266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380880" y="609480"/>
            <a:ext cx="815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地震学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方面，发明了世界上第一台测定地震及其方位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候风地动仪”，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比欧洲早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700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多年；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天文学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方面，他发明了世界上第一台用水力推动的大型观察星象的天文仪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浑天仪”；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地理学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方面，绘制有完备的地形图，并研制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记里鼓车”、“指南车”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等；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数学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方面，著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《算罔论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，并计算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圆周率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值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.1466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到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.162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之间，比欧洲早了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300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多年；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气象学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方面，制造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候风仪”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预测风力、风向，比西方的风信鸽早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000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多年；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机械学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方面，他制造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独木飞雕”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是世界上最早的飞行器，还制造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土圭（日影器）、活动日历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等；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艺术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方面，他居东汉时期著名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六大画家之首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533520" y="76320"/>
            <a:ext cx="80010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张衡在本世纪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代就被列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世界文化名人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95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、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955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，中国先后发行了印有张衡画像和地动仪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邮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；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960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美国普林斯顿大学翻译出版了他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二京赋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；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970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、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977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国际天文学联合会分别命名月球上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座环形山为“张衡环形山”，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太阳系中一颗编号为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80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的小行星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“张衡小行星”。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98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上海造船厂把中波公司建造的一艘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6000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吨多用途货轮命名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“张衡号”，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巨轮带着中华民族的光荣和骄傲，航行在世界各地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5715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238" name=""/>
          <p:cNvSpPr/>
          <p:nvPr/>
        </p:nvSpPr>
        <p:spPr>
          <a:xfrm>
            <a:off x="4445280" y="60339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台北故宫博物馆所收藏的地动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" descr=""/>
          <p:cNvPicPr/>
          <p:nvPr/>
        </p:nvPicPr>
        <p:blipFill>
          <a:blip r:embed="rId2"/>
          <a:srcRect l="21241" t="0" r="6164" b="0"/>
          <a:stretch/>
        </p:blipFill>
        <p:spPr>
          <a:xfrm>
            <a:off x="152280" y="2286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3"/>
          <a:stretch/>
        </p:blipFill>
        <p:spPr>
          <a:xfrm>
            <a:off x="5029200" y="762120"/>
            <a:ext cx="4038480" cy="30510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4"/>
          <a:stretch/>
        </p:blipFill>
        <p:spPr>
          <a:xfrm>
            <a:off x="4648320" y="44956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7086600" y="228600"/>
            <a:ext cx="17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  <a:ea typeface="楷体_GB2312"/>
              </a:rPr>
              <a:t>记里鼓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5"/>
          <a:srcRect l="12372" t="0" r="13270" b="0"/>
          <a:stretch/>
        </p:blipFill>
        <p:spPr>
          <a:xfrm>
            <a:off x="457200" y="342900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7391520" y="380988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  <a:ea typeface="楷体_GB2312"/>
              </a:rPr>
              <a:t>指南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517680" y="95400"/>
            <a:ext cx="7807320" cy="624816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1717560" y="1602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yú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725480" y="20818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hái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259160" y="1602360"/>
            <a:ext cx="12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zhì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317840" y="2081880"/>
            <a:ext cx="18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xuán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778800" y="158976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qì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042320" y="20818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wǎnɡ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154240" y="2996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zhǔ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093760" y="3450240"/>
            <a:ext cx="12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shǔ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610240" y="30182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bì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614920" y="345024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pì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04800" y="45932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王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496880" y="5024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时候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902120" y="4580280"/>
            <a:ext cx="13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阉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881600" y="5021640"/>
            <a:ext cx="21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腌渍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494000" y="54662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迁徙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476360" y="592344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徒弟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025960" y="54838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尸骸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038560" y="58982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惊骇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39152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）：叙其学品，包括张衡的学业、人品和文章。侧重写文学造诣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-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）：说其术学，主要是张衡的科技成就。重点写候风地动仪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（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-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）：明其治才。突出张衡政治的才干。突写任河间相与奸党斗争一事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/>
          </p:nvPr>
        </p:nvSpPr>
        <p:spPr>
          <a:xfrm>
            <a:off x="228600" y="759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张衡，字平子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南阳西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也。衡少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属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游于三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因入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京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太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遂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经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六艺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才高于世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骄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之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133720" y="914400"/>
            <a:ext cx="73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643200" y="393840"/>
            <a:ext cx="20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今河南南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21680" y="4064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写文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5228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三辅一带游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048120" y="190512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洛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038480" y="1676520"/>
            <a:ext cx="28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代设在京城的全国最高学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23720" y="4737240"/>
            <a:ext cx="52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虽……而……：虽然……但是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200400" y="35053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骄傲自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759280" y="3166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通晓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62920" y="19810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贯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603360" y="19807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2209680" y="99072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312408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小标宋简体"/>
              </a:rPr>
              <a:t>品才双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252480" y="457200"/>
            <a:ext cx="606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天才、全才、奇才，才高八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451880" y="533520"/>
            <a:ext cx="60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小标宋简体"/>
              </a:rPr>
              <a:t>人品、文品、官品，品正行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09480" y="304920"/>
            <a:ext cx="815364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常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从容淡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不好交接俗人。永元中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举孝廉不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连辟公府不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时天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平日久，自王侯以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2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逾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衡乃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班固《两都》，作《二京赋》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因以讽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精思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傅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十年乃成。大将军邓骘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其才，累召不应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57200" y="380880"/>
            <a:ext cx="29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举止稳重，淡泊宁静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943600" y="15228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被）举为孝廉，没有去（应荐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25440" y="1387440"/>
            <a:ext cx="41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屡次（被）公府征召，都没有去任职。辟：召。就：任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495680" y="16002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接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78000" y="265752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没有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809640" y="384804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过渡奢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95480" y="2514600"/>
            <a:ext cx="11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摹仿，仿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52440" y="48164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它来讽喻规劝。因：用。以：来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438280" y="3657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文章的组织、布局、命意、修辞，也作“附会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019920" y="49528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以为……罕见（形容词意动用法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作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一段为文章的第一部分，记述了张衡的学业、品德和文学上的成就。开头两句按历史人物传记的格式，记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姓名、籍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接着介绍其在文学上的造诣。“少善属文”说明他具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先天的禀赋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而“ 游于三辅，因入京师，观太学”说明他注重社会实践。也正是因为他在青少年时代就打下了如此深厚扎实的基础，并不断自我提高，所以才能“通五经，贯六艺”。在叙述了其“才”后紧接着叙述其德。“虽才高于世，而无骄尚之情。常从容淡静，不好交接俗人。”具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谦虚稳重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超尘拔俗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品格，而面对统治者的招罗，作者连用“不行”“不就”“ 不应”等词语表现他的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不慕荣利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高洁品德。而《二京赋》进一步证实其文学才能及精研精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衡善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机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尤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致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天文、阴阳、历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安帝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雅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衡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术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公车特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拜郎中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太史令。遂乃</a:t>
            </a:r>
            <a:r>
              <a:rPr b="1" lang="zh-CN" sz="2800" spc="-1" strike="noStrike">
                <a:solidFill>
                  <a:srgbClr val="cc00ff"/>
                </a:solidFill>
                <a:latin typeface="黑体"/>
                <a:ea typeface="黑体"/>
              </a:rPr>
              <a:t>研核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阴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妙尽璇机之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作浑天仪，著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《灵宪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《算罔论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言甚详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219320" y="3049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器械方面制造的巧妙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505320" y="609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心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80060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天文、气象、历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94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常听说，雅：素常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75248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关于术数方面的学问，指天文、历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50532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公车特地征召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307200" y="179388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次迁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20968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研究考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3434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精妙地研究透了测天仪器的道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209680" y="502920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历法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114800" y="50292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算术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8672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论述很详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581280" y="38098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阴阳之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顺帝初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再转复为太史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衡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不慕当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所居之官，辄积年不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自去史职，五载复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905120" y="1066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转任两次，又做了太史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486400" y="685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不趋附当时的权贵。慕：趋附。当世：指权臣大官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57200" y="2286000"/>
            <a:ext cx="48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他担任的官职，就多年得不到提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917960" y="3533760"/>
            <a:ext cx="35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楷体_GB2312"/>
              </a:rPr>
              <a:t>自他从太史令上离任后，过了五年，又回到这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151920" y="763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嘉元年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候风地动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以精铜铸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员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八尺，合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起，形似酒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饰以篆文山龟鸟兽之形。中有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都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八道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施关发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外有八龙，首衔铜丸，下有蟾蜍，张口承之。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牙机巧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皆隐在尊中，覆盖周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无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如有地动，尊则振龙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机发吐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而蟾蜍衔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971800" y="228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657600" y="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种测验地震的仪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791320" y="228600"/>
            <a:ext cx="23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是用纯铜铸造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8077320" y="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圆的直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05740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凸，高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822240" y="2500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粗大的铜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22860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设置关键（用来）拨动机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572000" y="3429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枢纽和（各种）机件的巧妙构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512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缝隙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200400" y="1371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尊：通“樽”，古代酒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28920" y="353376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通“旁”，周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758000" y="12034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通“圆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019920" y="4648320"/>
            <a:ext cx="28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机关发动，龙口吐出铜丸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振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激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伺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因此觉知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虽一龙发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而七首不动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寻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方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震之所在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验之以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合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若神。自书典所记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未之有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尝一龙机发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觉动，京师学者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怪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无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后数日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至，果地震陇西，于是皆服其妙。自此以后，乃令史官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地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所从方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52280" y="22860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声音清脆响亮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438280" y="30492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守候仪器的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64832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只有一条龙的机关发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2120" y="1295280"/>
            <a:ext cx="40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按照龙头所指的方向去寻找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209680" y="228600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方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276720" y="2286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181480" y="1143000"/>
            <a:ext cx="31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以事验之，状语后置用事实来检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010280" y="2286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符合、相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352680" y="32767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宾语前置：未有之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696080" y="32767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洛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没有应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324480" y="4191120"/>
            <a:ext cx="19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驿站上传送书文的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0666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地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从哪个方向发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657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457200" y="646200"/>
            <a:ext cx="8305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42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80880" y="152280"/>
            <a:ext cx="8612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时政事渐损，权移于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衡因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疏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陈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后迁侍中，帝引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帷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zh-CN" sz="2800" spc="-1" strike="noStrike">
                <a:solidFill>
                  <a:srgbClr val="cc00ff"/>
                </a:solidFill>
                <a:latin typeface="黑体"/>
                <a:ea typeface="黑体"/>
              </a:rPr>
              <a:t>讽议左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尝问天下所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疾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者。宦官惧其毁己。皆共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目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衡乃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诡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出。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阉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为其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遂共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。衡常思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身之时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以为</a:t>
            </a:r>
            <a:r>
              <a:rPr b="1" lang="zh-CN" sz="2800" spc="-1" strike="noStrike">
                <a:solidFill>
                  <a:srgbClr val="cc00ff"/>
                </a:solidFill>
                <a:latin typeface="黑体"/>
                <a:ea typeface="黑体"/>
              </a:rPr>
              <a:t>吉凶倚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幽微难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，乃作《思玄赋》以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宣寄情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28600" y="380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当时政治昏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36232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央权力向下转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105520" y="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古代臣子上给皇帝的奏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2952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指皇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438280" y="1295280"/>
            <a:ext cx="30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在皇帝左右，对国家的政事提出意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248520" y="160020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痛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7652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给他递眼色，目：名作动：使眼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2743200"/>
            <a:ext cx="20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用实话对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9588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对宦官的蔑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162920" y="2438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成为他们的祸患。为：成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85800" y="380988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说别人的坏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29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图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518148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认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72200" y="388620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祸福相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3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幽：幽深。微：微妙。明：看清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657600" y="510552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表达和寄托自己的情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27600" y="12430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陈述事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永和初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出为河间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时国王骄奢，不遵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典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又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豪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共为不轨。衡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下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治威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整法度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阴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奸党名姓，一时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上下肃然，称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政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视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年，上书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黑体"/>
              </a:rPr>
              <a:t>乞骸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征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尚书。年六十二，永和四年卒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95280" y="1522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出京做河间王（刘政）的相。出：离开（朝廷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7057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典章法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28600" y="137160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豪族大户。右族：豪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276720" y="1676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官吏初到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876920" y="1447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治理严厉。治：治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04200" y="158436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暗中查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048120" y="266688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通“擒”。捕捉、捉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2485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政治清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620120" y="266688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指官员到职工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3886200"/>
            <a:ext cx="23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请求赐还自己的身体，回家乡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813120" y="5168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征召授予官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2209680" y="800280"/>
            <a:ext cx="304920" cy="4800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8bf9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514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5146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14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53352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8bf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352680" y="304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少善属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35268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通五经，贯六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35268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《二京赋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3526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无骄尚之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352680" y="2438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从容淡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048120" y="342900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58bf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352680" y="3181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善机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200400" y="37148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《灵宪》 《算罔论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4267080"/>
            <a:ext cx="2819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浑天仪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Times New Roman"/>
                <a:hlinkClick r:id="rId2"/>
              </a:rPr>
              <a:t>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352680" y="4800600"/>
            <a:ext cx="289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候风地动仪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Times New Roman"/>
                <a:hlinkClick r:id="rId3"/>
              </a:rPr>
              <a:t>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352680" y="54100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治威严、整法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67280" y="609480"/>
            <a:ext cx="1295640" cy="4572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5866920" y="1219320"/>
            <a:ext cx="1295640" cy="4572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086600" y="83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文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43600" y="1143000"/>
            <a:ext cx="1219320" cy="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248520" y="3505320"/>
            <a:ext cx="838080" cy="6858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400800" y="4038480"/>
            <a:ext cx="685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6400800" y="4343040"/>
            <a:ext cx="685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6248520" y="4419360"/>
            <a:ext cx="838080" cy="6858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7086600" y="4038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科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095880" y="5715000"/>
            <a:ext cx="990720" cy="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086600" y="5410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政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257800" y="2209680"/>
            <a:ext cx="1828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5257800" y="2514240"/>
            <a:ext cx="1828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7086600" y="2133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性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0880" y="1066680"/>
            <a:ext cx="609840" cy="4267440"/>
          </a:xfrm>
          <a:prstGeom prst="rect">
            <a:avLst/>
          </a:prstGeom>
          <a:gradFill rotWithShape="0">
            <a:gsLst>
              <a:gs pos="0">
                <a:srgbClr val="8860ad"/>
              </a:gs>
              <a:gs pos="100000">
                <a:srgbClr val="c58bf9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结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600560" y="285264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张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苏轼曾说：“古今成大事者，不惟有超世之才，亦必有坚忍不拔之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读名人的传记，不仅仅是为了知道他们的生平事迹，更重要的是在了解这些伟人的过程中探寻他们的精神世界，从而汲取智慧和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请同学们再次研读课文，谈谈在此篇传记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你读到了一个怎样的张衡？（超世之才、高尚品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57200" y="457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知人论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6324480" cy="525780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3352680" y="1828800"/>
            <a:ext cx="322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张衡传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523760" y="32004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《后汉书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267080" y="4419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范  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739960" y="3068640"/>
            <a:ext cx="611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/>
          </p:nvPr>
        </p:nvSpPr>
        <p:spPr>
          <a:xfrm>
            <a:off x="0" y="306360"/>
            <a:ext cx="8763120" cy="63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超世之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善属文”，作《二京赋》—文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善机巧”，作浑天仪、造候风地动仪—科学发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善术学”，著《灵宪》、《算罔论》—科学著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善政事”，为河间相，称为政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2000" fill="hold"/>
                                        <p:tgtEl>
                                          <p:spTgt spid="1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1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2000" fill="hold"/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2000" fill="hold"/>
                                        <p:tgtEl>
                                          <p:spTgt spid="1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1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1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1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/>
          </p:nvPr>
        </p:nvSpPr>
        <p:spPr>
          <a:xfrm>
            <a:off x="603360" y="144792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治学态度：谦虚谨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才高于世，而无骄尚之情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为人品行：淡泊名利   质朴  超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容淡静，不好交接俗人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举孝廉不行，连辟公府不就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将军邓骘奇其才，累召不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品行端正，忧国忧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《二京赋》讽谏王侯，整治法度收禽奸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28600" y="2761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高尚品德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807320" cy="1055520"/>
          </a:xfrm>
          <a:prstGeom prst="rect">
            <a:avLst/>
          </a:prstGeom>
          <a:ln w="0">
            <a:noFill/>
          </a:ln>
        </p:spPr>
      </p:pic>
      <p:sp>
        <p:nvSpPr>
          <p:cNvPr id="1406" name=""/>
          <p:cNvSpPr/>
          <p:nvPr/>
        </p:nvSpPr>
        <p:spPr>
          <a:xfrm>
            <a:off x="638280" y="3434400"/>
            <a:ext cx="82548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两篇传记最大的共同点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黑体"/>
              </a:rPr>
              <a:t>：都是截取重点片段塑造人物形象，表现人物的一生，选材有详有略，重点突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57200" y="2696400"/>
            <a:ext cx="8255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大的区别是在表达方式上，《苏武传》为了表现苏武的高洁的“志”“行”和大义凛然、宁死不屈的精神，采用了叙议结合的手法，文笔充满感情，有抒情散文的特点，主观性较强。而《张衡传》以表现张衡的杰出贡献，简要概括其一生为主要目的，所以用说明性的文字对张衡的文学创作和科技发明进行介绍，其中着重对候风地动仪进行介绍，而对其品德为人的描写都散见于字里行间，贯穿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文章中，很少直接抒情。笔调沉静，文字质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本文在语言运用上有什么特点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文在语言运用上主要有两个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一，记叙语言非常质朴通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例如，“不行”、“不就”、“不应”、“不慕”等句用语非常质朴通俗，毫无雕饰，却鲜明地表现出了张衡不追名逐利的高尚品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，说明语言十分准确简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例如，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段中仅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字就将候风地动仪的有关情况作了比较全面的介绍，可见用语简洁；用酒樽描摹仪器的外形，用“中”、“傍”、“外”、“下”等指明部位，足见其用语之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8229600" y="35053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5"/>
          <a:stretch/>
        </p:blipFill>
        <p:spPr>
          <a:xfrm>
            <a:off x="609480" y="51814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416" name="" descr=""/>
          <p:cNvPicPr/>
          <p:nvPr/>
        </p:nvPicPr>
        <p:blipFill>
          <a:blip r:embed="rId6"/>
          <a:stretch/>
        </p:blipFill>
        <p:spPr>
          <a:xfrm>
            <a:off x="5486400" y="556272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33840" y="1295280"/>
            <a:ext cx="28616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人生在勤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不索何获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7"/>
          <a:stretch/>
        </p:blipFill>
        <p:spPr>
          <a:xfrm>
            <a:off x="32004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/>
          <p:cNvPicPr/>
          <p:nvPr/>
        </p:nvPicPr>
        <p:blipFill>
          <a:blip r:embed="rId8"/>
          <a:stretch/>
        </p:blipFill>
        <p:spPr>
          <a:xfrm>
            <a:off x="5715000" y="571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9"/>
          <a:stretch/>
        </p:blipFill>
        <p:spPr>
          <a:xfrm>
            <a:off x="6324480" y="3657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10"/>
          <a:stretch/>
        </p:blipFill>
        <p:spPr>
          <a:xfrm>
            <a:off x="3581280" y="5257800"/>
            <a:ext cx="4550040" cy="4608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11"/>
          <a:stretch/>
        </p:blipFill>
        <p:spPr>
          <a:xfrm>
            <a:off x="4267080" y="5257800"/>
            <a:ext cx="4550040" cy="4608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12"/>
          <a:stretch/>
        </p:blipFill>
        <p:spPr>
          <a:xfrm>
            <a:off x="3581280" y="6477120"/>
            <a:ext cx="4550040" cy="4608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13"/>
          <a:stretch/>
        </p:blipFill>
        <p:spPr>
          <a:xfrm>
            <a:off x="4267080" y="6477120"/>
            <a:ext cx="4550040" cy="4608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14"/>
          <a:stretch/>
        </p:blipFill>
        <p:spPr>
          <a:xfrm>
            <a:off x="6781680" y="3733920"/>
            <a:ext cx="617760" cy="76176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15"/>
          <a:stretch/>
        </p:blipFill>
        <p:spPr>
          <a:xfrm>
            <a:off x="6477120" y="3352680"/>
            <a:ext cx="925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16"/>
          <a:stretch/>
        </p:blipFill>
        <p:spPr>
          <a:xfrm>
            <a:off x="6095880" y="2895480"/>
            <a:ext cx="1297080" cy="160020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17"/>
          <a:stretch/>
        </p:blipFill>
        <p:spPr>
          <a:xfrm>
            <a:off x="5486400" y="2133720"/>
            <a:ext cx="1914480" cy="236196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/>
          <p:cNvPicPr/>
          <p:nvPr/>
        </p:nvPicPr>
        <p:blipFill>
          <a:blip r:embed="rId18"/>
          <a:stretch/>
        </p:blipFill>
        <p:spPr>
          <a:xfrm>
            <a:off x="4876920" y="1371600"/>
            <a:ext cx="2531880" cy="312408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19"/>
          <a:stretch/>
        </p:blipFill>
        <p:spPr>
          <a:xfrm>
            <a:off x="4495680" y="914400"/>
            <a:ext cx="2901960" cy="358128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20"/>
          <a:stretch/>
        </p:blipFill>
        <p:spPr>
          <a:xfrm>
            <a:off x="6629400" y="1143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1"/>
          <a:stretch/>
        </p:blipFill>
        <p:spPr>
          <a:xfrm>
            <a:off x="990720" y="114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22"/>
          <a:stretch/>
        </p:blipFill>
        <p:spPr>
          <a:xfrm>
            <a:off x="609480" y="51055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434" name=""/>
          <p:cNvSpPr/>
          <p:nvPr/>
        </p:nvSpPr>
        <p:spPr>
          <a:xfrm>
            <a:off x="6379200" y="566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追求人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47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61200" y="914400"/>
            <a:ext cx="12304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衡不慕当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自书典所记，未之有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虽才高于世，而无骄尚之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行道之人弗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夫仁义智辩非所以持国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赵王畏秦，欲毋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愿将军勿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愿早定大计，莫用众人之议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48520" y="6172200"/>
            <a:ext cx="914400" cy="6858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f1f0f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454c6"/>
                </a:solidFill>
                <a:uFillTx/>
                <a:latin typeface="Times New Roman"/>
                <a:hlinkClick r:id="rId1"/>
              </a:rPr>
              <a:t>上一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7238880" y="6324480"/>
            <a:ext cx="762120" cy="381240"/>
          </a:xfrm>
          <a:prstGeom prst="rect">
            <a:avLst/>
          </a:prstGeom>
          <a:solidFill>
            <a:srgbClr val="f1f0f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454c6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077320" y="6172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f1f0f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454c6"/>
                </a:solidFill>
                <a:uFillTx/>
                <a:latin typeface="Times New Roman"/>
                <a:hlinkClick r:id="rId3"/>
              </a:rPr>
              <a:t>下一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743200" y="10666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572000" y="17524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876920" y="24382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09880" y="304812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191120" y="365760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572000" y="434340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9528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572000" y="556272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0880" y="1066680"/>
            <a:ext cx="609840" cy="4267440"/>
          </a:xfrm>
          <a:prstGeom prst="rect">
            <a:avLst/>
          </a:prstGeom>
          <a:gradFill rotWithShape="0">
            <a:gsLst>
              <a:gs pos="0">
                <a:srgbClr val="a7a6a9"/>
              </a:gs>
              <a:gs pos="100000">
                <a:srgbClr val="f1f0f4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552560" y="106668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副词，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440760" y="1752480"/>
            <a:ext cx="18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，不曾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943680" y="236232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932000" y="3048120"/>
            <a:ext cx="16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副词，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562800" y="36576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34920" y="434340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550760" y="4952880"/>
            <a:ext cx="16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别，不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392640" y="6172200"/>
            <a:ext cx="18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副词，不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1116000" y="620640"/>
            <a:ext cx="3816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通假字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员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径八尺    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形似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尊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隶书"/>
              </a:rPr>
              <a:t> 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一时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行八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364000" y="1268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通“圆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364000" y="1916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通“樽”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435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通“擒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364000" y="3357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通“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1280" y="4365720"/>
            <a:ext cx="59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古今异义词： 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、寻其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方面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   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、衡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下车 </a:t>
            </a: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        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、常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从容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淡静</a:t>
            </a:r>
            <a:r>
              <a:rPr b="0" lang="en-US" sz="32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095640" y="486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  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方向”  ，现指相近的几个人物事情之一。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419640" y="537372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初到任” ，现为从车上下来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03640" y="595008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古义：言语举止适度得体。今义：不慌不忙，沉着镇定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78876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作者简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990720"/>
            <a:ext cx="2460600" cy="335268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657600"/>
            <a:ext cx="2438280" cy="29718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2819520" y="2674440"/>
            <a:ext cx="62481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范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398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445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）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蔚宗，南朝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代顺阳山阴（浙江绍兴）人。《宋书》上说他少年好学，博通经史，善为文章。后因密谋拥戴文帝的兄弟刘义康被处死刑，死时才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48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岁。他根据前人撰述的几十种有关后汉的历史著作，编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后汉书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《史记》、《汉书》、《三国志》合称“四史”。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此书对考核史事有参考价值，文字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朴素精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611280" y="907920"/>
            <a:ext cx="540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公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特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拜郎中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举孝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行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覆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无际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上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肃然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716360" y="90792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古义：特地征召。今义：事物的特点、征象、标志等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500720" y="23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古义：不去 （ 应荐 ） 。今义：不可以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356000" y="378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古义：四周严密。今义：周到细致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708360" y="522936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古义：整肃，老实收敛的样子。今义：十分恭敬的样子，如：肃然起敬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755640" y="620640"/>
            <a:ext cx="42480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词类活用：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大将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才  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文言句式： 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未之有也     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举孝廉不行，连辟公府不就 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果地震陇西    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讽议（于）左右 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视事三年         </a:t>
            </a:r>
            <a:br>
              <a:rPr sz="32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431600" y="1052640"/>
            <a:ext cx="155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意动用法）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995640" y="213372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宾语前置）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076720" y="306864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被动句）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140360" y="400536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状语后置）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995640" y="4797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状语后置、省略句）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995640" y="579132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省略主语）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1116000" y="17733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汉书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990720" y="2940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后汉书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990720" y="4114800"/>
            <a:ext cx="21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三国志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362320" y="1752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东汉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班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6880" y="29401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南朝刘宋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范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666880" y="4114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西晋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陈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800600" y="228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通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起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572000" y="1752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断代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940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断代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00600" y="41148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断代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81952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《廉颇蔺相如列传》、《鸿门宴》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572000" y="3429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《张衡传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80880" y="52578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北宋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司马光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黑体"/>
              </a:rPr>
              <a:t>主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编年体，通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上起战国，下迄五代，如《赤壁之战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685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帝，下迄汉武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6676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信陵君窃符救赵》、《屈原列传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990720" y="228600"/>
            <a:ext cx="17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史记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209680" y="228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西汉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司马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24000" y="2276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汉高祖元年，下迄王莽地皇四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4920" y="3429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起汉光武帝，下迄汉献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04920" y="45720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黄巾起义，下迄晋灭吴统一全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52578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资治通鉴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83920" cy="30492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58720" cy="2919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533520" y="3054240"/>
            <a:ext cx="558720" cy="2923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533520" y="4267080"/>
            <a:ext cx="558720" cy="2923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33520" y="5410080"/>
            <a:ext cx="558720" cy="29232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6248520" y="6172200"/>
            <a:ext cx="914400" cy="685800"/>
          </a:xfrm>
          <a:prstGeom prst="leftArrow">
            <a:avLst>
              <a:gd name="adj1" fmla="val 50000"/>
              <a:gd name="adj2" fmla="val 33333"/>
            </a:avLst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00"/>
                </a:solidFill>
                <a:uFillTx/>
                <a:latin typeface="Times New Roman"/>
                <a:hlinkClick r:id="rId6"/>
              </a:rPr>
              <a:t>上一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238880" y="6324480"/>
            <a:ext cx="762120" cy="3812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hlinkClick r:id="rId7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077320" y="6172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00"/>
                </a:solidFill>
                <a:uFillTx/>
                <a:latin typeface="Times New Roman"/>
                <a:hlinkClick r:id="rId8"/>
              </a:rPr>
              <a:t>下一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6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6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6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25146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记的一般写法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48120" y="2238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写人名，籍贯，品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综述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48120" y="342900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按时间顺序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择典型事例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人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419120" y="2275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cc0000"/>
                </a:solidFill>
                <a:uFillTx/>
                <a:latin typeface="Arial"/>
                <a:ea typeface="隶书"/>
              </a:rPr>
              <a:t>历史传记的特点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80880" y="1878120"/>
            <a:ext cx="861084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传记，开头介绍人物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姓名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籍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结尾交代人物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去世时间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中间选择人物一生中最具有特征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事件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叙述他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人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以及对社会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影响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。由于传记不同于史料，所以人物必须“活跃”，有可感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04920" y="4727160"/>
            <a:ext cx="861048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传记叙述一个人的生平，并不在于也不可能把一个人的一生的全部经历，事无巨细都写下来，只能记一生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主要事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，同时显示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品格特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6248520" y="762120"/>
            <a:ext cx="2363760" cy="316836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1187280" y="239868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张衡</a:t>
            </a: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(78-139)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，字平子，南阳西鄂</a:t>
            </a: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今河南南阳县石桥镇</a:t>
            </a: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人。我国东汉时期伟大的天文学家，为我国天文学的发展作出了不可磨灭的贡献；在数学、地理、绘画和文学等方面，也表现出非凡的才能和广博的学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242100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/>
          <p:nvPr/>
        </p:nvSpPr>
        <p:spPr>
          <a:xfrm>
            <a:off x="1763640" y="45720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张衡是东汉中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浑天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的代表人物。他认识到宇宙的无限性和行星运动的快慢与距离地球远近的关系。指出月球本身并不发光，月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4000" y="23623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是日光的反射。正确地解释了月食的成因。观测记录了两千五百颗恒星。创制了世界上第一架能表演天象的漏水转浑天仪，第一架测试地震的候风地动仪，制造出指南车、自动记里鼓车、飞行数里的木鸟等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是当时六大名画家之一。有科学、哲学、文学著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篇，包括数学著作《算罔论》，天文著作《灵宪》《灵宪图》，文学作品《二京赋》《归田赋》《同声歌》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308720" y="6211800"/>
            <a:ext cx="14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黑体"/>
              </a:rPr>
              <a:t>人物</a:t>
            </a:r>
            <a:endParaRPr b="0" lang="en-US" sz="1800" spc="-1" strike="noStrike">
              <a:ln w="9360">
                <a:solidFill>
                  <a:srgbClr val="0033cc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1:27:25Z</dcterms:created>
  <dc:creator/>
  <dc:description/>
  <dc:language>en-US</dc:language>
  <cp:lastModifiedBy>YlmF</cp:lastModifiedBy>
  <dcterms:modified xsi:type="dcterms:W3CDTF">2015-03-08T10:02:43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  <property fmtid="{D5CDD505-2E9C-101B-9397-08002B2CF9AE}" pid="3" name="Version">
    <vt:r8>1</vt:r8>
  </property>
</Properties>
</file>