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2F1-46CE-4D3E-80CB-1D811A42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D88-841F-45EA-AC24-1EEDDA5D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1B2-94B5-4F7C-B6C0-75AFC9E4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036-557A-405B-B7B1-E4DC330D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A04-AF71-4E3E-84D1-CF59A0B8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0EB-8000-472F-992F-8385C790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FBD3-EEF9-4890-9FD8-415C3420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9AFA-5CE3-4B23-9B4C-D17EC8C5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D63B-1BC9-424C-8F69-6832BFCF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263-8973-4ED6-9BF1-E45ADAE9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76FC-1C05-466A-A728-4CCAB17E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260E-A29D-4485-B7DE-6030E714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B9F2-0FDB-4004-B044-DC50E079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8A8E-DB7A-4D58-8667-FD0177BC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8A1C-42ED-4E97-B6FC-8E07D98F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4E24-6ECE-4BDE-BFA6-7E589A9F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80A0-FF92-4E9E-8D0A-2C0EA2A3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52D8-C359-453A-BD7C-0E77098E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7812-614A-41E7-BEFF-BFE2DBCC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286-C53B-4C90-80CF-94044548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FED-7985-4671-912D-7BE2D6DC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6FC-FF89-4DD5-8B36-4C2A9E24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DF9-E791-48B8-BC4D-F31D253B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E22-00D6-432A-BD76-1CBBB5BB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9CD9-8026-4DEC-B045-2ED6D9A96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95696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A776-0715-4CA5-BD9F-DF5071854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696960"/>
            <a:ext cx="4248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9999"/>
                </a:solidFill>
                <a:latin typeface="Arial"/>
              </a:rPr>
              <a:t>张衡传</a:t>
            </a:r>
            <a:endParaRPr b="1" lang="en-US" sz="8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413080" y="2641680"/>
            <a:ext cx="2303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99"/>
                </a:solidFill>
                <a:latin typeface="Arial"/>
              </a:rPr>
              <a:t>范晔</a:t>
            </a:r>
            <a:endParaRPr b="1" lang="en-US" sz="66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40440" y="-14400"/>
            <a:ext cx="4039920" cy="5751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484360" y="912600"/>
            <a:ext cx="36720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顺帝初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再转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复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为太史令。衡不慕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当世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所居之官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辄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积年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不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徙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自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去史职，五载复还。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264960"/>
            <a:ext cx="185904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两次调动官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/>
          <p:nvPr/>
        </p:nvSpPr>
        <p:spPr>
          <a:xfrm>
            <a:off x="2052720" y="1417680"/>
            <a:ext cx="4363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1330200" y="1994040"/>
            <a:ext cx="12970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权臣大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900000" y="2568600"/>
            <a:ext cx="16560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常常，总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6300720" y="1994040"/>
            <a:ext cx="79236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多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6156360" y="2857680"/>
            <a:ext cx="12240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调动官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3218040"/>
            <a:ext cx="86364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自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836720" y="1058400"/>
            <a:ext cx="496728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阳嘉元年，复造候风地动仪。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以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精铜铸成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员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径八尺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合盖隆起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形似酒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尊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饰以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篆文山龟鸟兽之形。中有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都柱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傍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行八道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施关发机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外有八龙，首衔铜丸，下有蟾蜍，张口承之。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552600"/>
            <a:ext cx="4366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6588000" y="1562040"/>
            <a:ext cx="158436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员，通“圆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2136600"/>
            <a:ext cx="180036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隆，高。上下两部分相合盖住，中央凸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2209680"/>
            <a:ext cx="1513080" cy="22284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同“樽”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古代盛酒器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3146400"/>
            <a:ext cx="79056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装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3362400"/>
            <a:ext cx="10098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大铜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>
            <a:off x="6372360" y="4010040"/>
            <a:ext cx="216036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设置关键（用来）拔动机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3794040"/>
            <a:ext cx="94464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通“旁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907640" y="1272960"/>
            <a:ext cx="518508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其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牙机巧制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皆隐在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尊中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覆盖周密无际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如有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地动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尊则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振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龙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机发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吐丸，而蟾蜍衔之。振声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激扬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伺者因此觉知。虽一龙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发机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而七首不动，寻其方面，乃知震之所在。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验之以事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合契若神。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35280" y="264960"/>
            <a:ext cx="33112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互相咬  合制作精巧的部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264960"/>
            <a:ext cx="23004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酒樽形的仪器里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1057320"/>
            <a:ext cx="1800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仪器盖子与樽形仪器相接处没有缝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/>
          <p:nvPr/>
        </p:nvSpPr>
        <p:spPr>
          <a:xfrm>
            <a:off x="252360" y="2281320"/>
            <a:ext cx="758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地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1116000" y="2281320"/>
            <a:ext cx="74124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振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7093080" y="2209680"/>
            <a:ext cx="129384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机件拨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>
            <a:off x="7093080" y="2857680"/>
            <a:ext cx="12571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声音响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3505320"/>
            <a:ext cx="15588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拨动了机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/>
          <p:nvPr/>
        </p:nvSpPr>
        <p:spPr>
          <a:xfrm>
            <a:off x="971640" y="4971960"/>
            <a:ext cx="369396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以事验之：验，检验，验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197080" y="1345680"/>
            <a:ext cx="5472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自书典所记，未之有也。尝一龙机发而地不觉动，京师学者咸怪其无征。后数日驿至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果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地震陇西，于是皆服其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妙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自此以后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乃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令史官记地动所从方起。 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16000" y="2786040"/>
            <a:ext cx="8110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果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/>
          <p:nvPr/>
        </p:nvSpPr>
        <p:spPr>
          <a:xfrm>
            <a:off x="684360" y="3433680"/>
            <a:ext cx="15840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巧妙，神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/>
          <p:nvPr/>
        </p:nvSpPr>
        <p:spPr>
          <a:xfrm>
            <a:off x="8242200" y="4691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195640" y="912600"/>
            <a:ext cx="424944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时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政事渐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损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权移于下，衡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上疏陈事。后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迁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侍中，帝引在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帷幄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讽议左右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尝问天下所疾恶者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宦官惧其毁己，皆共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目之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衡乃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诡对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而出。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68400" y="378000"/>
            <a:ext cx="7606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当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/>
          <p:nvPr/>
        </p:nvSpPr>
        <p:spPr>
          <a:xfrm>
            <a:off x="4211640" y="336600"/>
            <a:ext cx="7542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腐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/>
          <p:nvPr/>
        </p:nvSpPr>
        <p:spPr>
          <a:xfrm>
            <a:off x="6445080" y="1488960"/>
            <a:ext cx="7686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于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/>
          <p:nvPr/>
        </p:nvSpPr>
        <p:spPr>
          <a:xfrm>
            <a:off x="1116000" y="1920960"/>
            <a:ext cx="8650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升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/>
          <p:nvPr/>
        </p:nvSpPr>
        <p:spPr>
          <a:xfrm>
            <a:off x="7093080" y="2103480"/>
            <a:ext cx="10411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指帝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2641680"/>
            <a:ext cx="187164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讽谏议论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婉转地发表议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3649680"/>
            <a:ext cx="7416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身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/>
          <p:nvPr/>
        </p:nvSpPr>
        <p:spPr>
          <a:xfrm>
            <a:off x="6661080" y="2857680"/>
            <a:ext cx="21589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尝，曾经。疾，憎恨；恶，指坏人坏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/>
          <p:nvPr/>
        </p:nvSpPr>
        <p:spPr>
          <a:xfrm>
            <a:off x="612720" y="4513320"/>
            <a:ext cx="1800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给他递眼色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名词用作动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/>
          <p:nvPr/>
        </p:nvSpPr>
        <p:spPr>
          <a:xfrm>
            <a:off x="3635280" y="4586400"/>
            <a:ext cx="196236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不用实话对答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96720" y="1346040"/>
            <a:ext cx="38163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阉竖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恐终为其患，遂共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谗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之。衡常思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图身之事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以为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吉凶倚仗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幽微难明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乃作《思玄赋》以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宣寄情志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60400" y="485640"/>
            <a:ext cx="183996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对宦官的蔑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/>
          <p:nvPr/>
        </p:nvSpPr>
        <p:spPr>
          <a:xfrm>
            <a:off x="1403280" y="1849320"/>
            <a:ext cx="7765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毁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/>
          <p:nvPr/>
        </p:nvSpPr>
        <p:spPr>
          <a:xfrm>
            <a:off x="179280" y="2425680"/>
            <a:ext cx="230364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图谋自身安全的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/>
          <p:nvPr/>
        </p:nvSpPr>
        <p:spPr>
          <a:xfrm>
            <a:off x="6588000" y="2425680"/>
            <a:ext cx="13129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祸福相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/>
          <p:nvPr/>
        </p:nvSpPr>
        <p:spPr>
          <a:xfrm>
            <a:off x="6300720" y="3002040"/>
            <a:ext cx="259236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幽深微妙，难以看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/>
          <p:nvPr/>
        </p:nvSpPr>
        <p:spPr>
          <a:xfrm>
            <a:off x="2413080" y="4586400"/>
            <a:ext cx="29160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表达和寄托自己的情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26920" y="625320"/>
            <a:ext cx="4896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永和初，出为河间相。时国王骄奢，不遵典宪；又多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豪右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共为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不轨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衡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下车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治威严，整法度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阴知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奸党名姓，一时收禽，上下肃然，称为政理。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视事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三年，上书乞骸骨，征拜尚书。年六十二，永和四年卒。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08720" y="409680"/>
            <a:ext cx="1307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豪族大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/>
          <p:nvPr/>
        </p:nvSpPr>
        <p:spPr>
          <a:xfrm>
            <a:off x="5435640" y="1130400"/>
            <a:ext cx="187308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指行动越出常轨的事，即违反法纪的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/>
          <p:nvPr/>
        </p:nvSpPr>
        <p:spPr>
          <a:xfrm>
            <a:off x="5580000" y="2281320"/>
            <a:ext cx="13510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暗中察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3289320"/>
            <a:ext cx="208944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指官员到职工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《张衡传》文言知识点总结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56000" y="1346040"/>
            <a:ext cx="3682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通假字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古今异义词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词类活用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句式积累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一词多义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文学常识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76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通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76360" y="1294920"/>
            <a:ext cx="597528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精铜铸成，员径八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员：通“圆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形似酒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尊：通“樽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傍行八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傍：通“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176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通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76360" y="1368360"/>
            <a:ext cx="613080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有地动，尊则振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尊：通“樽”；振：通“震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时收禽，上下肃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禽：通“擒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64960"/>
            <a:ext cx="3756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作者简介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81080" y="1275840"/>
            <a:ext cx="87120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范晔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98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4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，我国南朝宋代史学家、文学家。字蔚宗，顺阳（今河南省淅川）人。他少年勤奋好学，阅读大量经书史籍，善写文章，通晓音律，历任秘书丞、太守、尚书吏部郎等职。元嘉初年，彭城太妃卒，范晔夜中酣饮，开北窗听挽歌为乐，被贬为宣城太守。因不得志，便专心著述。他搜集有关后汉的各种史料，以《东观汉记》为基础，博采众家之说，编写历史名著《后汉书》。他擅长写论赞，《后汉书》的一些传论，被誉为名篇。  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76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古今异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47640" y="1417320"/>
            <a:ext cx="554544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好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交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俗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古义：结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今义：移交、接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举孝廉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不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古义：不去应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今义：不可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936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古今异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32000" y="1130040"/>
            <a:ext cx="6215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华文中宋"/>
              </a:rPr>
              <a:t>公车特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拜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华文中宋"/>
              </a:rPr>
              <a:t>郎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公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古义：官署名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今义：公家的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古义：特地征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今义：作为事物特点的征象、标志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郎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古义：官职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今义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医生别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1936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古今异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280" y="1272960"/>
            <a:ext cx="820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覆盖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周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无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古义：四周严密。今义：周到细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寻其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楷体_GB2312"/>
              </a:rPr>
              <a:t>古义：方向。今义：事物的几点之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衡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下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古义：官吏初到任。今义：下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词类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44360" y="1490760"/>
            <a:ext cx="6769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大将军邓骘奇其才，累召不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奇：形容词的意动用法，以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……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为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词类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02920" y="840960"/>
            <a:ext cx="65041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时天下承平日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时：名词作状语，当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皆共目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目：名词作动词，使眼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词类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18920" y="1417320"/>
            <a:ext cx="591516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举孝廉不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被动句，被举为孝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连辟公府不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被动句，被征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句式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49200" y="1201320"/>
            <a:ext cx="6707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游于三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状语后置句，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于三辅游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虽才高于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状语后置句，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于世才高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验之以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状语后置句，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以事验之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句式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03280" y="1201680"/>
            <a:ext cx="64324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太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省略句：观（于）太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果地震陇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省略句：果地震（于）陇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未之有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宾语前置句，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未有之也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词多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4720" y="1128600"/>
            <a:ext cx="65152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游于三辅，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入京师，观太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京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以讽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伺者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此觉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宾客至蔺相如门谢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相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持璧却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6804000" y="17845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于是，接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292800" y="24969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用，依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886200" y="311148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4098960" y="3152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因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5867280" y="380196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经由，通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9080" y="4449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于是，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词多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15640" y="1240920"/>
            <a:ext cx="68626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衡乃拟班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两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京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十年乃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遂乃研核阴阳，妙尽璇机之正，作浑天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2771640" y="24969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连词，于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067280" y="31464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副词，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716360" y="43704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副词，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8280" y="228600"/>
            <a:ext cx="2746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前四史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42880" y="1563480"/>
            <a:ext cx="82072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《史记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西汉，司马迁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纪传体，通史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上起黄帝，下迄汉武帝如《廉颇蔺相如列传》、《鸿门宴》、信陵君窃符救赵》、《屈原列传》。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《汉书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东汉，班固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纪传体，断代史。上起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汉高祖元年，下迄王莽地皇四年。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《后汉书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南朝 宋，范晔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纪传体，断代史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上起汉光武帝，下迄汉献帝，如《张衡传》。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《三国志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西晋，陈寿。纪传体，断代史。上起黄巾起义，下迄晋灭吴统一全国。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词多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75920" y="958320"/>
            <a:ext cx="625644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公车特征拜郎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京师学者咸怪其无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挟天子以征四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愿为市鞍马，从此替爷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岁征民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旁征博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562720" y="1714680"/>
            <a:ext cx="2514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6111720" y="1417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征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140520" y="2104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应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796000" y="27129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争取，夺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6661080" y="32893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出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4429080" y="40100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赋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429080" y="46576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搜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词多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71280" y="840960"/>
            <a:ext cx="58561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观太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大王见臣列观，礼节甚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此则岳阳楼之大观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启窗而观，雕栏相望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225960" y="148896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学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692360" y="278604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宫廷中高大华丽的楼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5910120" y="343368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景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6343560" y="4083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学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696960"/>
            <a:ext cx="868680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孝廉不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连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府不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车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征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郎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永和初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河间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太史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为太史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居之官辄积年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3060720" y="768240"/>
            <a:ext cx="57592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汉代由地方官（太守）向朝廷举荐品行端正的人，任以官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3505320" y="134604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官府征召有才能的人做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3886200" y="2222640"/>
            <a:ext cx="525780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征，征召，特指君召臣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拜，封官，任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4572000" y="3071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离开，指从京都赴外任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3708360" y="3719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指官职调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4038480" y="42958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指官职调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800600" y="48006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指官职调动升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92000" y="193680"/>
            <a:ext cx="5761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学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4000" y="1345680"/>
            <a:ext cx="815976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游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视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乞骸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遂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经</a:t>
            </a: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六艺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2771640" y="134604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汉代都城长安附近三个行政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2700360" y="192096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指官员到职工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3060720" y="24969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大臣辞职，意即使骸骨归葬乡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24000" y="3721680"/>
            <a:ext cx="88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五经：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楷体_GB2312"/>
              </a:rPr>
              <a:t>诗、书、礼、易、春秋五部经书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六艺：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楷体_GB2312"/>
              </a:rPr>
              <a:t>礼、乐、射、御、书、数六种学问和技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41904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Calibri"/>
                <a:ea typeface="方正隶二简体"/>
              </a:rPr>
              <a:t>历史传记的特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2536560"/>
            <a:ext cx="820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传记，记述一个人的生平事迹，除了介绍人物姓名、籍贯之外，还必须选择人物一生中最具有特征的事件，叙述他的为人以及对社会的影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由于传记不同于史料，所以人物必须“活跃”，有可感性。传记的基本特点是：翔实而典型的文字记录和朴实而形象的文学色彩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8280" y="228600"/>
            <a:ext cx="30337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张衡简介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273320"/>
            <a:ext cx="81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张衡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(78-139)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，字平子，南阳西鄂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(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今河南南阳县石桥镇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)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人。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张衡，作为一个伟大的学者，在中国历史上是罕见的；作为一个伟大的科学家，在世界历史上也是突出的。他在政治、文学与自然学诸方面都有重大的贡献，在书法、绘画上也有成就。他尤其注重实验科学的研究和发明创造，其发明的地动仪比欧洲早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1700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多年。他的这一伟大成就，至今为世界所公认。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66560" y="193680"/>
            <a:ext cx="4248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张衡字平子，南阳西鄂人也。衡少善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楷体_GB2312"/>
              </a:rPr>
              <a:t>属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文，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楷体_GB2312"/>
              </a:rPr>
              <a:t>游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于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楷体_GB2312"/>
              </a:rPr>
              <a:t>三辅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，因入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楷体_GB2312"/>
              </a:rPr>
              <a:t>京师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，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楷体_GB2312"/>
              </a:rPr>
              <a:t>观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太学，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楷体_GB2312"/>
              </a:rPr>
              <a:t>遂通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楷体_GB2312"/>
              </a:rPr>
              <a:t>五经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，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楷体_GB2312"/>
              </a:rPr>
              <a:t>贯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楷体_GB2312"/>
              </a:rPr>
              <a:t>六艺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。虽才高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楷体_GB2312"/>
              </a:rPr>
              <a:t>于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世，而无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楷体_GB2312"/>
              </a:rPr>
              <a:t>骄尚之情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。常从容淡静，不好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楷体_GB2312"/>
              </a:rPr>
              <a:t>交接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俗人。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20600"/>
            <a:ext cx="295128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连缀。属文，写文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34920" y="770040"/>
            <a:ext cx="234000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游学</a:t>
            </a: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考察学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6877080" y="336600"/>
            <a:ext cx="201600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长安附近的三个地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488960"/>
            <a:ext cx="215748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东汉首都洛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6732720" y="1488960"/>
            <a:ext cx="89352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1979640" y="2712960"/>
            <a:ext cx="504720" cy="825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通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6661080" y="2136600"/>
            <a:ext cx="89388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贯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209680"/>
            <a:ext cx="1870200" cy="825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《诗》《书》《礼》《易》《春秋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7308720" y="2786040"/>
            <a:ext cx="1657440" cy="825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礼 乐 射 御 书 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3720960"/>
            <a:ext cx="57168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6156360" y="4297320"/>
            <a:ext cx="237636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尚：矜夸自大</a:t>
            </a: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.</a:t>
            </a: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骄傲自大的情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4441680"/>
            <a:ext cx="92700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结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907640" y="480960"/>
            <a:ext cx="4753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永元中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举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孝廉不行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连辟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公府不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就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时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天下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承平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日久，自王侯以下，莫不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逾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衡乃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拟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班固《两都》作《二京赋》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以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讽谏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精思傅会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十年乃成。大将军邓骘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奇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其才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累召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不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应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6560" y="193680"/>
            <a:ext cx="93528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屡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1057320"/>
            <a:ext cx="152388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不去就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1849320"/>
            <a:ext cx="83988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当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7093080" y="2425680"/>
            <a:ext cx="89532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太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912960"/>
            <a:ext cx="95724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召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633680"/>
            <a:ext cx="157032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过度奢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6661080" y="3218040"/>
            <a:ext cx="159552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于是，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7812000" y="4010040"/>
            <a:ext cx="82224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模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2425680"/>
            <a:ext cx="166032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介词</a:t>
            </a: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,</a:t>
            </a: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通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4226040"/>
            <a:ext cx="509904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用委婉的语言进行规劝而不直言其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5724360" y="4081320"/>
            <a:ext cx="148608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精心创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946760"/>
            <a:ext cx="511344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奇，认为……奇，形容词的意动用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5796000" y="4730760"/>
            <a:ext cx="152568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多次召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7667640" y="4730760"/>
            <a:ext cx="86040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alibri"/>
              </a:rPr>
              <a:t>接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907640" y="841320"/>
            <a:ext cx="475308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衡善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机巧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尤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致思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于天文、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阴阳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、历算。安帝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雅闻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衡善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术学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公车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特征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拜郎中，再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迁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为太史令。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遂乃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研核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阴阳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妙尽璇玑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之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正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作浑天仪，著《灵宪》、《算罔论》，言甚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</a:rPr>
              <a:t>详明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9640" y="193680"/>
            <a:ext cx="45594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巧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技巧、技艺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设计制造机械的技艺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6661080" y="336600"/>
            <a:ext cx="24480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极力钻研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致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极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625320"/>
            <a:ext cx="17287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日月运行规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4513320"/>
            <a:ext cx="23716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推算年月日和节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1488960"/>
            <a:ext cx="1800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常听说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雅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副词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素来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常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34920" y="2352600"/>
            <a:ext cx="216072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术数方面的学问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指天文、历算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6804000" y="912960"/>
            <a:ext cx="18734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汉代官署名称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设公车令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1778040"/>
            <a:ext cx="187308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对有特出才德的人指名征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4226040"/>
            <a:ext cx="18478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任命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授给官职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6948360" y="2641680"/>
            <a:ext cx="12240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调动官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5580000" y="4657680"/>
            <a:ext cx="337968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东汉时掌管天文、历数的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146400"/>
            <a:ext cx="79200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于是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1260360" y="3146400"/>
            <a:ext cx="71928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研究考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3146400"/>
            <a:ext cx="2232000" cy="1008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哲学名词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指两种对立的事物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如日月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寒暑等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这里指天象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历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4513320"/>
            <a:ext cx="20862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精妙地研究透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34920" y="4657680"/>
            <a:ext cx="21780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玉饰的测天仪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4946760"/>
            <a:ext cx="12222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正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道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5508720" y="4657680"/>
            <a:ext cx="119844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详悉明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为何张衡有如此的文学才华？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61920" y="1346040"/>
            <a:ext cx="2818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善属文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游于三辅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入京师，观太学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遂通五经，贯六艺</a:t>
            </a: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401004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精思傅会，十年乃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尤致思于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研核  阴阳，妙尽……言甚详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900000" y="2570040"/>
            <a:ext cx="3816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虽才高于世，而无骄尚之情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常从容淡静，不好交接俗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新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新宋体"/>
                <a:ea typeface="新宋体"/>
              </a:rPr>
              <a:t>举孝廉不行，连辟公府不就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788000" y="1704960"/>
            <a:ext cx="236052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天资聪明，勤奋好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5292720" y="3146400"/>
            <a:ext cx="236052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谦逊持重，鄙视名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4297320"/>
            <a:ext cx="236052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执着专一，治学严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2:13:24Z</dcterms:created>
  <dc:creator/>
  <dc:description/>
  <dc:language>en-US</dc:language>
  <cp:lastModifiedBy>USER</cp:lastModifiedBy>
  <cp:lastPrinted>1899-12-30T00:00:00Z</cp:lastPrinted>
  <dcterms:modified xsi:type="dcterms:W3CDTF">2012-12-03T08:49:07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