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675-CAE8-4D98-8397-25FC4312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0A1-5342-4060-9F0D-A801EB2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6C4-E71B-41E4-97A9-34A7301F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8FD-E95B-43EA-ABD9-23AA4841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429-0707-4BEE-90C6-B4B4DA6A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71F-059F-4BB7-8962-D0058CE2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4CB9-0FDE-4089-8482-10E0503B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794C-BF55-495B-9B35-8303635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D30-3E0B-460A-A38D-BCA9605A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463-AE0E-4508-9330-3D15AE5C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47A6-EB98-440C-8E52-4E48584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7AB-739D-4945-B611-B3A9243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7E6D-0E69-4AF3-91A4-DFC3D7A6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2D9-67A7-43F5-B922-C0D1D3D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58B2-A726-4C41-B39C-E480A3E5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50BE-C3C6-4D11-938A-533E2DDF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516-B770-40C7-B136-B1807FF4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45C-CA75-41B8-898E-BFBC9EE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257-DA0F-4320-AB4C-CB69930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621-E9CE-42FD-9259-39E9A89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304-494F-4D1F-990D-7D0E9D5F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D1E-B9BE-49F4-B6A6-2C03405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DEA-71A3-4CA2-8629-84B3317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973-1B54-4CFD-B7CA-F1C8622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EAA2-4796-4471-9F3B-8356B45847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1E4-14D6-4F1D-A80D-3AC5DE2E60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627280" y="1773360"/>
            <a:ext cx="453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张衡传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788000" y="4797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范晔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1619280" y="800280"/>
            <a:ext cx="304920" cy="4800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a1bd69"/>
          </a:solidFill>
          <a:ln cap="sq" w="5724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124000" y="144792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050920" y="342900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-——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050920" y="527688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048120" y="53352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a1bd69"/>
          </a:solidFill>
          <a:ln cap="sq"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352680" y="304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少善属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352680" y="838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五经，贯六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35268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二京赋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352680" y="1905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骄尚之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352680" y="2438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容淡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342900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a1bd69"/>
          </a:solidFill>
          <a:ln cap="sq"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352680" y="318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机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200400" y="37148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灵宪》 《算罔论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3352680" y="42670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浑天仪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352680" y="4800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候风地动仪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352680" y="5410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威严、整法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5867280" y="60948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5866920" y="1219320"/>
            <a:ext cx="1295640" cy="4572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086600" y="838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文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943600" y="1143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6248520" y="3505320"/>
            <a:ext cx="838080" cy="6858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6400800" y="4038480"/>
            <a:ext cx="685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6400800" y="4343040"/>
            <a:ext cx="685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V="1">
            <a:off x="6248520" y="4419360"/>
            <a:ext cx="838080" cy="6858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7086600" y="4038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科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6095880" y="5715000"/>
            <a:ext cx="990720" cy="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7086600" y="5410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政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257800" y="220968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5257800" y="2514240"/>
            <a:ext cx="1828800" cy="228600"/>
          </a:xfrm>
          <a:prstGeom prst="line">
            <a:avLst/>
          </a:prstGeom>
          <a:ln cap="sq"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086600" y="2133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情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708449"/>
              </a:gs>
            </a:gsLst>
            <a:lin ang="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1119600" y="2852640"/>
            <a:ext cx="667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张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403280" y="333360"/>
            <a:ext cx="4137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孝廉不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府不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公车特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征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郎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永和初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河间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太史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为太史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所居之官辄积年不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下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伊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708449"/>
              </a:gs>
            </a:gsLst>
            <a:lin ang="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195640" y="69228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汉代由地方官（太守）向朝廷举荐品行端正的人，任以官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8195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官府征召有才能的人做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819520" y="2565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征，征召，特指君召臣；拜，封官，任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819520" y="3259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召见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819520" y="39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离开，指从京都赴外任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16360" y="4292640"/>
            <a:ext cx="29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官职调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105520" y="472428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官职调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318280" y="5132520"/>
            <a:ext cx="29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官职调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官吏初到任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5148360" y="5805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981080" y="838080"/>
            <a:ext cx="37432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游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视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上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乞骸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遂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五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六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骄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708449"/>
              </a:gs>
            </a:gsLst>
            <a:lin ang="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763640" y="3645000"/>
            <a:ext cx="76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经，《诗》《书》《礼》《易》《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秋》五部经书；六艺，“礼”、“乐”、“射”、“御”、“书”、“数”六种学问和技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124080" y="1219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汉代都城长安附近三个行政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916360" y="2060640"/>
            <a:ext cx="90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官员到职工作，即治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124080" y="2895480"/>
            <a:ext cx="56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臣辞职，意即使骸骨归葬乡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340000" y="5229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受封的土地，此指汉代所封的同姓王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58920" y="620640"/>
            <a:ext cx="78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官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孝廉：被举荐的品行端正的人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公府：官署。指三公的官署。东汉以太尉（掌管军事）、司徒（掌管政事）、司空（掌管工程）为三公，是当时最高的官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大将军：位比三公。邓骘位在三公之上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公车：官署，总领天下征召事务。设公车令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郎中：官名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太史令：兼管天文和国史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河间王（刘政）的相，类似太守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国王：指河间王。国，诸侯国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尚书：协助皇帝处理政务的官员。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708449"/>
              </a:gs>
            </a:gsLst>
            <a:lin ang="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661200" y="914400"/>
            <a:ext cx="1230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衡不慕当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自书典所记，未之有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虽才高于世，而无骄尚之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行道之人弗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夫仁义智辩非所以持国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赵王畏秦，欲毋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愿将军勿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愿早定大计，莫用众人之议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743200" y="10666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4572000" y="17524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876920" y="24382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809880" y="304812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4191120" y="365760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4572000" y="434340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505320" y="495288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572000" y="5562720"/>
            <a:ext cx="457200" cy="45720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80880" y="1066680"/>
            <a:ext cx="609840" cy="4267440"/>
          </a:xfrm>
          <a:prstGeom prst="rect">
            <a:avLst/>
          </a:prstGeom>
          <a:gradFill rotWithShape="0">
            <a:gsLst>
              <a:gs pos="0">
                <a:srgbClr val="a1bd69"/>
              </a:gs>
              <a:gs pos="100000">
                <a:srgbClr val="708449"/>
              </a:gs>
            </a:gsLst>
            <a:lin ang="0"/>
          </a:gradFill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343400" y="10666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172200" y="175248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，不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858000" y="23623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4932000" y="304812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477120" y="3657600"/>
            <a:ext cx="19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410080" y="43434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343400" y="495288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别，不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124080" y="6172200"/>
            <a:ext cx="36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副词，不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16000" y="620640"/>
            <a:ext cx="3816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假字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径八尺 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形似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时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行八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364000" y="1268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圆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364000" y="1916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樽”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35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擒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364000" y="3357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旁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11280" y="4365720"/>
            <a:ext cx="59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古今异义词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寻其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方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衡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下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     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常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从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淡静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095640" y="486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”  ，现指相近的几个人物事情之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19640" y="53737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到任” ，现为从车上下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419640" y="59500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义：言语举止适度得体。今义：做事不慌不忙，沉着镇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611280" y="907920"/>
            <a:ext cx="540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公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拜郎中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举孝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行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覆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际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上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肃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716360" y="907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义：特地征召。今义：事物的特点、征象、标志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500720" y="23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义：不去 （ 应荐 ） 。今义：不可以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356000" y="378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义：四周严密。今义：周到细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708360" y="522936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义：整肃，老实收敛的样子。今义：十分恭敬的样子，如：肃然起敬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755640" y="620640"/>
            <a:ext cx="4248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词类活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将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才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言句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未之有也    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孝廉不行，连辟公府不就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地震陇西   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议（于）左右  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视事三年         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431600" y="1052640"/>
            <a:ext cx="155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意动用法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995640" y="213372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宾语前置）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076720" y="306864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被动句）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140360" y="400536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状语后置）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995640" y="4797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状语后置、省略句）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995640" y="579132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省略主语）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张衡"/>
          <p:cNvPicPr/>
          <p:nvPr/>
        </p:nvPicPr>
        <p:blipFill>
          <a:blip r:embed="rId1"/>
          <a:stretch/>
        </p:blipFill>
        <p:spPr>
          <a:xfrm>
            <a:off x="6227640" y="765000"/>
            <a:ext cx="2363760" cy="3168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187280" y="185004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张衡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(78-139)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，字平子，南阳西鄂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今河南南阳县石桥镇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人。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东汉时期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伟大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文学家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，为我国天文学的发展作出了不可磨灭的贡献；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数学、地理、绘画和文学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等方面，也表现出非凡的才能和广博的学识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张衡"/>
          <p:cNvPicPr/>
          <p:nvPr/>
        </p:nvPicPr>
        <p:blipFill>
          <a:blip r:embed="rId1"/>
          <a:stretch/>
        </p:blipFill>
        <p:spPr>
          <a:xfrm>
            <a:off x="6227640" y="765000"/>
            <a:ext cx="2363760" cy="3168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187280" y="29473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张衡是东汉中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浑天说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的代表人物之一；他指出月球本身并不发光，月光其实是日光的反射；他还正确地解释了月食的成因，并且认识到宇宙的无限性和行星运动的快慢与距离地球远近的关系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116000" y="184968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张衡观测记录了两千五百颗恒星，创制了世界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架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能比较准确地表演天象的漏水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浑天仪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架测试地震的仪器——候风地动仪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，还制造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南车、自动记时鼓车、飞行数里的木鸟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等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huteni1"/>
          <p:cNvPicPr/>
          <p:nvPr/>
        </p:nvPicPr>
        <p:blipFill>
          <a:blip r:embed="rId1"/>
          <a:stretch/>
        </p:blipFill>
        <p:spPr>
          <a:xfrm>
            <a:off x="6012000" y="620640"/>
            <a:ext cx="2682720" cy="2874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yellow"/>
          <p:cNvPicPr/>
          <p:nvPr/>
        </p:nvPicPr>
        <p:blipFill>
          <a:blip r:embed="rId2"/>
          <a:stretch/>
        </p:blipFill>
        <p:spPr>
          <a:xfrm>
            <a:off x="6012000" y="3716280"/>
            <a:ext cx="266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张衡"/>
          <p:cNvPicPr/>
          <p:nvPr/>
        </p:nvPicPr>
        <p:blipFill>
          <a:blip r:embed="rId1"/>
          <a:stretch/>
        </p:blipFill>
        <p:spPr>
          <a:xfrm>
            <a:off x="6227640" y="765000"/>
            <a:ext cx="2363760" cy="3168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116000" y="25423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张衡共著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科学、哲学、和文学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著作三十二篇，其中天文著作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《灵宪》和《算罔论》</a:t>
            </a: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等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张衡"/>
          <p:cNvPicPr/>
          <p:nvPr/>
        </p:nvPicPr>
        <p:blipFill>
          <a:blip r:embed="rId1"/>
          <a:stretch/>
        </p:blipFill>
        <p:spPr>
          <a:xfrm>
            <a:off x="6156360" y="1628640"/>
            <a:ext cx="259236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332000" y="259452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为了纪念张衡的功绩，人们将月球背面的一环形山命名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张衡环形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”，将小行星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180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命名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张衡小行星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”。 </a:t>
            </a: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世纪中国著名文学家、历史学家郭沫若对张衡的评价是：“如此全面发展之人物，在世界史中亦所罕见，万祀千龄，令人景仰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76201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作者及作品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632760673217"/>
          <p:cNvPicPr/>
          <p:nvPr/>
        </p:nvPicPr>
        <p:blipFill>
          <a:blip r:embed="rId1"/>
          <a:stretch/>
        </p:blipFill>
        <p:spPr>
          <a:xfrm>
            <a:off x="250920" y="54936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2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635280" y="59500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衡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90720" y="17524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汉书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90720" y="2940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后汉书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90720" y="4114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三国志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362320" y="1752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汉，班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666880" y="29401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南朝刘宋，范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666880" y="4114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西晋，陈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788000" y="260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bbd83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0" lang="zh-CN" sz="2800" spc="-1" strike="noStrike">
                <a:solidFill>
                  <a:srgbClr val="cbbd83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通史</a:t>
            </a:r>
            <a:r>
              <a:rPr b="0" lang="zh-CN" sz="2800" spc="-1" strike="noStrike">
                <a:solidFill>
                  <a:srgbClr val="cbbd83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起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1752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纪传体，断代史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562720" y="2940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bbd83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纪传体</a:t>
            </a:r>
            <a:r>
              <a:rPr b="0" lang="zh-CN" sz="2800" spc="-1" strike="noStrike">
                <a:solidFill>
                  <a:srgbClr val="cbbd83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断代史</a:t>
            </a:r>
            <a:r>
              <a:rPr b="0" lang="zh-CN" sz="2800" spc="-1" strike="noStrike">
                <a:solidFill>
                  <a:srgbClr val="cbbd83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800600" y="41148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纪传体，断代史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819520" y="685800"/>
            <a:ext cx="68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《廉颇蔺相如列传》、《鸿门宴》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572000" y="3429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《张衡传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39640" y="5911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起战国，下迄五代，如《赤壁之战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28600" y="685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帝，下迄汉武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250920" y="11253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信陵君窃符救赵》、《屈原列传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990720" y="22860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史记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209680" y="228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西汉，司马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66760" y="220968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汉高祖元年，下迄王莽地皇四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04920" y="3429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起汉光武帝，下迄汉献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04920" y="45720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巾起义，下迄晋灭吴统一全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990720" y="52578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资治通鉴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83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58720" cy="29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"/>
          <p:cNvPicPr/>
          <p:nvPr/>
        </p:nvPicPr>
        <p:blipFill>
          <a:blip r:embed="rId3"/>
          <a:stretch/>
        </p:blipFill>
        <p:spPr>
          <a:xfrm>
            <a:off x="533520" y="3054240"/>
            <a:ext cx="558720" cy="2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558720" cy="292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"/>
          <p:cNvPicPr/>
          <p:nvPr/>
        </p:nvPicPr>
        <p:blipFill>
          <a:blip r:embed="rId5"/>
          <a:stretch/>
        </p:blipFill>
        <p:spPr>
          <a:xfrm>
            <a:off x="533520" y="5410080"/>
            <a:ext cx="558720" cy="292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8"/>
          <p:cNvSpPr/>
          <p:nvPr/>
        </p:nvSpPr>
        <p:spPr>
          <a:xfrm>
            <a:off x="3348000" y="5229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宋，司马光主编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5229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编年体，通史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6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6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6:52:57Z</dcterms:created>
  <dc:creator/>
  <dc:description/>
  <cp:keywords/>
  <dc:language>en-US</dc:language>
  <cp:lastModifiedBy>hp</cp:lastModifiedBy>
  <cp:lastPrinted>1899-12-30T00:00:00Z</cp:lastPrinted>
  <dcterms:modified xsi:type="dcterms:W3CDTF">2015-12-23T04:07:32Z</dcterms:modified>
  <cp:revision>1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