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10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0B10-A96A-4CFE-8EA2-6F468F06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BE0F-4F81-4DD9-91BC-D19E31FE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EA20-E407-4823-BE63-FBEEE533C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7ED2-61D6-4F30-A3C1-3FE2CC3FB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5C32-C2A5-4A91-A42F-F8E448F0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F2B8-4E76-4FCD-B959-F55CD8FA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7BFD-1506-45F6-8CAA-C321A56D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35FC-BB09-478A-A091-0AFA4C00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637A-980D-42C6-BA61-A2EB52E8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C3FD-21FA-4A2F-B5AA-305FABE0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FFC3-931D-4FE6-934F-698161D4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FCF7-CF70-41D7-9000-3452662B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5F25-3C7D-447C-81EC-672BA71A29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" Target="slide22.xml"/><Relationship Id="rId5" Type="http://schemas.openxmlformats.org/officeDocument/2006/relationships/slide" Target="slide23.xml"/><Relationship Id="rId6" Type="http://schemas.openxmlformats.org/officeDocument/2006/relationships/slide" Target="slide24.xml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" Target="slide21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" Target="slide21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6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25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971640" y="907920"/>
            <a:ext cx="4895640" cy="5689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516720" y="198900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詹天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63640" y="620640"/>
            <a:ext cx="662328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课堂作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16000" y="21600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46"/>
          <p:cNvGrpSpPr/>
          <p:nvPr/>
        </p:nvGrpSpPr>
        <p:grpSpPr>
          <a:xfrm>
            <a:off x="1908000" y="1413000"/>
            <a:ext cx="863640" cy="1654200"/>
            <a:chOff x="1908000" y="1413000"/>
            <a:chExt cx="863640" cy="1654200"/>
          </a:xfrm>
        </p:grpSpPr>
        <p:sp>
          <p:nvSpPr>
            <p:cNvPr id="58" name="AutoShape 47"/>
            <p:cNvSpPr/>
            <p:nvPr/>
          </p:nvSpPr>
          <p:spPr>
            <a:xfrm>
              <a:off x="1908000" y="1413000"/>
              <a:ext cx="107640" cy="1583640"/>
            </a:xfrm>
            <a:custGeom>
              <a:avLst/>
              <a:gdLst>
                <a:gd name="textAreaLeft" fmla="*/ 68760 w 107640"/>
                <a:gd name="textAreaRight" fmla="*/ 108000 w 107640"/>
                <a:gd name="textAreaTop" fmla="*/ 41040 h 1583640"/>
                <a:gd name="textAreaBottom" fmla="*/ 1542600 h 158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48"/>
            <p:cNvSpPr/>
            <p:nvPr/>
          </p:nvSpPr>
          <p:spPr>
            <a:xfrm>
              <a:off x="2160360" y="146592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49"/>
            <p:cNvSpPr/>
            <p:nvPr/>
          </p:nvSpPr>
          <p:spPr>
            <a:xfrm>
              <a:off x="2160360" y="2485800"/>
              <a:ext cx="61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Text Box 50"/>
            <p:cNvSpPr/>
            <p:nvPr/>
          </p:nvSpPr>
          <p:spPr>
            <a:xfrm>
              <a:off x="2160360" y="2019600"/>
              <a:ext cx="35856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3276720" y="1341360"/>
            <a:ext cx="647640" cy="1699920"/>
            <a:chOff x="3276720" y="1341360"/>
            <a:chExt cx="647640" cy="1699920"/>
          </a:xfrm>
        </p:grpSpPr>
        <p:sp>
          <p:nvSpPr>
            <p:cNvPr id="63" name="AutoShape 12"/>
            <p:cNvSpPr/>
            <p:nvPr/>
          </p:nvSpPr>
          <p:spPr>
            <a:xfrm>
              <a:off x="3276720" y="1341360"/>
              <a:ext cx="80640" cy="1651320"/>
            </a:xfrm>
            <a:custGeom>
              <a:avLst/>
              <a:gdLst>
                <a:gd name="textAreaLeft" fmla="*/ 51480 w 80640"/>
                <a:gd name="textAreaRight" fmla="*/ 81000 w 80640"/>
                <a:gd name="textAreaTop" fmla="*/ 42840 h 1651320"/>
                <a:gd name="textAreaBottom" fmla="*/ 1608480 h 165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 Box 13"/>
            <p:cNvSpPr/>
            <p:nvPr/>
          </p:nvSpPr>
          <p:spPr>
            <a:xfrm>
              <a:off x="3465360" y="1396440"/>
              <a:ext cx="3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控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14"/>
            <p:cNvSpPr/>
            <p:nvPr/>
          </p:nvSpPr>
          <p:spPr>
            <a:xfrm>
              <a:off x="3465360" y="2459880"/>
              <a:ext cx="45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空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15"/>
            <p:cNvSpPr/>
            <p:nvPr/>
          </p:nvSpPr>
          <p:spPr>
            <a:xfrm>
              <a:off x="3465360" y="1972800"/>
              <a:ext cx="271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Group 41"/>
          <p:cNvGrpSpPr/>
          <p:nvPr/>
        </p:nvGrpSpPr>
        <p:grpSpPr>
          <a:xfrm>
            <a:off x="4932360" y="1341360"/>
            <a:ext cx="863640" cy="1753560"/>
            <a:chOff x="4932360" y="1341360"/>
            <a:chExt cx="863640" cy="1753560"/>
          </a:xfrm>
        </p:grpSpPr>
        <p:sp>
          <p:nvSpPr>
            <p:cNvPr id="68" name="AutoShape 42"/>
            <p:cNvSpPr/>
            <p:nvPr/>
          </p:nvSpPr>
          <p:spPr>
            <a:xfrm>
              <a:off x="4932360" y="1341360"/>
              <a:ext cx="107640" cy="1729080"/>
            </a:xfrm>
            <a:custGeom>
              <a:avLst/>
              <a:gdLst>
                <a:gd name="textAreaLeft" fmla="*/ 68760 w 107640"/>
                <a:gd name="textAreaRight" fmla="*/ 108000 w 107640"/>
                <a:gd name="textAreaTop" fmla="*/ 45000 h 1729080"/>
                <a:gd name="textAreaBottom" fmla="*/ 1684080 h 172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43"/>
            <p:cNvSpPr/>
            <p:nvPr/>
          </p:nvSpPr>
          <p:spPr>
            <a:xfrm>
              <a:off x="5184720" y="139932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竣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44"/>
            <p:cNvSpPr/>
            <p:nvPr/>
          </p:nvSpPr>
          <p:spPr>
            <a:xfrm>
              <a:off x="5184720" y="2513520"/>
              <a:ext cx="61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45"/>
            <p:cNvSpPr/>
            <p:nvPr/>
          </p:nvSpPr>
          <p:spPr>
            <a:xfrm>
              <a:off x="5184720" y="2000880"/>
              <a:ext cx="35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俊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6"/>
          <p:cNvGrpSpPr/>
          <p:nvPr/>
        </p:nvGrpSpPr>
        <p:grpSpPr>
          <a:xfrm>
            <a:off x="6732720" y="1341360"/>
            <a:ext cx="1007640" cy="1752480"/>
            <a:chOff x="6732720" y="1341360"/>
            <a:chExt cx="1007640" cy="1752480"/>
          </a:xfrm>
        </p:grpSpPr>
        <p:sp>
          <p:nvSpPr>
            <p:cNvPr id="73" name="AutoShape 7"/>
            <p:cNvSpPr/>
            <p:nvPr/>
          </p:nvSpPr>
          <p:spPr>
            <a:xfrm>
              <a:off x="6732720" y="1341360"/>
              <a:ext cx="125640" cy="1727640"/>
            </a:xfrm>
            <a:custGeom>
              <a:avLst/>
              <a:gdLst>
                <a:gd name="textAreaLeft" fmla="*/ 80280 w 125640"/>
                <a:gd name="textAreaRight" fmla="*/ 126000 w 125640"/>
                <a:gd name="textAreaTop" fmla="*/ 45000 h 1727640"/>
                <a:gd name="textAreaBottom" fmla="*/ 1682640 h 172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8"/>
            <p:cNvSpPr/>
            <p:nvPr/>
          </p:nvSpPr>
          <p:spPr>
            <a:xfrm>
              <a:off x="7027920" y="139896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9"/>
            <p:cNvSpPr/>
            <p:nvPr/>
          </p:nvSpPr>
          <p:spPr>
            <a:xfrm>
              <a:off x="7027920" y="2512440"/>
              <a:ext cx="712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浇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10"/>
            <p:cNvSpPr/>
            <p:nvPr/>
          </p:nvSpPr>
          <p:spPr>
            <a:xfrm>
              <a:off x="7027920" y="2000520"/>
              <a:ext cx="41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绕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Group 31"/>
          <p:cNvGrpSpPr/>
          <p:nvPr/>
        </p:nvGrpSpPr>
        <p:grpSpPr>
          <a:xfrm>
            <a:off x="1835280" y="3645000"/>
            <a:ext cx="1150920" cy="1701360"/>
            <a:chOff x="1835280" y="3645000"/>
            <a:chExt cx="1150920" cy="1701360"/>
          </a:xfrm>
        </p:grpSpPr>
        <p:sp>
          <p:nvSpPr>
            <p:cNvPr id="78" name="AutoShape 32"/>
            <p:cNvSpPr/>
            <p:nvPr/>
          </p:nvSpPr>
          <p:spPr>
            <a:xfrm>
              <a:off x="1951200" y="3645000"/>
              <a:ext cx="100080" cy="1655640"/>
            </a:xfrm>
            <a:custGeom>
              <a:avLst/>
              <a:gdLst>
                <a:gd name="textAreaLeft" fmla="*/ 64080 w 100080"/>
                <a:gd name="textAreaRight" fmla="*/ 100440 w 100080"/>
                <a:gd name="textAreaTop" fmla="*/ 42840 h 1655640"/>
                <a:gd name="textAreaBottom" fmla="*/ 161280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33"/>
            <p:cNvSpPr/>
            <p:nvPr/>
          </p:nvSpPr>
          <p:spPr>
            <a:xfrm>
              <a:off x="1863720" y="3699000"/>
              <a:ext cx="1031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34"/>
            <p:cNvSpPr/>
            <p:nvPr/>
          </p:nvSpPr>
          <p:spPr>
            <a:xfrm>
              <a:off x="1951200" y="4764960"/>
              <a:ext cx="1035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浆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35"/>
            <p:cNvSpPr/>
            <p:nvPr/>
          </p:nvSpPr>
          <p:spPr>
            <a:xfrm>
              <a:off x="1835280" y="4277880"/>
              <a:ext cx="1035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Rectangle 3"/>
          <p:cNvSpPr/>
          <p:nvPr/>
        </p:nvSpPr>
        <p:spPr>
          <a:xfrm>
            <a:off x="431640" y="43164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647640" y="549360"/>
            <a:ext cx="8028000" cy="69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36"/>
          <p:cNvGrpSpPr/>
          <p:nvPr/>
        </p:nvGrpSpPr>
        <p:grpSpPr>
          <a:xfrm>
            <a:off x="3276720" y="3645000"/>
            <a:ext cx="1726920" cy="1693440"/>
            <a:chOff x="3276720" y="3645000"/>
            <a:chExt cx="1726920" cy="1693440"/>
          </a:xfrm>
        </p:grpSpPr>
        <p:sp>
          <p:nvSpPr>
            <p:cNvPr id="85" name="AutoShape 37"/>
            <p:cNvSpPr/>
            <p:nvPr/>
          </p:nvSpPr>
          <p:spPr>
            <a:xfrm>
              <a:off x="3276720" y="3645000"/>
              <a:ext cx="215640" cy="164412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42840 h 1644120"/>
                <a:gd name="textAreaBottom" fmla="*/ 1601280 h 164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8"/>
            <p:cNvSpPr/>
            <p:nvPr/>
          </p:nvSpPr>
          <p:spPr>
            <a:xfrm>
              <a:off x="3779640" y="3698640"/>
              <a:ext cx="8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岔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9"/>
            <p:cNvSpPr/>
            <p:nvPr/>
          </p:nvSpPr>
          <p:spPr>
            <a:xfrm>
              <a:off x="3779640" y="475704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芬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40"/>
            <p:cNvSpPr/>
            <p:nvPr/>
          </p:nvSpPr>
          <p:spPr>
            <a:xfrm>
              <a:off x="3779640" y="4272120"/>
              <a:ext cx="7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分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195640" y="836280"/>
            <a:ext cx="626256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习目标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了解杰出工程师詹天佑的事迹，激发热爱祖国、立志为祖国做贡献的精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体会关键句在表情达意方面的作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有感情地朗读课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诵感受深的部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979640" y="1341000"/>
            <a:ext cx="64785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自学指导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同学们大声朗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自然段，思考：①詹天佑是在怎样的情况下接受任务的？②为什么会引起国内外的轰动？五分钟后指名交流，看谁回答得正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979640" y="981000"/>
            <a:ext cx="647856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詹天佑是在帝国主义百般阻挠、要挟、嘲笑的情况下接受任务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修筑京张铁路的任务十分艰巨，再加上帝国主义的百般阻挠、要挟，这些都给当时的中国人以巨大的压力，而詹天佑敢于受命于危难之际，这一举动显示出中国人民不怕外来压力，有志气，有能力修好京张铁路的爱国热情让中国人扬眉吐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050920" y="1268280"/>
            <a:ext cx="6407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学指导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请同学们默读课文，思考：  詹天佑在修筑京张铁路的过程中 遇到了怎样的困难，他是怎样克 服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钟后指名交流，看谁回答正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6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763640" y="1052640"/>
          <a:ext cx="6694560" cy="5333760"/>
        </p:xfrm>
        <a:graphic>
          <a:graphicData uri="http://schemas.openxmlformats.org/drawingml/2006/table">
            <a:tbl>
              <a:tblPr/>
              <a:tblGrid>
                <a:gridCol w="1258920"/>
                <a:gridCol w="1724040"/>
                <a:gridCol w="3711600"/>
              </a:tblGrid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修筑过程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困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解决措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勘测线路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自然条件恶劣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白天攀山越岭勘测线路；晚上，在油灯下绘图计算；常常请教当地农民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开凿隧道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居庸关和八达岭两条隧道的工程最为艰巨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根据居庸关山势高、岩层厚的特点，采用两端同时向中间凿进的办法；根据八达岭隧道长一千一百多米的特点，采用中部凿井法，从山顶往下打一口竖井，在分别向两头开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设计“人”字形线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青龙桥坡度特别大，需解决火车爬坡问题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顺着山势设计了“人”字形线路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39880" y="981000"/>
            <a:ext cx="769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詹天佑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不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困难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也不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嘲笑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毅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受了任务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马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开始勘测线路。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哪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开山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哪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架桥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哪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把陡坡铲平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哪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把弯度改小，都要经过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勘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进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周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算。詹天佑经常勉励工作人员说：“我们的工作首先要精密，不能有一点儿马虎。‘大概’、‘差不多’，这类说法不应该出自工程人员之口。”他亲自带着学生和工人，扛着标杆，背着经纬仪，在峭壁上定点、测绘。塞外常常狂风怒号，黄沙满天，一不小心还有坠入深谷的危险。不管条件怎样恶劣，詹天佑始终坚持在野外工作。白天，他翻山越岭，勘测线路；晚上，他就在油灯下绘图，计算。为了寻找一条合适的线路，他常常请教当地的农民。遇到困难，他总是想：这是中国人修筑的第一条铁路，一定要把它修好；否则，不但惹外国人讥笑，还会使中国的工程师失掉信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365760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3" action="ppaction://hlinksldjump"/>
          </p:cNvPr>
          <p:cNvSpPr/>
          <p:nvPr/>
        </p:nvSpPr>
        <p:spPr>
          <a:xfrm>
            <a:off x="44956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4" action="ppaction://hlinksldjump"/>
          </p:cNvPr>
          <p:cNvSpPr/>
          <p:nvPr/>
        </p:nvSpPr>
        <p:spPr>
          <a:xfrm>
            <a:off x="5508720" y="64771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18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87280" y="234936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詹天佑经常勉励工作人员说：“我们的工作首先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精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不能有一点儿马虎。‘大概’、‘差不多’，这类说法不应该出自工程人员之口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75720" y="5562720"/>
            <a:ext cx="1268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03280" y="1052640"/>
            <a:ext cx="7004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亲自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带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生和工人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扛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标杆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背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纬仪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在峭壁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定点、测绘。塞外常常狂风怒号，黄沙满天，一不小心还有坠入深谷的危险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条件怎样恶劣，詹天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始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坚持在野外工作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白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他翻山越岭，勘测线路；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晚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他就在油灯下绘图，计算。为了寻找一条合适的线路，他常常请教当地的农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75720" y="5562720"/>
            <a:ext cx="1268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835280" y="1916280"/>
            <a:ext cx="631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遇到困难，他总是想：这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中国人自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修筑的第一条铁路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一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把它修好；否则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惹外国人讥笑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还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使中国的工程师失掉信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75720" y="5562720"/>
            <a:ext cx="1268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71640" y="907920"/>
            <a:ext cx="2220840" cy="2832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492360" y="620640"/>
            <a:ext cx="525636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詹天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出生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86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，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91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逝世，享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岁。广东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南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，居住在湖南省，他是中国首位铁路工程师，负责修建了京张铁路（北京——张家口）等铁路工程，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“中国铁路之父”、“中国近代工程之父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称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09680" y="53352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铁路要经过很多高山，就不得不开凿隧道，其中数居庸关隧道和八达岭两个隧道的工程最艰巨。居庸关山势高，岩层厚，詹天佑决定采用从两端同时向中间凿进的办法。山顶的泉水往下渗，隧道里满是泥浆。工地上没有抽水机，詹天佑就带头挑着水桶去排水。他常常跟工人们同吃同住，不离开工地。八达岭隧道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米，有居庸关隧道的三倍长。他跟老工人一起商量，决定采用竖井开凿法。先从山顶往下打一口竖井，再分别向两头开凿，两头也同时施工，把工期缩短了一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95640" y="54936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铁路要经过很多高山，就不得不开凿隧道，其中数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居庸关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隧道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八达岭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两个隧道的工程最艰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6477120"/>
            <a:ext cx="1828800" cy="380880"/>
          </a:xfrm>
          <a:custGeom>
            <a:avLst/>
            <a:gdLst>
              <a:gd name="textAreaLeft" fmla="*/ 24480 w 1828800"/>
              <a:gd name="textAreaRight" fmla="*/ 1804320 w 1828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102235" y="1400"/>
                </a:lnTo>
                <a:lnTo>
                  <a:pt x="1400" y="140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102235" y="20200"/>
                </a:lnTo>
                <a:lnTo>
                  <a:pt x="102235" y="140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235" y="2020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”字形线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80880" y="1695600"/>
            <a:ext cx="3124440" cy="4324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505320" y="3048120"/>
            <a:ext cx="5181480" cy="2590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23880" y="9907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居庸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八达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4" action="ppaction://hlinksldjump"/>
          </p:cNvPr>
          <p:cNvSpPr/>
          <p:nvPr/>
        </p:nvSpPr>
        <p:spPr>
          <a:xfrm>
            <a:off x="4038480" y="6400800"/>
            <a:ext cx="838440" cy="304920"/>
          </a:xfrm>
          <a:custGeom>
            <a:avLst/>
            <a:gdLst>
              <a:gd name="textAreaLeft" fmla="*/ 19440 w 838440"/>
              <a:gd name="textAreaRight" fmla="*/ 819000 w 8384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9349" h="21600">
                <a:moveTo>
                  <a:pt x="0" y="0"/>
                </a:moveTo>
                <a:lnTo>
                  <a:pt x="59349" y="0"/>
                </a:lnTo>
                <a:lnTo>
                  <a:pt x="59349" y="21600"/>
                </a:lnTo>
                <a:lnTo>
                  <a:pt x="0" y="21600"/>
                </a:lnTo>
                <a:close/>
              </a:path>
              <a:path fill="lightenLess" w="59349" h="21600">
                <a:moveTo>
                  <a:pt x="0" y="0"/>
                </a:moveTo>
                <a:lnTo>
                  <a:pt x="59349" y="0"/>
                </a:lnTo>
                <a:lnTo>
                  <a:pt x="57949" y="1400"/>
                </a:lnTo>
                <a:lnTo>
                  <a:pt x="1400" y="1400"/>
                </a:lnTo>
                <a:close/>
              </a:path>
              <a:path fill="darken" w="59349" h="21600">
                <a:moveTo>
                  <a:pt x="59349" y="0"/>
                </a:moveTo>
                <a:lnTo>
                  <a:pt x="59349" y="21600"/>
                </a:lnTo>
                <a:lnTo>
                  <a:pt x="57949" y="20200"/>
                </a:lnTo>
                <a:lnTo>
                  <a:pt x="57949" y="1400"/>
                </a:lnTo>
                <a:close/>
              </a:path>
              <a:path fill="darkenLess" w="59349" h="21600">
                <a:moveTo>
                  <a:pt x="59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49" y="20200"/>
                </a:lnTo>
                <a:close/>
              </a:path>
              <a:path fill="lighten" w="59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居庸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5" action="ppaction://hlinksldjump"/>
          </p:cNvPr>
          <p:cNvSpPr/>
          <p:nvPr/>
        </p:nvSpPr>
        <p:spPr>
          <a:xfrm>
            <a:off x="5181480" y="6400800"/>
            <a:ext cx="838440" cy="304920"/>
          </a:xfrm>
          <a:custGeom>
            <a:avLst/>
            <a:gdLst>
              <a:gd name="textAreaLeft" fmla="*/ 19440 w 838440"/>
              <a:gd name="textAreaRight" fmla="*/ 819000 w 8384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9349" h="21600">
                <a:moveTo>
                  <a:pt x="0" y="0"/>
                </a:moveTo>
                <a:lnTo>
                  <a:pt x="59349" y="0"/>
                </a:lnTo>
                <a:lnTo>
                  <a:pt x="59349" y="21600"/>
                </a:lnTo>
                <a:lnTo>
                  <a:pt x="0" y="21600"/>
                </a:lnTo>
                <a:close/>
              </a:path>
              <a:path fill="lightenLess" w="59349" h="21600">
                <a:moveTo>
                  <a:pt x="0" y="0"/>
                </a:moveTo>
                <a:lnTo>
                  <a:pt x="59349" y="0"/>
                </a:lnTo>
                <a:lnTo>
                  <a:pt x="57949" y="1400"/>
                </a:lnTo>
                <a:lnTo>
                  <a:pt x="1400" y="1400"/>
                </a:lnTo>
                <a:close/>
              </a:path>
              <a:path fill="darken" w="59349" h="21600">
                <a:moveTo>
                  <a:pt x="59349" y="0"/>
                </a:moveTo>
                <a:lnTo>
                  <a:pt x="59349" y="21600"/>
                </a:lnTo>
                <a:lnTo>
                  <a:pt x="57949" y="20200"/>
                </a:lnTo>
                <a:lnTo>
                  <a:pt x="57949" y="1400"/>
                </a:lnTo>
                <a:close/>
              </a:path>
              <a:path fill="darkenLess" w="59349" h="21600">
                <a:moveTo>
                  <a:pt x="59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49" y="20200"/>
                </a:lnTo>
                <a:close/>
              </a:path>
              <a:path fill="lighten" w="59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八达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6" action="ppaction://hlinksldjump"/>
          </p:cNvPr>
          <p:cNvSpPr/>
          <p:nvPr/>
        </p:nvSpPr>
        <p:spPr>
          <a:xfrm>
            <a:off x="6400800" y="6400800"/>
            <a:ext cx="838080" cy="304920"/>
          </a:xfrm>
          <a:custGeom>
            <a:avLst/>
            <a:gdLst>
              <a:gd name="textAreaLeft" fmla="*/ 19440 w 838080"/>
              <a:gd name="textAreaRight" fmla="*/ 818640 w 838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9324" h="21600">
                <a:moveTo>
                  <a:pt x="0" y="0"/>
                </a:moveTo>
                <a:lnTo>
                  <a:pt x="59324" y="0"/>
                </a:lnTo>
                <a:lnTo>
                  <a:pt x="59324" y="21600"/>
                </a:lnTo>
                <a:lnTo>
                  <a:pt x="0" y="21600"/>
                </a:lnTo>
                <a:close/>
              </a:path>
              <a:path fill="lightenLess" w="59324" h="21600">
                <a:moveTo>
                  <a:pt x="0" y="0"/>
                </a:moveTo>
                <a:lnTo>
                  <a:pt x="59324" y="0"/>
                </a:lnTo>
                <a:lnTo>
                  <a:pt x="57924" y="1400"/>
                </a:lnTo>
                <a:lnTo>
                  <a:pt x="1400" y="1400"/>
                </a:lnTo>
                <a:close/>
              </a:path>
              <a:path fill="darken" w="59324" h="21600">
                <a:moveTo>
                  <a:pt x="59324" y="0"/>
                </a:moveTo>
                <a:lnTo>
                  <a:pt x="59324" y="21600"/>
                </a:lnTo>
                <a:lnTo>
                  <a:pt x="57924" y="20200"/>
                </a:lnTo>
                <a:lnTo>
                  <a:pt x="57924" y="1400"/>
                </a:lnTo>
                <a:close/>
              </a:path>
              <a:path fill="darkenLess" w="59324" h="21600">
                <a:moveTo>
                  <a:pt x="59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24" y="20200"/>
                </a:lnTo>
                <a:close/>
              </a:path>
              <a:path fill="lighten" w="59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比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2971800" y="5334120"/>
            <a:ext cx="3351960" cy="485640"/>
            <a:chOff x="2971800" y="5334120"/>
            <a:chExt cx="3351960" cy="485640"/>
          </a:xfrm>
        </p:grpSpPr>
        <p:sp>
          <p:nvSpPr>
            <p:cNvPr id="117" name=""/>
            <p:cNvSpPr/>
            <p:nvPr/>
          </p:nvSpPr>
          <p:spPr>
            <a:xfrm>
              <a:off x="2971800" y="5334120"/>
              <a:ext cx="1507320" cy="485640"/>
            </a:xfrm>
            <a:prstGeom prst="rightArrow">
              <a:avLst>
                <a:gd name="adj1" fmla="val 50000"/>
                <a:gd name="adj2" fmla="val 77595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33360" y="5334120"/>
              <a:ext cx="1490400" cy="485640"/>
            </a:xfrm>
            <a:prstGeom prst="leftArrow">
              <a:avLst>
                <a:gd name="adj1" fmla="val 50000"/>
                <a:gd name="adj2" fmla="val 76723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133720" y="1828800"/>
            <a:ext cx="4733640" cy="4324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0"/>
            <a:ext cx="3505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居庸关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99072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两端同时向中间凿进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75720" y="5562720"/>
            <a:ext cx="126828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7238880" cy="3619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267080" y="3276720"/>
            <a:ext cx="457200" cy="1981080"/>
          </a:xfrm>
          <a:prstGeom prst="downArrow">
            <a:avLst>
              <a:gd name="adj1" fmla="val 50000"/>
              <a:gd name="adj2" fmla="val 108327"/>
            </a:avLst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219320" y="4800600"/>
            <a:ext cx="6933960" cy="533520"/>
            <a:chOff x="1219320" y="4800600"/>
            <a:chExt cx="6933960" cy="533520"/>
          </a:xfrm>
        </p:grpSpPr>
        <p:sp>
          <p:nvSpPr>
            <p:cNvPr id="126" name=""/>
            <p:cNvSpPr/>
            <p:nvPr/>
          </p:nvSpPr>
          <p:spPr>
            <a:xfrm>
              <a:off x="1219320" y="4800600"/>
              <a:ext cx="1447560" cy="533520"/>
            </a:xfrm>
            <a:prstGeom prst="rightArrow">
              <a:avLst>
                <a:gd name="adj1" fmla="val 50000"/>
                <a:gd name="adj2" fmla="val 6783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05720" y="4800600"/>
              <a:ext cx="1447560" cy="533520"/>
            </a:xfrm>
            <a:prstGeom prst="leftArrow">
              <a:avLst>
                <a:gd name="adj1" fmla="val 50000"/>
                <a:gd name="adj2" fmla="val 6783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971800" y="4800600"/>
            <a:ext cx="3200400" cy="533520"/>
            <a:chOff x="2971800" y="4800600"/>
            <a:chExt cx="3200400" cy="533520"/>
          </a:xfrm>
        </p:grpSpPr>
        <p:sp>
          <p:nvSpPr>
            <p:cNvPr id="129" name=""/>
            <p:cNvSpPr/>
            <p:nvPr/>
          </p:nvSpPr>
          <p:spPr>
            <a:xfrm>
              <a:off x="2971800" y="4800600"/>
              <a:ext cx="1295280" cy="533520"/>
            </a:xfrm>
            <a:prstGeom prst="leftArrow">
              <a:avLst>
                <a:gd name="adj1" fmla="val 50000"/>
                <a:gd name="adj2" fmla="val 455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24280" y="4800600"/>
              <a:ext cx="1447920" cy="533520"/>
            </a:xfrm>
            <a:prstGeom prst="rightArrow">
              <a:avLst>
                <a:gd name="adj1" fmla="val 50000"/>
                <a:gd name="adj2" fmla="val 67848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0" y="152280"/>
            <a:ext cx="441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八达岭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19051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竖井开凿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75720" y="5562720"/>
            <a:ext cx="126828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52280" y="1695600"/>
            <a:ext cx="3124440" cy="4324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962520" y="3048120"/>
            <a:ext cx="5181480" cy="2590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219320" y="990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居庸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6272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八达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85800" y="5257800"/>
            <a:ext cx="2285640" cy="457200"/>
            <a:chOff x="685800" y="5257800"/>
            <a:chExt cx="2285640" cy="457200"/>
          </a:xfrm>
        </p:grpSpPr>
        <p:sp>
          <p:nvSpPr>
            <p:cNvPr id="139" name=""/>
            <p:cNvSpPr/>
            <p:nvPr/>
          </p:nvSpPr>
          <p:spPr>
            <a:xfrm>
              <a:off x="685800" y="5257800"/>
              <a:ext cx="1027800" cy="457200"/>
            </a:xfrm>
            <a:prstGeom prst="rightArrow">
              <a:avLst>
                <a:gd name="adj1" fmla="val 50000"/>
                <a:gd name="adj2" fmla="val 5620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55160" y="5257800"/>
              <a:ext cx="1016280" cy="457200"/>
            </a:xfrm>
            <a:prstGeom prst="leftArrow">
              <a:avLst>
                <a:gd name="adj1" fmla="val 50000"/>
                <a:gd name="adj2" fmla="val 5557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410080" y="5257800"/>
            <a:ext cx="2285640" cy="457200"/>
            <a:chOff x="5410080" y="5257800"/>
            <a:chExt cx="2285640" cy="457200"/>
          </a:xfrm>
        </p:grpSpPr>
        <p:sp>
          <p:nvSpPr>
            <p:cNvPr id="142" name=""/>
            <p:cNvSpPr/>
            <p:nvPr/>
          </p:nvSpPr>
          <p:spPr>
            <a:xfrm>
              <a:off x="5410080" y="5257800"/>
              <a:ext cx="925200" cy="457200"/>
            </a:xfrm>
            <a:prstGeom prst="leftArrow">
              <a:avLst>
                <a:gd name="adj1" fmla="val 50000"/>
                <a:gd name="adj2" fmla="val 37943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61800" y="5257800"/>
              <a:ext cx="1033920" cy="457200"/>
            </a:xfrm>
            <a:prstGeom prst="rightArrow">
              <a:avLst>
                <a:gd name="adj1" fmla="val 50000"/>
                <a:gd name="adj2" fmla="val 56535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6324480" y="4038480"/>
            <a:ext cx="381240" cy="1447920"/>
          </a:xfrm>
          <a:prstGeom prst="downArrow">
            <a:avLst>
              <a:gd name="adj1" fmla="val 50000"/>
              <a:gd name="adj2" fmla="val 94948"/>
            </a:avLst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191120" y="5257800"/>
            <a:ext cx="4800240" cy="457200"/>
            <a:chOff x="4191120" y="5257800"/>
            <a:chExt cx="4800240" cy="457200"/>
          </a:xfrm>
        </p:grpSpPr>
        <p:sp>
          <p:nvSpPr>
            <p:cNvPr id="146" name=""/>
            <p:cNvSpPr/>
            <p:nvPr/>
          </p:nvSpPr>
          <p:spPr>
            <a:xfrm>
              <a:off x="4191120" y="5257800"/>
              <a:ext cx="1001880" cy="457200"/>
            </a:xfrm>
            <a:prstGeom prst="rightArrow">
              <a:avLst>
                <a:gd name="adj1" fmla="val 50000"/>
                <a:gd name="adj2" fmla="val 54783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89480" y="5257800"/>
              <a:ext cx="1001880" cy="457200"/>
            </a:xfrm>
            <a:prstGeom prst="leftArrow">
              <a:avLst>
                <a:gd name="adj1" fmla="val 50000"/>
                <a:gd name="adj2" fmla="val 54783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5867280" y="6019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竖井开凿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60958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两端同时向中间凿进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95640" y="126828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铁路经过青龙桥附近，坡度特别大。火车怎么才能爬上这样的坡度呢？詹天佑顺着山势，设计一种“人”字形线路。北上的列车到了南口就用两个火车头，一个在前面拉，一个在后面推。过青龙桥，列车向东北前进，过了“人”字形线路的岔道口就倒过来，原先推的火车头拉，原先拉的火车头推，使列车折向西北前进，这样一来，火车上山就容易得多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95640" y="1268280"/>
            <a:ext cx="67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铁路经过青龙桥附近，坡度特别大。火车怎么才能爬上这样的坡度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4038480" y="6400800"/>
            <a:ext cx="1981440" cy="304920"/>
          </a:xfrm>
          <a:custGeom>
            <a:avLst/>
            <a:gdLst>
              <a:gd name="textAreaLeft" fmla="*/ 19440 w 1981440"/>
              <a:gd name="textAreaRight" fmla="*/ 1962000 w 19814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222" h="21600">
                <a:moveTo>
                  <a:pt x="0" y="0"/>
                </a:moveTo>
                <a:lnTo>
                  <a:pt x="140222" y="0"/>
                </a:lnTo>
                <a:lnTo>
                  <a:pt x="140222" y="21600"/>
                </a:lnTo>
                <a:lnTo>
                  <a:pt x="0" y="21600"/>
                </a:lnTo>
                <a:close/>
              </a:path>
              <a:path fill="lightenLess" w="140222" h="21600">
                <a:moveTo>
                  <a:pt x="0" y="0"/>
                </a:moveTo>
                <a:lnTo>
                  <a:pt x="140222" y="0"/>
                </a:lnTo>
                <a:lnTo>
                  <a:pt x="138822" y="1400"/>
                </a:lnTo>
                <a:lnTo>
                  <a:pt x="1400" y="1400"/>
                </a:lnTo>
                <a:close/>
              </a:path>
              <a:path fill="darken" w="140222" h="21600">
                <a:moveTo>
                  <a:pt x="140222" y="0"/>
                </a:moveTo>
                <a:lnTo>
                  <a:pt x="140222" y="21600"/>
                </a:lnTo>
                <a:lnTo>
                  <a:pt x="138822" y="20200"/>
                </a:lnTo>
                <a:lnTo>
                  <a:pt x="138822" y="1400"/>
                </a:lnTo>
                <a:close/>
              </a:path>
              <a:path fill="darkenLess" w="140222" h="21600">
                <a:moveTo>
                  <a:pt x="1402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822" y="20200"/>
                </a:lnTo>
                <a:close/>
              </a:path>
              <a:path fill="lighten" w="1402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”字形线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3" action="ppaction://hlinksldjump"/>
          </p:cNvPr>
          <p:cNvSpPr/>
          <p:nvPr/>
        </p:nvSpPr>
        <p:spPr>
          <a:xfrm>
            <a:off x="6477120" y="640080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228680" y="990720"/>
            <a:ext cx="7915320" cy="53719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523880" y="48769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南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14600" y="52578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67480" y="32767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21337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17524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西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72400" y="3352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青龙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1981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75720" y="5562720"/>
            <a:ext cx="1268280" cy="12952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553080" y="63244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推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8229600" cy="5200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447920" y="5683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北上的列车到了南口就用两个火车头，一个在前面拉，一个在后面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4572000"/>
            <a:ext cx="60984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33920" y="0"/>
            <a:ext cx="609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752480"/>
            <a:ext cx="609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610480" y="1676520"/>
            <a:ext cx="60984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381880" cy="4572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990720" y="48769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过青龙桥，列车向东北前进，过了“人”字形线路的岔道口就倒过来，原先推的火车头拉，原先拉的火车推，使列车折向西北前进，这样一来，火车上山就容易得多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52680" y="4038480"/>
            <a:ext cx="60984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52680" y="0"/>
            <a:ext cx="60984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676520"/>
            <a:ext cx="609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534520" y="1981080"/>
            <a:ext cx="609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979640" y="1495440"/>
            <a:ext cx="576108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32000" y="4005360"/>
            <a:ext cx="738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詹天佑是我国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杰出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爱国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工程师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91480" y="3057480"/>
            <a:ext cx="687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348000" y="549360"/>
            <a:ext cx="30290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75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75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050920" y="1125360"/>
            <a:ext cx="61214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学指导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由朗读课文，思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从哪些地方可以看出詹天佑是我国杰出的爱国工程师？五分钟后指名交流，比比谁的回答最正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907640" y="907560"/>
            <a:ext cx="65502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在帝国主义的阻碍、要挟和嘲笑下勇于受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在修筑过程中，凭着强烈的爱国精神战胜了一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铁路提早两年竣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819520" y="1143000"/>
            <a:ext cx="56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仿照本文布局谋篇的方法练习写作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924680" y="6019920"/>
            <a:ext cx="1067040" cy="679320"/>
          </a:xfrm>
          <a:prstGeom prst="rect">
            <a:avLst/>
          </a:prstGeom>
          <a:ln w="0">
            <a:noFill/>
          </a:ln>
        </p:spPr>
      </p:pic>
      <p:grpSp>
        <p:nvGrpSpPr>
          <p:cNvPr id="183" name=""/>
          <p:cNvGrpSpPr/>
          <p:nvPr/>
        </p:nvGrpSpPr>
        <p:grpSpPr>
          <a:xfrm>
            <a:off x="762120" y="533520"/>
            <a:ext cx="2743200" cy="1752120"/>
            <a:chOff x="762120" y="533520"/>
            <a:chExt cx="2743200" cy="1752120"/>
          </a:xfrm>
        </p:grpSpPr>
        <p:pic>
          <p:nvPicPr>
            <p:cNvPr id="184" name="" descr=""/>
            <p:cNvPicPr/>
            <p:nvPr/>
          </p:nvPicPr>
          <p:blipFill>
            <a:blip r:embed="rId3"/>
            <a:stretch/>
          </p:blipFill>
          <p:spPr>
            <a:xfrm>
              <a:off x="762120" y="706320"/>
              <a:ext cx="1904760" cy="15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1523880" y="533520"/>
              <a:ext cx="198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33cc"/>
                  </a:solidFill>
                  <a:latin typeface="Times New Roman"/>
                </a:rPr>
                <a:t>小练笔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11280" y="4292640"/>
            <a:ext cx="7695720" cy="1630440"/>
            <a:chOff x="611280" y="4292640"/>
            <a:chExt cx="7695720" cy="1630440"/>
          </a:xfrm>
        </p:grpSpPr>
        <p:sp>
          <p:nvSpPr>
            <p:cNvPr id="187" name=""/>
            <p:cNvSpPr/>
            <p:nvPr/>
          </p:nvSpPr>
          <p:spPr>
            <a:xfrm>
              <a:off x="2668320" y="5237280"/>
              <a:ext cx="563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课外收集我国铁路建设方面的新成就，与同学们交流。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611280" y="4292640"/>
              <a:ext cx="2133360" cy="1630440"/>
              <a:chOff x="611280" y="4292640"/>
              <a:chExt cx="2133360" cy="1630440"/>
            </a:xfrm>
          </p:grpSpPr>
          <p:pic>
            <p:nvPicPr>
              <p:cNvPr id="18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11280" y="4292640"/>
                <a:ext cx="1752480" cy="163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>
                <a:off x="992160" y="4856400"/>
                <a:ext cx="1752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cc"/>
                    </a:solidFill>
                    <a:latin typeface="Times New Roman"/>
                  </a:rPr>
                  <a:t>小实践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2743200" y="3048120"/>
            <a:ext cx="5790960" cy="1676160"/>
            <a:chOff x="2743200" y="3048120"/>
            <a:chExt cx="5790960" cy="1676160"/>
          </a:xfrm>
        </p:grpSpPr>
        <p:sp>
          <p:nvSpPr>
            <p:cNvPr id="192" name=""/>
            <p:cNvSpPr/>
            <p:nvPr/>
          </p:nvSpPr>
          <p:spPr>
            <a:xfrm>
              <a:off x="2743200" y="3048120"/>
              <a:ext cx="426708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我的同学李进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是个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勤学好问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的人。</a:t>
              </a: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781680" y="33526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00400" y="3809880"/>
              <a:ext cx="533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47760" y="4267080"/>
              <a:ext cx="548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47760" y="4724280"/>
              <a:ext cx="548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743200" y="3048120"/>
            <a:ext cx="5790960" cy="1676160"/>
            <a:chOff x="2743200" y="3048120"/>
            <a:chExt cx="5790960" cy="1676160"/>
          </a:xfrm>
        </p:grpSpPr>
        <p:sp>
          <p:nvSpPr>
            <p:cNvPr id="198" name=""/>
            <p:cNvSpPr/>
            <p:nvPr/>
          </p:nvSpPr>
          <p:spPr>
            <a:xfrm>
              <a:off x="2743200" y="3048120"/>
              <a:ext cx="426708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我的同学李进是个勤学好问的人。</a:t>
              </a: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81680" y="33526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00400" y="3809880"/>
              <a:ext cx="533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47760" y="4267080"/>
              <a:ext cx="548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47760" y="4724280"/>
              <a:ext cx="548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68360" y="1413000"/>
            <a:ext cx="6407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学习目标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学会本课生字词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正确、流利地朗读课文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理清文章思路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195640" y="765000"/>
            <a:ext cx="626256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自学指导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请同学们大声朗读课文，画出不认识的字或不理解的词语，借助工具书解决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分钟后指名朗读，比谁读得正确、流利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123640" y="907560"/>
            <a:ext cx="63342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出示生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hī             náo         yōng      jiā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工        阻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挠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平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庸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ì           chǎn               liè        r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力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平         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劣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jī               jiāng      ch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笑        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浆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63640" y="1052280"/>
            <a:ext cx="669456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自学指导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请同学们默读课文，思考：  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文中的中心句是什么，围绕本句，课文写了 一件什么事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给课文分段并概括段落大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分钟后指名交流，比谁的回答正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907640" y="1268280"/>
            <a:ext cx="65502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）“詹天佑是我国杰出的爱国工程师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本文记叙了詹天佑主持修筑京张铁路的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834920" y="764640"/>
            <a:ext cx="6553080" cy="54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课文分为四部分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部分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概括介绍詹天佑是我                            国杰出的爱国工程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部分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~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计划修筑铁路前帝         国主义者的阻挠和要挟，以及任       命詹天佑为总工程师后周围的人   的反应。（起因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部分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~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詹天佑主持修筑京张铁路的过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四部分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京张铁路提前竣工和对詹天佑的纪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02:22:06Z</dcterms:created>
  <dc:creator> wlf</dc:creator>
  <dc:description/>
  <dc:language>en-US</dc:language>
  <cp:lastModifiedBy>dell</cp:lastModifiedBy>
  <dcterms:modified xsi:type="dcterms:W3CDTF">2012-07-26T14:23:32Z</dcterms:modified>
  <cp:revision>70</cp:revision>
  <dc:subject/>
  <dc:title>PowerPoint 演示文稿</dc:title>
</cp:coreProperties>
</file>