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type.wav" ContentType="audio/x-wav"/>
  <Override PartName="/ppt/media/image16.png" ContentType="image/png"/>
  <Override PartName="/ppt/media/chimes.wav" ContentType="audio/x-wav"/>
  <Override PartName="/ppt/media/projctor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58D-99A7-4E53-9C56-874FA02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AF1-BB5B-4B23-81BF-33D0E8C9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8CC-8456-4813-B03F-9AF6671E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029-B4A8-4B74-8B5A-3503000A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772C-E11C-475A-8749-B3CDB536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008-7377-4887-80EA-A9DAD0D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D80-642D-4D29-9B47-7292E29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7CAE-57B1-4A62-864B-A24B5547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3419-3BAD-4FD3-B649-1A9A4FC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E13-33A6-4821-B368-E62A8A73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1BF-2F8D-44B9-946D-33E9C6D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F1C-9467-453F-BE43-66A6FFFC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977-D6DA-4D07-9882-3548B83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BD09-4E32-404C-9CC9-35EB080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ED4-78D0-4F30-B167-E821153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AD1C-796E-4755-AC3B-DAA3D963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A1F-CED7-4BD1-81A2-4BE0D326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C33-AC96-49FF-A552-029667F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286-A07E-4E15-8C6B-421DE606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D2B-C2E6-401E-BE55-321260E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C2C-A862-47D8-A87A-2BC3AB1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A58-7DE4-4845-BCFF-C7F731F1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35D-E94A-408A-9420-5ADC58B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399-4800-4EC1-8F3A-161F985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729-677F-43D6-92D1-78DCFC08D1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D1EA-C0FE-4FB8-BA3D-478D2DF567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0" y="2205000"/>
            <a:ext cx="9143640" cy="5487840"/>
            <a:chOff x="0" y="2205000"/>
            <a:chExt cx="9143640" cy="5487840"/>
          </a:xfrm>
        </p:grpSpPr>
        <p:pic>
          <p:nvPicPr>
            <p:cNvPr id="87" name="Picture 5" descr="005FDDF9"/>
            <p:cNvPicPr/>
            <p:nvPr/>
          </p:nvPicPr>
          <p:blipFill>
            <a:blip r:embed="rId1"/>
            <a:stretch/>
          </p:blipFill>
          <p:spPr>
            <a:xfrm>
              <a:off x="0" y="2205000"/>
              <a:ext cx="9143640" cy="44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137520" y="7113600"/>
              <a:ext cx="7740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8"/>
          <p:cNvSpPr/>
          <p:nvPr/>
        </p:nvSpPr>
        <p:spPr>
          <a:xfrm>
            <a:off x="2971800" y="457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珍珠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952880" y="1295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冯骥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04920"/>
            <a:ext cx="845820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归纳“我”为鸟儿做了哪些事？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鸟儿对“我”有什么反应？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3. “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我”从鸟儿的相处中得到了哪些感受？将相关的语句划下来。 </a:t>
            </a:r>
            <a:br>
              <a:rPr sz="3600"/>
            </a:br>
            <a:br>
              <a:rPr sz="3600"/>
            </a:br>
            <a:br>
              <a:rPr sz="32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981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（重新为它们加工鸟巢；按时添食加水；按捺自己的好奇心决不轻易打扰它们的生活。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3352680"/>
            <a:ext cx="960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（由胆小</a:t>
            </a: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――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渐渐胆大</a:t>
            </a: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――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开始亲近我</a:t>
            </a: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―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完全相信我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5867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（信赖，往往创造出美好的境界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ye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89080" y="1219320"/>
            <a:ext cx="885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PMingLiU"/>
                <a:ea typeface="PMingLiU"/>
              </a:rPr>
              <a:t>       </a:t>
            </a:r>
            <a:r>
              <a:rPr b="1" lang="zh-CN" sz="3200" spc="-1" strike="noStrike">
                <a:solidFill>
                  <a:srgbClr val="777777"/>
                </a:solidFill>
                <a:latin typeface="PMingLiU"/>
                <a:ea typeface="PMingLiU"/>
              </a:rPr>
              <a:t>因为对自然，对动物的爱，我细致入微的呵护小鸟，而小鸟在温馨和谐环境中的轻松自在的生活又恰是对我最好的回报，思考在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PMingLiU"/>
              </a:rPr>
              <a:t>“</a:t>
            </a:r>
            <a:r>
              <a:rPr b="1" lang="zh-CN" sz="3200" spc="-1" strike="noStrike">
                <a:solidFill>
                  <a:srgbClr val="777777"/>
                </a:solidFill>
                <a:latin typeface="PMingLiU"/>
                <a:ea typeface="PMingLiU"/>
              </a:rPr>
              <a:t>我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PMingLiU"/>
              </a:rPr>
              <a:t>”</a:t>
            </a:r>
            <a:r>
              <a:rPr b="1" lang="zh-CN" sz="3200" spc="-1" strike="noStrike">
                <a:solidFill>
                  <a:srgbClr val="777777"/>
                </a:solidFill>
                <a:latin typeface="PMingLiU"/>
                <a:ea typeface="PMingLiU"/>
              </a:rPr>
              <a:t>的努力下，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PMingLiU"/>
              </a:rPr>
              <a:t>“</a:t>
            </a:r>
            <a:r>
              <a:rPr b="1" lang="zh-CN" sz="3200" spc="-1" strike="noStrike">
                <a:solidFill>
                  <a:srgbClr val="777777"/>
                </a:solidFill>
                <a:latin typeface="PMingLiU"/>
                <a:ea typeface="PMingLiU"/>
              </a:rPr>
              <a:t>我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PMingLiU"/>
              </a:rPr>
              <a:t>”</a:t>
            </a:r>
            <a:r>
              <a:rPr b="1" lang="zh-CN" sz="3200" spc="-1" strike="noStrike">
                <a:solidFill>
                  <a:srgbClr val="777777"/>
                </a:solidFill>
                <a:latin typeface="PMingLiU"/>
                <a:ea typeface="PMingLiU"/>
              </a:rPr>
              <a:t>和珍珠鸟之间的信赖是怎样逐步建立起来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040" y="3927600"/>
            <a:ext cx="87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MingLiU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MingLiU"/>
              </a:rPr>
              <a:t>答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MingLiU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MingLiU"/>
              </a:rPr>
              <a:t>我和小鸟每靠近一步都是以我的某种举动为前提条件的。因为我“用吊兰长长的、串生着小绿叶的垂蔓蒙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鸟3"/>
          <p:cNvPicPr/>
          <p:nvPr/>
        </p:nvPicPr>
        <p:blipFill>
          <a:blip r:embed="rId2"/>
          <a:stretch/>
        </p:blipFill>
        <p:spPr>
          <a:xfrm>
            <a:off x="35053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鸟"/>
          <p:cNvPicPr/>
          <p:nvPr/>
        </p:nvPicPr>
        <p:blipFill>
          <a:blip r:embed="rId3"/>
          <a:stretch/>
        </p:blipFill>
        <p:spPr>
          <a:xfrm>
            <a:off x="4343400" y="5181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71400" y="630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2362320" y="838080"/>
            <a:ext cx="4647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作者的知心人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250920" y="2133720"/>
            <a:ext cx="4343400" cy="3936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403880" y="234936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是怎样把珍珠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写得这么可爱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001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1890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朋友送给我珍珠鸟以后，我对珍珠鸟怎么样呢？看课文对待大鸟这部分，读课文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—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段，找出我对待珍珠鸟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33"/>
          <p:cNvPicPr/>
          <p:nvPr/>
        </p:nvPicPr>
        <p:blipFill>
          <a:blip r:embed="rId2"/>
          <a:stretch/>
        </p:blipFill>
        <p:spPr>
          <a:xfrm>
            <a:off x="2124000" y="2141640"/>
            <a:ext cx="4969080" cy="4503600"/>
          </a:xfrm>
          <a:prstGeom prst="rect">
            <a:avLst/>
          </a:prstGeom>
          <a:ln w="0">
            <a:noFill/>
          </a:ln>
        </p:spPr>
      </p:pic>
      <p:sp>
        <p:nvSpPr>
          <p:cNvPr id="14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finch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914400" y="1600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朋友送给我珍珠鸟以后，我对珍珠鸟怎么样呢？看课文对待大鸟这部分，读课文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—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段，找出我对待珍珠鸟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38098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设置环境    挂鸟笼    盖垂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不加干扰  很少扒开叶蔓去瞧它们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27"/>
          <p:cNvSpPr/>
          <p:nvPr/>
        </p:nvSpPr>
        <p:spPr>
          <a:xfrm>
            <a:off x="2547720" y="28195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怕人 → 熟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28"/>
          <p:cNvSpPr/>
          <p:nvPr/>
        </p:nvSpPr>
        <p:spPr>
          <a:xfrm>
            <a:off x="1219320" y="1219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对珍珠鸟关心爱护，珍珠鸟跟我的关系也发生了很大的变化，起先如何，后来又怎样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29"/>
          <p:cNvSpPr/>
          <p:nvPr/>
        </p:nvSpPr>
        <p:spPr>
          <a:xfrm>
            <a:off x="2191680" y="449568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伸出小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伸出小脑袋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914400" y="3809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体现这一变化过程的动词有哪些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31" descr="finch"/>
          <p:cNvPicPr/>
          <p:nvPr/>
        </p:nvPicPr>
        <p:blipFill>
          <a:blip r:embed="rId1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15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3"/>
          <p:cNvGrpSpPr/>
          <p:nvPr/>
        </p:nvGrpSpPr>
        <p:grpSpPr>
          <a:xfrm>
            <a:off x="1158840" y="1219320"/>
            <a:ext cx="7985160" cy="4543920"/>
            <a:chOff x="1158840" y="1219320"/>
            <a:chExt cx="7985160" cy="4543920"/>
          </a:xfrm>
        </p:grpSpPr>
        <p:sp>
          <p:nvSpPr>
            <p:cNvPr id="158" name="Text Box 4"/>
            <p:cNvSpPr/>
            <p:nvPr/>
          </p:nvSpPr>
          <p:spPr>
            <a:xfrm>
              <a:off x="1158840" y="1219320"/>
              <a:ext cx="7985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楷体_GB2312"/>
                  <a:ea typeface="楷体_GB2312"/>
                </a:rPr>
                <a:t>由于我的关心爱护，两只大鸟在三个月后，生了一只更可爱更漂亮的小鸟，课文哪些句子写它的漂亮，找出来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"/>
            <p:cNvSpPr/>
            <p:nvPr/>
          </p:nvSpPr>
          <p:spPr>
            <a:xfrm>
              <a:off x="1235160" y="3429000"/>
              <a:ext cx="762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楷体_GB2312"/>
                  <a:ea typeface="楷体_GB2312"/>
                </a:rPr>
                <a:t>这些句子运用了什么修辞？蓬松的球儿写出了小鸟什么样的身子特点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387440" y="5181840"/>
              <a:ext cx="436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楷体_GB2312"/>
                  <a:ea typeface="楷体_GB2312"/>
                </a:rPr>
                <a:t>这些句子是什么描写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7"/>
          <p:cNvSpPr/>
          <p:nvPr/>
        </p:nvSpPr>
        <p:spPr>
          <a:xfrm>
            <a:off x="1219320" y="2743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嘴红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蓬松的球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219320" y="4419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比喻的手法，写出珍珠鸟毛茸茸，又肥又圆的特点 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1295280" y="571500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貌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finch"/>
          <p:cNvPicPr/>
          <p:nvPr/>
        </p:nvPicPr>
        <p:blipFill>
          <a:blip r:embed="rId1"/>
          <a:stretch/>
        </p:blipFill>
        <p:spPr>
          <a:xfrm>
            <a:off x="7010280" y="5105520"/>
            <a:ext cx="1828800" cy="149364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056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a162b"/>
                </a:solidFill>
                <a:latin typeface="黑体"/>
              </a:rPr>
              <a:t>对这个漂亮的小尤物，我自然更是关心爱护，请学生齐读（</a:t>
            </a:r>
            <a:r>
              <a:rPr b="0" lang="en-US" sz="3400" spc="-1" strike="noStrike">
                <a:solidFill>
                  <a:srgbClr val="ca162b"/>
                </a:solidFill>
                <a:latin typeface="黑体"/>
              </a:rPr>
              <a:t>6</a:t>
            </a:r>
            <a:r>
              <a:rPr b="0" lang="en-US" sz="3400" spc="-1" strike="noStrike">
                <a:solidFill>
                  <a:srgbClr val="ca162b"/>
                </a:solidFill>
                <a:latin typeface="宋体"/>
              </a:rPr>
              <a:t>—</a:t>
            </a:r>
            <a:r>
              <a:rPr b="0" lang="en-US" sz="3400" spc="-1" strike="noStrike">
                <a:solidFill>
                  <a:srgbClr val="ca162b"/>
                </a:solidFill>
                <a:latin typeface="黑体"/>
              </a:rPr>
              <a:t>14</a:t>
            </a:r>
            <a:r>
              <a:rPr b="0" lang="zh-CN" sz="3400" spc="-1" strike="noStrike">
                <a:solidFill>
                  <a:srgbClr val="ca162b"/>
                </a:solidFill>
                <a:latin typeface="黑体"/>
              </a:rPr>
              <a:t>）段，在课文中划出我对它关心爱护的句子。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6720" y="2492280"/>
            <a:ext cx="78469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，决不掀开叶片往里看，连添食加       水时也不睁大好奇的眼去惊动它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717560" y="371556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管它，仍然打开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805400" y="4364640"/>
            <a:ext cx="58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只是微微一笑，依旧写东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动声色地写，用手抚一抚它细腻的绒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343600" y="5515560"/>
            <a:ext cx="49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手中的笔不觉停了，生怕惊跑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15080" y="246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不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1508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不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15080" y="44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不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43440" y="5411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不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finch"/>
          <p:cNvPicPr/>
          <p:nvPr/>
        </p:nvPicPr>
        <p:blipFill>
          <a:blip r:embed="rId1"/>
          <a:stretch/>
        </p:blipFill>
        <p:spPr>
          <a:xfrm>
            <a:off x="7991640" y="5916600"/>
            <a:ext cx="115236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页脚占位符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3200" y="496800"/>
            <a:ext cx="725472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a162b"/>
                </a:solidFill>
                <a:latin typeface="Garamond"/>
              </a:rPr>
              <a:t>小鸟在我</a:t>
            </a:r>
            <a:r>
              <a:rPr b="0" lang="zh-CN" sz="2900" spc="-1" strike="noStrike">
                <a:solidFill>
                  <a:srgbClr val="ca162b"/>
                </a:solidFill>
                <a:latin typeface="Arial"/>
              </a:rPr>
              <a:t>“</a:t>
            </a:r>
            <a:r>
              <a:rPr b="0" lang="zh-CN" sz="2900" spc="-1" strike="noStrike">
                <a:solidFill>
                  <a:srgbClr val="ca162b"/>
                </a:solidFill>
                <a:latin typeface="Garamond"/>
              </a:rPr>
              <a:t>不看、不管、不赶、不写</a:t>
            </a:r>
            <a:r>
              <a:rPr b="0" lang="zh-CN" sz="2900" spc="-1" strike="noStrike">
                <a:solidFill>
                  <a:srgbClr val="ca162b"/>
                </a:solidFill>
                <a:latin typeface="Arial"/>
              </a:rPr>
              <a:t>”</a:t>
            </a:r>
            <a:r>
              <a:rPr b="0" lang="zh-CN" sz="2900" spc="-1" strike="noStrike">
                <a:solidFill>
                  <a:srgbClr val="ca162b"/>
                </a:solidFill>
                <a:latin typeface="Garamond"/>
              </a:rPr>
              <a:t>的爱护下，小鸟和我之间的关系也发生了变化，找出小鸟哪些方面变化？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6240" y="191520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范围的变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11280" y="3357720"/>
            <a:ext cx="129672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笼子四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屋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26836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916360" y="3357720"/>
            <a:ext cx="129528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稿子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4932360" y="3357720"/>
            <a:ext cx="129708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笔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35600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93080" y="3357720"/>
            <a:ext cx="129672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肩头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6372360" y="40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4292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826920" y="54439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3419640" y="4869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5508720" y="4869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781200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3181320" y="5372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挨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198760" y="52995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121160" y="529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全信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1" descr="finch"/>
          <p:cNvPicPr/>
          <p:nvPr/>
        </p:nvPicPr>
        <p:blipFill>
          <a:blip r:embed="rId1"/>
          <a:stretch/>
        </p:blipFill>
        <p:spPr>
          <a:xfrm>
            <a:off x="7991640" y="5916600"/>
            <a:ext cx="1152360" cy="941400"/>
          </a:xfrm>
          <a:prstGeom prst="rect">
            <a:avLst/>
          </a:prstGeom>
          <a:ln w="0">
            <a:noFill/>
          </a:ln>
        </p:spPr>
      </p:pic>
      <p:sp>
        <p:nvSpPr>
          <p:cNvPr id="195" name="页脚占位符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250920" y="2924280"/>
            <a:ext cx="126360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赶忙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立即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195640" y="2924280"/>
            <a:ext cx="194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放开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偏过脸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点点挨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643280" y="2852640"/>
            <a:ext cx="215928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啄笔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友好地啄手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淘气地陪伴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7451640" y="2852640"/>
            <a:ext cx="169236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趴在肩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睡得好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呷呷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1928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140360" y="39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877080" y="38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31080" y="69120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a162b"/>
                </a:solidFill>
                <a:latin typeface="Times New Roman"/>
                <a:ea typeface="黑体"/>
              </a:rPr>
              <a:t>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finch"/>
          <p:cNvPicPr/>
          <p:nvPr/>
        </p:nvPicPr>
        <p:blipFill>
          <a:blip r:embed="rId1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205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finzebis"/>
          <p:cNvPicPr/>
          <p:nvPr/>
        </p:nvPicPr>
        <p:blipFill>
          <a:blip r:embed="rId1"/>
          <a:stretch/>
        </p:blipFill>
        <p:spPr>
          <a:xfrm>
            <a:off x="-252360" y="836640"/>
            <a:ext cx="4908600" cy="558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N0003B"/>
          <p:cNvPicPr/>
          <p:nvPr/>
        </p:nvPicPr>
        <p:blipFill>
          <a:blip r:embed="rId2"/>
          <a:stretch/>
        </p:blipFill>
        <p:spPr>
          <a:xfrm>
            <a:off x="4740120" y="692280"/>
            <a:ext cx="4403880" cy="5400720"/>
          </a:xfrm>
          <a:prstGeom prst="rect">
            <a:avLst/>
          </a:prstGeom>
          <a:ln w="0">
            <a:noFill/>
          </a:ln>
        </p:spPr>
      </p:pic>
      <p:sp>
        <p:nvSpPr>
          <p:cNvPr id="9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a162b"/>
                </a:solidFill>
                <a:latin typeface="黑体"/>
              </a:rPr>
              <a:t>课文（</a:t>
            </a:r>
            <a:r>
              <a:rPr b="0" lang="en-US" sz="3400" spc="-1" strike="noStrike">
                <a:solidFill>
                  <a:srgbClr val="ca162b"/>
                </a:solidFill>
                <a:latin typeface="黑体"/>
              </a:rPr>
              <a:t>2</a:t>
            </a:r>
            <a:r>
              <a:rPr b="0" lang="en-US" sz="3400" spc="-1" strike="noStrike">
                <a:solidFill>
                  <a:srgbClr val="ca162b"/>
                </a:solidFill>
                <a:latin typeface="Arial"/>
              </a:rPr>
              <a:t>—</a:t>
            </a:r>
            <a:r>
              <a:rPr b="0" lang="en-US" sz="3400" spc="-1" strike="noStrike">
                <a:solidFill>
                  <a:srgbClr val="ca162b"/>
                </a:solidFill>
                <a:latin typeface="黑体"/>
              </a:rPr>
              <a:t>14</a:t>
            </a:r>
            <a:r>
              <a:rPr b="0" lang="zh-CN" sz="3400" spc="-1" strike="noStrike">
                <a:solidFill>
                  <a:srgbClr val="ca162b"/>
                </a:solidFill>
                <a:latin typeface="黑体"/>
              </a:rPr>
              <a:t>）段，主要写了什么内容？</a:t>
            </a:r>
            <a:br>
              <a:rPr sz="38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写我对珍珠鸟的关心爱护和珍珠鸟对我由害怕到亲近的变化过程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finch"/>
          <p:cNvPicPr/>
          <p:nvPr/>
        </p:nvPicPr>
        <p:blipFill>
          <a:blip r:embed="rId1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381880" y="762120"/>
            <a:ext cx="549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988400" y="1295280"/>
            <a:ext cx="546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143000" y="228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a162b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ca162b"/>
                </a:solidFill>
                <a:latin typeface="Times New Roman"/>
                <a:ea typeface="黑体"/>
              </a:rPr>
              <a:t>我”从和鸟儿的相处中得到了哪些感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943600" y="17524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信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往往创造出美好的境界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-3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5661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6366600" y="3284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a162b"/>
                </a:solidFill>
                <a:latin typeface="Times New Roman"/>
                <a:ea typeface="黑体"/>
              </a:rPr>
              <a:t>如何建立信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867280" y="414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尊重、关爱、宽容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finch"/>
          <p:cNvPicPr/>
          <p:nvPr/>
        </p:nvPicPr>
        <p:blipFill>
          <a:blip r:embed="rId2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21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9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无标题"/>
          <p:cNvPicPr/>
          <p:nvPr/>
        </p:nvPicPr>
        <p:blipFill>
          <a:blip r:embed="rId1"/>
          <a:stretch/>
        </p:blipFill>
        <p:spPr>
          <a:xfrm>
            <a:off x="685800" y="30492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6"/>
          <p:cNvPicPr/>
          <p:nvPr/>
        </p:nvPicPr>
        <p:blipFill>
          <a:blip r:embed="rId2"/>
          <a:stretch/>
        </p:blipFill>
        <p:spPr>
          <a:xfrm>
            <a:off x="5334120" y="228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42"/>
          <p:cNvPicPr/>
          <p:nvPr/>
        </p:nvPicPr>
        <p:blipFill>
          <a:blip r:embed="rId3"/>
          <a:stretch/>
        </p:blipFill>
        <p:spPr>
          <a:xfrm>
            <a:off x="685800" y="3657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大象"/>
          <p:cNvPicPr/>
          <p:nvPr/>
        </p:nvPicPr>
        <p:blipFill>
          <a:blip r:embed="rId4"/>
          <a:stretch/>
        </p:blipFill>
        <p:spPr>
          <a:xfrm>
            <a:off x="5334120" y="3719520"/>
            <a:ext cx="3200400" cy="2919240"/>
          </a:xfrm>
          <a:prstGeom prst="rect">
            <a:avLst/>
          </a:prstGeom>
          <a:ln w="0">
            <a:noFill/>
          </a:ln>
        </p:spPr>
      </p:pic>
      <p:pic>
        <p:nvPicPr>
          <p:cNvPr id="223" name="1.MID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1066680" y="2514600"/>
            <a:ext cx="655344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这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怕不怕我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写这句话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43000" y="15238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a162b"/>
                </a:solidFill>
                <a:latin typeface="Times New Roman"/>
                <a:ea typeface="黑体"/>
              </a:rPr>
              <a:t>这是一种怕人的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0" y="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62b"/>
                </a:solidFill>
                <a:latin typeface="Times New Roman"/>
              </a:rPr>
              <a:t>语句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finch"/>
          <p:cNvPicPr/>
          <p:nvPr/>
        </p:nvPicPr>
        <p:blipFill>
          <a:blip r:embed="rId1"/>
          <a:stretch/>
        </p:blipFill>
        <p:spPr>
          <a:xfrm>
            <a:off x="7010280" y="5105520"/>
            <a:ext cx="1828800" cy="1493640"/>
          </a:xfrm>
          <a:prstGeom prst="rect">
            <a:avLst/>
          </a:prstGeom>
          <a:ln w="0">
            <a:noFill/>
          </a:ln>
        </p:spPr>
      </p:pic>
      <p:sp>
        <p:nvSpPr>
          <p:cNvPr id="22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838080" y="1981080"/>
            <a:ext cx="7620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我们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这样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点点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是怎样一点点熟悉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最能体现这一点的一句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85800" y="9144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a162b"/>
                </a:solidFill>
                <a:latin typeface="Times New Roman"/>
                <a:ea typeface="黑体"/>
              </a:rPr>
              <a:t>我们就这样一点点熟悉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finch"/>
          <p:cNvPicPr/>
          <p:nvPr/>
        </p:nvPicPr>
        <p:blipFill>
          <a:blip r:embed="rId1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233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71400" y="1773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762120"/>
            <a:ext cx="821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谈谈你对“信赖，往往创造出美好的境界”这句话的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680" y="4019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草原-云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23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974880" y="123984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草原-云"/>
          <p:cNvPicPr/>
          <p:nvPr/>
        </p:nvPicPr>
        <p:blipFill>
          <a:blip r:embed="rId1"/>
          <a:stretch/>
        </p:blipFill>
        <p:spPr>
          <a:xfrm>
            <a:off x="0" y="3267000"/>
            <a:ext cx="914400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380880" y="2057400"/>
            <a:ext cx="839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光是人和鸟，人与动物、人与人之间同样需要信任。尊重对方的生存空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想空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真正做到不以强凌弱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以大欺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这是建立信赖关系的前提条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而有了信赖无意会使世界多一抹温柔的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42080" y="8380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作者说的仅仅是人和鸟之间的信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fengjicai"/>
          <p:cNvPicPr/>
          <p:nvPr/>
        </p:nvPicPr>
        <p:blipFill>
          <a:blip r:embed="rId1"/>
          <a:stretch/>
        </p:blipFill>
        <p:spPr>
          <a:xfrm>
            <a:off x="304920" y="838080"/>
            <a:ext cx="3429000" cy="5334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62520" y="457200"/>
            <a:ext cx="4952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冯骥才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94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～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国当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画家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小喜爱美术、文学、音乐和球类活动。著有长篇小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义和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灯前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中篇小说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铺花的歧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短篇小说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雕花烟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意大利小提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部分作品已被译成英、法、德、日、俄等文字在国外出版。冯骥才以写知识分子生活和天津近代历史故事见长。注意选取新颖的视角，用多变的艺术手法，细致深入的描写，开掘生活的底蕴，咀嚼人生的回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37240" y="17524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语花香、惊弓之鸟 、鸟尽弓藏、百鸟争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2666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62b"/>
                </a:solidFill>
                <a:latin typeface="Times New Roman"/>
              </a:rPr>
              <a:t>关于鸟的诗句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66840" y="3597120"/>
            <a:ext cx="86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眠不觉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处闻啼鸟。（孟浩然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处早莺争暖树，谁家新燕啄春泥。（白居易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黄鹂鸣翠柳，一行白鹭上青天。（杜甫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向檐上飞，云从窗里出。（吴均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990720"/>
            <a:ext cx="49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62b"/>
                </a:solidFill>
                <a:latin typeface="Times New Roman"/>
              </a:rPr>
              <a:t>关于鸟的成语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YW00102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013360" y="2133720"/>
            <a:ext cx="413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珍珠鸟羽毛的颜色艳丽，体形娇小玲珑，叫声细柔给人以美的享受，深受人们的喜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165640" y="60948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印象中的珍珠鸟是什么样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5040" y="1336680"/>
            <a:ext cx="8778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了解课文内容梗概，了解借物抒情的写法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初步学会观察、描写动物的方法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掌握课文的重点词句，进一步加强积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初步感受课文人与鸟相互信赖和谐的境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990720" y="533520"/>
            <a:ext cx="2286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教学目标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1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276720" y="609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楷体_GB2312"/>
              </a:rPr>
              <a:t>学生自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zhanlanzhenzhu"/>
          <p:cNvPicPr/>
          <p:nvPr/>
        </p:nvPicPr>
        <p:blipFill>
          <a:blip r:embed="rId1"/>
          <a:stretch/>
        </p:blipFill>
        <p:spPr>
          <a:xfrm>
            <a:off x="324000" y="1413000"/>
            <a:ext cx="5472000" cy="5202000"/>
          </a:xfrm>
          <a:prstGeom prst="rect">
            <a:avLst/>
          </a:prstGeom>
          <a:ln w="0">
            <a:noFill/>
          </a:ln>
        </p:spPr>
      </p:pic>
      <p:pic>
        <p:nvPicPr>
          <p:cNvPr id="113" name="冯骥才《珍珠鸟》.mp3" descr=""/>
          <p:cNvPicPr/>
          <p:nvPr/>
        </p:nvPicPr>
        <p:blipFill>
          <a:blip r:embed="rId2"/>
          <a:stretch/>
        </p:blipFill>
        <p:spPr>
          <a:xfrm>
            <a:off x="723600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语文S版五年级下册《第7课珍珠鸟》课件素材之课文朗读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6829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22543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676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请大家朗读课文，注意：读准字音，读通课文内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573876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3200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7777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777777"/>
                </a:solidFill>
                <a:latin typeface="Times New Roman"/>
                <a:ea typeface="隶书"/>
              </a:rPr>
              <a:t>再读一遍：快速阅读课文，说说通过读课文，你知道了什么？（课文主要写了什么？珍珠鸟长什么样儿？珍珠鸟的习性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鸟"/>
          <p:cNvPicPr/>
          <p:nvPr/>
        </p:nvPicPr>
        <p:blipFill>
          <a:blip r:embed="rId1"/>
          <a:stretch/>
        </p:blipFill>
        <p:spPr>
          <a:xfrm>
            <a:off x="5486400" y="609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900000" y="333360"/>
            <a:ext cx="13716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读一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46280" y="190512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MingLiU"/>
                <a:ea typeface="MingLiU"/>
              </a:rPr>
              <a:t>   </a:t>
            </a:r>
            <a:r>
              <a:rPr b="1" lang="zh-CN" sz="3200" spc="-1" strike="noStrike">
                <a:solidFill>
                  <a:srgbClr val="777777"/>
                </a:solidFill>
                <a:latin typeface="MingLiU"/>
                <a:ea typeface="MingLiU"/>
              </a:rPr>
              <a:t>找出课文中描写珍珠鸟活动的段落。 划出课文中描写珍珠鸟活动的有关动词，神态描写的句子，活动地点的词语。想想珍珠鸟前后有什么变化？为什么有这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4952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MingLiU"/>
                <a:ea typeface="MingLiU"/>
              </a:rPr>
              <a:t>  </a:t>
            </a:r>
            <a:r>
              <a:rPr b="1" lang="zh-CN" sz="3200" spc="-1" strike="noStrike">
                <a:solidFill>
                  <a:srgbClr val="777777"/>
                </a:solidFill>
                <a:latin typeface="MingLiU"/>
                <a:ea typeface="MingLiU"/>
              </a:rPr>
              <a:t>自由朗读课文，划出文中交代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MingLiU"/>
              </a:rPr>
              <a:t>“</a:t>
            </a:r>
            <a:r>
              <a:rPr b="1" lang="zh-CN" sz="3200" spc="-1" strike="noStrike">
                <a:solidFill>
                  <a:srgbClr val="777777"/>
                </a:solidFill>
                <a:latin typeface="MingLiU"/>
                <a:ea typeface="MingLiU"/>
              </a:rPr>
              <a:t>我</a:t>
            </a:r>
            <a:r>
              <a:rPr b="1" lang="zh-CN" sz="3200" spc="-1" strike="noStrike">
                <a:solidFill>
                  <a:srgbClr val="777777"/>
                </a:solidFill>
                <a:latin typeface="Times New Roman"/>
                <a:ea typeface="MingLiU"/>
              </a:rPr>
              <a:t>”</a:t>
            </a:r>
            <a:r>
              <a:rPr b="1" lang="zh-CN" sz="3200" spc="-1" strike="noStrike">
                <a:solidFill>
                  <a:srgbClr val="777777"/>
                </a:solidFill>
                <a:latin typeface="MingLiU"/>
                <a:ea typeface="MingLiU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7777"/>
                </a:solidFill>
                <a:latin typeface="MingLiU"/>
                <a:ea typeface="MingLiU"/>
              </a:rPr>
              <a:t>举动的语句。</a:t>
            </a:r>
            <a:r>
              <a:rPr b="1" lang="zh-CN" sz="3200" spc="-1" strike="noStrike">
                <a:solidFill>
                  <a:srgbClr val="3b812f"/>
                </a:solidFill>
                <a:latin typeface="MingLiU"/>
                <a:ea typeface="MingLi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WordArt 4" descr=""/>
          <p:cNvPicPr/>
          <p:nvPr/>
        </p:nvPicPr>
        <p:blipFill>
          <a:blip r:embed="rId1"/>
          <a:stretch/>
        </p:blipFill>
        <p:spPr>
          <a:xfrm>
            <a:off x="1743120" y="438120"/>
            <a:ext cx="4413240" cy="117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鸟"/>
          <p:cNvPicPr/>
          <p:nvPr/>
        </p:nvPicPr>
        <p:blipFill>
          <a:blip r:embed="rId2"/>
          <a:stretch/>
        </p:blipFill>
        <p:spPr>
          <a:xfrm>
            <a:off x="6705720" y="1066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6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1:17:08Z</dcterms:created>
  <dc:creator/>
  <dc:description/>
  <dc:language>en-US</dc:language>
  <cp:lastModifiedBy>Administrator</cp:lastModifiedBy>
  <dcterms:modified xsi:type="dcterms:W3CDTF">2014-09-27T13:50:59Z</dcterms:modified>
  <cp:revision>81</cp:revision>
  <dc:subject/>
  <dc:title>珍珠鸟</dc:title>
</cp:coreProperties>
</file>