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whoosh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4.jpeg" ContentType="image/jpeg"/>
  <Override PartName="/ppt/media/image8.png" ContentType="image/png"/>
  <Override PartName="/ppt/media/chimes.wav" ContentType="audio/x-wav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E53-7A37-4F9C-9E59-4F1EC68C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D8E-09CE-484E-8407-6F2DE45C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B74-50F9-4076-BF17-42B6F937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FF2-1C90-4177-85BC-13D064F1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F0A8-7CED-4E7B-9014-F2E1F342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D0A3-CB53-44CB-9289-B36E44FA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7822-B4F3-4815-AFCA-E48484D6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AEFB-F10E-4770-AE92-C02078E1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7D81-87E7-4242-A3C5-095B7E8D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C7DF-F44E-40F0-84A8-41CD9AA9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21D9-00B5-4B53-B665-59C04CF6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AE3-BD32-4586-9256-02007C9C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6823-E7FB-4CBC-83B9-6F3EE9CF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F265-DB69-4EEC-B5AD-55C1DF0B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869F-0312-478B-8FD2-936C797A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6E7D-1C33-4F28-9835-012BB786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0E2D-6791-4B30-8217-DB89D64C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273-475E-4BED-AEFD-623666B1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547-2659-4889-AD5C-F7D8B987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CE2-B308-4789-B915-A7B51BA0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A7F-CAA3-4A2A-AA9C-234C258A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985-55F4-4BDB-B80F-0140174F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F13-B442-49AB-A509-7C5A126E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92D-D773-4BC3-A58D-06BED9C1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8E20-B398-40C8-9969-44941765C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1615-A299-4615-8838-D6971DAE24D5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826920" y="1700280"/>
            <a:ext cx="7274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默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课文，找出表现珍珠鸟“不怕人”的语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做上记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说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哪句话、哪个词最能突出珍珠鸟的“不怕人”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826920" y="170028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起先，这小家伙只在笼子四周活动，随后就在屋里飞来飞去，一会儿落在柜顶上，一会儿神气十足地站在书架上，啄着书背上那些大文豪的名字，一会儿把灯绳撞得来回摇动，跟着逃到画框上去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1700280"/>
            <a:ext cx="727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起先，这小家伙只在笼子四周活动，随后就在屋里飞来飞去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会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落在柜顶上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会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神气十足地站在书架上，啄着书背上那些大文豪的名字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会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把灯绳撞得来回摇动，跟着逃到画框上去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826920" y="170028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我呢，决不掀开叶片往里看，连添食加水时也不睁大好奇的眼睛去惊动它们。 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1187280" y="1341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好！朋友送我一对珍珠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5943600" cy="4211640"/>
          </a:xfrm>
          <a:prstGeom prst="rect">
            <a:avLst/>
          </a:prstGeom>
          <a:ln w="0">
            <a:noFill/>
          </a:ln>
        </p:spPr>
      </p:pic>
      <p:sp>
        <p:nvSpPr>
          <p:cNvPr id="119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200872515731"/>
          <p:cNvPicPr/>
          <p:nvPr/>
        </p:nvPicPr>
        <p:blipFill>
          <a:blip r:embed="rId1"/>
          <a:stretch/>
        </p:blipFill>
        <p:spPr>
          <a:xfrm>
            <a:off x="611280" y="285264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908000" y="184464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哟，雏儿！正是这小家伙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219640" y="3213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红嘴红脚，灰蓝色的毛，只是后背还没生出珍珠似的圆圆的白点。它好肥，整个身子好像一个蓬松的球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867280" y="5300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____________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页脚占位符 7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826920" y="1484280"/>
            <a:ext cx="777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读第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8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隶书"/>
              </a:rPr>
              <a:t>—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自然段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“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隶书"/>
              </a:rPr>
              <a:t>———”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画出描写雏儿活动的句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“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~~~~~~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画出描写我表现的句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6" descr="200872515731"/>
          <p:cNvPicPr/>
          <p:nvPr/>
        </p:nvPicPr>
        <p:blipFill>
          <a:blip r:embed="rId1"/>
          <a:stretch/>
        </p:blipFill>
        <p:spPr>
          <a:xfrm>
            <a:off x="611280" y="4437000"/>
            <a:ext cx="2303280" cy="189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zjzj_fyc"/>
          <p:cNvPicPr/>
          <p:nvPr/>
        </p:nvPicPr>
        <p:blipFill>
          <a:blip r:embed="rId2"/>
          <a:stretch/>
        </p:blipFill>
        <p:spPr>
          <a:xfrm>
            <a:off x="7020000" y="4149720"/>
            <a:ext cx="1827000" cy="2349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132000" y="3141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页脚占位符 7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258920" y="476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珍珠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4000" y="112536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♪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在笼子四周活动，随后在屋里飞来飞去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24000" y="2276640"/>
            <a:ext cx="34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 ♪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落在我的书桌上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24000" y="2997360"/>
            <a:ext cx="36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♪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一点点挨近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蹦到我的杯子上喝茶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24000" y="4005360"/>
            <a:ext cx="35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 ♪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跑到稿纸上，绕着我的笔尖蹦跳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50920" y="49417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 ♪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啄我颤动的笔尖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友好地啄两下我的手指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227640" y="54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219640" y="1197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♪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我不管它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219640" y="2205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♪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我不去伤害它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5076720" y="2924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 ♪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我只是微微一笑，依旧写东西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5076720" y="40766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 ♪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我不动声色地写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默默享受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5076720" y="508464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 ♪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我用手抚一抚它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Picture 20" descr="f2"/>
          <p:cNvPicPr/>
          <p:nvPr/>
        </p:nvPicPr>
        <p:blipFill>
          <a:blip r:embed="rId1"/>
          <a:stretch/>
        </p:blipFill>
        <p:spPr>
          <a:xfrm>
            <a:off x="2627280" y="14130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页脚占位符 1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200872515731"/>
          <p:cNvPicPr/>
          <p:nvPr/>
        </p:nvPicPr>
        <p:blipFill>
          <a:blip r:embed="rId1"/>
          <a:stretch/>
        </p:blipFill>
        <p:spPr>
          <a:xfrm>
            <a:off x="826920" y="907920"/>
            <a:ext cx="2303640" cy="189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zjzj_fyc"/>
          <p:cNvPicPr/>
          <p:nvPr/>
        </p:nvPicPr>
        <p:blipFill>
          <a:blip r:embed="rId2"/>
          <a:stretch/>
        </p:blipFill>
        <p:spPr>
          <a:xfrm>
            <a:off x="7020000" y="4149720"/>
            <a:ext cx="1827000" cy="2349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3348000" y="2637000"/>
            <a:ext cx="403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信赖，就给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信赖，就给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信赖，就给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619280" y="90792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Picture 5" descr="200724185111223"/>
          <p:cNvPicPr/>
          <p:nvPr/>
        </p:nvPicPr>
        <p:blipFill>
          <a:blip r:embed="rId1"/>
          <a:stretch/>
        </p:blipFill>
        <p:spPr>
          <a:xfrm>
            <a:off x="4356000" y="260280"/>
            <a:ext cx="4492800" cy="62690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4"/>
          <p:cNvSpPr txBox="1"/>
          <p:nvPr/>
        </p:nvSpPr>
        <p:spPr>
          <a:xfrm>
            <a:off x="468360" y="1341360"/>
            <a:ext cx="5543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信赖，往往创造出美好的境界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1908000" y="378936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真好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页脚占位符 7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262842415314"/>
          <p:cNvPicPr/>
          <p:nvPr/>
        </p:nvPicPr>
        <p:blipFill>
          <a:blip r:embed="rId1"/>
          <a:stretch/>
        </p:blipFill>
        <p:spPr>
          <a:xfrm>
            <a:off x="755640" y="3860640"/>
            <a:ext cx="3168720" cy="2529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353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在澳洲的东部，生活着一种小鸟，当地的人们称之为“锦花鸟”，意为“锦上添花”。它们羽毛艳丽，五颜六色，体态 娇小玲珑，叫声细柔，清脆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它们生性胆小，常常躲在繁密的树林里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悄悄的探出小脑袋，露出红红的小嘴，只要一有风吹草动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427640" y="393372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140360" y="3789360"/>
            <a:ext cx="46796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它们就“吱”的一声钻进了树林里，洒落一片歌声。这就是美丽的珍珠鸟。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页脚占位符 7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87181_4"/>
          <p:cNvPicPr/>
          <p:nvPr/>
        </p:nvPicPr>
        <p:blipFill>
          <a:blip r:embed="rId1"/>
          <a:stretch/>
        </p:blipFill>
        <p:spPr>
          <a:xfrm>
            <a:off x="1219320" y="228600"/>
            <a:ext cx="6933960" cy="6327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7683840" y="563400"/>
            <a:ext cx="1155240" cy="5303880"/>
          </a:xfrm>
          <a:prstGeom prst="rect">
            <a:avLst/>
          </a:prstGeom>
          <a:solidFill>
            <a:srgbClr val="eef0e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大 象 阿 布 是 她 的 哥 哥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34440" y="380880"/>
            <a:ext cx="6069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法国的动物小天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84360" y="6093000"/>
            <a:ext cx="7543800" cy="581400"/>
          </a:xfrm>
          <a:prstGeom prst="rect">
            <a:avLst/>
          </a:prstGeom>
          <a:solidFill>
            <a:srgbClr val="e8e8a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与 小 豹 子 杰 比 一 起 甜 蜜 入 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8" name="Picture 3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59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baby13"/>
          <p:cNvPicPr/>
          <p:nvPr/>
        </p:nvPicPr>
        <p:blipFill>
          <a:blip r:embed="rId1"/>
          <a:srcRect l="0" t="7332" r="0" b="0"/>
          <a:stretch/>
        </p:blipFill>
        <p:spPr>
          <a:xfrm>
            <a:off x="2057400" y="228600"/>
            <a:ext cx="5105520" cy="5600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81760" y="914400"/>
            <a:ext cx="789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隶书"/>
              </a:rPr>
              <a:t>信赖是一朵娇嫩的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151040" y="762120"/>
            <a:ext cx="1399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隶书"/>
              </a:rPr>
              <a:t>需要我们用心去浇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684360" y="2133720"/>
            <a:ext cx="8064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仿写句子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信赖，往往创造出美好的境界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信赖是一朵娇嫩的花需要我们用心去浇灌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信赖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___________________________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WordArt 6"/>
          <p:cNvSpPr txBox="1"/>
          <p:nvPr/>
        </p:nvSpPr>
        <p:spPr>
          <a:xfrm>
            <a:off x="1187280" y="836640"/>
            <a:ext cx="17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练笔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00080287d0980988aa8d04"/>
          <p:cNvPicPr/>
          <p:nvPr/>
        </p:nvPicPr>
        <p:blipFill>
          <a:blip r:embed="rId1"/>
          <a:stretch/>
        </p:blipFill>
        <p:spPr>
          <a:xfrm>
            <a:off x="539640" y="549360"/>
            <a:ext cx="2862360" cy="324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j0365456"/>
          <p:cNvPicPr/>
          <p:nvPr/>
        </p:nvPicPr>
        <p:blipFill>
          <a:blip r:embed="rId2"/>
          <a:stretch/>
        </p:blipFill>
        <p:spPr>
          <a:xfrm rot="10800000">
            <a:off x="7235640" y="4724280"/>
            <a:ext cx="1672920" cy="18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4211640" y="765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家简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708360" y="1557360"/>
            <a:ext cx="48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冯骥才　浙江宁波人，中国当代著名作家和画家。他已出版各种作品集近百种，其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啊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雕花烟斗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高女人和她的矮丈夫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神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三寸金莲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珍珠鸟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俗世奇人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等均获全国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684360" y="386064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学奖，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感谢生活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获法国“女巫奖”和“青年读物奖”，并获瑞士“蓝眼镜蛇奖”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页脚占位符 8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71640" y="907920"/>
            <a:ext cx="7056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雏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鸟    画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框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垂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蔓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眼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睑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眸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涂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蜡    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嘴    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泻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细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腻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生意葱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茏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瞅瞅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嚓嚓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嗒嗒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443700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826920" y="105264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它小，就能轻易地由疏格的笼子里钻出来。瞧，多么像它的父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红嘴红脚，灰蓝色的毛，只是后背还没有生出珍珠似的圆圆的白点。它好肥，整个身子好像一个蓬松的球儿。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00872515731"/>
          <p:cNvPicPr/>
          <p:nvPr/>
        </p:nvPicPr>
        <p:blipFill>
          <a:blip r:embed="rId1"/>
          <a:stretch/>
        </p:blipFill>
        <p:spPr>
          <a:xfrm>
            <a:off x="611280" y="285264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5219640" y="3213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红嘴红脚，灰蓝色的毛，只是后背还没生出珍珠似的圆圆的白点。它好肥，整个身子好像一个蓬松的球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826920" y="105264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这是一种怕人的鸟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26920" y="1052640"/>
            <a:ext cx="7274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默读课文，找出表现珍珠鸟“怕人”的段落做上记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说说哪句话、哪个词最能突出珍珠鸟的“怕人”的特点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826920" y="1052640"/>
            <a:ext cx="727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小鸟的影子就在这中间隐约闪动，看不完整，有时连笼子也看不出，却见它们可爱的鲜红小嘴从绿叶中伸出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9:25:06Z</dcterms:created>
  <dc:creator>zhangye</dc:creator>
  <dc:description/>
  <dc:language>en-US</dc:language>
  <cp:lastModifiedBy>Administrator</cp:lastModifiedBy>
  <dcterms:modified xsi:type="dcterms:W3CDTF">2014-09-27T13:50:43Z</dcterms:modified>
  <cp:revision>10</cp:revision>
  <dc:subject/>
  <dc:title>幻灯片 1</dc:title>
</cp:coreProperties>
</file>