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818-8B9D-4915-A7A8-BFF6C727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6BA-F3D7-4BA5-94E8-D214728D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4B1-3727-4FB5-88A9-083D4356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6D4-322A-4CA2-8B21-026B1A47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56F-0315-4319-85A4-6DE5AAEE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72A-4987-4E5A-9D62-697C849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1698-0387-47B4-8A90-5D8F0CF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6A0-8FA0-4A95-9F1B-C5EED0F8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9529-A735-4401-9869-C7B0D6C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CF3-AC73-4E0F-8910-0FDA95F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4DD-F590-4D12-A3B3-69B7C67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C3B-5DA4-4A7B-BAD8-9818E58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790C-EDB1-4115-9CDA-DC94260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2C3-4F18-4652-854E-2F8BF333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A60A-81D7-4E4A-8E29-A85EDF05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81F7-2968-4002-BB22-D966340E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827-112F-4C68-8B88-B292B4B4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809-4803-4201-A339-B5D5962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A38-C208-4774-AB8F-F5F0F58B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EE9-2429-4F1D-9638-FCB11D9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73F-823C-4403-9921-D5F570E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79F-E2B8-42BD-B96F-64E8500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AF1-BE17-4921-A5BE-60E85EF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962-79E3-4CBF-98A5-B1DDF45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A34-6670-4186-9573-360732203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7C10-898D-4366-B921-5DC53A3F7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2006714235521419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048120" y="380880"/>
            <a:ext cx="37335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１６珍珠鸟</a:t>
            </a:r>
            <a:endParaRPr b="1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B-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WordArt 8"/>
          <p:cNvSpPr txBox="1"/>
          <p:nvPr/>
        </p:nvSpPr>
        <p:spPr>
          <a:xfrm>
            <a:off x="457200" y="533520"/>
            <a:ext cx="20574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表现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609480" y="1676520"/>
            <a:ext cx="25718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鸟的表现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0" name="WordArt 10" descr=""/>
          <p:cNvPicPr/>
          <p:nvPr/>
        </p:nvPicPr>
        <p:blipFill>
          <a:blip r:embed="rId2"/>
          <a:stretch/>
        </p:blipFill>
        <p:spPr>
          <a:xfrm>
            <a:off x="371520" y="2816280"/>
            <a:ext cx="7145280" cy="1268280"/>
          </a:xfrm>
          <a:prstGeom prst="rect">
            <a:avLst/>
          </a:prstGeom>
          <a:ln w="0">
            <a:noFill/>
          </a:ln>
        </p:spPr>
      </p:pic>
      <p:sp>
        <p:nvSpPr>
          <p:cNvPr id="201" name="页脚占位符 8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YW00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页脚占位符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C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因为我（                  ）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雏儿离我（               ）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雏儿的表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      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838080" y="0"/>
            <a:ext cx="151452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信赖，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685800" y="99072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往往创造出美好的境界。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7524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4724280" y="3809880"/>
            <a:ext cx="486000" cy="1067040"/>
          </a:xfrm>
          <a:prstGeom prst="downArrow">
            <a:avLst>
              <a:gd name="adj1" fmla="val 50000"/>
              <a:gd name="adj2" fmla="val 5488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WordArt 8" descr=""/>
          <p:cNvPicPr/>
          <p:nvPr/>
        </p:nvPicPr>
        <p:blipFill>
          <a:blip r:embed="rId1"/>
          <a:stretch/>
        </p:blipFill>
        <p:spPr>
          <a:xfrm>
            <a:off x="2425680" y="4797360"/>
            <a:ext cx="2719440" cy="14018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/>
          <p:cNvSpPr/>
          <p:nvPr/>
        </p:nvSpPr>
        <p:spPr>
          <a:xfrm rot="21472200">
            <a:off x="6294600" y="610920"/>
            <a:ext cx="1081080" cy="465300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页脚占位符 1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9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WordArt 8"/>
          <p:cNvSpPr txBox="1"/>
          <p:nvPr/>
        </p:nvSpPr>
        <p:spPr>
          <a:xfrm rot="5400000">
            <a:off x="-223920" y="1824120"/>
            <a:ext cx="319104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7095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我为珍珠鸟照相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7095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1219320" y="0"/>
            <a:ext cx="4952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还为它照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2006714235411261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04920" y="457200"/>
            <a:ext cx="7000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希望你们和动物们成为真正的朋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2" name="WordArt 5" descr=""/>
          <p:cNvPicPr/>
          <p:nvPr/>
        </p:nvPicPr>
        <p:blipFill>
          <a:blip r:embed="rId2"/>
          <a:stretch/>
        </p:blipFill>
        <p:spPr>
          <a:xfrm>
            <a:off x="1139760" y="4029120"/>
            <a:ext cx="7248600" cy="1725480"/>
          </a:xfrm>
          <a:prstGeom prst="rect">
            <a:avLst/>
          </a:prstGeom>
          <a:ln w="0">
            <a:noFill/>
          </a:ln>
        </p:spPr>
      </p:pic>
      <p:sp>
        <p:nvSpPr>
          <p:cNvPr id="233" name="页脚占位符 8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-76320" y="2438280"/>
            <a:ext cx="92203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什么是珍珠鸟？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066680" y="533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知道么？</a:t>
            </a:r>
            <a:endParaRPr b="1" lang="en-US" sz="5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-5334120" y="4952880"/>
            <a:ext cx="2286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页脚占位符 8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20060723095003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07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它是一种活泼伶俐的小鸟，红嘴红脚，蓝灰色的毛，后背的羽毛上有珍珠似的圆圆的白点，叫声又细又亮，很好听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页脚占位符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9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20065691157744"/>
          <p:cNvPicPr/>
          <p:nvPr/>
        </p:nvPicPr>
        <p:blipFill>
          <a:blip r:embed="rId1"/>
          <a:stretch/>
        </p:blipFill>
        <p:spPr>
          <a:xfrm>
            <a:off x="-304920" y="14400"/>
            <a:ext cx="9753840" cy="6829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、自由读课文，拼读文中的生字词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、划出不理解的字词并查字典或者联系上下文理解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、边读边想，课文讲了一件什么事？作者写这篇文章的目的是要告诉我们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438280" y="3808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自读要求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70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巢（  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o 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  蔓（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n   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延     覆（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盖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瞅（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ǒ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u    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 掀（      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ā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n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开    画框（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ng     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享（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ǎ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ng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　）涂（　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　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2133720" y="45720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大家注意这些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页脚占位符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藤（　　）蔓（　　）覆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滕（　　）漫（　　）复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笛（　　）瞅（　　）掀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迪（　　）揪（　　）欣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雏（　　）框（　　）蜡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稚（　　）眶（　　）腊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途（　　）享（　　）赖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涂（　　）哼（　　）懒（　　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905120" y="22860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形近字组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8" name="页脚占位符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藤蔓：指植物细长的能缠绕的茎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幽深：僻静深处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雏儿：幼小的禽鸟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信赖：信任，依靠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905120" y="38088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理解词语意思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页脚占位符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12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课文通过写作者在爱护、喂养珍珠鸟的过程中，与它们渐渐熟悉，并建立起友谊的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告诉我们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1371600" y="3808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文章说了一件什么事？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152280" y="533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52280" y="3352680"/>
            <a:ext cx="976320" cy="48600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09480" y="4343400"/>
            <a:ext cx="7239240" cy="1143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omic Sans MS"/>
              </a:rPr>
              <a:t>信赖，往往创造出美好的境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页脚占位符 9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20065694217704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533520" y="838080"/>
            <a:ext cx="3047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7095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信赖</a:t>
            </a:r>
            <a:endParaRPr b="0" lang="en-US" sz="6000" spc="1" strike="noStrike">
              <a:ln w="9360">
                <a:solidFill>
                  <a:srgbClr val="0000ff"/>
                </a:solidFill>
                <a:miter/>
              </a:ln>
              <a:solidFill>
                <a:srgbClr val="f7095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1752480" y="2514600"/>
            <a:ext cx="63248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往往创造出美好的境界。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页脚占位符 8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9-27T13:50:5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