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type.wav" ContentType="audio/x-wav"/>
  <Override PartName="/ppt/media/image13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5B9D-26F7-4D8B-A9D7-078E35A4FC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4869-369C-4D06-A868-680A22D58C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153F-15E7-4DEE-87ED-5162BCFC89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8B2A-E68B-4FF2-A039-6F679FE88A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2C8-32BF-4A61-B6D2-F739E9F6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CD1-82DD-454D-A141-EDF8A44A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9E5-DE1C-4E0B-B6FF-3F55792B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27F-9105-4814-8B78-231D1015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326-7501-41D9-B02F-DAD1CC55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F0F6-FEE9-4217-AA9C-8E7A6918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100-9382-4061-9A01-8DEB51DD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9C4-EEB7-4BB9-BF4E-7A7D4D5D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2B8-EFBD-4378-B043-C2F16441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C212-D531-4330-B0CE-53B397E1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CBB-37B3-41F9-A65F-C98A73B8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C69-18DC-4993-B150-214B79E4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97B6-0867-4CF8-9E08-BB66D3112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inzebis"/>
          <p:cNvPicPr/>
          <p:nvPr/>
        </p:nvPicPr>
        <p:blipFill>
          <a:blip r:embed="rId1"/>
          <a:stretch/>
        </p:blipFill>
        <p:spPr>
          <a:xfrm>
            <a:off x="457200" y="1789200"/>
            <a:ext cx="3886200" cy="4952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N0003B"/>
          <p:cNvPicPr/>
          <p:nvPr/>
        </p:nvPicPr>
        <p:blipFill>
          <a:blip r:embed="rId2"/>
          <a:stretch/>
        </p:blipFill>
        <p:spPr>
          <a:xfrm>
            <a:off x="4427640" y="1789200"/>
            <a:ext cx="4038480" cy="4952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1187280" y="26028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  <a:ea typeface="隶书"/>
              </a:rPr>
              <a:t>16 </a:t>
            </a: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珍 珠 鸟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2743200"/>
            <a:ext cx="678204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重新为 它们加工鸟笼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按时添食加水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按捺住好奇心不轻易打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143000" y="14479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a162b"/>
                </a:solidFill>
                <a:latin typeface="Times New Roman"/>
                <a:ea typeface="宋体"/>
              </a:rPr>
              <a:t>归纳“我”为鸟儿做了哪些事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finch"/>
          <p:cNvPicPr/>
          <p:nvPr/>
        </p:nvPicPr>
        <p:blipFill>
          <a:blip r:embed="rId1"/>
          <a:stretch/>
        </p:blipFill>
        <p:spPr>
          <a:xfrm>
            <a:off x="7010280" y="5105520"/>
            <a:ext cx="1828800" cy="1493640"/>
          </a:xfrm>
          <a:prstGeom prst="rect">
            <a:avLst/>
          </a:prstGeom>
          <a:ln w="0">
            <a:noFill/>
          </a:ln>
        </p:spPr>
      </p:pic>
      <p:sp>
        <p:nvSpPr>
          <p:cNvPr id="97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547720" y="281952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先怕人 → 熟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19320" y="12193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</a:rPr>
              <a:t>我对珍珠鸟关心爱护，珍珠鸟跟我的关系也发生了很大的变化，起先如何，后来又怎样呢？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191680" y="4495680"/>
            <a:ext cx="49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伸出小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伸出小脑袋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14400" y="3809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</a:rPr>
              <a:t>体现这一变化过程的动词有哪些呢？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finch"/>
          <p:cNvPicPr/>
          <p:nvPr/>
        </p:nvPicPr>
        <p:blipFill>
          <a:blip r:embed="rId1"/>
          <a:stretch/>
        </p:blipFill>
        <p:spPr>
          <a:xfrm>
            <a:off x="7315200" y="5364000"/>
            <a:ext cx="1828800" cy="1494000"/>
          </a:xfrm>
          <a:prstGeom prst="rect">
            <a:avLst/>
          </a:prstGeom>
          <a:ln w="0">
            <a:noFill/>
          </a:ln>
        </p:spPr>
      </p:pic>
      <p:sp>
        <p:nvSpPr>
          <p:cNvPr id="103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298880" y="-71280"/>
            <a:ext cx="2069640" cy="67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2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信赖创造出</a:t>
            </a:r>
            <a:endParaRPr b="1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2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　　　美好境界</a:t>
            </a:r>
            <a:endParaRPr b="1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1.mp3" descr=""/>
          <p:cNvPicPr/>
          <p:nvPr/>
        </p:nvPicPr>
        <p:blipFill>
          <a:blip r:embed="rId2"/>
          <a:stretch/>
        </p:blipFill>
        <p:spPr>
          <a:xfrm>
            <a:off x="9907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无标题"/>
          <p:cNvPicPr/>
          <p:nvPr/>
        </p:nvPicPr>
        <p:blipFill>
          <a:blip r:embed="rId1"/>
          <a:stretch/>
        </p:blipFill>
        <p:spPr>
          <a:xfrm>
            <a:off x="685800" y="304920"/>
            <a:ext cx="3429000" cy="3124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6"/>
          <p:cNvPicPr/>
          <p:nvPr/>
        </p:nvPicPr>
        <p:blipFill>
          <a:blip r:embed="rId2"/>
          <a:stretch/>
        </p:blipFill>
        <p:spPr>
          <a:xfrm>
            <a:off x="5334120" y="2286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42"/>
          <p:cNvPicPr/>
          <p:nvPr/>
        </p:nvPicPr>
        <p:blipFill>
          <a:blip r:embed="rId3"/>
          <a:stretch/>
        </p:blipFill>
        <p:spPr>
          <a:xfrm>
            <a:off x="685800" y="3657600"/>
            <a:ext cx="3429000" cy="2971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大象"/>
          <p:cNvPicPr/>
          <p:nvPr/>
        </p:nvPicPr>
        <p:blipFill>
          <a:blip r:embed="rId4"/>
          <a:stretch/>
        </p:blipFill>
        <p:spPr>
          <a:xfrm>
            <a:off x="5334120" y="3719520"/>
            <a:ext cx="3200400" cy="2919240"/>
          </a:xfrm>
          <a:prstGeom prst="rect">
            <a:avLst/>
          </a:prstGeom>
          <a:ln w="0">
            <a:noFill/>
          </a:ln>
        </p:spPr>
      </p:pic>
      <p:pic>
        <p:nvPicPr>
          <p:cNvPr id="111" name="1.MID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2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小学语文（散文）02-3"/>
          <p:cNvPicPr/>
          <p:nvPr/>
        </p:nvPicPr>
        <p:blipFill>
          <a:blip r:embed="rId1"/>
          <a:stretch/>
        </p:blipFill>
        <p:spPr>
          <a:xfrm>
            <a:off x="1103400" y="1065240"/>
            <a:ext cx="1714320" cy="4572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187280" y="1557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、理解句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信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往往创造出美好的境界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187280" y="2133720"/>
            <a:ext cx="6407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作者用自己的爱心照顾和呵护着珍珠鸟，使珍珠鸟不再怕人，作者和鸟之间用信赖创造出了美好的境界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小学语文（散文）02-3"/>
          <p:cNvPicPr/>
          <p:nvPr/>
        </p:nvPicPr>
        <p:blipFill>
          <a:blip r:embed="rId1"/>
          <a:stretch/>
        </p:blipFill>
        <p:spPr>
          <a:xfrm>
            <a:off x="1103400" y="1065240"/>
            <a:ext cx="1714320" cy="457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706400" y="1700280"/>
            <a:ext cx="17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填一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47640" y="2849400"/>
            <a:ext cx="6264360" cy="10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　　本文是一篇富有诗情画意的状物散文。课文以细腻亲切的语言写出了小鸟由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的变化过程。作者从中感悟到：　　　　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476360" y="3860640"/>
            <a:ext cx="128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怕”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421080" y="3876840"/>
            <a:ext cx="16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信赖”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195640" y="4869000"/>
            <a:ext cx="532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信赖，往往创造出美好的境界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34920" y="836640"/>
            <a:ext cx="9577440" cy="382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信赖是一座桥，让我们心灵相通，真情相融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信赖是一盏灯，让我们前进的路更明更亮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信赖是一首歌，让我们的歌声在如画的生活中飞扬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信赖是一首诗，让我们每一天都在诗意般的童话中欢笑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信赖是一幅画，让地球家园的每一个成员更融洽，更和谐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信赖是一抹阳光，让我们的生活五彩缤纷，绚丽多姿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信赖是一缕春风，让我们的笑脸在美丽的春光中荡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95280" y="189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一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26"/>
          <p:cNvSpPr/>
          <p:nvPr/>
        </p:nvSpPr>
        <p:spPr>
          <a:xfrm>
            <a:off x="3837240" y="17524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鸟语花香、惊弓之鸟 、鸟尽弓藏、百鸟争鸣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27"/>
          <p:cNvSpPr/>
          <p:nvPr/>
        </p:nvSpPr>
        <p:spPr>
          <a:xfrm>
            <a:off x="457200" y="2666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a162b"/>
                </a:solidFill>
                <a:latin typeface="Times New Roman"/>
                <a:ea typeface="宋体"/>
              </a:rPr>
              <a:t>关于鸟的诗句例如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028"/>
          <p:cNvSpPr/>
          <p:nvPr/>
        </p:nvSpPr>
        <p:spPr>
          <a:xfrm>
            <a:off x="366840" y="3597120"/>
            <a:ext cx="8624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春眠不觉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处处闻啼鸟。（孟浩然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几处早莺争暖树，谁家新燕啄春泥。（白居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个黄鹂鸣翠柳，一行白鹭上青天。（杜甫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鸟向檐上飞，云从窗里出。（吴均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29"/>
          <p:cNvSpPr/>
          <p:nvPr/>
        </p:nvSpPr>
        <p:spPr>
          <a:xfrm>
            <a:off x="380880" y="990720"/>
            <a:ext cx="49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a162b"/>
                </a:solidFill>
                <a:latin typeface="Times New Roman"/>
                <a:ea typeface="宋体"/>
              </a:rPr>
              <a:t>关于鸟的成语例如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2003-08-10-04-40-31618310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447920" y="1295280"/>
            <a:ext cx="603540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业二选一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这篇文章为我们描绘出很多美好的画面，喜欢画画的同学可以任选一个画下来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你和小动物之间发生过什么故事吗？喜欢写作的同学可以把这个故事写下来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7b4ddbefb90878eacf1b3e5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5"/>
          <p:cNvSpPr txBox="1"/>
          <p:nvPr/>
        </p:nvSpPr>
        <p:spPr>
          <a:xfrm>
            <a:off x="990720" y="2057400"/>
            <a:ext cx="5029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再见！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9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z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2003-08-10-04-40-316183107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1066680" y="1295280"/>
            <a:ext cx="72392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　呷   　眸 子　眼 睑　雏 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垂 蔓　 深 幽　  斑 斑 驳 驳　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447920" y="1447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宋体"/>
              </a:rPr>
              <a:t>xi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972520" y="137160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宋体"/>
              </a:rPr>
              <a:t>mó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106240" y="14479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宋体"/>
              </a:rPr>
              <a:t>jiă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249600" y="137160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宋体"/>
              </a:rPr>
              <a:t>ch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067040" y="3429000"/>
            <a:ext cx="17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宋体"/>
              </a:rPr>
              <a:t>chuí mà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048120" y="3429000"/>
            <a:ext cx="17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宋体"/>
              </a:rPr>
              <a:t>shēn yō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5027760" y="342900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宋体"/>
              </a:rPr>
              <a:t>bān bān bó b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990720" y="1447920"/>
            <a:ext cx="696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311120" y="4764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页脚占位符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7" descr="2003-08-10-04-40-31618310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26"/>
          <p:cNvSpPr/>
          <p:nvPr/>
        </p:nvSpPr>
        <p:spPr>
          <a:xfrm>
            <a:off x="1547640" y="692280"/>
            <a:ext cx="6400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速读课文思考（一）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珍珠鸟在“我”的照料和呵护下发生了哪些变化？从中你发现了什么，感受到了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29"/>
          <p:cNvSpPr/>
          <p:nvPr/>
        </p:nvSpPr>
        <p:spPr>
          <a:xfrm>
            <a:off x="4736520" y="3733920"/>
            <a:ext cx="15523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自学提示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用笔勾画出珍珠鸟变化的语句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四人一组交流讨论完成填空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每组派一名代表汇报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3" descr="2003-08-10-04-40-316183107"/>
          <p:cNvPicPr/>
          <p:nvPr/>
        </p:nvPicPr>
        <p:blipFill>
          <a:blip r:embed="rId1"/>
          <a:stretch/>
        </p:blipFill>
        <p:spPr>
          <a:xfrm>
            <a:off x="0" y="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885960" y="3141720"/>
            <a:ext cx="82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鸟出世了，起先这个小家伙只在（                           ）；随后在（                          ）；渐渐地它胆子大了，在（                                  ）；有一天，它居然在（                                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881000" y="3581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笼子四周活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528960" y="3581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屋里飞来飞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652720" y="4005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我的书桌上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428360" y="44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我的肩膀上睡着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finch"/>
          <p:cNvPicPr/>
          <p:nvPr/>
        </p:nvPicPr>
        <p:blipFill>
          <a:blip r:embed="rId2"/>
          <a:stretch/>
        </p:blipFill>
        <p:spPr>
          <a:xfrm>
            <a:off x="7315200" y="5029200"/>
            <a:ext cx="1828800" cy="1494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1219320" y="990720"/>
            <a:ext cx="716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珍珠鸟本来是一种（                   ）。刚到我家时，开始只能听到（                   ），后来能看见（                     ），渐渐它们敢（                                ）。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5480640" y="990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害怕人的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940720" y="134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它的叫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3780720" y="1844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鲜红的小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340000" y="227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伸出小脑袋看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页脚占位符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26" descr="2003-08-10-04-40-31618310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28"/>
          <p:cNvSpPr/>
          <p:nvPr/>
        </p:nvSpPr>
        <p:spPr>
          <a:xfrm>
            <a:off x="1523880" y="1219320"/>
            <a:ext cx="64008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速读课文思考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二）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”是怎样照料和呵护珍珠鸟的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珍珠鸟1"/>
          <p:cNvPicPr/>
          <p:nvPr/>
        </p:nvPicPr>
        <p:blipFill>
          <a:blip r:embed="rId1"/>
          <a:stretch/>
        </p:blipFill>
        <p:spPr>
          <a:xfrm>
            <a:off x="1905120" y="533520"/>
            <a:ext cx="5486400" cy="5486400"/>
          </a:xfrm>
          <a:prstGeom prst="rect">
            <a:avLst/>
          </a:prstGeom>
          <a:ln w="0">
            <a:noFill/>
          </a:ln>
        </p:spPr>
      </p:pic>
      <p:pic>
        <p:nvPicPr>
          <p:cNvPr id="89" name="001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《珍珠鸟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our Else.mp3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3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5:40:38Z</dcterms:created>
  <dc:creator>user</dc:creator>
  <dc:description/>
  <dc:language>en-US</dc:language>
  <cp:lastModifiedBy>Administrator</cp:lastModifiedBy>
  <dcterms:modified xsi:type="dcterms:W3CDTF">2014-09-27T13:50:46Z</dcterms:modified>
  <cp:revision>34</cp:revision>
  <dc:subject/>
  <dc:title>人教版五年级语文上册第四组《16珍珠鸟》PPT课件.ppt</dc:title>
</cp:coreProperties>
</file>