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F35-A422-44E3-AB7A-254C3175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114A-2720-4057-945E-24D39918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0D4-411E-4985-9653-57C05C45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CB63-80F4-4B18-8AEA-DB3D85BD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DE0-39FF-4720-ABFC-5E58923E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F725-920A-4B59-AF1E-E12D4134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E15B-A83C-4E45-82AE-0B224790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F78-0C56-4E8D-8B16-37C3BEEE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0223-61E0-4544-AE96-95163962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7CCA-B48B-4695-913F-E14A7DEE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B8AB-4CE2-4220-86EA-1D9C1B63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F225-8108-4BBC-8BD4-81100381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0423-8862-4EF0-991A-2EEB79E35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_imgload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4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4762440" cy="5948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4833360" y="836640"/>
            <a:ext cx="26182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好书推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_imgload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Kite Runn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追风筝的人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一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阿富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家的处女作，霸占了美国两大权威畅销书排行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纽约时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排行榜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版商周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排行榜长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余周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获得各项新人奖，并跃居全美各大畅销排行榜，目前正由梦工厂改拍成电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24000" y="26028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分享理由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ttp_imgload2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6"/>
          <p:cNvSpPr/>
          <p:nvPr/>
        </p:nvSpPr>
        <p:spPr>
          <a:xfrm>
            <a:off x="2916360" y="836640"/>
            <a:ext cx="56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1547640" y="907920"/>
            <a:ext cx="70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卡勒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胡赛尼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haled Hossein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追风筝的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他的第一本小说，因书中角色刻画生动，故事情节震撼感人，如果在你得到此生最珍贵的爱的同时，你还必须承受自身以及自己生活中的怯懦、自私、谎言、卑微、残缺、虚假、嫉妒、矫情、伤害等等令你无法应付的混乱，并且这爱和混乱还发生在你的童年，你会怎样？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539640" y="18900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分享理由（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52"/>
          <p:cNvPicPr/>
          <p:nvPr/>
        </p:nvPicPr>
        <p:blipFill>
          <a:blip r:embed="rId1"/>
          <a:stretch/>
        </p:blipFill>
        <p:spPr>
          <a:xfrm>
            <a:off x="0" y="0"/>
            <a:ext cx="9144000" cy="709920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1908000" y="1916280"/>
            <a:ext cx="5472360" cy="22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走进小说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_imgload24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7" name="WordArt 5"/>
          <p:cNvSpPr txBox="1"/>
          <p:nvPr/>
        </p:nvSpPr>
        <p:spPr>
          <a:xfrm>
            <a:off x="611280" y="0"/>
            <a:ext cx="613260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为什么要逼走哈桑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84360" y="206064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的阿富汗富家少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阿米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仆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哈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同手足。然而，在一场</a:t>
            </a:r>
            <a:r>
              <a:rPr b="0" i="1" lang="zh-CN" sz="3200" spc="-1" strike="noStrike">
                <a:solidFill>
                  <a:srgbClr val="cc0099"/>
                </a:solidFill>
                <a:latin typeface="Arial"/>
              </a:rPr>
              <a:t>风筝比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，发生了一件悲惨不堪的事，阿米尔为自己的懦弱感到自责和痛苦，逼走了哈桑，不久，自己也跟随父亲逃往美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7"/>
          <p:cNvSpPr txBox="1"/>
          <p:nvPr/>
        </p:nvSpPr>
        <p:spPr>
          <a:xfrm>
            <a:off x="5508720" y="2349360"/>
            <a:ext cx="287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怯懦</a:t>
            </a:r>
            <a:endParaRPr b="1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5796000" y="3789360"/>
            <a:ext cx="273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嫉妒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5796000" y="5157720"/>
            <a:ext cx="2736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自私</a:t>
            </a:r>
            <a:endParaRPr b="1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ttp_imgload31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50920" y="404640"/>
            <a:ext cx="81374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多年后的一通电话把阿米尔又重新召回了阿富汗，回来时，他带了一个孩子，那是哈桑的孩子，哈桑已经死去了，来寻找当年失去的哈桑，不只是为了那份单纯的友谊，也为了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阿米尔最终救出了索拉博，成为了好人，带着他去美国过着美好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为了使生活在美国但是永远郁郁寡欢的索拉博快乐起来，他带着索拉博参加露营的放风筝活动，在索拉博惊讶的目光下，阿米尔重新回到了十二岁的年纪，重新体会到了那种纯真无私的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ttp_imgload31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692360" y="1413000"/>
            <a:ext cx="511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619280" y="1413000"/>
            <a:ext cx="51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1547640" y="260280"/>
            <a:ext cx="583272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时的爱甚至比二十六年前更为让人快乐，因为此时的阿米尔心中也充满了对自己伙伴纯真无私的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十六年前，哈桑对阿米尔说：“你想要我追那只风筝给你吗？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十六年后，阿米尔对索拉博说：“你想要我追那只风筝给你吗？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十六年前，哈桑对阿米尔说：“为你，千千万万遍！”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十六年后，阿米尔对索拉博说：“为你，千千万万遍！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http_imgloadCAS7FRB818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5" name="WordArt 5"/>
          <p:cNvSpPr txBox="1"/>
          <p:nvPr/>
        </p:nvSpPr>
        <p:spPr>
          <a:xfrm>
            <a:off x="1042920" y="189000"/>
            <a:ext cx="4969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微软雅黑"/>
              </a:rPr>
              <a:t>我的感想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79280" y="2065320"/>
            <a:ext cx="81378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为你，千千万万遍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一句感人肺腑的表白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感动于哈桑那无可挑剔的真诚、奉献 ，即使相隔二十余年 ，即使已不在同一个世界 ，但只要他们彼此还有思念 ，世界也会为他们震动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    其实我们每个人心中都有一个风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生错过就不会再得到，也许我们会忏悔，会救赎，但这些似乎都已经晚了，每当天空放飞起风筝的那一刻，我们是不是应该问问自己我们是否真的珍惜我们所拥有的一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心的无愧和宁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ttp_imgloadCA5Y6C6D5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80" name="WordArt 7"/>
          <p:cNvSpPr txBox="1"/>
          <p:nvPr/>
        </p:nvSpPr>
        <p:spPr>
          <a:xfrm>
            <a:off x="3203640" y="2492280"/>
            <a:ext cx="23130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4:27:57Z</dcterms:created>
  <dc:creator>Ms</dc:creator>
  <dc:description/>
  <dc:language>en-US</dc:language>
  <cp:lastModifiedBy>LBDZ</cp:lastModifiedBy>
  <dcterms:modified xsi:type="dcterms:W3CDTF">2016-05-09T05:48:57Z</dcterms:modified>
  <cp:revision>11</cp:revision>
  <dc:subject/>
  <dc:title>幻灯片 1</dc:title>
</cp:coreProperties>
</file>