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B4A-5AE5-499F-A718-6F5D0462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BBD-77A3-467A-BAFC-D90CCAC6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BD8-EBB9-40C9-ADC8-52E64439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08F-1A6C-4BB4-AFE5-C7E0BF27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E1D-D920-480E-8695-3DCA70FF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C1A-655D-4178-A2D5-A2439832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399-D216-4011-947D-98223997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C9E-61DD-4C63-9CB1-647616A6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644-4D4E-4538-9E98-658F2270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325-DEF7-439E-9660-6515482E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71D-9712-403D-92CB-49A7803F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620-225D-4935-B827-AE1A6DDA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A63C-B3F9-4418-BCF4-959AEDC528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 txBox="1"/>
          <p:nvPr/>
        </p:nvSpPr>
        <p:spPr>
          <a:xfrm>
            <a:off x="1187280" y="1268280"/>
            <a:ext cx="6840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 </a:t>
            </a: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烛之武退秦师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724360" y="4005360"/>
            <a:ext cx="2303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《左传》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8497800" cy="532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③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重耳过郑（公元前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637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年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这一年，晋公子重耳在齐国居五年后，离开齐国。经曹、宋路过郑国。郑国大夫叔瞻劝郑文公要以礼待重耳，郑文公却以“诸侯亡公子过此者众，安可尽礼！”为由，不听叔瞻劝告，对重耳不礼。这就是课文中“以其无礼于晋”一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280360" cy="590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方正宋黑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方正宋黑简体"/>
                <a:ea typeface="方正宋黑简体"/>
              </a:rPr>
              <a:t>④</a:t>
            </a:r>
            <a:r>
              <a:rPr b="1" lang="zh-CN" sz="2800" spc="-1" strike="noStrike">
                <a:solidFill>
                  <a:srgbClr val="a50021"/>
                </a:solidFill>
                <a:latin typeface="方正宋黑简体"/>
                <a:ea typeface="方正宋黑简体"/>
              </a:rPr>
              <a:t>郑楚结盟（公元前</a:t>
            </a:r>
            <a:r>
              <a:rPr b="1" lang="zh-CN" sz="2800" spc="-1" strike="noStrike">
                <a:solidFill>
                  <a:srgbClr val="a50021"/>
                </a:solidFill>
                <a:latin typeface="方正宋黑简体"/>
                <a:ea typeface="方正宋黑简体"/>
              </a:rPr>
              <a:t>632</a:t>
            </a:r>
            <a:r>
              <a:rPr b="1" lang="zh-CN" sz="2800" spc="-1" strike="noStrike">
                <a:solidFill>
                  <a:srgbClr val="a50021"/>
                </a:solidFill>
                <a:latin typeface="方正宋黑简体"/>
                <a:ea typeface="方正宋黑简体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方正宋黑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方正宋黑简体"/>
                <a:ea typeface="方正宋黑简体"/>
              </a:rPr>
              <a:t>是年四月，晋楚争霸中原，战于城濮，楚军大败。晋文公尊周攘夷，成为春秋霸主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方正宋黑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方正宋黑简体"/>
                <a:ea typeface="方正宋黑简体"/>
              </a:rPr>
              <a:t>当时，郑国处四战之地，无险可据，又自无礼于重耳之后，故背晋助楚，因此，郑文公曾到楚国怂恿楚成王出兵作战。楚败，郑文公内心恐惧，又派大夫子人九到晋国请罪求和。五月，晋侯、郑伯盟于衡雍（今河南原阳西）。晋文公受周天子册命与四方诸侯盟于践土（在衡雍之西），晋文公为盟主，郑参与践土之盟，但晋、郑间的隔阂并未消除。郑既怂恿楚国出兵攻晋，又盟于晋，这就是文中所言“且贰于楚也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方正宋黑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方正宋黑简体"/>
                <a:ea typeface="方正宋黑简体"/>
              </a:rPr>
              <a:t>《烛之武退秦师》这个故事发生在公元前</a:t>
            </a:r>
            <a:r>
              <a:rPr b="1" lang="zh-CN" sz="2800" spc="-1" strike="noStrike">
                <a:solidFill>
                  <a:srgbClr val="a50021"/>
                </a:solidFill>
                <a:latin typeface="方正宋黑简体"/>
                <a:ea typeface="方正宋黑简体"/>
              </a:rPr>
              <a:t>630</a:t>
            </a:r>
            <a:r>
              <a:rPr b="1" lang="zh-CN" sz="2800" spc="-1" strike="noStrike">
                <a:solidFill>
                  <a:srgbClr val="a50021"/>
                </a:solidFill>
                <a:latin typeface="方正宋黑简体"/>
                <a:ea typeface="方正宋黑简体"/>
              </a:rPr>
              <a:t>年。与城濮之战只相隔两年。因此秦、晋围郑实属城濮之战的余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9154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40000" y="6021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春秋时期形势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0920" y="981000"/>
            <a:ext cx="8137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f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南            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y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狐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夜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zhu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出   　  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gōn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乏困　  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q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u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秦            秦伯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yu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　　　　     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án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失其所与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知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zh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无能为也已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y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8900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读课文、正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88000" y="206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2637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00720" y="191628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84240" y="40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4076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99840" y="1916280"/>
            <a:ext cx="42444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89400" y="2708280"/>
            <a:ext cx="3942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9040" y="4724280"/>
            <a:ext cx="3942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78120" y="4724280"/>
            <a:ext cx="3942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119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第一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989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晋侯、秦伯围郑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无礼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且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楚也。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函陵，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氾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342900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晋文公、秦穆公联合围攻郑国，因为郑国曾对晋文公无礼，并且在与晋国结盟 的情况下又与楚国结盟。晋军驻扎在函陵，秦军驻扎在氾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84360" y="333360"/>
            <a:ext cx="403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重点字、词、句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8893080" cy="5694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52480" y="57150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6093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秦晋围郑形势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15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第二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6922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佚之狐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郑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：“国危矣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若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烛之武见秦君，师必退。”公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：“臣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壮也，犹不如人；今老矣，无能为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”公曰：“吾不能早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今急而求子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寡人之过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郑亡，子亦有不利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”许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76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佚之狐对郑伯说：“我国处于危险之中，如果能派烛之武去见秦伯，一定能说服他们撤军。”郑伯同意了。烛之武推辞说：“我年轻时，尚且不如别人；现在老了，做不成什么了。”郑文公说：“我早先没有重用您，现在危急之中求您，这是我的过错。然而郑国灭亡了，对您也不利啊！”烛之武就答应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0"/>
            <a:ext cx="15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第三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762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夜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出，见秦伯，曰：“秦、晋围郑，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亡矣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亡郑而有益于君，敢以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执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越国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鄙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君知其难也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亡郑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厚，君之薄也。若舍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为东道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行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往来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乏困，君亦无所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922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夜晚用绳子将烛之武从城上放下去，去见秦伯，烛之武说：“秦、晋两国围攻郑国，郑国已经知道要灭亡了。如果灭掉郑国对您有什么好处， 那就烦劳您了。越过晋国把远方的郑国作为秦国东部边境，您知道是很难的，你何必要灭掉郑国而增加邻邦晋国的土地呢？邻邦的国力雄厚了，你的国力也就相对削弱了。假如放弃灭郑的打算，而让郑国作为你东方道路上的主人，秦国使者往来，郑国可以随时供给他们所缺乏的东西，对您秦国来说，也没有什么害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99036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且君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晋君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矣，许君焦、瑕，朝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夕设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君之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所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晋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何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之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既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东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郑，又欲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西封，若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秦，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取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阙秦以利晋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君图之。”秦伯说，与郑人盟。使杞子、逢孙、杨孙戍之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还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346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况且，您曾经对晋惠公有恩惠，他也曾答应把焦、瑕二邑割让给您。然而，他早上渡河归晋，晚上就筑城拒秦，这是您知道的。晋国有什么满足的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现在它已把郑国当作东部的疆界，又想扩张西部的疆界。如果不侵损秦国，晋国从哪里取得它所企求的土地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秦国受损而晋国受益，希望您考虑考虑这件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!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秦伯高兴了，就与郑国签订了盟约。并派杞子、逢孙、杨孙帮郑国守卫，就率军回国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189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第四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9144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公曰：“不可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微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夫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力不及此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之力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，不仁；失其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以乱易整，不武。吾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还也。”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895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子犯请求晋文公下令攻击秦军。晋文公说：“不行！假如没有那人的支持，我就不会有今天。借助了别人的力量而去损害他，这是不仁义的；失掉自己的同盟国，这是不明智的；以混乱代替联合一致，这是不勇武的。我们还是回去吧！”这样晋军也撤离了郑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87640" y="549360"/>
            <a:ext cx="2808360" cy="6426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628640"/>
            <a:ext cx="8207640" cy="2775240"/>
          </a:xfrm>
          <a:prstGeom prst="rect">
            <a:avLst/>
          </a:prstGeom>
          <a:solidFill>
            <a:srgbClr val="99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了解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先秦散文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相关知识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了解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左传》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相关知识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积累文中出现的重点文言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实词、虚词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通过诵读把握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人物形象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00"/>
                </a:solidFill>
                <a:latin typeface="Times New Roman"/>
                <a:ea typeface="华文彩云"/>
              </a:rPr>
              <a:t>结  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127944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秦晋围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265104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临危受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402264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说退秦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547056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晋师撤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9652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3260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46324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3048120"/>
            <a:ext cx="380880" cy="2514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2895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亡郑利晋阙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4038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存郑利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51814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晋忘恩负义，不可共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5715000"/>
            <a:ext cx="11430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615636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三点理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642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．分析攻郑的害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即使秦晋灭郑成功，秦国也必须越过晋国，才能到达郑国，这样对秦国不利，只对晋国有好处。如果晋国国力壮大了，相对的秦国也就吃亏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．指出不攻郑的好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如果秦放弃攻打郑国，郑国得以保存，秦国的使节往东去时，郑国可以作他们的东道主，供给他们所需要的物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．离间秦晋两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晋国曾答应给秦国焦、瑕两地，但结果背约。而且，晋国有扩张领土的野心，一旦它的国力壮大，一定会削弱秦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63640" y="189000"/>
            <a:ext cx="57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烛之武是如何说服秦王的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360" y="80928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烛之武为了说服秦穆公退师，采取了高超的攻心战术，大体说来分为五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第一步：欲扬先抑，以退为进（郑知之矣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第二步：阐明利害，动摇秦君（邻之厚，君之薄也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第三步：替秦着想，以利相诱（君亦无所害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第四步：引史为例，挑拨秦晋（君之所知也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第五步：推测未来，劝秦谨慎（唯君图之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这段说辞，只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25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字，表现出烛之武高明的心理战术和精彩的外交辞令。他看准了秦晋联合攻郑各有所图，而若取郑则客观上只会对晋有利，而对秦不仅无利，还会招祸。若秦穆公明白了这一层，就很可能反过来弃晋帮郑，烛之武抓住了秦穆公这一心理、晓之以利害，终于打动了对方。而烛之武的说辞更妙之处在于他心里处处为郑着想，但口口声声说的是为秦，这就容易被秦伯接受。整段说辞，分析利害，委婉曲折、面面俱到、步步深入、层层紧逼，句句打动对方，显示出极强的说服力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这说明作者在描写人物语言方面，尤其是在描写外交辞令方面达到了很高的水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95640" y="0"/>
            <a:ext cx="46288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烛之武游说辞令赏析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1280" y="98100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检查反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119320"/>
            <a:ext cx="87138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文选自《                       》，又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它是我国第一部叙事详细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史书，相传是春秋末年鲁国史官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作，与《                   》《                》合称为“春秋三传”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220968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左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58280" y="26971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《左氏春秋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2666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《春秋左氏传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3141720"/>
            <a:ext cx="10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编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0920" y="3645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左丘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37162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公羊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4149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谷梁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3960720" cy="720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邻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厚，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薄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140360" y="189000"/>
            <a:ext cx="3024000" cy="647640"/>
          </a:xfrm>
          <a:prstGeom prst="wedgeRoundRectCallout">
            <a:avLst>
              <a:gd name="adj1" fmla="val 147791"/>
              <a:gd name="adj2" fmla="val 892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谓之间，不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12160" y="1844640"/>
            <a:ext cx="432612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行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往来，共其乏困，君亦无所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8200" y="3068640"/>
            <a:ext cx="139968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知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4149720"/>
            <a:ext cx="381636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夫晋，何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9920" y="5013360"/>
            <a:ext cx="115596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焉取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3160" y="5805360"/>
            <a:ext cx="115596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唯君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76720" y="5589720"/>
            <a:ext cx="914400" cy="609480"/>
          </a:xfrm>
          <a:prstGeom prst="wedgeRoundRectCallout">
            <a:avLst>
              <a:gd name="adj1" fmla="val -389236"/>
              <a:gd name="adj2" fmla="val 48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076720" y="5373000"/>
            <a:ext cx="2232000" cy="934920"/>
          </a:xfrm>
          <a:prstGeom prst="wedgeRoundRectCallout">
            <a:avLst>
              <a:gd name="adj1" fmla="val -183148"/>
              <a:gd name="adj2" fmla="val 4728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词，代物、代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03640" y="3357720"/>
            <a:ext cx="2376720" cy="1009440"/>
          </a:xfrm>
          <a:prstGeom prst="wedgeRoundRectCallout">
            <a:avLst>
              <a:gd name="adj1" fmla="val -143518"/>
              <a:gd name="adj2" fmla="val 40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宾语前置的标志，不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2492280"/>
            <a:ext cx="2303280" cy="609840"/>
          </a:xfrm>
          <a:prstGeom prst="wedgeRoundRectCallout">
            <a:avLst>
              <a:gd name="adj1" fmla="val -116300"/>
              <a:gd name="adj2" fmla="val 700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助词不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042920" y="981000"/>
            <a:ext cx="24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25640" y="8636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3320" y="270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907920"/>
            <a:ext cx="647640" cy="45370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18080 h 4537080"/>
              <a:gd name="textAreaBottom" fmla="*/ 4419000 h 45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91560" y="62064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代词，代人、代事、代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97600" y="285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助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1916280"/>
            <a:ext cx="576360" cy="2520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43280" y="162864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主谓之间，消除句子独立性不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16360" y="2781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宾语前置的标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3500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补足音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422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译为“的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32000" y="515772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动词，“去、往、到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0"/>
            <a:ext cx="180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50920" y="47628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一词多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197000"/>
            <a:ext cx="48258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、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晋，何厌之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微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之力不及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逝者如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率子孙荷担者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08720" y="162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语气助词，无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26280" y="2565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指示代词，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97920" y="3573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助词，表感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90440" y="4653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名词，指成年男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4000" y="4762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、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远的地方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《为学》：“蜀之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二僧。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庸俗，鄙陋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《左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庄公十年》：“肉食者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未能远谋。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不起，轻视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《左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昭公十六年》：“我皆有礼，夫犹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。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573360"/>
            <a:ext cx="86421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、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许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现代汉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应，听从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。”、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君焦、暇。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同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《愚公移山》：“杂然相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数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《小石潭记》：“潭中鱼可百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。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68360" y="26028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、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uè 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代宫殿前两边的高建筑物；②城楼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皇宫，引申为朝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u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“缺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ué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挖掘，引申为侵损，削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3357720"/>
            <a:ext cx="79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、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小，轻微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现代汉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衰败。国势衰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卑贱。人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言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没有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《岳阳楼记》：“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斯人，吾谁与归？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95280" y="836640"/>
            <a:ext cx="81597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、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坏，破旧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方苞《左忠毅公逸事》：“使史更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衣草屦。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谦词。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疲惫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《资治通鉴》：“曹操之众，远来疲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损害。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因人之力以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515772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“说”、“辞”见课后第二题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212040" y="1700280"/>
            <a:ext cx="1399320" cy="224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先秦散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981000"/>
            <a:ext cx="187344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历史散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4292640"/>
            <a:ext cx="194472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诸子散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136440"/>
            <a:ext cx="3671640" cy="520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《尚书》、《春秋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1052640"/>
            <a:ext cx="3600360" cy="520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《左传》、《国语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1916280"/>
            <a:ext cx="2160360" cy="520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《战国策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2708280"/>
            <a:ext cx="4679640" cy="520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《论语》、《孟子》、《荀子》（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3860640"/>
            <a:ext cx="2881440" cy="520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《墨子》（墨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67280" y="4508640"/>
            <a:ext cx="4825800" cy="520560"/>
          </a:xfrm>
          <a:prstGeom prst="rect">
            <a:avLst/>
          </a:prstGeom>
          <a:solidFill>
            <a:srgbClr val="ffff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《老子》、《庄子》（道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5300640"/>
            <a:ext cx="3600360" cy="520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《韩非子》（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1341360"/>
            <a:ext cx="289080" cy="3240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333360"/>
            <a:ext cx="215640" cy="2028960"/>
          </a:xfrm>
          <a:custGeom>
            <a:avLst/>
            <a:gdLst>
              <a:gd name="textAreaLeft" fmla="*/ 137880 w 215640"/>
              <a:gd name="textAreaRight" fmla="*/ 216000 w 215640"/>
              <a:gd name="textAreaTop" fmla="*/ 52920 h 2028960"/>
              <a:gd name="textAreaBottom" fmla="*/ 1976040 h 202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51280" y="2997360"/>
            <a:ext cx="360360" cy="331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86040 h 3311280"/>
              <a:gd name="textAreaBottom" fmla="*/ 322524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6093000"/>
            <a:ext cx="2592360" cy="52056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《吕氏春秋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1484280"/>
            <a:ext cx="8088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无礼于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敢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烦执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焉用亡郑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陪邻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舍郑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东道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333360"/>
            <a:ext cx="4427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重要虚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227664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因为，连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5280" y="2852640"/>
            <a:ext cx="21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拿，用，介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28360" y="3500280"/>
            <a:ext cx="21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表顺承，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67480" y="4221000"/>
            <a:ext cx="16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把，介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39640" y="3141720"/>
            <a:ext cx="77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亦有不利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气词，表陈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亡郑以陪邻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问副词，为什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永之人争奔走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兼词，于此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土石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问代词，哪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俟夫观人风者得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词，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不阙秦，将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之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问代词，哪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404640"/>
            <a:ext cx="828036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今急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子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，连词，表顺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缒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修饰，连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亡郑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君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顺承，连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朝济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夕设版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转折，连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5280" y="40464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三、词类活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1413000"/>
            <a:ext cx="828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晋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军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陵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词作动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若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而有益于君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郑亡，动词使动用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越国以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鄙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鄙，名词的意动用法，以……为鄙；远，形容词用作名词，远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既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东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，又欲肆其西封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” 为方位名词作状语；封，名词活用作动词，“作为疆界”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68360" y="98100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共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乏困。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共，通“供”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，供给。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秦伯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说，通“悦”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，高兴。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失其所与，不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知，通“智”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，明智。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能为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已，通“矣”，语气词，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夫晋，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 厌，通“餍”，满足。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50021"/>
                </a:solidFill>
                <a:latin typeface="Times New Roman"/>
                <a:ea typeface="隶书"/>
              </a:rPr>
              <a:t>四、通假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260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五、古今异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052640"/>
            <a:ext cx="932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行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往来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行李，古义：出行的人；今义：                                    出门所带的包裹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若舍郑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以为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东道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为，古义：把…作为；        今义：认为。东道主， 古：东方道路上的主人；今：泛指设宴请客的主人。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微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夫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力不及此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夫人，古义：那人；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义：一般人的妻子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，古义：离开；今义：往，到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楚也。（贰，古：从属二主，动词；今：  “二”的大写，数词。）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24000" y="476280"/>
            <a:ext cx="39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六、文言句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628640"/>
            <a:ext cx="856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其无礼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于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（介词结构后置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佚之狐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于郑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曰。（介词结构后置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夫晋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何厌之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（宾语前置，“有何厌”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寡人之过也。（判断句—— 这是我的过错。注意：“是”是代词，译为“这”，译文中的“是”是为符合现代汉语习惯而加上去的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5280" y="69228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下列句中划线词语解释，不正确的一项是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晋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军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函陵（军：军队）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贰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于楚也（贰：从属二主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是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寡人之过也（是：这）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亡郑以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陪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邻（陪：增加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2852640"/>
            <a:ext cx="8137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列句中划线词，意义相同的一组是（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A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然郑亡，子亦有不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利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焉    阙秦以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利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晋，唯君图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B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既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封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郑                又欲肆其西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C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越国以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鄙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远，君知其难也  肉食者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鄙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未能远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D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若不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阙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秦                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阙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秦以利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64360" y="549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pperplate Gothic Bol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00720" y="2708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pperplate Gothic Bold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324480" y="5867280"/>
            <a:ext cx="2438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试一试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04920" y="152280"/>
            <a:ext cx="815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列“其”字意义不同于其他三项的是（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君知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其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难也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共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其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乏困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又欲肆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其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西封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吾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其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还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295280"/>
            <a:ext cx="8588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“佚之狐言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于郑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曰”句式相同的一项是（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A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是寡人之过也 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B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夫晋，何厌之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C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以其无理于晋 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D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晋军函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3284640"/>
            <a:ext cx="8512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列解释不正确的一项是（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然郑亡，子亦有不利焉：然而郑国灭亡了，对您也不利啊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秦伯说，与郑人盟：秦伯很高兴，与郑国签订了盟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且君尝为晋君赐矣：况且您曾经接受晋国的恩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若舍郑以为东道主：如果您能放弃围攻郑国而把它当作东方     道路上的主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44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pperplate Gothic Bold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88000" y="1197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pperplate Gothic Bold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88000" y="32130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pperplate Gothic Bold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300720" y="6095880"/>
            <a:ext cx="2438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试一试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620640"/>
            <a:ext cx="4895640" cy="7034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“四书”、“五经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628640"/>
            <a:ext cx="5398920" cy="7034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关于“经”、“传”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2781360"/>
            <a:ext cx="799308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据儒家经学传统，先师所言为“经”，后师所言为“传”，以“传”解“经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365720"/>
            <a:ext cx="799128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春秋三传”：《左传》、《公羊传》、《谷梁传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33720" y="136440"/>
            <a:ext cx="4465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zh-CN" sz="5000" spc="-1" strike="noStrike">
                <a:solidFill>
                  <a:srgbClr val="ffffff"/>
                </a:solidFill>
                <a:latin typeface="Times New Roman"/>
              </a:rPr>
              <a:t>《左传》简介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197000"/>
            <a:ext cx="8497800" cy="1991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左传》是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氏传》的简称，又名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左氏春秋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相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鲁国史官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左丘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作。它是我国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一部叙事详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编年体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作，也是一部富有文学价值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历史散文著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左传》善于描写战争和记述外交辞令，记事条理清楚，详略得当；写人简洁生动，人物形象栩栩如生，是历代散文的典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404640"/>
            <a:ext cx="561672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左传》的写作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1341360"/>
            <a:ext cx="76327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叙事富有故事性、戏剧性，有紧张动人的情节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2852640"/>
            <a:ext cx="748836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善于写战事，特别是几次大规模的战事写得最出色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4365720"/>
            <a:ext cx="590400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辞令美，即语言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2983680"/>
            <a:ext cx="8209080" cy="16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秦晋围郑发生在公元前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630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年。在此之前，郑国做了两件对不起晋国的事。一是晋文公当年逃亡路过郑国时，郑国没有以礼相待；二是在公元前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632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年的晋、楚城濮之战中，郑国曾出兵帮助楚国。结果是楚国大败。郑国感到形势不妙，马上派人出使晋国，与晋结好。但仍未感化晋国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晋国为什么要联合秦国攻郑呢？因为当时秦国也要争夺霸权，也需向外扩张。发生在公元前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632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年的城濮之战，事实上是两大军事集团间的战争。一方是晋文公率晋、宋、齐、秦四国联军，另一方则是以楚为主的楚、陈、蔡、郑四国联军。两年后，当晋国发动对郑国的战争时，自然要寻找得力的伙伴。秦晋历史上关系一直很好；更重要的是，秦也有向外扩张的欲望，于是秦晋联合也就必然了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916360" y="333360"/>
            <a:ext cx="2950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相关背景：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280360" cy="475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秦立晋君（公元前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651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这一年，晋献公卒，晋国陷入内乱。晋国大夫里克杀了晋献公的庶子夷齐、卓子。并派人迎接公子重耳，重耳不就。后又派人迎接献工次子夷吾。夷吾采纳了大臣吕省，卻芮的意见，厚礼贿赂秦国，答应割让晋河以东之地予秦。于是秦穆公拥立夷吾为君，即晋惠公。这就是课文中所言“且君尝为晋君赐矣”。“君”即秦穆公，“晋君”即晋惠公，“赐”则指“秦立晋君”之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42920" y="54936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补充资料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640720" cy="576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②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惠公背约（公元前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650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年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晋惠公借秦国之力即位后，对割让土地之事非常后悔，就派大臣丕郑赴秦国，以先君之地不得擅许为由食言。这就是文中“许君焦、瑕、朝济而夕设版焉”，“君”指秦穆公，“许君焦、瑕”则指公元前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651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年夷吾答应予秦河东之地一事。秦晋两国之间的关系从此出现了裂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1:27:37Z</dcterms:created>
  <dc:creator>ls</dc:creator>
  <dc:description/>
  <dc:language>en-US</dc:language>
  <cp:lastModifiedBy>YlmF</cp:lastModifiedBy>
  <dcterms:modified xsi:type="dcterms:W3CDTF">2008-09-22T01:47:02Z</dcterms:modified>
  <cp:revision>163</cp:revision>
  <dc:subject/>
  <dc:title>PowerPoint 演示文稿</dc:title>
</cp:coreProperties>
</file>