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1B04-3902-4638-A881-A4390C0A3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DB50-6C0C-4A88-91A9-E87AAFF73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E41C-724B-4E56-ADF7-7F1C6C3AD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B8AF-1266-4A42-A8C6-151A3C99D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9FF6-C375-4DD9-8033-4F4902588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7189-EBF6-41BF-BA61-4EC3688FC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9AEA-FB1B-4B96-AD79-35E46985B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05F8-953F-4A43-9078-20E135168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4D6D-FAD1-43E0-BFF1-CBDD42BAD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CE8E-8942-4704-A225-8F326BF69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CE12-4ABB-42D9-8634-62B786CB1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05D1-7611-40D9-98D1-B16AE0FCB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E346C-2811-4107-A2FC-5BA5A2786D5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2049" descr="C:\My Documents\新建文件夹 (3)\jjbj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矩形 2050"/>
          <p:cNvSpPr/>
          <p:nvPr/>
        </p:nvSpPr>
        <p:spPr>
          <a:xfrm>
            <a:off x="68436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Times New Roman"/>
                <a:ea typeface="隶书"/>
              </a:rPr>
              <a:t>烛之武退秦师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矩形 2051"/>
          <p:cNvSpPr/>
          <p:nvPr/>
        </p:nvSpPr>
        <p:spPr>
          <a:xfrm>
            <a:off x="1763640" y="3500280"/>
            <a:ext cx="738036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</a:t>
            </a:r>
            <a:r>
              <a:rPr b="0" lang="en-US" sz="4800" spc="-1" strike="noStrike">
                <a:solidFill>
                  <a:srgbClr val="ff0000"/>
                </a:solidFill>
                <a:latin typeface="Times New Roman"/>
                <a:ea typeface="隶书"/>
              </a:rPr>
              <a:t>《</a:t>
            </a: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隶书"/>
              </a:rPr>
              <a:t>左         传</a:t>
            </a:r>
            <a:r>
              <a:rPr b="0" lang="en-US" sz="4800" spc="-1" strike="noStrike">
                <a:solidFill>
                  <a:srgbClr val="ff0000"/>
                </a:solidFill>
                <a:latin typeface="Times New Roman"/>
                <a:ea typeface="隶书"/>
              </a:rPr>
              <a:t>》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图片 11265" descr="C:\My Documents\新建文件夹 (3)\bg2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矩形 11267"/>
          <p:cNvSpPr txBox="1"/>
          <p:nvPr/>
        </p:nvSpPr>
        <p:spPr>
          <a:xfrm>
            <a:off x="2362320" y="2819520"/>
            <a:ext cx="480060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隶书"/>
              </a:rPr>
              <a:t>第二课时</a:t>
            </a:r>
            <a:endParaRPr b="0" lang="en-US" sz="2400" spc="-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图片 12289" descr="C:\My Documents\新建文件夹 (3)\bj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文本框 12290"/>
          <p:cNvSpPr/>
          <p:nvPr/>
        </p:nvSpPr>
        <p:spPr>
          <a:xfrm>
            <a:off x="609480" y="762120"/>
            <a:ext cx="624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彩云"/>
              </a:rPr>
              <a:t>检查反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文本框 12291"/>
          <p:cNvSpPr/>
          <p:nvPr/>
        </p:nvSpPr>
        <p:spPr>
          <a:xfrm>
            <a:off x="762120" y="1752480"/>
            <a:ext cx="784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文本框 12292"/>
          <p:cNvSpPr/>
          <p:nvPr/>
        </p:nvSpPr>
        <p:spPr>
          <a:xfrm>
            <a:off x="0" y="2119320"/>
            <a:ext cx="8459640" cy="26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本文选自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《                       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又名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它是我国第一部叙事详细的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体史书，相传是春秋末年鲁国史官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所作，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《                   》《                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合称为“春秋三传”。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组合 12293"/>
          <p:cNvGrpSpPr/>
          <p:nvPr/>
        </p:nvGrpSpPr>
        <p:grpSpPr>
          <a:xfrm>
            <a:off x="875160" y="2209680"/>
            <a:ext cx="7354440" cy="2516400"/>
            <a:chOff x="875160" y="2209680"/>
            <a:chExt cx="7354440" cy="2516400"/>
          </a:xfrm>
        </p:grpSpPr>
        <p:sp>
          <p:nvSpPr>
            <p:cNvPr id="116" name="文本框 12294"/>
            <p:cNvSpPr/>
            <p:nvPr/>
          </p:nvSpPr>
          <p:spPr>
            <a:xfrm>
              <a:off x="4038480" y="2209680"/>
              <a:ext cx="100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左传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文本框 12295"/>
            <p:cNvSpPr/>
            <p:nvPr/>
          </p:nvSpPr>
          <p:spPr>
            <a:xfrm>
              <a:off x="875160" y="2697120"/>
              <a:ext cx="1652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Times New Roman"/>
                </a:rPr>
                <a:t>《</a:t>
              </a:r>
              <a:r>
                <a:rPr b="1" lang="zh-CN" sz="3200" spc="-1" strike="noStrike">
                  <a:solidFill>
                    <a:srgbClr val="ff3300"/>
                  </a:solidFill>
                  <a:latin typeface="Times New Roman"/>
                </a:rPr>
                <a:t>左氏春秋</a:t>
              </a:r>
              <a:r>
                <a:rPr b="1" lang="en-US" sz="3200" spc="-1" strike="noStrike">
                  <a:solidFill>
                    <a:srgbClr val="ff3300"/>
                  </a:solidFill>
                  <a:latin typeface="Times New Roman"/>
                </a:rPr>
                <a:t>》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文本框 12296"/>
            <p:cNvSpPr/>
            <p:nvPr/>
          </p:nvSpPr>
          <p:spPr>
            <a:xfrm>
              <a:off x="2666880" y="2666880"/>
              <a:ext cx="3200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Times New Roman"/>
                </a:rPr>
                <a:t>《</a:t>
              </a:r>
              <a:r>
                <a:rPr b="1" lang="zh-CN" sz="3200" spc="-1" strike="noStrike">
                  <a:solidFill>
                    <a:srgbClr val="ff3300"/>
                  </a:solidFill>
                  <a:latin typeface="Times New Roman"/>
                </a:rPr>
                <a:t>春秋左氏传</a:t>
              </a:r>
              <a:r>
                <a:rPr b="1" lang="en-US" sz="3200" spc="-1" strike="noStrike">
                  <a:solidFill>
                    <a:srgbClr val="ff3300"/>
                  </a:solidFill>
                  <a:latin typeface="Times New Roman"/>
                </a:rPr>
                <a:t>》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文本框 12297"/>
            <p:cNvSpPr/>
            <p:nvPr/>
          </p:nvSpPr>
          <p:spPr>
            <a:xfrm>
              <a:off x="3886200" y="3200400"/>
              <a:ext cx="3886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3300"/>
                  </a:solidFill>
                  <a:latin typeface="Times New Roman"/>
                </a:rPr>
                <a:t>编年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文本框 12298"/>
            <p:cNvSpPr/>
            <p:nvPr/>
          </p:nvSpPr>
          <p:spPr>
            <a:xfrm>
              <a:off x="5943600" y="3657600"/>
              <a:ext cx="2286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3300"/>
                  </a:solidFill>
                  <a:latin typeface="Times New Roman"/>
                </a:rPr>
                <a:t>左丘明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文本框 12299"/>
            <p:cNvSpPr/>
            <p:nvPr/>
          </p:nvSpPr>
          <p:spPr>
            <a:xfrm>
              <a:off x="1904760" y="4144680"/>
              <a:ext cx="1905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公羊传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文本框 12300"/>
            <p:cNvSpPr/>
            <p:nvPr/>
          </p:nvSpPr>
          <p:spPr>
            <a:xfrm>
              <a:off x="4495680" y="4144680"/>
              <a:ext cx="1676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谷梁传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图片 28673" descr="C:\My Documents\新建文件夹 (3)\jjbj.gif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文本框 28674"/>
          <p:cNvSpPr/>
          <p:nvPr/>
        </p:nvSpPr>
        <p:spPr>
          <a:xfrm>
            <a:off x="609480" y="380880"/>
            <a:ext cx="624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彩云"/>
              </a:rPr>
              <a:t>检查反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文本框 28675"/>
          <p:cNvSpPr/>
          <p:nvPr/>
        </p:nvSpPr>
        <p:spPr>
          <a:xfrm>
            <a:off x="914400" y="1523880"/>
            <a:ext cx="7010280" cy="31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课文紧紧围绕“退”字展开，请用自己的话概括文章大意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zh-CN" sz="6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退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图片 13313" descr="C:\My Documents\新建文件夹 (3)\back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文本框 13314"/>
          <p:cNvSpPr/>
          <p:nvPr/>
        </p:nvSpPr>
        <p:spPr>
          <a:xfrm>
            <a:off x="609480" y="608040"/>
            <a:ext cx="624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彩云"/>
              </a:rPr>
              <a:t>检查反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文本框 13315"/>
          <p:cNvSpPr/>
          <p:nvPr/>
        </p:nvSpPr>
        <p:spPr>
          <a:xfrm>
            <a:off x="914400" y="1751040"/>
            <a:ext cx="7010280" cy="31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课文紧紧围绕“退”字展开，请用自己的话概括文章大意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zh-CN" sz="6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退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图片 14337" descr="C:\My Documents\新建文件夹 (3)\jjbj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文本框 14338"/>
          <p:cNvSpPr/>
          <p:nvPr/>
        </p:nvSpPr>
        <p:spPr>
          <a:xfrm>
            <a:off x="457200" y="304920"/>
            <a:ext cx="60958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重点字、词、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                                   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第一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文本框 14339"/>
          <p:cNvSpPr/>
          <p:nvPr/>
        </p:nvSpPr>
        <p:spPr>
          <a:xfrm>
            <a:off x="380880" y="1828800"/>
            <a:ext cx="861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晋侯、秦伯围郑，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以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其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无礼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于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且贰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于楚也。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晋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军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函陵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秦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军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氾南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文本框 14340"/>
          <p:cNvSpPr/>
          <p:nvPr/>
        </p:nvSpPr>
        <p:spPr>
          <a:xfrm>
            <a:off x="304920" y="3429000"/>
            <a:ext cx="84582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晋文公、秦穆公联合围攻郑国，因为郑国曾对晋文公无礼，并且在与晋国结盟 的情况下又与楚国结盟。晋军驻扎在函陵，秦军驻扎在氾南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图片 15361" descr="C:\My Documents\新建文件夹 (3)\无标题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4" name="图片 15362" descr="C:\My Documents\新建文件夹 (3)\jjbj.gif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文本框 15363"/>
          <p:cNvSpPr/>
          <p:nvPr/>
        </p:nvSpPr>
        <p:spPr>
          <a:xfrm>
            <a:off x="457200" y="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重点字、词、句      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华文彩云"/>
              </a:rPr>
              <a:t>第二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文本框 15364"/>
          <p:cNvSpPr/>
          <p:nvPr/>
        </p:nvSpPr>
        <p:spPr>
          <a:xfrm>
            <a:off x="228600" y="762120"/>
            <a:ext cx="8763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佚之狐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言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于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郑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曰：“国危矣，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若使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烛之武见秦君，师必退。”公从之。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曰：“臣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壮也，犹不如人；今老矣，无能为也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已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”公曰：“吾不能早用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子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今急而求子，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寡人之过也。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然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郑亡，子亦有不利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”许之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文本框 15365"/>
          <p:cNvSpPr/>
          <p:nvPr/>
        </p:nvSpPr>
        <p:spPr>
          <a:xfrm>
            <a:off x="0" y="32767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佚之狐对郑伯说：“我国处于危险之中，如果能派烛之武去见秦伯，一定能说服他们撤军。”郑伯同意了。烛之武推辞说：“我年轻时，尚且不如别人；现在老了，做不成什么了。”郑文公说：“我早先没有重用您，现在危急之中求您，这是我的过错。然而郑国灭亡了，对您也不利啊！”烛之武就答应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文本框 16386"/>
          <p:cNvSpPr/>
          <p:nvPr/>
        </p:nvSpPr>
        <p:spPr>
          <a:xfrm>
            <a:off x="457200" y="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重点字、词、句      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华文彩云"/>
              </a:rPr>
              <a:t>第三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矩形 16387"/>
          <p:cNvSpPr/>
          <p:nvPr/>
        </p:nvSpPr>
        <p:spPr>
          <a:xfrm>
            <a:off x="304920" y="457200"/>
            <a:ext cx="8534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夜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缒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而出，见秦伯，曰：“秦、晋围郑，郑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既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知亡矣。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若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亡郑而有益于君，敢以烦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执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越国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以鄙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君知其难也。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用亡郑以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陪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邻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邻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厚，君之薄也。若舍郑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以为东道主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行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之往来，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共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其乏困，君亦无所害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矩形 16388"/>
          <p:cNvSpPr/>
          <p:nvPr/>
        </p:nvSpPr>
        <p:spPr>
          <a:xfrm>
            <a:off x="0" y="29224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夜晚用绳子将烛之武从城上放下去，去见秦伯，烛之武说：“秦、晋两国围攻郑国，郑国已经知道要灭亡了。如果灭掉郑国对您有什么好处， 那就烦劳您了。越过晋国把远方的郑国作为秦国东部边境，您知道是很难的，你何必要灭掉郑国而增加邻邦晋国的土地呢？邻邦的国力雄厚了，你的国力也就相对削弱了。假如放弃灭郑的打算，而让郑国作为你东方道路上的主人，秦国使者往来，郑国可以随时供给他们所缺乏的东西，对您秦国来说，也没有什么害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图片 17409" descr="C:\My Documents\新建文件夹 (3)\back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文本框 17411"/>
          <p:cNvSpPr/>
          <p:nvPr/>
        </p:nvSpPr>
        <p:spPr>
          <a:xfrm>
            <a:off x="457200" y="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重点字、词、句      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华文彩云"/>
              </a:rPr>
              <a:t>第四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文本框 17412"/>
          <p:cNvSpPr/>
          <p:nvPr/>
        </p:nvSpPr>
        <p:spPr>
          <a:xfrm>
            <a:off x="304920" y="914400"/>
            <a:ext cx="845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子犯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请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击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公曰：“不可。微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夫人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之力不及此。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人之力而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之，不仁；失其所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不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知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；以乱易整，不武。吾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其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还也。”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亦去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文本框 17413"/>
          <p:cNvSpPr/>
          <p:nvPr/>
        </p:nvSpPr>
        <p:spPr>
          <a:xfrm>
            <a:off x="609480" y="289548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子犯请求晋文公下令攻击秦军。晋文公说：“不行！假如没有那人的支持，我就不会有今天。借助了别人的力量而去损害他，这是不仁义的；失掉自己的同盟国，这是不明智的；以混乱代替联合一致，这是不勇武的。我们还是回去吧！”这样晋军也撤离了郑国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图片 18433" descr="C:\My Documents\新建文件夹 (3)\jjbj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6" name="图片 18434" descr="C:\My Documents\新建文件夹 (3)\jjbj.gif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文本框 18435"/>
          <p:cNvSpPr/>
          <p:nvPr/>
        </p:nvSpPr>
        <p:spPr>
          <a:xfrm>
            <a:off x="533520" y="228600"/>
            <a:ext cx="8001000" cy="72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作      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请讨论并总结归纳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重点虚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重点实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词类活用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通假字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古今异义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文言句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宾语前置、状语后置、省略句、判断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图片 19457" descr="C:\My Documents\新建文件夹 (3)\无标题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矩形 19458"/>
          <p:cNvSpPr txBox="1"/>
          <p:nvPr/>
        </p:nvSpPr>
        <p:spPr>
          <a:xfrm>
            <a:off x="2286000" y="2819520"/>
            <a:ext cx="43434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隶书"/>
              </a:rPr>
              <a:t>第三课时</a:t>
            </a:r>
            <a:endParaRPr b="0" lang="en-US" sz="2400" spc="-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图片 1025" descr="C:\My Documents\新建文件夹 (3)\jjbj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文本框 1026"/>
          <p:cNvSpPr/>
          <p:nvPr/>
        </p:nvSpPr>
        <p:spPr>
          <a:xfrm>
            <a:off x="2133720" y="136440"/>
            <a:ext cx="44654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隶书"/>
              </a:rPr>
              <a:t> 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隶书"/>
              </a:rPr>
              <a:t>《</a:t>
            </a:r>
            <a:r>
              <a:rPr b="1" lang="zh-CN" sz="5000" spc="-1" strike="noStrike">
                <a:solidFill>
                  <a:srgbClr val="000000"/>
                </a:solidFill>
                <a:latin typeface="Times New Roman"/>
                <a:ea typeface="隶书"/>
              </a:rPr>
              <a:t>左传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隶书"/>
              </a:rPr>
              <a:t>》</a:t>
            </a:r>
            <a:r>
              <a:rPr b="1" lang="zh-CN" sz="5000" spc="-1" strike="noStrike">
                <a:solidFill>
                  <a:srgbClr val="000000"/>
                </a:solidFill>
                <a:latin typeface="Times New Roman"/>
                <a:ea typeface="隶书"/>
              </a:rPr>
              <a:t>简介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文本框 1027"/>
          <p:cNvSpPr/>
          <p:nvPr/>
        </p:nvSpPr>
        <p:spPr>
          <a:xfrm>
            <a:off x="228600" y="1143000"/>
            <a:ext cx="8763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Times New Roman"/>
                <a:ea typeface="楷体_GB2312"/>
              </a:rPr>
              <a:t>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左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是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《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春秋左氏传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简称，又名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《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左氏春秋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相传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为鲁国史官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左丘明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所作。它是我国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第一部叙事详细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编年体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著作，也是一部富有文学价值的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历史散文著作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左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善于描写战争和记述外交辞令，记事条理清楚，详略得当；写人简洁生动，人物形象栩栩如生，是历代散文的典范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图片 20481" descr="C:\My Documents\新建文件夹 (3)\bj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1" name="图片 20482" descr="C:\My Documents\新建文件夹 (3)\jjbj.gif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文本框 20483"/>
          <p:cNvSpPr/>
          <p:nvPr/>
        </p:nvSpPr>
        <p:spPr>
          <a:xfrm>
            <a:off x="250920" y="476280"/>
            <a:ext cx="428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一、一词多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文本框 20484"/>
          <p:cNvSpPr/>
          <p:nvPr/>
        </p:nvSpPr>
        <p:spPr>
          <a:xfrm>
            <a:off x="250920" y="1197000"/>
            <a:ext cx="84963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夫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晋，何厌之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?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助词，无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微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夫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人之力不及此。     指示代词，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逝者如斯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夫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！                 助词，表感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率子孙荷担者三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夫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     名词，指成年男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图片 21505" descr="C:\My Documents\新建文件夹 (3)\back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5" name="图片 21506" descr="C:\My Documents\新建文件夹 (3)\jjbj.gif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6" name="文本框 21507"/>
          <p:cNvSpPr/>
          <p:nvPr/>
        </p:nvSpPr>
        <p:spPr>
          <a:xfrm>
            <a:off x="324000" y="404640"/>
            <a:ext cx="8351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边远的地方。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例：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学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“蜀之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鄙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二僧。”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庸俗，鄙陋。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例：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左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•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庄公十年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“肉食者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鄙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未能远谋。”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看不起，轻视。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例：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左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•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昭公十六年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“我皆有礼，夫犹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鄙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。”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文本框 21508"/>
          <p:cNvSpPr/>
          <p:nvPr/>
        </p:nvSpPr>
        <p:spPr>
          <a:xfrm>
            <a:off x="250920" y="3716280"/>
            <a:ext cx="8642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准许。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同现代汉语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应，听从。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例：“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许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之。”、“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许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君焦、暇。”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赞同。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例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愚公移山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“杂然相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许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”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④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约数。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例：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石潭记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“潭中鱼可百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许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头。”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图片 22529" descr="C:\My Documents\新建文件夹 (3)\jjbj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9" name="图片 22530" descr="C:\My Documents\新建文件夹 (3)\jjbj.gif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文本框 22531"/>
          <p:cNvSpPr/>
          <p:nvPr/>
        </p:nvSpPr>
        <p:spPr>
          <a:xfrm>
            <a:off x="611280" y="333360"/>
            <a:ext cx="8208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què ①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古代宫殿前两边的高建筑物；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城楼；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皇宫，引申为朝廷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quē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通“缺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Jué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挖掘，引申为侵损，削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文本框 22532"/>
          <p:cNvSpPr/>
          <p:nvPr/>
        </p:nvSpPr>
        <p:spPr>
          <a:xfrm>
            <a:off x="611280" y="2565360"/>
            <a:ext cx="7920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细小，轻微。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同现代汉语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衰败。国势衰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微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卑贱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果没有。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例：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岳阳楼记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“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微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斯人，吾谁与归？”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图片 23553" descr="C:\My Documents\新建文件夹 (3)\无标题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文本框 23554"/>
          <p:cNvSpPr/>
          <p:nvPr/>
        </p:nvSpPr>
        <p:spPr>
          <a:xfrm>
            <a:off x="468360" y="333360"/>
            <a:ext cx="81597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坏，破旧。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例：方苞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左忠毅公逸事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“使史更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衣草屦。”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谦词。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疲惫。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例：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资治通鉴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“曹操之众，远来疲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”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④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损害，衰败。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例：因人之力以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之。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文本框 23555"/>
          <p:cNvSpPr/>
          <p:nvPr/>
        </p:nvSpPr>
        <p:spPr>
          <a:xfrm>
            <a:off x="395280" y="4221000"/>
            <a:ext cx="655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“说”、“辞”见课后第三题。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图片 24577" descr="C:\My Documents\新建文件夹 (3)\bj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矩形 24578"/>
          <p:cNvSpPr/>
          <p:nvPr/>
        </p:nvSpPr>
        <p:spPr>
          <a:xfrm>
            <a:off x="395280" y="3573360"/>
            <a:ext cx="8280360" cy="25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而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今急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求子。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才，连词，表顺承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夜缒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出。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修饰，连词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若亡郑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利于君。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顺承，连词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④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朝济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夕设版焉。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转折，连词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文本框 24579"/>
          <p:cNvSpPr/>
          <p:nvPr/>
        </p:nvSpPr>
        <p:spPr>
          <a:xfrm>
            <a:off x="468360" y="981000"/>
            <a:ext cx="80881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以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其无礼于晋。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因为，连词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敢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以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烦执事。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拿，用，介词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焉用亡郑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以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陪邻？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顺承，连词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若舍郑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以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东道主。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把，介词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文本框 24580"/>
          <p:cNvSpPr/>
          <p:nvPr/>
        </p:nvSpPr>
        <p:spPr>
          <a:xfrm>
            <a:off x="395280" y="333360"/>
            <a:ext cx="442764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二、重要虚词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图片 25601" descr="C:\My Documents\新建文件夹 (3)\back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文本框 25602"/>
          <p:cNvSpPr/>
          <p:nvPr/>
        </p:nvSpPr>
        <p:spPr>
          <a:xfrm>
            <a:off x="611280" y="333360"/>
            <a:ext cx="7777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子亦有不利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焉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气词，表陈述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②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焉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亡郑以陪邻？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疑问副词，为什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永之人争奔走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焉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兼词，于此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④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且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焉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置土石。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疑问代词，哪里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⑤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俟夫观人风者得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焉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代词，之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⑥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若不阙秦，将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焉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取之。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疑问代词，哪里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文本框 25603"/>
          <p:cNvSpPr/>
          <p:nvPr/>
        </p:nvSpPr>
        <p:spPr>
          <a:xfrm>
            <a:off x="468360" y="414972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“之”的意义和用法见课后第三题。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图片 26625" descr="C:\My Documents\新建文件夹 (3)\jjbj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文本框 26626"/>
          <p:cNvSpPr/>
          <p:nvPr/>
        </p:nvSpPr>
        <p:spPr>
          <a:xfrm>
            <a:off x="324000" y="476280"/>
            <a:ext cx="403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三、词类活用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文本框 26627"/>
          <p:cNvSpPr/>
          <p:nvPr/>
        </p:nvSpPr>
        <p:spPr>
          <a:xfrm>
            <a:off x="324000" y="1413000"/>
            <a:ext cx="8281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晋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军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陵。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名词作动词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若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亡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郑而有益于君。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使郑亡，动词使动用法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越国以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鄙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鄙，名词的意动用法，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……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鄙；远，形容词用作名词，远地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济而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夕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设版焉。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朝”、“夕”，名词活用作时间副词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既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东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郑，又欲肆其西封。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东” 为方位名词作状语；封，名词活用作动词，“作为疆界”。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图片 27649" descr="C:\My Documents\新建文件夹 (3)\无标题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文本框 27650"/>
          <p:cNvSpPr/>
          <p:nvPr/>
        </p:nvSpPr>
        <p:spPr>
          <a:xfrm>
            <a:off x="611280" y="765000"/>
            <a:ext cx="388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四、通假字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文本框 27651"/>
          <p:cNvSpPr/>
          <p:nvPr/>
        </p:nvSpPr>
        <p:spPr>
          <a:xfrm>
            <a:off x="539640" y="1916280"/>
            <a:ext cx="8064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焉用亡郑以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陪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邻？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陪，通“倍”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共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其乏困。　　　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共，通“供”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秦伯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说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　　　　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说，通“悦”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失其所与，不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知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知，通“智”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图片 32769" descr="C:\My Documents\新建文件夹 (3)\无标题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9" name="文本框 32771"/>
          <p:cNvSpPr/>
          <p:nvPr/>
        </p:nvSpPr>
        <p:spPr>
          <a:xfrm>
            <a:off x="611280" y="765000"/>
            <a:ext cx="403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五、古今异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文本框 32772"/>
          <p:cNvSpPr/>
          <p:nvPr/>
        </p:nvSpPr>
        <p:spPr>
          <a:xfrm>
            <a:off x="684360" y="1773360"/>
            <a:ext cx="7920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①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行李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之往来。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行李，古义：出行的人；今义：出门所带的包裹。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若舍郑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以为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东道主。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为，古义：把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…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作为；今义：认为。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③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微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夫人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之力不及此。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夫人，古义：那人；今义：一般人的妻子。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④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亦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去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之。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去，古义：离开；今义：往，到。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图片 31745" descr="C:\My Documents\新建文件夹 (3)\无标题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文本框 31747"/>
          <p:cNvSpPr/>
          <p:nvPr/>
        </p:nvSpPr>
        <p:spPr>
          <a:xfrm>
            <a:off x="324000" y="736560"/>
            <a:ext cx="395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六、文言句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文本框 31748"/>
          <p:cNvSpPr/>
          <p:nvPr/>
        </p:nvSpPr>
        <p:spPr>
          <a:xfrm>
            <a:off x="250920" y="2298600"/>
            <a:ext cx="85690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其无礼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于晋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（介词结构后置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佚之狐言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于郑伯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曰。（介词结构后置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夫晋，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何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之有？（宾语前置，“有何厌”。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④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是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寡人之过也。（判断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——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是我的过错。注意：“是”是代词，译为“这”，译文中的“是”是为符合现代汉语习惯而加上去的。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4097" descr="C:\My Documents\新建文件夹 (3)\jjbj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文本框 4098"/>
          <p:cNvSpPr/>
          <p:nvPr/>
        </p:nvSpPr>
        <p:spPr>
          <a:xfrm>
            <a:off x="380880" y="304920"/>
            <a:ext cx="82296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听老师朗读课文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注意文言文朗读的停顿、重音、语气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文本框 4099"/>
          <p:cNvSpPr/>
          <p:nvPr/>
        </p:nvSpPr>
        <p:spPr>
          <a:xfrm>
            <a:off x="228600" y="1905120"/>
            <a:ext cx="868680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氾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南（            ）       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函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陵  （          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夜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缒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而出（            ）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共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其乏困（            ）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夫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晋，何厌之有（           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若不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阙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秦（             ）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逢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孙（            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不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知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          ）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图片 30721" descr="C:\My Documents\新建文件夹 (3)\无标题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5" name="文本框 30724"/>
          <p:cNvSpPr/>
          <p:nvPr/>
        </p:nvSpPr>
        <p:spPr>
          <a:xfrm>
            <a:off x="395280" y="692280"/>
            <a:ext cx="82296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对下列句中划线词语解释，不正确的一项是（            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A</a:t>
            </a:r>
            <a:r>
              <a:rPr b="1" lang="zh-CN" sz="2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晋</a:t>
            </a:r>
            <a:r>
              <a:rPr b="1" lang="zh-CN" sz="2400" spc="-1" strike="noStrike" u="sng">
                <a:solidFill>
                  <a:srgbClr val="ff3300"/>
                </a:solidFill>
                <a:uFillTx/>
                <a:latin typeface="楷体_GB2312"/>
                <a:ea typeface="楷体_GB2312"/>
              </a:rPr>
              <a:t>军</a:t>
            </a:r>
            <a:r>
              <a:rPr b="1" lang="zh-CN" sz="2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函陵（军：军队）     </a:t>
            </a:r>
            <a:r>
              <a:rPr b="1" lang="en-US" sz="2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B</a:t>
            </a:r>
            <a:r>
              <a:rPr b="1" lang="zh-CN" sz="2400" spc="-1" strike="noStrike" u="sng">
                <a:solidFill>
                  <a:srgbClr val="ff3300"/>
                </a:solidFill>
                <a:uFillTx/>
                <a:latin typeface="楷体_GB2312"/>
                <a:ea typeface="楷体_GB2312"/>
              </a:rPr>
              <a:t>贰</a:t>
            </a:r>
            <a:r>
              <a:rPr b="1" lang="zh-CN" sz="2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于楚也（贰：从属二主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C</a:t>
            </a:r>
            <a:r>
              <a:rPr b="1" lang="zh-CN" sz="2400" spc="-1" strike="noStrike" u="sng">
                <a:solidFill>
                  <a:srgbClr val="ff3300"/>
                </a:solidFill>
                <a:uFillTx/>
                <a:latin typeface="楷体_GB2312"/>
                <a:ea typeface="楷体_GB2312"/>
              </a:rPr>
              <a:t>是</a:t>
            </a:r>
            <a:r>
              <a:rPr b="1" lang="zh-CN" sz="2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寡人之过也（是：这）   </a:t>
            </a:r>
            <a:r>
              <a:rPr b="1" lang="en-US" sz="2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D</a:t>
            </a:r>
            <a:r>
              <a:rPr b="1" lang="zh-CN" sz="2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亡郑以</a:t>
            </a:r>
            <a:r>
              <a:rPr b="1" lang="zh-CN" sz="2400" spc="-1" strike="noStrike" u="sng">
                <a:solidFill>
                  <a:srgbClr val="ff3300"/>
                </a:solidFill>
                <a:uFillTx/>
                <a:latin typeface="楷体_GB2312"/>
                <a:ea typeface="楷体_GB2312"/>
              </a:rPr>
              <a:t>陪</a:t>
            </a:r>
            <a:r>
              <a:rPr b="1" lang="zh-CN" sz="2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邻（陪：增加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文本框 30725"/>
          <p:cNvSpPr/>
          <p:nvPr/>
        </p:nvSpPr>
        <p:spPr>
          <a:xfrm>
            <a:off x="395280" y="2852640"/>
            <a:ext cx="81374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下列句中划线词，意义相同的一组是（              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A </a:t>
            </a:r>
            <a:r>
              <a:rPr b="1" lang="zh-CN" sz="2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然郑亡，子亦有不</a:t>
            </a:r>
            <a:r>
              <a:rPr b="1" lang="zh-CN" sz="2400" spc="-1" strike="noStrike" u="sng">
                <a:solidFill>
                  <a:srgbClr val="ff3300"/>
                </a:solidFill>
                <a:uFillTx/>
                <a:latin typeface="楷体_GB2312"/>
                <a:ea typeface="楷体_GB2312"/>
              </a:rPr>
              <a:t>利</a:t>
            </a:r>
            <a:r>
              <a:rPr b="1" lang="zh-CN" sz="2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焉    阙秦以</a:t>
            </a:r>
            <a:r>
              <a:rPr b="1" lang="zh-CN" sz="2400" spc="-1" strike="noStrike" u="sng">
                <a:solidFill>
                  <a:srgbClr val="ff3300"/>
                </a:solidFill>
                <a:uFillTx/>
                <a:latin typeface="楷体_GB2312"/>
                <a:ea typeface="楷体_GB2312"/>
              </a:rPr>
              <a:t>利</a:t>
            </a:r>
            <a:r>
              <a:rPr b="1" lang="zh-CN" sz="2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晋，唯君图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B </a:t>
            </a:r>
            <a:r>
              <a:rPr b="1" lang="zh-CN" sz="2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既东</a:t>
            </a:r>
            <a:r>
              <a:rPr b="1" lang="zh-CN" sz="2400" spc="-1" strike="noStrike" u="sng">
                <a:solidFill>
                  <a:srgbClr val="ff3300"/>
                </a:solidFill>
                <a:uFillTx/>
                <a:latin typeface="楷体_GB2312"/>
                <a:ea typeface="楷体_GB2312"/>
              </a:rPr>
              <a:t>封</a:t>
            </a:r>
            <a:r>
              <a:rPr b="1" lang="zh-CN" sz="2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郑                又欲肆其西</a:t>
            </a:r>
            <a:r>
              <a:rPr b="1" lang="zh-CN" sz="2400" spc="-1" strike="noStrike" u="sng">
                <a:solidFill>
                  <a:srgbClr val="ff3300"/>
                </a:solidFill>
                <a:uFillTx/>
                <a:latin typeface="楷体_GB2312"/>
                <a:ea typeface="楷体_GB2312"/>
              </a:rPr>
              <a:t>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C </a:t>
            </a:r>
            <a:r>
              <a:rPr b="1" lang="zh-CN" sz="2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越国以</a:t>
            </a:r>
            <a:r>
              <a:rPr b="1" lang="zh-CN" sz="2400" spc="-1" strike="noStrike" u="sng">
                <a:solidFill>
                  <a:srgbClr val="ff3300"/>
                </a:solidFill>
                <a:uFillTx/>
                <a:latin typeface="楷体_GB2312"/>
                <a:ea typeface="楷体_GB2312"/>
              </a:rPr>
              <a:t>鄙</a:t>
            </a:r>
            <a:r>
              <a:rPr b="1" lang="zh-CN" sz="2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远，君知其难也  肉食者</a:t>
            </a:r>
            <a:r>
              <a:rPr b="1" lang="zh-CN" sz="2400" spc="-1" strike="noStrike" u="sng">
                <a:solidFill>
                  <a:srgbClr val="ff3300"/>
                </a:solidFill>
                <a:uFillTx/>
                <a:latin typeface="楷体_GB2312"/>
                <a:ea typeface="楷体_GB2312"/>
              </a:rPr>
              <a:t>鄙</a:t>
            </a:r>
            <a:r>
              <a:rPr b="1" lang="zh-CN" sz="2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，未能远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D </a:t>
            </a:r>
            <a:r>
              <a:rPr b="1" lang="zh-CN" sz="2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若不</a:t>
            </a:r>
            <a:r>
              <a:rPr b="1" lang="zh-CN" sz="2400" spc="-1" strike="noStrike" u="sng">
                <a:solidFill>
                  <a:srgbClr val="ff3300"/>
                </a:solidFill>
                <a:uFillTx/>
                <a:latin typeface="楷体_GB2312"/>
                <a:ea typeface="楷体_GB2312"/>
              </a:rPr>
              <a:t>阙</a:t>
            </a:r>
            <a:r>
              <a:rPr b="1" lang="zh-CN" sz="2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秦                </a:t>
            </a:r>
            <a:r>
              <a:rPr b="1" lang="zh-CN" sz="2400" spc="-1" strike="noStrike" u="sng">
                <a:solidFill>
                  <a:srgbClr val="ff3300"/>
                </a:solidFill>
                <a:uFillTx/>
                <a:latin typeface="楷体_GB2312"/>
                <a:ea typeface="楷体_GB2312"/>
              </a:rPr>
              <a:t>阙</a:t>
            </a:r>
            <a:r>
              <a:rPr b="1" lang="zh-CN" sz="2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秦以利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文本框 30726"/>
          <p:cNvSpPr/>
          <p:nvPr/>
        </p:nvSpPr>
        <p:spPr>
          <a:xfrm>
            <a:off x="7164360" y="54936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pperplate Gothic Bold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文本框 30727"/>
          <p:cNvSpPr/>
          <p:nvPr/>
        </p:nvSpPr>
        <p:spPr>
          <a:xfrm>
            <a:off x="6300720" y="270828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pperplate Gothic Bold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矩形 30729"/>
          <p:cNvSpPr txBox="1"/>
          <p:nvPr/>
        </p:nvSpPr>
        <p:spPr>
          <a:xfrm>
            <a:off x="6324480" y="5867280"/>
            <a:ext cx="24386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99"/>
                  </a:solidFill>
                  <a:round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试一试</a:t>
            </a:r>
            <a:endParaRPr b="0" lang="en-US" sz="1800" spc="1" strike="noStrike">
              <a:ln w="12600">
                <a:solidFill>
                  <a:srgbClr val="000099"/>
                </a:solidFill>
                <a:round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图片 29697" descr="C:\My Documents\新建文件夹 (3)\无标题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1" name="文本框 29700"/>
          <p:cNvSpPr/>
          <p:nvPr/>
        </p:nvSpPr>
        <p:spPr>
          <a:xfrm>
            <a:off x="304920" y="152280"/>
            <a:ext cx="8151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下列“其”字意义不同于其他三项的是（                 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A</a:t>
            </a:r>
            <a:r>
              <a:rPr b="1" lang="zh-CN" sz="2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君知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其</a:t>
            </a:r>
            <a:r>
              <a:rPr b="1" lang="zh-CN" sz="2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难也  </a:t>
            </a:r>
            <a:r>
              <a:rPr b="1" lang="en-US" sz="2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B</a:t>
            </a:r>
            <a:r>
              <a:rPr b="1" lang="zh-CN" sz="2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共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其</a:t>
            </a:r>
            <a:r>
              <a:rPr b="1" lang="zh-CN" sz="2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乏困  </a:t>
            </a:r>
            <a:r>
              <a:rPr b="1" lang="en-US" sz="2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C</a:t>
            </a:r>
            <a:r>
              <a:rPr b="1" lang="zh-CN" sz="2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又欲肆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其</a:t>
            </a:r>
            <a:r>
              <a:rPr b="1" lang="zh-CN" sz="2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西封  </a:t>
            </a:r>
            <a:r>
              <a:rPr b="1" lang="en-US" sz="2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D</a:t>
            </a:r>
            <a:r>
              <a:rPr b="1" lang="zh-CN" sz="2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吾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其</a:t>
            </a:r>
            <a:r>
              <a:rPr b="1" lang="zh-CN" sz="2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还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文本框 29701"/>
          <p:cNvSpPr/>
          <p:nvPr/>
        </p:nvSpPr>
        <p:spPr>
          <a:xfrm>
            <a:off x="304920" y="1295280"/>
            <a:ext cx="70102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与“许之”句式相同的一项是（               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A </a:t>
            </a:r>
            <a:r>
              <a:rPr b="1" lang="zh-CN" sz="2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邻之厚，君之薄也      </a:t>
            </a:r>
            <a:r>
              <a:rPr b="1" lang="en-US" sz="2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B </a:t>
            </a:r>
            <a:r>
              <a:rPr b="1" lang="zh-CN" sz="2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夫晋，何厌之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C </a:t>
            </a:r>
            <a:r>
              <a:rPr b="1" lang="zh-CN" sz="2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敢以烦执事            </a:t>
            </a:r>
            <a:r>
              <a:rPr b="1" lang="en-US" sz="2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D </a:t>
            </a:r>
            <a:r>
              <a:rPr b="1" lang="zh-CN" sz="2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佚之狐言于郑伯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文本框 29702"/>
          <p:cNvSpPr/>
          <p:nvPr/>
        </p:nvSpPr>
        <p:spPr>
          <a:xfrm>
            <a:off x="304920" y="2971800"/>
            <a:ext cx="85122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下列解释不正确的一项是（                   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A</a:t>
            </a:r>
            <a:r>
              <a:rPr b="1" lang="zh-CN" sz="2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然郑亡，子亦有不利焉：然而郑国灭亡了，对您也不利啊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B</a:t>
            </a:r>
            <a:r>
              <a:rPr b="1" lang="zh-CN" sz="2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秦伯说，与郑人盟：秦伯很高兴，与郑国签订了盟约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C</a:t>
            </a:r>
            <a:r>
              <a:rPr b="1" lang="zh-CN" sz="2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且君尝为晋君赐矣：况且您曾经接受晋国的恩惠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D</a:t>
            </a:r>
            <a:r>
              <a:rPr b="1" lang="zh-CN" sz="2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若舍郑以为东道主：如果您能放弃围攻郑国而把它当作东方     道路上的主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文本框 29703"/>
          <p:cNvSpPr/>
          <p:nvPr/>
        </p:nvSpPr>
        <p:spPr>
          <a:xfrm>
            <a:off x="6324480" y="4428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pperplate Gothic Bold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文本框 29704"/>
          <p:cNvSpPr/>
          <p:nvPr/>
        </p:nvSpPr>
        <p:spPr>
          <a:xfrm>
            <a:off x="5029200" y="118728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pperplate Gothic Bold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文本框 29705"/>
          <p:cNvSpPr/>
          <p:nvPr/>
        </p:nvSpPr>
        <p:spPr>
          <a:xfrm>
            <a:off x="4800600" y="286380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pperplate Gothic Bold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矩形 29706"/>
          <p:cNvSpPr txBox="1"/>
          <p:nvPr/>
        </p:nvSpPr>
        <p:spPr>
          <a:xfrm>
            <a:off x="6324480" y="5867280"/>
            <a:ext cx="24386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99"/>
                  </a:solidFill>
                  <a:round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试一试</a:t>
            </a:r>
            <a:endParaRPr b="0" lang="en-US" sz="1800" spc="1" strike="noStrike">
              <a:ln w="12600">
                <a:solidFill>
                  <a:srgbClr val="000099"/>
                </a:solidFill>
                <a:round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图片 33793" descr="C:\My Documents\新建文件夹 (3)\back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9" name="矩形 33794"/>
          <p:cNvSpPr txBox="1"/>
          <p:nvPr/>
        </p:nvSpPr>
        <p:spPr>
          <a:xfrm>
            <a:off x="1523880" y="2514600"/>
            <a:ext cx="541044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12600">
                  <a:solidFill>
                    <a:srgbClr val="000099"/>
                  </a:solidFill>
                  <a:round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再见！</a:t>
            </a:r>
            <a:endParaRPr b="0" lang="en-US" sz="4800" spc="1" strike="noStrike">
              <a:ln w="12600">
                <a:solidFill>
                  <a:srgbClr val="000099"/>
                </a:solidFill>
                <a:round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图片 5121" descr="C:\My Documents\新建文件夹 (3)\jjbj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文本框 5122"/>
          <p:cNvSpPr/>
          <p:nvPr/>
        </p:nvSpPr>
        <p:spPr>
          <a:xfrm>
            <a:off x="2987640" y="260280"/>
            <a:ext cx="30243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000000"/>
                </a:solidFill>
                <a:latin typeface="Tahoma"/>
                <a:ea typeface="隶书"/>
              </a:rPr>
              <a:t>背景介绍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文本框 5123"/>
          <p:cNvSpPr/>
          <p:nvPr/>
        </p:nvSpPr>
        <p:spPr>
          <a:xfrm>
            <a:off x="468360" y="1125360"/>
            <a:ext cx="845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秦、晋围郑发生在公元前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63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年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鲁僖公三十年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在这之前，郑国有两件事得罪了晋国。一是晋文公当年逃亡路过郑国时，郑国没有以礼相待；二是在公元前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63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年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鲁僖公二十八年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晋、楚城濮之战中，郑国曾出兵帮助楚国。结果城濮之战以楚国失败而告终。郑国感到形势不妙，马上派人出使晋国，与晋结好，甚至在公元前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63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年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月，“晋侯及郑伯盟于衡雍”。但是，最终也没能感化晋国。晋文公为了争夺霸权的需要，还是在两年后发动了这次战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图片 6145" descr="C:\My Documents\新建文件夹 (3)\jjbj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文本框 6146"/>
          <p:cNvSpPr/>
          <p:nvPr/>
        </p:nvSpPr>
        <p:spPr>
          <a:xfrm>
            <a:off x="-378360" y="838080"/>
            <a:ext cx="167364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烛之武 </a:t>
            </a:r>
            <a:r>
              <a:rPr b="0" lang="zh-CN" sz="54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退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秦师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左大括号 6147"/>
          <p:cNvSpPr/>
          <p:nvPr/>
        </p:nvSpPr>
        <p:spPr>
          <a:xfrm>
            <a:off x="1523880" y="838080"/>
            <a:ext cx="609840" cy="4419720"/>
          </a:xfrm>
          <a:custGeom>
            <a:avLst/>
            <a:gdLst>
              <a:gd name="textAreaLeft" fmla="*/ 389520 w 609840"/>
              <a:gd name="textAreaRight" fmla="*/ 610200 w 609840"/>
              <a:gd name="textAreaTop" fmla="*/ 115200 h 4419720"/>
              <a:gd name="textAreaBottom" fmla="*/ 4304520 h 4419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文本框 6148"/>
          <p:cNvSpPr/>
          <p:nvPr/>
        </p:nvSpPr>
        <p:spPr>
          <a:xfrm>
            <a:off x="2362320" y="685800"/>
            <a:ext cx="617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为什么要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华文新魏"/>
              </a:rPr>
              <a:t>退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秦师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文本框 6149"/>
          <p:cNvSpPr/>
          <p:nvPr/>
        </p:nvSpPr>
        <p:spPr>
          <a:xfrm>
            <a:off x="2286000" y="1905120"/>
            <a:ext cx="419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华文新魏"/>
              </a:rPr>
              <a:t>退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秦师者何许人也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文本框 6150"/>
          <p:cNvSpPr/>
          <p:nvPr/>
        </p:nvSpPr>
        <p:spPr>
          <a:xfrm>
            <a:off x="2438280" y="320040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烛之武如何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华文新魏"/>
              </a:rPr>
              <a:t>退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秦师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文本框 6151"/>
          <p:cNvSpPr/>
          <p:nvPr/>
        </p:nvSpPr>
        <p:spPr>
          <a:xfrm>
            <a:off x="2438280" y="44197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  <a:ea typeface="华文新魏"/>
              </a:rPr>
              <a:t>“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华文新魏"/>
              </a:rPr>
              <a:t>退”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结果如何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文本框 6152"/>
          <p:cNvSpPr/>
          <p:nvPr/>
        </p:nvSpPr>
        <p:spPr>
          <a:xfrm>
            <a:off x="228600" y="5486400"/>
            <a:ext cx="861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3200" spc="-1" strike="noStrike">
                <a:solidFill>
                  <a:srgbClr val="3333ff"/>
                </a:solidFill>
                <a:latin typeface="Arial"/>
              </a:rPr>
              <a:t>请同学们带问题自读课文，把握文意，理清课文的层次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图片 7169" descr="C:\My Documents\新建文件夹 (3)\jjbj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文本框 7170"/>
          <p:cNvSpPr/>
          <p:nvPr/>
        </p:nvSpPr>
        <p:spPr>
          <a:xfrm>
            <a:off x="685800" y="533520"/>
            <a:ext cx="5715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文本框 7171"/>
          <p:cNvSpPr/>
          <p:nvPr/>
        </p:nvSpPr>
        <p:spPr>
          <a:xfrm>
            <a:off x="914400" y="304920"/>
            <a:ext cx="5715000" cy="13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整体把握，理清层次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第一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文本框 7172"/>
          <p:cNvSpPr/>
          <p:nvPr/>
        </p:nvSpPr>
        <p:spPr>
          <a:xfrm>
            <a:off x="228600" y="1752480"/>
            <a:ext cx="5715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为什么要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华文新魏"/>
              </a:rPr>
              <a:t>退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秦师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文本框 7173"/>
          <p:cNvSpPr/>
          <p:nvPr/>
        </p:nvSpPr>
        <p:spPr>
          <a:xfrm>
            <a:off x="2971800" y="266688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方正姚体"/>
              </a:rPr>
              <a:t>秦晋围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组合 7174"/>
          <p:cNvGrpSpPr/>
          <p:nvPr/>
        </p:nvGrpSpPr>
        <p:grpSpPr>
          <a:xfrm>
            <a:off x="1752480" y="3581280"/>
            <a:ext cx="4876920" cy="2971800"/>
            <a:chOff x="1752480" y="3581280"/>
            <a:chExt cx="4876920" cy="2971800"/>
          </a:xfrm>
        </p:grpSpPr>
        <p:grpSp>
          <p:nvGrpSpPr>
            <p:cNvPr id="67" name="组合 7175"/>
            <p:cNvGrpSpPr/>
            <p:nvPr/>
          </p:nvGrpSpPr>
          <p:grpSpPr>
            <a:xfrm>
              <a:off x="4952880" y="5638680"/>
              <a:ext cx="838080" cy="838440"/>
              <a:chOff x="4952880" y="5638680"/>
              <a:chExt cx="838080" cy="838440"/>
            </a:xfrm>
          </p:grpSpPr>
          <p:sp>
            <p:nvSpPr>
              <p:cNvPr id="68" name="文本框 7176"/>
              <p:cNvSpPr/>
              <p:nvPr/>
            </p:nvSpPr>
            <p:spPr>
              <a:xfrm>
                <a:off x="5028840" y="5715000"/>
                <a:ext cx="6858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ff3300"/>
                    </a:solidFill>
                    <a:latin typeface="Times New Roman"/>
                  </a:rPr>
                  <a:t>郑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椭圆 7177"/>
              <p:cNvSpPr/>
              <p:nvPr/>
            </p:nvSpPr>
            <p:spPr>
              <a:xfrm>
                <a:off x="4952880" y="5638680"/>
                <a:ext cx="838080" cy="838440"/>
              </a:xfrm>
              <a:prstGeom prst="ellipse">
                <a:avLst/>
              </a:prstGeom>
              <a:noFill/>
              <a:ln w="936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" name="组合 7178"/>
            <p:cNvGrpSpPr/>
            <p:nvPr/>
          </p:nvGrpSpPr>
          <p:grpSpPr>
            <a:xfrm>
              <a:off x="1752480" y="4191120"/>
              <a:ext cx="838080" cy="838080"/>
              <a:chOff x="1752480" y="4191120"/>
              <a:chExt cx="838080" cy="838080"/>
            </a:xfrm>
          </p:grpSpPr>
          <p:sp>
            <p:nvSpPr>
              <p:cNvPr id="71" name="文本框 7179"/>
              <p:cNvSpPr/>
              <p:nvPr/>
            </p:nvSpPr>
            <p:spPr>
              <a:xfrm>
                <a:off x="1828800" y="4267080"/>
                <a:ext cx="6858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ff3300"/>
                    </a:solidFill>
                    <a:latin typeface="Times New Roman"/>
                  </a:rPr>
                  <a:t>秦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椭圆 7180"/>
              <p:cNvSpPr/>
              <p:nvPr/>
            </p:nvSpPr>
            <p:spPr>
              <a:xfrm>
                <a:off x="1752480" y="4191120"/>
                <a:ext cx="838080" cy="838080"/>
              </a:xfrm>
              <a:prstGeom prst="ellipse">
                <a:avLst/>
              </a:prstGeom>
              <a:noFill/>
              <a:ln w="936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" name="组合 7181"/>
            <p:cNvGrpSpPr/>
            <p:nvPr/>
          </p:nvGrpSpPr>
          <p:grpSpPr>
            <a:xfrm>
              <a:off x="4114800" y="3581280"/>
              <a:ext cx="838080" cy="838080"/>
              <a:chOff x="4114800" y="3581280"/>
              <a:chExt cx="838080" cy="838080"/>
            </a:xfrm>
          </p:grpSpPr>
          <p:sp>
            <p:nvSpPr>
              <p:cNvPr id="74" name="文本框 7182"/>
              <p:cNvSpPr/>
              <p:nvPr/>
            </p:nvSpPr>
            <p:spPr>
              <a:xfrm>
                <a:off x="4190760" y="3657240"/>
                <a:ext cx="6858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ff3300"/>
                    </a:solidFill>
                    <a:latin typeface="Times New Roman"/>
                  </a:rPr>
                  <a:t>晋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椭圆 7183"/>
              <p:cNvSpPr/>
              <p:nvPr/>
            </p:nvSpPr>
            <p:spPr>
              <a:xfrm>
                <a:off x="4114800" y="3581280"/>
                <a:ext cx="838080" cy="838080"/>
              </a:xfrm>
              <a:prstGeom prst="ellipse">
                <a:avLst/>
              </a:prstGeom>
              <a:noFill/>
              <a:ln w="936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" name="组合 7184"/>
            <p:cNvGrpSpPr/>
            <p:nvPr/>
          </p:nvGrpSpPr>
          <p:grpSpPr>
            <a:xfrm>
              <a:off x="4419720" y="5334120"/>
              <a:ext cx="838080" cy="685800"/>
              <a:chOff x="4419720" y="5334120"/>
              <a:chExt cx="838080" cy="685800"/>
            </a:xfrm>
          </p:grpSpPr>
          <p:sp>
            <p:nvSpPr>
              <p:cNvPr id="77" name="等腰三角形 7185"/>
              <p:cNvSpPr/>
              <p:nvPr/>
            </p:nvSpPr>
            <p:spPr>
              <a:xfrm>
                <a:off x="4724640" y="5715360"/>
                <a:ext cx="152280" cy="30456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2232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文本框 7186"/>
              <p:cNvSpPr/>
              <p:nvPr/>
            </p:nvSpPr>
            <p:spPr>
              <a:xfrm>
                <a:off x="4419720" y="5334120"/>
                <a:ext cx="838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3300"/>
                    </a:solidFill>
                    <a:latin typeface="Times New Roman"/>
                    <a:ea typeface="黑体"/>
                  </a:rPr>
                  <a:t>函陵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" name="组合 7187"/>
            <p:cNvGrpSpPr/>
            <p:nvPr/>
          </p:nvGrpSpPr>
          <p:grpSpPr>
            <a:xfrm>
              <a:off x="5791320" y="5867280"/>
              <a:ext cx="838080" cy="685800"/>
              <a:chOff x="5791320" y="5867280"/>
              <a:chExt cx="838080" cy="685800"/>
            </a:xfrm>
          </p:grpSpPr>
          <p:sp>
            <p:nvSpPr>
              <p:cNvPr id="80" name="等腰三角形 7188"/>
              <p:cNvSpPr/>
              <p:nvPr/>
            </p:nvSpPr>
            <p:spPr>
              <a:xfrm>
                <a:off x="6095880" y="6248520"/>
                <a:ext cx="151920" cy="30456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2232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文本框 7189"/>
              <p:cNvSpPr/>
              <p:nvPr/>
            </p:nvSpPr>
            <p:spPr>
              <a:xfrm>
                <a:off x="5791320" y="5867280"/>
                <a:ext cx="838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3300"/>
                    </a:solidFill>
                    <a:latin typeface="Times New Roman"/>
                    <a:ea typeface="黑体"/>
                  </a:rPr>
                  <a:t>氾南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" name="组合 7190"/>
            <p:cNvGrpSpPr/>
            <p:nvPr/>
          </p:nvGrpSpPr>
          <p:grpSpPr>
            <a:xfrm>
              <a:off x="5174280" y="4726440"/>
              <a:ext cx="1293120" cy="1298160"/>
              <a:chOff x="5174280" y="4726440"/>
              <a:chExt cx="1293120" cy="1298160"/>
            </a:xfrm>
          </p:grpSpPr>
          <p:sp>
            <p:nvSpPr>
              <p:cNvPr id="83" name="下箭头 7191"/>
              <p:cNvSpPr/>
              <p:nvPr/>
            </p:nvSpPr>
            <p:spPr>
              <a:xfrm rot="20071800">
                <a:off x="5641920" y="4779720"/>
                <a:ext cx="304920" cy="1239480"/>
              </a:xfrm>
              <a:prstGeom prst="downArrow">
                <a:avLst>
                  <a:gd name="adj1" fmla="val 50000"/>
                  <a:gd name="adj2" fmla="val 101623"/>
                </a:avLst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文本框 7192"/>
              <p:cNvSpPr/>
              <p:nvPr/>
            </p:nvSpPr>
            <p:spPr>
              <a:xfrm rot="20007600">
                <a:off x="5303880" y="4913640"/>
                <a:ext cx="1033560" cy="82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ff3300"/>
                    </a:solidFill>
                    <a:latin typeface="Times New Roman"/>
                    <a:ea typeface="黑体"/>
                  </a:rPr>
                  <a:t>秦军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" name="组合 7193"/>
            <p:cNvGrpSpPr/>
            <p:nvPr/>
          </p:nvGrpSpPr>
          <p:grpSpPr>
            <a:xfrm>
              <a:off x="3031920" y="4658040"/>
              <a:ext cx="1608120" cy="1663560"/>
              <a:chOff x="3031920" y="4658040"/>
              <a:chExt cx="1608120" cy="1663560"/>
            </a:xfrm>
          </p:grpSpPr>
          <p:sp>
            <p:nvSpPr>
              <p:cNvPr id="86" name="文本框 7194"/>
              <p:cNvSpPr/>
              <p:nvPr/>
            </p:nvSpPr>
            <p:spPr>
              <a:xfrm rot="20436600">
                <a:off x="3170880" y="5163840"/>
                <a:ext cx="1033560" cy="101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ff3300"/>
                    </a:solidFill>
                    <a:latin typeface="Times New Roman"/>
                    <a:ea typeface="黑体"/>
                  </a:rPr>
                  <a:t>晋军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下箭头 7195"/>
              <p:cNvSpPr/>
              <p:nvPr/>
            </p:nvSpPr>
            <p:spPr>
              <a:xfrm rot="20071800">
                <a:off x="4022280" y="4649400"/>
                <a:ext cx="304920" cy="1522080"/>
              </a:xfrm>
              <a:prstGeom prst="downArrow">
                <a:avLst>
                  <a:gd name="adj1" fmla="val 50000"/>
                  <a:gd name="adj2" fmla="val 124793"/>
                </a:avLst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图片 8193" descr="C:\My Documents\新建文件夹 (3)\jjbj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文本框 8194"/>
          <p:cNvSpPr/>
          <p:nvPr/>
        </p:nvSpPr>
        <p:spPr>
          <a:xfrm>
            <a:off x="762120" y="304920"/>
            <a:ext cx="5715000" cy="13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整体把握，理清层次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第二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文本框 8195"/>
          <p:cNvSpPr/>
          <p:nvPr/>
        </p:nvSpPr>
        <p:spPr>
          <a:xfrm>
            <a:off x="762120" y="2057400"/>
            <a:ext cx="7391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华文新魏"/>
              </a:rPr>
              <a:t>退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秦师者何许人也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文本框 8196"/>
          <p:cNvSpPr/>
          <p:nvPr/>
        </p:nvSpPr>
        <p:spPr>
          <a:xfrm>
            <a:off x="2895480" y="304812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烛之武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临危受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文本框 8197"/>
          <p:cNvSpPr/>
          <p:nvPr/>
        </p:nvSpPr>
        <p:spPr>
          <a:xfrm>
            <a:off x="76320" y="4159080"/>
            <a:ext cx="90676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佚之狐              郑伯                   烛之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言于           从之，说服            辞，许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直接连接符 8198"/>
          <p:cNvSpPr/>
          <p:nvPr/>
        </p:nvSpPr>
        <p:spPr>
          <a:xfrm>
            <a:off x="1600200" y="441972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直接连接符 8199"/>
          <p:cNvSpPr/>
          <p:nvPr/>
        </p:nvSpPr>
        <p:spPr>
          <a:xfrm>
            <a:off x="4495680" y="449568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图片 9217" descr="C:\My Documents\新建文件夹 (3)\jjbj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文本框 9218"/>
          <p:cNvSpPr/>
          <p:nvPr/>
        </p:nvSpPr>
        <p:spPr>
          <a:xfrm>
            <a:off x="914400" y="76320"/>
            <a:ext cx="5715000" cy="13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整体把握，理清层次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第三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文本框 9219"/>
          <p:cNvSpPr/>
          <p:nvPr/>
        </p:nvSpPr>
        <p:spPr>
          <a:xfrm>
            <a:off x="2057400" y="152388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烛之武如何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华文新魏"/>
              </a:rPr>
              <a:t>退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秦师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文本框 9220"/>
          <p:cNvSpPr/>
          <p:nvPr/>
        </p:nvSpPr>
        <p:spPr>
          <a:xfrm>
            <a:off x="838080" y="2362320"/>
            <a:ext cx="609840" cy="37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夜缒而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见秦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组合 9221"/>
          <p:cNvGrpSpPr/>
          <p:nvPr/>
        </p:nvGrpSpPr>
        <p:grpSpPr>
          <a:xfrm>
            <a:off x="1981080" y="2590920"/>
            <a:ext cx="5791320" cy="3581280"/>
            <a:chOff x="1981080" y="2590920"/>
            <a:chExt cx="5791320" cy="3581280"/>
          </a:xfrm>
        </p:grpSpPr>
        <p:sp>
          <p:nvSpPr>
            <p:cNvPr id="100" name="左大括号 9222"/>
            <p:cNvSpPr/>
            <p:nvPr/>
          </p:nvSpPr>
          <p:spPr>
            <a:xfrm>
              <a:off x="1981080" y="2590920"/>
              <a:ext cx="228600" cy="358128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93240 h 3581280"/>
                <a:gd name="textAreaBottom" fmla="*/ 3488040 h 358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799"/>
                  </a:cubicBezTo>
                  <a:lnTo>
                    <a:pt x="10800" y="9001"/>
                  </a:lnTo>
                  <a:cubicBezTo>
                    <a:pt x="10800" y="9901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599"/>
                  </a:cubicBezTo>
                  <a:lnTo>
                    <a:pt x="10800" y="19801"/>
                  </a:lnTo>
                  <a:cubicBezTo>
                    <a:pt x="10800" y="20701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文本框 9223"/>
            <p:cNvSpPr/>
            <p:nvPr/>
          </p:nvSpPr>
          <p:spPr>
            <a:xfrm>
              <a:off x="2362320" y="2590920"/>
              <a:ext cx="5181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3300"/>
                  </a:solidFill>
                  <a:latin typeface="Arial"/>
                  <a:ea typeface="华文新魏"/>
                </a:rPr>
                <a:t>坦言知亡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文本框 9224"/>
            <p:cNvSpPr/>
            <p:nvPr/>
          </p:nvSpPr>
          <p:spPr>
            <a:xfrm>
              <a:off x="2286000" y="3429000"/>
              <a:ext cx="3429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3300"/>
                  </a:solidFill>
                  <a:latin typeface="Times New Roman"/>
                  <a:ea typeface="华文新魏"/>
                </a:rPr>
                <a:t>亡郑利晋阙秦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文本框 9225"/>
            <p:cNvSpPr/>
            <p:nvPr/>
          </p:nvSpPr>
          <p:spPr>
            <a:xfrm>
              <a:off x="2286000" y="4495680"/>
              <a:ext cx="3429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3300"/>
                  </a:solidFill>
                  <a:latin typeface="Times New Roman"/>
                  <a:ea typeface="华文新魏"/>
                </a:rPr>
                <a:t>存郑利秦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文本框 9226"/>
            <p:cNvSpPr/>
            <p:nvPr/>
          </p:nvSpPr>
          <p:spPr>
            <a:xfrm>
              <a:off x="2286000" y="5486400"/>
              <a:ext cx="5486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3300"/>
                  </a:solidFill>
                  <a:latin typeface="Times New Roman"/>
                  <a:ea typeface="华文新魏"/>
                </a:rPr>
                <a:t>晋忘恩负义，不可共事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图片 10241" descr="C:\My Documents\新建文件夹 (3)\bg了可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矩形 10242"/>
          <p:cNvSpPr/>
          <p:nvPr/>
        </p:nvSpPr>
        <p:spPr>
          <a:xfrm>
            <a:off x="1219320" y="0"/>
            <a:ext cx="6476760" cy="13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整体把握，理清层次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第四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矩形 10243"/>
          <p:cNvSpPr/>
          <p:nvPr/>
        </p:nvSpPr>
        <p:spPr>
          <a:xfrm>
            <a:off x="2369520" y="2057400"/>
            <a:ext cx="261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  <a:ea typeface="华文新魏"/>
              </a:rPr>
              <a:t>“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华文新魏"/>
              </a:rPr>
              <a:t>退”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结果如何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文本框 10244"/>
          <p:cNvSpPr/>
          <p:nvPr/>
        </p:nvSpPr>
        <p:spPr>
          <a:xfrm>
            <a:off x="457200" y="3048120"/>
            <a:ext cx="80773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子犯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请击之，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公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曰：“不可。微夫人之力不及此。因人之力而敝之，不仁；失其所与，不知；以乱易整，不武。吾其还也。”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亦去之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4T01:27:37Z</dcterms:created>
  <dc:creator>ls</dc:creator>
  <dc:description/>
  <dc:language>en-US</dc:language>
  <cp:lastModifiedBy>admin</cp:lastModifiedBy>
  <dcterms:modified xsi:type="dcterms:W3CDTF">2017-09-04T08:15:40Z</dcterms:modified>
  <cp:revision>19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749</vt:lpwstr>
  </property>
</Properties>
</file>