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342-EAA8-45DE-8E5D-3B4CD7EC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7B5-BBBF-457E-81E2-2DF6E09B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F0C7-28D3-45C5-A8AE-BCCF7822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5AE-7EA9-4D78-9A76-DC6188BA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A947-8213-451B-A68D-423CF4D8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A62D-C146-44C7-87EB-57E1B176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641-650F-4DCA-A9B5-F8435E39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1E5-F556-420A-A592-EA61C3F0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7A27-AADF-4350-A966-582CBE5D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AF5-403B-49BF-8BFD-FA3F67B2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0F4-E611-417F-B743-E4A424BF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894-146B-48EF-B3F8-A08A7E95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534B-3710-461D-864F-BC83574C3D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106668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一头战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29000" y="304920"/>
            <a:ext cx="5486400" cy="3962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609480"/>
            <a:ext cx="495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  大象是一种很有灵性的动物，每群象都有一个象冢，除了横遭不幸暴毙荒野的，它们都能准确地预感到自己的死期，在死神降临前的半个月左右，会独自走到遥远而又神秘的象冢里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400800" y="3581280"/>
            <a:ext cx="2384280" cy="3000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60600" cy="3619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828800" y="3505320"/>
            <a:ext cx="3162240" cy="3162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962520" y="228600"/>
            <a:ext cx="281448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9880" y="228600"/>
            <a:ext cx="51818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抄写文章的好词佳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习课文描写动物具体细致的表达方法，写写你熟悉的动物。或者课后读读沈石溪的其它作品，写一写读后感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666880" y="1522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默读课文，画出能让你体会到嘎羧内心世界的语句，多读几遍，并在旁边写写你的体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533520"/>
            <a:ext cx="7620120" cy="556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114300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它站在江滩的卵石上，久久凝望着清波荡漾的江面。然后，它踩着哗哗流淌的江水，走到一块龟形礁石上亲了又亲，许久，又昂起头来，向着天边那轮火红的朝阳，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口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欧──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口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欧──发出震耳欲聋的吼叫。这时，它身体膨胀起来，四条腿皮肤紧绷绷地发亮，一双眼睛炯炯有神，吼声激越悲壮，惊得江里的鱼儿扑喇喇跳出水面。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533520"/>
            <a:ext cx="7620120" cy="556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990720"/>
            <a:ext cx="7086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它站在江滩的卵石上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久久凝望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着清波荡漾的江面。然后，它踩着哗哗流淌的江水，走到一块龟形礁石上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亲了又亲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许久，又昂起头来，向着天边那轮火红的朝阳，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口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欧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──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口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欧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──发出震耳欲聋的吼叫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这时，它身体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膨胀起来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四条腿皮肤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紧绷绷地发亮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一双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眼睛炯炯有神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吼声激越悲壮，惊得江里的鱼儿扑喇喇跳出水面。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533520"/>
            <a:ext cx="7620120" cy="556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99072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它站在江滩的卵石上，久久凝望着清波荡漾的江面。然后，它踩着哗哗流淌的江水，走到一块龟形礁石上亲了又亲，许久，又昂起头来，向着天边那轮火红的朝阳，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口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欧──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口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欧──发出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震耳欲聋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的吼叫。这时，它身体膨胀起来，四条腿皮肤紧绷绷地发亮，一双眼睛炯炯有神，吼声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激越悲壮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惊得江里的鱼儿扑喇喇跳出水面。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457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士兵骑象杀敌，战象用长鼻劈敌，用象蹄踩敌，一大群战象，排水倒海般地扑向敌人，势不可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752480"/>
            <a:ext cx="8001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象兵在打洛江畔和日寇打了一仗。战斗异常激烈，枪炮声、厮杀声和象吼声惊天动地；鬼子在打洛江里扔下了七十多具尸体，我方八十多头战象全部中弹倒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血把江水都染红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摘自《最后一头战象》原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41972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民工在搬运战象的尸体时，意外地发现有一头公象还在喘息，它的脖颈被刀砍伤，一颗机枪子弹从前腿穿过去，浑身上下都是血，但它还活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摘自《最后一头战象》原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8487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533520"/>
            <a:ext cx="7620120" cy="556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9907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它站在江滩的卵石上，久久凝望着清波荡漾的江面。然后，它踩着哗哗流淌的江水，走到一块龟形礁石上亲了又亲，许久，又昂起头来，向着天边那轮火红的朝阳，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口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欧──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口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欧──发出震耳欲聋的吼叫。这时，它身体膨胀起来，四条腿皮肤紧绷绷地发亮，一双眼睛炯炯有神，吼声激越悲壮，惊得江里的鱼儿扑喇喇跳出水面。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17680" y="372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8600"/>
            <a:ext cx="81536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它已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多岁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脖子歪得厉害，嘴永远闭不拢，整天滴滴嗒嗒地淌着唾液；一条前腿也没能完全治好，短了一截，走起路来踬踬颠颠；本来就很稀疏的象毛几乎都掉光了，皮肤皱得就像脱水的丝瓜；岁月风尘，两根象牙积了厚厚一层难看的黄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摘自《最后一头战象》原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22860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2096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这时，它身体膨胀起来，四条腿皮肤紧绷绷地发亮，一双眼睛炯炯有神，吼声激越悲壮，惊得江里的鱼儿扑喇喇跳出水面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5053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它显得很衰老，整天卧在树阴下打瞌睡。有一天，嘎羧躺在地上拒绝进食，要揪住它的鼻子摇晃好一阵，它才会艰难地睁开眼睛，朝你看一眼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50292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这时，它身体膨胀起来，四条腿皮肤紧绷绷地发亮，一双眼睛炯炯有神，吼声激越悲壮，惊得江里的鱼儿扑喇喇跳出水面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533520"/>
            <a:ext cx="7620120" cy="556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14300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它站在江滩的卵石上，久久凝望着清波荡漾的江面。然后，它踩着哗哗流淌的江水，走到一块龟形礁石上亲了又亲，许久，又昂起头来，向着天边那轮火红的朝阳，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口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欧──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口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欧──发出震耳欲聋的吼叫。这时，它身体膨胀起来，四条腿皮肤紧绷绷地发亮，一双眼睛炯炯有神，吼声激越悲壮，惊得江里的鱼儿扑喇喇跳出水面。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4674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8915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0-30T09:13:34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