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395-2097-43CE-B8CA-568A8914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7D6-6B5D-40AF-BB8D-ACD6D820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00DCF-8F19-4EE4-99D5-62D6141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8B730-20BF-4776-BA89-5A6FE6D9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A5FD9-4120-4F80-BC51-10AEC3B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21C4F-CD80-481D-B07F-34515A15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E1882-8121-497A-8EFB-18E2FD93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95DD3-43FF-47C1-9D45-D7D5511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56A8D-A717-4F84-BCAB-214F99D1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006AA-E95D-461E-8852-F790BDEF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0C145-268C-4699-8EFA-CC75166D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C6BD1-1945-4783-BBA0-9FFBCF0A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CA3-5292-44B9-9901-C78EC7E0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E4899-12EA-4D86-A5C0-8D85988D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A0CEC-8B82-4F5A-B764-A0F9627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558A1-4D91-462C-A428-46E47F6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13E4D-1308-40F8-BED7-CB6667A3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45DA0-2A94-4547-8204-B84C899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11163-460B-42DE-A068-C7DFD2A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092D0-AF13-4F5B-807A-2F541A6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823BF-EB95-42A4-A91C-44FC07F5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B6ADD-0BBA-4C4E-A426-52BBC803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11AC9-7CF9-4CF2-8F0F-D13C67F2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FFF-3FE1-40F2-A83B-CF2E428A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45CE7-6FAC-4893-9775-1646CCD0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DBCFF-F84E-40BE-8EEB-88C84BDA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87A06-FA10-4EFF-95D4-0526F193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55FF8-4038-47EC-832E-A0B80FD8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7F4B9-A82C-4599-BCAF-38C4D083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118D6-107F-4105-96FC-5D55A336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569D7-4973-4C46-86D6-746A1588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41ED6-27A9-42F4-B127-52EBED18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C2F6C-274A-44DA-A5E5-6C58C3F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D8F0B-D1E0-429B-B3C2-BD71B471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9B5C-CCDC-4C8E-99DB-F8D5D678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D5682-06B1-4BE6-8B36-71ED2B67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590B5-42B2-4C42-B44F-EF2CAB66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27013-2FA2-4BEE-9509-114772D5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2C308-AE84-48C3-9AEA-73F01FEB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4D6D0-C8F9-43B3-81FE-F788BE7D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61631-688A-49E5-B955-1C5E1FFD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AE3A0-956D-4270-B284-109F18D4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7F539-AF9C-4473-8F6C-36F77E0E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91DCF-46AB-4FF8-B16F-69470212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741E7-D434-4562-BEEA-CD147B99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962B-C6A3-44F8-AD68-C4AEE2D9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DC090-6C31-4ED9-86F7-D1D1A08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2F411-F913-4934-92BD-E53ED85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EBF49-34C8-4C46-AF32-75AAB2C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5F8E2-3012-4D27-A7A3-E5137C62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60BAF-D184-4A98-9E96-B2AFF00A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5B617-FDC2-4553-B450-B09E5374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29338-D8B4-436C-8D8E-E2D25E26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F4365-85E4-4824-8675-64238EF7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79281-1E72-434C-BF1E-305B1581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28272-298A-44B8-822C-3F339012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D66A-FE5E-4996-A8B3-B9D33060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6698E-7BC1-4C91-95AF-2EBDF0EC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58368-3DFF-4E90-89A3-A58FFBFA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45C7D-E0CE-4D49-B210-9B9BA761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088C5-CE7C-430D-ACAF-DF5A221D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70897-78D7-488D-81C1-D3204A28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2A6AB-9DCB-4B5F-B1B8-165EEAB7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C6764-35FB-4965-8C43-7E7DD5D7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C558-CD4F-416D-803B-2B0FEDA6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611D-C9B3-4607-B703-3642D11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E716-D2E4-4D35-9D38-6DBB96FE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B6BA-4D8D-41AF-9733-9D94AFC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05E-5A5B-41C2-A489-DEB080E0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5E2F-8161-4D9E-9FF1-52F8745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6196-3E4B-41FE-8500-82FC8A4E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25F5-DC0E-4145-8D5B-00BE4EFF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F418-B647-453D-8CA7-8F782CD8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686F-C4DE-44AB-B22F-7023B842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15C5-517C-4662-876F-EEBD92AE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4D09-4CD7-4CD0-91D3-A7D17945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3056-E6BE-464E-B7E1-8F1D3A87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3937-1EF0-4C8D-940D-D77DAB7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0BE4-C07B-44E1-AE97-16C9ABC7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11F-84B7-4FF0-A1A3-E64EAFA6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3158-5845-4C58-96E0-C6D2F8A8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8253-370A-4D1F-A570-79A9BBD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16A0-5CF7-424A-A562-89732AE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F5B9-DB1F-449C-80BB-139535C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BC9F-8B6C-42F4-B787-E174E696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BB01-90FE-4855-B88C-8ADDE143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C9CB-652C-4880-B57E-E538F21C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0A65-48E5-42B5-89E2-A4FADB9B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88250-8EE0-4AEF-BF2E-A9CE122A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6DA5-BF52-4401-A775-FC290891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C27-3600-4C5C-BF03-5F0F3898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D1E65-6DC4-46DF-8F4F-62A3D7D7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0131-806A-40B6-92C5-5D3193D8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FA1A8-4442-4FA7-BDE4-756520EA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A18A5-BBCF-40DA-B5DA-42D6C19D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3462D-253B-4AF1-A683-141B0A7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3C752-947C-4D90-9AFE-A2531649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F6602-AB7B-471A-A495-3B1600FA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7583C-A330-4761-9270-C2EF91CF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301F-3BE6-4B0F-BA4B-42233A99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00876-137E-49A7-973E-45F9629C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4CE-DEDB-4DC1-923F-0030FC32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4504-EA0F-458B-8880-127EEC7D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B7E1F-3B39-44EE-92DC-C372851E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804B3-524B-40E0-B54D-08201A5E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DBC8-04B8-4C02-869F-3C554403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294D4-79D8-41CA-A4B1-2EA411C5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78A3-201D-4700-AEBA-18C0538E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5EAB3-2006-49DC-97C7-C7E74F8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2BCDB-B371-49FB-BC5B-6AE8DD64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4258-3EBE-4766-8E04-1DD86307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F8A2-4CED-4152-B296-2DEE9CA0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E18-55C1-465F-99E8-539DC72D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5BFDD-09A0-4843-B46C-D4F54CB9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4F92B-19E6-47ED-B391-4FCCEDAC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4629D-EDF8-4C35-B0FA-F3215D5F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D93F0-A45A-4474-8F36-B9631812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1F45C-418C-45C7-B20C-674E670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057A-CF25-4FC7-B498-D8FC2827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7F217-50BE-4371-961D-DF1B43AA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17B1-0AA8-4C1E-917C-FA27BD0B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A3BDC-5D9B-4CD9-8930-10A8170B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B1CE5-61ED-4E74-A13B-644056C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BF2-4CA6-4586-875E-FA07B9F6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D8E33-DA8B-4636-93F8-4677374C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02FE-A8E6-4299-86B7-5296AE8A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86F9D-A863-4639-A238-21FD44A1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89430-B912-4B5C-A46E-02678BFB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EF9BD-D478-47E3-8037-9462D76B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E4F22-6D76-4DE6-80FC-D33C068E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282F4-FF6B-4759-96F8-DE879DF3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C3343-7453-4211-BEC2-6BD3BC57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CCFFE-D0C9-4C25-80CB-30153CCE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1CCEC-7B70-4CB2-A002-C2DB0D64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149-070E-47C4-AF29-E9771BB5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6E609-B141-42D7-A0D2-E9ADBEE1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4BB43-AD71-4357-89F4-2C9331E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B71F-0A45-49FB-9A69-6793ECF0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9D7EF-69E1-487A-B57E-CF1A2EFE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39750-B4E3-45A0-AA57-A9747839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4816D-3C15-43BD-9EC1-B5A9C43B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9F671-8B77-46F6-9F71-99F88D0F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DE9AC-DE15-42E7-8892-C0F24780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B5B00-8DA1-4D7E-8855-BA912D2C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F73E3-0C67-449F-854B-53825BAC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C9C-EA04-488B-BFB9-3F7776F5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1F8A2-E396-42EF-8553-68C64D54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CDB0D-22DB-4B42-9C3B-58D71C7F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445F4-F4BC-4A7D-9226-BF3E15F9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66E01-40B7-4F08-9F04-016B1D11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BA48B-D60D-4242-B8AE-1B340B64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AECB5-4476-4C33-A60E-C858215A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B5100-9D5A-4F51-97F8-42A62A79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F8CF4-F649-4153-88CF-30667C4F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D9537-87EA-4B70-A4CC-1CFD88F8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852D8-8870-4F60-AACD-E6611608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DAEB-B9E1-42F2-9E45-5C3B49F8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7FA4-D429-4AA9-A357-E7E6098536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9C17-22B9-47E7-8E04-3E609FB72F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BF4D-EE55-4839-B9AF-205D1461D4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F357-3B2D-4076-A530-FECEDCB379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6C5F-B4C9-4695-A85F-947648CAE2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B281-6B92-437A-A953-E509F261F6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4E0D-1F13-4F89-8CF0-F5F8087388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F282-7BE2-494B-96FC-C29278D90B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354F-ED6F-4C66-B8FF-29E869C9B4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8363-D46A-42B2-84B1-D48A3CA669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B8D5-BF18-4777-A36D-9CBE2844AF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8DE7-307F-4C90-B6C3-AF4B42F636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5" descr=""/>
          <p:cNvPicPr/>
          <p:nvPr/>
        </p:nvPicPr>
        <p:blipFill>
          <a:blip r:embed="rId2"/>
          <a:stretch/>
        </p:blipFill>
        <p:spPr>
          <a:xfrm>
            <a:off x="1692360" y="971640"/>
            <a:ext cx="9396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536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537" name="矩形 14"/>
            <p:cNvSpPr/>
            <p:nvPr/>
          </p:nvSpPr>
          <p:spPr>
            <a:xfrm>
              <a:off x="5076000" y="7153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18"/>
          <p:cNvGrpSpPr/>
          <p:nvPr/>
        </p:nvGrpSpPr>
        <p:grpSpPr>
          <a:xfrm>
            <a:off x="1023840" y="404640"/>
            <a:ext cx="2031840" cy="2501640"/>
            <a:chOff x="1023840" y="404640"/>
            <a:chExt cx="2031840" cy="2501640"/>
          </a:xfrm>
        </p:grpSpPr>
        <p:pic>
          <p:nvPicPr>
            <p:cNvPr id="540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280"/>
              <a:ext cx="1584360" cy="203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549" name="矩形 3" descr=""/>
          <p:cNvPicPr/>
          <p:nvPr/>
        </p:nvPicPr>
        <p:blipFill>
          <a:blip r:embed="rId3"/>
          <a:stretch/>
        </p:blipFill>
        <p:spPr>
          <a:xfrm>
            <a:off x="1773360" y="3736800"/>
            <a:ext cx="6243480" cy="811440"/>
          </a:xfrm>
          <a:prstGeom prst="rect">
            <a:avLst/>
          </a:prstGeom>
          <a:ln w="0">
            <a:noFill/>
          </a:ln>
        </p:spPr>
      </p:pic>
      <p:pic>
        <p:nvPicPr>
          <p:cNvPr id="550" name="矩形 4" descr=""/>
          <p:cNvPicPr/>
          <p:nvPr/>
        </p:nvPicPr>
        <p:blipFill>
          <a:blip r:embed="rId4"/>
          <a:stretch/>
        </p:blipFill>
        <p:spPr>
          <a:xfrm>
            <a:off x="2498760" y="2255760"/>
            <a:ext cx="4852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9" descr=""/>
          <p:cNvPicPr/>
          <p:nvPr/>
        </p:nvPicPr>
        <p:blipFill>
          <a:blip r:embed="rId12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0" descr="png-0644"/>
          <p:cNvPicPr/>
          <p:nvPr/>
        </p:nvPicPr>
        <p:blipFill>
          <a:blip r:embed="rId13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1" descr="png-0652"/>
          <p:cNvPicPr/>
          <p:nvPr/>
        </p:nvPicPr>
        <p:blipFill>
          <a:blip r:embed="rId14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admin</dc:creator>
  <dc:description/>
  <dc:language>en-US</dc:language>
  <cp:lastModifiedBy>lenovo</cp:lastModifiedBy>
  <dcterms:modified xsi:type="dcterms:W3CDTF">2014-01-13T08:42:12Z</dcterms:modified>
  <cp:revision>90</cp:revision>
  <dc:subject/>
  <dc:title>幻灯片 1</dc:title>
</cp:coreProperties>
</file>