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隶书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隶书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隶书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98A-8A64-4055-A102-163C944F9CA9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大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318-D24F-413F-B0AE-A3FE2E46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DDF-3919-46A0-865C-840DA4FD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D15-122D-4675-947F-C98E9556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E46-2CA7-4833-9ABF-52F2415D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00E4-D2B6-422B-B43C-A3AFB22D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550-A22E-4556-827E-639CEA02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4C8E-893A-4E17-BA79-5F10BAD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BE4D-68D6-48F9-9690-7860081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5F1-10B4-4224-A0C0-CD33820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956-B5F9-45F1-B204-156CBDB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A6C-7BE8-44D5-9D4E-0A8FDFC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9B2-1E7E-43F5-9A9E-CC573E73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F3C-BC7D-4D0E-8E39-6EAB247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39C-271E-4EE5-8C45-65A07B2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2773-1EEA-4C3E-BE40-53335C3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181-17DE-4D3C-A490-5C50AE13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106-23D9-41E4-BEB7-BBE7DB69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99-BBED-4B4A-A48F-19E27FD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C99-FA82-4F9B-9CE3-FB979A3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CEA-D555-4D0F-B3AB-69201BC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A0F-D875-4DAA-8C4B-B6889DEC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2AE-1E15-43C1-A496-5FF609B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34B-C193-4546-B3F8-63BA5D9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12-8512-4D6C-B6ED-52E9C00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32F1-A2E4-4BE7-AF6E-17C5BF57725F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519-AEF5-45CD-B6A0-D53137D380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03B-FDAB-4BA9-B9FF-5578CDAC899F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131-29D1-4866-8460-3654EAEFC6B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1752480"/>
            <a:ext cx="56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ahoma"/>
                <a:ea typeface="华文彩云"/>
              </a:rPr>
              <a:t>《醉翁亭记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1911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eb22"/>
                </a:solidFill>
                <a:latin typeface="Tahoma"/>
                <a:ea typeface="楷体_GB2312"/>
              </a:rPr>
              <a:t>山水游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3819A-EFA6-4BBC-B7D1-B03ACC28360C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77616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学习要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7016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学习本文由景生情、情景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交融的手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理解作者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99006-8D68-4CFE-986F-7E2DF3E19353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10040" y="426960"/>
            <a:ext cx="414288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解释红色的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望之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蔚然</a:t>
            </a:r>
            <a:r>
              <a:rPr b="0" lang="zh-CN" sz="4000" spc="-1" strike="noStrike">
                <a:solidFill>
                  <a:srgbClr val="0deb22"/>
                </a:solidFill>
                <a:latin typeface="Tahoma"/>
                <a:ea typeface="隶书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而深秀者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有亭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翼然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临于泉上者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杂然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而前陈者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颓然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乎其间者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山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行六七里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临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溪而渔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酿泉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为酒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已而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夕阳在山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5CBD2-5E90-4D2F-9E10-268940B7E238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838080"/>
          <a:ext cx="8458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458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120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D3879-543C-41CE-BEBD-F0D92BD01171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  <a:ea typeface="楷体_GB2312"/>
              </a:rPr>
              <a:t>醉 翁 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12408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9718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山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-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泉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-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556160"/>
            <a:ext cx="67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作亭者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-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命名者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-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命名之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048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远—近　全景—局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6A4E8-1140-4D45-907F-E0A329151A80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5053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  <a:ea typeface="楷体_GB2312"/>
              </a:rPr>
              <a:t>山   水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66688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2004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日出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云归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334120"/>
            <a:ext cx="49528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野花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树木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风霜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水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483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e4a8"/>
                </a:solidFill>
                <a:latin typeface="楷体_GB2312"/>
                <a:ea typeface="楷体_GB2312"/>
              </a:rPr>
              <a:t>春   夏    秋    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438280"/>
            <a:ext cx="22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e4a8"/>
                </a:solidFill>
                <a:latin typeface="楷体_GB2312"/>
                <a:ea typeface="楷体_GB2312"/>
              </a:rPr>
              <a:t>朝    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B45D3-EA8F-46FE-8943-EE8B055A2F0F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3657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游  人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27672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216240"/>
            <a:ext cx="464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滁人游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隶书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太守宴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隶书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众宾欢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  <a:ea typeface="隶书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太守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209680"/>
            <a:ext cx="3870360" cy="64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四个场面的描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61E55-A00D-4196-B1A2-7CD7EE4503D9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312408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归结全文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点明主旨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124080"/>
            <a:ext cx="381240" cy="17528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124080"/>
            <a:ext cx="2819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（主旨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楷体_GB2312"/>
              </a:rPr>
              <a:t>与民同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7432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禽鸟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35812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游人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343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太守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180760" y="3124080"/>
            <a:ext cx="228600" cy="1752840"/>
          </a:xfrm>
          <a:custGeom>
            <a:avLst/>
            <a:gdLst>
              <a:gd name="textAreaLeft" fmla="*/ 145800 w 228600"/>
              <a:gd name="textAreaRight" fmla="*/ 22860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QQ：76472307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F5BEC-0815-41A9-BBA6-B88F805B79DA}" type="datetime1">
              <a:rPr lang="en-US"/>
              <a:t>07/31/26</a:t>
            </a:fld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3-13T01:35:30Z</dcterms:modified>
  <cp:revision>20</cp:revision>
  <dc:subject/>
  <dc:title>PowerPoint 演示文稿</dc:title>
</cp:coreProperties>
</file>