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0324-3D38-47BD-84CA-3F2D8D29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70C0-F915-4C94-8D9A-835CE0E7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E66-9BA0-408F-9163-77CC6201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CB2-39EE-451C-84FB-C5F76776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80FA-9381-4D56-8A6D-DFD563ED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FD9E-CEF7-4ABF-8DE6-C5AF6F9C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6483-C9E7-4CE0-A11C-0402B99A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DF74-2778-49E9-92A9-EB0D8813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6B7-1A66-43DB-98D6-C3BC7BCB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5CC-E04A-4DFF-938D-FB106A19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F199-FCB4-4FB2-B386-4B4AE8E3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0A6B-EEAC-4A76-B241-0165EEEB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D5D5-8FD5-4A5E-8827-0C4242B36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E:\唐红梅\植物妈妈有办法\7.bmp"/>
          <p:cNvPicPr/>
          <p:nvPr/>
        </p:nvPicPr>
        <p:blipFill>
          <a:blip r:embed="rId1"/>
          <a:stretch/>
        </p:blipFill>
        <p:spPr>
          <a:xfrm>
            <a:off x="0" y="0"/>
            <a:ext cx="9144000" cy="891540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914400" y="838080"/>
            <a:ext cx="71341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楷体_GB2312"/>
              </a:rPr>
              <a:t>植物妈妈有办法</a:t>
            </a:r>
            <a:endParaRPr b="1" lang="en-US" sz="8000" spc="-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226960" y="5589720"/>
            <a:ext cx="302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downcc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0"/>
            <a:ext cx="8915400" cy="89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旅行            蒲公英              降落伞                娃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苍耳             纷纷                  山洼                  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蹦跳             炸开                  观察                知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:\唐红梅\植物妈妈有办法\15.jpg"/>
          <p:cNvPicPr/>
          <p:nvPr/>
        </p:nvPicPr>
        <p:blipFill>
          <a:blip r:embed="rId1"/>
          <a:stretch/>
        </p:blipFill>
        <p:spPr>
          <a:xfrm>
            <a:off x="3124080" y="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E:\唐红梅\植物妈妈有办法\16.jpg"/>
          <p:cNvPicPr/>
          <p:nvPr/>
        </p:nvPicPr>
        <p:blipFill>
          <a:blip r:embed="rId2"/>
          <a:stretch/>
        </p:blipFill>
        <p:spPr>
          <a:xfrm>
            <a:off x="0" y="228600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E:\唐红梅\植物妈妈有办法\17.jpg"/>
          <p:cNvPicPr/>
          <p:nvPr/>
        </p:nvPicPr>
        <p:blipFill>
          <a:blip r:embed="rId3"/>
          <a:stretch/>
        </p:blipFill>
        <p:spPr>
          <a:xfrm>
            <a:off x="5638680" y="4114800"/>
            <a:ext cx="2503440" cy="3189240"/>
          </a:xfrm>
          <a:prstGeom prst="rect">
            <a:avLst/>
          </a:prstGeom>
          <a:ln w="0">
            <a:noFill/>
          </a:ln>
        </p:spPr>
      </p:pic>
      <p:pic>
        <p:nvPicPr>
          <p:cNvPr id="60" name="qiurisiyu.mp3" descr=""/>
          <p:cNvPicPr/>
          <p:nvPr/>
        </p:nvPicPr>
        <p:blipFill>
          <a:blip r:embed="rId4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343400" y="1523880"/>
            <a:ext cx="3505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宋体"/>
              </a:rPr>
              <a:t>如  已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宋体"/>
              </a:rPr>
              <a:t>娃  纷好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田字格"/>
          <p:cNvPicPr/>
          <p:nvPr/>
        </p:nvPicPr>
        <p:blipFill>
          <a:blip r:embed="rId1"/>
          <a:stretch/>
        </p:blipFill>
        <p:spPr>
          <a:xfrm>
            <a:off x="228600" y="228600"/>
            <a:ext cx="38098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:\唐红梅\植物妈妈有办法\6.jpg"/>
          <p:cNvPicPr/>
          <p:nvPr/>
        </p:nvPicPr>
        <p:blipFill>
          <a:blip r:embed="rId1"/>
          <a:stretch/>
        </p:blipFill>
        <p:spPr>
          <a:xfrm>
            <a:off x="380880" y="2895480"/>
            <a:ext cx="4953240" cy="3705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E:\唐红梅\植物妈妈有办法\4.bmp"/>
          <p:cNvPicPr/>
          <p:nvPr/>
        </p:nvPicPr>
        <p:blipFill>
          <a:blip r:embed="rId2"/>
          <a:stretch/>
        </p:blipFill>
        <p:spPr>
          <a:xfrm>
            <a:off x="3886200" y="228600"/>
            <a:ext cx="5029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E:\唐红梅\植物妈妈有办法\2.bmp"/>
          <p:cNvPicPr/>
          <p:nvPr/>
        </p:nvPicPr>
        <p:blipFill>
          <a:blip r:embed="rId1"/>
          <a:stretch/>
        </p:blipFill>
        <p:spPr>
          <a:xfrm>
            <a:off x="304920" y="45720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E:\唐红梅\植物妈妈有办法\8.jpg"/>
          <p:cNvPicPr/>
          <p:nvPr/>
        </p:nvPicPr>
        <p:blipFill>
          <a:blip r:embed="rId2"/>
          <a:stretch/>
        </p:blipFill>
        <p:spPr>
          <a:xfrm>
            <a:off x="4648320" y="3390840"/>
            <a:ext cx="41529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唐红梅\植物妈妈有办法\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E:\唐红梅\植物妈妈有办法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唐红梅\植物妈妈有办法\7.bmp"/>
          <p:cNvPicPr/>
          <p:nvPr/>
        </p:nvPicPr>
        <p:blipFill>
          <a:blip r:embed="rId1"/>
          <a:stretch/>
        </p:blipFill>
        <p:spPr>
          <a:xfrm>
            <a:off x="0" y="0"/>
            <a:ext cx="9144000" cy="8915400"/>
          </a:xfrm>
          <a:prstGeom prst="rect">
            <a:avLst/>
          </a:prstGeom>
          <a:ln w="0">
            <a:noFill/>
          </a:ln>
        </p:spPr>
      </p:pic>
      <p:sp>
        <p:nvSpPr>
          <p:cNvPr id="52" name="WordArt 3"/>
          <p:cNvSpPr txBox="1"/>
          <p:nvPr/>
        </p:nvSpPr>
        <p:spPr>
          <a:xfrm>
            <a:off x="914400" y="838080"/>
            <a:ext cx="71341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楷体_GB2312"/>
              </a:rPr>
              <a:t>植物妈妈有办法</a:t>
            </a:r>
            <a:endParaRPr b="1" lang="en-US" sz="8000" spc="-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27" descr="E:\唐红梅\植物妈妈有办法\8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E:\唐红梅\植物妈妈有办法\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唐红梅\植物妈妈有办法\19.jpg"/>
          <p:cNvPicPr/>
          <p:nvPr/>
        </p:nvPicPr>
        <p:blipFill>
          <a:blip r:embed="rId1"/>
          <a:stretch/>
        </p:blipFill>
        <p:spPr>
          <a:xfrm>
            <a:off x="1371600" y="45720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00:25:10Z</dcterms:created>
  <dc:creator>第一PPT模板网-WWW.1PPT.COM</dc:creator>
  <dc:description>第一PPT模板网-WWW.1PPT.COM
</dc:description>
  <dc:language>en-US</dc:language>
  <cp:lastModifiedBy>wuhan</cp:lastModifiedBy>
  <dcterms:modified xsi:type="dcterms:W3CDTF">2017-10-17T07:16:22Z</dcterms:modified>
  <cp:revision>29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5</vt:lpwstr>
  </property>
</Properties>
</file>