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FE42-F773-4739-BC01-65A6C5C7A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60A2-D1E0-45FF-B60E-9C3FB2FB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6571-C2CE-4481-9A4D-888660E84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D452-497E-4B9D-814E-D04B0C2A7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B099-907B-4CB6-9F0A-69F04B9A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FAEE-6469-41BE-9DF8-CFF7B706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54AA-F28A-40DC-A226-F040BAC9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13CC-30DF-4782-A51F-5C7F899E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77FA-2927-4AE2-A1F3-1053C19D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64E9-AAF0-4D1E-BED9-CCE10FDD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D34D-7D28-4CEE-A1AD-3DC2793E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633E-90AF-48AF-AE7A-67A4A14C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8B8B-AB78-4F4F-A310-40BD9AD73E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02:55:50Z</dcterms:created>
  <dc:creator>server2</dc:creator>
  <dc:description/>
  <dc:language>en-US</dc:language>
  <cp:lastModifiedBy>wangxuejun</cp:lastModifiedBy>
  <dcterms:modified xsi:type="dcterms:W3CDTF">2008-07-13T16:24:55Z</dcterms:modified>
  <cp:revision>2</cp:revision>
  <dc:subject/>
  <dc:title>幻灯片 1</dc:title>
</cp:coreProperties>
</file>