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1EA1-0B60-4D6E-ADAB-6E7546F75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8F26-B20E-4F50-A5F2-4745B1E78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2E9E-C255-48BA-9327-AE159E7D3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4AEB-2CD4-42C0-8BB8-3F8E01230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EBF4-F340-4200-A680-3E742C9A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919B-1CD9-4E88-908E-4964A44AD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38F0-A6FF-4DCD-9B15-2657058CD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EA03-AB47-4479-B4EE-2D9A9486F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6B46-E31F-4C09-882A-13391BDAC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5E19-B6B8-4053-9A6D-AD8E7AC9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2E12-AC8B-4C22-862A-4500C5C5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7963-976D-4921-AD2C-8E4CE03C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12949-1CD4-4E56-B85D-22D1F335F7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5T02:55:50Z</dcterms:created>
  <dc:creator>server2</dc:creator>
  <dc:description/>
  <dc:language>en-US</dc:language>
  <cp:lastModifiedBy>wangxuejun</cp:lastModifiedBy>
  <dcterms:modified xsi:type="dcterms:W3CDTF">2008-07-13T16:24:55Z</dcterms:modified>
  <cp:revision>2</cp:revision>
  <dc:subject/>
  <dc:title>幻灯片 1</dc:title>
</cp:coreProperties>
</file>