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5D4-6EE1-4815-A884-029D99CB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A6B-181E-468A-B336-741899D4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B50-EAEA-4F43-A7D4-DB1BCE15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02C-CB97-425C-89CC-E25BBCE4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6F1-83D9-48A7-B17C-6C9D11B9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875-8D41-439A-BE42-19BABCB9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378-BD34-4856-945F-494ECD00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0AF-FF56-47D5-92A9-CA103C4D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AED-CE2E-4E8A-9164-42806058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BEB-7E29-4342-BAB8-23B7F019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C3C-2404-4945-A54C-147D75DB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71F-5B5F-4DA8-999E-4E63A620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BA43-B0D9-4DCE-8BAB-3D5CC8979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3:22:40Z</dcterms:created>
  <dc:creator/>
  <dc:description/>
  <dc:language>en-US</dc:language>
  <cp:lastModifiedBy>                  </cp:lastModifiedBy>
  <dcterms:modified xsi:type="dcterms:W3CDTF">2012-01-18T13:33:50Z</dcterms:modified>
  <cp:revision>2</cp:revision>
  <dc:subject/>
  <dc:title>Title</dc:title>
</cp:coreProperties>
</file>