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ppt_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天遥一家亲PPT背板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天遥G10会议通PPT背板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162864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197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打开讲义、备忘录及范例说明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227664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打开讲义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一键即开启授课、会议时所需讲义、档案，事先设定好快捷键，做到随用随看。此设计可避免教学会议中途停顿费时去找档案，而降低教学、会议质量， 教学、会议前可以将所需要的文件、档案预设于一类模式中的各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教学会议时只须要切换至其模式后，一按相关键瞬间即可把档案调出来，维持教学会议时的流畅感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1052640"/>
            <a:ext cx="6551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打开讲义范例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选择模式三“打开讲义”，预设③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“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打开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讲义范例”，④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“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打开文档讲义范例”，⑤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“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打开表格讲义范例”，一键即能开启教学、会议时所需的讲义、档案。用户也可以根据实际使用情况和习惯，可将鼠标按键②③④⑤⑥及滚轮上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P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、滚轮下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N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选用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开启讲义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功能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3992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备忘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显示各键的设定功能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提醒老师讲义在那一键可以调出来。点击选用 “备忘录”的键，即可打开备忘录界面，显示各键的设定功能或打开各讲义档案的所设按键。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1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软件有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种使用模式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每一模式又有七个可设定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利用此功能相信可以帮助记忆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如欲关闭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备忘录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可以再按一次原开启此功能的键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于紧张的教学会议时善用此类似方便的小抄文档将有效提醒而不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备忘录范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选择模式三“打开讲义”，单击⑥键，即可弹出备忘录界面，显示各键的设定功能或打开各讲义档案的所设按键。用户也可以根据实际使用情况和习惯，可将鼠标按键②③④⑤⑥及滚轮上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、滚轮下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N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选用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忘录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功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3989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6:01:28Z</dcterms:created>
  <dc:creator>karl</dc:creator>
  <dc:description/>
  <dc:language>en-US</dc:language>
  <cp:lastModifiedBy>User</cp:lastModifiedBy>
  <dcterms:modified xsi:type="dcterms:W3CDTF">2010-05-15T01:35:00Z</dcterms:modified>
  <cp:revision>281</cp:revision>
  <dc:subject/>
  <dc:title>幻灯片 1</dc:title>
</cp:coreProperties>
</file>