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%E9%9B%B7%E5%A3%B01.wav" ContentType="audio/x-wav"/>
  <Override PartName="/ppt/media/image24.png" ContentType="image/png"/>
  <Override PartName="/ppt/media/image23.png" ContentType="image/png"/>
  <Override PartName="/ppt/media/image21.jpeg" ContentType="image/jpeg"/>
  <Override PartName="/ppt/media/image20.jpeg" ContentType="image/jpeg"/>
  <Override PartName="/ppt/media/image18.png" ContentType="image/png"/>
  <Override PartName="/ppt/media/type.wav" ContentType="audio/x-wav"/>
  <Override PartName="/ppt/media/image14.png" ContentType="image/png"/>
  <Override PartName="/ppt/media/image10.jpeg" ContentType="image/jpeg"/>
  <Override PartName="/ppt/media/applause.wav" ContentType="audio/x-wav"/>
  <Override PartName="/ppt/media/image5.png" ContentType="image/png"/>
  <Override PartName="/ppt/media/image17.png" ContentType="image/png"/>
  <Override PartName="/ppt/media/image2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28.jpeg" ContentType="image/jpeg"/>
  <Override PartName="/ppt/media/image8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5.png" ContentType="image/png"/>
  <Override PartName="/ppt/media/image30.jpeg" ContentType="image/jpeg"/>
  <Override PartName="/ppt/media/%E9%BC%93%E5%A3%B04.wav" ContentType="audio/x-wav"/>
  <Override PartName="/ppt/media/image12.gif" ContentType="image/gif"/>
  <Override PartName="/ppt/media/image27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25.jpeg" ContentType="image/jpeg"/>
  <Override PartName="/ppt/media/image37.jpeg" ContentType="image/jpeg"/>
  <Override PartName="/ppt/media/image38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36.png" ContentType="image/png"/>
  <Override PartName="/ppt/media/image6.png" ContentType="image/png"/>
  <Override PartName="/ppt/media/image13.gif" ContentType="image/gif"/>
  <Override PartName="/ppt/media/image16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</p:sldIdLst>
  <p:sldSz cx="9144000" cy="5335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4D6E-603C-4019-92C1-DBAA98806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80010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3354480"/>
            <a:ext cx="80010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9276-7B19-46A8-A63F-8DF086566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6776-1960-4F57-B30D-13EA7A24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183672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183672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335448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335448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335448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6824-A371-4622-BD5B-CF1DDC8C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A6ACD-6613-470F-978D-207947915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1836720"/>
            <a:ext cx="8001000" cy="29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3DD74-B2E4-400D-A3EF-53409F8C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80010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A0B9E-0790-4FBC-8D24-8300469E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3535-12B4-429C-B7B2-867832CC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D8B94-377D-44FC-B8C7-E5E193E7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591840"/>
            <a:ext cx="80010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80698-8EF1-45FD-A4AC-5D2229DF6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1BED0-95BC-472B-8BB1-54F9F3BE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1836720"/>
            <a:ext cx="8001000" cy="29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6DCF-4DBA-4E5B-AE11-ED04E12C1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3B20-F5E1-4C1F-AAA2-FC97D540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3354480"/>
            <a:ext cx="80010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706A5-995D-45BC-B81C-5C3EC264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80010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3354480"/>
            <a:ext cx="80010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7466-21FA-47A6-AA94-AF6922A2C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6A37A-289D-41B5-8693-ACDE5425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183672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183672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335448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335448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335448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4E853-6948-40AB-93B1-FFE04550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12380-C0CA-449D-A47A-D21298DE1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14040" y="1836720"/>
            <a:ext cx="8001000" cy="29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B9B03-A29A-4350-BB5C-FDEC3FF06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80010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81455-917B-4AB4-B7C2-0FB36B08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3B7C94-97E7-4A5A-8785-3A9D36E1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ADA44-2B2C-4866-AF42-B8CC6206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80010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57FC-78F8-4175-B361-1F533906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14040" y="591840"/>
            <a:ext cx="80010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F94B6-8A3E-4DB2-B968-561EAF2D3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1404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E4383-7511-4E4F-AE24-4B068C3A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372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DD11C-29B7-4BC9-ABD4-48B0EECB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14040" y="3354480"/>
            <a:ext cx="80010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F2476-0B7C-4CB9-B087-23EAFEA5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80010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14040" y="3354480"/>
            <a:ext cx="80010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53497-DDEC-4A0C-B734-36150D3C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1404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1372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A03D9-211C-4D97-85AB-E64D1B43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19440" y="183672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324840" y="183672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14040" y="335448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19440" y="335448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324840" y="335448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C3955-3D32-46EB-93D5-44DAF4BBE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EF02BC-CA6E-41A1-A756-85066253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914040" y="1836720"/>
            <a:ext cx="8001000" cy="29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0B944-1DE5-495F-9F0C-E6A471DC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80010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6A5EE-1303-4D3A-86B4-65A91B28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DFE0-A0D3-48CC-9E6F-C8EA41A8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C65075-1EB1-4563-9163-CD5A5DAF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AF642-D141-435D-BB3A-47768059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914040" y="591840"/>
            <a:ext cx="80010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F0D8A-3F56-4DE4-89AA-CC1C631EA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91404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577F8-6124-44E6-A673-A1C6FA140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1372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4A69C-8E93-47CC-B811-E9CB2D6C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914040" y="3354480"/>
            <a:ext cx="80010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EEF794-E193-4277-B93E-745A5037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80010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914040" y="3354480"/>
            <a:ext cx="80010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5C484-8D63-4E96-85DF-78FDD427F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04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372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A1295-10E1-4D35-8BC4-8DE4A8918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619440" y="183672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324840" y="183672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914040" y="335448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619440" y="335448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324840" y="335448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6E856-BF37-400E-BEEA-2CBBA7EF4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A9731-C500-43B3-9C77-BDEB26AB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A59F-99B7-44BF-B724-6D27F035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914040" y="1836720"/>
            <a:ext cx="8001000" cy="29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D8F17A-54A4-493F-B3A7-2896C857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80010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73AB4E-35B9-4EAF-95D7-8D53A33E3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3BD2D-1487-4476-A9D8-BA77346C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C481F2-B14A-486A-A601-07653E521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914040" y="591840"/>
            <a:ext cx="80010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548B7-033C-4C7D-B314-F956ACA6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91404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AC108-412E-4DE9-9EC1-DF696314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1372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49B18-FBDB-4AC5-9481-71270424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914040" y="3354480"/>
            <a:ext cx="80010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7FDA59-8AA2-4CCB-83AD-2201C547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80010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914040" y="3354480"/>
            <a:ext cx="80010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7B6B6-71B6-4463-97B3-9A20F5141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404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501372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89AB9C-FFE2-46D5-A28D-35EFD2484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591840"/>
            <a:ext cx="80010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90DB-884F-4E17-AC7D-0694CB4C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619440" y="183672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324840" y="183672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914040" y="335448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619440" y="335448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324840" y="335448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BA7DD8-7CA8-4AC5-96B1-6873B3221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E9024-CEC3-4662-9B1B-9671A7C7B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914040" y="1836720"/>
            <a:ext cx="8001000" cy="29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1B22C-E9BA-40CF-B149-2B2966815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80010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703576-CE17-4F03-B25F-C5AF9CA3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1375C-0BE6-4A5A-BF63-B42C6E33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3FD8CD-4DA1-412E-89A6-DDF5F7709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914040" y="591840"/>
            <a:ext cx="80010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CD52C6-A5CD-42AB-9C62-12C1E0AA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91404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254E9-B67E-42D8-9368-B54EFD1F2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1372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1BE4F-729A-42CE-AF64-B281E294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914040" y="3354480"/>
            <a:ext cx="80010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0E191-B7A3-4101-89E7-A5FD32D5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6F0E-1E08-4F96-8678-B82B1CBD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80010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914040" y="3354480"/>
            <a:ext cx="80010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385F3-9F21-423A-8423-F74E2B45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04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01372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12561-2894-46E5-A36D-DA4F1731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619440" y="183672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324840" y="183672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914040" y="335448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619440" y="335448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324840" y="335448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D4C0A-71A5-4980-9864-264685A91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979DFA-9AD1-4750-9A9B-80101288D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914040" y="1836720"/>
            <a:ext cx="8001000" cy="290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F3D9A-E5C5-4D52-ADED-C0146BD0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80010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032BD-307E-43D4-8E3C-11AAA722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19D0AC-B354-4E55-A64F-569EBB3FE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9BC8A2-A780-4CB6-BBE6-83B88BD8B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ubTitle"/>
          </p:nvPr>
        </p:nvSpPr>
        <p:spPr>
          <a:xfrm>
            <a:off x="914040" y="591840"/>
            <a:ext cx="80010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E0B4F-8C7D-4616-A452-971BD1AD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91404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D9A24-59BF-49A4-8630-D3042FE2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B3DE-645A-4339-846D-02008D6A2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01372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F338CB-BC79-4ED6-B09C-FEF08436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914040" y="3354480"/>
            <a:ext cx="80010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2BAF6-52B3-4043-8236-12705325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80010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914040" y="3354480"/>
            <a:ext cx="80010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E06CB-1E48-48D8-B40F-365AD574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91404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013720" y="335448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84DF0-5FC2-4022-8B01-083FD485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619440" y="183672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324840" y="183672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914040" y="335448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7" name="PlaceHolder 6"/>
          <p:cNvSpPr>
            <a:spLocks noGrp="1"/>
          </p:cNvSpPr>
          <p:nvPr>
            <p:ph/>
          </p:nvPr>
        </p:nvSpPr>
        <p:spPr>
          <a:xfrm>
            <a:off x="3619440" y="335448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PlaceHolder 7"/>
          <p:cNvSpPr>
            <a:spLocks noGrp="1"/>
          </p:cNvSpPr>
          <p:nvPr>
            <p:ph/>
          </p:nvPr>
        </p:nvSpPr>
        <p:spPr>
          <a:xfrm>
            <a:off x="6324840" y="3354480"/>
            <a:ext cx="257616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0D301-AD9E-4DAF-9AB4-16B561549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1836720"/>
            <a:ext cx="39042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3354480"/>
            <a:ext cx="8001000" cy="13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440F-A4E6-470E-8E09-8CA8A7C4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5334120"/>
            <a:chOff x="0" y="0"/>
            <a:chExt cx="3200400" cy="53341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53341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82944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592200"/>
            <a:ext cx="5105160" cy="474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836720"/>
            <a:ext cx="80010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594360" indent="-2286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indent="-182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280160" indent="-18288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645920" indent="-1828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645920" indent="-1828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645920" indent="-1828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502668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895480" y="5026680"/>
            <a:ext cx="28958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48250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541520"/>
            <a:ext cx="7391520" cy="247680"/>
            <a:chOff x="228600" y="1541520"/>
            <a:chExt cx="7391520" cy="247680"/>
          </a:xfrm>
        </p:grpSpPr>
        <p:sp>
          <p:nvSpPr>
            <p:cNvPr id="10" name=""/>
            <p:cNvSpPr/>
            <p:nvPr/>
          </p:nvSpPr>
          <p:spPr>
            <a:xfrm>
              <a:off x="609480" y="1541520"/>
              <a:ext cx="7010640" cy="24660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541520"/>
              <a:ext cx="393840" cy="24768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53341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770040"/>
            <a:ext cx="5181480" cy="1482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3803760"/>
            <a:ext cx="4876920" cy="247680"/>
            <a:chOff x="3632040" y="3803760"/>
            <a:chExt cx="4876920" cy="247680"/>
          </a:xfrm>
        </p:grpSpPr>
        <p:sp>
          <p:nvSpPr>
            <p:cNvPr id="51" name=""/>
            <p:cNvSpPr/>
            <p:nvPr/>
          </p:nvSpPr>
          <p:spPr>
            <a:xfrm flipH="1">
              <a:off x="3632040" y="3803760"/>
              <a:ext cx="4626000" cy="24660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320" y="3803760"/>
              <a:ext cx="260640" cy="24768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502668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502668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483624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0EA90-21A3-4784-B55E-C04E589140F6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1077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-175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31920" indent="-175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84000" indent="-175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8580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124080" y="48592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55308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84E10-FBBB-45E3-B98D-66B6FC69CA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-175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31920" indent="-175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84000" indent="-175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8580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124080" y="48592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55308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F5BB-DB5D-43CA-BE78-AB01DFB387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7448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54152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72040" indent="-219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879840" indent="-1756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31920" indent="-1756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584000" indent="-175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584000" indent="-175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584000" indent="-1756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68580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48592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308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1B3A1-A31C-403D-9952-92E472FCD4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6" name=""/>
          <p:cNvGrpSpPr/>
          <p:nvPr/>
        </p:nvGrpSpPr>
        <p:grpSpPr>
          <a:xfrm>
            <a:off x="0" y="0"/>
            <a:ext cx="3200400" cy="5334120"/>
            <a:chOff x="0" y="0"/>
            <a:chExt cx="3200400" cy="5334120"/>
          </a:xfrm>
        </p:grpSpPr>
        <p:sp>
          <p:nvSpPr>
            <p:cNvPr id="217" name=""/>
            <p:cNvSpPr/>
            <p:nvPr/>
          </p:nvSpPr>
          <p:spPr>
            <a:xfrm>
              <a:off x="0" y="0"/>
              <a:ext cx="762120" cy="53341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5800" y="0"/>
              <a:ext cx="2514600" cy="82944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762120" y="592200"/>
            <a:ext cx="5105160" cy="474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591840"/>
            <a:ext cx="80010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040" y="1836720"/>
            <a:ext cx="8001000" cy="29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594360" indent="-2286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914400" indent="-1828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280160" indent="-18288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1645920" indent="-1828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1645920" indent="-1828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1645920" indent="-18288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7010280" y="502668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895480" y="5026680"/>
            <a:ext cx="289584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3880" y="48250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28600" y="1541520"/>
            <a:ext cx="7391520" cy="247680"/>
            <a:chOff x="228600" y="1541520"/>
            <a:chExt cx="7391520" cy="247680"/>
          </a:xfrm>
        </p:grpSpPr>
        <p:sp>
          <p:nvSpPr>
            <p:cNvPr id="226" name=""/>
            <p:cNvSpPr/>
            <p:nvPr/>
          </p:nvSpPr>
          <p:spPr>
            <a:xfrm>
              <a:off x="609480" y="1541520"/>
              <a:ext cx="7010640" cy="24660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228600" y="1541520"/>
              <a:ext cx="393840" cy="24768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4572000" cy="533412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770040"/>
            <a:ext cx="5181480" cy="1482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632040" y="3803760"/>
            <a:ext cx="4876920" cy="247680"/>
            <a:chOff x="3632040" y="3803760"/>
            <a:chExt cx="4876920" cy="247680"/>
          </a:xfrm>
        </p:grpSpPr>
        <p:sp>
          <p:nvSpPr>
            <p:cNvPr id="267" name=""/>
            <p:cNvSpPr/>
            <p:nvPr/>
          </p:nvSpPr>
          <p:spPr>
            <a:xfrm flipH="1">
              <a:off x="3632040" y="3803760"/>
              <a:ext cx="4626000" cy="24660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248320" y="3803760"/>
              <a:ext cx="260640" cy="24768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dt" idx="19"/>
          </p:nvPr>
        </p:nvSpPr>
        <p:spPr>
          <a:xfrm>
            <a:off x="2666880" y="502668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ftr" idx="20"/>
          </p:nvPr>
        </p:nvSpPr>
        <p:spPr>
          <a:xfrm>
            <a:off x="5195520" y="502668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sldNum" idx="21"/>
          </p:nvPr>
        </p:nvSpPr>
        <p:spPr>
          <a:xfrm>
            <a:off x="9360" y="483624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F2F1-BDDC-4136-9434-442B59F9B197}" type="slidenum">
              <a:rPr b="1" lang="zh-CN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title"/>
          </p:nvPr>
        </p:nvSpPr>
        <p:spPr>
          <a:xfrm>
            <a:off x="936720" y="11077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audio" Target="../media/&#38647;&#22768;1.wav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9.jpe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4.jpeg"/><Relationship Id="rId4" Type="http://schemas.openxmlformats.org/officeDocument/2006/relationships/image" Target="../media/image5.png"/><Relationship Id="rId5" Type="http://schemas.openxmlformats.org/officeDocument/2006/relationships/image" Target="../media/image15.png"/><Relationship Id="rId6" Type="http://schemas.openxmlformats.org/officeDocument/2006/relationships/audio" Target="../media/&#40723;&#22768;4.wav"/><Relationship Id="rId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图片 2" descr="184724389.jpg"/>
          <p:cNvPicPr/>
          <p:nvPr/>
        </p:nvPicPr>
        <p:blipFill>
          <a:blip r:embed="rId2"/>
          <a:stretch/>
        </p:blipFill>
        <p:spPr>
          <a:xfrm>
            <a:off x="0" y="-185760"/>
            <a:ext cx="9144000" cy="533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48720" cy="5554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95280" y="363600"/>
            <a:ext cx="9144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亢奋 ：极度兴奋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羁绊：缠住了不能脱身，束缚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冗杂：繁杂                      搏击 ：奋力斗争和冲击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叹为观止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赞美看到的事物好到极点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蓦然：突然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辐射：从中间向各个方向沿着直线延伸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戛然而止：声音突然中止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4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94640" y="5084640"/>
            <a:ext cx="397080" cy="1731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86600" y="5084640"/>
            <a:ext cx="395280" cy="1731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5364000" y="0"/>
            <a:ext cx="329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40000"/>
                </a:solidFill>
                <a:latin typeface="Arial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40000"/>
                </a:solidFill>
                <a:latin typeface="Arial"/>
                <a:ea typeface="楷体_GB2312"/>
              </a:rPr>
              <a:t>积 累 词 语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 advTm="26000">
    <p:randomBar dir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66320" cy="54007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94640" y="5084640"/>
            <a:ext cx="397080" cy="17316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86600" y="5084640"/>
            <a:ext cx="395280" cy="173160"/>
          </a:xfrm>
          <a:prstGeom prst="rect">
            <a:avLst/>
          </a:prstGeom>
          <a:ln w="0">
            <a:noFill/>
          </a:ln>
        </p:spPr>
      </p:pic>
      <p:pic>
        <p:nvPicPr>
          <p:cNvPr id="347" name="安塞腰鼓1" descr=""/>
          <p:cNvPicPr/>
          <p:nvPr/>
        </p:nvPicPr>
        <p:blipFill>
          <a:blip r:embed="rId4"/>
          <a:stretch/>
        </p:blipFill>
        <p:spPr>
          <a:xfrm>
            <a:off x="8317080" y="4179960"/>
            <a:ext cx="576000" cy="5205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82" dur="indefinite" restart="never" nodeType="tmRoot">
          <p:childTnLst>
            <p:seq>
              <p:cTn id="83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7" dur="1" fill="hold"/>
                                        <p:tgtEl>
                                          <p:spTgt spid="3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" fill="hold"/>
                                        <p:tgtEl>
                                          <p:spTgt spid="3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0" y="76320"/>
            <a:ext cx="910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读“鼓劲”    知内容 明结构 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《安塞腰鼓》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2451240"/>
            <a:ext cx="90597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发音，语调，语速，停顿，重音，语气，节奏等  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理解作品，调动感情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 advTm="29000">
    <p:randomBar dir="vert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" descr=""/>
          <p:cNvPicPr/>
          <p:nvPr/>
        </p:nvPicPr>
        <p:blipFill>
          <a:blip r:embed="rId1"/>
          <a:stretch/>
        </p:blipFill>
        <p:spPr>
          <a:xfrm>
            <a:off x="-368280" y="-520560"/>
            <a:ext cx="9817200" cy="626904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457200" y="1609560"/>
            <a:ext cx="81532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群茂腾腾的后生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他们的身后是一片高粱地。他们朴实得就像那片高粱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咝溜溜的南风吹动了高粱叶子，也吹动了他们的衣衫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他们的神情沉稳而安静。紧贴在他们身体一侧的腰鼓，呆呆地，似乎从来不曾响过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94640" y="5084640"/>
            <a:ext cx="397080" cy="1731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86600" y="5084640"/>
            <a:ext cx="395280" cy="173160"/>
          </a:xfrm>
          <a:prstGeom prst="rect">
            <a:avLst/>
          </a:prstGeom>
          <a:ln w="0">
            <a:noFill/>
          </a:ln>
        </p:spPr>
      </p:pic>
    </p:spTree>
  </p:cSld>
  <p:transition spd="slow" advTm="65000">
    <p:randomBar dir="vert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69920" y="838080"/>
            <a:ext cx="25902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但是：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ff9900"/>
                </a:solidFill>
                <a:latin typeface="Times New Roman"/>
              </a:rPr>
              <a:t>看！——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94640" y="5084640"/>
            <a:ext cx="397080" cy="17316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86600" y="5084640"/>
            <a:ext cx="395280" cy="1731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randomBar dir="vert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75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75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359" name=""/>
          <p:cNvSpPr/>
          <p:nvPr/>
        </p:nvSpPr>
        <p:spPr>
          <a:xfrm>
            <a:off x="533520" y="22860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40000"/>
                </a:solidFill>
                <a:latin typeface="Times New Roman"/>
              </a:rPr>
              <a:t>一捶起来就发狠了，忘情了，没命了！百十个斜背响鼓的后生，如百十块被强震不断激起的石头，狂舞在你的面前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94640" y="5084640"/>
            <a:ext cx="397080" cy="17316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86600" y="5084640"/>
            <a:ext cx="395280" cy="173160"/>
          </a:xfrm>
          <a:prstGeom prst="rect">
            <a:avLst/>
          </a:prstGeom>
          <a:ln w="0">
            <a:noFill/>
          </a:ln>
        </p:spPr>
      </p:pic>
    </p:spTree>
  </p:cSld>
  <p:transition spd="slow" advTm="34000">
    <p:randomBar dir="vert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7848720" y="474840"/>
            <a:ext cx="609480" cy="1173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04920" y="330516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骤雨一样，是急促的鼓点；旋风一样，是飞扬的流苏；乱蛙一样，是蹦跳的脚步；火花一样，是闪射的瞳仁；斗虎一样，是强健的风姿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94640" y="5084640"/>
            <a:ext cx="397080" cy="17316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86600" y="5084640"/>
            <a:ext cx="395280" cy="17316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randomBar dir="ver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-19080"/>
            <a:ext cx="9601200" cy="5353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685800" y="136440"/>
            <a:ext cx="8458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黄土高原上，爆出一场多么壮阔、多么豪放、多么火烈的舞蹈哇——安塞腰鼓！</a:t>
            </a:r>
            <a:r>
              <a:rPr b="1" lang="zh-CN" sz="4800" spc="-1" strike="noStrike">
                <a:solidFill>
                  <a:srgbClr val="ff0000"/>
                </a:solidFill>
                <a:latin typeface="方正隶书简体"/>
                <a:ea typeface="方正隶书简体"/>
              </a:rPr>
              <a:t>       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69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94640" y="5084640"/>
            <a:ext cx="397080" cy="17316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86600" y="5084640"/>
            <a:ext cx="395280" cy="173160"/>
          </a:xfrm>
          <a:prstGeom prst="rect">
            <a:avLst/>
          </a:prstGeom>
          <a:ln w="0">
            <a:noFill/>
          </a:ln>
        </p:spPr>
      </p:pic>
    </p:spTree>
  </p:cSld>
  <p:transition spd="slow" advTm="27000">
    <p:randomBar dir="vert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-433440" y="-2595600"/>
            <a:ext cx="9882360" cy="112489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533520" y="1447920"/>
            <a:ext cx="80769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这腰鼓，使冰冷的空气立即变得燥热了，使恬静的阳光立即变得飞溅了，使困倦的世界立即变得亢奋了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94640" y="5084640"/>
            <a:ext cx="397080" cy="17316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86600" y="5084640"/>
            <a:ext cx="395280" cy="173160"/>
          </a:xfrm>
          <a:prstGeom prst="rect">
            <a:avLst/>
          </a:prstGeom>
          <a:ln w="0">
            <a:noFill/>
          </a:ln>
        </p:spPr>
      </p:pic>
    </p:spTree>
  </p:cSld>
  <p:transition spd="slow" advTm="22000">
    <p:randomBar dir="vert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53262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685800" y="1901880"/>
            <a:ext cx="83818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使人想起：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落日照大旗，马鸣风萧萧！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94640" y="5084640"/>
            <a:ext cx="397080" cy="1731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86600" y="5084640"/>
            <a:ext cx="395280" cy="1731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randomBar dir="vert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9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图片 2" descr="18472438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33088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-216000" y="0"/>
            <a:ext cx="9664920" cy="53578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>
            <a:off x="2819520" y="3336840"/>
            <a:ext cx="5715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使人想起：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隶书"/>
                <a:ea typeface="华文隶书"/>
              </a:rPr>
              <a:t>千里的雷声万里的闪！      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94640" y="5084640"/>
            <a:ext cx="397080" cy="17316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86600" y="5084640"/>
            <a:ext cx="395280" cy="173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9%9B%B7%E5%A3%B0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0" y="-281160"/>
            <a:ext cx="9144000" cy="561528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533520" y="593640"/>
            <a:ext cx="8229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使人想起：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晦暗了又明晰、明晰了又晦暗、尔后最终永远明晰了的大彻大悟！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94640" y="5084640"/>
            <a:ext cx="397080" cy="17316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86600" y="5084640"/>
            <a:ext cx="395280" cy="17316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randomBar dir="vert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-368280" y="-520560"/>
            <a:ext cx="10426680" cy="63118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371600" y="22860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容不得束缚，容不得羁绊，容不得闭塞。是挣脱了、冲破了、撞开了的那么一股劲！   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002120" y="1981080"/>
            <a:ext cx="6379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40000"/>
                </a:solidFill>
                <a:latin typeface="隶书"/>
                <a:ea typeface="隶书"/>
              </a:rPr>
              <a:t>好一个安塞腰鼓！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94640" y="5084640"/>
            <a:ext cx="397080" cy="17316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86600" y="5084640"/>
            <a:ext cx="395280" cy="173160"/>
          </a:xfrm>
          <a:prstGeom prst="rect">
            <a:avLst/>
          </a:prstGeom>
          <a:ln w="0">
            <a:noFill/>
          </a:ln>
        </p:spPr>
      </p:pic>
    </p:spTree>
  </p:cSld>
  <p:transition spd="slow" advTm="34000">
    <p:randomBar dir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96720" y="36036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百十个腰鼓发出的沉重响声，碰撞在四野长着酸枣树的山崖上，山崖蓦然变成牛皮鼓面了，只听见隆隆，隆隆，隆隆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94640" y="5084640"/>
            <a:ext cx="397080" cy="1731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86600" y="5084640"/>
            <a:ext cx="395280" cy="173160"/>
          </a:xfrm>
          <a:prstGeom prst="rect">
            <a:avLst/>
          </a:prstGeom>
          <a:ln w="0">
            <a:noFill/>
          </a:ln>
        </p:spPr>
      </p:pic>
    </p:spTree>
  </p:cSld>
  <p:transition spd="slow" advTm="26000">
    <p:randomBar dir="vert"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440" y="3240"/>
            <a:ext cx="9142560" cy="532764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396720" y="29196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百十个腰鼓发出的沉重响声，碰撞在遗落了一切冗杂的观众的心上，观众的心也蓦然变成牛皮鼓面了，也是隆隆，隆隆，隆隆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9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94640" y="5084640"/>
            <a:ext cx="397080" cy="17316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86600" y="5084640"/>
            <a:ext cx="395280" cy="173160"/>
          </a:xfrm>
          <a:prstGeom prst="rect">
            <a:avLst/>
          </a:prstGeom>
          <a:ln w="0">
            <a:noFill/>
          </a:ln>
        </p:spPr>
      </p:pic>
    </p:spTree>
  </p:cSld>
  <p:transition spd="slow" advTm="26000">
    <p:randomBar dir="ver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2"/>
          <a:stretch/>
        </p:blipFill>
        <p:spPr>
          <a:xfrm>
            <a:off x="1440" y="3240"/>
            <a:ext cx="9142560" cy="53276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68360" y="29052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隆隆隆隆的豪壮的抒情，隆隆隆隆的严峻的思索，隆隆隆隆的犁尖翻起的杂着草根的土浪，隆隆隆隆的阵痛的发生和排解……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02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94640" y="5084640"/>
            <a:ext cx="397080" cy="17316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986600" y="5084640"/>
            <a:ext cx="395280" cy="173160"/>
          </a:xfrm>
          <a:prstGeom prst="rect">
            <a:avLst/>
          </a:prstGeom>
          <a:ln w="0">
            <a:noFill/>
          </a:ln>
        </p:spPr>
      </p:pic>
    </p:spTree>
  </p:cSld>
  <p:transition spd="slow" advTm="26000">
    <p:randomBar dir="vert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8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" descr=""/>
          <p:cNvPicPr/>
          <p:nvPr/>
        </p:nvPicPr>
        <p:blipFill>
          <a:blip r:embed="rId1"/>
          <a:stretch/>
        </p:blipFill>
        <p:spPr>
          <a:xfrm>
            <a:off x="0" y="-642960"/>
            <a:ext cx="9144000" cy="622152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380880" y="21337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好一个安塞腰鼓！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生们的胳膊、腿、全身，有力地搏击着，急速地搏击着，大起大落地搏击着。它震撼着你，烧灼着你，威逼着你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0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94640" y="5084640"/>
            <a:ext cx="397080" cy="1731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86600" y="5084640"/>
            <a:ext cx="395280" cy="173160"/>
          </a:xfrm>
          <a:prstGeom prst="rect">
            <a:avLst/>
          </a:prstGeom>
          <a:ln w="0">
            <a:noFill/>
          </a:ln>
        </p:spPr>
      </p:pic>
    </p:spTree>
  </p:cSld>
  <p:transition spd="slow" advTm="26000">
    <p:randomBar dir="vert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-291960"/>
            <a:ext cx="9144000" cy="35114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762120" y="33526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40000"/>
                </a:solidFill>
                <a:latin typeface="Times New Roman"/>
              </a:rPr>
              <a:t>它使你从来没有如此鲜明地感受到生命的存在、活跃和强盛。它使你惊异于那农民衣着包裹着的躯体，那消化着红豆角角老南瓜的躯体，居然可以释放出那么奇伟磅礴的能量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1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94640" y="5084640"/>
            <a:ext cx="397080" cy="17316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86600" y="5084640"/>
            <a:ext cx="395280" cy="173160"/>
          </a:xfrm>
          <a:prstGeom prst="rect">
            <a:avLst/>
          </a:prstGeom>
          <a:ln w="0">
            <a:noFill/>
          </a:ln>
        </p:spPr>
      </p:pic>
    </p:spTree>
  </p:cSld>
  <p:transition spd="slow" advTm="29000">
    <p:randomBar dir="vert"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0" y="3240"/>
            <a:ext cx="9144000" cy="53290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457200" y="969840"/>
            <a:ext cx="81532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黄土高原啊，你生养了这些元气淋漓的后生；也只有你，才能承受如此惊心动魄的搏击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多水的江南是易碎的玻璃，在那儿，打不得这样的腰鼓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除了黄土高原，哪里再有这么厚这么厚的土层啊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好一个黄土高原！好一个安塞腰鼓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14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94640" y="5084640"/>
            <a:ext cx="397080" cy="17316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86600" y="5084640"/>
            <a:ext cx="395280" cy="173160"/>
          </a:xfrm>
          <a:prstGeom prst="rect">
            <a:avLst/>
          </a:prstGeom>
          <a:ln w="0">
            <a:noFill/>
          </a:ln>
        </p:spPr>
      </p:pic>
    </p:spTree>
  </p:cSld>
  <p:transition spd="slow" advTm="58000">
    <p:randomBar dir="vert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" descr="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0" y="0"/>
            <a:ext cx="9144000" cy="534204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304920" y="304920"/>
            <a:ext cx="8534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楷体简体"/>
                <a:ea typeface="方正楷体简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方正楷体简体"/>
                <a:ea typeface="方正楷体简体"/>
              </a:rPr>
              <a:t>每一个舞姿都充满了力量。每一个舞姿都是光和影的匆匆变幻。每一个舞姿都使人颤栗在浓烈的艺术享受中，使人叹为观止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楷体简体"/>
                <a:ea typeface="方正楷体简体"/>
              </a:rPr>
              <a:t>     </a:t>
            </a:r>
            <a:r>
              <a:rPr b="1" lang="zh-CN" sz="2800" spc="-1" strike="noStrike">
                <a:solidFill>
                  <a:srgbClr val="0033cc"/>
                </a:solidFill>
                <a:latin typeface="方正楷体简体"/>
                <a:ea typeface="方正楷体简体"/>
              </a:rPr>
              <a:t>好一个痛快了山河、蓬勃了想象力的安塞腰鼓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18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94640" y="5084640"/>
            <a:ext cx="397080" cy="17316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86600" y="5084640"/>
            <a:ext cx="395280" cy="173160"/>
          </a:xfrm>
          <a:prstGeom prst="rect">
            <a:avLst/>
          </a:prstGeom>
          <a:ln w="0">
            <a:noFill/>
          </a:ln>
        </p:spPr>
      </p:pic>
    </p:spTree>
  </p:cSld>
  <p:transition spd="slow" advTm="42000">
    <p:randomBar dir="vert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20680" y="0"/>
            <a:ext cx="2903400" cy="31417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5940360" y="194796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楷体_GB2312"/>
              </a:rPr>
              <a:t>陕北的安塞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2000" y="2308320"/>
            <a:ext cx="14479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1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94640" y="5084640"/>
            <a:ext cx="397080" cy="173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4861080" y="26668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  <a:ea typeface="楷体_GB2312"/>
              </a:rPr>
              <a:t>1996</a:t>
            </a:r>
            <a:r>
              <a:rPr b="1" lang="zh-CN" sz="3600" spc="-1" strike="noStrike">
                <a:solidFill>
                  <a:srgbClr val="003366"/>
                </a:solidFill>
                <a:latin typeface="Arial"/>
                <a:ea typeface="楷体_GB2312"/>
              </a:rPr>
              <a:t>年，安塞县被国家文化部命名为“中国腰鼓之乡”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102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-368280" y="3240"/>
            <a:ext cx="9969480" cy="54831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609480" y="304920"/>
            <a:ext cx="77724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愈捶愈烈！形成了沉重而又纷飞的思绪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    </a:t>
            </a:r>
            <a:r>
              <a:rPr b="1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愈捶愈烈！思绪中不存任何隐秘！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    </a:t>
            </a:r>
            <a:r>
              <a:rPr b="1" lang="zh-CN" sz="2800" spc="-1" strike="noStrike">
                <a:solidFill>
                  <a:srgbClr val="006666"/>
                </a:solidFill>
                <a:latin typeface="方正楷体简体"/>
                <a:ea typeface="方正楷体简体"/>
              </a:rPr>
              <a:t>愈捶愈烈！痛苦和欢乐，生活和梦幻，摆脱和追求，都在这舞姿和鼓点中，交织！旋转！凝聚！奔突！辐射！翻飞！升华！人，成了茫茫一片……声成了茫茫一片……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2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94640" y="5084640"/>
            <a:ext cx="397080" cy="17316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86600" y="5084640"/>
            <a:ext cx="395280" cy="173160"/>
          </a:xfrm>
          <a:prstGeom prst="rect">
            <a:avLst/>
          </a:prstGeom>
          <a:ln w="0">
            <a:noFill/>
          </a:ln>
        </p:spPr>
      </p:pic>
    </p:spTree>
  </p:cSld>
  <p:transition spd="slow" advTm="46000">
    <p:randomBar dir="vert"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0" y="-471600"/>
            <a:ext cx="9144000" cy="58057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685800" y="914400"/>
            <a:ext cx="79246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当它戛然而止的时候，世界出奇的寂静，以致使人感到对她十分陌生了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简直像来到另一个星球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耳畔是一声渺远的鸡啼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480" y="0"/>
            <a:ext cx="1752840" cy="6523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27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94640" y="5084640"/>
            <a:ext cx="397080" cy="17316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986600" y="5084640"/>
            <a:ext cx="395280" cy="173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2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971280" y="1010880"/>
            <a:ext cx="601956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6666"/>
                </a:solidFill>
                <a:latin typeface="Arial"/>
                <a:ea typeface="长城楷体"/>
              </a:rPr>
              <a:t>——</a:t>
            </a:r>
            <a:r>
              <a:rPr b="1" i="1" lang="zh-CN" sz="4000" spc="-1" strike="noStrike">
                <a:solidFill>
                  <a:srgbClr val="006666"/>
                </a:solidFill>
                <a:latin typeface="Arial"/>
                <a:ea typeface="长城楷体"/>
              </a:rPr>
              <a:t>明结构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990720" y="1836720"/>
            <a:ext cx="6400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Arial"/>
                <a:ea typeface="楷体_GB2312"/>
              </a:rPr>
              <a:t>自由阅读，找出文章的中心句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baseline="10000">
                <a:solidFill>
                  <a:srgbClr val="006666"/>
                </a:solidFill>
                <a:latin typeface="Arial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6666"/>
                </a:solidFill>
                <a:latin typeface="Arial"/>
                <a:ea typeface="楷体_GB2312"/>
              </a:rPr>
              <a:t> 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990720" y="2336760"/>
            <a:ext cx="70102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Arial"/>
                <a:ea typeface="楷体_GB2312"/>
              </a:rPr>
              <a:t>文章分别从哪几个角度来展示安塞腰鼓的艺术魅力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7238880" y="414360"/>
            <a:ext cx="1371600" cy="10555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2895480" y="2924280"/>
            <a:ext cx="3353040" cy="457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5e46"/>
              </a:gs>
              <a:gs pos="100000">
                <a:srgbClr val="99cc99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40000"/>
                </a:solidFill>
                <a:latin typeface="Arial"/>
                <a:ea typeface="黑体"/>
              </a:rPr>
              <a:t>好一个安塞腰鼓！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567320" y="3395520"/>
            <a:ext cx="1440" cy="576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408400" y="3971880"/>
            <a:ext cx="4392360" cy="18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424240" y="3983040"/>
            <a:ext cx="1440" cy="5745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334120" y="3983040"/>
            <a:ext cx="1440" cy="5745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796080" y="3983040"/>
            <a:ext cx="1440" cy="5745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962520" y="3971880"/>
            <a:ext cx="1440" cy="5745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39960" y="4470480"/>
            <a:ext cx="1208160" cy="40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99"/>
              </a:gs>
              <a:gs pos="100000">
                <a:srgbClr val="465e46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黑体"/>
              </a:rPr>
              <a:t>宏伟场面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248520" y="4470480"/>
            <a:ext cx="1218960" cy="40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99"/>
              </a:gs>
              <a:gs pos="100000">
                <a:srgbClr val="465e46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黑体"/>
              </a:rPr>
              <a:t>绮丽舞姿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735440" y="4470480"/>
            <a:ext cx="1284480" cy="40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99"/>
              </a:gs>
              <a:gs pos="100000">
                <a:srgbClr val="465e46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黑体"/>
              </a:rPr>
              <a:t>击鼓后生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87880" y="4470480"/>
            <a:ext cx="1284120" cy="406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cc99"/>
              </a:gs>
              <a:gs pos="100000">
                <a:srgbClr val="465e46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  <a:ea typeface="黑体"/>
              </a:rPr>
              <a:t>雄壮声响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45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594640" y="5084640"/>
            <a:ext cx="397080" cy="17316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7986600" y="5084640"/>
            <a:ext cx="395280" cy="1731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%E9%BC%93%E5%A3%B0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9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75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6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000"/>
                            </p:stCondLst>
                            <p:childTnLst>
                              <p:par>
                                <p:cTn id="28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500"/>
                            </p:stCondLst>
                            <p:childTnLst>
                              <p:par>
                                <p:cTn id="289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4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9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图片 2" descr="184724389.jpg"/>
          <p:cNvPicPr/>
          <p:nvPr/>
        </p:nvPicPr>
        <p:blipFill>
          <a:blip r:embed="rId1"/>
          <a:stretch/>
        </p:blipFill>
        <p:spPr>
          <a:xfrm>
            <a:off x="0" y="-185760"/>
            <a:ext cx="9144000" cy="5330880"/>
          </a:xfrm>
          <a:prstGeom prst="rect">
            <a:avLst/>
          </a:prstGeom>
          <a:ln w="0">
            <a:noFill/>
          </a:ln>
        </p:spPr>
      </p:pic>
      <p:sp>
        <p:nvSpPr>
          <p:cNvPr id="448" name="TextBox 4"/>
          <p:cNvSpPr/>
          <p:nvPr/>
        </p:nvSpPr>
        <p:spPr>
          <a:xfrm>
            <a:off x="642960" y="333360"/>
            <a:ext cx="7929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好一个安塞腰鼓！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好一个安塞腰鼓！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好一个黄土高原！好一个安塞腰鼓！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好一个痛快了河山，蓬勃了想象力的安塞腰鼓！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 advTm="29000">
    <p:randomBar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684360" y="866880"/>
            <a:ext cx="7696080" cy="193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1“ 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好一个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---------------</a:t>
            </a:r>
            <a:r>
              <a:rPr b="1" lang="zh-CN" sz="3200" spc="-1" strike="noStrike">
                <a:solidFill>
                  <a:srgbClr val="003366"/>
                </a:solidFill>
                <a:latin typeface="Times New Roman"/>
              </a:rPr>
              <a:t>的安塞腰鼓”，对安塞腰鼓进行评价，可填词、短语、句子（最好用文中内容）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33520" y="3081240"/>
            <a:ext cx="800100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62120" y="403560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你从哪些句段强烈感受到？读一读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915840" y="2133360"/>
            <a:ext cx="704088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小组表演朗读，说说欣赏的理由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提示   欣赏角度有：语言，修辞，用词，句式，写法，个人感受体会等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7451640" y="434880"/>
            <a:ext cx="1595520" cy="13986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2"/>
          <p:cNvSpPr>
            <a:spLocks noGrp="1"/>
          </p:cNvSpPr>
          <p:nvPr>
            <p:ph type="title"/>
          </p:nvPr>
        </p:nvSpPr>
        <p:spPr>
          <a:xfrm>
            <a:off x="899640" y="108252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800" spc="-1" strike="noStrike">
                <a:solidFill>
                  <a:srgbClr val="f40000"/>
                </a:solidFill>
                <a:latin typeface="Times New Roman"/>
                <a:ea typeface="长城楷体"/>
              </a:rPr>
              <a:t>二品“鼓味”</a:t>
            </a:r>
            <a:r>
              <a:rPr b="0" i="1" lang="en-US" sz="4800" spc="-1" strike="noStrike">
                <a:solidFill>
                  <a:srgbClr val="006666"/>
                </a:solidFill>
                <a:latin typeface="Times New Roman"/>
                <a:ea typeface="长城楷体"/>
              </a:rPr>
              <a:t>——</a:t>
            </a:r>
            <a:r>
              <a:rPr b="0" i="1" lang="zh-CN" sz="4800" spc="-1" strike="noStrike">
                <a:solidFill>
                  <a:srgbClr val="006666"/>
                </a:solidFill>
                <a:latin typeface="Times New Roman"/>
                <a:ea typeface="长城楷体"/>
              </a:rPr>
              <a:t>感鼓势，赏语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94640" y="5084640"/>
            <a:ext cx="397080" cy="1731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7986600" y="5084640"/>
            <a:ext cx="395280" cy="1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231840" y="601560"/>
            <a:ext cx="8261280" cy="16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  <a:ea typeface="黑体"/>
              </a:rPr>
              <a:t>三  </a:t>
            </a:r>
            <a:r>
              <a:rPr b="1" i="1" lang="zh-CN" sz="4000" spc="-1" strike="noStrike">
                <a:solidFill>
                  <a:srgbClr val="006666"/>
                </a:solidFill>
                <a:latin typeface="Arial"/>
                <a:ea typeface="楷体_GB2312"/>
              </a:rPr>
              <a:t>悟“鼓魂”</a:t>
            </a:r>
            <a:r>
              <a:rPr b="1" i="1" lang="en-US" sz="4000" spc="-1" strike="noStrike">
                <a:solidFill>
                  <a:srgbClr val="006666"/>
                </a:solidFill>
                <a:latin typeface="Arial"/>
                <a:ea typeface="楷体_GB2312"/>
              </a:rPr>
              <a:t>——</a:t>
            </a:r>
            <a:r>
              <a:rPr b="1" i="1" lang="zh-CN" sz="4000" spc="-1" strike="noStrike">
                <a:solidFill>
                  <a:srgbClr val="006666"/>
                </a:solidFill>
                <a:latin typeface="Arial"/>
                <a:ea typeface="楷体_GB2312"/>
              </a:rPr>
              <a:t>寻情感探主旨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4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0" y="4251240"/>
            <a:ext cx="9144000" cy="11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-23760" y="74520"/>
            <a:ext cx="9275760" cy="540072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274320" cy="55324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0" y="1442880"/>
            <a:ext cx="91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3366"/>
                </a:solidFill>
                <a:latin typeface="Times New Roman"/>
              </a:rPr>
              <a:t>读了本文，你想说什么，用一句话表达。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042920" y="3636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师    生   小       结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0" y="1878120"/>
            <a:ext cx="9144000" cy="35258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304920" y="1185840"/>
            <a:ext cx="81532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395280" y="1947960"/>
            <a:ext cx="70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36360" y="3240"/>
            <a:ext cx="9215640" cy="540072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260360" y="723600"/>
            <a:ext cx="61056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468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8610480" y="5105520"/>
            <a:ext cx="395280" cy="172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5508720" y="3675240"/>
            <a:ext cx="13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40000"/>
                </a:solidFill>
                <a:latin typeface="Times New Roman"/>
              </a:rPr>
              <a:t>见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87640" y="3675240"/>
            <a:ext cx="146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200" spc="-1" strike="noStrike">
                <a:solidFill>
                  <a:srgbClr val="f40000"/>
                </a:solidFill>
                <a:latin typeface="Times New Roman"/>
              </a:rPr>
              <a:t>再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transition spd="slow" advTm="29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124080" y="4859280"/>
            <a:ext cx="289584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4859280"/>
            <a:ext cx="1905120" cy="3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-22320" y="34920"/>
            <a:ext cx="9131400" cy="52642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468360" y="14760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安塞腰鼓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是一种独特的民间大 型舞蹈艺术形式，具有</a:t>
            </a:r>
            <a:r>
              <a:rPr b="1" lang="en-US" sz="4000" spc="-1" strike="noStrike">
                <a:solidFill>
                  <a:srgbClr val="ffcc00"/>
                </a:solidFill>
                <a:latin typeface="Times New Roman"/>
              </a:rPr>
              <a:t>2000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年 以上的历史。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2160" cy="53341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2360" y="147600"/>
            <a:ext cx="85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表演可由几人或上千人一同进行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磅礴的气势，精湛的表现力令人陶醉，被称为“天下第一鼓”。</a:t>
            </a:r>
            <a:r>
              <a:rPr b="1" lang="zh-CN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34920" y="0"/>
            <a:ext cx="9144000" cy="5462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4920" y="371520"/>
            <a:ext cx="91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安塞腰鼓展示出西北黄土高原农民朴素而豪放的性格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1828800" y="0"/>
            <a:ext cx="5410080" cy="207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11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隶书"/>
              </a:rPr>
              <a:t>安塞腰鼓</a:t>
            </a:r>
            <a:endParaRPr b="1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隶书"/>
              <a:ea typeface="隶书"/>
            </a:endParaRPr>
          </a:p>
        </p:txBody>
      </p:sp>
      <p:sp>
        <p:nvSpPr>
          <p:cNvPr id="326" name=""/>
          <p:cNvSpPr/>
          <p:nvPr/>
        </p:nvSpPr>
        <p:spPr>
          <a:xfrm>
            <a:off x="3995640" y="4106880"/>
            <a:ext cx="30481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Arial"/>
                <a:ea typeface="楷体_GB2312"/>
              </a:rPr>
              <a:t>作者：刘成章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34920" y="32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93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生，陕西省延安市人。现任陕西省作家协会副主席、中国散文学会常务理事。已出版六种散文集，其中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羊想云彩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获首届鲁迅文学奖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539640" y="258840"/>
            <a:ext cx="1828800" cy="4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宋体"/>
              </a:rPr>
              <a:t>刘成章：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5580000" y="3898800"/>
            <a:ext cx="2664000" cy="91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作者简介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930600" y="1017720"/>
            <a:ext cx="729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亢奋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晦暗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羁绊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冗杂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387960" y="985680"/>
            <a:ext cx="729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磅礴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颤栗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铿锵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蓦然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920640" y="1125360"/>
            <a:ext cx="127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烧灼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戛然而止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捶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882080" y="1008000"/>
            <a:ext cx="132228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à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uì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jī bàn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ǒng</a:t>
            </a:r>
            <a:r>
              <a:rPr b="0" lang="en-US" sz="4000" spc="-1" strike="noStrike">
                <a:solidFill>
                  <a:srgbClr val="003366"/>
                </a:solidFill>
                <a:latin typeface="Times New Roman"/>
                <a:ea typeface="华文行楷"/>
              </a:rPr>
              <a:t>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8840" y="1008000"/>
            <a:ext cx="2198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áng bó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Zhàn lì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ēng qiāng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ò 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6588000" y="763560"/>
            <a:ext cx="255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Times New Roman"/>
              </a:rPr>
              <a:t>  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zhuó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jiá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uí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7308720" y="3968640"/>
            <a:ext cx="1621080" cy="136548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1187280" y="314280"/>
            <a:ext cx="676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66"/>
                </a:solidFill>
                <a:latin typeface="Arial"/>
              </a:rPr>
              <a:t>一、检查预习读准字音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324000" y="258840"/>
            <a:ext cx="792000" cy="615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0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5T02:54:46Z</dcterms:created>
  <dc:creator>鲁青</dc:creator>
  <dc:description/>
  <cp:keywords/>
  <dc:language>en-US</dc:language>
  <cp:lastModifiedBy>hx</cp:lastModifiedBy>
  <cp:lastPrinted>1899-12-30T00:00:00Z</cp:lastPrinted>
  <dcterms:modified xsi:type="dcterms:W3CDTF">2014-04-04T06:34:19Z</dcterms:modified>
  <cp:revision>1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