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6.xml.rels" ContentType="application/vnd.openxmlformats-package.relationships+xml"/>
  <Override PartName="/ppt/notesSlides/notesSlide66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50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carbrake.wav" ContentType="audio/x-wav"/>
  <Override PartName="/ppt/media/image3.png" ContentType="image/png"/>
  <Override PartName="/ppt/media/image56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28.jpeg" ContentType="image/jpeg"/>
  <Override PartName="/ppt/media/image51.jpeg" ContentType="image/jpeg"/>
  <Override PartName="/ppt/media/image37.jpeg" ContentType="image/jpeg"/>
  <Override PartName="/ppt/media/image12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38.jpeg" ContentType="image/jpeg"/>
  <Override PartName="/ppt/media/image7.jpeg" ContentType="image/jpeg"/>
  <Override PartName="/ppt/media/image45.jpeg" ContentType="image/jpeg"/>
  <Override PartName="/ppt/media/image47.jpeg" ContentType="image/jpeg"/>
  <Override PartName="/ppt/media/image43.jpeg" ContentType="image/jpeg"/>
  <Override PartName="/ppt/media/applause.wav" ContentType="audio/x-wav"/>
  <Override PartName="/ppt/media/image33.jpeg" ContentType="image/jpeg"/>
  <Override PartName="/ppt/media/image49.jpeg" ContentType="image/jpeg"/>
  <Override PartName="/ppt/media/image46.jpeg" ContentType="image/jpeg"/>
  <Override PartName="/ppt/media/type.wav" ContentType="audio/x-wav"/>
  <Override PartName="/ppt/media/image53.gif" ContentType="image/gif"/>
  <Override PartName="/ppt/media/image48.jpeg" ContentType="image/jpeg"/>
  <Override PartName="/ppt/media/image55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11.jpeg" ContentType="image/jpeg"/>
  <Override PartName="/ppt/media/image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A07D5-C19B-440D-8D40-D5A2D27811E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日期占位符 1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8ED58-3243-4BD2-8E8E-D2A65F312550}" type="datetime">
              <a:rPr b="0" lang="zh-CN" sz="1200" spc="-1" strike="noStrike">
                <a:solidFill>
                  <a:srgbClr val="99cc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灯片编号占位符 2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4BBA-D2B7-481D-B24A-119079AFC250}" type="slidenum">
              <a:rPr b="0" lang="zh-CN" sz="1200" spc="-1" strike="noStrike">
                <a:solidFill>
                  <a:srgbClr val="99cc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3B7-03BD-4027-8819-81CD1C39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FB72-633D-4A31-B092-D7501AEB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0614-05E4-4EC4-93AE-49A5582AC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A11-B0B8-41E3-B351-0029039DB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1A84-328E-40E6-929E-0D46DA57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F0E9-B9C2-46DB-9E49-4BAD42F1B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E8C-4AB4-41B8-99DA-DEC224CA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4588-2A72-41D3-B903-4589CF7A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1C11-956D-406B-A99B-9A70CD70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9358-2B40-40E6-B4E5-760B6FF8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1B25-086C-4359-BF53-CB2454C98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EB5C-3B38-4831-9FF6-B7D4D947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22A87-0DA2-40A8-84FD-AD986001DE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image" Target="../media/image47.jpeg"/><Relationship Id="rId8" Type="http://schemas.openxmlformats.org/officeDocument/2006/relationships/image" Target="../media/image48.jpeg"/><Relationship Id="rId9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2.gif"/><Relationship Id="rId3" Type="http://schemas.openxmlformats.org/officeDocument/2006/relationships/image" Target="../media/image53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audio" Target="../media/carbrake.wav"/><Relationship Id="rId6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image" Target="../media/image5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腰鼓1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220680" y="0"/>
            <a:ext cx="2903400" cy="4040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763640" y="565164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腰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5940360" y="25052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陕北的安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181080" y="3984480"/>
            <a:ext cx="3456000" cy="21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你们知道这是什么鼓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3708360" y="376200"/>
            <a:ext cx="48960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2251"/>
              </a:spcBef>
              <a:buSzPct val="1028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6666"/>
                </a:solidFill>
                <a:latin typeface="Arial"/>
                <a:ea typeface="楷体_GB2312"/>
              </a:rPr>
              <a:t>你们知道中国的“腰鼓之乡”是哪里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539640" y="6021360"/>
            <a:ext cx="129564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4572000" y="2968560"/>
            <a:ext cx="144792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4861080" y="342900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99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年，安塞县被国家文化部命名为“中国腰鼓之乡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75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407_s_121837535056_s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57610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黑体"/>
                <a:ea typeface="黑体"/>
              </a:rPr>
              <a:t>但是：</a:t>
            </a:r>
            <a:r>
              <a:rPr b="0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br>
              <a:rPr sz="9600"/>
            </a:br>
            <a:r>
              <a:rPr b="0" lang="zh-CN" sz="9600" spc="-1" strike="noStrike">
                <a:solidFill>
                  <a:srgbClr val="ff0000"/>
                </a:solidFill>
                <a:latin typeface="黑体"/>
                <a:ea typeface="黑体"/>
              </a:rPr>
              <a:t>   看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79280" y="115920"/>
            <a:ext cx="856800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一捶起来就发狠了，忘情了，没命了！百十个斜背腰鼓的后生，如百十块被强震不断击起的石头，狂舞在你的面前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3" descr="28975025929cb97935a80f55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5a3118098973799bd0581b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356000" y="333360"/>
            <a:ext cx="5113440" cy="16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骤雨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</a:t>
            </a:r>
            <a:r>
              <a:rPr b="1" lang="zh-CN" sz="4400" spc="-1" strike="noStrike">
                <a:solidFill>
                  <a:srgbClr val="0000ff"/>
                </a:solidFill>
                <a:latin typeface="方正舒体"/>
                <a:ea typeface="方正舒体"/>
              </a:rPr>
              <a:t>是急促的鼓点；</a:t>
            </a:r>
            <a:r>
              <a:rPr b="1" lang="zh-CN" sz="4400" spc="-1" strike="noStrike">
                <a:solidFill>
                  <a:srgbClr val="ff0000"/>
                </a:solidFill>
                <a:latin typeface="方正舒体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200793113812850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076360" y="836280"/>
            <a:ext cx="4248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旋风一样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方正舒体"/>
                <a:ea typeface="方正舒体"/>
              </a:rPr>
              <a:t>是飞扬的流苏；</a:t>
            </a:r>
            <a:r>
              <a:rPr b="1" lang="zh-CN" sz="4400" spc="-1" strike="noStrike">
                <a:solidFill>
                  <a:srgbClr val="000000"/>
                </a:solidFill>
                <a:latin typeface="方正舒体"/>
                <a:ea typeface="方正舒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4f2d22f8fae0b416d8f9fd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-360" y="5489640"/>
            <a:ext cx="7669080" cy="89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行楷"/>
                <a:ea typeface="华文行楷"/>
              </a:rPr>
              <a:t>乱蛙一样，是蹦跳的脚步；</a:t>
            </a: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71_1297_42b7bd755758da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80280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火花一样，是闪射的瞳仁；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2008050711592236"/>
          <p:cNvPicPr/>
          <p:nvPr/>
        </p:nvPicPr>
        <p:blipFill>
          <a:blip r:embed="rId2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4259160" cy="21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斗虎一样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强健的风姿</a:t>
            </a:r>
            <a:r>
              <a:rPr b="1" lang="zh-CN" sz="4800" spc="-1" strike="noStrike">
                <a:solidFill>
                  <a:srgbClr val="ffff00"/>
                </a:solidFill>
                <a:latin typeface="方正舒体"/>
                <a:ea typeface="方正舒体"/>
              </a:rPr>
              <a:t>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108000" y="259920"/>
            <a:ext cx="8820000" cy="16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黄土高原上，爆出一场多么壮阔、多么豪放、多么火烈的舞蹈哇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安塞腰鼓！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1a72c7f472794877dcc47454"/>
          <p:cNvPicPr/>
          <p:nvPr/>
        </p:nvPicPr>
        <p:blipFill>
          <a:blip r:embed="rId2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07640" y="260280"/>
            <a:ext cx="8893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这腰鼓，使冰冷的空气立即变得燥热了，使恬静的阳光立即变得飞溅了，使困倦的世界立即变得亢奋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20071151831149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11280" y="3789360"/>
            <a:ext cx="831672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ddddd"/>
                </a:solidFill>
                <a:latin typeface="Arial"/>
                <a:ea typeface="华文行楷"/>
              </a:rPr>
              <a:t>使人想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ddddd"/>
                </a:solidFill>
                <a:latin typeface="Arial"/>
                <a:ea typeface="华文行楷"/>
              </a:rPr>
              <a:t>         </a:t>
            </a:r>
            <a:r>
              <a:rPr b="1" lang="zh-CN" sz="4400" spc="-1" strike="noStrike">
                <a:solidFill>
                  <a:srgbClr val="dddddd"/>
                </a:solidFill>
                <a:latin typeface="Arial"/>
                <a:ea typeface="华文行楷"/>
              </a:rPr>
              <a:t>落日照大旗，马鸣风萧萧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2006-12-29-15-10-2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63640" y="1413000"/>
            <a:ext cx="5832720" cy="180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安塞腰鼓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92360" y="3429000"/>
            <a:ext cx="230364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刘成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007591819378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820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行楷"/>
              </a:rPr>
              <a:t>使人想起：千里的雷声万里的闪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g200602212258224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4360" y="4652640"/>
            <a:ext cx="7632720" cy="19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华文楷体"/>
                <a:ea typeface="华文楷体"/>
              </a:rPr>
              <a:t>使人想起：晦暗了又明晰、明晰了又晦暗、尔后最终永远明晰了的大彻大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a54b864aee08a33a08f7ef55"/>
          <p:cNvPicPr/>
          <p:nvPr/>
        </p:nvPicPr>
        <p:blipFill>
          <a:blip r:embed="rId2"/>
          <a:stretch/>
        </p:blipFill>
        <p:spPr>
          <a:xfrm>
            <a:off x="0" y="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0" y="5273280"/>
            <a:ext cx="9144000" cy="158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  <a:ea typeface="华文楷体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容不得束缚，容不得羁绊 容不得闭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是挣脱了、冲破了、撞开了的那么一股劲！</a:t>
            </a:r>
            <a:r>
              <a:rPr b="1" lang="zh-CN" sz="3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349236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10345_200706221651522"/>
          <p:cNvPicPr/>
          <p:nvPr/>
        </p:nvPicPr>
        <p:blipFill>
          <a:blip r:embed="rId2"/>
          <a:stretch/>
        </p:blipFill>
        <p:spPr>
          <a:xfrm>
            <a:off x="3492360" y="0"/>
            <a:ext cx="565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m1160294558256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8000" y="188640"/>
            <a:ext cx="8928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百十个腰鼓发出的沉重响声，碰撞在四野长着酸枣树的山崖上，山崖蓦然变成牛皮鼓面了，只听见隆隆，隆隆，隆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a830ec2d3286cd2d359bf755"/>
          <p:cNvPicPr/>
          <p:nvPr/>
        </p:nvPicPr>
        <p:blipFill>
          <a:blip r:embed="rId2"/>
          <a:stretch/>
        </p:blipFill>
        <p:spPr>
          <a:xfrm>
            <a:off x="0" y="1844640"/>
            <a:ext cx="9144000" cy="501336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115920"/>
            <a:ext cx="8856720" cy="19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百十个腰鼓发出的沉重响声，碰撞在遗落了一切冗杂的观众的心上，观众的心也蓦然变成牛皮鼓面了，也是隆隆，隆隆，隆隆。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隆隆隆隆的豪壮的抒情，隆隆隆隆的严峻的思索，隆隆隆隆的犁间翻起的杂着草根的土浪，隆隆隆隆的阵痛的发生和排解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……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3" descr="yaogu02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10345_200706221651523"/>
          <p:cNvPicPr/>
          <p:nvPr/>
        </p:nvPicPr>
        <p:blipFill>
          <a:blip r:embed="rId2"/>
          <a:stretch/>
        </p:blipFill>
        <p:spPr>
          <a:xfrm>
            <a:off x="3527280" y="0"/>
            <a:ext cx="561672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3"/>
          <p:cNvSpPr/>
          <p:nvPr/>
        </p:nvSpPr>
        <p:spPr>
          <a:xfrm>
            <a:off x="0" y="0"/>
            <a:ext cx="349236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！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d9b660ec34bf863e63d09f55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7640" y="115920"/>
            <a:ext cx="889308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后生们的胳膊、腿、全身，有力地搏击着，急速地搏击着，大起大落地搏击着。它震撼着你，烧灼着你，威逼着你。它使你从来没有如此鲜明地感受到生命的存在、活跃、和强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556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它使你惊异于那农民衣着包裹着的躯体，那消化红豆角角老南瓜的躯体，居然可以释放出那么奇伟磅礴的能量！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eye872010310192120920"/>
          <p:cNvPicPr/>
          <p:nvPr/>
        </p:nvPicPr>
        <p:blipFill>
          <a:blip r:embed="rId2"/>
          <a:stretch/>
        </p:blipFill>
        <p:spPr>
          <a:xfrm>
            <a:off x="255600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2"/>
          <p:cNvSpPr/>
          <p:nvPr/>
        </p:nvSpPr>
        <p:spPr>
          <a:xfrm>
            <a:off x="395280" y="115920"/>
            <a:ext cx="8497800" cy="23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安塞腰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产生于距延安四十公里处的安塞县，是产生于北方黄土高原的一种民间艺术，充满原始和浓郁的乡土气息。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它是黄土高原的产物，其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粗犷、雄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风格与当地的自然环境、地理风貌、民风民情浑然一体 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安塞腰鼓表演可由几人或上千人一同进行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磅礴的气势，精湛的表现力令人陶醉，被称为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“天下第一鼓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远流长，风格独特，融舞蹈、音乐、武术于一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具有队行多变、刚劲、豪放的特点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１９９６年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安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县被国家文化部命名为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中国腰鼓之乡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5373360"/>
            <a:ext cx="9144000" cy="148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黄土高原啊，你生养了这些元气淋漓的后生；也只有你，才能承受如此惊心动魄的捶击！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图片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589360"/>
            <a:ext cx="8748720" cy="126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华文隶书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隶书"/>
              </a:rPr>
              <a:t>多水的江南是易碎的玻璃，在那儿，打不得这样的腰鼓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338462648ae39de9f63654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893080" cy="23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黑体"/>
                <a:ea typeface="黑体"/>
              </a:rPr>
              <a:t>除了黄土高原，哪里再有这么厚这么厚的土层啊！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3276720" cy="685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 vert="eaVer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一个黄土高原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好一个安塞腰鼓！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3" descr="10345_200706221651524"/>
          <p:cNvPicPr/>
          <p:nvPr/>
        </p:nvPicPr>
        <p:blipFill>
          <a:blip r:embed="rId2"/>
          <a:stretch/>
        </p:blipFill>
        <p:spPr>
          <a:xfrm>
            <a:off x="3276720" y="0"/>
            <a:ext cx="5867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11Z9605c330345b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95280" y="404640"/>
            <a:ext cx="734544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充满了力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11Z9605c61035149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868480" y="259920"/>
            <a:ext cx="6275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呼呼作响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11Z9605cT03EN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Arial"/>
                <a:ea typeface="华文新魏"/>
              </a:rPr>
              <a:t>每一个舞姿都是光与影的匆匆变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11Z9605493Z33364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8200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每一个舞姿都使人颤栗在浓烈的艺术享受中，使人叹为观止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6ba5b5d983bde4f038012f55"/>
          <p:cNvPicPr/>
          <p:nvPr/>
        </p:nvPicPr>
        <p:blipFill>
          <a:blip r:embed="rId2"/>
          <a:stretch/>
        </p:blipFill>
        <p:spPr>
          <a:xfrm>
            <a:off x="0" y="981000"/>
            <a:ext cx="9144000" cy="5877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87280" y="26028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好一个痛快了山河、蓬勃了想象力的安塞腰鼓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20051593816757"/>
          <p:cNvPicPr/>
          <p:nvPr/>
        </p:nvPicPr>
        <p:blipFill>
          <a:blip r:embed="rId2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愈捶愈烈！形体成了沉重而又纷飞的思绪！</a:t>
            </a:r>
            <a:r>
              <a:rPr b="1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79280" y="141300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93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生，陕西省延安市人。现任陕西省作家协会副主席、中国散文学会常务理事。已出版六种散文集，其中《羊想云彩》获首届鲁迅文学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WordArt 3" descr="weave"/>
          <p:cNvPicPr/>
          <p:nvPr/>
        </p:nvPicPr>
        <p:blipFill>
          <a:blip r:embed="rId2"/>
          <a:stretch/>
        </p:blipFill>
        <p:spPr>
          <a:xfrm>
            <a:off x="395280" y="1268280"/>
            <a:ext cx="1974960" cy="657360"/>
          </a:xfrm>
          <a:prstGeom prst="rect">
            <a:avLst/>
          </a:prstGeom>
          <a:ln w="0">
            <a:noFill/>
          </a:ln>
        </p:spPr>
      </p:pic>
      <p:sp>
        <p:nvSpPr>
          <p:cNvPr id="62" name="WordArt 4"/>
          <p:cNvSpPr txBox="1"/>
          <p:nvPr/>
        </p:nvSpPr>
        <p:spPr>
          <a:xfrm>
            <a:off x="3492360" y="0"/>
            <a:ext cx="22320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38183" dir="2700000" blurRad="0" rotWithShape="0">
                    <a:srgbClr val="000000">
                      <a:alpha val="43000"/>
                    </a:srgbClr>
                  </a:outerShdw>
                </a:effectLst>
                <a:latin typeface="宋体"/>
              </a:rPr>
              <a:t>作者简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38183" dir="2700000" blurRad="0" rotWithShape="0">
                  <a:srgbClr val="000000">
                    <a:alpha val="43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42560" y="-360"/>
            <a:ext cx="7201080" cy="81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华文新魏"/>
              </a:rPr>
              <a:t>愈捶愈烈！思绪中不存任何隐秘！</a:t>
            </a:r>
            <a:r>
              <a:rPr b="1" lang="zh-CN" sz="36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3" descr="图片4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d9b660ec34bf863e63d09f5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0" y="260280"/>
            <a:ext cx="914400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愈捶愈烈！痛苦和欢乐，生活和梦幻，摆脱和追求，都在这舞姿和鼓点中，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655d9082b11a35bb0df4d255"/>
          <p:cNvPicPr/>
          <p:nvPr/>
        </p:nvPicPr>
        <p:blipFill>
          <a:blip r:embed="rId2"/>
          <a:stretch/>
        </p:blipFill>
        <p:spPr>
          <a:xfrm>
            <a:off x="0" y="0"/>
            <a:ext cx="3203640" cy="240984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200711811561944285"/>
          <p:cNvPicPr/>
          <p:nvPr/>
        </p:nvPicPr>
        <p:blipFill>
          <a:blip r:embed="rId3"/>
          <a:stretch/>
        </p:blipFill>
        <p:spPr>
          <a:xfrm>
            <a:off x="3203640" y="692280"/>
            <a:ext cx="2808360" cy="21049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20071220102200102200"/>
          <p:cNvPicPr/>
          <p:nvPr/>
        </p:nvPicPr>
        <p:blipFill>
          <a:blip r:embed="rId4"/>
          <a:stretch/>
        </p:blipFill>
        <p:spPr>
          <a:xfrm>
            <a:off x="6012000" y="1268280"/>
            <a:ext cx="2881080" cy="2482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200712201021462173"/>
          <p:cNvPicPr/>
          <p:nvPr/>
        </p:nvPicPr>
        <p:blipFill>
          <a:blip r:embed="rId5"/>
          <a:stretch/>
        </p:blipFill>
        <p:spPr>
          <a:xfrm>
            <a:off x="3995640" y="3789360"/>
            <a:ext cx="2664000" cy="20462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2005159353986"/>
          <p:cNvPicPr/>
          <p:nvPr/>
        </p:nvPicPr>
        <p:blipFill>
          <a:blip r:embed="rId6"/>
          <a:stretch/>
        </p:blipFill>
        <p:spPr>
          <a:xfrm>
            <a:off x="6588000" y="4938840"/>
            <a:ext cx="2556000" cy="19191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xin_28010319105307870456"/>
          <p:cNvPicPr/>
          <p:nvPr/>
        </p:nvPicPr>
        <p:blipFill>
          <a:blip r:embed="rId7"/>
          <a:stretch/>
        </p:blipFill>
        <p:spPr>
          <a:xfrm>
            <a:off x="1332000" y="2852640"/>
            <a:ext cx="2592360" cy="2232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3"/>
          <p:cNvPicPr/>
          <p:nvPr/>
        </p:nvPicPr>
        <p:blipFill>
          <a:blip r:embed="rId8">
            <a:lum bright="18000"/>
          </a:blip>
          <a:stretch/>
        </p:blipFill>
        <p:spPr>
          <a:xfrm>
            <a:off x="0" y="5048280"/>
            <a:ext cx="2411280" cy="18097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7236000" y="5084640"/>
            <a:ext cx="1655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辐射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468360" y="616572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升华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2268360" y="4508640"/>
            <a:ext cx="172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翻飞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4643280" y="530064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奔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6948360" y="2997360"/>
            <a:ext cx="15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凝聚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971640" y="1700280"/>
            <a:ext cx="1584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交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924360" y="2133720"/>
            <a:ext cx="15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华文行楷"/>
              </a:rPr>
              <a:t>旋转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017eb63e36a52c2471cf6c5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907640" y="1125360"/>
            <a:ext cx="569124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人，成了茫茫一片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声，成了茫茫一片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……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582d839ba422caa8c9eaf435"/>
          <p:cNvPicPr/>
          <p:nvPr/>
        </p:nvPicPr>
        <p:blipFill>
          <a:blip r:embed="rId2"/>
          <a:stretch/>
        </p:blipFill>
        <p:spPr>
          <a:xfrm>
            <a:off x="0" y="-792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0560" y="333360"/>
            <a:ext cx="867708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当它戛然而止的时候，世界出奇的寂静，以致使人感到对她十分陌生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0f5f2b723952ac058601b03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subTitle"/>
          </p:nvPr>
        </p:nvSpPr>
        <p:spPr>
          <a:xfrm>
            <a:off x="-108360" y="4652640"/>
            <a:ext cx="6659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简直像来到另一个星球。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耳畔是一声渺远的鸡啼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932400" y="1308240"/>
            <a:ext cx="7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羁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3389760" y="1268280"/>
            <a:ext cx="7293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磅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颤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6923880" y="1447920"/>
            <a:ext cx="1278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烧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然而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铿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882080" y="1295280"/>
            <a:ext cx="13222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à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h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ī bà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ǒng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192920" y="1295280"/>
            <a:ext cx="16408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páng 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àn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hu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ò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6588000" y="981000"/>
            <a:ext cx="2556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Times New Roman"/>
              </a:rPr>
              <a:t>        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z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ji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kēng qiā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8" descr="b2271"/>
          <p:cNvPicPr/>
          <p:nvPr/>
        </p:nvPicPr>
        <p:blipFill>
          <a:blip r:embed="rId2"/>
          <a:stretch/>
        </p:blipFill>
        <p:spPr>
          <a:xfrm>
            <a:off x="7308720" y="5102280"/>
            <a:ext cx="1621080" cy="1755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F746364291A98EF347A71C2E7A659D26"/>
          <p:cNvPicPr/>
          <p:nvPr/>
        </p:nvPicPr>
        <p:blipFill>
          <a:blip r:embed="rId3"/>
          <a:stretch/>
        </p:blipFill>
        <p:spPr>
          <a:xfrm>
            <a:off x="324000" y="333360"/>
            <a:ext cx="792000" cy="79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1332000" y="189000"/>
            <a:ext cx="2016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检查预习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67" name=""/>
          <p:cNvSpPr/>
          <p:nvPr/>
        </p:nvSpPr>
        <p:spPr>
          <a:xfrm>
            <a:off x="4357080" y="40464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给下列的蓝色字注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79280" y="549000"/>
            <a:ext cx="86868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-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速较慢，语调沉稳有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腰鼓表演前安静中蓄积力量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轻柔、舒缓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速较快，语调高昂激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表现腰鼓表演的欢快、火爆、热烈的特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（急促、高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8-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然段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语速较舒缓，语调轻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表现腰鼓表演结束后场面寂静的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（轻缓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631080" y="260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ff"/>
                </a:solidFill>
                <a:latin typeface="Arial"/>
              </a:rPr>
              <a:t>朗读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整体感知，研读探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560" y="1844280"/>
            <a:ext cx="87138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大家读完这文章后有什么感受？文章主要写了哪些内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理清文章的结构，全文可分为几部分？怎样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3640" y="4149720"/>
            <a:ext cx="338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表演前：</a:t>
            </a: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1-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表演时：</a:t>
            </a: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5-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表演后：</a:t>
            </a:r>
            <a:r>
              <a:rPr b="1" lang="en-US" sz="32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28-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59280" y="4292640"/>
            <a:ext cx="144360" cy="180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46800 h 1800360"/>
              <a:gd name="textAreaBottom" fmla="*/ 175356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04"/>
                </a:lnTo>
                <a:cubicBezTo>
                  <a:pt x="10800" y="9404"/>
                  <a:pt x="5400" y="10304"/>
                  <a:pt x="0" y="10304"/>
                </a:cubicBezTo>
                <a:cubicBezTo>
                  <a:pt x="5400" y="10304"/>
                  <a:pt x="10800" y="11204"/>
                  <a:pt x="10800" y="121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-496080" y="1916280"/>
            <a:ext cx="182628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7c945"/>
                </a:solidFill>
                <a:latin typeface="隶书"/>
                <a:ea typeface="隶书"/>
              </a:rPr>
              <a:t>安塞腰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76360" y="2205000"/>
            <a:ext cx="33829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表演前：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-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表演时：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5-2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表演后：</a:t>
            </a:r>
            <a:r>
              <a:rPr b="1" lang="en-US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8-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32000" y="2349360"/>
            <a:ext cx="144360" cy="2162160"/>
          </a:xfrm>
          <a:custGeom>
            <a:avLst/>
            <a:gdLst>
              <a:gd name="textAreaLeft" fmla="*/ 92160 w 144360"/>
              <a:gd name="textAreaRight" fmla="*/ 144360 w 144360"/>
              <a:gd name="textAreaTop" fmla="*/ 56160 h 2162160"/>
              <a:gd name="textAreaBottom" fmla="*/ 2106000 h 2162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504"/>
                </a:lnTo>
                <a:cubicBezTo>
                  <a:pt x="10800" y="9404"/>
                  <a:pt x="5400" y="10304"/>
                  <a:pt x="0" y="10304"/>
                </a:cubicBezTo>
                <a:cubicBezTo>
                  <a:pt x="5400" y="10304"/>
                  <a:pt x="10800" y="11204"/>
                  <a:pt x="10800" y="121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76720" y="2060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安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148360" y="29242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激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378936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楷体简体"/>
                <a:ea typeface="方正楷体简体"/>
              </a:rPr>
              <a:t>寂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23800" y="54936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99ff"/>
                </a:solidFill>
                <a:latin typeface="方正楷体简体"/>
                <a:ea typeface="方正楷体简体"/>
              </a:rPr>
              <a:t>3</a:t>
            </a:r>
            <a:r>
              <a:rPr b="1" lang="zh-CN" sz="4000" spc="-1" strike="noStrike">
                <a:solidFill>
                  <a:srgbClr val="6699ff"/>
                </a:solidFill>
                <a:latin typeface="方正楷体简体"/>
                <a:ea typeface="方正楷体简体"/>
              </a:rPr>
              <a:t>、根据提示完成文章结构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788000" y="2133720"/>
            <a:ext cx="360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　）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　）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（ 　　）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6-12-29-15-10-24"/>
          <p:cNvPicPr/>
          <p:nvPr/>
        </p:nvPicPr>
        <p:blipFill>
          <a:blip r:embed="rId2">
            <a:grayscl/>
            <a:lum contras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听朗读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3360" y="3429000"/>
            <a:ext cx="61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注意语气、语速，节奏和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作者怎样写表演前的情况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背景写：是一片高粱地，咝溜溜的南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人物写：一群茂腾腾的后生，朴实得像高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神情写：沉稳而安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腰鼓写：呆呆的、似乎从来不曾响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747520" y="3284640"/>
            <a:ext cx="753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这样写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0" y="4149720"/>
            <a:ext cx="64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在沉稳而安静的气氛中，生命在积蓄激情，等待爆发。可以说，表演前的安静沉稳是为了演出的火热、沸腾蓄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5040" y="5445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为下文写腰鼓表演蓄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3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安塞腰鼓的总体特征是什么？（用原文中的词语回答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           </a:t>
            </a: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（壮阔   豪放    火烈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微软雅黑"/>
                <a:ea typeface="微软雅黑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7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在第二部分中有一句话重复多次，请找出来，并思考这样写有什么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 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00000" y="2997360"/>
            <a:ext cx="7058160" cy="27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一个安塞腰鼓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一个安塞腰鼓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一个黄土高原！好一个安塞腰鼓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好一个痛快了山河、蓬勃了想象力的安塞腰鼓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用了间接反复，使语言有一种鼓的韵律，形成了回环往复的气势，增强语言的表现力，推动情节和情绪向高潮发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5" dur="500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640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、“好一个安塞腰鼓”  中的“好”体现在哪儿？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411280" y="981000"/>
            <a:ext cx="5113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在有火烈的舞蹈场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在鼓声的巨大力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在有茂腾腾的击鼓后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好在变幻的舞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614320" y="4005360"/>
            <a:ext cx="26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宏伟的场面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5-1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雄壮的响声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4-1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击鼓的后生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-2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奇丽的舞姿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3-2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5579280" y="4076640"/>
            <a:ext cx="144360" cy="1635120"/>
          </a:xfrm>
          <a:custGeom>
            <a:avLst/>
            <a:gdLst>
              <a:gd name="textAreaLeft" fmla="*/ 92160 w 144360"/>
              <a:gd name="textAreaRight" fmla="*/ 144360 w 144360"/>
              <a:gd name="textAreaTop" fmla="*/ 42480 h 1635120"/>
              <a:gd name="textAreaBottom" fmla="*/ 1592640 h 163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56360" y="3789360"/>
            <a:ext cx="50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激昂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那一段描写了腰鼓表演的场面？运用了哪些修辞手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第七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比喻、排比、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形象具体地写出了舞蹈场面的宏伟</a:t>
            </a: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突出了安塞腰鼓壮阔、豪放、火烈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23640" y="1915920"/>
            <a:ext cx="856908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</a:t>
            </a:r>
            <a:br>
              <a:rPr sz="3200"/>
            </a:b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贫瘠的黄土地、闭塞的生活，让生活在这儿的人们在物质和精神上受到太多的压抑和束缚，安塞腰鼓正是要打破这种束缚，让生命宣泄在天地间，“痛快了山河、蓬勃了想像力”。运用了排比修辞手法。强烈的表达了情感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95280" y="260280"/>
            <a:ext cx="802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从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-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段中找出揭示安塞腰鼓文化内涵和生命意识的一句话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11280" y="184464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i="1" lang="zh-CN" sz="2800" spc="-1" strike="noStrike">
                <a:solidFill>
                  <a:srgbClr val="ff3300"/>
                </a:solidFill>
                <a:latin typeface="Arial"/>
              </a:rPr>
              <a:t>容不得束缚，容不得羁绊，容不得闭塞。是挣脱了、冲破了、撞开了的那么一股劲！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是怎样描写安塞腰鼓的响声的？齐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4-1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段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用排比、比喻、反复写出安塞腰鼓声音的回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9900ff"/>
                </a:solidFill>
                <a:latin typeface="Arial"/>
              </a:rPr>
              <a:t>表现出“安塞腰鼓”气吞河山的场面和震撼人心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ff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运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侧面烘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写法，用环境和观众的感受来烘托鼓声，使鼓声和周围的环境和观众融为一体，更能表现安塞腰鼓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震撼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9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当鼓声停止时，周围的环境是怎样的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世界出奇的寂静，以致使人感到对她十分陌生了。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简直像来到另一个星球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9640" y="386064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因为这是人对闹声的一种感受，当闹声突然停止时，会感到特别的静。好像换了一个陌生的环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6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这部分的静和第一部分的静是不是一样的意思？这两部分对第二部分的表达有什么作用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8360" y="22050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明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不同，第一部分侧重于人的安静；第三部分侧重于声音的寂静，以静衬动，与第二部分形成鲜明的对比，第三部分与第一部分形成前后呼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4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怎样理解“耳畔是一片渺远的鸡啼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当鼓声停止时后，人们任然沉静在激情中，好像炽热后的沉寂，这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以“鸡啼”反衬寂静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；同时，鸡声是天亮的标志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是新的一天的开始，是希望的象征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，有这种喷发出来的力量，一定可以带动生命的奔腾升华，一定会创造出一个崭新的世界，这正是希望所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1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179280" y="1989000"/>
            <a:ext cx="8713800" cy="295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运用得最多的修辞方法是什么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排比的形式有三种，“句内排比”、“句与句之间的排比”、“段与段之间的排比”，大家能举例说明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132000" y="333360"/>
            <a:ext cx="251964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品味语言</a:t>
            </a:r>
            <a:endParaRPr b="0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851280" y="2708280"/>
            <a:ext cx="9144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排比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random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108000" y="0"/>
            <a:ext cx="9036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群茂腾腾的后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000C72523748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2"/>
          <p:cNvSpPr/>
          <p:nvPr/>
        </p:nvSpPr>
        <p:spPr>
          <a:xfrm>
            <a:off x="250920" y="3141720"/>
            <a:ext cx="86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狂舞在你的面前，骤雨一样，是急促的鼓点；旋风一样，是飞扬的流苏；乱蛙一样，是蹦跳的脚步；火花一样，是闪射的瞳仁；斗虎一样，是强健的风姿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324000" y="1197000"/>
            <a:ext cx="85071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锤起来就发狠了，忘情了，没命了！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1644120" y="260280"/>
            <a:ext cx="304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⑴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内部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1847520" y="220500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⑵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与句之间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2"/>
          <p:cNvSpPr/>
          <p:nvPr/>
        </p:nvSpPr>
        <p:spPr>
          <a:xfrm>
            <a:off x="0" y="1341360"/>
            <a:ext cx="9144000" cy="228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人想起：落日照大旗，马鸣风潇潇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人想起：千里的雷声万里的闪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使人想起：晦暗了又明晰、明晰了又晦暗、而后最终永远明晰了的大彻大悟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3"/>
          <p:cNvSpPr/>
          <p:nvPr/>
        </p:nvSpPr>
        <p:spPr>
          <a:xfrm>
            <a:off x="179280" y="3789360"/>
            <a:ext cx="8964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排比句使文章气势恢宏，语气连贯，节奏明快，语句铿锵，能表达出强烈的思想感情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1961640" y="304920"/>
            <a:ext cx="347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⑶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段与段之间的排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这篇文章作者歌颂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1280" y="1916280"/>
            <a:ext cx="8229600" cy="34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歌颂了生命中奔腾的力量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中力量，由西北汉子热情奔放的腰鼓表现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歌颂黄土地上的阳刚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歌颂了承载生命的黄土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歌颂了黄土地上生活的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808080"/>
                </a:solidFill>
                <a:latin typeface="Arial"/>
              </a:rPr>
              <a:t>艺术手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51203"/>
          <p:cNvSpPr/>
          <p:nvPr/>
        </p:nvSpPr>
        <p:spPr>
          <a:xfrm>
            <a:off x="3059280" y="1341360"/>
            <a:ext cx="2895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图片 51208" descr="08fh-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6343560"/>
            <a:ext cx="1066680" cy="514440"/>
          </a:xfrm>
          <a:prstGeom prst="rect">
            <a:avLst/>
          </a:prstGeom>
          <a:ln w="0">
            <a:noFill/>
          </a:ln>
        </p:spPr>
      </p:pic>
      <p:sp>
        <p:nvSpPr>
          <p:cNvPr id="223" name="缺角矩形 51209"/>
          <p:cNvSpPr/>
          <p:nvPr/>
        </p:nvSpPr>
        <p:spPr>
          <a:xfrm>
            <a:off x="3200400" y="457200"/>
            <a:ext cx="2666880" cy="914400"/>
          </a:xfrm>
          <a:custGeom>
            <a:avLst/>
            <a:gdLst>
              <a:gd name="textAreaLeft" fmla="*/ 107640 w 2666880"/>
              <a:gd name="textAreaRight" fmla="*/ 2559240 w 26668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629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381" y="21600"/>
                </a:lnTo>
                <a:arcTo wR="3600" hR="3600" stAng="10800000" swAng="5400000"/>
                <a:lnTo>
                  <a:pt x="62981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2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1641600"/>
            <a:ext cx="8713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铿锵的短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课文多用短句来表现内容。如一群茂腾腾的后生，间接的表现了年轻生命的热烈奔放：忘情了，没命了，有力的表现了生命沸腾、力量喷涌不可遏止的情景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 多样的修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　　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本文大量运用排比、比喻、反复等修辞手法，气势磅礴，酣畅淋漓、生动形象。如“使人想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愈捶愈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大量运用排比词语、排比句、排比段落，犹如江河一泻千里，不可遏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动静结合，以静衬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9280" y="184464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本文写出了安塞腰鼓壮阔、豪放、火烈的特点。表达出作者对安塞腰鼓强健的舞姿、沉重的响声、震撼人心的力量的强烈的思想感情赞美陕北高原人们粗犷、豪迈、开放的性格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表现安塞人被贫困压抑，而想冲破一切束缚、羁绊的渴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更表现出安塞人不甘贫困，奋发向上，追求幸福美好的生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189000"/>
            <a:ext cx="5398920" cy="144756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Times New Roman"/>
              </a:rPr>
              <a:t>总     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图片6"/>
          <p:cNvPicPr/>
          <p:nvPr/>
        </p:nvPicPr>
        <p:blipFill>
          <a:blip r:embed="rId2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3"/>
          <p:cNvSpPr/>
          <p:nvPr/>
        </p:nvSpPr>
        <p:spPr>
          <a:xfrm>
            <a:off x="900000" y="1844640"/>
            <a:ext cx="7483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完成课后“读读写写”词语的积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学习文章的修辞手法，进行合理的想象描写一个令你难忘的场面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左右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4"/>
          <p:cNvSpPr/>
          <p:nvPr/>
        </p:nvSpPr>
        <p:spPr>
          <a:xfrm>
            <a:off x="611280" y="404640"/>
            <a:ext cx="266364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文本框 197633"/>
          <p:cNvSpPr/>
          <p:nvPr/>
        </p:nvSpPr>
        <p:spPr>
          <a:xfrm>
            <a:off x="-403560" y="1916280"/>
            <a:ext cx="1521000" cy="3124080"/>
          </a:xfrm>
          <a:prstGeom prst="rect">
            <a:avLst/>
          </a:prstGeom>
          <a:solidFill>
            <a:srgbClr val="bbe0e3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安塞腰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197635"/>
          <p:cNvSpPr/>
          <p:nvPr/>
        </p:nvSpPr>
        <p:spPr>
          <a:xfrm>
            <a:off x="3492360" y="31417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激昂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文本框 197640"/>
          <p:cNvSpPr/>
          <p:nvPr/>
        </p:nvSpPr>
        <p:spPr>
          <a:xfrm>
            <a:off x="4067280" y="458136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寂静的腰鼓　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方正楷体简体"/>
                <a:ea typeface="方正楷体简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左大括号 197641"/>
          <p:cNvSpPr/>
          <p:nvPr/>
        </p:nvSpPr>
        <p:spPr>
          <a:xfrm>
            <a:off x="5435640" y="2637000"/>
            <a:ext cx="288720" cy="1728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190"/>
                </a:lnTo>
                <a:cubicBezTo>
                  <a:pt x="10800" y="10090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8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197644"/>
          <p:cNvSpPr/>
          <p:nvPr/>
        </p:nvSpPr>
        <p:spPr>
          <a:xfrm>
            <a:off x="8763120" y="373392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文本框 197646"/>
          <p:cNvSpPr/>
          <p:nvPr/>
        </p:nvSpPr>
        <p:spPr>
          <a:xfrm>
            <a:off x="8229600" y="6156360"/>
            <a:ext cx="5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197647"/>
          <p:cNvSpPr/>
          <p:nvPr/>
        </p:nvSpPr>
        <p:spPr>
          <a:xfrm>
            <a:off x="8001000" y="388620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197648"/>
          <p:cNvSpPr/>
          <p:nvPr/>
        </p:nvSpPr>
        <p:spPr>
          <a:xfrm>
            <a:off x="3124080" y="304920"/>
            <a:ext cx="3429000" cy="825120"/>
          </a:xfrm>
          <a:prstGeom prst="rect">
            <a:avLst/>
          </a:prstGeom>
          <a:solidFill>
            <a:srgbClr val="bbe0e3"/>
          </a:solidFill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行楷"/>
                <a:ea typeface="华文行楷"/>
              </a:rPr>
              <a:t>板书设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图片 197649" descr="08fh-02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077320" y="6343560"/>
            <a:ext cx="1066680" cy="514440"/>
          </a:xfrm>
          <a:prstGeom prst="rect">
            <a:avLst/>
          </a:prstGeom>
          <a:ln w="0">
            <a:noFill/>
          </a:ln>
        </p:spPr>
      </p:pic>
      <p:sp>
        <p:nvSpPr>
          <p:cNvPr id="239" name="左大括号 197650"/>
          <p:cNvSpPr/>
          <p:nvPr/>
        </p:nvSpPr>
        <p:spPr>
          <a:xfrm>
            <a:off x="1258920" y="1557360"/>
            <a:ext cx="360360" cy="3600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93600 h 3600360"/>
              <a:gd name="textAreaBottom" fmla="*/ 350676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文本框 197651"/>
          <p:cNvSpPr/>
          <p:nvPr/>
        </p:nvSpPr>
        <p:spPr>
          <a:xfrm>
            <a:off x="8381880" y="2971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文本框 197653"/>
          <p:cNvSpPr/>
          <p:nvPr/>
        </p:nvSpPr>
        <p:spPr>
          <a:xfrm>
            <a:off x="1381320" y="1341360"/>
            <a:ext cx="159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演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文本框 197654"/>
          <p:cNvSpPr/>
          <p:nvPr/>
        </p:nvSpPr>
        <p:spPr>
          <a:xfrm>
            <a:off x="1332000" y="306864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演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197655"/>
          <p:cNvSpPr/>
          <p:nvPr/>
        </p:nvSpPr>
        <p:spPr>
          <a:xfrm>
            <a:off x="1258920" y="4581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演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文本框 197656"/>
          <p:cNvSpPr/>
          <p:nvPr/>
        </p:nvSpPr>
        <p:spPr>
          <a:xfrm>
            <a:off x="2511000" y="1341360"/>
            <a:ext cx="138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1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文本框 197657"/>
          <p:cNvSpPr/>
          <p:nvPr/>
        </p:nvSpPr>
        <p:spPr>
          <a:xfrm>
            <a:off x="2356560" y="3141720"/>
            <a:ext cx="15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5-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197661"/>
          <p:cNvSpPr/>
          <p:nvPr/>
        </p:nvSpPr>
        <p:spPr>
          <a:xfrm>
            <a:off x="3798000" y="1413000"/>
            <a:ext cx="19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安静的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197663"/>
          <p:cNvSpPr/>
          <p:nvPr/>
        </p:nvSpPr>
        <p:spPr>
          <a:xfrm>
            <a:off x="2561040" y="4653000"/>
            <a:ext cx="179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8-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048000" y="2565360"/>
            <a:ext cx="26769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宏伟的场面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5-1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雄壮的响声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4-1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击鼓的后生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18-2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奇丽的舞姿（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23-27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21"/>
          <p:cNvSpPr/>
          <p:nvPr/>
        </p:nvSpPr>
        <p:spPr>
          <a:xfrm>
            <a:off x="1979640" y="551664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3366cc"/>
                </a:solidFill>
                <a:uFillTx/>
                <a:latin typeface="Arial"/>
              </a:rPr>
              <a:t>颂扬激荡的生命和磅礴的力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sf_200661516423"/>
          <p:cNvPicPr/>
          <p:nvPr/>
        </p:nvPicPr>
        <p:blipFill>
          <a:blip r:embed="rId2"/>
          <a:stretch/>
        </p:blipFill>
        <p:spPr>
          <a:xfrm>
            <a:off x="0" y="1052640"/>
            <a:ext cx="9144000" cy="5805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0" y="333360"/>
            <a:ext cx="914400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们的身后是一片高粱地。他们朴实得就像那片高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p150008"/>
          <p:cNvPicPr/>
          <p:nvPr/>
        </p:nvPicPr>
        <p:blipFill>
          <a:blip r:embed="rId2"/>
          <a:stretch/>
        </p:blipFill>
        <p:spPr>
          <a:xfrm>
            <a:off x="0" y="0"/>
            <a:ext cx="9144000" cy="6723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0" y="5632560"/>
            <a:ext cx="9144000" cy="12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咝溜溜的南风吹动了高粱叶子，也吹动了他们的衣裳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995280" y="0"/>
            <a:ext cx="51483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们的神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沉稳而安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紧贴在他们身体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侧的腰鼓，呆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，似乎从来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曾响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1197000"/>
            <a:ext cx="39956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2T14:10:43Z</dcterms:created>
  <dc:creator>jjhz111</dc:creator>
  <dc:description/>
  <cp:keywords/>
  <dc:language>en-US</dc:language>
  <cp:lastModifiedBy>User</cp:lastModifiedBy>
  <dcterms:modified xsi:type="dcterms:W3CDTF">2018-03-06T12:56:59Z</dcterms:modified>
  <cp:revision>6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