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46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0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4.jpeg" ContentType="image/jpeg"/>
  <Override PartName="/ppt/media/image28.jpeg" ContentType="image/jpeg"/>
  <Override PartName="/ppt/media/image37.jpeg" ContentType="image/jpeg"/>
  <Override PartName="/ppt/media/image12.jpeg" ContentType="image/jpeg"/>
  <Override PartName="/ppt/media/image33.gif" ContentType="image/gif"/>
  <Override PartName="/ppt/media/image44.jpeg" ContentType="image/jpeg"/>
  <Override PartName="/ppt/media/image7.jpeg" ContentType="image/jpeg"/>
  <Override PartName="/ppt/media/image38.jpeg" ContentType="image/jpeg"/>
  <Override PartName="/ppt/media/image9.jpeg" ContentType="image/jpeg"/>
  <Override PartName="/ppt/media/image11.jpeg" ContentType="image/jpeg"/>
  <Override PartName="/ppt/media/image40.jpeg" ContentType="image/jpeg"/>
  <Override PartName="/ppt/media/image13.jpeg" ContentType="image/jpeg"/>
  <Override PartName="/ppt/media/image6.jpeg" ContentType="image/jpeg"/>
  <Override PartName="/ppt/media/image27.jpeg" ContentType="image/jpeg"/>
  <Override PartName="/ppt/media/image3.png" ContentType="image/png"/>
  <Override PartName="/ppt/media/%E9%BC%93%E5%A3%B04.wav" ContentType="audio/x-wav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A04A-8BE7-4726-92B1-D2E95CF57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E057-66ED-4862-9E54-55E0748D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44E3-C926-47B4-A6CD-8BB3369E6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C086-96C7-4428-A3CF-A7255452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CD65-9D72-4315-A07C-9CF7AA77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2351-6752-4EBF-9A07-6F390A54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87E5-B4A6-41D9-A400-2E02872D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E4ED-D74F-4C89-905D-91B81D182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68AB-605A-4367-BF21-83D432773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6120-B4B1-42D5-9BCB-3BDAD26D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E884-7398-464E-B433-2D664BE9E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9597-AD55-4F6E-A1BF-C9DBFB39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34A1-CE4B-4B44-B5C5-29394AE5C0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&#23433;&#22622;&#33136;&#40723;&#35270;&#39057;&#35838;&#25991;&#26391;&#35835;%5B&#26222;&#28165;&#29256;%5D.mp4" TargetMode="External"/><Relationship Id="rId2" Type="http://schemas.openxmlformats.org/officeDocument/2006/relationships/image" Target="../media/image33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&#40723;&#22768;4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&#23433;&#22622;&#33136;&#40723;&#35270;&#39057;.AVI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280,21,&#24187;&#28783;&#29255; 21" TargetMode="External"/><Relationship Id="rId2" Type="http://schemas.openxmlformats.org/officeDocument/2006/relationships/hyperlink" Target="281,22,&#24187;&#28783;&#29255; 22" TargetMode="Externa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5.jpeg"/><Relationship Id="rId4" Type="http://schemas.openxmlformats.org/officeDocument/2006/relationships/image" Target="../media/image46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52225" descr="腰鼓1"/>
          <p:cNvPicPr/>
          <p:nvPr/>
        </p:nvPicPr>
        <p:blipFill>
          <a:blip r:embed="rId1"/>
          <a:stretch/>
        </p:blipFill>
        <p:spPr>
          <a:xfrm>
            <a:off x="3124080" y="0"/>
            <a:ext cx="6019920" cy="6248520"/>
          </a:xfrm>
          <a:prstGeom prst="rect">
            <a:avLst/>
          </a:prstGeom>
          <a:ln w="0">
            <a:noFill/>
          </a:ln>
        </p:spPr>
      </p:pic>
      <p:sp>
        <p:nvSpPr>
          <p:cNvPr id="42" name="文本框 52226"/>
          <p:cNvSpPr/>
          <p:nvPr/>
        </p:nvSpPr>
        <p:spPr>
          <a:xfrm>
            <a:off x="0" y="685800"/>
            <a:ext cx="41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Times New Roman"/>
                <a:ea typeface="隶书"/>
              </a:rPr>
              <a:t>你知道这是什么鼓吗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文本框 52227"/>
          <p:cNvSpPr/>
          <p:nvPr/>
        </p:nvSpPr>
        <p:spPr>
          <a:xfrm>
            <a:off x="762120" y="2330280"/>
            <a:ext cx="2133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33"/>
                </a:solidFill>
                <a:latin typeface="Times New Roman"/>
                <a:ea typeface="隶书"/>
              </a:rPr>
              <a:t>腰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52228"/>
          <p:cNvSpPr/>
          <p:nvPr/>
        </p:nvSpPr>
        <p:spPr>
          <a:xfrm>
            <a:off x="0" y="3429000"/>
            <a:ext cx="6705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99"/>
                </a:solidFill>
                <a:latin typeface="Times New Roman"/>
                <a:ea typeface="隶书"/>
              </a:rPr>
              <a:t>你知道中国的“腰鼓之乡”是哪里吗</a:t>
            </a:r>
            <a:r>
              <a:rPr b="1" lang="en-US" sz="5400" spc="-1" strike="noStrike">
                <a:solidFill>
                  <a:srgbClr val="cc0099"/>
                </a:solidFill>
                <a:latin typeface="Times New Roman"/>
                <a:ea typeface="隶书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52229"/>
          <p:cNvSpPr/>
          <p:nvPr/>
        </p:nvSpPr>
        <p:spPr>
          <a:xfrm>
            <a:off x="380880" y="5105520"/>
            <a:ext cx="441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33"/>
                </a:solidFill>
                <a:latin typeface="Times New Roman"/>
                <a:ea typeface="隶书"/>
              </a:rPr>
              <a:t>陕北的安塞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-250920" y="0"/>
            <a:ext cx="9576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捶起来就发狠了，忘情了，没命了！百十个斜背腰鼓的后生，如百十块被强震不断击起的石头，狂舞在你的面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图片 14338" descr="28975025929cb97935a80f55"/>
          <p:cNvPicPr/>
          <p:nvPr/>
        </p:nvPicPr>
        <p:blipFill>
          <a:blip r:embed="rId1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15361" descr="5a3118098973799bd0581b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356000" y="333360"/>
            <a:ext cx="51134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骤雨一样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   </a:t>
            </a: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是急促的鼓点；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图片 16385" descr="20079311381285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5076360" y="836280"/>
            <a:ext cx="42483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舒体"/>
                <a:ea typeface="方正舒体"/>
              </a:rPr>
              <a:t>旋风一样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舒体"/>
                <a:ea typeface="方正舒体"/>
              </a:rPr>
              <a:t>是飞扬的流苏；</a:t>
            </a:r>
            <a:r>
              <a:rPr b="1" lang="zh-CN" sz="4400" spc="-1" strike="noStrike">
                <a:solidFill>
                  <a:srgbClr val="000000"/>
                </a:solidFill>
                <a:latin typeface="方正舒体"/>
                <a:ea typeface="方正舒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图片 17409" descr="4f2d22f8fae0b416d8f9fd5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-360" y="5489640"/>
            <a:ext cx="766908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行楷"/>
                <a:ea typeface="华文行楷"/>
              </a:rPr>
              <a:t>乱蛙一样，是蹦跳的脚步；</a:t>
            </a:r>
            <a:r>
              <a:rPr b="1" lang="zh-CN" sz="4800" spc="-1" strike="noStrike">
                <a:solidFill>
                  <a:srgbClr val="ffff00"/>
                </a:solidFill>
                <a:latin typeface="方正舒体"/>
                <a:ea typeface="方正舒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8433" descr="71_1297_42b7bd755758da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0" y="188640"/>
            <a:ext cx="8028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华文行楷"/>
                <a:ea typeface="华文行楷"/>
              </a:rPr>
              <a:t>火花一样，是闪射的瞳</a:t>
            </a:r>
            <a:r>
              <a:rPr b="1" lang="en-US" sz="4000" spc="-1" strike="noStrike">
                <a:solidFill>
                  <a:srgbClr val="333399"/>
                </a:solidFill>
                <a:latin typeface="黑体"/>
                <a:ea typeface="黑体"/>
              </a:rPr>
              <a:t>(tóng)</a:t>
            </a:r>
            <a:r>
              <a:rPr b="1" lang="zh-CN" sz="4000" spc="-1" strike="noStrike">
                <a:solidFill>
                  <a:srgbClr val="333399"/>
                </a:solidFill>
                <a:latin typeface="华文行楷"/>
                <a:ea typeface="华文行楷"/>
              </a:rPr>
              <a:t>仁；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图片 19457" descr="20080507115922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50560" y="260280"/>
            <a:ext cx="42591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新魏"/>
                <a:ea typeface="华文新魏"/>
              </a:rPr>
              <a:t>斗虎一样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新魏"/>
                <a:ea typeface="华文新魏"/>
              </a:rPr>
              <a:t>是强健的风姿</a:t>
            </a:r>
            <a:r>
              <a:rPr b="1" lang="zh-CN" sz="4800" spc="-1" strike="noStrike">
                <a:solidFill>
                  <a:srgbClr val="ffff00"/>
                </a:solidFill>
                <a:latin typeface="方正舒体"/>
                <a:ea typeface="方正舒体"/>
              </a:rPr>
              <a:t>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 20481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0" y="189000"/>
            <a:ext cx="8820000" cy="168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黄土高原上，爆出一场多么壮阔、多么豪放、多么火烈的舞蹈哇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——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安塞腰鼓！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21505" descr="1a72c7f472794877dcc47454"/>
          <p:cNvPicPr/>
          <p:nvPr/>
        </p:nvPicPr>
        <p:blipFill>
          <a:blip r:embed="rId1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-251280" y="5373360"/>
            <a:ext cx="939492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这腰鼓，使冰冷的空气立即变得燥热了，使恬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(tián)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静的阳光立即变得飞溅了，使困倦的世界立即变得亢</a:t>
            </a: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(kàng)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奋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22529" descr="20071151831149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611280" y="3789360"/>
            <a:ext cx="8316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dddd"/>
                </a:solidFill>
                <a:latin typeface="Arial"/>
                <a:ea typeface="华文行楷"/>
              </a:rPr>
              <a:t>使人想起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ddddd"/>
                </a:solidFill>
                <a:latin typeface="Arial"/>
                <a:ea typeface="华文行楷"/>
              </a:rPr>
              <a:t>         </a:t>
            </a:r>
            <a:r>
              <a:rPr b="1" lang="zh-CN" sz="4400" spc="-1" strike="noStrike">
                <a:solidFill>
                  <a:srgbClr val="dddddd"/>
                </a:solidFill>
                <a:latin typeface="Arial"/>
                <a:ea typeface="华文行楷"/>
              </a:rPr>
              <a:t>落日照大旗，马鸣风萧萧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图片 23553" descr="2007591819378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324000" y="476280"/>
            <a:ext cx="8820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行楷"/>
              </a:rPr>
              <a:t>使人想起：千里的雷声万里的闪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安塞腰鼓朗诵.mp3" descr=""/>
          <p:cNvPicPr/>
          <p:nvPr/>
        </p:nvPicPr>
        <p:blipFill>
          <a:blip r:embed="rId1"/>
          <a:stretch/>
        </p:blipFill>
        <p:spPr>
          <a:xfrm>
            <a:off x="5292720" y="371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图片 20485" descr="1339563a1c296efc"/>
          <p:cNvPicPr/>
          <p:nvPr/>
        </p:nvPicPr>
        <p:blipFill>
          <a:blip r:embed="rId2"/>
          <a:stretch/>
        </p:blipFill>
        <p:spPr>
          <a:xfrm>
            <a:off x="6480" y="0"/>
            <a:ext cx="913752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347533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4577" descr="g200602212258224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684360" y="4652640"/>
            <a:ext cx="7632720" cy="19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使人想起：晦（</a:t>
            </a:r>
            <a:r>
              <a:rPr b="1" lang="en-US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huì</a:t>
            </a: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）暗了又明晰、明晰了又晦暗、尔后最终永远明晰了的大彻大悟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它使你惊异于那农民衣着包裹着的躯体，那消化红豆角角老南瓜的躯体，居然可以释放出那么奇伟磅礴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ng b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的能量！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32770" descr="eye872010310192120920"/>
          <p:cNvPicPr/>
          <p:nvPr/>
        </p:nvPicPr>
        <p:blipFill>
          <a:blip r:embed="rId1"/>
          <a:stretch/>
        </p:blipFill>
        <p:spPr>
          <a:xfrm>
            <a:off x="2556000" y="0"/>
            <a:ext cx="65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33793" descr="图片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106200" y="5516640"/>
            <a:ext cx="943128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黄土高原啊，你生养了这些元气淋漓的后生；也只有你，才能承受如此惊心动魄的捶击！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 34817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0" y="5589360"/>
            <a:ext cx="8748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华文隶书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隶书"/>
              </a:rPr>
              <a:t>多水的江南是易碎的玻璃，在那儿，打不得这样的腰鼓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35841" descr="338462648ae39de9f63654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除了黄土高原，哪里再有这么厚这么厚的土层啊！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0" y="0"/>
            <a:ext cx="327672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好一个黄土高原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好一个安塞腰鼓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36866" descr="10345_200706221651524"/>
          <p:cNvPicPr/>
          <p:nvPr/>
        </p:nvPicPr>
        <p:blipFill>
          <a:blip r:embed="rId1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46081" descr="655d9082b11a35bb0df4d255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932360" y="333000"/>
            <a:ext cx="284328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华文新魏"/>
              </a:rPr>
              <a:t>交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47105" descr="2007118115619442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5363640" y="404280"/>
            <a:ext cx="20876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r>
              <a:rPr b="1" lang="zh-CN" sz="6000" spc="-1" strike="noStrike">
                <a:solidFill>
                  <a:srgbClr val="ff0066"/>
                </a:solidFill>
                <a:latin typeface="华文行楷"/>
                <a:ea typeface="华文行楷"/>
              </a:rPr>
              <a:t>旋转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 48129" descr="20071220102200102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5867280" y="404640"/>
            <a:ext cx="327672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华文行楷"/>
                <a:ea typeface="华文行楷"/>
              </a:rPr>
              <a:t>凝聚</a:t>
            </a:r>
            <a:r>
              <a:rPr b="1" lang="zh-CN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49153" descr="2007122010214621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5003640" y="404280"/>
            <a:ext cx="360072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华文行楷"/>
                <a:ea typeface="华文行楷"/>
              </a:rPr>
              <a:t>奔突！</a:t>
            </a:r>
            <a:r>
              <a:rPr b="1" lang="zh-CN" sz="6000" spc="-1" strike="noStrike">
                <a:solidFill>
                  <a:srgbClr val="006666"/>
                </a:solidFill>
                <a:latin typeface="华文行楷"/>
                <a:ea typeface="华文行楷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5121"/>
          <p:cNvSpPr/>
          <p:nvPr/>
        </p:nvSpPr>
        <p:spPr>
          <a:xfrm>
            <a:off x="395280" y="189000"/>
            <a:ext cx="8497800" cy="2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华文中宋"/>
              </a:rPr>
              <a:t>安塞腰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距延安四十公里处的安塞县，是一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融舞蹈、音乐、武术于一体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民间艺术，充满原始和浓郁的乡土气息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源远流长，风格独特，具有队行多变、刚劲、豪放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安塞腰鼓表演可由几人或上千人一同进行，磅礴的气势，精湛的表现力令人陶醉，被称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“天下第一鼓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１９９６年，安塞县被国家文化部命名为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中国腰鼓之乡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50177" descr="2005159353986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5316480" y="549000"/>
            <a:ext cx="382752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  <a:ea typeface="华文行楷"/>
              </a:rPr>
              <a:t>辐射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51201" descr="xin_28010319105307870456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5975280" y="836280"/>
            <a:ext cx="31687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翻飞</a:t>
            </a:r>
            <a:r>
              <a:rPr b="1" lang="zh-CN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文本框 49155"/>
          <p:cNvSpPr/>
          <p:nvPr/>
        </p:nvSpPr>
        <p:spPr>
          <a:xfrm>
            <a:off x="380880" y="228600"/>
            <a:ext cx="8001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亢奋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kàng fèn)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蓦然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mò rán)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晦暗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huì àn)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羁绊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jī bàn)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磅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páng bó)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烧灼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shāo zhuó)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冗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rǒng zá)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骤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zhòu yǔ)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飞溅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fēi jiàn)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搏击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bó jī)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包裹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bāo guǒ)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磅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páng bó)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蓬勃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péng bó)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隐秘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yǐn mì)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辐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fú shè)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奔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bēn tū)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颤栗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àn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l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文本框 8193"/>
          <p:cNvSpPr/>
          <p:nvPr/>
        </p:nvSpPr>
        <p:spPr>
          <a:xfrm>
            <a:off x="92160" y="41400"/>
            <a:ext cx="329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整体感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8194"/>
          <p:cNvSpPr/>
          <p:nvPr/>
        </p:nvSpPr>
        <p:spPr>
          <a:xfrm>
            <a:off x="232560" y="1752480"/>
            <a:ext cx="78984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安塞腰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8195"/>
          <p:cNvSpPr/>
          <p:nvPr/>
        </p:nvSpPr>
        <p:spPr>
          <a:xfrm>
            <a:off x="1295280" y="11430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)1-4:</a:t>
            </a: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打鼓前的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8196"/>
          <p:cNvSpPr/>
          <p:nvPr/>
        </p:nvSpPr>
        <p:spPr>
          <a:xfrm>
            <a:off x="1295280" y="18288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二</a:t>
            </a: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)5-27:</a:t>
            </a: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　火烈的腰鼓表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8197"/>
          <p:cNvSpPr/>
          <p:nvPr/>
        </p:nvSpPr>
        <p:spPr>
          <a:xfrm>
            <a:off x="2209680" y="23623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5-13</a:t>
            </a: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：宏伟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8198"/>
          <p:cNvSpPr/>
          <p:nvPr/>
        </p:nvSpPr>
        <p:spPr>
          <a:xfrm>
            <a:off x="2209680" y="29718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4-17</a:t>
            </a: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：雄壮的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8199"/>
          <p:cNvSpPr/>
          <p:nvPr/>
        </p:nvSpPr>
        <p:spPr>
          <a:xfrm>
            <a:off x="2209680" y="358128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8-22</a:t>
            </a: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：击鼓的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8200"/>
          <p:cNvSpPr/>
          <p:nvPr/>
        </p:nvSpPr>
        <p:spPr>
          <a:xfrm>
            <a:off x="2286000" y="41911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23-27</a:t>
            </a: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：奇丽的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8201"/>
          <p:cNvSpPr/>
          <p:nvPr/>
        </p:nvSpPr>
        <p:spPr>
          <a:xfrm>
            <a:off x="1447920" y="46483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三</a:t>
            </a:r>
            <a:r>
              <a:rPr b="1" lang="en-US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)28-30</a:t>
            </a: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：结束后的（　　）</a:t>
            </a:r>
            <a:r>
              <a:rPr b="1" lang="zh-CN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　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方正楷体简体"/>
                <a:ea typeface="方正楷体简体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左大括号 8202"/>
          <p:cNvSpPr/>
          <p:nvPr/>
        </p:nvSpPr>
        <p:spPr>
          <a:xfrm>
            <a:off x="914400" y="1447920"/>
            <a:ext cx="380880" cy="3124080"/>
          </a:xfrm>
          <a:custGeom>
            <a:avLst/>
            <a:gdLst>
              <a:gd name="textAreaLeft" fmla="*/ 243360 w 380880"/>
              <a:gd name="textAreaRight" fmla="*/ 381240 w 38088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8506"/>
                </a:lnTo>
                <a:cubicBezTo>
                  <a:pt x="10800" y="9405"/>
                  <a:pt x="5400" y="10304"/>
                  <a:pt x="0" y="10304"/>
                </a:cubicBezTo>
                <a:cubicBezTo>
                  <a:pt x="5400" y="10304"/>
                  <a:pt x="10800" y="11203"/>
                  <a:pt x="10800" y="12102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左大括号 8203"/>
          <p:cNvSpPr/>
          <p:nvPr/>
        </p:nvSpPr>
        <p:spPr>
          <a:xfrm>
            <a:off x="1905120" y="2362320"/>
            <a:ext cx="304560" cy="19810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191"/>
                </a:lnTo>
                <a:cubicBezTo>
                  <a:pt x="10800" y="10090"/>
                  <a:pt x="5400" y="10989"/>
                  <a:pt x="0" y="10989"/>
                </a:cubicBezTo>
                <a:cubicBezTo>
                  <a:pt x="5400" y="10989"/>
                  <a:pt x="10800" y="11888"/>
                  <a:pt x="10800" y="12787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8204"/>
          <p:cNvSpPr/>
          <p:nvPr/>
        </p:nvSpPr>
        <p:spPr>
          <a:xfrm>
            <a:off x="4419720" y="10666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安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8205"/>
          <p:cNvSpPr/>
          <p:nvPr/>
        </p:nvSpPr>
        <p:spPr>
          <a:xfrm>
            <a:off x="4876920" y="2895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响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8206"/>
          <p:cNvSpPr/>
          <p:nvPr/>
        </p:nvSpPr>
        <p:spPr>
          <a:xfrm>
            <a:off x="4800600" y="35053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后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8207"/>
          <p:cNvSpPr/>
          <p:nvPr/>
        </p:nvSpPr>
        <p:spPr>
          <a:xfrm>
            <a:off x="5105520" y="47242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寂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8208"/>
          <p:cNvSpPr/>
          <p:nvPr/>
        </p:nvSpPr>
        <p:spPr>
          <a:xfrm>
            <a:off x="4952880" y="41148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舞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8209"/>
          <p:cNvSpPr/>
          <p:nvPr/>
        </p:nvSpPr>
        <p:spPr>
          <a:xfrm>
            <a:off x="4889880" y="22860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方正楷体简体"/>
                <a:ea typeface="方正楷体简体"/>
              </a:rPr>
              <a:t>场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8210"/>
          <p:cNvSpPr/>
          <p:nvPr/>
        </p:nvSpPr>
        <p:spPr>
          <a:xfrm>
            <a:off x="4623120" y="23623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（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欣赏完视频，你有什么感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6840" y="28195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磅礴的气势和巨大的生命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29699" descr="11414_20076922445115815"/>
          <p:cNvPicPr/>
          <p:nvPr/>
        </p:nvPicPr>
        <p:blipFill>
          <a:blip r:embed="rId2"/>
          <a:stretch/>
        </p:blipFill>
        <p:spPr>
          <a:xfrm>
            <a:off x="7772400" y="54864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28" name="安塞腰鼓2.mp3" descr=""/>
          <p:cNvPicPr/>
          <p:nvPr/>
        </p:nvPicPr>
        <p:blipFill>
          <a:blip r:embed="rId3"/>
          <a:stretch/>
        </p:blipFill>
        <p:spPr>
          <a:xfrm>
            <a:off x="6781680" y="44956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583459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</a:rPr>
              <a:t>直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赞美安塞腰鼓的语句有哪些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好一个安塞腰鼓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好一个安塞腰鼓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好一个安塞腰鼓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好一个痛快了山河、蓬勃了想象力的安塞腰鼓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它们分别赞美了安塞腰鼓哪方面的好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2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2000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文本框 30722"/>
          <p:cNvSpPr/>
          <p:nvPr/>
        </p:nvSpPr>
        <p:spPr>
          <a:xfrm>
            <a:off x="533520" y="35053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30725"/>
          <p:cNvSpPr/>
          <p:nvPr/>
        </p:nvSpPr>
        <p:spPr>
          <a:xfrm>
            <a:off x="304920" y="2133720"/>
            <a:ext cx="7162560" cy="29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知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用“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——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的安塞腰鼓”进行概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30741"/>
          <p:cNvGrpSpPr/>
          <p:nvPr/>
        </p:nvGrpSpPr>
        <p:grpSpPr>
          <a:xfrm>
            <a:off x="533520" y="5181480"/>
            <a:ext cx="3047400" cy="1600200"/>
            <a:chOff x="533520" y="5181480"/>
            <a:chExt cx="3047400" cy="1600200"/>
          </a:xfrm>
        </p:grpSpPr>
        <p:sp>
          <p:nvSpPr>
            <p:cNvPr id="134" name="十字星 30742"/>
            <p:cNvSpPr/>
            <p:nvPr/>
          </p:nvSpPr>
          <p:spPr>
            <a:xfrm>
              <a:off x="1904760" y="6095880"/>
              <a:ext cx="837720" cy="685800"/>
            </a:xfrm>
            <a:custGeom>
              <a:avLst/>
              <a:gdLst>
                <a:gd name="textAreaLeft" fmla="*/ 345240 w 837720"/>
                <a:gd name="textAreaRight" fmla="*/ 492480 w 837720"/>
                <a:gd name="textAreaTop" fmla="*/ 282600 h 685800"/>
                <a:gd name="textAreaBottom" fmla="*/ 4032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十字星 30743"/>
            <p:cNvSpPr/>
            <p:nvPr/>
          </p:nvSpPr>
          <p:spPr>
            <a:xfrm>
              <a:off x="2742840" y="5181480"/>
              <a:ext cx="838080" cy="685800"/>
            </a:xfrm>
            <a:custGeom>
              <a:avLst/>
              <a:gdLst>
                <a:gd name="textAreaLeft" fmla="*/ 345240 w 838080"/>
                <a:gd name="textAreaRight" fmla="*/ 492840 w 838080"/>
                <a:gd name="textAreaTop" fmla="*/ 282600 h 685800"/>
                <a:gd name="textAreaBottom" fmla="*/ 4032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十字星 30744"/>
            <p:cNvSpPr/>
            <p:nvPr/>
          </p:nvSpPr>
          <p:spPr>
            <a:xfrm>
              <a:off x="533520" y="5257440"/>
              <a:ext cx="837720" cy="685800"/>
            </a:xfrm>
            <a:custGeom>
              <a:avLst/>
              <a:gdLst>
                <a:gd name="textAreaLeft" fmla="*/ 345240 w 837720"/>
                <a:gd name="textAreaRight" fmla="*/ 492480 w 837720"/>
                <a:gd name="textAreaTop" fmla="*/ 282600 h 685800"/>
                <a:gd name="textAreaBottom" fmla="*/ 4032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云形标注 30745"/>
          <p:cNvSpPr/>
          <p:nvPr/>
        </p:nvSpPr>
        <p:spPr>
          <a:xfrm>
            <a:off x="3809880" y="4267080"/>
            <a:ext cx="5334120" cy="2514600"/>
          </a:xfrm>
          <a:prstGeom prst="cloudCallout">
            <a:avLst>
              <a:gd name="adj1" fmla="val -19643"/>
              <a:gd name="adj2" fmla="val 4633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组合 30750"/>
          <p:cNvGrpSpPr/>
          <p:nvPr/>
        </p:nvGrpSpPr>
        <p:grpSpPr>
          <a:xfrm>
            <a:off x="0" y="-15840"/>
            <a:ext cx="2209680" cy="1387440"/>
            <a:chOff x="0" y="-15840"/>
            <a:chExt cx="2209680" cy="1387440"/>
          </a:xfrm>
        </p:grpSpPr>
        <p:sp>
          <p:nvSpPr>
            <p:cNvPr id="139" name="椭圆 30746"/>
            <p:cNvSpPr/>
            <p:nvPr/>
          </p:nvSpPr>
          <p:spPr>
            <a:xfrm>
              <a:off x="0" y="0"/>
              <a:ext cx="2209680" cy="13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30747"/>
            <p:cNvSpPr/>
            <p:nvPr/>
          </p:nvSpPr>
          <p:spPr>
            <a:xfrm>
              <a:off x="152280" y="-15840"/>
              <a:ext cx="1828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0000"/>
                  </a:solidFill>
                  <a:latin typeface="Times New Roman"/>
                </a:rPr>
                <a:t>说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矩形 30748"/>
          <p:cNvSpPr txBox="1"/>
          <p:nvPr/>
        </p:nvSpPr>
        <p:spPr>
          <a:xfrm>
            <a:off x="4572000" y="228600"/>
            <a:ext cx="40384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看谁说得棒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文本框 104449"/>
          <p:cNvSpPr/>
          <p:nvPr/>
        </p:nvSpPr>
        <p:spPr>
          <a:xfrm>
            <a:off x="533520" y="35053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04450"/>
          <p:cNvSpPr/>
          <p:nvPr/>
        </p:nvSpPr>
        <p:spPr>
          <a:xfrm>
            <a:off x="304920" y="1774800"/>
            <a:ext cx="8534160" cy="24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知内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你想用哪句话来表达你对安塞腰鼓的感情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组合 104451"/>
          <p:cNvGrpSpPr/>
          <p:nvPr/>
        </p:nvGrpSpPr>
        <p:grpSpPr>
          <a:xfrm>
            <a:off x="533520" y="5181480"/>
            <a:ext cx="3047400" cy="1600200"/>
            <a:chOff x="533520" y="5181480"/>
            <a:chExt cx="3047400" cy="1600200"/>
          </a:xfrm>
        </p:grpSpPr>
        <p:sp>
          <p:nvSpPr>
            <p:cNvPr id="145" name="十字星 104452"/>
            <p:cNvSpPr/>
            <p:nvPr/>
          </p:nvSpPr>
          <p:spPr>
            <a:xfrm>
              <a:off x="1904760" y="6095880"/>
              <a:ext cx="837720" cy="685800"/>
            </a:xfrm>
            <a:custGeom>
              <a:avLst/>
              <a:gdLst>
                <a:gd name="textAreaLeft" fmla="*/ 345240 w 837720"/>
                <a:gd name="textAreaRight" fmla="*/ 492480 w 837720"/>
                <a:gd name="textAreaTop" fmla="*/ 282600 h 685800"/>
                <a:gd name="textAreaBottom" fmla="*/ 4032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十字星 104453"/>
            <p:cNvSpPr/>
            <p:nvPr/>
          </p:nvSpPr>
          <p:spPr>
            <a:xfrm>
              <a:off x="2742840" y="5181480"/>
              <a:ext cx="838080" cy="685800"/>
            </a:xfrm>
            <a:custGeom>
              <a:avLst/>
              <a:gdLst>
                <a:gd name="textAreaLeft" fmla="*/ 345240 w 838080"/>
                <a:gd name="textAreaRight" fmla="*/ 492840 w 838080"/>
                <a:gd name="textAreaTop" fmla="*/ 282600 h 685800"/>
                <a:gd name="textAreaBottom" fmla="*/ 4032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十字星 104454"/>
            <p:cNvSpPr/>
            <p:nvPr/>
          </p:nvSpPr>
          <p:spPr>
            <a:xfrm>
              <a:off x="533520" y="5257440"/>
              <a:ext cx="837720" cy="685800"/>
            </a:xfrm>
            <a:custGeom>
              <a:avLst/>
              <a:gdLst>
                <a:gd name="textAreaLeft" fmla="*/ 345240 w 837720"/>
                <a:gd name="textAreaRight" fmla="*/ 492480 w 837720"/>
                <a:gd name="textAreaTop" fmla="*/ 282600 h 685800"/>
                <a:gd name="textAreaBottom" fmla="*/ 4032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00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云形标注 104455"/>
          <p:cNvSpPr/>
          <p:nvPr/>
        </p:nvSpPr>
        <p:spPr>
          <a:xfrm>
            <a:off x="3809880" y="4267080"/>
            <a:ext cx="5334120" cy="2514600"/>
          </a:xfrm>
          <a:prstGeom prst="cloudCallout">
            <a:avLst>
              <a:gd name="adj1" fmla="val -19643"/>
              <a:gd name="adj2" fmla="val 46337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组合 104456"/>
          <p:cNvGrpSpPr/>
          <p:nvPr/>
        </p:nvGrpSpPr>
        <p:grpSpPr>
          <a:xfrm>
            <a:off x="0" y="-15840"/>
            <a:ext cx="2209680" cy="1387440"/>
            <a:chOff x="0" y="-15840"/>
            <a:chExt cx="2209680" cy="1387440"/>
          </a:xfrm>
        </p:grpSpPr>
        <p:sp>
          <p:nvSpPr>
            <p:cNvPr id="150" name="椭圆 104457"/>
            <p:cNvSpPr/>
            <p:nvPr/>
          </p:nvSpPr>
          <p:spPr>
            <a:xfrm>
              <a:off x="0" y="0"/>
              <a:ext cx="2209680" cy="13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文本框 104458"/>
            <p:cNvSpPr/>
            <p:nvPr/>
          </p:nvSpPr>
          <p:spPr>
            <a:xfrm>
              <a:off x="152280" y="-15840"/>
              <a:ext cx="1828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0000"/>
                  </a:solidFill>
                  <a:latin typeface="Times New Roman"/>
                </a:rPr>
                <a:t>说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矩形 104459"/>
          <p:cNvSpPr txBox="1"/>
          <p:nvPr/>
        </p:nvSpPr>
        <p:spPr>
          <a:xfrm>
            <a:off x="4572000" y="228600"/>
            <a:ext cx="40384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看谁说得棒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图片 2066" descr="背景5"/>
          <p:cNvPicPr/>
          <p:nvPr/>
        </p:nvPicPr>
        <p:blipFill>
          <a:blip r:embed="rId1"/>
          <a:stretch/>
        </p:blipFill>
        <p:spPr>
          <a:xfrm>
            <a:off x="0" y="0"/>
            <a:ext cx="9372600" cy="7021440"/>
          </a:xfrm>
          <a:prstGeom prst="rect">
            <a:avLst/>
          </a:prstGeom>
          <a:ln w="0">
            <a:noFill/>
          </a:ln>
        </p:spPr>
      </p:pic>
      <p:sp>
        <p:nvSpPr>
          <p:cNvPr id="154" name="任意多边形 2057"/>
          <p:cNvSpPr/>
          <p:nvPr/>
        </p:nvSpPr>
        <p:spPr>
          <a:xfrm>
            <a:off x="1752480" y="1981080"/>
            <a:ext cx="6782040" cy="4496040"/>
          </a:xfrm>
          <a:custGeom>
            <a:avLst/>
            <a:gdLst/>
            <a:ahLst/>
            <a:rect l="l" t="t" r="r" b="b"/>
            <a:pathLst>
              <a:path w="4272" h="2832">
                <a:moveTo>
                  <a:pt x="48" y="432"/>
                </a:moveTo>
                <a:lnTo>
                  <a:pt x="1200" y="96"/>
                </a:lnTo>
                <a:lnTo>
                  <a:pt x="2112" y="0"/>
                </a:lnTo>
                <a:lnTo>
                  <a:pt x="2736" y="48"/>
                </a:lnTo>
                <a:lnTo>
                  <a:pt x="3504" y="240"/>
                </a:lnTo>
                <a:lnTo>
                  <a:pt x="4272" y="432"/>
                </a:lnTo>
                <a:lnTo>
                  <a:pt x="4176" y="624"/>
                </a:lnTo>
                <a:lnTo>
                  <a:pt x="4128" y="864"/>
                </a:lnTo>
                <a:lnTo>
                  <a:pt x="4128" y="1152"/>
                </a:lnTo>
                <a:lnTo>
                  <a:pt x="4128" y="1536"/>
                </a:lnTo>
                <a:lnTo>
                  <a:pt x="4176" y="2016"/>
                </a:lnTo>
                <a:lnTo>
                  <a:pt x="4224" y="2304"/>
                </a:lnTo>
                <a:lnTo>
                  <a:pt x="3600" y="2544"/>
                </a:lnTo>
                <a:lnTo>
                  <a:pt x="2976" y="2736"/>
                </a:lnTo>
                <a:lnTo>
                  <a:pt x="2448" y="2832"/>
                </a:lnTo>
                <a:lnTo>
                  <a:pt x="2016" y="2832"/>
                </a:lnTo>
                <a:lnTo>
                  <a:pt x="1344" y="2688"/>
                </a:lnTo>
                <a:lnTo>
                  <a:pt x="624" y="2496"/>
                </a:lnTo>
                <a:lnTo>
                  <a:pt x="0" y="2304"/>
                </a:lnTo>
                <a:lnTo>
                  <a:pt x="96" y="2256"/>
                </a:lnTo>
                <a:lnTo>
                  <a:pt x="144" y="1920"/>
                </a:lnTo>
                <a:lnTo>
                  <a:pt x="192" y="1440"/>
                </a:lnTo>
                <a:lnTo>
                  <a:pt x="192" y="1056"/>
                </a:lnTo>
                <a:lnTo>
                  <a:pt x="144" y="624"/>
                </a:lnTo>
                <a:lnTo>
                  <a:pt x="48" y="43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椭圆 2059"/>
          <p:cNvSpPr/>
          <p:nvPr/>
        </p:nvSpPr>
        <p:spPr>
          <a:xfrm>
            <a:off x="8305920" y="2666880"/>
            <a:ext cx="533160" cy="2971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组合 2060"/>
          <p:cNvGrpSpPr/>
          <p:nvPr/>
        </p:nvGrpSpPr>
        <p:grpSpPr>
          <a:xfrm>
            <a:off x="1523880" y="1981080"/>
            <a:ext cx="7010640" cy="4496040"/>
            <a:chOff x="1523880" y="1981080"/>
            <a:chExt cx="7010640" cy="4496040"/>
          </a:xfrm>
        </p:grpSpPr>
        <p:sp>
          <p:nvSpPr>
            <p:cNvPr id="157" name="椭圆 2061"/>
            <p:cNvSpPr/>
            <p:nvPr/>
          </p:nvSpPr>
          <p:spPr>
            <a:xfrm>
              <a:off x="1523880" y="2666880"/>
              <a:ext cx="53352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任意多边形 2062"/>
            <p:cNvSpPr/>
            <p:nvPr/>
          </p:nvSpPr>
          <p:spPr>
            <a:xfrm>
              <a:off x="1828800" y="1981080"/>
              <a:ext cx="6705720" cy="685800"/>
            </a:xfrm>
            <a:custGeom>
              <a:avLst/>
              <a:gdLst/>
              <a:ahLst/>
              <a:rect l="l" t="t" r="r" b="b"/>
              <a:pathLst>
                <a:path w="4224" h="432">
                  <a:moveTo>
                    <a:pt x="0" y="432"/>
                  </a:moveTo>
                  <a:cubicBezTo>
                    <a:pt x="728" y="216"/>
                    <a:pt x="1456" y="0"/>
                    <a:pt x="2160" y="0"/>
                  </a:cubicBezTo>
                  <a:cubicBezTo>
                    <a:pt x="2864" y="0"/>
                    <a:pt x="3880" y="360"/>
                    <a:pt x="4224" y="432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任意多边形 2063"/>
            <p:cNvSpPr/>
            <p:nvPr/>
          </p:nvSpPr>
          <p:spPr>
            <a:xfrm>
              <a:off x="1752480" y="5638680"/>
              <a:ext cx="6782040" cy="838440"/>
            </a:xfrm>
            <a:custGeom>
              <a:avLst/>
              <a:gdLst/>
              <a:ahLst/>
              <a:rect l="l" t="t" r="r" b="b"/>
              <a:pathLst>
                <a:path w="4272" h="528">
                  <a:moveTo>
                    <a:pt x="0" y="0"/>
                  </a:moveTo>
                  <a:cubicBezTo>
                    <a:pt x="796" y="264"/>
                    <a:pt x="1592" y="528"/>
                    <a:pt x="2304" y="528"/>
                  </a:cubicBezTo>
                  <a:cubicBezTo>
                    <a:pt x="3016" y="528"/>
                    <a:pt x="3944" y="88"/>
                    <a:pt x="4272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文本框 2065"/>
          <p:cNvSpPr/>
          <p:nvPr/>
        </p:nvSpPr>
        <p:spPr>
          <a:xfrm>
            <a:off x="2514600" y="2943360"/>
            <a:ext cx="54864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好一个安塞腰鼓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好一个黄土高原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067"/>
          <p:cNvSpPr txBox="1"/>
          <p:nvPr/>
        </p:nvSpPr>
        <p:spPr>
          <a:xfrm>
            <a:off x="2209680" y="380880"/>
            <a:ext cx="495324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350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安塞腰鼓</a:t>
            </a:r>
            <a:endParaRPr b="1" i="1" lang="en-US" sz="6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 spd="slow">
    <p:random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9%BC%93%E5%A3%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文本框 114689"/>
          <p:cNvSpPr/>
          <p:nvPr/>
        </p:nvSpPr>
        <p:spPr>
          <a:xfrm>
            <a:off x="533520" y="35053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14690"/>
          <p:cNvSpPr/>
          <p:nvPr/>
        </p:nvSpPr>
        <p:spPr>
          <a:xfrm>
            <a:off x="0" y="1828800"/>
            <a:ext cx="9144000" cy="47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悟主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好一个安塞腰鼓，好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—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好一个黄土高原，好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—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114691"/>
          <p:cNvGrpSpPr/>
          <p:nvPr/>
        </p:nvGrpSpPr>
        <p:grpSpPr>
          <a:xfrm>
            <a:off x="0" y="0"/>
            <a:ext cx="2209680" cy="1387440"/>
            <a:chOff x="0" y="0"/>
            <a:chExt cx="2209680" cy="1387440"/>
          </a:xfrm>
        </p:grpSpPr>
        <p:sp>
          <p:nvSpPr>
            <p:cNvPr id="165" name="椭圆 114692"/>
            <p:cNvSpPr/>
            <p:nvPr/>
          </p:nvSpPr>
          <p:spPr>
            <a:xfrm>
              <a:off x="0" y="15840"/>
              <a:ext cx="2209680" cy="13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文本框 114693"/>
            <p:cNvSpPr/>
            <p:nvPr/>
          </p:nvSpPr>
          <p:spPr>
            <a:xfrm>
              <a:off x="152280" y="0"/>
              <a:ext cx="1828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0000"/>
                  </a:solidFill>
                  <a:latin typeface="Times New Roman"/>
                </a:rPr>
                <a:t>悟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者简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刘成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生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3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陕西延安市人，现任陕西省作家协会副主席，中国散文学会常务理事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散文集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羊想云彩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获首届鲁迅文学奖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安塞腰鼓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8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，它是一曲陕北人生命、活力的火烈颂歌，是一首黄土高原沉实、厚重内蕴的诗性礼赞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14341" descr="goo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726320" y="4800600"/>
            <a:ext cx="14176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文本框 99329"/>
          <p:cNvSpPr/>
          <p:nvPr/>
        </p:nvSpPr>
        <p:spPr>
          <a:xfrm>
            <a:off x="533520" y="350532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99330"/>
          <p:cNvSpPr/>
          <p:nvPr/>
        </p:nvSpPr>
        <p:spPr>
          <a:xfrm>
            <a:off x="-380880" y="1371600"/>
            <a:ext cx="8458200" cy="69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品语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铿锵的短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生动的比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、激昂的排比、反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9" name="组合 99331"/>
          <p:cNvGrpSpPr/>
          <p:nvPr/>
        </p:nvGrpSpPr>
        <p:grpSpPr>
          <a:xfrm>
            <a:off x="-76320" y="5181480"/>
            <a:ext cx="3048120" cy="1600200"/>
            <a:chOff x="-76320" y="5181480"/>
            <a:chExt cx="3048120" cy="1600200"/>
          </a:xfrm>
        </p:grpSpPr>
        <p:sp>
          <p:nvSpPr>
            <p:cNvPr id="170" name="十字星 99332"/>
            <p:cNvSpPr/>
            <p:nvPr/>
          </p:nvSpPr>
          <p:spPr>
            <a:xfrm>
              <a:off x="1295280" y="6095880"/>
              <a:ext cx="838080" cy="685800"/>
            </a:xfrm>
            <a:custGeom>
              <a:avLst/>
              <a:gdLst>
                <a:gd name="textAreaLeft" fmla="*/ 345240 w 838080"/>
                <a:gd name="textAreaRight" fmla="*/ 492840 w 838080"/>
                <a:gd name="textAreaTop" fmla="*/ 282600 h 685800"/>
                <a:gd name="textAreaBottom" fmla="*/ 4032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十字星 99333"/>
            <p:cNvSpPr/>
            <p:nvPr/>
          </p:nvSpPr>
          <p:spPr>
            <a:xfrm>
              <a:off x="2133360" y="5181480"/>
              <a:ext cx="838440" cy="685800"/>
            </a:xfrm>
            <a:custGeom>
              <a:avLst/>
              <a:gdLst>
                <a:gd name="textAreaLeft" fmla="*/ 345600 w 838440"/>
                <a:gd name="textAreaRight" fmla="*/ 492840 w 838440"/>
                <a:gd name="textAreaTop" fmla="*/ 282600 h 685800"/>
                <a:gd name="textAreaBottom" fmla="*/ 4032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十字星 99334"/>
            <p:cNvSpPr/>
            <p:nvPr/>
          </p:nvSpPr>
          <p:spPr>
            <a:xfrm>
              <a:off x="-76320" y="5257440"/>
              <a:ext cx="838080" cy="685800"/>
            </a:xfrm>
            <a:custGeom>
              <a:avLst/>
              <a:gdLst>
                <a:gd name="textAreaLeft" fmla="*/ 345240 w 838080"/>
                <a:gd name="textAreaRight" fmla="*/ 492840 w 838080"/>
                <a:gd name="textAreaTop" fmla="*/ 282600 h 685800"/>
                <a:gd name="textAreaBottom" fmla="*/ 4032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波形 99335"/>
          <p:cNvSpPr/>
          <p:nvPr/>
        </p:nvSpPr>
        <p:spPr>
          <a:xfrm>
            <a:off x="3200400" y="5334120"/>
            <a:ext cx="5791320" cy="1676160"/>
          </a:xfrm>
          <a:custGeom>
            <a:avLst/>
            <a:gdLst>
              <a:gd name="textAreaLeft" fmla="*/ 0 w 5791320"/>
              <a:gd name="textAreaRight" fmla="*/ 5791680 w 5791320"/>
              <a:gd name="textAreaTop" fmla="*/ 435960 h 1676160"/>
              <a:gd name="textAreaBottom" fmla="*/ 1240200 h 1676160"/>
            </a:gdLst>
            <a:ahLst/>
            <a:rect l="textAreaLeft" t="textAreaTop" r="textAreaRight" b="textAreaBottom"/>
            <a:pathLst>
              <a:path w="21600" h="21600">
                <a:moveTo>
                  <a:pt x="0" y="2809"/>
                </a:moveTo>
                <a:cubicBezTo>
                  <a:pt x="7200" y="-7142"/>
                  <a:pt x="14400" y="12760"/>
                  <a:pt x="21600" y="2809"/>
                </a:cubicBezTo>
                <a:lnTo>
                  <a:pt x="21600" y="18791"/>
                </a:lnTo>
                <a:cubicBezTo>
                  <a:pt x="14400" y="28742"/>
                  <a:pt x="7200" y="8840"/>
                  <a:pt x="0" y="18791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组合 99336"/>
          <p:cNvGrpSpPr/>
          <p:nvPr/>
        </p:nvGrpSpPr>
        <p:grpSpPr>
          <a:xfrm>
            <a:off x="0" y="0"/>
            <a:ext cx="2209680" cy="1387440"/>
            <a:chOff x="0" y="0"/>
            <a:chExt cx="2209680" cy="1387440"/>
          </a:xfrm>
        </p:grpSpPr>
        <p:sp>
          <p:nvSpPr>
            <p:cNvPr id="175" name="椭圆 99337"/>
            <p:cNvSpPr/>
            <p:nvPr/>
          </p:nvSpPr>
          <p:spPr>
            <a:xfrm>
              <a:off x="0" y="15840"/>
              <a:ext cx="2209680" cy="13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文本框 99338"/>
            <p:cNvSpPr/>
            <p:nvPr/>
          </p:nvSpPr>
          <p:spPr>
            <a:xfrm>
              <a:off x="152280" y="0"/>
              <a:ext cx="182844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0000"/>
                  </a:solidFill>
                  <a:latin typeface="Times New Roman"/>
                </a:rPr>
                <a:t>品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文本框 54273"/>
          <p:cNvSpPr/>
          <p:nvPr/>
        </p:nvSpPr>
        <p:spPr>
          <a:xfrm>
            <a:off x="228600" y="4908600"/>
            <a:ext cx="8915400" cy="13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文大量运用排比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些排比句使文章气势恢宏，语气连贯，节奏明快，充分赞美了激荡的生命和磅礴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力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54274"/>
          <p:cNvSpPr/>
          <p:nvPr/>
        </p:nvSpPr>
        <p:spPr>
          <a:xfrm>
            <a:off x="228600" y="228600"/>
            <a:ext cx="8686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指出下列语段运用了哪些修辞手法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并指出其表达效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54275"/>
          <p:cNvSpPr/>
          <p:nvPr/>
        </p:nvSpPr>
        <p:spPr>
          <a:xfrm>
            <a:off x="0" y="1676520"/>
            <a:ext cx="9144000" cy="59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捶起来就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发狠了，忘情了，没命了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百十个斜背响鼓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后生</a:t>
            </a:r>
            <a:r>
              <a:rPr b="0" lang="zh-CN" sz="2800" spc="-1" strike="noStrike" u="sng">
                <a:solidFill>
                  <a:srgbClr val="333399"/>
                </a:solidFill>
                <a:uFillTx/>
                <a:latin typeface="Times New Roman"/>
              </a:rPr>
              <a:t>，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百十个被强震不断激起的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石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狂舞在你的面前。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骤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样，</a:t>
            </a:r>
            <a:r>
              <a:rPr b="0" lang="zh-CN" sz="2800" spc="-1" strike="noStrike" u="sng">
                <a:solidFill>
                  <a:srgbClr val="333399"/>
                </a:solidFill>
                <a:uFillTx/>
                <a:latin typeface="Times New Roman"/>
              </a:rPr>
              <a:t>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急促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脚步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；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旋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样，</a:t>
            </a:r>
            <a:r>
              <a:rPr b="0" lang="zh-CN" sz="2800" spc="-1" strike="noStrike" u="sng">
                <a:solidFill>
                  <a:srgbClr val="333399"/>
                </a:solidFill>
                <a:uFillTx/>
                <a:latin typeface="Times New Roman"/>
              </a:rPr>
              <a:t>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飞扬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流苏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；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乱蛙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样，</a:t>
            </a:r>
            <a:r>
              <a:rPr b="0" lang="zh-CN" sz="2800" spc="-1" strike="noStrike" u="sng">
                <a:solidFill>
                  <a:srgbClr val="333399"/>
                </a:solidFill>
                <a:uFillTx/>
                <a:latin typeface="Times New Roman"/>
              </a:rPr>
              <a:t>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蹦跳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脚步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</a:rPr>
              <a:t>；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火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样，</a:t>
            </a:r>
            <a:r>
              <a:rPr b="0" lang="zh-CN" sz="2800" spc="-1" strike="noStrike" u="sng">
                <a:solidFill>
                  <a:srgbClr val="333399"/>
                </a:solidFill>
                <a:uFillTx/>
                <a:latin typeface="Times New Roman"/>
              </a:rPr>
              <a:t>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闪射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瞳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斗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样，</a:t>
            </a:r>
            <a:r>
              <a:rPr b="0" lang="zh-CN" sz="2800" spc="-1" strike="noStrike" u="sng">
                <a:solidFill>
                  <a:srgbClr val="333399"/>
                </a:solidFill>
                <a:uFillTx/>
                <a:latin typeface="Times New Roman"/>
              </a:rPr>
              <a:t>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强健的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Times New Roman"/>
              </a:rPr>
              <a:t>风姿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。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黄土高原上，爆出一场多么</a:t>
            </a:r>
            <a:r>
              <a:rPr b="0" lang="zh-CN" sz="2800" spc="-1" strike="noStrike" u="sng">
                <a:solidFill>
                  <a:srgbClr val="ff3300"/>
                </a:solidFill>
                <a:uFillTx/>
                <a:latin typeface="Times New Roman"/>
              </a:rPr>
              <a:t>壮阔、多么豪放、多么火烈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的舞蹈哇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——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安塞腰鼓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文本框 39939"/>
          <p:cNvSpPr/>
          <p:nvPr/>
        </p:nvSpPr>
        <p:spPr>
          <a:xfrm>
            <a:off x="304920" y="7621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)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骤雨一样，是急促的鼓点；旋风一样，是飞扬的流苏；乱蛙一样，是蹦跳的脚步；火花一样，是闪射的瞳仁；斗虎一样，是强健的风姿”写得好，好在比喻使对象更加形象具体，从而铺排出一系列异彩纷呈的画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39940"/>
          <p:cNvSpPr/>
          <p:nvPr/>
        </p:nvSpPr>
        <p:spPr>
          <a:xfrm>
            <a:off x="304920" y="4495680"/>
            <a:ext cx="8076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文中的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反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得好，好在使语言节奏明快，形象深刻清晰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文本框 67585"/>
          <p:cNvSpPr/>
          <p:nvPr/>
        </p:nvSpPr>
        <p:spPr>
          <a:xfrm>
            <a:off x="250920" y="3141720"/>
            <a:ext cx="867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狂舞在你的面前，骤雨一样，是急促的鼓点；旋风一样，是飞扬的流苏；乱蛙一样，是蹦跳的脚步；火花一样，是闪射的瞳仁；斗虎一样，是强健的风姿。”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67586"/>
          <p:cNvSpPr/>
          <p:nvPr/>
        </p:nvSpPr>
        <p:spPr>
          <a:xfrm>
            <a:off x="324000" y="1197000"/>
            <a:ext cx="8507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锤起来就发狠了，忘情了，没命了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67587"/>
          <p:cNvSpPr/>
          <p:nvPr/>
        </p:nvSpPr>
        <p:spPr>
          <a:xfrm>
            <a:off x="1644120" y="260280"/>
            <a:ext cx="304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句内部的排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67588"/>
          <p:cNvSpPr/>
          <p:nvPr/>
        </p:nvSpPr>
        <p:spPr>
          <a:xfrm>
            <a:off x="1847520" y="2205000"/>
            <a:ext cx="365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⑵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句与句之间的排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文本框 68609"/>
          <p:cNvSpPr/>
          <p:nvPr/>
        </p:nvSpPr>
        <p:spPr>
          <a:xfrm>
            <a:off x="0" y="134136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人想起：落日照大旗，马鸣风潇潇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人想起：千里的雷声万里的闪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使人想起：晦暗了又明晰、明晰了又晦暗、而后最终永远明晰了的大彻大悟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68610"/>
          <p:cNvSpPr/>
          <p:nvPr/>
        </p:nvSpPr>
        <p:spPr>
          <a:xfrm>
            <a:off x="179280" y="3789360"/>
            <a:ext cx="8964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些排比句使文章气势恢宏，语气连贯，节奏明快，语句铿锵，能表达出强烈的思想感情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68611"/>
          <p:cNvSpPr/>
          <p:nvPr/>
        </p:nvSpPr>
        <p:spPr>
          <a:xfrm>
            <a:off x="1961640" y="304920"/>
            <a:ext cx="347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段与段之间的排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对文本写作特点分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形式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0" y="5638680"/>
            <a:ext cx="8763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结构方面：以“好一个安塞腰鼓”为线索，反复使用，形成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回还往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气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9224"/>
          <p:cNvSpPr/>
          <p:nvPr/>
        </p:nvSpPr>
        <p:spPr>
          <a:xfrm>
            <a:off x="0" y="114300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句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方面：铿锵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短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运用，营造了激越的氛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9225"/>
          <p:cNvSpPr/>
          <p:nvPr/>
        </p:nvSpPr>
        <p:spPr>
          <a:xfrm>
            <a:off x="0" y="2438280"/>
            <a:ext cx="9144000" cy="13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修辞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方面：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综合运用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排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反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修辞手法，增强气势，充分表现了生 命和力量喷薄而出的神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对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手法，以水乡比照高原的力量之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3886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用词方面说：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43011"/>
          <p:cNvSpPr/>
          <p:nvPr/>
        </p:nvSpPr>
        <p:spPr>
          <a:xfrm>
            <a:off x="0" y="4568760"/>
            <a:ext cx="937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3)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腰鼓，使冰冷的空气立即变得燥热了，使恬静的阳光立即变得飞溅了，使困倦的世界立即变得亢奋了”中反义词用得好，好在它们对比强烈，更能突出安塞腰鼓的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43012"/>
          <p:cNvSpPr/>
          <p:nvPr/>
        </p:nvSpPr>
        <p:spPr>
          <a:xfrm>
            <a:off x="0" y="2895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2)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茂腾腾的后生”“咝溜溜的南风”中的“茂腾腾”“咝溜溜”用得好，好在叠词的运用使语言亲切富有韵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文本框 43013"/>
          <p:cNvSpPr/>
          <p:nvPr/>
        </p:nvSpPr>
        <p:spPr>
          <a:xfrm>
            <a:off x="0" y="609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)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紧贴在他们身体一侧的腰鼓，呆呆地，似乎从来不曾响过”一句中“呆呆地”用得好，好在它用拟人手法形象地写出了安静时安塞腰鼓的状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文本框 38915"/>
          <p:cNvSpPr/>
          <p:nvPr/>
        </p:nvSpPr>
        <p:spPr>
          <a:xfrm>
            <a:off x="0" y="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句式上说：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38916"/>
          <p:cNvSpPr/>
          <p:nvPr/>
        </p:nvSpPr>
        <p:spPr>
          <a:xfrm>
            <a:off x="0" y="457200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3)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但是”与“看”独立成段好，好在它们特别引人注目，自然完成画面由静到动的急转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8917"/>
          <p:cNvSpPr/>
          <p:nvPr/>
        </p:nvSpPr>
        <p:spPr>
          <a:xfrm>
            <a:off x="0" y="2514600"/>
            <a:ext cx="899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2)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交织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旋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凝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奔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辐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翻飞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升华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!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些短句用得好，好在它们使文章语句铿锵，气势强劲，突出了安塞腰鼓的豪放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38918"/>
          <p:cNvSpPr/>
          <p:nvPr/>
        </p:nvSpPr>
        <p:spPr>
          <a:xfrm>
            <a:off x="0" y="6858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)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捶起来就发狠了，忘情了，没命了”中“发狠”“忘情”“没命”用得好，好在它们语意层层递进，语势步步增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0" y="-360"/>
            <a:ext cx="3124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写法上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文本框 41988"/>
          <p:cNvSpPr/>
          <p:nvPr/>
        </p:nvSpPr>
        <p:spPr>
          <a:xfrm>
            <a:off x="0" y="3733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文中开头的静态描写好，好在它为文章后面写动设下铺垫，使文章静中蕴动，动静结合，充满画面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41989"/>
          <p:cNvSpPr/>
          <p:nvPr/>
        </p:nvSpPr>
        <p:spPr>
          <a:xfrm>
            <a:off x="0" y="762120"/>
            <a:ext cx="8991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人想起：落日照大旗，马鸣风萧萧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人想起：千里的雷声万里的闪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人想起：晦暗了又明晰、明晰了又晦暗、尔后最终永远明晰了的大彻大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!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写得好，好在它使人产生了丰富的联想和想像，增加了文章的内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文本框 20487"/>
          <p:cNvSpPr/>
          <p:nvPr/>
        </p:nvSpPr>
        <p:spPr>
          <a:xfrm>
            <a:off x="88920" y="-4680"/>
            <a:ext cx="82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细黑"/>
              </a:rPr>
              <a:t>安塞腰鼓需要能够承载这样原始粗犷的生命力量的厚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图片 20491" descr="a71f3df4735459c87709d7ba"/>
          <p:cNvPicPr/>
          <p:nvPr/>
        </p:nvPicPr>
        <p:blipFill>
          <a:blip r:embed="rId1"/>
          <a:stretch/>
        </p:blipFill>
        <p:spPr>
          <a:xfrm>
            <a:off x="88920" y="1182600"/>
            <a:ext cx="9074160" cy="56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24579" descr="dilisusan200609300001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图片 20483" descr="43a7dedce3ec1ef577c638cf"/>
          <p:cNvPicPr/>
          <p:nvPr/>
        </p:nvPicPr>
        <p:blipFill>
          <a:blip r:embed="rId1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  <p:sp>
        <p:nvSpPr>
          <p:cNvPr id="207" name="文本框 20488"/>
          <p:cNvSpPr/>
          <p:nvPr/>
        </p:nvSpPr>
        <p:spPr>
          <a:xfrm>
            <a:off x="5802480" y="488952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江南水表现柔媚的风格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文本框 20489"/>
          <p:cNvSpPr/>
          <p:nvPr/>
        </p:nvSpPr>
        <p:spPr>
          <a:xfrm>
            <a:off x="0" y="0"/>
            <a:ext cx="917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为什么“多水的江南”打不得这样的腰鼓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图片 25603" descr="xhbwork_1074783143"/>
          <p:cNvPicPr/>
          <p:nvPr/>
        </p:nvPicPr>
        <p:blipFill>
          <a:blip r:embed="rId1"/>
          <a:srcRect l="0" t="0" r="0" b="8445"/>
          <a:stretch/>
        </p:blipFill>
        <p:spPr>
          <a:xfrm>
            <a:off x="0" y="-2232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210" name="矩形 25604"/>
          <p:cNvSpPr txBox="1"/>
          <p:nvPr/>
        </p:nvSpPr>
        <p:spPr>
          <a:xfrm>
            <a:off x="1752480" y="585720"/>
            <a:ext cx="63248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耳畔是一声渺远的鸡啼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1" name="文本框 25605"/>
          <p:cNvSpPr/>
          <p:nvPr/>
        </p:nvSpPr>
        <p:spPr>
          <a:xfrm>
            <a:off x="457200" y="480060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这里是反衬写法，是在“以声写静”，更加突出了鼓声止后的寂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1320" y="-1800"/>
            <a:ext cx="3783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文章主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文本框 10247"/>
          <p:cNvSpPr/>
          <p:nvPr/>
        </p:nvSpPr>
        <p:spPr>
          <a:xfrm>
            <a:off x="152280" y="6172200"/>
            <a:ext cx="899172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人就应该这样痛快淋漓地生活、表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文本框 10248"/>
          <p:cNvSpPr/>
          <p:nvPr/>
        </p:nvSpPr>
        <p:spPr>
          <a:xfrm>
            <a:off x="152280" y="4572000"/>
            <a:ext cx="8991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歌颂阳刚之美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一群”“朴实得就像那片高粱”的“茂腾腾的后生”，他们“释放出那么气味磅礴的能量”，表现了一种独特的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10249"/>
          <p:cNvSpPr/>
          <p:nvPr/>
        </p:nvSpPr>
        <p:spPr>
          <a:xfrm>
            <a:off x="228600" y="259092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表现要冲破束缚、阻碍的强烈愿望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贫瘠的黄土地、困倦的生活，生活在这里的人们，物质上、精神上受到太多的压抑、羁绊。、安塞腰鼓，表现了挣脱、冲破、撞开这一切因袭负重的力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文本框 10250"/>
          <p:cNvSpPr/>
          <p:nvPr/>
        </p:nvSpPr>
        <p:spPr>
          <a:xfrm>
            <a:off x="228600" y="15238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歌颂生命中奔腾的力量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这股力量，这股力量由西北汉子热情奔放的腰鼓表现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92160" y="938160"/>
            <a:ext cx="9051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篇文章气势恢宏，语气连贯，节奏明快，语句铿锵，写出了安塞腰鼓壮阔、豪放、火烈的特点。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表达出作者赞美了安塞腰鼓强健的舞姿、沉重的响声、震撼人心的力量的强烈的思想感情；也赞美陕北高原人们粗矿、豪迈、开放的性格特征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文章多处运用排比、比喻，使文章气势恢宏，节奏明快，每个词语都简洁有力，每个句子都激越豪壮，增强了文章感人力量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609480" y="33523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模仿文中的排比写一段话，描述一个表演场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36867"/>
          <p:cNvSpPr txBox="1"/>
          <p:nvPr/>
        </p:nvSpPr>
        <p:spPr>
          <a:xfrm>
            <a:off x="685800" y="914400"/>
            <a:ext cx="31240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作业：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pic>
        <p:nvPicPr>
          <p:cNvPr id="222" name="图片 36868" descr="27456"/>
          <p:cNvPicPr/>
          <p:nvPr/>
        </p:nvPicPr>
        <p:blipFill>
          <a:blip r:embed="rId4"/>
          <a:stretch/>
        </p:blipFill>
        <p:spPr>
          <a:xfrm>
            <a:off x="0" y="5329080"/>
            <a:ext cx="2743200" cy="15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0" y="0"/>
            <a:ext cx="9144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群茂腾腾的后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9218" descr="000C72523748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10241" descr="sf_200661516423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0" y="0"/>
            <a:ext cx="914400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们的身后是一片高粱地。他们朴实得就像那片高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1265" descr="p1500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0" y="5632560"/>
            <a:ext cx="9144000" cy="12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咝溜溜的南风吹动了高粱叶子，也吹动了他们的衣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45059" descr="20090125092056708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15T07:35:30Z</dcterms:created>
  <dc:creator/>
  <dc:description/>
  <dc:language>en-US</dc:language>
  <cp:lastModifiedBy>Administrator</cp:lastModifiedBy>
  <dcterms:modified xsi:type="dcterms:W3CDTF">2020-04-15T08:29:25Z</dcterms:modified>
  <cp:revision>5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8.0.5715</vt:lpwstr>
  </property>
  <property fmtid="{D5CDD505-2E9C-101B-9397-08002B2CF9AE}" pid="3" name="Version">
    <vt:r8>1</vt:r8>
  </property>
</Properties>
</file>