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B3818-EC9D-4ABC-86FC-F87803A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E310-74C6-429C-8441-DA836EA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0C76-70B3-4300-A998-E45CBE8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D09A-384C-4E38-BCC7-D588403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FC62-C706-4C7D-B8CF-DCB0D01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6E239-8801-4AAB-B733-97FE325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AEDD-EB3F-4BDD-842E-513661B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2E61-220F-4A81-B11F-68D46DC5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DE324-AA4A-4EEC-861C-090E95C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DFEB-C519-4787-BFF7-D03E284A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2362-3CB2-4E5B-8D1D-DED64BF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7DA52-C48E-4C00-8929-ACFA9A4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C1B35-B52C-4511-A469-900CEFC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3A25-FAD2-47C5-A7A5-88B4588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3AEE-A7A8-4DE8-AE79-35DC8762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68CF-6270-4697-9E2B-8E2F3EC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B7324-9DB2-4470-B244-52041FA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C7203-646E-44EC-A54C-8ACA04A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2807-3EBD-49CB-A858-E9604E0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2215-C6F4-48B2-B01A-E539880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387E-369A-4E23-9A5D-3195F054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454D8-4AD5-4F47-A82E-46E5D234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E75CA-5C46-43C9-90D7-6CE53DD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A95EA-B902-40AE-AB55-23DC8A64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5144-3A28-421C-9CD0-4489C63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C776-3A56-4FD4-9ADC-F3E804E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0FAB1-6071-4B42-A361-8FF3BB1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B638B-9A7A-4838-87D8-5A647D1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E0289-62F6-4965-A646-2831165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C3574-BEE7-456D-87B2-BCADE1E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ACF5-AA69-473E-A14D-1495B149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755AD-B268-40A8-8906-EDB912F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7A81-022A-497C-8DAA-DA2B669A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1E87A-067B-4CCF-9979-4A474E4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7619E-1E16-4AD1-8277-D0206F2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85C20-27B8-433C-B2C6-C6F0BC2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CF4B5-D0FE-4D3D-A112-82BD9E0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6DB32-8223-4A28-8FFA-3584C66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70DFE-291A-4878-8C87-96F491B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2E8AD-6AAA-4E19-977E-2048A32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279E9-9A7F-421E-AE1E-83E4073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51E74-412A-485A-8EE7-0CC1A2A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344EB-B33F-4090-9FE2-FAD97D47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E90B8-61C8-4260-A662-E83F214C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CB406-8530-4BBB-B1ED-2745A712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01B8-6BC6-47A3-9FCC-E977D353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CD46-FED3-47D2-9F05-8273D0D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0DEE-2360-44FF-A1B1-63628A9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2FB9-2999-4E7B-849B-26FA4746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0D899-07E9-49DB-85FC-A499F36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AEF8-4FBE-4188-9AF3-291CF957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2A78-5DA3-48FE-A07C-D18CD17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4D054-0C75-4DEA-B0A1-16EA4F3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D7E7-AAA8-40B4-8CD2-2AB0AB5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C67A-674F-45B1-B5BC-F21261F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E290-DE97-4FAE-9A8C-643BAFFC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19739-BE92-46FC-A1AE-6F53B38B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C765C-9EF6-44B5-A8B7-E16B697B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B30D-3444-4A4C-AEDE-C94DBE45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AACD-6F9A-4CA3-8193-CE8E08A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83BF-5ED9-4874-9809-7E97DDB5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2A7A3-31A5-4C00-94A4-9159082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9501-8AEC-4806-ADFC-2932671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0732F-B1FC-4B4C-883B-202B0CC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3930B-335E-479C-AE3C-CA5AE63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1800-2FB0-4C34-B90E-14007F2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CCB1A-823A-46E9-8D6F-FCE17CF6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B6845-1DA2-481C-A9E3-B0702661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AE47C-AF4C-48C7-9605-78C3E35C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9F02-D0C6-4E80-A487-5859838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E8C8-AF11-4C7D-ABB5-04ED6486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E8DC-F828-484B-89DE-B24C65C6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8C55-D0EA-46C9-8884-B8A3D6B6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C394-A9C6-4BC6-86AD-EE77D57B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F3A4-476F-4BF7-A28A-3DC8282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883E-94A4-4F3B-BCF5-365F3643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E5AA-3A5C-4CC5-A98E-07D935C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0EB8-012B-4DE6-B965-B698C86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D04C-8718-4302-B91E-BC3F3DD6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3730-664F-41CF-8955-8FE7CD56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B699-FC97-4F7A-ACD6-220DA8A2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E44A-FA4A-46BF-897E-BED7B75E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5243-7657-47F3-A1B3-325875E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53CBE-8AB9-42E5-9E47-E76325B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0ED8-27D7-467C-A332-4CF2751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100C-7DDD-4669-ADAD-0BC3F87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1CF0-493A-4F4A-9F0C-7C677C2A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A0E0-6270-4275-B023-8CA4BBC5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779F-DB83-4F9F-865E-299CD42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F49D-5D9F-4384-AE49-3A8D438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A816-5DE8-41F6-8413-CBFEFF2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56FE-C58E-4D93-AD23-D9753459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2F28-8D40-4276-B120-99579F45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6FE4-53C6-4860-995E-FD5B0AA9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4B14-9DFA-4FA9-9FBC-33F28F1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6145-E83D-46B4-BE74-F8CD192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60FB-0A63-4CDA-ACF0-1B8F2D75A7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C66-09BC-4672-9F03-347B5CEFC8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146B-DFE0-42F5-B8F5-2964E84CD1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E92-307A-4DD1-AD1C-ED9D784698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06F6-3DD8-4FF2-95CF-7C00F2EE6D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3D2-1EC9-45E3-B96B-0F320CD86F4E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50F1-DF14-4066-833D-7194555417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AFA-8104-442E-B0FE-84D2EB50AF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146-9B59-4745-8F63-758E67FAC3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37E-6468-4D60-99D1-7FCB40D399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81923" descr="200691518470181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3"/>
          <p:cNvSpPr/>
          <p:nvPr/>
        </p:nvSpPr>
        <p:spPr>
          <a:xfrm>
            <a:off x="2756160" y="0"/>
            <a:ext cx="3472560" cy="825120"/>
          </a:xfrm>
          <a:prstGeom prst="rect">
            <a:avLst/>
          </a:prstGeom>
          <a:solidFill>
            <a:srgbClr val="f3f3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华文中宋"/>
              </a:rPr>
              <a:t>春夜宴从弟桃花园序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矩形 81924"/>
          <p:cNvSpPr/>
          <p:nvPr/>
        </p:nvSpPr>
        <p:spPr>
          <a:xfrm>
            <a:off x="3878280" y="6172200"/>
            <a:ext cx="50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3f3f1"/>
                </a:solidFill>
                <a:latin typeface="黑体"/>
                <a:ea typeface="黑体"/>
              </a:rPr>
              <a:t>張孝友 李白春夜宴桃李園序圖</a:t>
            </a:r>
            <a:r>
              <a:rPr b="1" lang="zh-TW" sz="1800" spc="-1" strike="noStrike">
                <a:solidFill>
                  <a:srgbClr val="f3f3f1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148481"/>
          <p:cNvSpPr/>
          <p:nvPr/>
        </p:nvSpPr>
        <p:spPr>
          <a:xfrm>
            <a:off x="0" y="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构分析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1" name="左大括号 148483"/>
          <p:cNvSpPr/>
          <p:nvPr/>
        </p:nvSpPr>
        <p:spPr>
          <a:xfrm>
            <a:off x="1371600" y="198108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文本框 148484"/>
          <p:cNvSpPr/>
          <p:nvPr/>
        </p:nvSpPr>
        <p:spPr>
          <a:xfrm>
            <a:off x="1116360" y="838080"/>
            <a:ext cx="11552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夜宴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原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左大括号 148486"/>
          <p:cNvSpPr/>
          <p:nvPr/>
        </p:nvSpPr>
        <p:spPr>
          <a:xfrm>
            <a:off x="2362320" y="99072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左大括号 148487"/>
          <p:cNvSpPr/>
          <p:nvPr/>
        </p:nvSpPr>
        <p:spPr>
          <a:xfrm>
            <a:off x="2286000" y="37339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200 h 2361960"/>
              <a:gd name="textAreaBottom" fmla="*/ 230076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右大括号 148494"/>
          <p:cNvSpPr/>
          <p:nvPr/>
        </p:nvSpPr>
        <p:spPr>
          <a:xfrm>
            <a:off x="7086600" y="2057400"/>
            <a:ext cx="228600" cy="3124080"/>
          </a:xfrm>
          <a:custGeom>
            <a:avLst/>
            <a:gdLst>
              <a:gd name="textAreaLeft" fmla="*/ 0 w 228600"/>
              <a:gd name="textAreaRight" fmla="*/ 82440 w 228600"/>
              <a:gd name="textAreaTop" fmla="*/ 81000 h 3124080"/>
              <a:gd name="textAreaBottom" fmla="*/ 304308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文本框 148495"/>
          <p:cNvSpPr/>
          <p:nvPr/>
        </p:nvSpPr>
        <p:spPr>
          <a:xfrm>
            <a:off x="6984000" y="1523880"/>
            <a:ext cx="1155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墨客云集    精神盛宴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矩形 148496"/>
          <p:cNvSpPr/>
          <p:nvPr/>
        </p:nvSpPr>
        <p:spPr>
          <a:xfrm>
            <a:off x="3331080" y="762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人生短暂，韶光易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矩形 148498"/>
          <p:cNvSpPr/>
          <p:nvPr/>
        </p:nvSpPr>
        <p:spPr>
          <a:xfrm>
            <a:off x="3200040" y="1523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效仿古人，及时行乐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矩形 148499"/>
          <p:cNvSpPr/>
          <p:nvPr/>
        </p:nvSpPr>
        <p:spPr>
          <a:xfrm>
            <a:off x="3331080" y="2286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美景在前，不容辜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文本框 148500"/>
          <p:cNvSpPr/>
          <p:nvPr/>
        </p:nvSpPr>
        <p:spPr>
          <a:xfrm>
            <a:off x="533520" y="1828800"/>
            <a:ext cx="76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春夜宴从弟桃花园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文本框 148501"/>
          <p:cNvSpPr/>
          <p:nvPr/>
        </p:nvSpPr>
        <p:spPr>
          <a:xfrm>
            <a:off x="1600200" y="35053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夜宴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经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文本框 148503"/>
          <p:cNvSpPr/>
          <p:nvPr/>
        </p:nvSpPr>
        <p:spPr>
          <a:xfrm>
            <a:off x="2438280" y="3505320"/>
            <a:ext cx="4343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俊秀云集，纵情适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高谈阔论，清谈玄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赏花弄月，传杯递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仿古雅趣，罚酒吟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3" name="文本框 148504"/>
          <p:cNvSpPr/>
          <p:nvPr/>
        </p:nvSpPr>
        <p:spPr>
          <a:xfrm>
            <a:off x="4306680" y="18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议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4" name="文本框 148505"/>
          <p:cNvSpPr/>
          <p:nvPr/>
        </p:nvSpPr>
        <p:spPr>
          <a:xfrm>
            <a:off x="418608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叙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文本框 148506"/>
          <p:cNvSpPr/>
          <p:nvPr/>
        </p:nvSpPr>
        <p:spPr>
          <a:xfrm>
            <a:off x="6401880" y="4435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乐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文本框 148507"/>
          <p:cNvSpPr/>
          <p:nvPr/>
        </p:nvSpPr>
        <p:spPr>
          <a:xfrm>
            <a:off x="8139240" y="214200"/>
            <a:ext cx="6094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方正舒体"/>
              </a:rPr>
              <a:t>热爱生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方正舒体"/>
              </a:rPr>
              <a:t>热爱生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方正舒体"/>
              </a:rPr>
              <a:t>热爱自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99329"/>
          <p:cNvSpPr/>
          <p:nvPr/>
        </p:nvSpPr>
        <p:spPr>
          <a:xfrm>
            <a:off x="0" y="533520"/>
            <a:ext cx="52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、金谷酒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晋代石崇，官至卫尉卿。豪富甲天下，生活极端奢侈。有金谷园，曾与友人宴饮其中，作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金谷诗序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：“遂各赋诗，以叙中怀。或不能者，罚酒三斗。”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圆角矩形标注 99330"/>
          <p:cNvSpPr/>
          <p:nvPr/>
        </p:nvSpPr>
        <p:spPr>
          <a:xfrm>
            <a:off x="5005440" y="2514600"/>
            <a:ext cx="4138560" cy="3168720"/>
          </a:xfrm>
          <a:prstGeom prst="wedgeRoundRectCallout">
            <a:avLst>
              <a:gd name="adj1" fmla="val -42865"/>
              <a:gd name="adj2" fmla="val -58768"/>
              <a:gd name="adj3" fmla="val 16667"/>
            </a:avLst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金谷园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杜牧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繁华事散逐香尘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流水无情草自春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日暮东风怨啼鸟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落花犹似坠楼人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椭圆 99331"/>
          <p:cNvSpPr/>
          <p:nvPr/>
        </p:nvSpPr>
        <p:spPr>
          <a:xfrm>
            <a:off x="8604360" y="6524640"/>
            <a:ext cx="360360" cy="333360"/>
          </a:xfrm>
          <a:prstGeom prst="ellipse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文本框 99332"/>
          <p:cNvSpPr/>
          <p:nvPr/>
        </p:nvSpPr>
        <p:spPr>
          <a:xfrm>
            <a:off x="304920" y="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文言典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文本框 100353"/>
          <p:cNvSpPr/>
          <p:nvPr/>
        </p:nvSpPr>
        <p:spPr>
          <a:xfrm>
            <a:off x="228600" y="401760"/>
            <a:ext cx="86868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逆旅：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旅舍。逆，迎接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古人以生为寄，以死为归，如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古诗十九首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》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：“人生天地间，忽如远行客。”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此用其意。寓逆旅主人，日再食，无鲜肥滋味之享。 </a:t>
            </a:r>
            <a:br>
              <a:rPr sz="4000"/>
            </a:b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               </a:t>
            </a:r>
            <a:r>
              <a:rPr b="1" lang="en-US" sz="4000" spc="-1" strike="noStrike">
                <a:solidFill>
                  <a:srgbClr val="333333"/>
                </a:solidFill>
                <a:latin typeface="Arial"/>
                <a:ea typeface="宋体"/>
              </a:rPr>
              <a:t>——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Arial Black"/>
                <a:ea typeface="宋体"/>
              </a:rPr>
              <a:t>送东阳马生序</a:t>
            </a:r>
            <a:r>
              <a:rPr b="1" lang="en-US" sz="4000" spc="-1" strike="noStrike">
                <a:solidFill>
                  <a:srgbClr val="333333"/>
                </a:solidFill>
                <a:latin typeface="Arial Black"/>
                <a:ea typeface="宋体"/>
              </a:rPr>
              <a:t>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2" name="椭圆 100354"/>
          <p:cNvSpPr/>
          <p:nvPr/>
        </p:nvSpPr>
        <p:spPr>
          <a:xfrm>
            <a:off x="8604360" y="6524640"/>
            <a:ext cx="360360" cy="333360"/>
          </a:xfrm>
          <a:prstGeom prst="ellipse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01377"/>
          <p:cNvSpPr/>
          <p:nvPr/>
        </p:nvSpPr>
        <p:spPr>
          <a:xfrm>
            <a:off x="304920" y="685800"/>
            <a:ext cx="8153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浮生若梦：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      </a:t>
            </a:r>
            <a:r>
              <a:rPr b="1" lang="en-US" sz="4400" spc="-1" strike="noStrike">
                <a:solidFill>
                  <a:srgbClr val="333333"/>
                </a:solidFill>
                <a:latin typeface="Arial Black"/>
                <a:ea typeface="宋体"/>
              </a:rPr>
              <a:t>《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庄子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•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刻意</a:t>
            </a:r>
            <a:r>
              <a:rPr b="1" lang="en-US" sz="4400" spc="-1" strike="noStrike">
                <a:solidFill>
                  <a:srgbClr val="333333"/>
                </a:solidFill>
                <a:latin typeface="Arial Black"/>
                <a:ea typeface="宋体"/>
              </a:rPr>
              <a:t>》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有“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宋体"/>
              </a:rPr>
              <a:t>其生若浮，其死若休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”的话，故后人常说“浮生”；又</a:t>
            </a:r>
            <a:r>
              <a:rPr b="1" lang="en-US" sz="4400" spc="-1" strike="noStrike">
                <a:solidFill>
                  <a:srgbClr val="333333"/>
                </a:solidFill>
                <a:latin typeface="Arial Black"/>
                <a:ea typeface="宋体"/>
              </a:rPr>
              <a:t>《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庄子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•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齐物论</a:t>
            </a:r>
            <a:r>
              <a:rPr b="1" lang="en-US" sz="4400" spc="-1" strike="noStrike">
                <a:solidFill>
                  <a:srgbClr val="333333"/>
                </a:solidFill>
                <a:latin typeface="Arial Black"/>
                <a:ea typeface="宋体"/>
              </a:rPr>
              <a:t>》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有庄周梦蝶的故事，表达的意思是：死生之差异，就好像梦与醒之不同，纷纭变化，不可穷诘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椭圆 101378"/>
          <p:cNvSpPr/>
          <p:nvPr/>
        </p:nvSpPr>
        <p:spPr>
          <a:xfrm>
            <a:off x="8604360" y="6524640"/>
            <a:ext cx="360360" cy="333360"/>
          </a:xfrm>
          <a:prstGeom prst="ellipse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文本框 103425"/>
          <p:cNvSpPr/>
          <p:nvPr/>
        </p:nvSpPr>
        <p:spPr>
          <a:xfrm>
            <a:off x="304920" y="1219320"/>
            <a:ext cx="883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群季俊秀，皆为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 Black"/>
                <a:ea typeface="宋体"/>
              </a:rPr>
              <a:t>惠连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。吾人咏歌，独惭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 Black"/>
                <a:ea typeface="宋体"/>
              </a:rPr>
              <a:t>康乐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 Black"/>
                <a:ea typeface="宋体"/>
              </a:rPr>
              <a:t>惠连：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南朝宋文学家，幼而聪慧，十岁便能作文，深为族兄谢灵运所赏爱，常一同写作游乐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 Black"/>
                <a:ea typeface="宋体"/>
              </a:rPr>
              <a:t>康乐：</a:t>
            </a:r>
            <a:r>
              <a:rPr b="1" lang="zh-CN" sz="4400" spc="-1" strike="noStrike">
                <a:solidFill>
                  <a:srgbClr val="333333"/>
                </a:solidFill>
                <a:latin typeface="Arial Black"/>
                <a:ea typeface="宋体"/>
              </a:rPr>
              <a:t>谢灵运，袭封康乐公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椭圆 103426"/>
          <p:cNvSpPr/>
          <p:nvPr/>
        </p:nvSpPr>
        <p:spPr>
          <a:xfrm>
            <a:off x="8604360" y="6524640"/>
            <a:ext cx="360360" cy="333360"/>
          </a:xfrm>
          <a:prstGeom prst="ellipse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1" descr=""/>
          <p:cNvPicPr/>
          <p:nvPr/>
        </p:nvPicPr>
        <p:blipFill>
          <a:blip r:embed="rId2"/>
          <a:srcRect l="6219" t="10935" r="21177" b="6803"/>
          <a:stretch/>
        </p:blipFill>
        <p:spPr>
          <a:xfrm>
            <a:off x="0" y="158760"/>
            <a:ext cx="904716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图片 1" descr=""/>
          <p:cNvPicPr/>
          <p:nvPr/>
        </p:nvPicPr>
        <p:blipFill>
          <a:blip r:embed="rId2"/>
          <a:srcRect l="15044" t="2545" r="11169" b="8919"/>
          <a:stretch/>
        </p:blipFill>
        <p:spPr>
          <a:xfrm>
            <a:off x="0" y="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成语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151515"/>
                </a:solidFill>
                <a:latin typeface="Times New Roman"/>
              </a:rPr>
              <a:t>金谷酒数：罚酒三斗的隐语。后泛指宴会上罚酒三杯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3616560" y="25844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5"/>
                </a:solidFill>
                <a:latin typeface="Arial"/>
                <a:ea typeface="宋体"/>
              </a:rPr>
              <a:t>秉烛夜游：秉：执持。旧时比喻及时行乐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3036600" y="4097160"/>
            <a:ext cx="21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5"/>
                </a:solidFill>
                <a:latin typeface="Arial"/>
                <a:ea typeface="宋体"/>
              </a:rPr>
              <a:t>天伦之乐：天伦：旧指父子、兄弟等亲属关系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5"/>
                </a:solidFill>
                <a:latin typeface="Arial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151515"/>
                </a:solidFill>
                <a:latin typeface="Arial"/>
                <a:ea typeface="宋体"/>
              </a:rPr>
              <a:t>泛指家庭的乐趣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250920" y="54450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1515"/>
                </a:solidFill>
                <a:latin typeface="Arial"/>
                <a:ea typeface="宋体"/>
              </a:rPr>
              <a:t>久假不归：假：借；归：归还。原指假借仁义的名义而不真正实行， 后指长期借用而不归还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105479"/>
          <p:cNvSpPr txBox="1"/>
          <p:nvPr/>
        </p:nvSpPr>
        <p:spPr>
          <a:xfrm>
            <a:off x="2743200" y="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归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5" name="文本框 105481"/>
          <p:cNvSpPr/>
          <p:nvPr/>
        </p:nvSpPr>
        <p:spPr>
          <a:xfrm>
            <a:off x="533520" y="12193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通假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矩形 105482"/>
          <p:cNvSpPr/>
          <p:nvPr/>
        </p:nvSpPr>
        <p:spPr>
          <a:xfrm>
            <a:off x="1789560" y="2057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序天伦之乐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矩形 105483"/>
          <p:cNvSpPr/>
          <p:nvPr/>
        </p:nvSpPr>
        <p:spPr>
          <a:xfrm>
            <a:off x="4814280" y="2133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序，通“叙”，畅叙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文本框 105484"/>
          <p:cNvSpPr/>
          <p:nvPr/>
        </p:nvSpPr>
        <p:spPr>
          <a:xfrm>
            <a:off x="685800" y="27432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古今异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文本框 105485"/>
          <p:cNvSpPr/>
          <p:nvPr/>
        </p:nvSpPr>
        <p:spPr>
          <a:xfrm>
            <a:off x="-304920" y="33526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大块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假我以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文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文本框 105487"/>
          <p:cNvSpPr/>
          <p:nvPr/>
        </p:nvSpPr>
        <p:spPr>
          <a:xfrm>
            <a:off x="-228600" y="54864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群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季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俊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文本框 105488"/>
          <p:cNvSpPr/>
          <p:nvPr/>
        </p:nvSpPr>
        <p:spPr>
          <a:xfrm>
            <a:off x="2286000" y="54864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古义，弟弟。今义，季节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矩形 105489"/>
          <p:cNvSpPr/>
          <p:nvPr/>
        </p:nvSpPr>
        <p:spPr>
          <a:xfrm>
            <a:off x="762120" y="4191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大块：古义，大自然。今义：大的块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文章：古义，原指错杂的色彩、花纹。文中指大自然中各种美好的形象、色彩、声音等。今义：篇幅不很长的单篇作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108551"/>
          <p:cNvSpPr/>
          <p:nvPr/>
        </p:nvSpPr>
        <p:spPr>
          <a:xfrm>
            <a:off x="914400" y="9144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词类活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文本框 108552"/>
          <p:cNvSpPr/>
          <p:nvPr/>
        </p:nvSpPr>
        <p:spPr>
          <a:xfrm>
            <a:off x="685800" y="42670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高谈转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清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文本框 108553"/>
          <p:cNvSpPr/>
          <p:nvPr/>
        </p:nvSpPr>
        <p:spPr>
          <a:xfrm>
            <a:off x="5111640" y="167652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动词作名词，诗歌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文本框 108554"/>
          <p:cNvSpPr/>
          <p:nvPr/>
        </p:nvSpPr>
        <p:spPr>
          <a:xfrm>
            <a:off x="990720" y="2286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幽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赏未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文本框 108555"/>
          <p:cNvSpPr/>
          <p:nvPr/>
        </p:nvSpPr>
        <p:spPr>
          <a:xfrm>
            <a:off x="4246560" y="2286000"/>
            <a:ext cx="38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形容词作名词，幽雅的景致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文本框 108556"/>
          <p:cNvSpPr/>
          <p:nvPr/>
        </p:nvSpPr>
        <p:spPr>
          <a:xfrm>
            <a:off x="914400" y="29718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古人秉烛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夜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游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9" name="文本框 108557"/>
          <p:cNvSpPr/>
          <p:nvPr/>
        </p:nvSpPr>
        <p:spPr>
          <a:xfrm>
            <a:off x="4793040" y="2971800"/>
            <a:ext cx="32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名词作状语，在夜里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矩形 108558"/>
          <p:cNvSpPr/>
          <p:nvPr/>
        </p:nvSpPr>
        <p:spPr>
          <a:xfrm>
            <a:off x="838080" y="3657600"/>
            <a:ext cx="8541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文本框 108567"/>
          <p:cNvSpPr/>
          <p:nvPr/>
        </p:nvSpPr>
        <p:spPr>
          <a:xfrm>
            <a:off x="1066680" y="3581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飞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羽觞而醉月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文本框 108568"/>
          <p:cNvSpPr/>
          <p:nvPr/>
        </p:nvSpPr>
        <p:spPr>
          <a:xfrm>
            <a:off x="4038480" y="3581280"/>
            <a:ext cx="510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飞，使动用法，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飞动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文本框 108569"/>
          <p:cNvSpPr/>
          <p:nvPr/>
        </p:nvSpPr>
        <p:spPr>
          <a:xfrm>
            <a:off x="1066680" y="1752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不有佳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咏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，何伸雅怀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文本框 108570"/>
          <p:cNvSpPr/>
          <p:nvPr/>
        </p:nvSpPr>
        <p:spPr>
          <a:xfrm>
            <a:off x="3809880" y="426708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形容词作名词，清新的话题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文本框 108571"/>
          <p:cNvSpPr/>
          <p:nvPr/>
        </p:nvSpPr>
        <p:spPr>
          <a:xfrm>
            <a:off x="609480" y="49528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）如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诗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不成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文本框 108572"/>
          <p:cNvSpPr/>
          <p:nvPr/>
        </p:nvSpPr>
        <p:spPr>
          <a:xfrm>
            <a:off x="3809880" y="495288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名词作动词，写诗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145411"/>
          <p:cNvSpPr/>
          <p:nvPr/>
        </p:nvSpPr>
        <p:spPr>
          <a:xfrm>
            <a:off x="114480" y="1641600"/>
            <a:ext cx="8915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3f3f1"/>
                </a:solidFill>
                <a:latin typeface="楷体_GB2312"/>
              </a:rPr>
              <a:t>夫天地者万物之逆旅也。光阴者百代之过客也。而浮生若梦，为欢几何？古人秉烛夜游，良有以也。况阳春召我以烟景，大块假我以文章。会桃花之芳园，序天伦之乐事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3f3f1"/>
                </a:solidFill>
                <a:latin typeface="楷体_GB2312"/>
              </a:rPr>
              <a:t>群季俊秀，皆为惠连；吾人咏歌，独惭康乐。幽赏未已，高谈转清。开琼筵以坐花，飞羽觞而醉月。不有佳咏，何伸雅怀？如诗不成，罚依金谷酒数</a:t>
            </a:r>
            <a:r>
              <a:rPr b="1" lang="zh-CN" sz="3600" spc="-1" strike="noStrike">
                <a:solidFill>
                  <a:srgbClr val="f3f3f1"/>
                </a:solidFill>
                <a:latin typeface="楷体_GB2312"/>
              </a:rPr>
              <a:t>。</a:t>
            </a:r>
            <a:r>
              <a:rPr b="0" lang="zh-CN" sz="3600" spc="-1" strike="noStrike">
                <a:solidFill>
                  <a:srgbClr val="f3f3f1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标题 145410"/>
          <p:cNvSpPr/>
          <p:nvPr/>
        </p:nvSpPr>
        <p:spPr>
          <a:xfrm>
            <a:off x="539640" y="781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春夜宴从弟桃花园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李白</a:t>
            </a:r>
            <a:br>
              <a:rPr sz="40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李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110599"/>
          <p:cNvSpPr/>
          <p:nvPr/>
        </p:nvSpPr>
        <p:spPr>
          <a:xfrm>
            <a:off x="380880" y="228600"/>
            <a:ext cx="8156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言句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判断句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夫天地者万物之逆旅也；光阴者百代之过客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状语后置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阳春召我以烟景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大块假我以文章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省略句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开琼筵以坐花                             飞羽觞而醉月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12648"/>
          <p:cNvSpPr/>
          <p:nvPr/>
        </p:nvSpPr>
        <p:spPr>
          <a:xfrm>
            <a:off x="838080" y="1066680"/>
            <a:ext cx="8541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词多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文本框 112649"/>
          <p:cNvSpPr/>
          <p:nvPr/>
        </p:nvSpPr>
        <p:spPr>
          <a:xfrm>
            <a:off x="1143000" y="449568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假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左大括号 112650"/>
          <p:cNvSpPr/>
          <p:nvPr/>
        </p:nvSpPr>
        <p:spPr>
          <a:xfrm>
            <a:off x="2362320" y="4267080"/>
            <a:ext cx="533160" cy="1676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文本框 112651"/>
          <p:cNvSpPr/>
          <p:nvPr/>
        </p:nvSpPr>
        <p:spPr>
          <a:xfrm>
            <a:off x="2819520" y="40384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大块假我以文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文本框 112652"/>
          <p:cNvSpPr/>
          <p:nvPr/>
        </p:nvSpPr>
        <p:spPr>
          <a:xfrm>
            <a:off x="6019920" y="4114800"/>
            <a:ext cx="251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给予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3" name="文本框 112653"/>
          <p:cNvSpPr/>
          <p:nvPr/>
        </p:nvSpPr>
        <p:spPr>
          <a:xfrm>
            <a:off x="2448000" y="48006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君子生非异也，善假于物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文本框 112654"/>
          <p:cNvSpPr/>
          <p:nvPr/>
        </p:nvSpPr>
        <p:spPr>
          <a:xfrm>
            <a:off x="6859440" y="47386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借助，凭借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5" name="文本框 112655"/>
          <p:cNvSpPr/>
          <p:nvPr/>
        </p:nvSpPr>
        <p:spPr>
          <a:xfrm>
            <a:off x="2971800" y="5562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因求假暂归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文本框 112656"/>
          <p:cNvSpPr/>
          <p:nvPr/>
        </p:nvSpPr>
        <p:spPr>
          <a:xfrm>
            <a:off x="5356440" y="5562720"/>
            <a:ext cx="1720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假期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文本框 112657"/>
          <p:cNvSpPr/>
          <p:nvPr/>
        </p:nvSpPr>
        <p:spPr>
          <a:xfrm>
            <a:off x="1295280" y="22096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左大括号 112658"/>
          <p:cNvSpPr/>
          <p:nvPr/>
        </p:nvSpPr>
        <p:spPr>
          <a:xfrm>
            <a:off x="2362320" y="1981080"/>
            <a:ext cx="533160" cy="1676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文本框 112659"/>
          <p:cNvSpPr/>
          <p:nvPr/>
        </p:nvSpPr>
        <p:spPr>
          <a:xfrm>
            <a:off x="2895480" y="17524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良有以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0" name="文本框 112660"/>
          <p:cNvSpPr/>
          <p:nvPr/>
        </p:nvSpPr>
        <p:spPr>
          <a:xfrm>
            <a:off x="5105520" y="1752480"/>
            <a:ext cx="251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原因，名词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文本框 112661"/>
          <p:cNvSpPr/>
          <p:nvPr/>
        </p:nvSpPr>
        <p:spPr>
          <a:xfrm>
            <a:off x="2895480" y="25146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开琼筵以坐花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文本框 112662"/>
          <p:cNvSpPr/>
          <p:nvPr/>
        </p:nvSpPr>
        <p:spPr>
          <a:xfrm>
            <a:off x="5257800" y="259092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用来；来。连词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文本框 112663"/>
          <p:cNvSpPr/>
          <p:nvPr/>
        </p:nvSpPr>
        <p:spPr>
          <a:xfrm>
            <a:off x="2895480" y="33526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况阳春召我以烟景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文本框 112664"/>
          <p:cNvSpPr/>
          <p:nvPr/>
        </p:nvSpPr>
        <p:spPr>
          <a:xfrm>
            <a:off x="6172200" y="3429000"/>
            <a:ext cx="251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用，介词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文本框 94211"/>
          <p:cNvSpPr/>
          <p:nvPr/>
        </p:nvSpPr>
        <p:spPr>
          <a:xfrm>
            <a:off x="914400" y="190512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良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左大括号 94212"/>
          <p:cNvSpPr/>
          <p:nvPr/>
        </p:nvSpPr>
        <p:spPr>
          <a:xfrm>
            <a:off x="1905120" y="1295280"/>
            <a:ext cx="720720" cy="2376720"/>
          </a:xfrm>
          <a:custGeom>
            <a:avLst/>
            <a:gdLst>
              <a:gd name="textAreaLeft" fmla="*/ 460440 w 720720"/>
              <a:gd name="textAreaRight" fmla="*/ 721080 w 720720"/>
              <a:gd name="textAreaTop" fmla="*/ 61560 h 2376720"/>
              <a:gd name="textAreaBottom" fmla="*/ 231516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文本框 94213"/>
          <p:cNvSpPr/>
          <p:nvPr/>
        </p:nvSpPr>
        <p:spPr>
          <a:xfrm>
            <a:off x="1547640" y="692280"/>
            <a:ext cx="3095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buClr>
                <a:srgbClr val="cc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文本框 94214"/>
          <p:cNvSpPr/>
          <p:nvPr/>
        </p:nvSpPr>
        <p:spPr>
          <a:xfrm>
            <a:off x="2590920" y="11430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良有以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文本框 94215"/>
          <p:cNvSpPr/>
          <p:nvPr/>
        </p:nvSpPr>
        <p:spPr>
          <a:xfrm>
            <a:off x="2362320" y="17524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廉颇者，赵之良将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文本框 94216"/>
          <p:cNvSpPr/>
          <p:nvPr/>
        </p:nvSpPr>
        <p:spPr>
          <a:xfrm>
            <a:off x="2209680" y="2286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感我此言良久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文本框 94217"/>
          <p:cNvSpPr/>
          <p:nvPr/>
        </p:nvSpPr>
        <p:spPr>
          <a:xfrm>
            <a:off x="2286000" y="27432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良庖岁更刀，割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文本框 94218"/>
          <p:cNvSpPr/>
          <p:nvPr/>
        </p:nvSpPr>
        <p:spPr>
          <a:xfrm>
            <a:off x="2514600" y="33526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此去经年，应是良辰好景虚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文本框 94224"/>
          <p:cNvSpPr/>
          <p:nvPr/>
        </p:nvSpPr>
        <p:spPr>
          <a:xfrm>
            <a:off x="5029200" y="1143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确实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4" name="文本框 94225"/>
          <p:cNvSpPr/>
          <p:nvPr/>
        </p:nvSpPr>
        <p:spPr>
          <a:xfrm>
            <a:off x="5791320" y="175248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优秀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文本框 94226"/>
          <p:cNvSpPr/>
          <p:nvPr/>
        </p:nvSpPr>
        <p:spPr>
          <a:xfrm>
            <a:off x="5105520" y="2286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很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文本框 94227"/>
          <p:cNvSpPr/>
          <p:nvPr/>
        </p:nvSpPr>
        <p:spPr>
          <a:xfrm>
            <a:off x="5562720" y="27432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好的，高明的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文本框 94228"/>
          <p:cNvSpPr/>
          <p:nvPr/>
        </p:nvSpPr>
        <p:spPr>
          <a:xfrm>
            <a:off x="7192080" y="335268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美好的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文本框 94233"/>
          <p:cNvSpPr/>
          <p:nvPr/>
        </p:nvSpPr>
        <p:spPr>
          <a:xfrm>
            <a:off x="990720" y="449568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左大括号 94234"/>
          <p:cNvSpPr/>
          <p:nvPr/>
        </p:nvSpPr>
        <p:spPr>
          <a:xfrm>
            <a:off x="1981080" y="4495680"/>
            <a:ext cx="685800" cy="1295640"/>
          </a:xfrm>
          <a:custGeom>
            <a:avLst/>
            <a:gdLst>
              <a:gd name="textAreaLeft" fmla="*/ 438120 w 685800"/>
              <a:gd name="textAreaRight" fmla="*/ 686160 w 68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文本框 94235"/>
          <p:cNvSpPr/>
          <p:nvPr/>
        </p:nvSpPr>
        <p:spPr>
          <a:xfrm>
            <a:off x="2514600" y="4419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万物之逆旅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文本框 94236"/>
          <p:cNvSpPr/>
          <p:nvPr/>
        </p:nvSpPr>
        <p:spPr>
          <a:xfrm>
            <a:off x="5029200" y="52578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补助音节，不译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文本框 94237"/>
          <p:cNvSpPr/>
          <p:nvPr/>
        </p:nvSpPr>
        <p:spPr>
          <a:xfrm>
            <a:off x="2590920" y="52578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会桃花之芳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文本框 94238"/>
          <p:cNvSpPr/>
          <p:nvPr/>
        </p:nvSpPr>
        <p:spPr>
          <a:xfrm>
            <a:off x="5486400" y="4419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的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395280" y="62064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黑体"/>
              </a:rPr>
              <a:t>文章小结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黑体"/>
              </a:rPr>
              <a:t>(</a:t>
            </a: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黑体"/>
              </a:rPr>
              <a:t>主题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黑体"/>
              </a:rPr>
              <a:t>)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468360" y="177336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通过记写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兄弟春夜宴游之乐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，表达作者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热爱生活和自然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的雅兴逸致。虽有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浮生若梦、及时行乐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的消极思想，但格调积极，显示了诗人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洒脱旷达</a:t>
            </a: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的性格特点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图片 81923" descr="200691518470181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  <p:sp>
        <p:nvSpPr>
          <p:cNvPr id="717" name="文本框 3"/>
          <p:cNvSpPr/>
          <p:nvPr/>
        </p:nvSpPr>
        <p:spPr>
          <a:xfrm>
            <a:off x="2756160" y="0"/>
            <a:ext cx="3472560" cy="825120"/>
          </a:xfrm>
          <a:prstGeom prst="rect">
            <a:avLst/>
          </a:prstGeom>
          <a:solidFill>
            <a:srgbClr val="f3f3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华文中宋"/>
              </a:rPr>
              <a:t>春夜宴从弟桃花园序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文本框 1"/>
          <p:cNvSpPr/>
          <p:nvPr/>
        </p:nvSpPr>
        <p:spPr>
          <a:xfrm>
            <a:off x="8246880" y="830160"/>
            <a:ext cx="729000" cy="6027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上联：天地浮生秉烛为欢劝君更尽一杯酒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9" name="文本框 2"/>
          <p:cNvSpPr/>
          <p:nvPr/>
        </p:nvSpPr>
        <p:spPr>
          <a:xfrm>
            <a:off x="-351360" y="909720"/>
            <a:ext cx="2008800" cy="59482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下联：桃李芳园坐花月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与尔同销万古愁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图片 1" descr=""/>
          <p:cNvPicPr/>
          <p:nvPr/>
        </p:nvPicPr>
        <p:blipFill>
          <a:blip r:embed="rId2"/>
          <a:stretch/>
        </p:blipFill>
        <p:spPr>
          <a:xfrm>
            <a:off x="-1349280" y="0"/>
            <a:ext cx="1043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2590920" y="1523880"/>
            <a:ext cx="624816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大多数时候，生命或多或少，都会给我们暗黑的底子，有的人偏要把它涂成明亮的彩色，有的人，却在黑暗中沉沦下去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林徽因：人间四月天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2" name="Picture 3" descr="17h_5"/>
          <p:cNvPicPr/>
          <p:nvPr/>
        </p:nvPicPr>
        <p:blipFill>
          <a:blip r:embed="rId2"/>
          <a:stretch/>
        </p:blipFill>
        <p:spPr>
          <a:xfrm>
            <a:off x="0" y="0"/>
            <a:ext cx="2998800" cy="6858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22"/>
          <p:cNvPicPr/>
          <p:nvPr/>
        </p:nvPicPr>
        <p:blipFill>
          <a:blip r:embed="rId3"/>
          <a:srcRect l="21094" t="20939" r="29689" b="32292"/>
          <a:stretch/>
        </p:blipFill>
        <p:spPr>
          <a:xfrm>
            <a:off x="0" y="0"/>
            <a:ext cx="20574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1" descr=""/>
          <p:cNvPicPr/>
          <p:nvPr/>
        </p:nvPicPr>
        <p:blipFill>
          <a:blip r:embed="rId2"/>
          <a:stretch/>
        </p:blipFill>
        <p:spPr>
          <a:xfrm>
            <a:off x="-628560" y="0"/>
            <a:ext cx="101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70657"/>
          <p:cNvSpPr/>
          <p:nvPr/>
        </p:nvSpPr>
        <p:spPr>
          <a:xfrm>
            <a:off x="266760" y="25236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夫天地者万物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逆旅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；光阴者百代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过客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浮生若梦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为欢几何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古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秉烛夜游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，良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有以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况阳春召我以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烟景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大块假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我以文章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会桃花之芳园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序</a:t>
            </a:r>
            <a:r>
              <a:rPr b="1" lang="zh-CN" sz="3200" spc="-1" strike="noStrike" u="sng">
                <a:solidFill>
                  <a:srgbClr val="f3f3f1"/>
                </a:solidFill>
                <a:uFillTx/>
                <a:latin typeface="黑体"/>
                <a:ea typeface="黑体"/>
              </a:rPr>
              <a:t>天伦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之乐事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文本框 70658"/>
          <p:cNvSpPr/>
          <p:nvPr/>
        </p:nvSpPr>
        <p:spPr>
          <a:xfrm>
            <a:off x="1523880" y="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逆旅：旅舍。逆，古意“迎接”。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文本框 70659"/>
          <p:cNvSpPr/>
          <p:nvPr/>
        </p:nvSpPr>
        <p:spPr>
          <a:xfrm>
            <a:off x="5334120" y="83808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过客：过往的客人。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李白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拟古十二首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其九：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生者为过客。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"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椭圆形标注 70660"/>
          <p:cNvSpPr/>
          <p:nvPr/>
        </p:nvSpPr>
        <p:spPr>
          <a:xfrm>
            <a:off x="3733920" y="1600200"/>
            <a:ext cx="3276360" cy="609480"/>
          </a:xfrm>
          <a:prstGeom prst="wedgeEllipseCallout">
            <a:avLst>
              <a:gd name="adj1" fmla="val -42296"/>
              <a:gd name="adj2" fmla="val 81250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有以：有原因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文本框 70661"/>
          <p:cNvSpPr/>
          <p:nvPr/>
        </p:nvSpPr>
        <p:spPr>
          <a:xfrm>
            <a:off x="2286000" y="2895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烟景：风景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8" name="文本框 70662"/>
          <p:cNvSpPr/>
          <p:nvPr/>
        </p:nvSpPr>
        <p:spPr>
          <a:xfrm>
            <a:off x="4343400" y="289548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大块：大地，大自然。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椭圆形标注 70663"/>
          <p:cNvSpPr/>
          <p:nvPr/>
        </p:nvSpPr>
        <p:spPr>
          <a:xfrm>
            <a:off x="6248520" y="2209680"/>
            <a:ext cx="2895480" cy="609840"/>
          </a:xfrm>
          <a:prstGeom prst="wedgeEllipseCallout">
            <a:avLst>
              <a:gd name="adj1" fmla="val -87995"/>
              <a:gd name="adj2" fmla="val 143490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假：借，助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文本框 70664"/>
          <p:cNvSpPr/>
          <p:nvPr/>
        </p:nvSpPr>
        <p:spPr>
          <a:xfrm>
            <a:off x="4419720" y="388620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指兄弟聚会之乐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文本框 70665"/>
          <p:cNvSpPr/>
          <p:nvPr/>
        </p:nvSpPr>
        <p:spPr>
          <a:xfrm>
            <a:off x="2286000" y="388620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序：通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叙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文本框 70666"/>
          <p:cNvSpPr/>
          <p:nvPr/>
        </p:nvSpPr>
        <p:spPr>
          <a:xfrm>
            <a:off x="0" y="47052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黑体"/>
                <a:ea typeface="黑体"/>
              </a:rPr>
              <a:t>参考译文：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天地是万物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旅舍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，光阴是百代不停的过客，而人生漂浮无常，就像一场梦，欢乐的日子能有多少呢 </a:t>
            </a:r>
            <a:r>
              <a:rPr b="1" lang="en-US" sz="2400" spc="-1" strike="noStrike">
                <a:solidFill>
                  <a:srgbClr val="f3f3f1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古人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持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烛火在夜里游玩，确实是有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原因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的啊。何况那温暖的春天用淡烟轻雾的美景召唤我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大自然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把五彩缤纷的花纹图案提供给我。聚会在桃李芬芳的花园，我们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叙谈兄弟</a:t>
            </a:r>
            <a:r>
              <a:rPr b="1" lang="zh-CN" sz="2400" spc="-1" strike="noStrike">
                <a:solidFill>
                  <a:srgbClr val="f3f3f1"/>
                </a:solidFill>
                <a:latin typeface="黑体"/>
                <a:ea typeface="黑体"/>
              </a:rPr>
              <a:t>之间的欢乐事情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3" name="直接连接符 70667"/>
          <p:cNvSpPr/>
          <p:nvPr/>
        </p:nvSpPr>
        <p:spPr>
          <a:xfrm>
            <a:off x="2514600" y="3809880"/>
            <a:ext cx="12193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直接连接符 70668"/>
          <p:cNvSpPr/>
          <p:nvPr/>
        </p:nvSpPr>
        <p:spPr>
          <a:xfrm>
            <a:off x="5715000" y="3809880"/>
            <a:ext cx="12193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椭圆形标注 70669"/>
          <p:cNvSpPr/>
          <p:nvPr/>
        </p:nvSpPr>
        <p:spPr>
          <a:xfrm>
            <a:off x="6934320" y="3733920"/>
            <a:ext cx="2361960" cy="609480"/>
          </a:xfrm>
          <a:prstGeom prst="wedgeEllipseCallout">
            <a:avLst>
              <a:gd name="adj1" fmla="val -67875"/>
              <a:gd name="adj2" fmla="val -43226"/>
            </a:avLst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状语后置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直接连接符 70670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椭圆形标注 70671"/>
          <p:cNvSpPr/>
          <p:nvPr/>
        </p:nvSpPr>
        <p:spPr>
          <a:xfrm>
            <a:off x="6781680" y="0"/>
            <a:ext cx="2133720" cy="533520"/>
          </a:xfrm>
          <a:prstGeom prst="wedgeEllipseCallout">
            <a:avLst>
              <a:gd name="adj1" fmla="val -53870"/>
              <a:gd name="adj2" fmla="val 76189"/>
            </a:avLst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判断句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83971"/>
          <p:cNvSpPr/>
          <p:nvPr/>
        </p:nvSpPr>
        <p:spPr>
          <a:xfrm>
            <a:off x="4307040" y="9144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f3f1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3f3f1"/>
                </a:solidFill>
                <a:latin typeface="黑体"/>
                <a:ea typeface="黑体"/>
              </a:rPr>
              <a:t>、诗人为何要与诸从弟举行夜宴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矩形 83973"/>
          <p:cNvSpPr/>
          <p:nvPr/>
        </p:nvSpPr>
        <p:spPr>
          <a:xfrm>
            <a:off x="30888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矩形 83974"/>
          <p:cNvSpPr/>
          <p:nvPr/>
        </p:nvSpPr>
        <p:spPr>
          <a:xfrm>
            <a:off x="228600" y="19051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</a:rPr>
              <a:t>①“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</a:rPr>
              <a:t>浮生若梦，为欢几何？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</a:rPr>
              <a:t>②“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</a:rPr>
              <a:t>古人秉烛夜游，良有以也。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</a:rPr>
              <a:t>况阳春召我以烟景，大块假我以文章。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矩形 83975"/>
          <p:cNvSpPr/>
          <p:nvPr/>
        </p:nvSpPr>
        <p:spPr>
          <a:xfrm>
            <a:off x="4283280" y="2590920"/>
            <a:ext cx="29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  <a:ea typeface="黑体"/>
              </a:rPr>
              <a:t>人生短暂，韶光易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2" name="矩形 83976"/>
          <p:cNvSpPr/>
          <p:nvPr/>
        </p:nvSpPr>
        <p:spPr>
          <a:xfrm>
            <a:off x="4304520" y="396252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  <a:ea typeface="黑体"/>
              </a:rPr>
              <a:t>效仿古人，及时行乐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矩形 83977"/>
          <p:cNvSpPr/>
          <p:nvPr/>
        </p:nvSpPr>
        <p:spPr>
          <a:xfrm>
            <a:off x="5561640" y="548640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3f1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  <a:ea typeface="黑体"/>
              </a:rPr>
              <a:t>美景在前，不容辜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文本框 157697"/>
          <p:cNvSpPr/>
          <p:nvPr/>
        </p:nvSpPr>
        <p:spPr>
          <a:xfrm>
            <a:off x="76320" y="1076400"/>
            <a:ext cx="89931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_GB2312"/>
              </a:rPr>
              <a:t>   </a:t>
            </a:r>
            <a:r>
              <a:rPr b="1" lang="en-US" sz="2800" spc="-1" strike="noStrike">
                <a:solidFill>
                  <a:srgbClr val="f3f3f1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3f3f1"/>
                </a:solidFill>
                <a:latin typeface="黑体"/>
                <a:ea typeface="黑体"/>
              </a:rPr>
              <a:t>何况那温暖的春天用淡烟轻雾的美景召唤我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大自然</a:t>
            </a:r>
            <a:r>
              <a:rPr b="1" lang="zh-CN" sz="2800" spc="-1" strike="noStrike">
                <a:solidFill>
                  <a:srgbClr val="f3f3f1"/>
                </a:solidFill>
                <a:latin typeface="黑体"/>
                <a:ea typeface="黑体"/>
              </a:rPr>
              <a:t>把五彩缤纷的花纹图案提供给我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f3f1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3f3f1"/>
                </a:solidFill>
                <a:latin typeface="黑体"/>
                <a:ea typeface="黑体"/>
              </a:rPr>
              <a:t>这句话只用了几个字就体现了春景的特色。“春”字前着一“阳”字，就把春天形象化了，让人仿佛感到春天的温暖，看到春天的多姿多彩。春天地气上升，形成袅袅轻烟弥漫于空气中，给自然景物披上一层轻纱。“景”字前着一“烟”字，就展现了这一独特的画面。作者还把天地间的森罗万象称为“文章”，也能给人以文采焕然、赏心悦目的感受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f3f1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3f3f1"/>
                </a:solidFill>
                <a:latin typeface="黑体"/>
                <a:ea typeface="黑体"/>
              </a:rPr>
              <a:t>这两个句子还运用了拟人的手法。那“阳春”是有情的，她用美丽的“烟景”来召唤我；那“大块”也是有情的，她把绚烂的“文章”献给我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矩形 157698"/>
          <p:cNvSpPr/>
          <p:nvPr/>
        </p:nvSpPr>
        <p:spPr>
          <a:xfrm>
            <a:off x="76320" y="0"/>
            <a:ext cx="89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赏析：</a:t>
            </a:r>
            <a:r>
              <a:rPr b="1" lang="zh-CN" sz="3200" spc="-1" strike="noStrike">
                <a:solidFill>
                  <a:srgbClr val="f3f3f1"/>
                </a:solidFill>
                <a:latin typeface="Arial"/>
                <a:ea typeface="黑体"/>
              </a:rPr>
              <a:t>“阳春召我以烟景，大块假我以文章。”是千古名句，你认为她美在何处，试做简要分析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7065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夫天地者万物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逆旅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；光阴者百代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过客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浮生若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为欢几何？古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秉烛夜游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，良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有以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也。况阳春召我以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烟景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大块假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我以文章。会桃花之芳园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序</a:t>
            </a:r>
            <a:r>
              <a:rPr b="1" lang="zh-CN" sz="3200" spc="-1" strike="noStrike" u="sng">
                <a:solidFill>
                  <a:srgbClr val="f3f3f1"/>
                </a:solidFill>
                <a:uFillTx/>
                <a:latin typeface="黑体"/>
                <a:ea typeface="黑体"/>
              </a:rPr>
              <a:t>天伦</a:t>
            </a:r>
            <a:r>
              <a:rPr b="1" lang="zh-CN" sz="3200" spc="-1" strike="noStrike">
                <a:solidFill>
                  <a:srgbClr val="f3f3f1"/>
                </a:solidFill>
                <a:latin typeface="黑体"/>
                <a:ea typeface="黑体"/>
              </a:rPr>
              <a:t>之乐事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文本框 70666"/>
          <p:cNvSpPr/>
          <p:nvPr/>
        </p:nvSpPr>
        <p:spPr>
          <a:xfrm>
            <a:off x="0" y="2454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参考译文：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天地是万物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旅舍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，光阴是百代不停的过客，而人生漂浮无常，就像一场梦，欢乐的日子能有多少呢 </a:t>
            </a:r>
            <a:r>
              <a:rPr b="1" lang="en-US" sz="3600" spc="-1" strike="noStrike">
                <a:solidFill>
                  <a:srgbClr val="f3f3f1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古人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持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烛火在夜里游玩，确实是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的啊。何况那温暖的春天用淡烟轻雾的美景召唤我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大自然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把五彩缤纷的花纹图案提供给我。聚会在桃李芬芳的花园，我们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叙谈兄弟</a:t>
            </a:r>
            <a:r>
              <a:rPr b="1" lang="zh-CN" sz="3600" spc="-1" strike="noStrike">
                <a:solidFill>
                  <a:srgbClr val="f3f3f1"/>
                </a:solidFill>
                <a:latin typeface="黑体"/>
                <a:ea typeface="黑体"/>
              </a:rPr>
              <a:t>之间的欢乐事情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71681"/>
          <p:cNvSpPr/>
          <p:nvPr/>
        </p:nvSpPr>
        <p:spPr>
          <a:xfrm>
            <a:off x="228600" y="1143000"/>
            <a:ext cx="8915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群季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俊秀，皆为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惠连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。吾人咏歌，独惭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康乐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幽赏未已，高谈转清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。开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琼筵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坐花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，飞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羽觞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醉月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不有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咏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，何伸雅怀？如诗不成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罚依金谷酒数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圆角矩形标注 71682"/>
          <p:cNvSpPr/>
          <p:nvPr/>
        </p:nvSpPr>
        <p:spPr>
          <a:xfrm>
            <a:off x="0" y="0"/>
            <a:ext cx="5410080" cy="1066680"/>
          </a:xfrm>
          <a:prstGeom prst="wedgeRoundRectCallout">
            <a:avLst>
              <a:gd name="adj1" fmla="val -34421"/>
              <a:gd name="adj2" fmla="val 76638"/>
              <a:gd name="adj3" fmla="val 16667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群季：诸弟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兄弟长幼之序</a:t>
            </a: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，曰伯、仲、叔、季，故以季代称弟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圆角矩形标注 71683"/>
          <p:cNvSpPr/>
          <p:nvPr/>
        </p:nvSpPr>
        <p:spPr>
          <a:xfrm>
            <a:off x="5334120" y="0"/>
            <a:ext cx="3504960" cy="914400"/>
          </a:xfrm>
          <a:prstGeom prst="wedgeRoundRectCallout">
            <a:avLst>
              <a:gd name="adj1" fmla="val -112500"/>
              <a:gd name="adj2" fmla="val 99305"/>
              <a:gd name="adj3" fmla="val 16667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黑体"/>
                <a:ea typeface="黑体"/>
              </a:rPr>
              <a:t>用典：</a:t>
            </a: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目的是赞颂堂弟们聪慧。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椭圆形标注 71685"/>
          <p:cNvSpPr/>
          <p:nvPr/>
        </p:nvSpPr>
        <p:spPr>
          <a:xfrm>
            <a:off x="0" y="990720"/>
            <a:ext cx="7620120" cy="1066680"/>
          </a:xfrm>
          <a:prstGeom prst="wedgeEllipseCallout">
            <a:avLst>
              <a:gd name="adj1" fmla="val -39125"/>
              <a:gd name="adj2" fmla="val 66962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幽赏</a:t>
            </a:r>
            <a:r>
              <a:rPr b="1" lang="en-US" sz="2600" spc="-1" strike="noStrike">
                <a:solidFill>
                  <a:srgbClr val="333333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二句：谓一边欣赏着幽静的美景，一边谈论着清雅的话题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椭圆形标注 71686"/>
          <p:cNvSpPr/>
          <p:nvPr/>
        </p:nvSpPr>
        <p:spPr>
          <a:xfrm>
            <a:off x="6019920" y="1295280"/>
            <a:ext cx="3124080" cy="609840"/>
          </a:xfrm>
          <a:prstGeom prst="wedgeEllipseCallout">
            <a:avLst>
              <a:gd name="adj1" fmla="val -90550"/>
              <a:gd name="adj2" fmla="val 88800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华美的宴席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云形标注 71687"/>
          <p:cNvSpPr/>
          <p:nvPr/>
        </p:nvSpPr>
        <p:spPr>
          <a:xfrm>
            <a:off x="5791320" y="2362320"/>
            <a:ext cx="3352680" cy="533160"/>
          </a:xfrm>
          <a:prstGeom prst="cloudCallout">
            <a:avLst>
              <a:gd name="adj1" fmla="val -54402"/>
              <a:gd name="adj2" fmla="val -66069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坐在花丛中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矩形标注 71688"/>
          <p:cNvSpPr/>
          <p:nvPr/>
        </p:nvSpPr>
        <p:spPr>
          <a:xfrm>
            <a:off x="0" y="2514600"/>
            <a:ext cx="5638680" cy="457200"/>
          </a:xfrm>
          <a:prstGeom prst="wedgeRectCallout">
            <a:avLst>
              <a:gd name="adj1" fmla="val 74578"/>
              <a:gd name="adj2" fmla="val -89930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古代一种酒器，作鸟雀状，有头尾羽翼。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云形标注 71689"/>
          <p:cNvSpPr/>
          <p:nvPr/>
        </p:nvSpPr>
        <p:spPr>
          <a:xfrm>
            <a:off x="7086600" y="609480"/>
            <a:ext cx="2057400" cy="1096920"/>
          </a:xfrm>
          <a:prstGeom prst="cloudCallout">
            <a:avLst>
              <a:gd name="adj1" fmla="val -3856"/>
              <a:gd name="adj2" fmla="val 97175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醉于月光下。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圆角矩形标注 71690"/>
          <p:cNvSpPr/>
          <p:nvPr/>
        </p:nvSpPr>
        <p:spPr>
          <a:xfrm>
            <a:off x="5943600" y="3657600"/>
            <a:ext cx="2286000" cy="533520"/>
          </a:xfrm>
          <a:prstGeom prst="wedgeRoundRectCallout">
            <a:avLst>
              <a:gd name="adj1" fmla="val -19166"/>
              <a:gd name="adj2" fmla="val -143152"/>
              <a:gd name="adj3" fmla="val 16667"/>
            </a:avLst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黑体"/>
                <a:ea typeface="黑体"/>
              </a:rPr>
              <a:t>金谷，园名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文本框 71691"/>
          <p:cNvSpPr/>
          <p:nvPr/>
        </p:nvSpPr>
        <p:spPr>
          <a:xfrm>
            <a:off x="152280" y="4191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参考译文：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各位弟弟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英俊灵秀，都有谢惠连的才华 ；惟独我吟诗作赋，惭愧不如谢灵运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幽雅的景致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观赏未尽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谈阔论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又转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清言雅语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。摆开丰盛的筵席，坐在花丛里；飞快传递着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酒杯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，大家尽情沉醉在月光下。没有美妙的诗篇，怎么能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抒发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高雅的情怀？倘若有人作诗不成，就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按照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当年石崇在金谷园宴客赋诗的先例，罚酒三杯 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图片1"/>
          <p:cNvPicPr/>
          <p:nvPr/>
        </p:nvPicPr>
        <p:blipFill>
          <a:blip r:embed="rId2"/>
          <a:srcRect l="3065" t="0" r="15630" b="0"/>
          <a:stretch/>
        </p:blipFill>
        <p:spPr>
          <a:xfrm>
            <a:off x="7696080" y="4495680"/>
            <a:ext cx="1447920" cy="2362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22"/>
          <p:cNvPicPr/>
          <p:nvPr/>
        </p:nvPicPr>
        <p:blipFill>
          <a:blip r:embed="rId3"/>
          <a:srcRect l="21094" t="20939" r="29689" b="32292"/>
          <a:stretch/>
        </p:blipFill>
        <p:spPr>
          <a:xfrm>
            <a:off x="0" y="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鹅形羽觞"/>
          <p:cNvPicPr/>
          <p:nvPr/>
        </p:nvPicPr>
        <p:blipFill>
          <a:blip r:embed="rId4"/>
          <a:stretch/>
        </p:blipFill>
        <p:spPr>
          <a:xfrm>
            <a:off x="4267080" y="1600200"/>
            <a:ext cx="3733920" cy="24703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5"/>
          <p:cNvSpPr/>
          <p:nvPr/>
        </p:nvSpPr>
        <p:spPr>
          <a:xfrm>
            <a:off x="304920" y="4495680"/>
            <a:ext cx="792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羽觞：又名羽杯、耳杯，酒器，一般为玉质，浅腹，平底，两侧有双耳，状如鸟羽。羽觞出现于战国，延续至魏晋，其后逐渐消失。羽觞有古风。“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酌羽觞兮销忧。”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西汉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班婕妤（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ié yú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2" name="Picture 6" descr="01300000046969120782506528004"/>
          <p:cNvPicPr/>
          <p:nvPr/>
        </p:nvPicPr>
        <p:blipFill>
          <a:blip r:embed="rId5"/>
          <a:stretch/>
        </p:blipFill>
        <p:spPr>
          <a:xfrm>
            <a:off x="457200" y="160020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38243"/>
          <p:cNvSpPr/>
          <p:nvPr/>
        </p:nvSpPr>
        <p:spPr>
          <a:xfrm>
            <a:off x="990720" y="144684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、诗人作者在这次宴会上感受到哪些乐事？从中表达了什么情感？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文本框 138244"/>
          <p:cNvSpPr/>
          <p:nvPr/>
        </p:nvSpPr>
        <p:spPr>
          <a:xfrm>
            <a:off x="399960" y="2971800"/>
            <a:ext cx="152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黑体"/>
              </a:rPr>
              <a:t>宴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乐</a:t>
            </a: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黑体"/>
              </a:rPr>
              <a:t>事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文本框 138245"/>
          <p:cNvSpPr/>
          <p:nvPr/>
        </p:nvSpPr>
        <p:spPr>
          <a:xfrm>
            <a:off x="2438280" y="2514600"/>
            <a:ext cx="6019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俊秀云集，纵情适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高谈阔论，清谈玄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赏花弄月，传杯递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仿古雅趣，罚酒吟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左大括号 138246"/>
          <p:cNvSpPr/>
          <p:nvPr/>
        </p:nvSpPr>
        <p:spPr>
          <a:xfrm>
            <a:off x="2057400" y="28195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200 h 2361960"/>
              <a:gd name="textAreaBottom" fmla="*/ 230076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文本框 138247"/>
          <p:cNvSpPr/>
          <p:nvPr/>
        </p:nvSpPr>
        <p:spPr>
          <a:xfrm>
            <a:off x="304920" y="5400720"/>
            <a:ext cx="8686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情感：对人生的热爱，对亲情的珍惜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对自然美景的陶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8" name="图片 138248" descr="20070813_b1b3254b7e791e01121btT4ZxInX9RUq"/>
          <p:cNvPicPr/>
          <p:nvPr/>
        </p:nvPicPr>
        <p:blipFill>
          <a:blip r:embed="rId2"/>
          <a:stretch/>
        </p:blipFill>
        <p:spPr>
          <a:xfrm>
            <a:off x="6934320" y="304812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138249"/>
          <p:cNvSpPr/>
          <p:nvPr/>
        </p:nvSpPr>
        <p:spPr>
          <a:xfrm>
            <a:off x="3909600" y="196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春景秀美，风光旖旎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4T14:56:52Z</dcterms:created>
  <dc:creator/>
  <dc:description/>
  <dc:language>en-US</dc:language>
  <cp:lastModifiedBy>微软用户</cp:lastModifiedBy>
  <dcterms:modified xsi:type="dcterms:W3CDTF">2020-06-04T13:42:56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662</vt:lpwstr>
  </property>
  <property fmtid="{D5CDD505-2E9C-101B-9397-08002B2CF9AE}" pid="3" name="Version">
    <vt:r8>1</vt:r8>
  </property>
</Properties>
</file>