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click.wav" ContentType="audio/x-wav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388-4356-4AE0-B8C7-16399FF0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5F5-6E7E-4C2C-91BA-8408150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1F1-F9B3-4AF9-B201-2F11A746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9E8-61A6-48CB-B2C2-1B264940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DF72-DEB4-4727-8D14-AF43C53E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AFCD-675F-440D-AEF3-C46C6100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0E1F-DB1D-48CD-B1F5-7B38B033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8547-C03E-4F47-8975-65634DD8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B87C-6E08-4588-A256-A6941ADF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6673-AD25-46B4-8D9B-92473184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34B3-E28A-48E8-B7F8-00090021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00E-AC34-48CA-84F6-BBC767BF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E680-E37C-4470-932F-7908B3DE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771F-BEDF-4B95-A8A4-26084FC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7B9D-0E96-4F7E-9BC5-C16F2231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6A3C-0C82-4AA9-B4C6-62BD4179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DAA4-CFA0-4DAE-A079-A4B89B94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1D7-D3F6-4922-901D-571A71C1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FF8-553B-4D10-A805-456F22D9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87C-C553-4261-A846-87FC7255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CC9-C6E6-4012-AFC8-5DA50750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8DD-CD5F-41DF-B596-24A6D544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7DB-D7E1-4B82-8276-DC659AAC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CE0-5D16-49B9-A8A8-3413297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CE07-2423-43B4-B9CC-905F910F403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8F7-5375-4318-B07B-BDE40C1A2CC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C&#1211;%A8%B5%BA&amp;in=8154&amp;cl=2&amp;cm=1&amp;sc=0&amp;lm=-1&amp;pn=0&amp;rn=1&amp;di=724924732&amp;ln=2000" TargetMode="External"/><Relationship Id="rId3" Type="http://schemas.openxmlformats.org/officeDocument/2006/relationships/image" Target="../media/image3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C&#1211;%A8%B5%BA&amp;in=8154&amp;cl=2&amp;cm=1&amp;sc=0&amp;lm=-1&amp;pn=0&amp;rn=1&amp;di=724924732&amp;ln=2000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C&#1211;%A8&#1328;&amp;in=12938&amp;cl=2&amp;cm=1&amp;sc=0&amp;lm=-1&amp;pn=13&amp;rn=1&amp;di=2433263284&amp;ln=2000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.baidu.com/i?ct=503316480&amp;z=0&amp;tn=baiduimagedetail&amp;word=taohua&amp;in=2543&amp;cl=2&amp;cm=1&amp;sc=0&amp;lm=-1&amp;pn=32&amp;rn=1&amp;di=2039300340&amp;ln=127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.baidu.com/i?ct=503316480&amp;z=0&amp;tn=baiduimagedetail&amp;word=%CC&#1211;%A8%B5%BA&amp;in=8154&amp;cl=2&amp;cm=1&amp;sc=0&amp;lm=-1&amp;pn=0&amp;rn=1&amp;di=724924732&amp;ln=2000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C&#1211;%A8%B5%BA&amp;in=8154&amp;cl=2&amp;cm=1&amp;sc=0&amp;lm=-1&amp;pn=0&amp;rn=1&amp;di=724924732&amp;ln=2000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C&#1211;%A8%B5%BA&amp;in=8154&amp;cl=2&amp;cm=1&amp;sc=0&amp;lm=-1&amp;pn=0&amp;rn=1&amp;di=724924732&amp;ln=2000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者           刘学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大荔城郊中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591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典故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1270b"/>
                </a:solidFill>
                <a:latin typeface="Arial"/>
              </a:rPr>
              <a:t>１、浮生若梦，为欢几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用《庄子　刻意》中的典故。表明人生变幻无常，就像做梦一样，今晚要尽情欢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1270b"/>
                </a:solidFill>
                <a:latin typeface="Arial"/>
              </a:rPr>
              <a:t>２、群季俊秀，皆为惠连。吾人咏歌，独惭康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用南朝文学家谢惠连的典故。“康乐”指谢灵运， 目的是赞颂堂弟们才能杰出，各个都像谢惠连；而自己做诗却赶不上谢灵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1270b"/>
                </a:solidFill>
                <a:latin typeface="Arial"/>
              </a:rPr>
              <a:t>３、如诗不成，罚依金谷酒数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用晋代石崇《金谷诗序》的典故。既表痛饮狂欢之意，又表现诸弟雅的一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197000"/>
            <a:ext cx="53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五读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4922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注意语言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620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典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20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语言凝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6560" y="2924280"/>
            <a:ext cx="86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烟景”“文章”写尽了春日阳气蒸腾、花繁叶茂的景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3860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坐花”“醉月”描绘出人们为鲜花、明月所陶醉的情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4941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可用 “清雄奔放，名章俊句，络绎间起。光明洞澈，句句动人。”来品评这篇小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141300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增添这篇小序的历史文化内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2924280"/>
            <a:ext cx="5113440" cy="1197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春夜宴从弟桃花园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1700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9280" y="1413000"/>
            <a:ext cx="4716360" cy="1800000"/>
          </a:xfrm>
          <a:prstGeom prst="wedgeRectCallout">
            <a:avLst>
              <a:gd name="adj1" fmla="val -77365"/>
              <a:gd name="adj2" fmla="val -3077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什么李白虽有“浮生若梦”的慨叹，读起来却并未让人感觉到低沉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620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六读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5640" y="371628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体会感情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1272240"/>
            <a:ext cx="18716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浮生如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1775880"/>
            <a:ext cx="1908000" cy="1036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阳春召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37000"/>
            <a:ext cx="2268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4797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正如李白的诗歌，反映着他旷达洒脱的性格特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42920" y="765000"/>
            <a:ext cx="8101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次筵席是一场文人墨客的集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者成功地展示了一次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高雅的精神盛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切莫因为浮生若梦就消极地追求享乐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这样会使生命之花过早凋谢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哀叹人生苦短会让生命白白地消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人生是宝贵的也是短暂，有如昙花一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然而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如果我们的人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能够像昙花般的玉洁、清香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充满活力与豪情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我们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又何须惋惜她的短暂呢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945560" y="5445000"/>
            <a:ext cx="11984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7280" y="907920"/>
            <a:ext cx="6409080" cy="649440"/>
          </a:xfrm>
          <a:prstGeom prst="flowChart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本文的感情基调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68000" y="2349000"/>
            <a:ext cx="4140360" cy="37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00ff00"/>
                </a:solidFill>
                <a:uFillTx/>
                <a:latin typeface="Arial"/>
              </a:rPr>
              <a:t>乐观开朗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9144000" cy="6597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211640" y="0"/>
            <a:ext cx="4932360" cy="2133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40360" y="0"/>
            <a:ext cx="291636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崇山峻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0" y="2133720"/>
            <a:ext cx="4211640" cy="4724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211640" cy="2205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360" y="0"/>
            <a:ext cx="72936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茂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205000"/>
            <a:ext cx="118728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修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4211640" y="2133720"/>
            <a:ext cx="5400720" cy="4724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774072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同学们尝试回忆一下，之前学过的《兰亭集序》这篇课文的情感基调是怎样的？ </a:t>
            </a:r>
            <a:br>
              <a:rPr sz="5400"/>
            </a:b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92600" y="5950080"/>
            <a:ext cx="23752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清流激湍映带左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先喜而后悲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仰观宇宙之大，俯察品类之盛，所以游目骋怀，足以极视听之娱，信可乐也。结尾却“临文嗟悼，不能喻之于怀”，发出“悲夫”的慨叹 。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-2484360" y="-1971720"/>
            <a:ext cx="14306400" cy="107348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692360" y="4076640"/>
            <a:ext cx="4343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落霞与孤鹜齐飞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秋水共长天一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0"/>
            <a:ext cx="744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</a:rPr>
              <a:t>王勃《滕王阁序》：呜呼！胜地不常，盛筵难再；兰亭已矣，梓泽丘墟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6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84232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石崇《金谷诗序》：感性命之不永，惧凋落之无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孙绰《三月三日兰亭诗序》：乐与时去，悲亦系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陶渊明《游斜川诗序》：悲日月之既往，悼吾年之不留。  </a:t>
            </a:r>
            <a:br>
              <a:rPr sz="3600"/>
            </a:b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9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感情上为什么会有这样的不同呢？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4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时代背景、作者个人情况等方面入手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268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王羲之所处的时代是东晋，当时政治迫害严重，世人普遍存在消极感伤的特点，所以他在感慨时过境迁之后，感悟到游赏之乐便成了陈迹，欢乐和生命总是短暂，必然“终期于尽”。因此才有“岂不痛哉”“悲夫”的感慨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708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而李白所处的是时代是盛唐，那是封建主义达到鼎盛的时期，国力最强，民族自信最强，积极乐观的情怀充满着整个时期。而李白又是一个骨子里充满的是盛唐士人绝对的自信和自豪之情，他乐观、豁达，他认为正是因为人生短暂，才应珍视光阴，“秉烛夜游”。他认为美景是春天对自己的召唤和恩赐，他感到能和兄弟们一同歌咏，高谈，观月饮酒，是人生最大的乐趣。所以，王的《兰》虽清幽却低沉，李的《春》则是高亢与明朗相随左右。 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李白（公元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701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年—公元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762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年），字 号</a:t>
            </a:r>
            <a:r>
              <a:rPr b="1" lang="zh-CN" sz="3200" spc="-1" strike="noStrike">
                <a:solidFill>
                  <a:srgbClr val="2161c9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。李白是        著名                也是中国最著名的诗人之一，好剑术，志气宏放，是我国文学史上继       之后又一伟大的浪漫主义诗人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有“       ”之称。李白和       合称“       ”。风格              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956720" y="1341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太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844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61c9"/>
                </a:solidFill>
                <a:latin typeface="Arial"/>
              </a:rPr>
              <a:t>青莲居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1844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唐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19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浪漫主义 </a:t>
            </a:r>
            <a:r>
              <a:rPr b="1" lang="zh-CN" sz="2400" spc="-1" strike="noStrike" u="sng">
                <a:solidFill>
                  <a:srgbClr val="001010"/>
                </a:solidFill>
                <a:uFillTx/>
                <a:latin typeface="Arial"/>
              </a:rPr>
              <a:t>诗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278136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屈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284640"/>
            <a:ext cx="15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诗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321300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杜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716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李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860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豪放飘逸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，对比王勃的《滕王阁序》，同是唐人，为何情感也不相同？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1010"/>
                </a:solidFill>
                <a:latin typeface="Arial"/>
              </a:rPr>
              <a:t>，李白在文中发出“</a:t>
            </a:r>
            <a:r>
              <a:rPr b="1" lang="zh-CN" sz="3600" spc="-1" strike="noStrike">
                <a:solidFill>
                  <a:srgbClr val="2161c9"/>
                </a:solidFill>
                <a:latin typeface="Arial"/>
              </a:rPr>
              <a:t>浮生若梦，为欢几何？”</a:t>
            </a:r>
            <a:r>
              <a:rPr b="1" lang="zh-CN" sz="3600" spc="-1" strike="noStrike">
                <a:solidFill>
                  <a:srgbClr val="001010"/>
                </a:solidFill>
                <a:latin typeface="Arial"/>
              </a:rPr>
              <a:t>的感慨，另外在《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梦游天姥吟留别</a:t>
            </a:r>
            <a:r>
              <a:rPr b="1" lang="zh-CN" sz="3600" spc="-1" strike="noStrike">
                <a:solidFill>
                  <a:srgbClr val="001010"/>
                </a:solidFill>
                <a:latin typeface="Arial"/>
              </a:rPr>
              <a:t>》中也发出</a:t>
            </a:r>
            <a:r>
              <a:rPr b="1" lang="zh-CN" sz="3600" spc="-1" strike="noStrike">
                <a:solidFill>
                  <a:srgbClr val="2161c9"/>
                </a:solidFill>
                <a:latin typeface="Arial"/>
              </a:rPr>
              <a:t>“世间行乐亦如此”</a:t>
            </a:r>
            <a:r>
              <a:rPr b="1" lang="zh-CN" sz="3600" spc="-1" strike="noStrike">
                <a:solidFill>
                  <a:srgbClr val="001010"/>
                </a:solidFill>
                <a:latin typeface="Arial"/>
              </a:rPr>
              <a:t>的感叹，又在《将进酒》中有</a:t>
            </a:r>
            <a:r>
              <a:rPr b="1" lang="zh-CN" sz="3600" spc="-1" strike="noStrike">
                <a:solidFill>
                  <a:srgbClr val="2161c9"/>
                </a:solidFill>
                <a:latin typeface="Arial"/>
              </a:rPr>
              <a:t>“人生得意须尽欢，莫使金樽空对月”</a:t>
            </a:r>
            <a:r>
              <a:rPr b="1" lang="zh-CN" sz="3600" spc="-1" strike="noStrike">
                <a:solidFill>
                  <a:srgbClr val="001010"/>
                </a:solidFill>
                <a:latin typeface="Arial"/>
              </a:rPr>
              <a:t>的说法。你认为这种人生态度是消极的，还是积极的？为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447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“阳春召我以烟景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大块假我以文章”赏析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本句成为千古名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原因有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1270b"/>
                </a:solidFill>
                <a:latin typeface="Arial"/>
              </a:rPr>
              <a:t>首先</a:t>
            </a:r>
            <a:r>
              <a:rPr b="1" lang="zh-CN" sz="3200" spc="-1" strike="noStrike">
                <a:solidFill>
                  <a:srgbClr val="d1270b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d1270b"/>
                </a:solidFill>
                <a:latin typeface="Arial"/>
              </a:rPr>
              <a:t>这句话只用了几个字就体现了春景的特色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.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”字前着一“阳”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就把春天形象化了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让人仿佛感到春天的温暖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看到春天的多姿多彩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天地气上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形成袅袅轻烟弥漫于空气中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给自然景物披上一层轻纱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.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景”字前着一“烟”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就展现了这一独特的画面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者还把天地间的森罗万象称为“文章”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也能给人以文采焕然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赏心悦目的感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d1270b"/>
                </a:solidFill>
                <a:latin typeface="Arial"/>
              </a:rPr>
              <a:t>其次</a:t>
            </a:r>
            <a:r>
              <a:rPr b="1" lang="zh-CN" sz="3200" spc="-1" strike="noStrike">
                <a:solidFill>
                  <a:srgbClr val="d1270b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d1270b"/>
                </a:solidFill>
                <a:latin typeface="Arial"/>
              </a:rPr>
              <a:t>这两个句子还运用了拟人的手法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那“阳春”是多情的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她用美丽的烟景来召唤我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那“大块”也是有情的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她把绚烂的“文章”献给我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885080" y="5373720"/>
            <a:ext cx="1258920" cy="148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981000"/>
            <a:ext cx="8244000" cy="1197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春夜宴从弟桃花园序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4005360"/>
            <a:ext cx="2950920" cy="720720"/>
          </a:xfrm>
          <a:prstGeom prst="flowChart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李白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52360" y="126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一读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8540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注意字音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98900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琼筵（</a:t>
            </a:r>
            <a:r>
              <a:rPr b="1" lang="zh-CN" sz="6000" spc="-1" strike="noStrike" u="sng">
                <a:solidFill>
                  <a:srgbClr val="007a77"/>
                </a:solidFill>
                <a:uFillTx/>
                <a:latin typeface="Arial"/>
              </a:rPr>
              <a:t>yán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） 羽觞（</a:t>
            </a:r>
            <a:r>
              <a:rPr b="1" lang="zh-CN" sz="6000" spc="-1" strike="noStrike" u="sng">
                <a:solidFill>
                  <a:srgbClr val="007a77"/>
                </a:solidFill>
                <a:uFillTx/>
                <a:latin typeface="Arial"/>
              </a:rPr>
              <a:t>shāng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）  秉（</a:t>
            </a:r>
            <a:r>
              <a:rPr b="1" lang="zh-CN" sz="6000" spc="-1" strike="noStrike" u="sng">
                <a:solidFill>
                  <a:srgbClr val="007a77"/>
                </a:solidFill>
                <a:uFillTx/>
                <a:latin typeface="Arial"/>
              </a:rPr>
              <a:t>ｂ</a:t>
            </a:r>
            <a:r>
              <a:rPr b="1" lang="zh-CN" sz="6000" spc="-1" strike="noStrike" u="sng">
                <a:solidFill>
                  <a:srgbClr val="007a77"/>
                </a:solidFill>
                <a:uFillTx/>
                <a:latin typeface="Arial"/>
              </a:rPr>
              <a:t>ǐng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）假（</a:t>
            </a:r>
            <a:r>
              <a:rPr b="1" lang="zh-CN" sz="6000" spc="-1" strike="noStrike" u="sng">
                <a:solidFill>
                  <a:srgbClr val="007a77"/>
                </a:solidFill>
                <a:uFillTx/>
                <a:latin typeface="Arial"/>
              </a:rPr>
              <a:t>ｊｉ</a:t>
            </a:r>
            <a:r>
              <a:rPr b="1" lang="zh-CN" sz="6000" spc="-1" strike="noStrike" u="sng">
                <a:solidFill>
                  <a:srgbClr val="007a77"/>
                </a:solidFill>
                <a:uFillTx/>
                <a:latin typeface="Arial"/>
              </a:rPr>
              <a:t>ă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）  数（</a:t>
            </a:r>
            <a:r>
              <a:rPr b="1" lang="zh-CN" sz="6000" spc="-1" strike="noStrike" u="sng">
                <a:solidFill>
                  <a:srgbClr val="007a77"/>
                </a:solidFill>
                <a:uFillTx/>
                <a:latin typeface="Arial"/>
              </a:rPr>
              <a:t>s</a:t>
            </a:r>
            <a:r>
              <a:rPr b="1" lang="zh-CN" sz="6000" spc="-1" strike="noStrike" u="sng">
                <a:solidFill>
                  <a:srgbClr val="007a77"/>
                </a:solidFill>
                <a:uFillTx/>
                <a:latin typeface="Arial"/>
              </a:rPr>
              <a:t>ｈ</a:t>
            </a:r>
            <a:r>
              <a:rPr b="1" lang="zh-CN" sz="6000" spc="-1" strike="noStrike" u="sng">
                <a:solidFill>
                  <a:srgbClr val="007a77"/>
                </a:solidFill>
                <a:uFillTx/>
                <a:latin typeface="Arial"/>
              </a:rPr>
              <a:t>ù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二读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注意字词     句式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0"/>
            <a:ext cx="38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通假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20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序天伦之乐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197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今异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77336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大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假我以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文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14972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群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季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俊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4724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词类活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373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有佳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咏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何伸雅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59500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赏未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5840" y="620640"/>
            <a:ext cx="26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序，通“叙”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76640"/>
            <a:ext cx="7916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大块：古义，大自然。今义：大的块头 。  文章：古义，原指错杂的色彩、花纹。文中指大自然中各种美好的形象、色彩、声音等。今义：篇幅不很长的单篇作品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149720"/>
            <a:ext cx="568944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古义，弟弟。今义，季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373720"/>
            <a:ext cx="403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动词作名词，诗歌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9760" y="5877000"/>
            <a:ext cx="38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形容词作名词，幽雅的景致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5373720"/>
            <a:ext cx="1258920" cy="1484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词多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84280"/>
            <a:ext cx="13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良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836640"/>
            <a:ext cx="720720" cy="2376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692280"/>
            <a:ext cx="3095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549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良有以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廉颇者，赵之良将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628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感我此言良久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2133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良庖岁更刀，割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2781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此去经年，应是良辰好景虚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29264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假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860640"/>
            <a:ext cx="432000" cy="201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357336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大块假我以文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43657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君子生非异也，善假于物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5445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因求假暂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549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确实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1052640"/>
            <a:ext cx="165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优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155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很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13372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好的，高明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5120" y="278136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美好的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3716280"/>
            <a:ext cx="251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给予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4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借助，凭借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78400" y="5516640"/>
            <a:ext cx="1720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假期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15652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言句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判断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夫天地者万物之逆旅也；光阴者百代之过客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状语后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阳春召我以烟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大块假我以文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907920"/>
            <a:ext cx="1944720" cy="1224000"/>
          </a:xfrm>
          <a:prstGeom prst="cloudCallout">
            <a:avLst>
              <a:gd name="adj1" fmla="val -116532"/>
              <a:gd name="adj2" fmla="val 1601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比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429000"/>
            <a:ext cx="1296720" cy="1871640"/>
          </a:xfrm>
          <a:prstGeom prst="wedgeEllipseCallout">
            <a:avLst>
              <a:gd name="adj1" fmla="val -157097"/>
              <a:gd name="adj2" fmla="val 1301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拟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72360" y="5084640"/>
            <a:ext cx="9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</a:rPr>
              <a:t>春夜宴诸从弟桃李园序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〔唐〕李白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      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夫天地者，万物之逆旅也；光阴者，百代之过客也。而浮生若梦，为欢几何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古人秉烛夜游，良有以也。况阳春召我以烟景，大块假我以文章。会桃李之芳园，序天伦之乐事。群季俊秀，皆为惠连；吾人咏歌，独惭康乐。幽赏未已，高谈转清。开琼筵以坐花，飞羽觞而醉月。不有佳咏，何伸雅怀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如诗不成，罚依金谷酒数。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天地，是万物的旅舍，光阴，是百代的过客。而人生虚浮，如梦一般，能有几多欢乐？古人持烛夜游，确实有道理啊。况且和煦的春天用艳丽的景色召唤我们，大自然将美好的文采提供给我们。我们聚会在美丽的桃李园内，叙说兄弟团聚的快乐。诸位弟弟都是俊才秀士，个个好比谢惠连；而我的作诗吟咏，却惭愧不如谢康乐。正以幽雅的情趣欣赏着美景未已，纵兴的高谈又转为会心的清论。铺开琼筵，坐在花间；行酒如飞，醉于月下。不作好诗，怎能抒发高雅的情怀？如赋诗不成，须依金谷园旧例，罚他饮酒三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40464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三读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249228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译文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课文解读 </a:t>
            </a:r>
            <a:br>
              <a:rPr sz="6000"/>
            </a:b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赏美景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序天伦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高谈转清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饮酒赋诗 </a:t>
            </a:r>
            <a:br>
              <a:rPr sz="4400"/>
            </a:b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54936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四读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6360" y="1844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人生短暂，韶光易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2708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但春天的美景在召唤他，大自然的形象、色彩、声音等在吸引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13372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00" y="1773360"/>
            <a:ext cx="667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缘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3789360"/>
            <a:ext cx="73080" cy="1224000"/>
          </a:xfrm>
          <a:custGeom>
            <a:avLst/>
            <a:gdLst>
              <a:gd name="textAreaLeft" fmla="*/ 46800 w 73080"/>
              <a:gd name="textAreaRight" fmla="*/ 73440 w 73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20" y="3860640"/>
            <a:ext cx="6069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乐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364500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3716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一乐主客同吟；二乐纵情谈论；三乐赏花醉月；四乐盛宴高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0:49:42Z</dcterms:created>
  <dc:creator>微软用户</dc:creator>
  <dc:description/>
  <dc:language>en-US</dc:language>
  <cp:lastModifiedBy>zmj</cp:lastModifiedBy>
  <dcterms:modified xsi:type="dcterms:W3CDTF">2008-12-22T23:45:55Z</dcterms:modified>
  <cp:revision>10</cp:revision>
  <dc:subject/>
  <dc:title>幻灯片 1</dc:title>
</cp:coreProperties>
</file>