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EE4-05E9-43A1-8E73-985A0970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035-1F2E-445F-8902-A118B6B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CE5-D9DE-45D1-A8A5-1D39D7B7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79D-06E3-410F-AFA4-A13D614E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922-C043-48EC-A8E4-5D32A461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1F8-9D03-46C1-B2A6-A8B1871D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0DB-4202-43CC-968C-0117ECF6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0EB-BBAC-4270-BBE8-8B745FA6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1FB-FE46-4897-9017-C5A0F60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978-76CD-4714-B62A-2F3E4BB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3A3-5A85-42FF-8980-215058F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E66-1B4E-4F5D-83A8-DE5E134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F25E-E917-4F8A-88F6-00FE96B32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pftp.eku.cc/vvc/008tx/974_1256773409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4800600"/>
            <a:ext cx="5029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春夜宴从弟桃花园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53341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李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572680" cy="6543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60948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清代 黄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《春夜宴桃李园图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5105160" y="32004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细黑"/>
              </a:rPr>
              <a:t>我们需要一双发现美的眼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1d1cb"/>
                </a:solidFill>
                <a:latin typeface="Arial"/>
              </a:rPr>
              <a:t>解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春夜 宴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从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 u="sng">
                <a:solidFill>
                  <a:srgbClr val="809ea8"/>
                </a:solidFill>
                <a:uFillTx/>
                <a:latin typeface="宋体"/>
              </a:rPr>
              <a:t>桃花园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 序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从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从：指堂房亲属，如堂兄弟称从兄弟，堂伯叔称从伯叔。从弟就是堂弟或族弟的意思。但唐代风气喜联宗，凡同姓即结为兄弟叔侄等，所谓从弟未必真有血缘关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也作“叙”或称“引”，有如今日的“引言”、“前言”。是说明书籍内容或出版意旨、编次体例和作者情况的文章。也可包括对作家作品的评论和对有关问题的研究阐发。“序”一般写在书籍或文章前面（也有列在后面的，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史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太史公自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，列于书后的称为“跋”或“后序”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有书序、诗序、赠序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此序约于开元二十一年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(733)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前后作于安陆。这篇小品，景、情、思融和成一种美丽的意境。作品洋溢着蓬勃旺盛的春的气息，光明洞彻，爽朗不尽，将生活升华到诗的高度。</a:t>
            </a:r>
            <a:r>
              <a:rPr b="0" lang="zh-CN" sz="1600" spc="-1" strike="noStrike">
                <a:solidFill>
                  <a:srgbClr val="809ea8"/>
                </a:solidFill>
                <a:latin typeface="宋体"/>
              </a:rPr>
              <a:t>桃花园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疑在安陆兆山桃花岩。李白与诸从弟聚会赋诗，本文即为之而作的序文。类似王羲之的《兰亭集序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作者介绍（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4267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那一双傲慢的靴子至今还落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高力士羞愤的手里，人却不见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把满地的难民和伤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把胡马和羌笛交践的节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留给杜二去细细的苦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自从那年贺知章眼花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你做谪仙，便更加佯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一只中了魔咒的小酒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把自己藏起来，连太太也寻不到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怨长安城小而壶中天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所有的诗里你都预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突然水遁，或许就在明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只扁舟破浪，乱发当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树敌如林，世人皆欲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肝硬化怎杀得死你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酒放豪肠，七分酿成了月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余下的三分啸成剑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一吐就半个盛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开元到天宝，从洛阳到咸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冠盖满途车骑的嚣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及千年后你的一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380880"/>
            <a:ext cx="3504960" cy="69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水晶绝句轻叩我额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当地一弹挑起的回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贬世上已经够落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再放夜郎母乃太难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至今成谜是你的籍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陇西或山东，青莲乡或碎叶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如归去归哪个故乡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凡你醉处，你说过，皆非他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失踪，是天才唯一的下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身后事，究竟你遁向何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狼啼不住，杜二也苦劝你不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回头四窗下竟已白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七仙，五友，都救不了你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匡山给雾锁了，无路可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仍炉火示纯青，就半粒丹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怎追蹑葛洪袖里的流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樽中月影，或许那才你故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常得你一生痴痴地仰望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而无论出门向西哭，向东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长安却早已陷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二十四万里的归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也不必惊动大鹏了，也无须招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只消把酒杯向半空一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便旋成一只霍霍的飞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诡缘的闪光愈转愈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接你回传说里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276720"/>
            <a:ext cx="167616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228600"/>
            <a:ext cx="65530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寻 李 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余光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痛饮狂歌空度日，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    飞扬跋扈为谁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543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夫天地者万物之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逆旅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也；光阴者百代之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过客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而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浮生若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，为欢几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古人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秉烛夜游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，良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有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况阳春召我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烟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，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大块假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我以文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会桃花之芳园，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序天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之乐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762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逆旅：客舍。取自《左传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102200" cy="299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762120"/>
            <a:ext cx="3429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过客：过往的客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李白《拟古十二首》其九：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生者为过客。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0574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谓及时行乐。《古诗十九首》其十五：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昼短苦夜长，何不秉烛游。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曹丕《与吴质书》：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少壮真当努力，年一过往，何可攀援！古人思秉烛夜游，良有以也。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371600"/>
            <a:ext cx="1676160" cy="380880"/>
          </a:xfrm>
          <a:prstGeom prst="wedgeEllipseCallout">
            <a:avLst>
              <a:gd name="adj1" fmla="val -46023"/>
              <a:gd name="adj2" fmla="val 70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有以：有原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666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烟景：风景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大块：大地，大自然。《庄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大宗师》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夫大块载我以形。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828800"/>
            <a:ext cx="129564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假：借，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200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天伦：《谷梁传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隐公元年》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兄弟，天伦也。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范宁注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兄先弟后，天之伦次。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后泛指父子、兄弟等亲属关系为天伦。此处指兄弟聚会之乐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352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序：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叙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038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参考译文：大地像万物的客栈，时间像百代的过客。飘浮不定的人生，如同一番梦境，得到的欢乐，能有多少呢！古人夜间持着蜡烛游玩，确实是有道理啊！况且春天用艳丽的景色吸引着我，大自然把绚烂的色彩提供给我，大家相聚在桃花飘香的花园中，畅叙兄弟间的天伦之乐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庄周梦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33520"/>
            <a:ext cx="6095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群季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俊秀，皆为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惠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吾人咏歌，独惭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康乐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幽赏未已，高谈转清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开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琼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坐花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，飞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羽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而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醉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不有佳咏，何伸雅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如诗不成，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罚依金谷酒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314440" cy="480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0"/>
            <a:ext cx="2286000" cy="685800"/>
          </a:xfrm>
          <a:prstGeom prst="wedgeRoundRectCallout">
            <a:avLst>
              <a:gd name="adj1" fmla="val -46250"/>
              <a:gd name="adj2" fmla="val 69907"/>
              <a:gd name="adj3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群季：诸弟。兄弟长幼之序，曰伯、仲、叔、季，故以季代称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0"/>
            <a:ext cx="2133720" cy="762120"/>
          </a:xfrm>
          <a:prstGeom prst="wedgeRoundRectCallout">
            <a:avLst>
              <a:gd name="adj1" fmla="val -43518"/>
              <a:gd name="adj2" fmla="val 57916"/>
              <a:gd name="adj3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惠连：谢惠连，幼聪敏，以诗文著称，与其族兄谢灵运相亲相知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990720"/>
            <a:ext cx="2361960" cy="609480"/>
          </a:xfrm>
          <a:prstGeom prst="wedgeRoundRectCallout">
            <a:avLst>
              <a:gd name="adj1" fmla="val -50805"/>
              <a:gd name="adj2" fmla="val 57550"/>
              <a:gd name="adj3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南朝刘宋时山水诗人谢灵运，袭封康乐公，世称谢康乐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828800"/>
            <a:ext cx="4496040" cy="609480"/>
          </a:xfrm>
          <a:prstGeom prst="wedgeEllipseCallout">
            <a:avLst>
              <a:gd name="adj1" fmla="val -44490"/>
              <a:gd name="adj2" fmla="val 6510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幽赏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二句：谓一边欣赏着幽静的美景，一边谈论着清雅的话题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666880"/>
            <a:ext cx="1371600" cy="609840"/>
          </a:xfrm>
          <a:prstGeom prst="wedgeEllipseCallout">
            <a:avLst>
              <a:gd name="adj1" fmla="val -43750"/>
              <a:gd name="adj2" fmla="val 7005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华美的宴席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590920"/>
            <a:ext cx="1295640" cy="761760"/>
          </a:xfrm>
          <a:prstGeom prst="cloudCallout">
            <a:avLst>
              <a:gd name="adj1" fmla="val -43013"/>
              <a:gd name="adj2" fmla="val 70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坐在花丛中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514600"/>
            <a:ext cx="1523880" cy="609480"/>
          </a:xfrm>
          <a:prstGeom prst="wedgeRectCallout">
            <a:avLst>
              <a:gd name="adj1" fmla="val -40000"/>
              <a:gd name="adj2" fmla="val 100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古代一种酒器，作鸟雀状，有头尾羽翼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514600"/>
            <a:ext cx="1066680" cy="914400"/>
          </a:xfrm>
          <a:prstGeom prst="cloudCallout">
            <a:avLst>
              <a:gd name="adj1" fmla="val -64138"/>
              <a:gd name="adj2" fmla="val 5972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醉于月光下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2743200" cy="1295280"/>
          </a:xfrm>
          <a:prstGeom prst="wedgeRoundRectCallout">
            <a:avLst>
              <a:gd name="adj1" fmla="val -44444"/>
              <a:gd name="adj2" fmla="val 69976"/>
              <a:gd name="adj3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金谷，园名，晋石崇于金谷涧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在今河南洛阳西北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中所筑，他常在这里宴请宾客。其《金谷诗序》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遂各赋诗，以叙中怀，或不能者，罚酒三斗。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后泛指宴会上罚酒三杯的常例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392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参考译文：弟弟们人品俊秀，个个都有谢惠连那样的才情，而我当哥的吟咏诗歌，却很惭愧唯独没有谢灵运那样的才华。清雅的赏玩兴致正雅，高谈阔论又转向清言雅语。摆开筵席来坐赏名花，举怀痛饮以醉观月色，没有好诗，怎能抒发高雅的情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倘若有人作诗不成，就要按照当年石崇在金谷园宴客赋诗的先例，罚酒三杯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结构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42200" y="1752480"/>
            <a:ext cx="189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              </a:t>
            </a: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李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春夜宴从弟桃花园序</a:t>
            </a: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98108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52800" y="16765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夜游缘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4880" y="403848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宴集</a:t>
            </a:r>
            <a:r>
              <a:rPr b="1" lang="zh-CN" sz="2400" spc="-1" strike="noStrike" u="sng">
                <a:solidFill>
                  <a:srgbClr val="99ccff"/>
                </a:solidFill>
                <a:uFillTx/>
                <a:latin typeface="Arial"/>
                <a:ea typeface="幼圆"/>
              </a:rPr>
              <a:t>乐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809880"/>
            <a:ext cx="75960" cy="1752840"/>
          </a:xfrm>
          <a:custGeom>
            <a:avLst/>
            <a:gdLst>
              <a:gd name="textAreaLeft" fmla="*/ 48600 w 75960"/>
              <a:gd name="textAreaRight" fmla="*/ 7632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人生短暂，韶华易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0574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况阳春召我以烟景，大块假我以文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会桃花之芳园，序天伦之乐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12193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夫天地者万物之逆旅也；光阴者百代之过客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而浮生若梦，为欢几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古人秉烛夜游，良有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美景当前，尽享天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38098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群季俊秀，皆为惠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吾人咏歌，独惭康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幽赏未已，高谈转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开琼筵以坐花，飞羽觞而醉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不有佳咏，何伸雅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如诗不成，罚依金谷酒斗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809880"/>
            <a:ext cx="3276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俊秀云集，纵情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高谈阔论，清谈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赏花弄月，传杯递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仿古雅趣，罚酒吟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133720"/>
            <a:ext cx="228600" cy="312408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71440" y="2286000"/>
            <a:ext cx="48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墨客云集    精神盛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在桃李芬芳的季节，与自己的几位堂弟一起行游于醉柳清烟的园中，映现在诗人眼中的是无限的阳春风光，大自然的景色就是最美丽的文章。众人谈笑风生，摆酒设宴，四处春花飘香，清风轻轻拂来，席间各赋新诗，作不出诗来的要罚酒三斗，一时间笑声盈盈，确是人生一大乐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895480"/>
            <a:ext cx="30481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李白的文章是天才的文章，笔势大开大合，如行云流水，潇洒飘逸，其中饱满的热情，昂扬的精神令人神清气爽。本文一百一十九字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隶书"/>
              </a:rPr>
              <a:t>语言凝练是本文的突出特点，典故颇多也是本文一大特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），已把作者的气魄才华展现得淋漓尽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880"/>
            <a:ext cx="80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这篇序言记叙了李白和堂弟们相聚桃园饮酒赋诗的情景，实际上是抒情散文，字数少篇幅短，但抒发了他清新潇洒的风格。李白擅长以骈句筑文，本文也不例外。他用流畅自然的笔触，写下了这篇千古名作。他的“浮生若梦、为欢几何”和曹操“人生几何、对酒当歌”有相似的豪迈之处，更能表现出李白特有的那种高傲蔑俗、放荡不羁的性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3520" y="61722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明 仇英 局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4:02:08Z</dcterms:created>
  <dc:creator>Wangxiaoyu</dc:creator>
  <dc:description/>
  <dc:language>en-US</dc:language>
  <cp:lastModifiedBy>Xtzj.User</cp:lastModifiedBy>
  <dcterms:modified xsi:type="dcterms:W3CDTF">2010-04-22T05:10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